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40732-70F3-45E5-A954-6C645C937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42154-F7A1-4756-8335-5E9C102A9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8125A-C067-4EC0-9A2E-FE0F6801C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6513A-AB59-42D8-BB56-702C960B6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41563-DD6D-4897-B9A5-8FF7BF875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9B5C1-65B2-4F20-8A87-E8A4A49EA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4D975-4615-4696-96E5-38C9AA498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8BEFE-6CAD-49C0-A2F7-F58634DA1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E0AEA-4706-4B7A-B1CB-A1490D5A3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007B2-2506-4DBE-8229-EC8996049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367FF-DBF6-4437-BD91-DDB7198B6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0CD3F-5322-428E-AF67-2FAE3D0A1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94397-6474-4327-AE5E-7A34139549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opo di questa presentazi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68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68"/>
                </a:solidFill>
                <a:latin typeface="Times New Roman"/>
              </a:rPr>
              <a:t>sobillare gli studenti, p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68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68"/>
                </a:solidFill>
                <a:latin typeface="Times New Roman"/>
              </a:rPr>
              <a:t>fare “disinformazione” e propalare “falsità enormi su modifiche che sono di buon senso” (Presidente del Consiglio dei Ministri, 28 ottobre 2008), 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00"/>
              </a:spcBef>
              <a:buClr>
                <a:srgbClr val="000068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800" spc="-1" strike="noStrike">
                <a:solidFill>
                  <a:srgbClr val="000068"/>
                </a:solidFill>
                <a:latin typeface="Times New Roman"/>
              </a:rPr>
              <a:t>ricreare in Italia le condizioni di un </a:t>
            </a:r>
            <a:r>
              <a:rPr b="0" lang="it-IT" sz="4800" spc="-1" strike="noStrike">
                <a:solidFill>
                  <a:srgbClr val="ff0000"/>
                </a:solidFill>
                <a:latin typeface="Times New Roman"/>
              </a:rPr>
              <a:t>nuovo ’68</a:t>
            </a:r>
            <a:r>
              <a:rPr b="0" lang="it-IT" sz="4800" spc="-1" strike="noStrike">
                <a:solidFill>
                  <a:srgbClr val="000068"/>
                </a:solidFill>
                <a:latin typeface="Times New Roman"/>
              </a:rPr>
              <a:t> </a:t>
            </a:r>
            <a:r>
              <a:rPr b="0" lang="it-IT" sz="4800" spc="-1" strike="noStrike">
                <a:solidFill>
                  <a:srgbClr val="ff0000"/>
                </a:solidFill>
                <a:latin typeface="Times New Roman"/>
              </a:rPr>
              <a:t>!!!</a:t>
            </a:r>
            <a:r>
              <a:rPr b="0" lang="it-IT" sz="4000" spc="-1" strike="noStrike">
                <a:solidFill>
                  <a:srgbClr val="000068"/>
                </a:solidFill>
                <a:latin typeface="Times New Roman"/>
              </a:rPr>
              <a:t> </a:t>
            </a:r>
            <a:r>
              <a:rPr b="0" lang="it-IT" sz="1600" spc="-1" strike="noStrike">
                <a:solidFill>
                  <a:srgbClr val="000068"/>
                </a:solidFill>
                <a:latin typeface="Times New Roman"/>
              </a:rPr>
              <a:t>(facevo la quinta elementare…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199999995529652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199999995529652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199999995529652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.</cp:lastModifiedBy>
  <dcterms:modified xsi:type="dcterms:W3CDTF">2008-11-03T01:20:25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