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88C-66D2-4219-96B6-6FBE7F67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59D-97CD-413C-9541-E5FBAB29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EFE-9157-4795-9261-570EEA47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18C-9531-4287-B733-985D78B3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2F9-C423-433C-A8C9-C9FEB51E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C66-D420-4234-8ADB-8229BE31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CF6-A52B-422E-A87F-AA40C9EF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4A8-3CB8-4234-B320-1BB54C4C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806-AED3-4B89-9816-F776CE6A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4E4-AFD7-4343-8FFB-579EC8C9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2B6-562C-4F49-AD8F-6BEDB4FE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118-89B6-4B16-A394-1CC05123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0976-EE19-4AE4-A387-A99DB5D065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hyperlink" Target="file:///Stabile.xls" TargetMode="External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hyperlink" Target="file:///Zaino.xls" TargetMode="External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laudio Arbib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Università di L’Aquila</a:t>
            </a:r>
            <a:br>
              <a:rPr sz="3600"/>
            </a:br>
            <a:br>
              <a:rPr sz="36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Ricerca Ope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Branch &amp;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4160" y="228600"/>
            <a:ext cx="8677080" cy="1066680"/>
            <a:chOff x="254160" y="228600"/>
            <a:chExt cx="8677080" cy="10666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8255160" y="228600"/>
              <a:ext cx="676080" cy="91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254160" y="228600"/>
              <a:ext cx="2743200" cy="1066680"/>
              <a:chOff x="254160" y="228600"/>
              <a:chExt cx="2743200" cy="106668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254160" y="228600"/>
                <a:ext cx="2675880" cy="990360"/>
                <a:chOff x="254160" y="228600"/>
                <a:chExt cx="2675880" cy="990360"/>
              </a:xfrm>
            </p:grpSpPr>
            <p:pic>
              <p:nvPicPr>
                <p:cNvPr id="4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4160" y="228600"/>
                  <a:ext cx="82512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91880" y="457200"/>
                  <a:ext cx="1838160" cy="644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9" name=""/>
              <p:cNvSpPr/>
              <p:nvPr/>
            </p:nvSpPr>
            <p:spPr>
              <a:xfrm>
                <a:off x="1092240" y="228600"/>
                <a:ext cx="19051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6553080" y="5181480"/>
            <a:ext cx="1184760" cy="838440"/>
            <a:chOff x="6553080" y="5181480"/>
            <a:chExt cx="1184760" cy="838440"/>
          </a:xfrm>
        </p:grpSpPr>
        <p:sp>
          <p:nvSpPr>
            <p:cNvPr id="154" name=""/>
            <p:cNvSpPr/>
            <p:nvPr/>
          </p:nvSpPr>
          <p:spPr>
            <a:xfrm>
              <a:off x="6553080" y="5181480"/>
              <a:ext cx="1143000" cy="83844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384" y="528"/>
                  </a:moveTo>
                  <a:lnTo>
                    <a:pt x="0" y="240"/>
                  </a:lnTo>
                  <a:lnTo>
                    <a:pt x="144" y="144"/>
                  </a:lnTo>
                  <a:lnTo>
                    <a:pt x="720" y="0"/>
                  </a:lnTo>
                  <a:lnTo>
                    <a:pt x="720" y="288"/>
                  </a:lnTo>
                  <a:lnTo>
                    <a:pt x="624" y="432"/>
                  </a:lnTo>
                  <a:lnTo>
                    <a:pt x="528" y="480"/>
                  </a:lnTo>
                  <a:lnTo>
                    <a:pt x="384" y="52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0" y="5257800"/>
              <a:ext cx="533520" cy="76212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336"/>
                  </a:moveTo>
                  <a:lnTo>
                    <a:pt x="192" y="480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144" y="48"/>
                  </a:lnTo>
                  <a:lnTo>
                    <a:pt x="0" y="33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53080" y="53341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144"/>
                  </a:moveTo>
                  <a:lnTo>
                    <a:pt x="144" y="48"/>
                  </a:lnTo>
                  <a:lnTo>
                    <a:pt x="336" y="0"/>
                  </a:lnTo>
                  <a:lnTo>
                    <a:pt x="192" y="288"/>
                  </a:lnTo>
                  <a:lnTo>
                    <a:pt x="0" y="14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57680" y="53341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it-IT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429000" y="5181480"/>
            <a:ext cx="1143000" cy="838440"/>
            <a:chOff x="3429000" y="5181480"/>
            <a:chExt cx="1143000" cy="838440"/>
          </a:xfrm>
        </p:grpSpPr>
        <p:sp>
          <p:nvSpPr>
            <p:cNvPr id="159" name=""/>
            <p:cNvSpPr/>
            <p:nvPr/>
          </p:nvSpPr>
          <p:spPr>
            <a:xfrm>
              <a:off x="3429000" y="5181480"/>
              <a:ext cx="1143000" cy="83844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384" y="528"/>
                  </a:moveTo>
                  <a:lnTo>
                    <a:pt x="0" y="240"/>
                  </a:lnTo>
                  <a:lnTo>
                    <a:pt x="144" y="144"/>
                  </a:lnTo>
                  <a:lnTo>
                    <a:pt x="720" y="0"/>
                  </a:lnTo>
                  <a:lnTo>
                    <a:pt x="720" y="288"/>
                  </a:lnTo>
                  <a:lnTo>
                    <a:pt x="624" y="432"/>
                  </a:lnTo>
                  <a:lnTo>
                    <a:pt x="528" y="480"/>
                  </a:lnTo>
                  <a:lnTo>
                    <a:pt x="384" y="52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29000" y="53341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144"/>
                  </a:moveTo>
                  <a:lnTo>
                    <a:pt x="144" y="48"/>
                  </a:lnTo>
                  <a:lnTo>
                    <a:pt x="336" y="0"/>
                  </a:lnTo>
                  <a:lnTo>
                    <a:pt x="192" y="288"/>
                  </a:lnTo>
                  <a:lnTo>
                    <a:pt x="0" y="144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67080" y="5181480"/>
              <a:ext cx="304920" cy="76212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0" y="480"/>
                  </a:moveTo>
                  <a:lnTo>
                    <a:pt x="0" y="48"/>
                  </a:lnTo>
                  <a:lnTo>
                    <a:pt x="192" y="0"/>
                  </a:lnTo>
                  <a:lnTo>
                    <a:pt x="192" y="288"/>
                  </a:lnTo>
                  <a:lnTo>
                    <a:pt x="96" y="432"/>
                  </a:lnTo>
                  <a:lnTo>
                    <a:pt x="0" y="48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73240" y="556272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09880" y="1828800"/>
            <a:ext cx="1143000" cy="838080"/>
            <a:chOff x="3809880" y="1828800"/>
            <a:chExt cx="1143000" cy="838080"/>
          </a:xfrm>
        </p:grpSpPr>
        <p:sp>
          <p:nvSpPr>
            <p:cNvPr id="164" name=""/>
            <p:cNvSpPr/>
            <p:nvPr/>
          </p:nvSpPr>
          <p:spPr>
            <a:xfrm>
              <a:off x="3809880" y="1828800"/>
              <a:ext cx="1143000" cy="83808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384" y="528"/>
                  </a:moveTo>
                  <a:lnTo>
                    <a:pt x="0" y="240"/>
                  </a:lnTo>
                  <a:lnTo>
                    <a:pt x="144" y="144"/>
                  </a:lnTo>
                  <a:lnTo>
                    <a:pt x="720" y="0"/>
                  </a:lnTo>
                  <a:lnTo>
                    <a:pt x="720" y="288"/>
                  </a:lnTo>
                  <a:lnTo>
                    <a:pt x="624" y="432"/>
                  </a:lnTo>
                  <a:lnTo>
                    <a:pt x="528" y="480"/>
                  </a:lnTo>
                  <a:lnTo>
                    <a:pt x="384" y="52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20800" y="22096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numerazione implic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2895480"/>
            <a:ext cx="167652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1143000" cy="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19320" y="3285360"/>
            <a:ext cx="2608200" cy="1438920"/>
            <a:chOff x="1219320" y="3285360"/>
            <a:chExt cx="2608200" cy="1438920"/>
          </a:xfrm>
        </p:grpSpPr>
        <p:sp>
          <p:nvSpPr>
            <p:cNvPr id="170" name=""/>
            <p:cNvSpPr/>
            <p:nvPr/>
          </p:nvSpPr>
          <p:spPr>
            <a:xfrm>
              <a:off x="1219320" y="4267080"/>
              <a:ext cx="167616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Problema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0" idx="0"/>
              <a:endCxn id="167" idx="3"/>
            </p:cNvCxnSpPr>
            <p:nvPr/>
          </p:nvCxnSpPr>
          <p:spPr>
            <a:xfrm flipV="1">
              <a:off x="2057040" y="3285360"/>
              <a:ext cx="177084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72" name=""/>
          <p:cNvGrpSpPr/>
          <p:nvPr/>
        </p:nvGrpSpPr>
        <p:grpSpPr>
          <a:xfrm>
            <a:off x="3200400" y="3352320"/>
            <a:ext cx="1676520" cy="1371960"/>
            <a:chOff x="3200400" y="3352320"/>
            <a:chExt cx="1676520" cy="1371960"/>
          </a:xfrm>
        </p:grpSpPr>
        <p:sp>
          <p:nvSpPr>
            <p:cNvPr id="173" name=""/>
            <p:cNvSpPr/>
            <p:nvPr/>
          </p:nvSpPr>
          <p:spPr>
            <a:xfrm>
              <a:off x="3200400" y="4267080"/>
              <a:ext cx="167652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Problema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3" idx="0"/>
              <a:endCxn id="167" idx="4"/>
            </p:cNvCxnSpPr>
            <p:nvPr/>
          </p:nvCxnSpPr>
          <p:spPr>
            <a:xfrm flipV="1">
              <a:off x="4038120" y="3352320"/>
              <a:ext cx="38196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5010840" y="3285720"/>
            <a:ext cx="3066480" cy="1438560"/>
            <a:chOff x="5010840" y="3285720"/>
            <a:chExt cx="3066480" cy="1438560"/>
          </a:xfrm>
        </p:grpSpPr>
        <p:sp>
          <p:nvSpPr>
            <p:cNvPr id="176" name=""/>
            <p:cNvSpPr/>
            <p:nvPr/>
          </p:nvSpPr>
          <p:spPr>
            <a:xfrm>
              <a:off x="6400800" y="4267080"/>
              <a:ext cx="167652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Problema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" name=""/>
            <p:cNvCxnSpPr>
              <a:stCxn id="176" idx="1"/>
              <a:endCxn id="167" idx="5"/>
            </p:cNvCxnSpPr>
            <p:nvPr/>
          </p:nvCxnSpPr>
          <p:spPr>
            <a:xfrm flipH="1" flipV="1">
              <a:off x="5010840" y="3285720"/>
              <a:ext cx="1636200" cy="104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78" name=""/>
          <p:cNvSpPr/>
          <p:nvPr/>
        </p:nvSpPr>
        <p:spPr>
          <a:xfrm>
            <a:off x="4801320" y="160020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 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5181480"/>
            <a:ext cx="1143000" cy="838440"/>
          </a:xfrm>
          <a:custGeom>
            <a:avLst/>
            <a:gdLst/>
            <a:ahLst/>
            <a:rect l="l" t="t" r="r" b="b"/>
            <a:pathLst>
              <a:path w="720" h="528">
                <a:moveTo>
                  <a:pt x="384" y="528"/>
                </a:moveTo>
                <a:lnTo>
                  <a:pt x="0" y="240"/>
                </a:lnTo>
                <a:lnTo>
                  <a:pt x="144" y="144"/>
                </a:lnTo>
                <a:lnTo>
                  <a:pt x="720" y="0"/>
                </a:lnTo>
                <a:lnTo>
                  <a:pt x="720" y="288"/>
                </a:lnTo>
                <a:lnTo>
                  <a:pt x="624" y="432"/>
                </a:lnTo>
                <a:lnTo>
                  <a:pt x="528" y="480"/>
                </a:lnTo>
                <a:lnTo>
                  <a:pt x="384" y="528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7080" y="5413320"/>
            <a:ext cx="40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br>
              <a:rPr sz="2400"/>
            </a:br>
            <a:r>
              <a:rPr b="0" lang="it-IT" sz="18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01400" y="5181480"/>
            <a:ext cx="1060920" cy="838440"/>
            <a:chOff x="1301400" y="5181480"/>
            <a:chExt cx="1060920" cy="838440"/>
          </a:xfrm>
        </p:grpSpPr>
        <p:sp>
          <p:nvSpPr>
            <p:cNvPr id="182" name=""/>
            <p:cNvSpPr/>
            <p:nvPr/>
          </p:nvSpPr>
          <p:spPr>
            <a:xfrm>
              <a:off x="1523880" y="5257800"/>
              <a:ext cx="533520" cy="76212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336"/>
                  </a:moveTo>
                  <a:lnTo>
                    <a:pt x="192" y="480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144" y="48"/>
                  </a:lnTo>
                  <a:lnTo>
                    <a:pt x="0" y="33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57400" y="5181480"/>
              <a:ext cx="304920" cy="76212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0" y="480"/>
                  </a:moveTo>
                  <a:lnTo>
                    <a:pt x="0" y="48"/>
                  </a:lnTo>
                  <a:lnTo>
                    <a:pt x="192" y="0"/>
                  </a:lnTo>
                  <a:lnTo>
                    <a:pt x="192" y="288"/>
                  </a:lnTo>
                  <a:lnTo>
                    <a:pt x="96" y="432"/>
                  </a:lnTo>
                  <a:lnTo>
                    <a:pt x="0" y="48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01400" y="525780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1080" y="52578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it-IT" sz="1800" spc="-1" strike="noStrike">
                <a:solidFill>
                  <a:srgbClr val="3333cc"/>
                </a:solidFill>
                <a:latin typeface="Times New Roman"/>
              </a:rPr>
              <a:t>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4520" y="49561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it-IT" sz="1800" spc="-1" strike="noStrike">
                <a:solidFill>
                  <a:srgbClr val="3333cc"/>
                </a:solidFill>
                <a:latin typeface="Times New Roman"/>
              </a:rPr>
              <a:t> 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066680" y="2286000"/>
            <a:ext cx="3733920" cy="1981080"/>
            <a:chOff x="1066680" y="2286000"/>
            <a:chExt cx="3733920" cy="1981080"/>
          </a:xfrm>
        </p:grpSpPr>
        <p:sp>
          <p:nvSpPr>
            <p:cNvPr id="189" name=""/>
            <p:cNvSpPr/>
            <p:nvPr/>
          </p:nvSpPr>
          <p:spPr>
            <a:xfrm>
              <a:off x="1828800" y="2286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" name=""/>
            <p:cNvCxnSpPr>
              <a:stCxn id="191" idx="0"/>
              <a:endCxn id="189" idx="3"/>
            </p:cNvCxnSpPr>
            <p:nvPr/>
          </p:nvCxnSpPr>
          <p:spPr>
            <a:xfrm flipV="1">
              <a:off x="1181160" y="2480760"/>
              <a:ext cx="681840" cy="117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93" idx="0"/>
              <a:endCxn id="189" idx="4"/>
            </p:cNvCxnSpPr>
            <p:nvPr/>
          </p:nvCxnSpPr>
          <p:spPr>
            <a:xfrm flipH="1" flipV="1">
              <a:off x="1942560" y="2513880"/>
              <a:ext cx="991080" cy="152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>
              <a:stCxn id="195" idx="1"/>
              <a:endCxn id="189" idx="6"/>
            </p:cNvCxnSpPr>
            <p:nvPr/>
          </p:nvCxnSpPr>
          <p:spPr>
            <a:xfrm flipH="1">
              <a:off x="2056680" y="2395440"/>
              <a:ext cx="132948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1066680" y="3657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9520" y="4038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3124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2680" y="2362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5" idx="6"/>
              <a:endCxn id="196" idx="1"/>
            </p:cNvCxnSpPr>
            <p:nvPr/>
          </p:nvCxnSpPr>
          <p:spPr>
            <a:xfrm>
              <a:off x="3580920" y="2476440"/>
              <a:ext cx="1024920" cy="68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8" name=""/>
            <p:cNvCxnSpPr>
              <a:stCxn id="196" idx="3"/>
              <a:endCxn id="193" idx="6"/>
            </p:cNvCxnSpPr>
            <p:nvPr/>
          </p:nvCxnSpPr>
          <p:spPr>
            <a:xfrm flipH="1">
              <a:off x="3047760" y="3319200"/>
              <a:ext cx="1558080" cy="83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>
              <a:stCxn id="193" idx="2"/>
              <a:endCxn id="191" idx="6"/>
            </p:cNvCxnSpPr>
            <p:nvPr/>
          </p:nvCxnSpPr>
          <p:spPr>
            <a:xfrm flipH="1" flipV="1">
              <a:off x="1294920" y="3771720"/>
              <a:ext cx="15249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95" idx="3"/>
              <a:endCxn id="191" idx="7"/>
            </p:cNvCxnSpPr>
            <p:nvPr/>
          </p:nvCxnSpPr>
          <p:spPr>
            <a:xfrm flipH="1">
              <a:off x="1261800" y="2557080"/>
              <a:ext cx="2124720" cy="113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1" name=""/>
          <p:cNvSpPr/>
          <p:nvPr/>
        </p:nvSpPr>
        <p:spPr>
          <a:xfrm>
            <a:off x="5029200" y="1752480"/>
            <a:ext cx="3294360" cy="45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vuole calcolare il max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sieme st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max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0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, …,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 int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28480" y="4724280"/>
          <a:ext cx="4881600" cy="16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4724280"/>
                    <a:ext cx="488160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736960" y="5756400"/>
            <a:ext cx="30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provarci: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tabile.x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066680" y="2286000"/>
            <a:ext cx="3733920" cy="1981080"/>
            <a:chOff x="1066680" y="2286000"/>
            <a:chExt cx="3733920" cy="1981080"/>
          </a:xfrm>
        </p:grpSpPr>
        <p:sp>
          <p:nvSpPr>
            <p:cNvPr id="207" name=""/>
            <p:cNvSpPr/>
            <p:nvPr/>
          </p:nvSpPr>
          <p:spPr>
            <a:xfrm>
              <a:off x="1828800" y="2286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9" idx="0"/>
              <a:endCxn id="207" idx="3"/>
            </p:cNvCxnSpPr>
            <p:nvPr/>
          </p:nvCxnSpPr>
          <p:spPr>
            <a:xfrm flipV="1">
              <a:off x="1181160" y="2480760"/>
              <a:ext cx="681840" cy="117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211" idx="0"/>
              <a:endCxn id="207" idx="4"/>
            </p:cNvCxnSpPr>
            <p:nvPr/>
          </p:nvCxnSpPr>
          <p:spPr>
            <a:xfrm flipH="1" flipV="1">
              <a:off x="1942560" y="2513880"/>
              <a:ext cx="991080" cy="152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" name=""/>
            <p:cNvCxnSpPr>
              <a:stCxn id="213" idx="1"/>
              <a:endCxn id="207" idx="6"/>
            </p:cNvCxnSpPr>
            <p:nvPr/>
          </p:nvCxnSpPr>
          <p:spPr>
            <a:xfrm flipH="1">
              <a:off x="2056680" y="2395440"/>
              <a:ext cx="132948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1066680" y="3657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19520" y="4038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3124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2362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3" idx="6"/>
              <a:endCxn id="214" idx="1"/>
            </p:cNvCxnSpPr>
            <p:nvPr/>
          </p:nvCxnSpPr>
          <p:spPr>
            <a:xfrm>
              <a:off x="3580920" y="2476440"/>
              <a:ext cx="1024920" cy="68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6" name=""/>
            <p:cNvCxnSpPr>
              <a:stCxn id="214" idx="3"/>
              <a:endCxn id="211" idx="6"/>
            </p:cNvCxnSpPr>
            <p:nvPr/>
          </p:nvCxnSpPr>
          <p:spPr>
            <a:xfrm flipH="1">
              <a:off x="3047760" y="3319200"/>
              <a:ext cx="1558080" cy="83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7" name=""/>
            <p:cNvCxnSpPr>
              <a:stCxn id="211" idx="2"/>
              <a:endCxn id="209" idx="6"/>
            </p:cNvCxnSpPr>
            <p:nvPr/>
          </p:nvCxnSpPr>
          <p:spPr>
            <a:xfrm flipH="1" flipV="1">
              <a:off x="1294920" y="3771720"/>
              <a:ext cx="15249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8" name=""/>
            <p:cNvCxnSpPr>
              <a:stCxn id="213" idx="3"/>
              <a:endCxn id="209" idx="7"/>
            </p:cNvCxnSpPr>
            <p:nvPr/>
          </p:nvCxnSpPr>
          <p:spPr>
            <a:xfrm flipH="1">
              <a:off x="1261800" y="2557080"/>
              <a:ext cx="2124720" cy="113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1752480"/>
            <a:ext cx="3294360" cy="45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vuole calcolare il max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sieme st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max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0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, …,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 int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28480" y="4724280"/>
          <a:ext cx="4881600" cy="16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4724280"/>
                    <a:ext cx="488160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5714640" y="5756400"/>
            <a:ext cx="1712880" cy="459720"/>
            <a:chOff x="5714640" y="5756400"/>
            <a:chExt cx="1712880" cy="459720"/>
          </a:xfrm>
        </p:grpSpPr>
        <p:sp>
          <p:nvSpPr>
            <p:cNvPr id="223" name=""/>
            <p:cNvSpPr/>
            <p:nvPr/>
          </p:nvSpPr>
          <p:spPr>
            <a:xfrm>
              <a:off x="6026040" y="5756400"/>
              <a:ext cx="1401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Times New Roman"/>
                </a:rPr>
                <a:t>Solu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714640" y="600876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rot="20391600">
            <a:off x="515520" y="4681080"/>
            <a:ext cx="674640" cy="23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008720" y="2152080"/>
            <a:ext cx="3276360" cy="4686480"/>
            <a:chOff x="1008720" y="2152080"/>
            <a:chExt cx="3276360" cy="4686480"/>
          </a:xfrm>
        </p:grpSpPr>
        <p:sp>
          <p:nvSpPr>
            <p:cNvPr id="229" name=""/>
            <p:cNvSpPr/>
            <p:nvPr/>
          </p:nvSpPr>
          <p:spPr>
            <a:xfrm>
              <a:off x="1008720" y="3352680"/>
              <a:ext cx="2868480" cy="3485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, …,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1800"/>
              </a:b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 inte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ssiamo 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209680" y="2152080"/>
              <a:ext cx="2075400" cy="1027800"/>
              <a:chOff x="2209680" y="2152080"/>
              <a:chExt cx="2075400" cy="1027800"/>
            </a:xfrm>
          </p:grpSpPr>
          <p:sp>
            <p:nvSpPr>
              <p:cNvPr id="231" name=""/>
              <p:cNvSpPr/>
              <p:nvPr/>
            </p:nvSpPr>
            <p:spPr>
              <a:xfrm>
                <a:off x="2209680" y="2800440"/>
                <a:ext cx="700200" cy="3794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2" name=""/>
              <p:cNvCxnSpPr>
                <a:stCxn id="231" idx="7"/>
                <a:endCxn id="227" idx="3"/>
              </p:cNvCxnSpPr>
              <p:nvPr/>
            </p:nvCxnSpPr>
            <p:spPr>
              <a:xfrm flipV="1">
                <a:off x="2806560" y="2152080"/>
                <a:ext cx="1478880" cy="703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33" name=""/>
          <p:cNvGrpSpPr/>
          <p:nvPr/>
        </p:nvGrpSpPr>
        <p:grpSpPr>
          <a:xfrm>
            <a:off x="4777920" y="2152080"/>
            <a:ext cx="3290400" cy="4686480"/>
            <a:chOff x="4777920" y="2152080"/>
            <a:chExt cx="3290400" cy="4686480"/>
          </a:xfrm>
        </p:grpSpPr>
        <p:sp>
          <p:nvSpPr>
            <p:cNvPr id="234" name=""/>
            <p:cNvSpPr/>
            <p:nvPr/>
          </p:nvSpPr>
          <p:spPr>
            <a:xfrm>
              <a:off x="5199840" y="3352680"/>
              <a:ext cx="2868480" cy="3485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, …,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1800"/>
              </a:b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 inte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ssiamo 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777920" y="2152080"/>
              <a:ext cx="2232360" cy="1026000"/>
              <a:chOff x="4777920" y="2152080"/>
              <a:chExt cx="2232360" cy="1026000"/>
            </a:xfrm>
          </p:grpSpPr>
          <p:sp>
            <p:nvSpPr>
              <p:cNvPr id="236" name=""/>
              <p:cNvSpPr/>
              <p:nvPr/>
            </p:nvSpPr>
            <p:spPr>
              <a:xfrm>
                <a:off x="6310440" y="2798640"/>
                <a:ext cx="699840" cy="3794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7" name=""/>
              <p:cNvCxnSpPr>
                <a:stCxn id="236" idx="1"/>
                <a:endCxn id="227" idx="5"/>
              </p:cNvCxnSpPr>
              <p:nvPr/>
            </p:nvCxnSpPr>
            <p:spPr>
              <a:xfrm flipH="1" flipV="1">
                <a:off x="4777920" y="2152080"/>
                <a:ext cx="1635840" cy="702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238" name=""/>
          <p:cNvSpPr/>
          <p:nvPr/>
        </p:nvSpPr>
        <p:spPr>
          <a:xfrm>
            <a:off x="2892240" y="236232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guiamo una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icoto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09680" y="2152080"/>
            <a:ext cx="2075400" cy="1027800"/>
            <a:chOff x="2209680" y="2152080"/>
            <a:chExt cx="2075400" cy="1027800"/>
          </a:xfrm>
        </p:grpSpPr>
        <p:sp>
          <p:nvSpPr>
            <p:cNvPr id="242" name=""/>
            <p:cNvSpPr/>
            <p:nvPr/>
          </p:nvSpPr>
          <p:spPr>
            <a:xfrm>
              <a:off x="2209680" y="280044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3" name=""/>
            <p:cNvCxnSpPr>
              <a:stCxn id="242" idx="7"/>
              <a:endCxn id="240" idx="3"/>
            </p:cNvCxnSpPr>
            <p:nvPr/>
          </p:nvCxnSpPr>
          <p:spPr>
            <a:xfrm flipV="1">
              <a:off x="2806560" y="2152080"/>
              <a:ext cx="147888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44" name=""/>
          <p:cNvSpPr/>
          <p:nvPr/>
        </p:nvSpPr>
        <p:spPr>
          <a:xfrm>
            <a:off x="2892240" y="236232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guiamo una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icoto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838080" y="3809880"/>
            <a:ext cx="3200400" cy="1981440"/>
            <a:chOff x="838080" y="3809880"/>
            <a:chExt cx="3200400" cy="1981440"/>
          </a:xfrm>
        </p:grpSpPr>
        <p:sp>
          <p:nvSpPr>
            <p:cNvPr id="246" name=""/>
            <p:cNvSpPr/>
            <p:nvPr/>
          </p:nvSpPr>
          <p:spPr>
            <a:xfrm>
              <a:off x="1600200" y="3809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48" idx="0"/>
              <a:endCxn id="246" idx="3"/>
            </p:cNvCxnSpPr>
            <p:nvPr/>
          </p:nvCxnSpPr>
          <p:spPr>
            <a:xfrm flipV="1">
              <a:off x="952560" y="4004640"/>
              <a:ext cx="681840" cy="117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9" name=""/>
            <p:cNvCxnSpPr>
              <a:stCxn id="250" idx="0"/>
              <a:endCxn id="246" idx="4"/>
            </p:cNvCxnSpPr>
            <p:nvPr/>
          </p:nvCxnSpPr>
          <p:spPr>
            <a:xfrm flipH="1" flipV="1">
              <a:off x="1713960" y="4038120"/>
              <a:ext cx="991080" cy="152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1" name=""/>
            <p:cNvCxnSpPr>
              <a:stCxn id="252" idx="1"/>
              <a:endCxn id="246" idx="6"/>
            </p:cNvCxnSpPr>
            <p:nvPr/>
          </p:nvCxnSpPr>
          <p:spPr>
            <a:xfrm flipH="1">
              <a:off x="1828080" y="3919320"/>
              <a:ext cx="13294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8" name=""/>
            <p:cNvSpPr/>
            <p:nvPr/>
          </p:nvSpPr>
          <p:spPr>
            <a:xfrm>
              <a:off x="838080" y="5181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0920" y="5562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09880" y="4648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4080" y="3886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"/>
            <p:cNvCxnSpPr>
              <a:stCxn id="252" idx="5"/>
              <a:endCxn id="253" idx="1"/>
            </p:cNvCxnSpPr>
            <p:nvPr/>
          </p:nvCxnSpPr>
          <p:spPr>
            <a:xfrm>
              <a:off x="3319200" y="4080960"/>
              <a:ext cx="524160" cy="60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53" idx="3"/>
              <a:endCxn id="250" idx="6"/>
            </p:cNvCxnSpPr>
            <p:nvPr/>
          </p:nvCxnSpPr>
          <p:spPr>
            <a:xfrm flipH="1">
              <a:off x="2819160" y="4843080"/>
              <a:ext cx="1024560" cy="83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6" name=""/>
            <p:cNvCxnSpPr>
              <a:stCxn id="250" idx="2"/>
              <a:endCxn id="248" idx="6"/>
            </p:cNvCxnSpPr>
            <p:nvPr/>
          </p:nvCxnSpPr>
          <p:spPr>
            <a:xfrm flipH="1" flipV="1">
              <a:off x="1066320" y="5295600"/>
              <a:ext cx="15249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7" name=""/>
            <p:cNvCxnSpPr>
              <a:stCxn id="252" idx="3"/>
              <a:endCxn id="248" idx="7"/>
            </p:cNvCxnSpPr>
            <p:nvPr/>
          </p:nvCxnSpPr>
          <p:spPr>
            <a:xfrm flipH="1">
              <a:off x="1033200" y="4080960"/>
              <a:ext cx="2124720" cy="113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58" name=""/>
          <p:cNvGrpSpPr/>
          <p:nvPr/>
        </p:nvGrpSpPr>
        <p:grpSpPr>
          <a:xfrm>
            <a:off x="4777920" y="2152080"/>
            <a:ext cx="3290400" cy="4649040"/>
            <a:chOff x="4777920" y="2152080"/>
            <a:chExt cx="3290400" cy="4649040"/>
          </a:xfrm>
        </p:grpSpPr>
        <p:sp>
          <p:nvSpPr>
            <p:cNvPr id="259" name=""/>
            <p:cNvSpPr/>
            <p:nvPr/>
          </p:nvSpPr>
          <p:spPr>
            <a:xfrm>
              <a:off x="5199840" y="3352680"/>
              <a:ext cx="2868480" cy="34484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, …,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1800"/>
              </a:b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 inte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4777920" y="2152080"/>
              <a:ext cx="2232360" cy="1026000"/>
              <a:chOff x="4777920" y="2152080"/>
              <a:chExt cx="2232360" cy="1026000"/>
            </a:xfrm>
          </p:grpSpPr>
          <p:sp>
            <p:nvSpPr>
              <p:cNvPr id="261" name=""/>
              <p:cNvSpPr/>
              <p:nvPr/>
            </p:nvSpPr>
            <p:spPr>
              <a:xfrm>
                <a:off x="6310440" y="2798640"/>
                <a:ext cx="699840" cy="3794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2" name=""/>
              <p:cNvCxnSpPr>
                <a:stCxn id="261" idx="1"/>
              </p:cNvCxnSpPr>
              <p:nvPr/>
            </p:nvCxnSpPr>
            <p:spPr>
              <a:xfrm flipH="1" flipV="1">
                <a:off x="4777920" y="2152080"/>
                <a:ext cx="1635840" cy="702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63" name=""/>
          <p:cNvGrpSpPr/>
          <p:nvPr/>
        </p:nvGrpSpPr>
        <p:grpSpPr>
          <a:xfrm>
            <a:off x="1523880" y="3733920"/>
            <a:ext cx="380880" cy="380880"/>
            <a:chOff x="1523880" y="3733920"/>
            <a:chExt cx="380880" cy="380880"/>
          </a:xfrm>
        </p:grpSpPr>
        <p:sp>
          <p:nvSpPr>
            <p:cNvPr id="264" name=""/>
            <p:cNvSpPr/>
            <p:nvPr/>
          </p:nvSpPr>
          <p:spPr>
            <a:xfrm>
              <a:off x="1523880" y="373392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523880" y="373392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09680" y="2152080"/>
            <a:ext cx="2075400" cy="1027800"/>
            <a:chOff x="2209680" y="2152080"/>
            <a:chExt cx="2075400" cy="1027800"/>
          </a:xfrm>
        </p:grpSpPr>
        <p:sp>
          <p:nvSpPr>
            <p:cNvPr id="269" name=""/>
            <p:cNvSpPr/>
            <p:nvPr/>
          </p:nvSpPr>
          <p:spPr>
            <a:xfrm>
              <a:off x="2209680" y="280044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9" idx="7"/>
              <a:endCxn id="267" idx="3"/>
            </p:cNvCxnSpPr>
            <p:nvPr/>
          </p:nvCxnSpPr>
          <p:spPr>
            <a:xfrm flipV="1">
              <a:off x="2806560" y="2152080"/>
              <a:ext cx="147888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71" name=""/>
          <p:cNvSpPr/>
          <p:nvPr/>
        </p:nvSpPr>
        <p:spPr>
          <a:xfrm>
            <a:off x="2892240" y="236232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guiamo una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icoto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838080" y="3886200"/>
            <a:ext cx="3200400" cy="1905120"/>
            <a:chOff x="838080" y="3886200"/>
            <a:chExt cx="3200400" cy="1905120"/>
          </a:xfrm>
        </p:grpSpPr>
        <p:sp>
          <p:nvSpPr>
            <p:cNvPr id="273" name=""/>
            <p:cNvSpPr/>
            <p:nvPr/>
          </p:nvSpPr>
          <p:spPr>
            <a:xfrm>
              <a:off x="838080" y="5181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90920" y="5562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9880" y="4648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24080" y="3886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76" idx="5"/>
              <a:endCxn id="275" idx="1"/>
            </p:cNvCxnSpPr>
            <p:nvPr/>
          </p:nvCxnSpPr>
          <p:spPr>
            <a:xfrm>
              <a:off x="3319200" y="4080960"/>
              <a:ext cx="524160" cy="60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8" name=""/>
            <p:cNvCxnSpPr>
              <a:stCxn id="275" idx="3"/>
              <a:endCxn id="274" idx="6"/>
            </p:cNvCxnSpPr>
            <p:nvPr/>
          </p:nvCxnSpPr>
          <p:spPr>
            <a:xfrm flipH="1">
              <a:off x="2819160" y="4843080"/>
              <a:ext cx="1024560" cy="83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9" name=""/>
            <p:cNvCxnSpPr>
              <a:stCxn id="274" idx="2"/>
              <a:endCxn id="273" idx="6"/>
            </p:cNvCxnSpPr>
            <p:nvPr/>
          </p:nvCxnSpPr>
          <p:spPr>
            <a:xfrm flipH="1" flipV="1">
              <a:off x="1066320" y="5295600"/>
              <a:ext cx="15249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0" name=""/>
            <p:cNvCxnSpPr>
              <a:stCxn id="276" idx="3"/>
              <a:endCxn id="273" idx="7"/>
            </p:cNvCxnSpPr>
            <p:nvPr/>
          </p:nvCxnSpPr>
          <p:spPr>
            <a:xfrm flipH="1">
              <a:off x="1033200" y="4080960"/>
              <a:ext cx="2124720" cy="113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81" name=""/>
          <p:cNvGrpSpPr/>
          <p:nvPr/>
        </p:nvGrpSpPr>
        <p:grpSpPr>
          <a:xfrm>
            <a:off x="4777920" y="2152080"/>
            <a:ext cx="3290400" cy="4649040"/>
            <a:chOff x="4777920" y="2152080"/>
            <a:chExt cx="3290400" cy="4649040"/>
          </a:xfrm>
        </p:grpSpPr>
        <p:sp>
          <p:nvSpPr>
            <p:cNvPr id="282" name=""/>
            <p:cNvSpPr/>
            <p:nvPr/>
          </p:nvSpPr>
          <p:spPr>
            <a:xfrm>
              <a:off x="5199840" y="3352680"/>
              <a:ext cx="2868480" cy="34484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, …,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1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1800"/>
              </a:b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   inte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777920" y="2152080"/>
              <a:ext cx="2232360" cy="1026000"/>
              <a:chOff x="4777920" y="2152080"/>
              <a:chExt cx="2232360" cy="1026000"/>
            </a:xfrm>
          </p:grpSpPr>
          <p:sp>
            <p:nvSpPr>
              <p:cNvPr id="284" name=""/>
              <p:cNvSpPr/>
              <p:nvPr/>
            </p:nvSpPr>
            <p:spPr>
              <a:xfrm>
                <a:off x="6310440" y="2798640"/>
                <a:ext cx="699840" cy="3794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5" name=""/>
              <p:cNvCxnSpPr>
                <a:stCxn id="284" idx="1"/>
              </p:cNvCxnSpPr>
              <p:nvPr/>
            </p:nvCxnSpPr>
            <p:spPr>
              <a:xfrm flipH="1" flipV="1">
                <a:off x="4777920" y="2152080"/>
                <a:ext cx="1635840" cy="702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86" name=""/>
          <p:cNvGrpSpPr/>
          <p:nvPr/>
        </p:nvGrpSpPr>
        <p:grpSpPr>
          <a:xfrm>
            <a:off x="838080" y="4648320"/>
            <a:ext cx="3200400" cy="761760"/>
            <a:chOff x="838080" y="4648320"/>
            <a:chExt cx="3200400" cy="761760"/>
          </a:xfrm>
        </p:grpSpPr>
        <p:sp>
          <p:nvSpPr>
            <p:cNvPr id="287" name=""/>
            <p:cNvSpPr/>
            <p:nvPr/>
          </p:nvSpPr>
          <p:spPr>
            <a:xfrm>
              <a:off x="838080" y="518148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09880" y="464832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22480" y="4724280"/>
              <a:ext cx="101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*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209680" y="2152080"/>
            <a:ext cx="2075400" cy="1027800"/>
            <a:chOff x="2209680" y="2152080"/>
            <a:chExt cx="2075400" cy="1027800"/>
          </a:xfrm>
        </p:grpSpPr>
        <p:sp>
          <p:nvSpPr>
            <p:cNvPr id="293" name=""/>
            <p:cNvSpPr/>
            <p:nvPr/>
          </p:nvSpPr>
          <p:spPr>
            <a:xfrm>
              <a:off x="2209680" y="280044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>
              <a:stCxn id="293" idx="7"/>
              <a:endCxn id="291" idx="3"/>
            </p:cNvCxnSpPr>
            <p:nvPr/>
          </p:nvCxnSpPr>
          <p:spPr>
            <a:xfrm flipV="1">
              <a:off x="2806560" y="2152080"/>
              <a:ext cx="147888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95" name=""/>
          <p:cNvSpPr/>
          <p:nvPr/>
        </p:nvSpPr>
        <p:spPr>
          <a:xfrm>
            <a:off x="2892240" y="236232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guiamo una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icoto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838080" y="3886200"/>
            <a:ext cx="3200400" cy="1905120"/>
            <a:chOff x="838080" y="3886200"/>
            <a:chExt cx="3200400" cy="1905120"/>
          </a:xfrm>
        </p:grpSpPr>
        <p:sp>
          <p:nvSpPr>
            <p:cNvPr id="297" name=""/>
            <p:cNvSpPr/>
            <p:nvPr/>
          </p:nvSpPr>
          <p:spPr>
            <a:xfrm>
              <a:off x="838080" y="5181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562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4648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24080" y="3886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" name=""/>
            <p:cNvCxnSpPr>
              <a:stCxn id="300" idx="5"/>
              <a:endCxn id="299" idx="1"/>
            </p:cNvCxnSpPr>
            <p:nvPr/>
          </p:nvCxnSpPr>
          <p:spPr>
            <a:xfrm>
              <a:off x="3319200" y="4080960"/>
              <a:ext cx="524160" cy="60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2" name=""/>
            <p:cNvCxnSpPr>
              <a:stCxn id="299" idx="3"/>
              <a:endCxn id="298" idx="6"/>
            </p:cNvCxnSpPr>
            <p:nvPr/>
          </p:nvCxnSpPr>
          <p:spPr>
            <a:xfrm flipH="1">
              <a:off x="2819160" y="4843080"/>
              <a:ext cx="1024560" cy="83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3" name=""/>
            <p:cNvCxnSpPr>
              <a:stCxn id="298" idx="2"/>
              <a:endCxn id="297" idx="6"/>
            </p:cNvCxnSpPr>
            <p:nvPr/>
          </p:nvCxnSpPr>
          <p:spPr>
            <a:xfrm flipH="1" flipV="1">
              <a:off x="1066320" y="5295600"/>
              <a:ext cx="15249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4" name=""/>
            <p:cNvCxnSpPr>
              <a:stCxn id="300" idx="3"/>
              <a:endCxn id="297" idx="7"/>
            </p:cNvCxnSpPr>
            <p:nvPr/>
          </p:nvCxnSpPr>
          <p:spPr>
            <a:xfrm flipH="1">
              <a:off x="1033200" y="4080960"/>
              <a:ext cx="2124720" cy="113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05" name=""/>
          <p:cNvGrpSpPr/>
          <p:nvPr/>
        </p:nvGrpSpPr>
        <p:grpSpPr>
          <a:xfrm>
            <a:off x="4777920" y="2152080"/>
            <a:ext cx="2232360" cy="1026000"/>
            <a:chOff x="4777920" y="2152080"/>
            <a:chExt cx="2232360" cy="1026000"/>
          </a:xfrm>
        </p:grpSpPr>
        <p:sp>
          <p:nvSpPr>
            <p:cNvPr id="306" name=""/>
            <p:cNvSpPr/>
            <p:nvPr/>
          </p:nvSpPr>
          <p:spPr>
            <a:xfrm>
              <a:off x="6310440" y="279864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" name=""/>
            <p:cNvCxnSpPr>
              <a:stCxn id="306" idx="1"/>
            </p:cNvCxnSpPr>
            <p:nvPr/>
          </p:nvCxnSpPr>
          <p:spPr>
            <a:xfrm flipH="1" flipV="1">
              <a:off x="4777920" y="2152080"/>
              <a:ext cx="1635840" cy="70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08" name=""/>
          <p:cNvGrpSpPr/>
          <p:nvPr/>
        </p:nvGrpSpPr>
        <p:grpSpPr>
          <a:xfrm>
            <a:off x="4952880" y="3809880"/>
            <a:ext cx="3200400" cy="1981440"/>
            <a:chOff x="4952880" y="3809880"/>
            <a:chExt cx="3200400" cy="1981440"/>
          </a:xfrm>
        </p:grpSpPr>
        <p:sp>
          <p:nvSpPr>
            <p:cNvPr id="309" name=""/>
            <p:cNvSpPr/>
            <p:nvPr/>
          </p:nvSpPr>
          <p:spPr>
            <a:xfrm>
              <a:off x="5715000" y="380988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0" name=""/>
            <p:cNvCxnSpPr>
              <a:stCxn id="311" idx="0"/>
              <a:endCxn id="309" idx="3"/>
            </p:cNvCxnSpPr>
            <p:nvPr/>
          </p:nvCxnSpPr>
          <p:spPr>
            <a:xfrm flipV="1">
              <a:off x="5067360" y="4004640"/>
              <a:ext cx="681840" cy="117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2" name=""/>
            <p:cNvCxnSpPr>
              <a:stCxn id="313" idx="0"/>
              <a:endCxn id="309" idx="4"/>
            </p:cNvCxnSpPr>
            <p:nvPr/>
          </p:nvCxnSpPr>
          <p:spPr>
            <a:xfrm flipH="1" flipV="1">
              <a:off x="5828760" y="4038120"/>
              <a:ext cx="991080" cy="152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4" name=""/>
            <p:cNvCxnSpPr>
              <a:stCxn id="315" idx="1"/>
              <a:endCxn id="309" idx="6"/>
            </p:cNvCxnSpPr>
            <p:nvPr/>
          </p:nvCxnSpPr>
          <p:spPr>
            <a:xfrm flipH="1">
              <a:off x="5942880" y="3919320"/>
              <a:ext cx="13294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1" name=""/>
            <p:cNvSpPr/>
            <p:nvPr/>
          </p:nvSpPr>
          <p:spPr>
            <a:xfrm>
              <a:off x="4952880" y="5181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05720" y="5562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24680" y="4648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38880" y="3886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"/>
            <p:cNvCxnSpPr>
              <a:stCxn id="315" idx="5"/>
              <a:endCxn id="316" idx="1"/>
            </p:cNvCxnSpPr>
            <p:nvPr/>
          </p:nvCxnSpPr>
          <p:spPr>
            <a:xfrm>
              <a:off x="7434000" y="4080960"/>
              <a:ext cx="524160" cy="60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8" name=""/>
            <p:cNvCxnSpPr>
              <a:stCxn id="316" idx="3"/>
              <a:endCxn id="313" idx="6"/>
            </p:cNvCxnSpPr>
            <p:nvPr/>
          </p:nvCxnSpPr>
          <p:spPr>
            <a:xfrm flipH="1">
              <a:off x="6933960" y="4843080"/>
              <a:ext cx="1024560" cy="83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9" name=""/>
            <p:cNvCxnSpPr>
              <a:stCxn id="313" idx="2"/>
              <a:endCxn id="311" idx="6"/>
            </p:cNvCxnSpPr>
            <p:nvPr/>
          </p:nvCxnSpPr>
          <p:spPr>
            <a:xfrm flipH="1" flipV="1">
              <a:off x="5181120" y="5295600"/>
              <a:ext cx="15249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0" name=""/>
            <p:cNvCxnSpPr>
              <a:stCxn id="315" idx="3"/>
              <a:endCxn id="311" idx="7"/>
            </p:cNvCxnSpPr>
            <p:nvPr/>
          </p:nvCxnSpPr>
          <p:spPr>
            <a:xfrm flipH="1">
              <a:off x="5148000" y="4080960"/>
              <a:ext cx="2124720" cy="113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21" name=""/>
          <p:cNvGrpSpPr/>
          <p:nvPr/>
        </p:nvGrpSpPr>
        <p:grpSpPr>
          <a:xfrm>
            <a:off x="4876920" y="3809520"/>
            <a:ext cx="2666880" cy="1981800"/>
            <a:chOff x="4876920" y="3809520"/>
            <a:chExt cx="2666880" cy="1981800"/>
          </a:xfrm>
        </p:grpSpPr>
        <p:grpSp>
          <p:nvGrpSpPr>
            <p:cNvPr id="322" name=""/>
            <p:cNvGrpSpPr/>
            <p:nvPr/>
          </p:nvGrpSpPr>
          <p:grpSpPr>
            <a:xfrm>
              <a:off x="4876920" y="5105520"/>
              <a:ext cx="380880" cy="380880"/>
              <a:chOff x="4876920" y="5105520"/>
              <a:chExt cx="380880" cy="380880"/>
            </a:xfrm>
          </p:grpSpPr>
          <p:sp>
            <p:nvSpPr>
              <p:cNvPr id="323" name=""/>
              <p:cNvSpPr/>
              <p:nvPr/>
            </p:nvSpPr>
            <p:spPr>
              <a:xfrm>
                <a:off x="4876920" y="5105520"/>
                <a:ext cx="380880" cy="380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4876920" y="5105520"/>
                <a:ext cx="380880" cy="380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162920" y="3809520"/>
              <a:ext cx="380880" cy="381600"/>
              <a:chOff x="7162920" y="3809520"/>
              <a:chExt cx="380880" cy="381600"/>
            </a:xfrm>
          </p:grpSpPr>
          <p:sp>
            <p:nvSpPr>
              <p:cNvPr id="326" name=""/>
              <p:cNvSpPr/>
              <p:nvPr/>
            </p:nvSpPr>
            <p:spPr>
              <a:xfrm>
                <a:off x="7162920" y="3809880"/>
                <a:ext cx="380880" cy="381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3809520"/>
                <a:ext cx="380880" cy="381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629400" y="5409720"/>
              <a:ext cx="380880" cy="381600"/>
              <a:chOff x="6629400" y="5409720"/>
              <a:chExt cx="380880" cy="381600"/>
            </a:xfrm>
          </p:grpSpPr>
          <p:sp>
            <p:nvSpPr>
              <p:cNvPr id="329" name=""/>
              <p:cNvSpPr/>
              <p:nvPr/>
            </p:nvSpPr>
            <p:spPr>
              <a:xfrm>
                <a:off x="6629400" y="5410080"/>
                <a:ext cx="380880" cy="381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629400" y="5409720"/>
                <a:ext cx="380880" cy="381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838080" y="4648320"/>
            <a:ext cx="3200400" cy="761760"/>
            <a:chOff x="838080" y="4648320"/>
            <a:chExt cx="3200400" cy="761760"/>
          </a:xfrm>
        </p:grpSpPr>
        <p:sp>
          <p:nvSpPr>
            <p:cNvPr id="332" name=""/>
            <p:cNvSpPr/>
            <p:nvPr/>
          </p:nvSpPr>
          <p:spPr>
            <a:xfrm>
              <a:off x="838080" y="518148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09880" y="464832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22480" y="4724280"/>
              <a:ext cx="101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*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209680" y="2152080"/>
            <a:ext cx="2075400" cy="1027800"/>
            <a:chOff x="2209680" y="2152080"/>
            <a:chExt cx="2075400" cy="1027800"/>
          </a:xfrm>
        </p:grpSpPr>
        <p:sp>
          <p:nvSpPr>
            <p:cNvPr id="338" name=""/>
            <p:cNvSpPr/>
            <p:nvPr/>
          </p:nvSpPr>
          <p:spPr>
            <a:xfrm>
              <a:off x="2209680" y="280044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9" name=""/>
            <p:cNvCxnSpPr>
              <a:stCxn id="338" idx="7"/>
              <a:endCxn id="336" idx="3"/>
            </p:cNvCxnSpPr>
            <p:nvPr/>
          </p:nvCxnSpPr>
          <p:spPr>
            <a:xfrm flipV="1">
              <a:off x="2806560" y="2152080"/>
              <a:ext cx="147888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40" name=""/>
          <p:cNvSpPr/>
          <p:nvPr/>
        </p:nvSpPr>
        <p:spPr>
          <a:xfrm>
            <a:off x="2892240" y="236232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guiamo una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icoto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838080" y="3886200"/>
            <a:ext cx="3200400" cy="1905120"/>
            <a:chOff x="838080" y="3886200"/>
            <a:chExt cx="3200400" cy="1905120"/>
          </a:xfrm>
        </p:grpSpPr>
        <p:sp>
          <p:nvSpPr>
            <p:cNvPr id="342" name=""/>
            <p:cNvSpPr/>
            <p:nvPr/>
          </p:nvSpPr>
          <p:spPr>
            <a:xfrm>
              <a:off x="838080" y="5181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0920" y="5562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09880" y="4648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24080" y="3886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6" name=""/>
            <p:cNvCxnSpPr>
              <a:stCxn id="345" idx="5"/>
              <a:endCxn id="344" idx="1"/>
            </p:cNvCxnSpPr>
            <p:nvPr/>
          </p:nvCxnSpPr>
          <p:spPr>
            <a:xfrm>
              <a:off x="3319200" y="4080960"/>
              <a:ext cx="524160" cy="60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7" name=""/>
            <p:cNvCxnSpPr>
              <a:stCxn id="344" idx="3"/>
              <a:endCxn id="343" idx="6"/>
            </p:cNvCxnSpPr>
            <p:nvPr/>
          </p:nvCxnSpPr>
          <p:spPr>
            <a:xfrm flipH="1">
              <a:off x="2819160" y="4843080"/>
              <a:ext cx="1024560" cy="83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8" name=""/>
            <p:cNvCxnSpPr>
              <a:stCxn id="343" idx="2"/>
              <a:endCxn id="342" idx="6"/>
            </p:cNvCxnSpPr>
            <p:nvPr/>
          </p:nvCxnSpPr>
          <p:spPr>
            <a:xfrm flipH="1" flipV="1">
              <a:off x="1066320" y="5295600"/>
              <a:ext cx="15249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9" name=""/>
            <p:cNvCxnSpPr>
              <a:stCxn id="345" idx="3"/>
              <a:endCxn id="342" idx="7"/>
            </p:cNvCxnSpPr>
            <p:nvPr/>
          </p:nvCxnSpPr>
          <p:spPr>
            <a:xfrm flipH="1">
              <a:off x="1033200" y="4080960"/>
              <a:ext cx="2124720" cy="113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50" name=""/>
          <p:cNvGrpSpPr/>
          <p:nvPr/>
        </p:nvGrpSpPr>
        <p:grpSpPr>
          <a:xfrm>
            <a:off x="4777920" y="2152080"/>
            <a:ext cx="2232360" cy="1026000"/>
            <a:chOff x="4777920" y="2152080"/>
            <a:chExt cx="2232360" cy="1026000"/>
          </a:xfrm>
        </p:grpSpPr>
        <p:sp>
          <p:nvSpPr>
            <p:cNvPr id="351" name=""/>
            <p:cNvSpPr/>
            <p:nvPr/>
          </p:nvSpPr>
          <p:spPr>
            <a:xfrm>
              <a:off x="6310440" y="279864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2" name=""/>
            <p:cNvCxnSpPr>
              <a:stCxn id="351" idx="1"/>
            </p:cNvCxnSpPr>
            <p:nvPr/>
          </p:nvCxnSpPr>
          <p:spPr>
            <a:xfrm flipH="1" flipV="1">
              <a:off x="4777920" y="2152080"/>
              <a:ext cx="1635840" cy="70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53" name=""/>
          <p:cNvSpPr/>
          <p:nvPr/>
        </p:nvSpPr>
        <p:spPr>
          <a:xfrm>
            <a:off x="5715000" y="38098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924680" y="4648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621480" y="4495680"/>
            <a:ext cx="1531800" cy="510120"/>
            <a:chOff x="6621480" y="4495680"/>
            <a:chExt cx="1531800" cy="510120"/>
          </a:xfrm>
        </p:grpSpPr>
        <p:sp>
          <p:nvSpPr>
            <p:cNvPr id="356" name=""/>
            <p:cNvSpPr/>
            <p:nvPr/>
          </p:nvSpPr>
          <p:spPr>
            <a:xfrm>
              <a:off x="7924680" y="464832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1480" y="4495680"/>
              <a:ext cx="101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*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838080" y="4648320"/>
            <a:ext cx="3200400" cy="761760"/>
            <a:chOff x="838080" y="4648320"/>
            <a:chExt cx="3200400" cy="761760"/>
          </a:xfrm>
        </p:grpSpPr>
        <p:sp>
          <p:nvSpPr>
            <p:cNvPr id="359" name=""/>
            <p:cNvSpPr/>
            <p:nvPr/>
          </p:nvSpPr>
          <p:spPr>
            <a:xfrm>
              <a:off x="838080" y="518148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9880" y="464832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22480" y="4724280"/>
              <a:ext cx="101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*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734360" y="5500800"/>
            <a:ext cx="3399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* = 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max{</a:t>
            </a:r>
            <a:r>
              <a:rPr b="0" i="1" lang="it-IT" sz="28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it-IT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*, </a:t>
            </a:r>
            <a:r>
              <a:rPr b="0" i="1" lang="it-IT" sz="28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it-IT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*}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Uso dei </a:t>
            </a:r>
            <a:r>
              <a:rPr b="0" i="1" lang="it-IT" sz="4400" spc="-1" strike="noStrike">
                <a:solidFill>
                  <a:srgbClr val="000000"/>
                </a:solidFill>
                <a:latin typeface="Times New Roman"/>
              </a:rPr>
              <a:t>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pponiamo di aver risolto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all’ottimo </a:t>
            </a:r>
            <a:r>
              <a:rPr b="0" i="1" lang="it-IT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it-IT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di aver trovato una soluzione intera di valore </a:t>
            </a:r>
            <a:r>
              <a:rPr b="0" i="1" lang="it-IT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it-IT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* = 1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pponiamo inoltre di conoscere – ad esempio grazie al Simplesso – una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limitazione superiore </a:t>
            </a: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it-IT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pper bound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al valore ottimo di </a:t>
            </a: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lang="it-IT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ad esempio </a:t>
            </a: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it-IT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chiaro che risolver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on porterà a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ulla di interess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atti il valore della sua migliore soluzione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non può superare </a:t>
            </a: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it-IT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1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mentre noi già disponiamo di una soluzione di valore </a:t>
            </a:r>
            <a:r>
              <a:rPr b="0" i="1" lang="it-IT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it-IT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* = 1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tanto possiamo tranquillamente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evitare di risolve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il problem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e in questo modo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risparmiamo dei calcol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6553080" y="5181480"/>
            <a:ext cx="1184760" cy="838440"/>
            <a:chOff x="6553080" y="5181480"/>
            <a:chExt cx="1184760" cy="838440"/>
          </a:xfrm>
        </p:grpSpPr>
        <p:sp>
          <p:nvSpPr>
            <p:cNvPr id="366" name=""/>
            <p:cNvSpPr/>
            <p:nvPr/>
          </p:nvSpPr>
          <p:spPr>
            <a:xfrm>
              <a:off x="6553080" y="5181480"/>
              <a:ext cx="1143000" cy="83844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384" y="528"/>
                  </a:moveTo>
                  <a:lnTo>
                    <a:pt x="0" y="240"/>
                  </a:lnTo>
                  <a:lnTo>
                    <a:pt x="144" y="144"/>
                  </a:lnTo>
                  <a:lnTo>
                    <a:pt x="720" y="0"/>
                  </a:lnTo>
                  <a:lnTo>
                    <a:pt x="720" y="288"/>
                  </a:lnTo>
                  <a:lnTo>
                    <a:pt x="624" y="432"/>
                  </a:lnTo>
                  <a:lnTo>
                    <a:pt x="528" y="480"/>
                  </a:lnTo>
                  <a:lnTo>
                    <a:pt x="384" y="52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58000" y="5257800"/>
              <a:ext cx="533520" cy="76212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336"/>
                  </a:moveTo>
                  <a:lnTo>
                    <a:pt x="192" y="480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144" y="48"/>
                  </a:lnTo>
                  <a:lnTo>
                    <a:pt x="0" y="33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3080" y="53341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144"/>
                  </a:moveTo>
                  <a:lnTo>
                    <a:pt x="144" y="48"/>
                  </a:lnTo>
                  <a:lnTo>
                    <a:pt x="336" y="0"/>
                  </a:lnTo>
                  <a:lnTo>
                    <a:pt x="192" y="288"/>
                  </a:lnTo>
                  <a:lnTo>
                    <a:pt x="0" y="14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57680" y="53341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it-IT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429000" y="5181480"/>
            <a:ext cx="1143000" cy="838440"/>
            <a:chOff x="3429000" y="5181480"/>
            <a:chExt cx="1143000" cy="838440"/>
          </a:xfrm>
        </p:grpSpPr>
        <p:sp>
          <p:nvSpPr>
            <p:cNvPr id="371" name=""/>
            <p:cNvSpPr/>
            <p:nvPr/>
          </p:nvSpPr>
          <p:spPr>
            <a:xfrm>
              <a:off x="3429000" y="5181480"/>
              <a:ext cx="1143000" cy="83844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384" y="528"/>
                  </a:moveTo>
                  <a:lnTo>
                    <a:pt x="0" y="240"/>
                  </a:lnTo>
                  <a:lnTo>
                    <a:pt x="144" y="144"/>
                  </a:lnTo>
                  <a:lnTo>
                    <a:pt x="720" y="0"/>
                  </a:lnTo>
                  <a:lnTo>
                    <a:pt x="720" y="288"/>
                  </a:lnTo>
                  <a:lnTo>
                    <a:pt x="624" y="432"/>
                  </a:lnTo>
                  <a:lnTo>
                    <a:pt x="528" y="480"/>
                  </a:lnTo>
                  <a:lnTo>
                    <a:pt x="384" y="52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53341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144"/>
                  </a:moveTo>
                  <a:lnTo>
                    <a:pt x="144" y="48"/>
                  </a:lnTo>
                  <a:lnTo>
                    <a:pt x="336" y="0"/>
                  </a:lnTo>
                  <a:lnTo>
                    <a:pt x="192" y="288"/>
                  </a:lnTo>
                  <a:lnTo>
                    <a:pt x="0" y="144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67080" y="5181480"/>
              <a:ext cx="304920" cy="76212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0" y="480"/>
                  </a:moveTo>
                  <a:lnTo>
                    <a:pt x="0" y="48"/>
                  </a:lnTo>
                  <a:lnTo>
                    <a:pt x="192" y="0"/>
                  </a:lnTo>
                  <a:lnTo>
                    <a:pt x="192" y="288"/>
                  </a:lnTo>
                  <a:lnTo>
                    <a:pt x="96" y="432"/>
                  </a:lnTo>
                  <a:lnTo>
                    <a:pt x="0" y="48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73240" y="556272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809880" y="1828800"/>
            <a:ext cx="1143000" cy="838080"/>
            <a:chOff x="3809880" y="1828800"/>
            <a:chExt cx="1143000" cy="838080"/>
          </a:xfrm>
        </p:grpSpPr>
        <p:sp>
          <p:nvSpPr>
            <p:cNvPr id="376" name=""/>
            <p:cNvSpPr/>
            <p:nvPr/>
          </p:nvSpPr>
          <p:spPr>
            <a:xfrm>
              <a:off x="3809880" y="1828800"/>
              <a:ext cx="1143000" cy="83808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384" y="528"/>
                  </a:moveTo>
                  <a:lnTo>
                    <a:pt x="0" y="240"/>
                  </a:lnTo>
                  <a:lnTo>
                    <a:pt x="144" y="144"/>
                  </a:lnTo>
                  <a:lnTo>
                    <a:pt x="720" y="0"/>
                  </a:lnTo>
                  <a:lnTo>
                    <a:pt x="720" y="288"/>
                  </a:lnTo>
                  <a:lnTo>
                    <a:pt x="624" y="432"/>
                  </a:lnTo>
                  <a:lnTo>
                    <a:pt x="528" y="480"/>
                  </a:lnTo>
                  <a:lnTo>
                    <a:pt x="384" y="52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20800" y="22096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Uso dei </a:t>
            </a:r>
            <a:r>
              <a:rPr b="0" i="1" lang="it-IT" sz="4400" spc="-1" strike="noStrike">
                <a:solidFill>
                  <a:srgbClr val="000000"/>
                </a:solidFill>
                <a:latin typeface="Times New Roman"/>
              </a:rPr>
              <a:t>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81280" y="2895480"/>
            <a:ext cx="167652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05520" y="4495680"/>
            <a:ext cx="1143000" cy="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19320" y="3285360"/>
            <a:ext cx="2608200" cy="1438920"/>
            <a:chOff x="1219320" y="3285360"/>
            <a:chExt cx="2608200" cy="1438920"/>
          </a:xfrm>
        </p:grpSpPr>
        <p:sp>
          <p:nvSpPr>
            <p:cNvPr id="382" name=""/>
            <p:cNvSpPr/>
            <p:nvPr/>
          </p:nvSpPr>
          <p:spPr>
            <a:xfrm>
              <a:off x="1219320" y="4267080"/>
              <a:ext cx="167616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Problema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82" idx="0"/>
              <a:endCxn id="379" idx="3"/>
            </p:cNvCxnSpPr>
            <p:nvPr/>
          </p:nvCxnSpPr>
          <p:spPr>
            <a:xfrm flipV="1">
              <a:off x="2057040" y="3285360"/>
              <a:ext cx="177084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84" name=""/>
          <p:cNvGrpSpPr/>
          <p:nvPr/>
        </p:nvGrpSpPr>
        <p:grpSpPr>
          <a:xfrm>
            <a:off x="3200400" y="3352320"/>
            <a:ext cx="1676520" cy="1371960"/>
            <a:chOff x="3200400" y="3352320"/>
            <a:chExt cx="1676520" cy="1371960"/>
          </a:xfrm>
        </p:grpSpPr>
        <p:sp>
          <p:nvSpPr>
            <p:cNvPr id="385" name=""/>
            <p:cNvSpPr/>
            <p:nvPr/>
          </p:nvSpPr>
          <p:spPr>
            <a:xfrm>
              <a:off x="3200400" y="4267080"/>
              <a:ext cx="167652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Problema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>
              <a:stCxn id="385" idx="0"/>
              <a:endCxn id="379" idx="4"/>
            </p:cNvCxnSpPr>
            <p:nvPr/>
          </p:nvCxnSpPr>
          <p:spPr>
            <a:xfrm flipV="1">
              <a:off x="4038120" y="3352320"/>
              <a:ext cx="38196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87" name=""/>
          <p:cNvGrpSpPr/>
          <p:nvPr/>
        </p:nvGrpSpPr>
        <p:grpSpPr>
          <a:xfrm>
            <a:off x="5010840" y="3285720"/>
            <a:ext cx="3066480" cy="1438560"/>
            <a:chOff x="5010840" y="3285720"/>
            <a:chExt cx="3066480" cy="1438560"/>
          </a:xfrm>
        </p:grpSpPr>
        <p:sp>
          <p:nvSpPr>
            <p:cNvPr id="388" name=""/>
            <p:cNvSpPr/>
            <p:nvPr/>
          </p:nvSpPr>
          <p:spPr>
            <a:xfrm>
              <a:off x="6400800" y="4267080"/>
              <a:ext cx="167652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Problema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9" name=""/>
            <p:cNvCxnSpPr>
              <a:stCxn id="388" idx="1"/>
              <a:endCxn id="379" idx="5"/>
            </p:cNvCxnSpPr>
            <p:nvPr/>
          </p:nvCxnSpPr>
          <p:spPr>
            <a:xfrm flipH="1" flipV="1">
              <a:off x="5010840" y="3285720"/>
              <a:ext cx="1636200" cy="104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90" name=""/>
          <p:cNvSpPr/>
          <p:nvPr/>
        </p:nvSpPr>
        <p:spPr>
          <a:xfrm>
            <a:off x="4801320" y="160020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5181480"/>
            <a:ext cx="1143000" cy="838440"/>
          </a:xfrm>
          <a:custGeom>
            <a:avLst/>
            <a:gdLst/>
            <a:ahLst/>
            <a:rect l="l" t="t" r="r" b="b"/>
            <a:pathLst>
              <a:path w="720" h="528">
                <a:moveTo>
                  <a:pt x="384" y="528"/>
                </a:moveTo>
                <a:lnTo>
                  <a:pt x="0" y="240"/>
                </a:lnTo>
                <a:lnTo>
                  <a:pt x="144" y="144"/>
                </a:lnTo>
                <a:lnTo>
                  <a:pt x="720" y="0"/>
                </a:lnTo>
                <a:lnTo>
                  <a:pt x="720" y="288"/>
                </a:lnTo>
                <a:lnTo>
                  <a:pt x="624" y="432"/>
                </a:lnTo>
                <a:lnTo>
                  <a:pt x="528" y="480"/>
                </a:lnTo>
                <a:lnTo>
                  <a:pt x="384" y="528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97080" y="5413320"/>
            <a:ext cx="40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301400" y="5181480"/>
            <a:ext cx="1060920" cy="838440"/>
            <a:chOff x="1301400" y="5181480"/>
            <a:chExt cx="1060920" cy="838440"/>
          </a:xfrm>
        </p:grpSpPr>
        <p:sp>
          <p:nvSpPr>
            <p:cNvPr id="394" name=""/>
            <p:cNvSpPr/>
            <p:nvPr/>
          </p:nvSpPr>
          <p:spPr>
            <a:xfrm>
              <a:off x="1523880" y="5257800"/>
              <a:ext cx="533520" cy="76212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0" y="336"/>
                  </a:moveTo>
                  <a:lnTo>
                    <a:pt x="192" y="480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144" y="48"/>
                  </a:lnTo>
                  <a:lnTo>
                    <a:pt x="0" y="33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7400" y="5181480"/>
              <a:ext cx="304920" cy="76212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0" y="480"/>
                  </a:moveTo>
                  <a:lnTo>
                    <a:pt x="0" y="48"/>
                  </a:lnTo>
                  <a:lnTo>
                    <a:pt x="192" y="0"/>
                  </a:lnTo>
                  <a:lnTo>
                    <a:pt x="192" y="288"/>
                  </a:lnTo>
                  <a:lnTo>
                    <a:pt x="96" y="432"/>
                  </a:lnTo>
                  <a:lnTo>
                    <a:pt x="0" y="48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01400" y="525780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3962880" y="5330880"/>
            <a:ext cx="144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99"/>
                </a:solidFill>
                <a:latin typeface="Times New Roman"/>
              </a:rPr>
              <a:t>            </a:t>
            </a:r>
            <a:r>
              <a:rPr b="1" i="1" lang="it-IT" sz="18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1" lang="it-IT" sz="1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it-IT" sz="1800" spc="-1" strike="noStrike">
                <a:solidFill>
                  <a:srgbClr val="00cc99"/>
                </a:solidFill>
                <a:latin typeface="Times New Roman"/>
              </a:rPr>
              <a:t> =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4520" y="49561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0" lang="it-IT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657600" y="4038480"/>
            <a:ext cx="838080" cy="838080"/>
            <a:chOff x="3657600" y="4038480"/>
            <a:chExt cx="838080" cy="838080"/>
          </a:xfrm>
        </p:grpSpPr>
        <p:sp>
          <p:nvSpPr>
            <p:cNvPr id="400" name=""/>
            <p:cNvSpPr/>
            <p:nvPr/>
          </p:nvSpPr>
          <p:spPr>
            <a:xfrm>
              <a:off x="3657600" y="4038480"/>
              <a:ext cx="8380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657600" y="4038480"/>
              <a:ext cx="8380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etodi generali per problemi di ottimizzazione combin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’è noto, la semplicità di un problema di ottimizzazione combinatoria – legata al numero finito delle sue soluzioni – è in realtà solo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apparen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universa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– che enumera tutte le soluzioni del problema fino a individuare la migliore – richiede in generale O(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passi elementari: se 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= 30, 2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&gt; 1.000.000.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uttavia risolvere alcuni problemi (clique, insieme stabile, TSP, zaino, …)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enza ricorrere all’enumer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embra attualmente poco probab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cui la questione è: come rendere l’enumerazione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iù efficien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evitando soluzioni certamente non ottimal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3960" y="2057400"/>
            <a:ext cx="40176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questi oggetti si vuole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empire uno zaino di portata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5k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max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0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4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9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5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+ 9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1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0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, …,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 int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800600" y="3962520"/>
          <a:ext cx="371484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962520"/>
                    <a:ext cx="3714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552600" y="5410080"/>
            <a:ext cx="29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provarci: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zaino.x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724280" y="2087640"/>
            <a:ext cx="3809880" cy="1800360"/>
            <a:chOff x="4724280" y="2087640"/>
            <a:chExt cx="3809880" cy="1800360"/>
          </a:xfrm>
        </p:grpSpPr>
        <p:grpSp>
          <p:nvGrpSpPr>
            <p:cNvPr id="408" name=""/>
            <p:cNvGrpSpPr/>
            <p:nvPr/>
          </p:nvGrpSpPr>
          <p:grpSpPr>
            <a:xfrm>
              <a:off x="4724280" y="2087640"/>
              <a:ext cx="3809880" cy="1218600"/>
              <a:chOff x="4724280" y="2087640"/>
              <a:chExt cx="3809880" cy="12186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4724280" y="2087640"/>
                <a:ext cx="533520" cy="532800"/>
                <a:chOff x="4724280" y="2087640"/>
                <a:chExt cx="533520" cy="5328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724280" y="2315880"/>
                  <a:ext cx="533520" cy="30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cc00"/>
                      </a:solidFill>
                      <a:latin typeface="Times New Roman"/>
                    </a:rPr>
                    <a:t>3 k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800600" y="2087640"/>
                  <a:ext cx="380880" cy="22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410080" y="2087640"/>
                <a:ext cx="762120" cy="761400"/>
                <a:chOff x="5410080" y="2087640"/>
                <a:chExt cx="762120" cy="7614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410080" y="2414520"/>
                  <a:ext cx="762120" cy="43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800" spc="-1" strike="noStrike">
                      <a:solidFill>
                        <a:srgbClr val="ffcc00"/>
                      </a:solidFill>
                      <a:latin typeface="Times New Roman"/>
                    </a:rPr>
                    <a:t>5 k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519520" y="2087640"/>
                  <a:ext cx="542880" cy="32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248160" y="2087640"/>
                <a:ext cx="990720" cy="990000"/>
                <a:chOff x="6248160" y="2087640"/>
                <a:chExt cx="990720" cy="9900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248160" y="2511360"/>
                  <a:ext cx="990720" cy="56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cc00"/>
                      </a:solidFill>
                      <a:latin typeface="Times New Roman"/>
                    </a:rPr>
                    <a:t>9 kg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389640" y="2087640"/>
                  <a:ext cx="708120" cy="42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315200" y="2087640"/>
                <a:ext cx="1218960" cy="1218600"/>
                <a:chOff x="7315200" y="2087640"/>
                <a:chExt cx="1218960" cy="12186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315200" y="2609640"/>
                  <a:ext cx="1218960" cy="69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600" spc="-1" strike="noStrike">
                      <a:solidFill>
                        <a:srgbClr val="ffcc00"/>
                      </a:solidFill>
                      <a:latin typeface="Times New Roman"/>
                    </a:rPr>
                    <a:t>11 kg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489440" y="2087640"/>
                  <a:ext cx="869760" cy="52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1" name=""/>
            <p:cNvSpPr/>
            <p:nvPr/>
          </p:nvSpPr>
          <p:spPr>
            <a:xfrm>
              <a:off x="4756320" y="26812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6600"/>
                  </a:solidFill>
                  <a:latin typeface="Times New Roman"/>
                </a:rPr>
                <a:t>7 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79840" y="289080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6600"/>
                  </a:solidFill>
                  <a:latin typeface="Times New Roman"/>
                </a:rPr>
                <a:t>10 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81280" y="309240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6600"/>
                  </a:solidFill>
                  <a:latin typeface="Times New Roman"/>
                </a:rPr>
                <a:t>14 $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67480" y="3306600"/>
              <a:ext cx="8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6600"/>
                  </a:solidFill>
                  <a:latin typeface="Times New Roman"/>
                </a:rPr>
                <a:t>19 $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724280" y="2087640"/>
            <a:ext cx="3809880" cy="1800360"/>
            <a:chOff x="4724280" y="2087640"/>
            <a:chExt cx="3809880" cy="1800360"/>
          </a:xfrm>
        </p:grpSpPr>
        <p:grpSp>
          <p:nvGrpSpPr>
            <p:cNvPr id="427" name=""/>
            <p:cNvGrpSpPr/>
            <p:nvPr/>
          </p:nvGrpSpPr>
          <p:grpSpPr>
            <a:xfrm>
              <a:off x="4724280" y="2087640"/>
              <a:ext cx="3809880" cy="1218600"/>
              <a:chOff x="4724280" y="2087640"/>
              <a:chExt cx="3809880" cy="121860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4724280" y="2087640"/>
                <a:ext cx="533520" cy="532800"/>
                <a:chOff x="4724280" y="2087640"/>
                <a:chExt cx="533520" cy="53280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4724280" y="2315880"/>
                  <a:ext cx="533520" cy="30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cc00"/>
                      </a:solidFill>
                      <a:latin typeface="Times New Roman"/>
                    </a:rPr>
                    <a:t>3 k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800600" y="2087640"/>
                  <a:ext cx="380880" cy="22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5410080" y="2087640"/>
                <a:ext cx="762120" cy="761400"/>
                <a:chOff x="5410080" y="2087640"/>
                <a:chExt cx="762120" cy="7614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10080" y="2414520"/>
                  <a:ext cx="762120" cy="43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800" spc="-1" strike="noStrike">
                      <a:solidFill>
                        <a:srgbClr val="ffcc00"/>
                      </a:solidFill>
                      <a:latin typeface="Times New Roman"/>
                    </a:rPr>
                    <a:t>5 k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519520" y="2087640"/>
                  <a:ext cx="542880" cy="32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6248160" y="2087640"/>
                <a:ext cx="990720" cy="990000"/>
                <a:chOff x="6248160" y="2087640"/>
                <a:chExt cx="990720" cy="9900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6248160" y="2511360"/>
                  <a:ext cx="990720" cy="56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cc00"/>
                      </a:solidFill>
                      <a:latin typeface="Times New Roman"/>
                    </a:rPr>
                    <a:t>9 kg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389640" y="2087640"/>
                  <a:ext cx="708120" cy="42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7315200" y="2087640"/>
                <a:ext cx="1218960" cy="1218600"/>
                <a:chOff x="7315200" y="2087640"/>
                <a:chExt cx="1218960" cy="12186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7315200" y="2609640"/>
                  <a:ext cx="1218960" cy="69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600" spc="-1" strike="noStrike">
                      <a:solidFill>
                        <a:srgbClr val="ffcc00"/>
                      </a:solidFill>
                      <a:latin typeface="Times New Roman"/>
                    </a:rPr>
                    <a:t>11 kg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489440" y="2087640"/>
                  <a:ext cx="869760" cy="52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4756320" y="26812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6600"/>
                  </a:solidFill>
                  <a:latin typeface="Times New Roman"/>
                </a:rPr>
                <a:t>7 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79840" y="289080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6600"/>
                  </a:solidFill>
                  <a:latin typeface="Times New Roman"/>
                </a:rPr>
                <a:t>10 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1280" y="309240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6600"/>
                  </a:solidFill>
                  <a:latin typeface="Times New Roman"/>
                </a:rPr>
                <a:t>14 $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67480" y="3306600"/>
              <a:ext cx="8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6600"/>
                  </a:solidFill>
                  <a:latin typeface="Times New Roman"/>
                </a:rPr>
                <a:t>19 $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543960" y="2057400"/>
            <a:ext cx="40176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questi oggetti si vuole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empire uno zaino di portata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5k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max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0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4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9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5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+ 9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1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0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, …,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 int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404440" y="3853440"/>
            <a:ext cx="6111000" cy="1864080"/>
            <a:chOff x="2404440" y="3853440"/>
            <a:chExt cx="6111000" cy="1864080"/>
          </a:xfrm>
        </p:grpSpPr>
        <p:graphicFrame>
          <p:nvGraphicFramePr>
            <p:cNvPr id="446" name=""/>
            <p:cNvGraphicFramePr/>
            <p:nvPr/>
          </p:nvGraphicFramePr>
          <p:xfrm>
            <a:off x="4800600" y="3971880"/>
            <a:ext cx="3714840" cy="1600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0600" y="3971880"/>
                      <a:ext cx="37148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8" name=""/>
            <p:cNvGrpSpPr/>
            <p:nvPr/>
          </p:nvGrpSpPr>
          <p:grpSpPr>
            <a:xfrm>
              <a:off x="2404440" y="5257800"/>
              <a:ext cx="2091240" cy="459720"/>
              <a:chOff x="2404440" y="5257800"/>
              <a:chExt cx="2091240" cy="459720"/>
            </a:xfrm>
          </p:grpSpPr>
          <p:sp>
            <p:nvSpPr>
              <p:cNvPr id="449" name=""/>
              <p:cNvSpPr/>
              <p:nvPr/>
            </p:nvSpPr>
            <p:spPr>
              <a:xfrm>
                <a:off x="2404440" y="5257800"/>
                <a:ext cx="148680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Soluzion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886200" y="548640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 rot="20391600">
              <a:off x="7238880" y="3962160"/>
              <a:ext cx="674640" cy="2379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800600" y="3971880"/>
          <a:ext cx="371484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971880"/>
                    <a:ext cx="3714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5" name=""/>
          <p:cNvGrpSpPr/>
          <p:nvPr/>
        </p:nvGrpSpPr>
        <p:grpSpPr>
          <a:xfrm>
            <a:off x="4724280" y="2087640"/>
            <a:ext cx="3809880" cy="1800360"/>
            <a:chOff x="4724280" y="2087640"/>
            <a:chExt cx="3809880" cy="1800360"/>
          </a:xfrm>
        </p:grpSpPr>
        <p:grpSp>
          <p:nvGrpSpPr>
            <p:cNvPr id="456" name=""/>
            <p:cNvGrpSpPr/>
            <p:nvPr/>
          </p:nvGrpSpPr>
          <p:grpSpPr>
            <a:xfrm>
              <a:off x="4724280" y="2087640"/>
              <a:ext cx="3809880" cy="1218600"/>
              <a:chOff x="4724280" y="2087640"/>
              <a:chExt cx="3809880" cy="121860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4724280" y="2087640"/>
                <a:ext cx="533520" cy="532800"/>
                <a:chOff x="4724280" y="2087640"/>
                <a:chExt cx="533520" cy="5328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724280" y="2315880"/>
                  <a:ext cx="533520" cy="30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cc00"/>
                      </a:solidFill>
                      <a:latin typeface="Times New Roman"/>
                    </a:rPr>
                    <a:t>3 k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800600" y="2087640"/>
                  <a:ext cx="380880" cy="22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410080" y="2087640"/>
                <a:ext cx="762120" cy="761400"/>
                <a:chOff x="5410080" y="2087640"/>
                <a:chExt cx="762120" cy="7614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410080" y="2414520"/>
                  <a:ext cx="762120" cy="43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800" spc="-1" strike="noStrike">
                      <a:solidFill>
                        <a:srgbClr val="ffcc00"/>
                      </a:solidFill>
                      <a:latin typeface="Times New Roman"/>
                    </a:rPr>
                    <a:t>5 k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519520" y="2087640"/>
                  <a:ext cx="542880" cy="32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6248160" y="2087640"/>
                <a:ext cx="990720" cy="990000"/>
                <a:chOff x="6248160" y="2087640"/>
                <a:chExt cx="990720" cy="9900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6248160" y="2511360"/>
                  <a:ext cx="990720" cy="56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cc00"/>
                      </a:solidFill>
                      <a:latin typeface="Times New Roman"/>
                    </a:rPr>
                    <a:t>9 kg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389640" y="2087640"/>
                  <a:ext cx="708120" cy="42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7315200" y="2087640"/>
                <a:ext cx="1218960" cy="1218600"/>
                <a:chOff x="7315200" y="2087640"/>
                <a:chExt cx="1218960" cy="12186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7315200" y="2609640"/>
                  <a:ext cx="1218960" cy="69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600" spc="-1" strike="noStrike">
                      <a:solidFill>
                        <a:srgbClr val="ffcc00"/>
                      </a:solidFill>
                      <a:latin typeface="Times New Roman"/>
                    </a:rPr>
                    <a:t>11 kg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489440" y="2087640"/>
                  <a:ext cx="869760" cy="52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9" name=""/>
            <p:cNvSpPr/>
            <p:nvPr/>
          </p:nvSpPr>
          <p:spPr>
            <a:xfrm>
              <a:off x="4756320" y="26812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6600"/>
                  </a:solidFill>
                  <a:latin typeface="Times New Roman"/>
                </a:rPr>
                <a:t>7 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79840" y="289080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6600"/>
                  </a:solidFill>
                  <a:latin typeface="Times New Roman"/>
                </a:rPr>
                <a:t>10 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81280" y="309240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6600"/>
                  </a:solidFill>
                  <a:latin typeface="Times New Roman"/>
                </a:rPr>
                <a:t>14 $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67480" y="3306600"/>
              <a:ext cx="8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6600"/>
                  </a:solidFill>
                  <a:latin typeface="Times New Roman"/>
                </a:rPr>
                <a:t>19 $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543960" y="2057400"/>
            <a:ext cx="40176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questi oggetti si vuole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empire uno zaino di portata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5k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max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0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4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9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5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+ 9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1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0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, …,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 int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2680" y="5022720"/>
            <a:ext cx="801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ottimo del rilassamento lineare s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ttiene  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ordinand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gli  oggetti   per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apporto valore/peso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non cresce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saturand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le variabili fin dove poss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20391600">
            <a:off x="7238880" y="3962160"/>
            <a:ext cx="674640" cy="237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4800600" y="3971880"/>
          <a:ext cx="371484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971880"/>
                    <a:ext cx="3714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4724280" y="2087640"/>
            <a:ext cx="3809880" cy="1800360"/>
            <a:chOff x="4724280" y="2087640"/>
            <a:chExt cx="3809880" cy="1800360"/>
          </a:xfrm>
        </p:grpSpPr>
        <p:grpSp>
          <p:nvGrpSpPr>
            <p:cNvPr id="480" name=""/>
            <p:cNvGrpSpPr/>
            <p:nvPr/>
          </p:nvGrpSpPr>
          <p:grpSpPr>
            <a:xfrm>
              <a:off x="4724280" y="2087640"/>
              <a:ext cx="3809880" cy="1218600"/>
              <a:chOff x="4724280" y="2087640"/>
              <a:chExt cx="3809880" cy="121860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4724280" y="2087640"/>
                <a:ext cx="533520" cy="532800"/>
                <a:chOff x="4724280" y="2087640"/>
                <a:chExt cx="533520" cy="5328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4724280" y="2315880"/>
                  <a:ext cx="533520" cy="30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cc00"/>
                      </a:solidFill>
                      <a:latin typeface="Times New Roman"/>
                    </a:rPr>
                    <a:t>3 k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800600" y="2087640"/>
                  <a:ext cx="380880" cy="22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410080" y="2087640"/>
                <a:ext cx="762120" cy="761400"/>
                <a:chOff x="5410080" y="2087640"/>
                <a:chExt cx="762120" cy="7614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5410080" y="2414520"/>
                  <a:ext cx="762120" cy="43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800" spc="-1" strike="noStrike">
                      <a:solidFill>
                        <a:srgbClr val="ffcc00"/>
                      </a:solidFill>
                      <a:latin typeface="Times New Roman"/>
                    </a:rPr>
                    <a:t>5 k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519520" y="2087640"/>
                  <a:ext cx="542880" cy="32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248160" y="2087640"/>
                <a:ext cx="990720" cy="990000"/>
                <a:chOff x="6248160" y="2087640"/>
                <a:chExt cx="990720" cy="9900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248160" y="2511360"/>
                  <a:ext cx="990720" cy="56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cc00"/>
                      </a:solidFill>
                      <a:latin typeface="Times New Roman"/>
                    </a:rPr>
                    <a:t>9 kg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389640" y="2087640"/>
                  <a:ext cx="708120" cy="42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7315200" y="2087640"/>
                <a:ext cx="1218960" cy="1218600"/>
                <a:chOff x="7315200" y="2087640"/>
                <a:chExt cx="1218960" cy="12186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7315200" y="2609640"/>
                  <a:ext cx="1218960" cy="69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4300"/>
                    </a:gs>
                    <a:gs pos="50000">
                      <a:srgbClr val="ffcc00"/>
                    </a:gs>
                    <a:gs pos="100000">
                      <a:srgbClr val="5443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600" spc="-1" strike="noStrike">
                      <a:solidFill>
                        <a:srgbClr val="ffcc00"/>
                      </a:solidFill>
                      <a:latin typeface="Times New Roman"/>
                    </a:rPr>
                    <a:t>11 kg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489440" y="2087640"/>
                  <a:ext cx="869760" cy="52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3" name=""/>
            <p:cNvSpPr/>
            <p:nvPr/>
          </p:nvSpPr>
          <p:spPr>
            <a:xfrm>
              <a:off x="4756320" y="26812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6600"/>
                  </a:solidFill>
                  <a:latin typeface="Times New Roman"/>
                </a:rPr>
                <a:t>7 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79840" y="289080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6600"/>
                  </a:solidFill>
                  <a:latin typeface="Times New Roman"/>
                </a:rPr>
                <a:t>10 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81280" y="309240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6600"/>
                  </a:solidFill>
                  <a:latin typeface="Times New Roman"/>
                </a:rPr>
                <a:t>14 $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467480" y="3306600"/>
              <a:ext cx="8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6600"/>
                  </a:solidFill>
                  <a:latin typeface="Times New Roman"/>
                </a:rPr>
                <a:t>19 $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43960" y="2057400"/>
            <a:ext cx="40176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questi oggetti si vuole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empire uno zaino di portata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5k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max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0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4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9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5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+ 9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+ 11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0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, …, </a:t>
            </a:r>
            <a:r>
              <a:rPr b="0" i="1" lang="it-IT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1</a:t>
            </a:r>
            <a:br>
              <a:rPr sz="2000"/>
            </a:b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 int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8600" y="4952880"/>
            <a:ext cx="716796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7/3 &gt; 10/5 &gt; 19/11 &gt; 14/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4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residuo: 15 – 3 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residuo: 12 – 5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&gt; 7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7/11 = 0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,64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20391600">
            <a:off x="7238880" y="3962160"/>
            <a:ext cx="674640" cy="237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82560" y="2473200"/>
            <a:ext cx="6482520" cy="39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oluzione iniziale intera (gree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lemento 4 è il più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appetibi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seguito da 3, 2 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pazio residuo: 15 –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elementi 3 e 2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on posson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sere aggiun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pazio residuo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lemento 1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uò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ssere aggiu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spazio residuo: 4 – 3 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luzione: </a:t>
            </a:r>
            <a:r>
              <a:rPr b="1" lang="it-IT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(1, 0, 0, 1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alore (ottimo corrente): </a:t>
            </a: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209680" y="2152080"/>
            <a:ext cx="2075400" cy="1027800"/>
            <a:chOff x="2209680" y="2152080"/>
            <a:chExt cx="2075400" cy="1027800"/>
          </a:xfrm>
        </p:grpSpPr>
        <p:sp>
          <p:nvSpPr>
            <p:cNvPr id="506" name=""/>
            <p:cNvSpPr/>
            <p:nvPr/>
          </p:nvSpPr>
          <p:spPr>
            <a:xfrm>
              <a:off x="2209680" y="280044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stCxn id="506" idx="7"/>
              <a:endCxn id="504" idx="3"/>
            </p:cNvCxnSpPr>
            <p:nvPr/>
          </p:nvCxnSpPr>
          <p:spPr>
            <a:xfrm flipV="1">
              <a:off x="2806560" y="2152080"/>
              <a:ext cx="147888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8" name=""/>
          <p:cNvGrpSpPr/>
          <p:nvPr/>
        </p:nvGrpSpPr>
        <p:grpSpPr>
          <a:xfrm>
            <a:off x="4777920" y="2152080"/>
            <a:ext cx="2232360" cy="1026000"/>
            <a:chOff x="4777920" y="2152080"/>
            <a:chExt cx="2232360" cy="1026000"/>
          </a:xfrm>
        </p:grpSpPr>
        <p:sp>
          <p:nvSpPr>
            <p:cNvPr id="509" name=""/>
            <p:cNvSpPr/>
            <p:nvPr/>
          </p:nvSpPr>
          <p:spPr>
            <a:xfrm>
              <a:off x="6310440" y="279864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9" idx="1"/>
            </p:cNvCxnSpPr>
            <p:nvPr/>
          </p:nvCxnSpPr>
          <p:spPr>
            <a:xfrm flipH="1" flipV="1">
              <a:off x="4777920" y="2152080"/>
              <a:ext cx="1635840" cy="70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11" name=""/>
          <p:cNvSpPr/>
          <p:nvPr/>
        </p:nvSpPr>
        <p:spPr>
          <a:xfrm>
            <a:off x="2996640" y="2286000"/>
            <a:ext cx="3015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67080" y="17175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63040" y="1720800"/>
            <a:ext cx="16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(1,0,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44320" y="3179520"/>
            <a:ext cx="4043880" cy="1764720"/>
            <a:chOff x="544320" y="3179520"/>
            <a:chExt cx="4043880" cy="1764720"/>
          </a:xfrm>
        </p:grpSpPr>
        <p:sp>
          <p:nvSpPr>
            <p:cNvPr id="515" name=""/>
            <p:cNvSpPr/>
            <p:nvPr/>
          </p:nvSpPr>
          <p:spPr>
            <a:xfrm>
              <a:off x="544320" y="3505320"/>
              <a:ext cx="4043880" cy="14389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0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4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5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+ 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inte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0"/>
              <a:endCxn id="506" idx="4"/>
            </p:cNvCxnSpPr>
            <p:nvPr/>
          </p:nvCxnSpPr>
          <p:spPr>
            <a:xfrm flipH="1" flipV="1">
              <a:off x="2560320" y="3179520"/>
              <a:ext cx="7200" cy="326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</p:grpSp>
      <p:grpSp>
        <p:nvGrpSpPr>
          <p:cNvPr id="517" name=""/>
          <p:cNvGrpSpPr/>
          <p:nvPr/>
        </p:nvGrpSpPr>
        <p:grpSpPr>
          <a:xfrm>
            <a:off x="4643280" y="3177360"/>
            <a:ext cx="4043880" cy="1766880"/>
            <a:chOff x="4643280" y="3177360"/>
            <a:chExt cx="4043880" cy="1766880"/>
          </a:xfrm>
        </p:grpSpPr>
        <p:sp>
          <p:nvSpPr>
            <p:cNvPr id="518" name=""/>
            <p:cNvSpPr/>
            <p:nvPr/>
          </p:nvSpPr>
          <p:spPr>
            <a:xfrm>
              <a:off x="4643280" y="3505320"/>
              <a:ext cx="4043880" cy="14389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0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4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5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+ 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inte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9" name=""/>
            <p:cNvCxnSpPr>
              <a:stCxn id="518" idx="0"/>
              <a:endCxn id="509" idx="4"/>
            </p:cNvCxnSpPr>
            <p:nvPr/>
          </p:nvCxnSpPr>
          <p:spPr>
            <a:xfrm flipH="1" flipV="1">
              <a:off x="6660360" y="3177360"/>
              <a:ext cx="5400" cy="327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209680" y="2152080"/>
            <a:ext cx="2075400" cy="1027800"/>
            <a:chOff x="2209680" y="2152080"/>
            <a:chExt cx="2075400" cy="1027800"/>
          </a:xfrm>
        </p:grpSpPr>
        <p:sp>
          <p:nvSpPr>
            <p:cNvPr id="523" name=""/>
            <p:cNvSpPr/>
            <p:nvPr/>
          </p:nvSpPr>
          <p:spPr>
            <a:xfrm>
              <a:off x="2209680" y="280044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4" name=""/>
            <p:cNvCxnSpPr>
              <a:stCxn id="523" idx="7"/>
              <a:endCxn id="521" idx="3"/>
            </p:cNvCxnSpPr>
            <p:nvPr/>
          </p:nvCxnSpPr>
          <p:spPr>
            <a:xfrm flipV="1">
              <a:off x="2806560" y="2152080"/>
              <a:ext cx="147888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5" name=""/>
          <p:cNvGrpSpPr/>
          <p:nvPr/>
        </p:nvGrpSpPr>
        <p:grpSpPr>
          <a:xfrm>
            <a:off x="4777920" y="2152080"/>
            <a:ext cx="2232360" cy="1026000"/>
            <a:chOff x="4777920" y="2152080"/>
            <a:chExt cx="2232360" cy="1026000"/>
          </a:xfrm>
        </p:grpSpPr>
        <p:sp>
          <p:nvSpPr>
            <p:cNvPr id="526" name=""/>
            <p:cNvSpPr/>
            <p:nvPr/>
          </p:nvSpPr>
          <p:spPr>
            <a:xfrm>
              <a:off x="6310440" y="279864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7" name=""/>
            <p:cNvCxnSpPr>
              <a:stCxn id="526" idx="1"/>
            </p:cNvCxnSpPr>
            <p:nvPr/>
          </p:nvCxnSpPr>
          <p:spPr>
            <a:xfrm flipH="1" flipV="1">
              <a:off x="4777920" y="2152080"/>
              <a:ext cx="1635840" cy="70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28" name=""/>
          <p:cNvSpPr/>
          <p:nvPr/>
        </p:nvSpPr>
        <p:spPr>
          <a:xfrm>
            <a:off x="2996640" y="2286000"/>
            <a:ext cx="3015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167080" y="17175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56920" y="3179520"/>
            <a:ext cx="3660120" cy="1764720"/>
            <a:chOff x="556920" y="3179520"/>
            <a:chExt cx="3660120" cy="1764720"/>
          </a:xfrm>
        </p:grpSpPr>
        <p:sp>
          <p:nvSpPr>
            <p:cNvPr id="531" name=""/>
            <p:cNvSpPr/>
            <p:nvPr/>
          </p:nvSpPr>
          <p:spPr>
            <a:xfrm>
              <a:off x="556920" y="3505320"/>
              <a:ext cx="3660120" cy="14389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4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it-IT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inte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2" name=""/>
            <p:cNvCxnSpPr>
              <a:stCxn id="531" idx="0"/>
              <a:endCxn id="523" idx="4"/>
            </p:cNvCxnSpPr>
            <p:nvPr/>
          </p:nvCxnSpPr>
          <p:spPr>
            <a:xfrm flipH="1" flipV="1">
              <a:off x="2560320" y="3179520"/>
              <a:ext cx="7200" cy="326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</p:grpSp>
      <p:grpSp>
        <p:nvGrpSpPr>
          <p:cNvPr id="533" name=""/>
          <p:cNvGrpSpPr/>
          <p:nvPr/>
        </p:nvGrpSpPr>
        <p:grpSpPr>
          <a:xfrm>
            <a:off x="4655520" y="3177360"/>
            <a:ext cx="3431160" cy="1766880"/>
            <a:chOff x="4655520" y="3177360"/>
            <a:chExt cx="3431160" cy="1766880"/>
          </a:xfrm>
        </p:grpSpPr>
        <p:sp>
          <p:nvSpPr>
            <p:cNvPr id="534" name=""/>
            <p:cNvSpPr/>
            <p:nvPr/>
          </p:nvSpPr>
          <p:spPr>
            <a:xfrm>
              <a:off x="4655520" y="3505320"/>
              <a:ext cx="3431160" cy="14389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4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+ 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inte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5" name=""/>
            <p:cNvCxnSpPr>
              <a:stCxn id="534" idx="0"/>
              <a:endCxn id="526" idx="4"/>
            </p:cNvCxnSpPr>
            <p:nvPr/>
          </p:nvCxnSpPr>
          <p:spPr>
            <a:xfrm flipH="1" flipV="1">
              <a:off x="6660360" y="3177360"/>
              <a:ext cx="5400" cy="327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</p:grpSp>
      <p:grpSp>
        <p:nvGrpSpPr>
          <p:cNvPr id="536" name=""/>
          <p:cNvGrpSpPr/>
          <p:nvPr/>
        </p:nvGrpSpPr>
        <p:grpSpPr>
          <a:xfrm>
            <a:off x="505800" y="4825440"/>
            <a:ext cx="3728520" cy="771480"/>
            <a:chOff x="505800" y="4825440"/>
            <a:chExt cx="3728520" cy="771480"/>
          </a:xfrm>
        </p:grpSpPr>
        <p:sp>
          <p:nvSpPr>
            <p:cNvPr id="537" name=""/>
            <p:cNvSpPr/>
            <p:nvPr/>
          </p:nvSpPr>
          <p:spPr>
            <a:xfrm>
              <a:off x="505800" y="5156280"/>
              <a:ext cx="3728520" cy="4406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it-IT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= (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1, 0, 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10/1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)        </a:t>
              </a:r>
              <a:r>
                <a:rPr b="0" i="1" lang="it-IT" sz="20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it-IT" sz="20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it-IT" sz="2000" spc="-1" strike="noStrike">
                  <a:solidFill>
                    <a:srgbClr val="ff0000"/>
                  </a:solidFill>
                  <a:latin typeface="Times New Roman"/>
                </a:rPr>
                <a:t>  =  27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,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8" name=""/>
            <p:cNvCxnSpPr>
              <a:stCxn id="537" idx="0"/>
              <a:endCxn id="531" idx="2"/>
            </p:cNvCxnSpPr>
            <p:nvPr/>
          </p:nvCxnSpPr>
          <p:spPr>
            <a:xfrm flipV="1">
              <a:off x="2386080" y="4825440"/>
              <a:ext cx="2160" cy="330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</p:grpSp>
      <p:grpSp>
        <p:nvGrpSpPr>
          <p:cNvPr id="539" name=""/>
          <p:cNvGrpSpPr/>
          <p:nvPr/>
        </p:nvGrpSpPr>
        <p:grpSpPr>
          <a:xfrm>
            <a:off x="4655520" y="4825440"/>
            <a:ext cx="4103280" cy="771480"/>
            <a:chOff x="4655520" y="4825440"/>
            <a:chExt cx="4103280" cy="771480"/>
          </a:xfrm>
        </p:grpSpPr>
        <p:sp>
          <p:nvSpPr>
            <p:cNvPr id="540" name=""/>
            <p:cNvSpPr/>
            <p:nvPr/>
          </p:nvSpPr>
          <p:spPr>
            <a:xfrm>
              <a:off x="4655520" y="5156280"/>
              <a:ext cx="4103280" cy="4406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it-IT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= (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1, 0, 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7/1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20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it-IT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it-IT" sz="2000" spc="-1" strike="noStrike">
                  <a:solidFill>
                    <a:srgbClr val="ff0000"/>
                  </a:solidFill>
                  <a:latin typeface="Times New Roman"/>
                </a:rPr>
                <a:t>  =  29 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,0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1" name=""/>
            <p:cNvCxnSpPr>
              <a:stCxn id="540" idx="0"/>
              <a:endCxn id="534" idx="2"/>
            </p:cNvCxnSpPr>
            <p:nvPr/>
          </p:nvCxnSpPr>
          <p:spPr>
            <a:xfrm flipH="1" flipV="1">
              <a:off x="6371640" y="4825440"/>
              <a:ext cx="160920" cy="330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</a:ln>
          </p:spPr>
        </p:cxnSp>
      </p:grpSp>
      <p:sp>
        <p:nvSpPr>
          <p:cNvPr id="542" name=""/>
          <p:cNvSpPr/>
          <p:nvPr/>
        </p:nvSpPr>
        <p:spPr>
          <a:xfrm>
            <a:off x="751680" y="575640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bound trovati non consentono di eliminare nodi dell’alb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3040" y="1720800"/>
            <a:ext cx="16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(1,0,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209680" y="2152080"/>
            <a:ext cx="2075400" cy="1027800"/>
            <a:chOff x="2209680" y="2152080"/>
            <a:chExt cx="2075400" cy="1027800"/>
          </a:xfrm>
        </p:grpSpPr>
        <p:sp>
          <p:nvSpPr>
            <p:cNvPr id="547" name=""/>
            <p:cNvSpPr/>
            <p:nvPr/>
          </p:nvSpPr>
          <p:spPr>
            <a:xfrm>
              <a:off x="2209680" y="280044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8" name=""/>
            <p:cNvCxnSpPr>
              <a:stCxn id="547" idx="7"/>
              <a:endCxn id="545" idx="3"/>
            </p:cNvCxnSpPr>
            <p:nvPr/>
          </p:nvCxnSpPr>
          <p:spPr>
            <a:xfrm flipV="1">
              <a:off x="2806560" y="2152080"/>
              <a:ext cx="147888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49" name=""/>
          <p:cNvGrpSpPr/>
          <p:nvPr/>
        </p:nvGrpSpPr>
        <p:grpSpPr>
          <a:xfrm>
            <a:off x="4777920" y="2152080"/>
            <a:ext cx="2232360" cy="1026000"/>
            <a:chOff x="4777920" y="2152080"/>
            <a:chExt cx="2232360" cy="1026000"/>
          </a:xfrm>
        </p:grpSpPr>
        <p:sp>
          <p:nvSpPr>
            <p:cNvPr id="550" name=""/>
            <p:cNvSpPr/>
            <p:nvPr/>
          </p:nvSpPr>
          <p:spPr>
            <a:xfrm>
              <a:off x="6310440" y="279864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1" name=""/>
            <p:cNvCxnSpPr>
              <a:stCxn id="550" idx="1"/>
            </p:cNvCxnSpPr>
            <p:nvPr/>
          </p:nvCxnSpPr>
          <p:spPr>
            <a:xfrm flipH="1" flipV="1">
              <a:off x="4777920" y="2152080"/>
              <a:ext cx="1635840" cy="70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52" name=""/>
          <p:cNvSpPr/>
          <p:nvPr/>
        </p:nvSpPr>
        <p:spPr>
          <a:xfrm>
            <a:off x="2996640" y="2286000"/>
            <a:ext cx="3015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67080" y="17175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8740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4" idx="3"/>
            <a:endCxn id="547" idx="2"/>
          </p:cNvCxnSpPr>
          <p:nvPr/>
        </p:nvCxnSpPr>
        <p:spPr>
          <a:xfrm flipV="1">
            <a:off x="1905120" y="2990520"/>
            <a:ext cx="305280" cy="72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556" name=""/>
          <p:cNvSpPr/>
          <p:nvPr/>
        </p:nvSpPr>
        <p:spPr>
          <a:xfrm>
            <a:off x="732312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"/>
          <p:cNvCxnSpPr>
            <a:stCxn id="556" idx="1"/>
            <a:endCxn id="550" idx="6"/>
          </p:cNvCxnSpPr>
          <p:nvPr/>
        </p:nvCxnSpPr>
        <p:spPr>
          <a:xfrm flipH="1" flipV="1">
            <a:off x="7009560" y="2989080"/>
            <a:ext cx="305640" cy="86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grpSp>
        <p:nvGrpSpPr>
          <p:cNvPr id="558" name=""/>
          <p:cNvGrpSpPr/>
          <p:nvPr/>
        </p:nvGrpSpPr>
        <p:grpSpPr>
          <a:xfrm>
            <a:off x="5167440" y="3122640"/>
            <a:ext cx="1245960" cy="1028520"/>
            <a:chOff x="5167440" y="3122640"/>
            <a:chExt cx="1245960" cy="1028520"/>
          </a:xfrm>
        </p:grpSpPr>
        <p:sp>
          <p:nvSpPr>
            <p:cNvPr id="559" name=""/>
            <p:cNvSpPr/>
            <p:nvPr/>
          </p:nvSpPr>
          <p:spPr>
            <a:xfrm>
              <a:off x="5167440" y="3772080"/>
              <a:ext cx="699840" cy="3790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"/>
            <p:cNvCxnSpPr>
              <a:stCxn id="559" idx="7"/>
              <a:endCxn id="550" idx="3"/>
            </p:cNvCxnSpPr>
            <p:nvPr/>
          </p:nvCxnSpPr>
          <p:spPr>
            <a:xfrm flipV="1">
              <a:off x="5763960" y="3122640"/>
              <a:ext cx="649800" cy="70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6906600" y="3121920"/>
            <a:ext cx="1261080" cy="1027800"/>
            <a:chOff x="6906600" y="3121920"/>
            <a:chExt cx="1261080" cy="1027800"/>
          </a:xfrm>
        </p:grpSpPr>
        <p:sp>
          <p:nvSpPr>
            <p:cNvPr id="562" name=""/>
            <p:cNvSpPr/>
            <p:nvPr/>
          </p:nvSpPr>
          <p:spPr>
            <a:xfrm>
              <a:off x="7467480" y="377028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3" name=""/>
            <p:cNvCxnSpPr>
              <a:stCxn id="562" idx="1"/>
              <a:endCxn id="550" idx="5"/>
            </p:cNvCxnSpPr>
            <p:nvPr/>
          </p:nvCxnSpPr>
          <p:spPr>
            <a:xfrm flipH="1" flipV="1">
              <a:off x="6906600" y="3121920"/>
              <a:ext cx="66420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64" name=""/>
          <p:cNvSpPr/>
          <p:nvPr/>
        </p:nvSpPr>
        <p:spPr>
          <a:xfrm>
            <a:off x="5358600" y="3257640"/>
            <a:ext cx="2787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4638600" y="4114800"/>
            <a:ext cx="3905280" cy="2099160"/>
            <a:chOff x="4638600" y="4114800"/>
            <a:chExt cx="3905280" cy="2099160"/>
          </a:xfrm>
        </p:grpSpPr>
        <p:sp>
          <p:nvSpPr>
            <p:cNvPr id="566" name=""/>
            <p:cNvSpPr/>
            <p:nvPr/>
          </p:nvSpPr>
          <p:spPr>
            <a:xfrm>
              <a:off x="7848720" y="411480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38600" y="4775040"/>
              <a:ext cx="3905280" cy="143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4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    inte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39280" y="3961800"/>
            <a:ext cx="4628520" cy="2252160"/>
            <a:chOff x="539280" y="3961800"/>
            <a:chExt cx="4628520" cy="2252160"/>
          </a:xfrm>
        </p:grpSpPr>
        <p:sp>
          <p:nvSpPr>
            <p:cNvPr id="569" name=""/>
            <p:cNvSpPr/>
            <p:nvPr/>
          </p:nvSpPr>
          <p:spPr>
            <a:xfrm>
              <a:off x="539280" y="4775040"/>
              <a:ext cx="4033440" cy="14389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4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  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inte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0" name=""/>
            <p:cNvCxnSpPr>
              <a:stCxn id="569" idx="0"/>
              <a:endCxn id="559" idx="2"/>
            </p:cNvCxnSpPr>
            <p:nvPr/>
          </p:nvCxnSpPr>
          <p:spPr>
            <a:xfrm flipH="1" flipV="1" rot="5400000">
              <a:off x="3455280" y="3062520"/>
              <a:ext cx="813240" cy="2612160"/>
            </a:xfrm>
            <a:prstGeom prst="bentConnector2">
              <a:avLst/>
            </a:prstGeom>
            <a:ln w="9360">
              <a:solidFill>
                <a:srgbClr val="3333cc"/>
              </a:solidFill>
              <a:miter/>
            </a:ln>
          </p:spPr>
        </p:cxnSp>
      </p:grpSp>
      <p:sp>
        <p:nvSpPr>
          <p:cNvPr id="571" name=""/>
          <p:cNvSpPr/>
          <p:nvPr/>
        </p:nvSpPr>
        <p:spPr>
          <a:xfrm>
            <a:off x="2363040" y="1720800"/>
            <a:ext cx="16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(1,0,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3243240" y="4572000"/>
            <a:ext cx="2480760" cy="787320"/>
            <a:chOff x="3243240" y="4572000"/>
            <a:chExt cx="2480760" cy="787320"/>
          </a:xfrm>
        </p:grpSpPr>
        <p:sp>
          <p:nvSpPr>
            <p:cNvPr id="573" name=""/>
            <p:cNvSpPr/>
            <p:nvPr/>
          </p:nvSpPr>
          <p:spPr>
            <a:xfrm>
              <a:off x="3243240" y="502920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38720" y="4572000"/>
              <a:ext cx="228528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10</a:t>
              </a:r>
              <a:r>
                <a:rPr b="0" lang="it-IT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= (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, </a:t>
              </a:r>
              <a:r>
                <a:rPr b="0" lang="it-IT" sz="1800" spc="-1" strike="noStrike">
                  <a:solidFill>
                    <a:srgbClr val="3333cc"/>
                  </a:solidFill>
                  <a:latin typeface="Times New Roman"/>
                </a:rPr>
                <a:t>1/9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20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it-IT" sz="2000" spc="-1" strike="noStrike" baseline="-25000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0" lang="it-IT" sz="2000" spc="-1" strike="noStrike">
                  <a:solidFill>
                    <a:srgbClr val="ff0000"/>
                  </a:solidFill>
                  <a:latin typeface="Times New Roman"/>
                </a:rPr>
                <a:t>  =  27</a:t>
              </a:r>
              <a:r>
                <a:rPr b="0" lang="it-IT" sz="1800" spc="-1" strike="noStrike">
                  <a:solidFill>
                    <a:srgbClr val="ff0000"/>
                  </a:solidFill>
                  <a:latin typeface="Times New Roman"/>
                </a:rPr>
                <a:t>,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654720" y="5689440"/>
            <a:ext cx="2508120" cy="787320"/>
            <a:chOff x="3654720" y="5689440"/>
            <a:chExt cx="2508120" cy="787320"/>
          </a:xfrm>
        </p:grpSpPr>
        <p:sp>
          <p:nvSpPr>
            <p:cNvPr id="576" name=""/>
            <p:cNvSpPr/>
            <p:nvPr/>
          </p:nvSpPr>
          <p:spPr>
            <a:xfrm>
              <a:off x="5913360" y="5854680"/>
              <a:ext cx="2494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3654720" y="5689440"/>
              <a:ext cx="2296800" cy="787320"/>
              <a:chOff x="3654720" y="5689440"/>
              <a:chExt cx="2296800" cy="787320"/>
            </a:xfrm>
          </p:grpSpPr>
          <p:sp>
            <p:nvSpPr>
              <p:cNvPr id="578" name=""/>
              <p:cNvSpPr/>
              <p:nvPr/>
            </p:nvSpPr>
            <p:spPr>
              <a:xfrm>
                <a:off x="5722920" y="5867280"/>
                <a:ext cx="2286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54720" y="5689440"/>
                <a:ext cx="2285280" cy="78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3333cc"/>
                    </a:solidFill>
                    <a:latin typeface="Times New Roman"/>
                  </a:rPr>
                  <a:t>x</a:t>
                </a:r>
                <a:r>
                  <a:rPr b="0" lang="it-IT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11</a:t>
                </a:r>
                <a:r>
                  <a:rPr b="0" lang="it-IT" sz="16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Times New Roman"/>
                  </a:rPr>
                  <a:t>= (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Times New Roman"/>
                  </a:rPr>
                  <a:t>, 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Times New Roman"/>
                  </a:rPr>
                  <a:t>, 0, </a:t>
                </a:r>
                <a:r>
                  <a:rPr b="0" lang="it-IT" sz="1800" spc="-1" strike="noStrike">
                    <a:solidFill>
                      <a:srgbClr val="3333cc"/>
                    </a:solidFill>
                    <a:latin typeface="Times New Roman"/>
                  </a:rPr>
                  <a:t>7/11</a:t>
                </a:r>
                <a:r>
                  <a:rPr b="0" lang="it-IT" sz="2000" spc="-1" strike="noStrike">
                    <a:solidFill>
                      <a:srgbClr val="3333cc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0" i="1" lang="it-IT" sz="20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r>
                  <a:rPr b="0" lang="it-IT" sz="2000" spc="-1" strike="noStrike" baseline="-25000">
                    <a:solidFill>
                      <a:srgbClr val="ff0000"/>
                    </a:solidFill>
                    <a:latin typeface="Times New Roman"/>
                  </a:rPr>
                  <a:t>11</a:t>
                </a:r>
                <a:r>
                  <a:rPr b="0" lang="it-IT" sz="2000" spc="-1" strike="noStrike">
                    <a:solidFill>
                      <a:srgbClr val="ff0000"/>
                    </a:solidFill>
                    <a:latin typeface="Times New Roman"/>
                  </a:rPr>
                  <a:t>  =  29</a:t>
                </a:r>
                <a:r>
                  <a:rPr b="0" lang="it-IT" sz="1800" spc="-1" strike="noStrike">
                    <a:solidFill>
                      <a:srgbClr val="ff0000"/>
                    </a:solidFill>
                    <a:latin typeface="Times New Roman"/>
                  </a:rPr>
                  <a:t>,0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209680" y="2152080"/>
            <a:ext cx="2075400" cy="1027800"/>
            <a:chOff x="2209680" y="2152080"/>
            <a:chExt cx="2075400" cy="1027800"/>
          </a:xfrm>
        </p:grpSpPr>
        <p:sp>
          <p:nvSpPr>
            <p:cNvPr id="583" name=""/>
            <p:cNvSpPr/>
            <p:nvPr/>
          </p:nvSpPr>
          <p:spPr>
            <a:xfrm>
              <a:off x="2209680" y="280044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4" name=""/>
            <p:cNvCxnSpPr>
              <a:stCxn id="583" idx="7"/>
              <a:endCxn id="581" idx="3"/>
            </p:cNvCxnSpPr>
            <p:nvPr/>
          </p:nvCxnSpPr>
          <p:spPr>
            <a:xfrm flipV="1">
              <a:off x="2806560" y="2152080"/>
              <a:ext cx="147888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85" name=""/>
          <p:cNvGrpSpPr/>
          <p:nvPr/>
        </p:nvGrpSpPr>
        <p:grpSpPr>
          <a:xfrm>
            <a:off x="4777920" y="2152080"/>
            <a:ext cx="2232360" cy="1026000"/>
            <a:chOff x="4777920" y="2152080"/>
            <a:chExt cx="2232360" cy="1026000"/>
          </a:xfrm>
        </p:grpSpPr>
        <p:sp>
          <p:nvSpPr>
            <p:cNvPr id="586" name=""/>
            <p:cNvSpPr/>
            <p:nvPr/>
          </p:nvSpPr>
          <p:spPr>
            <a:xfrm>
              <a:off x="6310440" y="279864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7" name=""/>
            <p:cNvCxnSpPr>
              <a:stCxn id="586" idx="1"/>
            </p:cNvCxnSpPr>
            <p:nvPr/>
          </p:nvCxnSpPr>
          <p:spPr>
            <a:xfrm flipH="1" flipV="1">
              <a:off x="4777920" y="2152080"/>
              <a:ext cx="1635840" cy="70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88" name=""/>
          <p:cNvSpPr/>
          <p:nvPr/>
        </p:nvSpPr>
        <p:spPr>
          <a:xfrm>
            <a:off x="2996640" y="2286000"/>
            <a:ext cx="3015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67080" y="17175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8740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stCxn id="590" idx="3"/>
            <a:endCxn id="583" idx="2"/>
          </p:cNvCxnSpPr>
          <p:nvPr/>
        </p:nvCxnSpPr>
        <p:spPr>
          <a:xfrm flipV="1">
            <a:off x="1905120" y="2990520"/>
            <a:ext cx="305280" cy="72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592" name=""/>
          <p:cNvSpPr/>
          <p:nvPr/>
        </p:nvSpPr>
        <p:spPr>
          <a:xfrm>
            <a:off x="732312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"/>
          <p:cNvCxnSpPr>
            <a:stCxn id="592" idx="1"/>
            <a:endCxn id="586" idx="6"/>
          </p:cNvCxnSpPr>
          <p:nvPr/>
        </p:nvCxnSpPr>
        <p:spPr>
          <a:xfrm flipH="1" flipV="1">
            <a:off x="7009560" y="2989080"/>
            <a:ext cx="305640" cy="86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grpSp>
        <p:nvGrpSpPr>
          <p:cNvPr id="594" name=""/>
          <p:cNvGrpSpPr/>
          <p:nvPr/>
        </p:nvGrpSpPr>
        <p:grpSpPr>
          <a:xfrm>
            <a:off x="5167440" y="3122640"/>
            <a:ext cx="1245960" cy="1028520"/>
            <a:chOff x="5167440" y="3122640"/>
            <a:chExt cx="1245960" cy="1028520"/>
          </a:xfrm>
        </p:grpSpPr>
        <p:sp>
          <p:nvSpPr>
            <p:cNvPr id="595" name=""/>
            <p:cNvSpPr/>
            <p:nvPr/>
          </p:nvSpPr>
          <p:spPr>
            <a:xfrm>
              <a:off x="5167440" y="3772080"/>
              <a:ext cx="699840" cy="3790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6" name=""/>
            <p:cNvCxnSpPr>
              <a:stCxn id="595" idx="7"/>
              <a:endCxn id="586" idx="3"/>
            </p:cNvCxnSpPr>
            <p:nvPr/>
          </p:nvCxnSpPr>
          <p:spPr>
            <a:xfrm flipV="1">
              <a:off x="5763960" y="3122640"/>
              <a:ext cx="649800" cy="70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97" name=""/>
          <p:cNvGrpSpPr/>
          <p:nvPr/>
        </p:nvGrpSpPr>
        <p:grpSpPr>
          <a:xfrm>
            <a:off x="6906600" y="3121920"/>
            <a:ext cx="1261080" cy="1027800"/>
            <a:chOff x="6906600" y="3121920"/>
            <a:chExt cx="1261080" cy="1027800"/>
          </a:xfrm>
        </p:grpSpPr>
        <p:sp>
          <p:nvSpPr>
            <p:cNvPr id="598" name=""/>
            <p:cNvSpPr/>
            <p:nvPr/>
          </p:nvSpPr>
          <p:spPr>
            <a:xfrm>
              <a:off x="7467480" y="377028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9" name=""/>
            <p:cNvCxnSpPr>
              <a:stCxn id="598" idx="1"/>
              <a:endCxn id="586" idx="5"/>
            </p:cNvCxnSpPr>
            <p:nvPr/>
          </p:nvCxnSpPr>
          <p:spPr>
            <a:xfrm flipH="1" flipV="1">
              <a:off x="6906600" y="3121920"/>
              <a:ext cx="66420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00" name=""/>
          <p:cNvSpPr/>
          <p:nvPr/>
        </p:nvSpPr>
        <p:spPr>
          <a:xfrm>
            <a:off x="5358600" y="3257640"/>
            <a:ext cx="2787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6086160" y="4114800"/>
            <a:ext cx="2817000" cy="2099160"/>
            <a:chOff x="6086160" y="4114800"/>
            <a:chExt cx="2817000" cy="2099160"/>
          </a:xfrm>
        </p:grpSpPr>
        <p:sp>
          <p:nvSpPr>
            <p:cNvPr id="602" name=""/>
            <p:cNvSpPr/>
            <p:nvPr/>
          </p:nvSpPr>
          <p:spPr>
            <a:xfrm>
              <a:off x="7848720" y="411480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86160" y="4775040"/>
              <a:ext cx="2817000" cy="143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14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+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    inte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313920" y="3961800"/>
            <a:ext cx="4853520" cy="2252160"/>
            <a:chOff x="313920" y="3961800"/>
            <a:chExt cx="4853520" cy="2252160"/>
          </a:xfrm>
        </p:grpSpPr>
        <p:sp>
          <p:nvSpPr>
            <p:cNvPr id="605" name=""/>
            <p:cNvSpPr/>
            <p:nvPr/>
          </p:nvSpPr>
          <p:spPr>
            <a:xfrm>
              <a:off x="313920" y="4775040"/>
              <a:ext cx="2972520" cy="143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14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+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    inte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6" name=""/>
            <p:cNvCxnSpPr>
              <a:stCxn id="605" idx="0"/>
              <a:endCxn id="595" idx="2"/>
            </p:cNvCxnSpPr>
            <p:nvPr/>
          </p:nvCxnSpPr>
          <p:spPr>
            <a:xfrm flipH="1" flipV="1" rot="5400000">
              <a:off x="3077280" y="2684520"/>
              <a:ext cx="813240" cy="3367800"/>
            </a:xfrm>
            <a:prstGeom prst="bentConnector2">
              <a:avLst/>
            </a:prstGeom>
            <a:ln w="9360">
              <a:solidFill>
                <a:srgbClr val="3333cc"/>
              </a:solidFill>
              <a:miter/>
            </a:ln>
          </p:spPr>
        </p:cxnSp>
      </p:grpSp>
      <p:sp>
        <p:nvSpPr>
          <p:cNvPr id="607" name=""/>
          <p:cNvSpPr/>
          <p:nvPr/>
        </p:nvSpPr>
        <p:spPr>
          <a:xfrm>
            <a:off x="2363040" y="1720800"/>
            <a:ext cx="16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(1,0,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7162920" y="39625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876920" y="39625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2640" y="3733920"/>
            <a:ext cx="108432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209680" y="2152080"/>
            <a:ext cx="2075400" cy="1027800"/>
            <a:chOff x="2209680" y="2152080"/>
            <a:chExt cx="2075400" cy="1027800"/>
          </a:xfrm>
        </p:grpSpPr>
        <p:sp>
          <p:nvSpPr>
            <p:cNvPr id="614" name=""/>
            <p:cNvSpPr/>
            <p:nvPr/>
          </p:nvSpPr>
          <p:spPr>
            <a:xfrm>
              <a:off x="2209680" y="280044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5" name=""/>
            <p:cNvCxnSpPr>
              <a:stCxn id="614" idx="7"/>
              <a:endCxn id="612" idx="3"/>
            </p:cNvCxnSpPr>
            <p:nvPr/>
          </p:nvCxnSpPr>
          <p:spPr>
            <a:xfrm flipV="1">
              <a:off x="2806560" y="2152080"/>
              <a:ext cx="147888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16" name=""/>
          <p:cNvGrpSpPr/>
          <p:nvPr/>
        </p:nvGrpSpPr>
        <p:grpSpPr>
          <a:xfrm>
            <a:off x="4777920" y="2152080"/>
            <a:ext cx="2232360" cy="1026000"/>
            <a:chOff x="4777920" y="2152080"/>
            <a:chExt cx="2232360" cy="1026000"/>
          </a:xfrm>
        </p:grpSpPr>
        <p:sp>
          <p:nvSpPr>
            <p:cNvPr id="617" name=""/>
            <p:cNvSpPr/>
            <p:nvPr/>
          </p:nvSpPr>
          <p:spPr>
            <a:xfrm>
              <a:off x="6310440" y="279864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8" name=""/>
            <p:cNvCxnSpPr>
              <a:stCxn id="617" idx="1"/>
            </p:cNvCxnSpPr>
            <p:nvPr/>
          </p:nvCxnSpPr>
          <p:spPr>
            <a:xfrm flipH="1" flipV="1">
              <a:off x="4777920" y="2152080"/>
              <a:ext cx="1635840" cy="70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19" name=""/>
          <p:cNvSpPr/>
          <p:nvPr/>
        </p:nvSpPr>
        <p:spPr>
          <a:xfrm>
            <a:off x="2996640" y="2286000"/>
            <a:ext cx="3015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167080" y="17175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8740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621" idx="3"/>
            <a:endCxn id="614" idx="2"/>
          </p:cNvCxnSpPr>
          <p:nvPr/>
        </p:nvCxnSpPr>
        <p:spPr>
          <a:xfrm flipV="1">
            <a:off x="1905120" y="2990520"/>
            <a:ext cx="305280" cy="72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623" name=""/>
          <p:cNvSpPr/>
          <p:nvPr/>
        </p:nvSpPr>
        <p:spPr>
          <a:xfrm>
            <a:off x="732312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stCxn id="623" idx="1"/>
            <a:endCxn id="617" idx="6"/>
          </p:cNvCxnSpPr>
          <p:nvPr/>
        </p:nvCxnSpPr>
        <p:spPr>
          <a:xfrm flipH="1" flipV="1">
            <a:off x="7009560" y="2989080"/>
            <a:ext cx="305640" cy="86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grpSp>
        <p:nvGrpSpPr>
          <p:cNvPr id="625" name=""/>
          <p:cNvGrpSpPr/>
          <p:nvPr/>
        </p:nvGrpSpPr>
        <p:grpSpPr>
          <a:xfrm>
            <a:off x="5167440" y="3122640"/>
            <a:ext cx="1245960" cy="1028520"/>
            <a:chOff x="5167440" y="3122640"/>
            <a:chExt cx="1245960" cy="1028520"/>
          </a:xfrm>
        </p:grpSpPr>
        <p:sp>
          <p:nvSpPr>
            <p:cNvPr id="626" name=""/>
            <p:cNvSpPr/>
            <p:nvPr/>
          </p:nvSpPr>
          <p:spPr>
            <a:xfrm>
              <a:off x="5167440" y="3772080"/>
              <a:ext cx="699840" cy="3790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7" name=""/>
            <p:cNvCxnSpPr>
              <a:stCxn id="626" idx="7"/>
              <a:endCxn id="617" idx="3"/>
            </p:cNvCxnSpPr>
            <p:nvPr/>
          </p:nvCxnSpPr>
          <p:spPr>
            <a:xfrm flipV="1">
              <a:off x="5763960" y="3122640"/>
              <a:ext cx="649800" cy="70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28" name=""/>
          <p:cNvGrpSpPr/>
          <p:nvPr/>
        </p:nvGrpSpPr>
        <p:grpSpPr>
          <a:xfrm>
            <a:off x="6906600" y="3121920"/>
            <a:ext cx="1261080" cy="1027800"/>
            <a:chOff x="6906600" y="3121920"/>
            <a:chExt cx="1261080" cy="1027800"/>
          </a:xfrm>
        </p:grpSpPr>
        <p:sp>
          <p:nvSpPr>
            <p:cNvPr id="629" name=""/>
            <p:cNvSpPr/>
            <p:nvPr/>
          </p:nvSpPr>
          <p:spPr>
            <a:xfrm>
              <a:off x="7467480" y="377028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0" name=""/>
            <p:cNvCxnSpPr>
              <a:stCxn id="629" idx="1"/>
              <a:endCxn id="617" idx="5"/>
            </p:cNvCxnSpPr>
            <p:nvPr/>
          </p:nvCxnSpPr>
          <p:spPr>
            <a:xfrm flipH="1" flipV="1">
              <a:off x="6906600" y="3121920"/>
              <a:ext cx="66420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31" name=""/>
          <p:cNvSpPr/>
          <p:nvPr/>
        </p:nvSpPr>
        <p:spPr>
          <a:xfrm>
            <a:off x="5358600" y="3257640"/>
            <a:ext cx="2787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149160" y="3733920"/>
            <a:ext cx="108432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1680" y="441972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bound trovati non consentono di eliminare nodi dell’alb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363040" y="1720800"/>
            <a:ext cx="16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(1,0,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rogrammazione lineare int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 problema di programmazione lineare in cui le variabili siano vincolate ad assumere solo valori interi si dice di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grammazione lineare intera (P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er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5000" y="5311800"/>
            <a:ext cx="75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 problema di ottimizzazione combinatoria può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sempre </a:t>
            </a:r>
            <a:br>
              <a:rPr sz="2400"/>
            </a:b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   formulars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in termini di programmazione lineare int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00400" y="4086360"/>
            <a:ext cx="3287160" cy="840240"/>
            <a:chOff x="3200400" y="4086360"/>
            <a:chExt cx="3287160" cy="840240"/>
          </a:xfrm>
        </p:grpSpPr>
        <p:grpSp>
          <p:nvGrpSpPr>
            <p:cNvPr id="56" name=""/>
            <p:cNvGrpSpPr/>
            <p:nvPr/>
          </p:nvGrpSpPr>
          <p:grpSpPr>
            <a:xfrm>
              <a:off x="3200400" y="4086360"/>
              <a:ext cx="1752120" cy="838080"/>
              <a:chOff x="3200400" y="4086360"/>
              <a:chExt cx="1752120" cy="838080"/>
            </a:xfrm>
          </p:grpSpPr>
          <p:sp>
            <p:nvSpPr>
              <p:cNvPr id="57" name=""/>
              <p:cNvSpPr/>
              <p:nvPr/>
            </p:nvSpPr>
            <p:spPr>
              <a:xfrm>
                <a:off x="3200400" y="4086360"/>
                <a:ext cx="914040" cy="38088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09880" y="4467240"/>
                <a:ext cx="45684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267080" y="4924440"/>
                <a:ext cx="6854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4246560" y="4527720"/>
              <a:ext cx="22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clausola d’interezz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4097160" y="4699080"/>
            <a:ext cx="2837160" cy="1438920"/>
            <a:chOff x="4097160" y="4699080"/>
            <a:chExt cx="2837160" cy="1438920"/>
          </a:xfrm>
        </p:grpSpPr>
        <p:sp>
          <p:nvSpPr>
            <p:cNvPr id="636" name=""/>
            <p:cNvSpPr/>
            <p:nvPr/>
          </p:nvSpPr>
          <p:spPr>
            <a:xfrm flipH="1">
              <a:off x="6400800" y="5073480"/>
              <a:ext cx="533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97160" y="4699080"/>
              <a:ext cx="2495880" cy="143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  1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+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2000"/>
              </a:b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           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9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int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470360" y="5181480"/>
            <a:ext cx="1503720" cy="1059480"/>
            <a:chOff x="7470360" y="5181480"/>
            <a:chExt cx="1503720" cy="1059480"/>
          </a:xfrm>
        </p:grpSpPr>
        <p:sp>
          <p:nvSpPr>
            <p:cNvPr id="639" name=""/>
            <p:cNvSpPr/>
            <p:nvPr/>
          </p:nvSpPr>
          <p:spPr>
            <a:xfrm>
              <a:off x="8610480" y="5181480"/>
              <a:ext cx="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70360" y="5537160"/>
              <a:ext cx="15037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non ammette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solu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7162920" y="39625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76920" y="39625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2640" y="3733920"/>
            <a:ext cx="108432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209680" y="2152080"/>
            <a:ext cx="2075400" cy="1027800"/>
            <a:chOff x="2209680" y="2152080"/>
            <a:chExt cx="2075400" cy="1027800"/>
          </a:xfrm>
        </p:grpSpPr>
        <p:sp>
          <p:nvSpPr>
            <p:cNvPr id="647" name=""/>
            <p:cNvSpPr/>
            <p:nvPr/>
          </p:nvSpPr>
          <p:spPr>
            <a:xfrm>
              <a:off x="2209680" y="280044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8" name=""/>
            <p:cNvCxnSpPr>
              <a:stCxn id="647" idx="7"/>
              <a:endCxn id="645" idx="3"/>
            </p:cNvCxnSpPr>
            <p:nvPr/>
          </p:nvCxnSpPr>
          <p:spPr>
            <a:xfrm flipV="1">
              <a:off x="2806560" y="2152080"/>
              <a:ext cx="147888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49" name=""/>
          <p:cNvGrpSpPr/>
          <p:nvPr/>
        </p:nvGrpSpPr>
        <p:grpSpPr>
          <a:xfrm>
            <a:off x="4777920" y="2152080"/>
            <a:ext cx="2232360" cy="1026000"/>
            <a:chOff x="4777920" y="2152080"/>
            <a:chExt cx="2232360" cy="1026000"/>
          </a:xfrm>
        </p:grpSpPr>
        <p:sp>
          <p:nvSpPr>
            <p:cNvPr id="650" name=""/>
            <p:cNvSpPr/>
            <p:nvPr/>
          </p:nvSpPr>
          <p:spPr>
            <a:xfrm>
              <a:off x="6310440" y="279864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50" idx="1"/>
            </p:cNvCxnSpPr>
            <p:nvPr/>
          </p:nvCxnSpPr>
          <p:spPr>
            <a:xfrm flipH="1" flipV="1">
              <a:off x="4777920" y="2152080"/>
              <a:ext cx="1635840" cy="70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52" name=""/>
          <p:cNvSpPr/>
          <p:nvPr/>
        </p:nvSpPr>
        <p:spPr>
          <a:xfrm>
            <a:off x="2996640" y="2286000"/>
            <a:ext cx="3015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167080" y="17175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8740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5" name=""/>
          <p:cNvCxnSpPr>
            <a:stCxn id="654" idx="3"/>
            <a:endCxn id="647" idx="2"/>
          </p:cNvCxnSpPr>
          <p:nvPr/>
        </p:nvCxnSpPr>
        <p:spPr>
          <a:xfrm flipV="1">
            <a:off x="1905120" y="2990520"/>
            <a:ext cx="305280" cy="72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732312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7" name=""/>
          <p:cNvCxnSpPr>
            <a:stCxn id="656" idx="1"/>
            <a:endCxn id="650" idx="6"/>
          </p:cNvCxnSpPr>
          <p:nvPr/>
        </p:nvCxnSpPr>
        <p:spPr>
          <a:xfrm flipH="1" flipV="1">
            <a:off x="7009560" y="2989080"/>
            <a:ext cx="305640" cy="86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grpSp>
        <p:nvGrpSpPr>
          <p:cNvPr id="658" name=""/>
          <p:cNvGrpSpPr/>
          <p:nvPr/>
        </p:nvGrpSpPr>
        <p:grpSpPr>
          <a:xfrm>
            <a:off x="5167440" y="3122640"/>
            <a:ext cx="1245960" cy="1028520"/>
            <a:chOff x="5167440" y="3122640"/>
            <a:chExt cx="1245960" cy="1028520"/>
          </a:xfrm>
        </p:grpSpPr>
        <p:sp>
          <p:nvSpPr>
            <p:cNvPr id="659" name=""/>
            <p:cNvSpPr/>
            <p:nvPr/>
          </p:nvSpPr>
          <p:spPr>
            <a:xfrm>
              <a:off x="5167440" y="3772080"/>
              <a:ext cx="699840" cy="3790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0" name=""/>
            <p:cNvCxnSpPr>
              <a:stCxn id="659" idx="7"/>
              <a:endCxn id="650" idx="3"/>
            </p:cNvCxnSpPr>
            <p:nvPr/>
          </p:nvCxnSpPr>
          <p:spPr>
            <a:xfrm flipV="1">
              <a:off x="5763960" y="3122640"/>
              <a:ext cx="649800" cy="70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61" name=""/>
          <p:cNvGrpSpPr/>
          <p:nvPr/>
        </p:nvGrpSpPr>
        <p:grpSpPr>
          <a:xfrm>
            <a:off x="6906600" y="3121920"/>
            <a:ext cx="1261080" cy="1027800"/>
            <a:chOff x="6906600" y="3121920"/>
            <a:chExt cx="1261080" cy="1027800"/>
          </a:xfrm>
        </p:grpSpPr>
        <p:sp>
          <p:nvSpPr>
            <p:cNvPr id="662" name=""/>
            <p:cNvSpPr/>
            <p:nvPr/>
          </p:nvSpPr>
          <p:spPr>
            <a:xfrm>
              <a:off x="7467480" y="377028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62" idx="1"/>
              <a:endCxn id="650" idx="5"/>
            </p:cNvCxnSpPr>
            <p:nvPr/>
          </p:nvCxnSpPr>
          <p:spPr>
            <a:xfrm flipH="1" flipV="1">
              <a:off x="6906600" y="3121920"/>
              <a:ext cx="66420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64" name=""/>
          <p:cNvSpPr/>
          <p:nvPr/>
        </p:nvSpPr>
        <p:spPr>
          <a:xfrm>
            <a:off x="5358600" y="3257640"/>
            <a:ext cx="2787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149160" y="3733920"/>
            <a:ext cx="108432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767640" y="4093920"/>
            <a:ext cx="803160" cy="1163880"/>
            <a:chOff x="6767640" y="4093920"/>
            <a:chExt cx="803160" cy="1163880"/>
          </a:xfrm>
        </p:grpSpPr>
        <p:sp>
          <p:nvSpPr>
            <p:cNvPr id="667" name=""/>
            <p:cNvSpPr/>
            <p:nvPr/>
          </p:nvSpPr>
          <p:spPr>
            <a:xfrm>
              <a:off x="6767640" y="487836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8" name=""/>
            <p:cNvCxnSpPr>
              <a:stCxn id="667" idx="7"/>
              <a:endCxn id="662" idx="3"/>
            </p:cNvCxnSpPr>
            <p:nvPr/>
          </p:nvCxnSpPr>
          <p:spPr>
            <a:xfrm flipV="1">
              <a:off x="7364160" y="4093920"/>
              <a:ext cx="207000" cy="84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69" name=""/>
          <p:cNvGrpSpPr/>
          <p:nvPr/>
        </p:nvGrpSpPr>
        <p:grpSpPr>
          <a:xfrm>
            <a:off x="8064000" y="4093920"/>
            <a:ext cx="927720" cy="1162440"/>
            <a:chOff x="8064000" y="4093920"/>
            <a:chExt cx="927720" cy="1162440"/>
          </a:xfrm>
        </p:grpSpPr>
        <p:sp>
          <p:nvSpPr>
            <p:cNvPr id="670" name=""/>
            <p:cNvSpPr/>
            <p:nvPr/>
          </p:nvSpPr>
          <p:spPr>
            <a:xfrm>
              <a:off x="8291520" y="487692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1" name=""/>
            <p:cNvCxnSpPr>
              <a:stCxn id="670" idx="1"/>
              <a:endCxn id="662" idx="5"/>
            </p:cNvCxnSpPr>
            <p:nvPr/>
          </p:nvCxnSpPr>
          <p:spPr>
            <a:xfrm flipH="1" flipV="1">
              <a:off x="8064000" y="4093920"/>
              <a:ext cx="33120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72" name=""/>
          <p:cNvSpPr/>
          <p:nvPr/>
        </p:nvSpPr>
        <p:spPr>
          <a:xfrm>
            <a:off x="2363040" y="1720800"/>
            <a:ext cx="16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(1,0,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8458200" y="4876920"/>
            <a:ext cx="380880" cy="380880"/>
            <a:chOff x="8458200" y="4876920"/>
            <a:chExt cx="380880" cy="380880"/>
          </a:xfrm>
        </p:grpSpPr>
        <p:sp>
          <p:nvSpPr>
            <p:cNvPr id="674" name=""/>
            <p:cNvSpPr/>
            <p:nvPr/>
          </p:nvSpPr>
          <p:spPr>
            <a:xfrm>
              <a:off x="8458200" y="487692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8458200" y="487692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2355120" y="4724280"/>
            <a:ext cx="2390040" cy="787320"/>
            <a:chOff x="2355120" y="4724280"/>
            <a:chExt cx="2390040" cy="787320"/>
          </a:xfrm>
        </p:grpSpPr>
        <p:sp>
          <p:nvSpPr>
            <p:cNvPr id="677" name=""/>
            <p:cNvSpPr/>
            <p:nvPr/>
          </p:nvSpPr>
          <p:spPr>
            <a:xfrm>
              <a:off x="4495680" y="4876920"/>
              <a:ext cx="2494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55120" y="4724280"/>
              <a:ext cx="220140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cc99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00cc99"/>
                  </a:solidFill>
                  <a:latin typeface="Times New Roman"/>
                </a:rPr>
                <a:t>110</a:t>
              </a:r>
              <a:r>
                <a:rPr b="0" lang="it-IT" sz="2000" spc="-1" strike="noStrike">
                  <a:solidFill>
                    <a:srgbClr val="00cc99"/>
                  </a:solidFill>
                  <a:latin typeface="Times New Roman"/>
                </a:rPr>
                <a:t>*</a:t>
              </a:r>
              <a:r>
                <a:rPr b="0" lang="it-IT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= (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2000" spc="-1" strike="noStrike">
                  <a:solidFill>
                    <a:srgbClr val="00cc99"/>
                  </a:solidFill>
                  <a:latin typeface="Times New Roman"/>
                </a:rPr>
                <a:t>z</a:t>
              </a:r>
              <a:r>
                <a:rPr b="0" lang="it-IT" sz="2000" spc="-1" strike="noStrike" baseline="-25000">
                  <a:solidFill>
                    <a:srgbClr val="00cc99"/>
                  </a:solidFill>
                  <a:latin typeface="Times New Roman"/>
                </a:rPr>
                <a:t>110</a:t>
              </a:r>
              <a:r>
                <a:rPr b="0" lang="it-IT" sz="2000" spc="-1" strike="noStrike">
                  <a:solidFill>
                    <a:srgbClr val="00cc99"/>
                  </a:solidFill>
                  <a:latin typeface="Times New Roman"/>
                </a:rPr>
                <a:t>*  =  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713480" y="4699080"/>
            <a:ext cx="2220840" cy="1438920"/>
            <a:chOff x="4713480" y="4699080"/>
            <a:chExt cx="2220840" cy="1438920"/>
          </a:xfrm>
        </p:grpSpPr>
        <p:sp>
          <p:nvSpPr>
            <p:cNvPr id="680" name=""/>
            <p:cNvSpPr/>
            <p:nvPr/>
          </p:nvSpPr>
          <p:spPr>
            <a:xfrm flipH="1">
              <a:off x="6400800" y="5073480"/>
              <a:ext cx="533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13480" y="4699080"/>
              <a:ext cx="1755000" cy="143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 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+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2000"/>
              </a:b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        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  int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7470360" y="5181480"/>
            <a:ext cx="1503720" cy="1059480"/>
            <a:chOff x="7470360" y="5181480"/>
            <a:chExt cx="1503720" cy="1059480"/>
          </a:xfrm>
        </p:grpSpPr>
        <p:sp>
          <p:nvSpPr>
            <p:cNvPr id="683" name=""/>
            <p:cNvSpPr/>
            <p:nvPr/>
          </p:nvSpPr>
          <p:spPr>
            <a:xfrm>
              <a:off x="8610480" y="5181480"/>
              <a:ext cx="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70360" y="5537160"/>
              <a:ext cx="15037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non ammette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solu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7162920" y="39625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876920" y="39625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42640" y="3733920"/>
            <a:ext cx="108432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209680" y="2152080"/>
            <a:ext cx="2075400" cy="1027800"/>
            <a:chOff x="2209680" y="2152080"/>
            <a:chExt cx="2075400" cy="1027800"/>
          </a:xfrm>
        </p:grpSpPr>
        <p:sp>
          <p:nvSpPr>
            <p:cNvPr id="691" name=""/>
            <p:cNvSpPr/>
            <p:nvPr/>
          </p:nvSpPr>
          <p:spPr>
            <a:xfrm>
              <a:off x="2209680" y="280044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2" name=""/>
            <p:cNvCxnSpPr>
              <a:stCxn id="691" idx="7"/>
              <a:endCxn id="689" idx="3"/>
            </p:cNvCxnSpPr>
            <p:nvPr/>
          </p:nvCxnSpPr>
          <p:spPr>
            <a:xfrm flipV="1">
              <a:off x="2806560" y="2152080"/>
              <a:ext cx="147888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93" name=""/>
          <p:cNvGrpSpPr/>
          <p:nvPr/>
        </p:nvGrpSpPr>
        <p:grpSpPr>
          <a:xfrm>
            <a:off x="4777920" y="2152080"/>
            <a:ext cx="2232360" cy="1026000"/>
            <a:chOff x="4777920" y="2152080"/>
            <a:chExt cx="2232360" cy="1026000"/>
          </a:xfrm>
        </p:grpSpPr>
        <p:sp>
          <p:nvSpPr>
            <p:cNvPr id="694" name=""/>
            <p:cNvSpPr/>
            <p:nvPr/>
          </p:nvSpPr>
          <p:spPr>
            <a:xfrm>
              <a:off x="6310440" y="279864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94" idx="1"/>
            </p:cNvCxnSpPr>
            <p:nvPr/>
          </p:nvCxnSpPr>
          <p:spPr>
            <a:xfrm flipH="1" flipV="1">
              <a:off x="4777920" y="2152080"/>
              <a:ext cx="1635840" cy="70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96" name=""/>
          <p:cNvSpPr/>
          <p:nvPr/>
        </p:nvSpPr>
        <p:spPr>
          <a:xfrm>
            <a:off x="2996640" y="2286000"/>
            <a:ext cx="3015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67080" y="17175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8740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9" name=""/>
          <p:cNvCxnSpPr>
            <a:stCxn id="698" idx="3"/>
            <a:endCxn id="691" idx="2"/>
          </p:cNvCxnSpPr>
          <p:nvPr/>
        </p:nvCxnSpPr>
        <p:spPr>
          <a:xfrm flipV="1">
            <a:off x="1905120" y="2990520"/>
            <a:ext cx="305280" cy="72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700" name=""/>
          <p:cNvSpPr/>
          <p:nvPr/>
        </p:nvSpPr>
        <p:spPr>
          <a:xfrm>
            <a:off x="732312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700" idx="1"/>
            <a:endCxn id="694" idx="6"/>
          </p:cNvCxnSpPr>
          <p:nvPr/>
        </p:nvCxnSpPr>
        <p:spPr>
          <a:xfrm flipH="1" flipV="1">
            <a:off x="7009560" y="2989080"/>
            <a:ext cx="305640" cy="86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grpSp>
        <p:nvGrpSpPr>
          <p:cNvPr id="702" name=""/>
          <p:cNvGrpSpPr/>
          <p:nvPr/>
        </p:nvGrpSpPr>
        <p:grpSpPr>
          <a:xfrm>
            <a:off x="5167440" y="3122640"/>
            <a:ext cx="1245960" cy="1028520"/>
            <a:chOff x="5167440" y="3122640"/>
            <a:chExt cx="1245960" cy="1028520"/>
          </a:xfrm>
        </p:grpSpPr>
        <p:sp>
          <p:nvSpPr>
            <p:cNvPr id="703" name=""/>
            <p:cNvSpPr/>
            <p:nvPr/>
          </p:nvSpPr>
          <p:spPr>
            <a:xfrm>
              <a:off x="5167440" y="3772080"/>
              <a:ext cx="699840" cy="3790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4" name=""/>
            <p:cNvCxnSpPr>
              <a:stCxn id="703" idx="7"/>
              <a:endCxn id="694" idx="3"/>
            </p:cNvCxnSpPr>
            <p:nvPr/>
          </p:nvCxnSpPr>
          <p:spPr>
            <a:xfrm flipV="1">
              <a:off x="5763960" y="3122640"/>
              <a:ext cx="649800" cy="70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05" name=""/>
          <p:cNvGrpSpPr/>
          <p:nvPr/>
        </p:nvGrpSpPr>
        <p:grpSpPr>
          <a:xfrm>
            <a:off x="6906600" y="3121920"/>
            <a:ext cx="1261080" cy="1027800"/>
            <a:chOff x="6906600" y="3121920"/>
            <a:chExt cx="1261080" cy="1027800"/>
          </a:xfrm>
        </p:grpSpPr>
        <p:sp>
          <p:nvSpPr>
            <p:cNvPr id="706" name=""/>
            <p:cNvSpPr/>
            <p:nvPr/>
          </p:nvSpPr>
          <p:spPr>
            <a:xfrm>
              <a:off x="7467480" y="377028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7" name=""/>
            <p:cNvCxnSpPr>
              <a:stCxn id="706" idx="1"/>
              <a:endCxn id="694" idx="5"/>
            </p:cNvCxnSpPr>
            <p:nvPr/>
          </p:nvCxnSpPr>
          <p:spPr>
            <a:xfrm flipH="1" flipV="1">
              <a:off x="6906600" y="3121920"/>
              <a:ext cx="66420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08" name=""/>
          <p:cNvSpPr/>
          <p:nvPr/>
        </p:nvSpPr>
        <p:spPr>
          <a:xfrm>
            <a:off x="5358600" y="3257640"/>
            <a:ext cx="2787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149160" y="3733920"/>
            <a:ext cx="108432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6767640" y="4093920"/>
            <a:ext cx="2224080" cy="1163880"/>
            <a:chOff x="6767640" y="4093920"/>
            <a:chExt cx="2224080" cy="1163880"/>
          </a:xfrm>
        </p:grpSpPr>
        <p:sp>
          <p:nvSpPr>
            <p:cNvPr id="711" name=""/>
            <p:cNvSpPr/>
            <p:nvPr/>
          </p:nvSpPr>
          <p:spPr>
            <a:xfrm>
              <a:off x="6767640" y="487836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2" name=""/>
            <p:cNvCxnSpPr>
              <a:stCxn id="711" idx="7"/>
              <a:endCxn id="706" idx="3"/>
            </p:cNvCxnSpPr>
            <p:nvPr/>
          </p:nvCxnSpPr>
          <p:spPr>
            <a:xfrm flipV="1">
              <a:off x="7364160" y="4093920"/>
              <a:ext cx="207000" cy="84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3" name=""/>
            <p:cNvSpPr/>
            <p:nvPr/>
          </p:nvSpPr>
          <p:spPr>
            <a:xfrm>
              <a:off x="8291520" y="487692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4" name=""/>
            <p:cNvCxnSpPr>
              <a:stCxn id="713" idx="1"/>
              <a:endCxn id="706" idx="5"/>
            </p:cNvCxnSpPr>
            <p:nvPr/>
          </p:nvCxnSpPr>
          <p:spPr>
            <a:xfrm flipH="1" flipV="1">
              <a:off x="8064000" y="4093920"/>
              <a:ext cx="33120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15" name=""/>
          <p:cNvSpPr/>
          <p:nvPr/>
        </p:nvSpPr>
        <p:spPr>
          <a:xfrm>
            <a:off x="2363040" y="1720800"/>
            <a:ext cx="16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(1,0,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28640" y="5546880"/>
            <a:ext cx="38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soluzione intera trovata h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alore inferiore all’ottimo corrente,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he resta quindi </a:t>
            </a:r>
            <a:r>
              <a:rPr b="1" lang="it-IT" sz="20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it-IT" sz="2000" spc="-1" strike="noStrike">
                <a:solidFill>
                  <a:srgbClr val="00cc99"/>
                </a:solidFill>
                <a:latin typeface="Times New Roman"/>
              </a:rPr>
              <a:t> = (1, 0, 0,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8458200" y="4876920"/>
            <a:ext cx="380880" cy="380880"/>
            <a:chOff x="8458200" y="4876920"/>
            <a:chExt cx="380880" cy="380880"/>
          </a:xfrm>
        </p:grpSpPr>
        <p:sp>
          <p:nvSpPr>
            <p:cNvPr id="718" name=""/>
            <p:cNvSpPr/>
            <p:nvPr/>
          </p:nvSpPr>
          <p:spPr>
            <a:xfrm>
              <a:off x="8458200" y="487692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8458200" y="487692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934320" y="4876920"/>
            <a:ext cx="380880" cy="380880"/>
            <a:chOff x="6934320" y="4876920"/>
            <a:chExt cx="380880" cy="380880"/>
          </a:xfrm>
        </p:grpSpPr>
        <p:sp>
          <p:nvSpPr>
            <p:cNvPr id="721" name=""/>
            <p:cNvSpPr/>
            <p:nvPr/>
          </p:nvSpPr>
          <p:spPr>
            <a:xfrm>
              <a:off x="6934320" y="487692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6934320" y="487692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1935360" y="4624560"/>
            <a:ext cx="2636640" cy="1438920"/>
            <a:chOff x="1935360" y="4624560"/>
            <a:chExt cx="2636640" cy="1438920"/>
          </a:xfrm>
        </p:grpSpPr>
        <p:sp>
          <p:nvSpPr>
            <p:cNvPr id="724" name=""/>
            <p:cNvSpPr/>
            <p:nvPr/>
          </p:nvSpPr>
          <p:spPr>
            <a:xfrm flipH="1">
              <a:off x="4038480" y="5081760"/>
              <a:ext cx="533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35360" y="4624560"/>
              <a:ext cx="2404440" cy="143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  1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+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2000"/>
              </a:b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         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9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int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578640" y="4616280"/>
            <a:ext cx="2470320" cy="1438920"/>
            <a:chOff x="6578640" y="4616280"/>
            <a:chExt cx="2470320" cy="1438920"/>
          </a:xfrm>
        </p:grpSpPr>
        <p:sp>
          <p:nvSpPr>
            <p:cNvPr id="727" name=""/>
            <p:cNvSpPr/>
            <p:nvPr/>
          </p:nvSpPr>
          <p:spPr>
            <a:xfrm flipH="1">
              <a:off x="6578640" y="5073480"/>
              <a:ext cx="533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44960" y="4616280"/>
              <a:ext cx="2304000" cy="143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 1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+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2000"/>
              </a:b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      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9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        int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7162920" y="39625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876920" y="39625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42640" y="3733920"/>
            <a:ext cx="108432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2209680" y="2152080"/>
            <a:ext cx="2075400" cy="1027800"/>
            <a:chOff x="2209680" y="2152080"/>
            <a:chExt cx="2075400" cy="1027800"/>
          </a:xfrm>
        </p:grpSpPr>
        <p:sp>
          <p:nvSpPr>
            <p:cNvPr id="735" name=""/>
            <p:cNvSpPr/>
            <p:nvPr/>
          </p:nvSpPr>
          <p:spPr>
            <a:xfrm>
              <a:off x="2209680" y="280044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6" name=""/>
            <p:cNvCxnSpPr>
              <a:stCxn id="735" idx="7"/>
              <a:endCxn id="733" idx="3"/>
            </p:cNvCxnSpPr>
            <p:nvPr/>
          </p:nvCxnSpPr>
          <p:spPr>
            <a:xfrm flipV="1">
              <a:off x="2806560" y="2152080"/>
              <a:ext cx="147888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37" name=""/>
          <p:cNvGrpSpPr/>
          <p:nvPr/>
        </p:nvGrpSpPr>
        <p:grpSpPr>
          <a:xfrm>
            <a:off x="4777920" y="2152080"/>
            <a:ext cx="2232360" cy="1026000"/>
            <a:chOff x="4777920" y="2152080"/>
            <a:chExt cx="2232360" cy="1026000"/>
          </a:xfrm>
        </p:grpSpPr>
        <p:sp>
          <p:nvSpPr>
            <p:cNvPr id="738" name=""/>
            <p:cNvSpPr/>
            <p:nvPr/>
          </p:nvSpPr>
          <p:spPr>
            <a:xfrm>
              <a:off x="6310440" y="279864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9" name=""/>
            <p:cNvCxnSpPr>
              <a:stCxn id="738" idx="1"/>
            </p:cNvCxnSpPr>
            <p:nvPr/>
          </p:nvCxnSpPr>
          <p:spPr>
            <a:xfrm flipH="1" flipV="1">
              <a:off x="4777920" y="2152080"/>
              <a:ext cx="1635840" cy="70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40" name=""/>
          <p:cNvSpPr/>
          <p:nvPr/>
        </p:nvSpPr>
        <p:spPr>
          <a:xfrm>
            <a:off x="2996640" y="2286000"/>
            <a:ext cx="3015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67080" y="17175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8740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3" name=""/>
          <p:cNvCxnSpPr>
            <a:stCxn id="742" idx="3"/>
            <a:endCxn id="735" idx="2"/>
          </p:cNvCxnSpPr>
          <p:nvPr/>
        </p:nvCxnSpPr>
        <p:spPr>
          <a:xfrm flipV="1">
            <a:off x="1905120" y="2990520"/>
            <a:ext cx="305280" cy="72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732312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1"/>
            <a:endCxn id="738" idx="6"/>
          </p:cNvCxnSpPr>
          <p:nvPr/>
        </p:nvCxnSpPr>
        <p:spPr>
          <a:xfrm flipH="1" flipV="1">
            <a:off x="7009560" y="2989080"/>
            <a:ext cx="305640" cy="86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grpSp>
        <p:nvGrpSpPr>
          <p:cNvPr id="746" name=""/>
          <p:cNvGrpSpPr/>
          <p:nvPr/>
        </p:nvGrpSpPr>
        <p:grpSpPr>
          <a:xfrm>
            <a:off x="5167440" y="3122640"/>
            <a:ext cx="1245960" cy="1028520"/>
            <a:chOff x="5167440" y="3122640"/>
            <a:chExt cx="1245960" cy="1028520"/>
          </a:xfrm>
        </p:grpSpPr>
        <p:sp>
          <p:nvSpPr>
            <p:cNvPr id="747" name=""/>
            <p:cNvSpPr/>
            <p:nvPr/>
          </p:nvSpPr>
          <p:spPr>
            <a:xfrm>
              <a:off x="5167440" y="3772080"/>
              <a:ext cx="699840" cy="3790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8" name=""/>
            <p:cNvCxnSpPr>
              <a:stCxn id="747" idx="7"/>
              <a:endCxn id="738" idx="3"/>
            </p:cNvCxnSpPr>
            <p:nvPr/>
          </p:nvCxnSpPr>
          <p:spPr>
            <a:xfrm flipV="1">
              <a:off x="5763960" y="3122640"/>
              <a:ext cx="649800" cy="70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49" name=""/>
          <p:cNvGrpSpPr/>
          <p:nvPr/>
        </p:nvGrpSpPr>
        <p:grpSpPr>
          <a:xfrm>
            <a:off x="6906600" y="3121920"/>
            <a:ext cx="1261080" cy="1027800"/>
            <a:chOff x="6906600" y="3121920"/>
            <a:chExt cx="1261080" cy="1027800"/>
          </a:xfrm>
        </p:grpSpPr>
        <p:sp>
          <p:nvSpPr>
            <p:cNvPr id="750" name=""/>
            <p:cNvSpPr/>
            <p:nvPr/>
          </p:nvSpPr>
          <p:spPr>
            <a:xfrm>
              <a:off x="7467480" y="377028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1" name=""/>
            <p:cNvCxnSpPr>
              <a:stCxn id="750" idx="1"/>
              <a:endCxn id="738" idx="5"/>
            </p:cNvCxnSpPr>
            <p:nvPr/>
          </p:nvCxnSpPr>
          <p:spPr>
            <a:xfrm flipH="1" flipV="1">
              <a:off x="6906600" y="3121920"/>
              <a:ext cx="66420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52" name=""/>
          <p:cNvSpPr/>
          <p:nvPr/>
        </p:nvSpPr>
        <p:spPr>
          <a:xfrm>
            <a:off x="5358600" y="3257640"/>
            <a:ext cx="2787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149160" y="3733920"/>
            <a:ext cx="108432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63040" y="1720800"/>
            <a:ext cx="16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(1,0,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7620120" y="3765600"/>
            <a:ext cx="380880" cy="380880"/>
            <a:chOff x="7620120" y="3765600"/>
            <a:chExt cx="380880" cy="380880"/>
          </a:xfrm>
        </p:grpSpPr>
        <p:sp>
          <p:nvSpPr>
            <p:cNvPr id="756" name=""/>
            <p:cNvSpPr/>
            <p:nvPr/>
          </p:nvSpPr>
          <p:spPr>
            <a:xfrm>
              <a:off x="7620120" y="376560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620120" y="376560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452840" y="4093920"/>
            <a:ext cx="803160" cy="1163880"/>
            <a:chOff x="4452840" y="4093920"/>
            <a:chExt cx="803160" cy="1163880"/>
          </a:xfrm>
        </p:grpSpPr>
        <p:sp>
          <p:nvSpPr>
            <p:cNvPr id="759" name=""/>
            <p:cNvSpPr/>
            <p:nvPr/>
          </p:nvSpPr>
          <p:spPr>
            <a:xfrm>
              <a:off x="4452840" y="487836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0" name=""/>
            <p:cNvCxnSpPr>
              <a:stCxn id="759" idx="7"/>
            </p:cNvCxnSpPr>
            <p:nvPr/>
          </p:nvCxnSpPr>
          <p:spPr>
            <a:xfrm flipV="1">
              <a:off x="5049360" y="4093920"/>
              <a:ext cx="207000" cy="84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61" name=""/>
          <p:cNvGrpSpPr/>
          <p:nvPr/>
        </p:nvGrpSpPr>
        <p:grpSpPr>
          <a:xfrm>
            <a:off x="5749200" y="4093920"/>
            <a:ext cx="927360" cy="1162440"/>
            <a:chOff x="5749200" y="4093920"/>
            <a:chExt cx="927360" cy="1162440"/>
          </a:xfrm>
        </p:grpSpPr>
        <p:sp>
          <p:nvSpPr>
            <p:cNvPr id="762" name=""/>
            <p:cNvSpPr/>
            <p:nvPr/>
          </p:nvSpPr>
          <p:spPr>
            <a:xfrm>
              <a:off x="5976720" y="487692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3" name=""/>
            <p:cNvCxnSpPr>
              <a:stCxn id="762" idx="1"/>
            </p:cNvCxnSpPr>
            <p:nvPr/>
          </p:nvCxnSpPr>
          <p:spPr>
            <a:xfrm flipH="1" flipV="1">
              <a:off x="5749200" y="4093920"/>
              <a:ext cx="33084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4467960" y="5410080"/>
            <a:ext cx="2390040" cy="787320"/>
            <a:chOff x="4467960" y="5410080"/>
            <a:chExt cx="2390040" cy="787320"/>
          </a:xfrm>
        </p:grpSpPr>
        <p:sp>
          <p:nvSpPr>
            <p:cNvPr id="765" name=""/>
            <p:cNvSpPr/>
            <p:nvPr/>
          </p:nvSpPr>
          <p:spPr>
            <a:xfrm>
              <a:off x="6608520" y="5562720"/>
              <a:ext cx="2494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67960" y="5410080"/>
              <a:ext cx="220140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cc99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00cc99"/>
                  </a:solidFill>
                  <a:latin typeface="Times New Roman"/>
                </a:rPr>
                <a:t>101</a:t>
              </a:r>
              <a:r>
                <a:rPr b="0" lang="it-IT" sz="2000" spc="-1" strike="noStrike">
                  <a:solidFill>
                    <a:srgbClr val="00cc99"/>
                  </a:solidFill>
                  <a:latin typeface="Times New Roman"/>
                </a:rPr>
                <a:t>*</a:t>
              </a:r>
              <a:r>
                <a:rPr b="0" lang="it-IT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= (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, 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i="1" lang="it-IT" sz="2000" spc="-1" strike="noStrike">
                  <a:solidFill>
                    <a:srgbClr val="00cc99"/>
                  </a:solidFill>
                  <a:latin typeface="Times New Roman"/>
                </a:rPr>
                <a:t>z</a:t>
              </a:r>
              <a:r>
                <a:rPr b="0" lang="it-IT" sz="2000" spc="-1" strike="noStrike" baseline="-25000">
                  <a:solidFill>
                    <a:srgbClr val="00cc99"/>
                  </a:solidFill>
                  <a:latin typeface="Times New Roman"/>
                </a:rPr>
                <a:t>101</a:t>
              </a:r>
              <a:r>
                <a:rPr b="0" lang="it-IT" sz="2000" spc="-1" strike="noStrike">
                  <a:solidFill>
                    <a:srgbClr val="00cc99"/>
                  </a:solidFill>
                  <a:latin typeface="Times New Roman"/>
                </a:rPr>
                <a:t>*  =  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1935360" y="4624560"/>
            <a:ext cx="2636640" cy="1438920"/>
            <a:chOff x="1935360" y="4624560"/>
            <a:chExt cx="2636640" cy="1438920"/>
          </a:xfrm>
        </p:grpSpPr>
        <p:sp>
          <p:nvSpPr>
            <p:cNvPr id="768" name=""/>
            <p:cNvSpPr/>
            <p:nvPr/>
          </p:nvSpPr>
          <p:spPr>
            <a:xfrm flipH="1">
              <a:off x="4038480" y="5081760"/>
              <a:ext cx="533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35360" y="4624560"/>
              <a:ext cx="2404440" cy="143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  1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+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2000"/>
              </a:b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         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9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·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+ 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int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6629400" y="4616280"/>
            <a:ext cx="2090520" cy="1438920"/>
            <a:chOff x="6629400" y="4616280"/>
            <a:chExt cx="2090520" cy="1438920"/>
          </a:xfrm>
        </p:grpSpPr>
        <p:sp>
          <p:nvSpPr>
            <p:cNvPr id="771" name=""/>
            <p:cNvSpPr/>
            <p:nvPr/>
          </p:nvSpPr>
          <p:spPr>
            <a:xfrm flipH="1">
              <a:off x="6629400" y="5073480"/>
              <a:ext cx="533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85280" y="4616280"/>
              <a:ext cx="1934640" cy="143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max  19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+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2000"/>
              </a:b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         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11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 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0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i="1" lang="it-IT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lang="it-IT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it-IT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&lt;</a:t>
              </a: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1</a:t>
              </a:r>
              <a:br>
                <a:rPr sz="2000"/>
              </a:br>
              <a:r>
                <a:rPr b="0" lang="it-IT" sz="2000" spc="-1" strike="noStrike">
                  <a:solidFill>
                    <a:srgbClr val="3333cc"/>
                  </a:solidFill>
                  <a:latin typeface="Times New Roman"/>
                </a:rPr>
                <a:t>             int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7162920" y="39625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76920" y="39625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42640" y="3733920"/>
            <a:ext cx="108432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81400" y="1828800"/>
            <a:ext cx="700200" cy="3794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209680" y="2152080"/>
            <a:ext cx="2075400" cy="1027800"/>
            <a:chOff x="2209680" y="2152080"/>
            <a:chExt cx="2075400" cy="1027800"/>
          </a:xfrm>
        </p:grpSpPr>
        <p:sp>
          <p:nvSpPr>
            <p:cNvPr id="779" name=""/>
            <p:cNvSpPr/>
            <p:nvPr/>
          </p:nvSpPr>
          <p:spPr>
            <a:xfrm>
              <a:off x="2209680" y="280044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0" name=""/>
            <p:cNvCxnSpPr>
              <a:stCxn id="779" idx="7"/>
              <a:endCxn id="777" idx="3"/>
            </p:cNvCxnSpPr>
            <p:nvPr/>
          </p:nvCxnSpPr>
          <p:spPr>
            <a:xfrm flipV="1">
              <a:off x="2806560" y="2152080"/>
              <a:ext cx="147888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81" name=""/>
          <p:cNvGrpSpPr/>
          <p:nvPr/>
        </p:nvGrpSpPr>
        <p:grpSpPr>
          <a:xfrm>
            <a:off x="4777920" y="2152080"/>
            <a:ext cx="2232360" cy="1026000"/>
            <a:chOff x="4777920" y="2152080"/>
            <a:chExt cx="2232360" cy="1026000"/>
          </a:xfrm>
        </p:grpSpPr>
        <p:sp>
          <p:nvSpPr>
            <p:cNvPr id="782" name=""/>
            <p:cNvSpPr/>
            <p:nvPr/>
          </p:nvSpPr>
          <p:spPr>
            <a:xfrm>
              <a:off x="6310440" y="279864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3" name=""/>
            <p:cNvCxnSpPr>
              <a:stCxn id="782" idx="1"/>
            </p:cNvCxnSpPr>
            <p:nvPr/>
          </p:nvCxnSpPr>
          <p:spPr>
            <a:xfrm flipH="1" flipV="1">
              <a:off x="4777920" y="2152080"/>
              <a:ext cx="1635840" cy="70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84" name=""/>
          <p:cNvSpPr/>
          <p:nvPr/>
        </p:nvSpPr>
        <p:spPr>
          <a:xfrm>
            <a:off x="2996640" y="2286000"/>
            <a:ext cx="3015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167080" y="17175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8740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7" name=""/>
          <p:cNvCxnSpPr>
            <a:stCxn id="786" idx="3"/>
            <a:endCxn id="779" idx="2"/>
          </p:cNvCxnSpPr>
          <p:nvPr/>
        </p:nvCxnSpPr>
        <p:spPr>
          <a:xfrm flipV="1">
            <a:off x="1905120" y="2990520"/>
            <a:ext cx="305280" cy="72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788" name=""/>
          <p:cNvSpPr/>
          <p:nvPr/>
        </p:nvSpPr>
        <p:spPr>
          <a:xfrm>
            <a:off x="7323120" y="2793960"/>
            <a:ext cx="100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stCxn id="788" idx="1"/>
            <a:endCxn id="782" idx="6"/>
          </p:cNvCxnSpPr>
          <p:nvPr/>
        </p:nvCxnSpPr>
        <p:spPr>
          <a:xfrm flipH="1" flipV="1">
            <a:off x="7009560" y="2989080"/>
            <a:ext cx="305640" cy="86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5167440" y="3122640"/>
            <a:ext cx="1245960" cy="1028520"/>
            <a:chOff x="5167440" y="3122640"/>
            <a:chExt cx="1245960" cy="1028520"/>
          </a:xfrm>
        </p:grpSpPr>
        <p:sp>
          <p:nvSpPr>
            <p:cNvPr id="791" name=""/>
            <p:cNvSpPr/>
            <p:nvPr/>
          </p:nvSpPr>
          <p:spPr>
            <a:xfrm>
              <a:off x="5167440" y="3772080"/>
              <a:ext cx="699840" cy="3790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2" name=""/>
            <p:cNvCxnSpPr>
              <a:stCxn id="791" idx="7"/>
              <a:endCxn id="782" idx="3"/>
            </p:cNvCxnSpPr>
            <p:nvPr/>
          </p:nvCxnSpPr>
          <p:spPr>
            <a:xfrm flipV="1">
              <a:off x="5763960" y="3122640"/>
              <a:ext cx="649800" cy="70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93" name=""/>
          <p:cNvGrpSpPr/>
          <p:nvPr/>
        </p:nvGrpSpPr>
        <p:grpSpPr>
          <a:xfrm>
            <a:off x="6906600" y="3121920"/>
            <a:ext cx="1261080" cy="1027800"/>
            <a:chOff x="6906600" y="3121920"/>
            <a:chExt cx="1261080" cy="1027800"/>
          </a:xfrm>
        </p:grpSpPr>
        <p:sp>
          <p:nvSpPr>
            <p:cNvPr id="794" name=""/>
            <p:cNvSpPr/>
            <p:nvPr/>
          </p:nvSpPr>
          <p:spPr>
            <a:xfrm>
              <a:off x="7467480" y="3770280"/>
              <a:ext cx="70020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5" name=""/>
            <p:cNvCxnSpPr>
              <a:stCxn id="794" idx="1"/>
              <a:endCxn id="782" idx="5"/>
            </p:cNvCxnSpPr>
            <p:nvPr/>
          </p:nvCxnSpPr>
          <p:spPr>
            <a:xfrm flipH="1" flipV="1">
              <a:off x="6906600" y="3121920"/>
              <a:ext cx="664200" cy="70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96" name=""/>
          <p:cNvSpPr/>
          <p:nvPr/>
        </p:nvSpPr>
        <p:spPr>
          <a:xfrm>
            <a:off x="5358600" y="3257640"/>
            <a:ext cx="2787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49160" y="3733920"/>
            <a:ext cx="108432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 = 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63040" y="1720800"/>
            <a:ext cx="16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 = (1,0,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7620120" y="3765600"/>
            <a:ext cx="380880" cy="380880"/>
            <a:chOff x="7620120" y="3765600"/>
            <a:chExt cx="380880" cy="380880"/>
          </a:xfrm>
        </p:grpSpPr>
        <p:sp>
          <p:nvSpPr>
            <p:cNvPr id="800" name=""/>
            <p:cNvSpPr/>
            <p:nvPr/>
          </p:nvSpPr>
          <p:spPr>
            <a:xfrm>
              <a:off x="7620120" y="376560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620120" y="376560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4452840" y="4093920"/>
            <a:ext cx="803160" cy="1163880"/>
            <a:chOff x="4452840" y="4093920"/>
            <a:chExt cx="803160" cy="1163880"/>
          </a:xfrm>
        </p:grpSpPr>
        <p:sp>
          <p:nvSpPr>
            <p:cNvPr id="803" name=""/>
            <p:cNvSpPr/>
            <p:nvPr/>
          </p:nvSpPr>
          <p:spPr>
            <a:xfrm>
              <a:off x="4452840" y="487836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4" name=""/>
            <p:cNvCxnSpPr>
              <a:stCxn id="803" idx="7"/>
            </p:cNvCxnSpPr>
            <p:nvPr/>
          </p:nvCxnSpPr>
          <p:spPr>
            <a:xfrm flipV="1">
              <a:off x="5049360" y="4093920"/>
              <a:ext cx="207000" cy="84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805" name=""/>
          <p:cNvGrpSpPr/>
          <p:nvPr/>
        </p:nvGrpSpPr>
        <p:grpSpPr>
          <a:xfrm>
            <a:off x="5749200" y="4093920"/>
            <a:ext cx="927360" cy="1162440"/>
            <a:chOff x="5749200" y="4093920"/>
            <a:chExt cx="927360" cy="1162440"/>
          </a:xfrm>
        </p:grpSpPr>
        <p:sp>
          <p:nvSpPr>
            <p:cNvPr id="806" name=""/>
            <p:cNvSpPr/>
            <p:nvPr/>
          </p:nvSpPr>
          <p:spPr>
            <a:xfrm>
              <a:off x="5976720" y="4876920"/>
              <a:ext cx="69984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7" name=""/>
            <p:cNvCxnSpPr>
              <a:stCxn id="806" idx="1"/>
            </p:cNvCxnSpPr>
            <p:nvPr/>
          </p:nvCxnSpPr>
          <p:spPr>
            <a:xfrm flipH="1" flipV="1">
              <a:off x="5749200" y="4093920"/>
              <a:ext cx="33084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808" name=""/>
          <p:cNvSpPr/>
          <p:nvPr/>
        </p:nvSpPr>
        <p:spPr>
          <a:xfrm>
            <a:off x="3993120" y="615636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feriore all’ottimo corrent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6095880" y="4876920"/>
            <a:ext cx="380880" cy="380880"/>
            <a:chOff x="6095880" y="4876920"/>
            <a:chExt cx="380880" cy="380880"/>
          </a:xfrm>
        </p:grpSpPr>
        <p:sp>
          <p:nvSpPr>
            <p:cNvPr id="810" name=""/>
            <p:cNvSpPr/>
            <p:nvPr/>
          </p:nvSpPr>
          <p:spPr>
            <a:xfrm>
              <a:off x="6095880" y="487692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095880" y="4876920"/>
              <a:ext cx="3808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 problema dello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zai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{1, …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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ssociamo una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variabile di decis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{0, 1} a ogni element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con il seguente significa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 s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iene messo nello za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 altr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quindi il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vettore caratteristic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’insieme soluzion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oblema si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1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er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, …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 problema della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liqu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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una clique}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 =  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ssociamo una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variabile di decis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{0, 1} a ogni vertic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con il seguente significa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 s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iene messo nella c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 altr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quindi il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vettore caratteristic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a clique cercat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oblema si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1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er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 problema dell’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dge-cove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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un edge cover}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 =  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ssociamo una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variabile di decis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{0, 1} a ogni arc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con il seguente significa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 s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iene messo nell’edge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0 altr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oblema si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1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er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981080" y="3835440"/>
            <a:ext cx="1828800" cy="838080"/>
            <a:chOff x="1981080" y="3835440"/>
            <a:chExt cx="1828800" cy="838080"/>
          </a:xfrm>
        </p:grpSpPr>
        <p:sp>
          <p:nvSpPr>
            <p:cNvPr id="68" name=""/>
            <p:cNvSpPr/>
            <p:nvPr/>
          </p:nvSpPr>
          <p:spPr>
            <a:xfrm>
              <a:off x="1981080" y="3835440"/>
              <a:ext cx="1828800" cy="838080"/>
            </a:xfrm>
            <a:custGeom>
              <a:avLst/>
              <a:gdLst/>
              <a:ahLst/>
              <a:rect l="l" t="t" r="r" b="b"/>
              <a:pathLst>
                <a:path w="1152" h="528">
                  <a:moveTo>
                    <a:pt x="1152" y="528"/>
                  </a:moveTo>
                  <a:lnTo>
                    <a:pt x="0" y="0"/>
                  </a:lnTo>
                  <a:lnTo>
                    <a:pt x="1152" y="96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38640" y="4038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130720" y="2971800"/>
            <a:ext cx="2057400" cy="1676520"/>
            <a:chOff x="5130720" y="2971800"/>
            <a:chExt cx="2057400" cy="1676520"/>
          </a:xfrm>
        </p:grpSpPr>
        <p:sp>
          <p:nvSpPr>
            <p:cNvPr id="71" name=""/>
            <p:cNvSpPr/>
            <p:nvPr/>
          </p:nvSpPr>
          <p:spPr>
            <a:xfrm>
              <a:off x="5130720" y="2971800"/>
              <a:ext cx="2057400" cy="167652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528" y="0"/>
                  </a:moveTo>
                  <a:lnTo>
                    <a:pt x="0" y="336"/>
                  </a:lnTo>
                  <a:lnTo>
                    <a:pt x="240" y="912"/>
                  </a:lnTo>
                  <a:lnTo>
                    <a:pt x="1104" y="1056"/>
                  </a:lnTo>
                  <a:lnTo>
                    <a:pt x="1296" y="624"/>
                  </a:lnTo>
                  <a:lnTo>
                    <a:pt x="1200" y="144"/>
                  </a:lnTo>
                  <a:lnTo>
                    <a:pt x="528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53040" y="3573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Relazioni tra PL e P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generale, un algoritmo in grado di risolvere un problema di Programmazione Lineare – come il Simplesso –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on è in grado di garanti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he la soluzione trovata soddisfi le clausole di inter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4280" y="4924440"/>
            <a:ext cx="76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é d’altronde è corretto ritenere che una soluzione ottim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era possa ricavarsi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arrotondand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le componenti della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luzione fornita dal Simplesso: a volte nessun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rrotondamento è ammiss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219640" y="2844720"/>
            <a:ext cx="1905120" cy="1905120"/>
            <a:chOff x="5219640" y="2844720"/>
            <a:chExt cx="1905120" cy="1905120"/>
          </a:xfrm>
        </p:grpSpPr>
        <p:grpSp>
          <p:nvGrpSpPr>
            <p:cNvPr id="77" name=""/>
            <p:cNvGrpSpPr/>
            <p:nvPr/>
          </p:nvGrpSpPr>
          <p:grpSpPr>
            <a:xfrm>
              <a:off x="5371920" y="2844720"/>
              <a:ext cx="1524240" cy="1905120"/>
              <a:chOff x="5371920" y="2844720"/>
              <a:chExt cx="1524240" cy="1905120"/>
            </a:xfrm>
          </p:grpSpPr>
          <p:sp>
            <p:nvSpPr>
              <p:cNvPr id="78" name=""/>
              <p:cNvSpPr/>
              <p:nvPr/>
            </p:nvSpPr>
            <p:spPr>
              <a:xfrm flipV="1">
                <a:off x="5371920" y="2844720"/>
                <a:ext cx="0" cy="190512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5753160" y="2844720"/>
                <a:ext cx="0" cy="190512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6134040" y="2844720"/>
                <a:ext cx="0" cy="190512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6514920" y="2844720"/>
                <a:ext cx="0" cy="190512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896160" y="2844720"/>
                <a:ext cx="0" cy="190512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5219640" y="2997000"/>
              <a:ext cx="1905120" cy="1523880"/>
              <a:chOff x="5219640" y="2997000"/>
              <a:chExt cx="1905120" cy="152388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5219640" y="4520880"/>
                <a:ext cx="1905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5219640" y="4140000"/>
                <a:ext cx="1905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5219640" y="3759120"/>
                <a:ext cx="1905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5219640" y="3378240"/>
                <a:ext cx="1905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5219640" y="2997000"/>
                <a:ext cx="1905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1293840" y="3428640"/>
            <a:ext cx="1906560" cy="1244520"/>
            <a:chOff x="1293840" y="3428640"/>
            <a:chExt cx="1906560" cy="1244520"/>
          </a:xfrm>
        </p:grpSpPr>
        <p:grpSp>
          <p:nvGrpSpPr>
            <p:cNvPr id="90" name=""/>
            <p:cNvGrpSpPr/>
            <p:nvPr/>
          </p:nvGrpSpPr>
          <p:grpSpPr>
            <a:xfrm>
              <a:off x="1447920" y="3428640"/>
              <a:ext cx="1523880" cy="1244520"/>
              <a:chOff x="1447920" y="3428640"/>
              <a:chExt cx="1523880" cy="124452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1447920" y="3428640"/>
                <a:ext cx="0" cy="124452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1828800" y="3428640"/>
                <a:ext cx="0" cy="124452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209680" y="3428640"/>
                <a:ext cx="0" cy="124452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2590560" y="3428640"/>
                <a:ext cx="0" cy="124452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2971800" y="3428640"/>
                <a:ext cx="0" cy="124452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H="1">
              <a:off x="1293840" y="4443480"/>
              <a:ext cx="19051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293840" y="4062240"/>
              <a:ext cx="19051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295280" y="3683160"/>
              <a:ext cx="19051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778040" y="3638520"/>
            <a:ext cx="1244520" cy="463680"/>
            <a:chOff x="1778040" y="3638520"/>
            <a:chExt cx="1244520" cy="463680"/>
          </a:xfrm>
        </p:grpSpPr>
        <p:sp>
          <p:nvSpPr>
            <p:cNvPr id="100" name=""/>
            <p:cNvSpPr/>
            <p:nvPr/>
          </p:nvSpPr>
          <p:spPr>
            <a:xfrm>
              <a:off x="1943280" y="37972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1880" y="401940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78040" y="402588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1880" y="363852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78040" y="3645000"/>
              <a:ext cx="7632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52760" y="4025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46240" y="40194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118120" y="2933640"/>
            <a:ext cx="2120760" cy="1752840"/>
            <a:chOff x="5118120" y="2933640"/>
            <a:chExt cx="2120760" cy="1752840"/>
          </a:xfrm>
        </p:grpSpPr>
        <p:sp>
          <p:nvSpPr>
            <p:cNvPr id="108" name=""/>
            <p:cNvSpPr/>
            <p:nvPr/>
          </p:nvSpPr>
          <p:spPr>
            <a:xfrm>
              <a:off x="5473800" y="436896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18120" y="346716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31000" y="2933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10280" y="31622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62920" y="391176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45400" y="46101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02400" y="334656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5880" y="33526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77120" y="334656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0600" y="33526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77120" y="372096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70600" y="372744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7120" y="409572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70600" y="410220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77120" y="44830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70600" y="44766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5880" y="4483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02400" y="410832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5880" y="410220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02400" y="372744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5880" y="37339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4120" y="37339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46720" y="33526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5880" y="295920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Relazioni tra PL e P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2676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8280" indent="-278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uttavia se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liminiamo un vincol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a un problema </a:t>
            </a: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tra la regione ammissibile </a:t>
            </a: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quella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R’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 problema ottenuto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P’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le la relazione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R’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cc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indi: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x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ff0000"/>
                </a:solidFill>
                <a:latin typeface="Times New Roman"/>
              </a:rPr>
              <a:t>R’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)  </a:t>
            </a:r>
            <a:r>
              <a:rPr b="0" lang="it-IT" sz="2400" spc="-1" strike="noStrike" u="sng">
                <a:solidFill>
                  <a:srgbClr val="3333cc"/>
                </a:solidFill>
                <a:uFillTx/>
                <a:latin typeface="Times New Roman"/>
              </a:rPr>
              <a:t>&gt;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max</a:t>
            </a:r>
            <a:r>
              <a:rPr b="1" lang="it-IT" sz="2400" spc="-1" strike="noStrike" baseline="-25000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cc99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cc99"/>
                </a:solidFill>
                <a:latin typeface="Times New Roman"/>
              </a:rPr>
              <a:t>R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851360"/>
            <a:ext cx="84582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ò vale in particolare per il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rilassamento linea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 un problema di PLI (= il PL che si ottiene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liminando le clausole d’interezz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indi il valore ottimo ottenuto col Simplesso fornisce una </a:t>
            </a:r>
            <a:br>
              <a:rPr sz="2400"/>
            </a:b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ggior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ll’ottimo cerc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844720" y="3262320"/>
            <a:ext cx="3174840" cy="1556640"/>
            <a:chOff x="2844720" y="3262320"/>
            <a:chExt cx="3174840" cy="1556640"/>
          </a:xfrm>
        </p:grpSpPr>
        <p:sp>
          <p:nvSpPr>
            <p:cNvPr id="136" name=""/>
            <p:cNvSpPr/>
            <p:nvPr/>
          </p:nvSpPr>
          <p:spPr>
            <a:xfrm>
              <a:off x="2857320" y="4448160"/>
              <a:ext cx="31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44720" y="3262320"/>
              <a:ext cx="2971800" cy="1059120"/>
            </a:xfrm>
            <a:custGeom>
              <a:avLst/>
              <a:gdLst/>
              <a:ahLst/>
              <a:rect l="l" t="t" r="r" b="b"/>
              <a:pathLst>
                <a:path w="1872" h="667">
                  <a:moveTo>
                    <a:pt x="0" y="363"/>
                  </a:moveTo>
                  <a:cubicBezTo>
                    <a:pt x="156" y="445"/>
                    <a:pt x="312" y="527"/>
                    <a:pt x="424" y="531"/>
                  </a:cubicBezTo>
                  <a:cubicBezTo>
                    <a:pt x="536" y="535"/>
                    <a:pt x="603" y="419"/>
                    <a:pt x="672" y="387"/>
                  </a:cubicBezTo>
                  <a:cubicBezTo>
                    <a:pt x="741" y="355"/>
                    <a:pt x="785" y="300"/>
                    <a:pt x="840" y="339"/>
                  </a:cubicBezTo>
                  <a:cubicBezTo>
                    <a:pt x="895" y="378"/>
                    <a:pt x="943" y="604"/>
                    <a:pt x="1000" y="619"/>
                  </a:cubicBezTo>
                  <a:cubicBezTo>
                    <a:pt x="1057" y="634"/>
                    <a:pt x="1108" y="428"/>
                    <a:pt x="1184" y="427"/>
                  </a:cubicBezTo>
                  <a:cubicBezTo>
                    <a:pt x="1260" y="426"/>
                    <a:pt x="1381" y="667"/>
                    <a:pt x="1456" y="611"/>
                  </a:cubicBezTo>
                  <a:cubicBezTo>
                    <a:pt x="1531" y="555"/>
                    <a:pt x="1563" y="182"/>
                    <a:pt x="1632" y="91"/>
                  </a:cubicBezTo>
                  <a:cubicBezTo>
                    <a:pt x="1701" y="0"/>
                    <a:pt x="1786" y="33"/>
                    <a:pt x="1872" y="67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11240" y="43592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365640" y="3589200"/>
            <a:ext cx="1549440" cy="942480"/>
            <a:chOff x="3365640" y="3589200"/>
            <a:chExt cx="1549440" cy="942480"/>
          </a:xfrm>
        </p:grpSpPr>
        <p:sp>
          <p:nvSpPr>
            <p:cNvPr id="140" name=""/>
            <p:cNvSpPr/>
            <p:nvPr/>
          </p:nvSpPr>
          <p:spPr>
            <a:xfrm>
              <a:off x="3365640" y="4449600"/>
              <a:ext cx="154944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15160" y="3789360"/>
              <a:ext cx="0" cy="635040"/>
            </a:xfrm>
            <a:prstGeom prst="line">
              <a:avLst/>
            </a:prstGeom>
            <a:ln w="9360">
              <a:solidFill>
                <a:srgbClr val="00cc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48480" y="358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cc99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77000" y="441144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14960" y="40719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365640" y="3152880"/>
            <a:ext cx="2385720" cy="1374120"/>
            <a:chOff x="3365640" y="3152880"/>
            <a:chExt cx="2385720" cy="1374120"/>
          </a:xfrm>
        </p:grpSpPr>
        <p:sp>
          <p:nvSpPr>
            <p:cNvPr id="146" name=""/>
            <p:cNvSpPr/>
            <p:nvPr/>
          </p:nvSpPr>
          <p:spPr>
            <a:xfrm>
              <a:off x="3365640" y="4444920"/>
              <a:ext cx="2311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85040" y="3352680"/>
              <a:ext cx="0" cy="106704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8360" y="3152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50120" y="440676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14600" y="40672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R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numerazione implic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unque, in un problema di massimo (minimo) il Simplesso fornisce un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limite superio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nferio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al valore ottimo del problem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li limiti (in inglese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ound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possono essere utilizzati all’interno di uno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chema di enumer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condo tale schema, il problema originario viene scomposto in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ottoproblem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 modo 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iascun sottoproblema abbia la medesima funzione obiettivo d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regione ammiss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ia l’unione delle regioni ammissibil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i sottoproble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1, …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nza dubbio, l’ottim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 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uno tra gli ottim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 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udio Arbib</cp:lastModifiedBy>
  <dcterms:modified xsi:type="dcterms:W3CDTF">2002-03-12T17:52:09Z</dcterms:modified>
  <cp:revision>215</cp:revision>
  <dc:subject/>
  <dc:title>PowerPoint Presentation</dc:title>
</cp:coreProperties>
</file>