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23BC-E6B4-4283-9CCE-19C7BEC2904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’ la descrizione matematica per il modello analogico nel caso di pesi negat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o risultato è una buona caratterizzazione del problema di determinare se un in grafo con pesi sugli archi esiste un ciclo di lunghezza neg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8A95-0148-4397-91B8-0C20873E2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5314-B09E-42BC-BA39-2C91E0B1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ED9E-8D7E-49E0-8D5C-585DEBF40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12B4-E9EF-4332-8E31-AF647B2C6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FA74-92D8-404E-8257-3CE7EEF2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3C54-88A0-4540-B02D-035AC7E8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7657-F2A7-4615-A19C-402A12D0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D75B-B8A2-42B5-B5E7-9E534DB3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3CEB-81BF-4C34-B073-16780851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0B3A-1D90-4149-99AE-4B9E727F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5626-33B8-412A-9BB5-42D72B1A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9E8A-0863-4F43-8F0D-A5D5EDB2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E1C9-DD35-4CC1-AA0D-9CEF945B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16BE-283B-4A42-9788-61FFE4A9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81D7-2B8B-4841-B1A4-BCEDDFE4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DBBE-2EB6-4CDF-86DA-E30BEA02D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6723-2127-4B6F-849B-CEDE53E3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CCB6-0318-448C-A987-1F3ADCF8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0262-26D4-4DF1-8B45-E7A0A1F5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DB22-5072-4972-B739-51ECA364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83D6-3D4B-453B-A2C8-21AC0660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9DF7-3481-4E1F-8168-FBDFEBF4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D1C9-12AB-43EB-8B8D-9176CA19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2348-7166-4777-B8D9-7598BC03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484000" y="6248520"/>
            <a:ext cx="410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FB01-B60E-4953-904C-3B304C6B5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E2AF-57F7-4040-9FCC-AA9DB9893F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lusso a costo minim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412640"/>
            <a:ext cx="792504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sideriamo un graf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=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con capacità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j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≥0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ugli archi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probl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39760" y="2449440"/>
                <a:ext cx="6096240" cy="30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δ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δ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</m:t>
                            </m:r>
                            <m:r>
                              <m:t xml:space="preserve">∀</m:t>
                            </m:r>
                          </m:e>
                        </m:nary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          </m:t>
                        </m:r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825480" y="5416560"/>
            <a:ext cx="79246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dice problema di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flusso a costo minim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ssumiam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j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≥ 0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=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62E2-2B73-44D0-809F-C5A839FA89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blema di cammino minim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o un cammino orientato</a:t>
            </a:r>
            <a:r>
              <a:rPr b="0" lang="en-US" sz="2200" spc="-1" strike="noStrike">
                <a:solidFill>
                  <a:srgbClr val="000000"/>
                </a:solidFill>
                <a:latin typeface="LCMSS8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P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un grafo</a:t>
            </a:r>
            <a:r>
              <a:rPr b="0" lang="en-US" sz="2200" spc="-1" strike="noStrike">
                <a:solidFill>
                  <a:srgbClr val="000000"/>
                </a:solidFill>
                <a:latin typeface="LCMSS8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G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 pesi sugli archi</a:t>
            </a:r>
            <a:r>
              <a:rPr b="0" lang="en-US" sz="2200" spc="-1" strike="noStrike">
                <a:solidFill>
                  <a:srgbClr val="000000"/>
                </a:solidFill>
                <a:latin typeface="LCMSS8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Bookman Old Style"/>
              </a:rPr>
              <a:t>uv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, (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LCMSS8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amo 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lunghezz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l cammino</a:t>
            </a:r>
            <a:r>
              <a:rPr b="0" lang="en-US" sz="2200" spc="-1" strike="noStrike">
                <a:solidFill>
                  <a:srgbClr val="000000"/>
                </a:solidFill>
                <a:latin typeface="LCMSS8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LCMSS8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somma delle lunghezze dei suoi archi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a</a:t>
            </a:r>
            <a:r>
              <a:rPr b="1" lang="en-US" sz="2200" spc="-1" strike="noStrike">
                <a:solidFill>
                  <a:srgbClr val="000000"/>
                </a:solidFill>
                <a:latin typeface="LCMSS8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 =max (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Bookman Old Style"/>
              </a:rPr>
              <a:t>uv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: (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2720" y="4097160"/>
            <a:ext cx="7775640" cy="1729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Istanza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 grafo orientat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 = (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LCMSS8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 pesi (lunghezze)</a:t>
            </a:r>
            <a:r>
              <a:rPr b="1" lang="en-US" sz="2200" spc="-1" strike="noStrike">
                <a:solidFill>
                  <a:srgbClr val="000000"/>
                </a:solidFill>
                <a:latin typeface="LCMSS8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man Old Style"/>
              </a:rPr>
              <a:t>uv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LCMSS8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ociati agli archi; un nod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LCMSS8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roblema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ovare, per ogni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LCMSS8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 cammino orientato da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LCMSS8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LCMSS8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 lunghezza minima</a:t>
            </a:r>
            <a:r>
              <a:rPr b="1" lang="en-US" sz="2200" spc="-1" strike="noStrike">
                <a:solidFill>
                  <a:srgbClr val="000000"/>
                </a:solidFill>
                <a:latin typeface="LCMSS8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881440" y="2708280"/>
                <a:ext cx="255420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v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9622-BD18-493D-BE0E-0467745BB4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potesi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aso contrario, si aggiungono al grafo archi del tipo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r,v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 ciascun nodo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 cui non esiste in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cammino da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ndo a tali archi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 peso sufficientemente grande (quanto?), questi saranno contenuti in un cammino minimo se e solo se non esiste un cammino da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l grafo originario.</a:t>
            </a:r>
            <a:r>
              <a:rPr b="1" lang="en-US" sz="2400" spc="-1" strike="noStrike">
                <a:solidFill>
                  <a:srgbClr val="000000"/>
                </a:solidFill>
                <a:latin typeface="LCMSS8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11080" y="1766880"/>
            <a:ext cx="7000920" cy="861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iene un cammino orientato da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ciascuno degli altri suoi no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18FC-F3D1-4771-AA53-A4DA56FE7D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potesi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7680" y="2637000"/>
            <a:ext cx="792468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questo caso, esiste almeno un percorso di lunghezza minima fra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v, v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he è un cammino (cioè non ripete nodi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1557360"/>
            <a:ext cx="7000920" cy="861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n contiene cicli di lunghezza negativa raggiungibili da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4079880"/>
            <a:ext cx="431640" cy="4316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59280" y="4222800"/>
            <a:ext cx="431640" cy="4316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80480" y="4222800"/>
            <a:ext cx="431640" cy="431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03240" y="3753000"/>
            <a:ext cx="406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84520" y="5049720"/>
            <a:ext cx="406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20440" y="3357720"/>
            <a:ext cx="406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CMSS8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LCMSS8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21200" y="4173480"/>
            <a:ext cx="432000" cy="4320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71760" y="4626000"/>
            <a:ext cx="2665440" cy="568440"/>
          </a:xfrm>
          <a:custGeom>
            <a:avLst/>
            <a:gdLst/>
            <a:ahLst/>
            <a:rect l="l" t="t" r="r" b="b"/>
            <a:pathLst>
              <a:path w="1679" h="605">
                <a:moveTo>
                  <a:pt x="0" y="0"/>
                </a:moveTo>
                <a:cubicBezTo>
                  <a:pt x="68" y="219"/>
                  <a:pt x="136" y="439"/>
                  <a:pt x="272" y="499"/>
                </a:cubicBezTo>
                <a:cubicBezTo>
                  <a:pt x="408" y="559"/>
                  <a:pt x="628" y="356"/>
                  <a:pt x="817" y="363"/>
                </a:cubicBezTo>
                <a:cubicBezTo>
                  <a:pt x="1006" y="370"/>
                  <a:pt x="1262" y="605"/>
                  <a:pt x="1406" y="544"/>
                </a:cubicBezTo>
                <a:cubicBezTo>
                  <a:pt x="1550" y="483"/>
                  <a:pt x="1614" y="241"/>
                  <a:pt x="167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25360" y="4008600"/>
            <a:ext cx="1887840" cy="742680"/>
          </a:xfrm>
          <a:custGeom>
            <a:avLst/>
            <a:gdLst/>
            <a:ahLst/>
            <a:rect l="l" t="t" r="r" b="b"/>
            <a:pathLst>
              <a:path w="1225" h="468">
                <a:moveTo>
                  <a:pt x="0" y="181"/>
                </a:moveTo>
                <a:cubicBezTo>
                  <a:pt x="72" y="90"/>
                  <a:pt x="144" y="0"/>
                  <a:pt x="227" y="45"/>
                </a:cubicBezTo>
                <a:cubicBezTo>
                  <a:pt x="310" y="90"/>
                  <a:pt x="378" y="438"/>
                  <a:pt x="499" y="453"/>
                </a:cubicBezTo>
                <a:cubicBezTo>
                  <a:pt x="620" y="468"/>
                  <a:pt x="832" y="165"/>
                  <a:pt x="953" y="135"/>
                </a:cubicBezTo>
                <a:cubicBezTo>
                  <a:pt x="1074" y="105"/>
                  <a:pt x="1149" y="188"/>
                  <a:pt x="1225" y="27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253200" y="4103640"/>
            <a:ext cx="1727280" cy="561960"/>
          </a:xfrm>
          <a:custGeom>
            <a:avLst/>
            <a:gdLst/>
            <a:ahLst/>
            <a:rect l="l" t="t" r="r" b="b"/>
            <a:pathLst>
              <a:path w="1088" h="354">
                <a:moveTo>
                  <a:pt x="0" y="166"/>
                </a:moveTo>
                <a:cubicBezTo>
                  <a:pt x="68" y="83"/>
                  <a:pt x="136" y="0"/>
                  <a:pt x="227" y="30"/>
                </a:cubicBezTo>
                <a:cubicBezTo>
                  <a:pt x="318" y="60"/>
                  <a:pt x="438" y="340"/>
                  <a:pt x="544" y="347"/>
                </a:cubicBezTo>
                <a:cubicBezTo>
                  <a:pt x="650" y="354"/>
                  <a:pt x="771" y="113"/>
                  <a:pt x="862" y="75"/>
                </a:cubicBezTo>
                <a:cubicBezTo>
                  <a:pt x="953" y="37"/>
                  <a:pt x="1020" y="79"/>
                  <a:pt x="1088" y="1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00480" y="3611520"/>
            <a:ext cx="2663640" cy="611280"/>
          </a:xfrm>
          <a:custGeom>
            <a:avLst/>
            <a:gdLst/>
            <a:ahLst/>
            <a:rect l="l" t="t" r="r" b="b"/>
            <a:pathLst>
              <a:path w="1678" h="559">
                <a:moveTo>
                  <a:pt x="1678" y="514"/>
                </a:moveTo>
                <a:cubicBezTo>
                  <a:pt x="1568" y="336"/>
                  <a:pt x="1459" y="159"/>
                  <a:pt x="1315" y="106"/>
                </a:cubicBezTo>
                <a:cubicBezTo>
                  <a:pt x="1171" y="53"/>
                  <a:pt x="990" y="204"/>
                  <a:pt x="816" y="196"/>
                </a:cubicBezTo>
                <a:cubicBezTo>
                  <a:pt x="642" y="188"/>
                  <a:pt x="408" y="0"/>
                  <a:pt x="272" y="60"/>
                </a:cubicBezTo>
                <a:cubicBezTo>
                  <a:pt x="136" y="120"/>
                  <a:pt x="68" y="339"/>
                  <a:pt x="0" y="5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88320" y="3787920"/>
            <a:ext cx="406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5270400"/>
            <a:ext cx="7921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cammino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 lunghezza non maggiore del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orso (minimo)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6FF9-EF63-410D-A709-79BEB15BD7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12720" y="1803240"/>
            <a:ext cx="7991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 fatto, gli algoritmi per il calcolo di cammini minimi determinano percorsi minimi d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li altri no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l caso in cu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sa contenere cicli negativi raggiungibili d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l percorso minimo può attraversare un ciclo infinite vol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calcolare il cammino minimo è quindi necessario imporre un vincolo che eviti la ripetizione dei no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e vincolo rende il problema NP-h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potesi 2 (conseguenz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FFDA-95C5-4D40-B0A3-C088C6A231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692360" y="4081320"/>
            <a:ext cx="431640" cy="432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67280" y="4224240"/>
            <a:ext cx="431640" cy="432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48360" y="4224240"/>
            <a:ext cx="432000" cy="432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21240" y="361944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98920" y="3986280"/>
            <a:ext cx="2449440" cy="1114200"/>
          </a:xfrm>
          <a:custGeom>
            <a:avLst/>
            <a:gdLst/>
            <a:ahLst/>
            <a:rect l="l" t="t" r="r" b="b"/>
            <a:pathLst>
              <a:path w="1543" h="702">
                <a:moveTo>
                  <a:pt x="0" y="286"/>
                </a:moveTo>
                <a:cubicBezTo>
                  <a:pt x="155" y="143"/>
                  <a:pt x="310" y="0"/>
                  <a:pt x="499" y="60"/>
                </a:cubicBezTo>
                <a:cubicBezTo>
                  <a:pt x="688" y="120"/>
                  <a:pt x="960" y="596"/>
                  <a:pt x="1134" y="649"/>
                </a:cubicBezTo>
                <a:cubicBezTo>
                  <a:pt x="1308" y="702"/>
                  <a:pt x="1425" y="539"/>
                  <a:pt x="1543" y="37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0920" y="3852720"/>
            <a:ext cx="2089440" cy="382680"/>
          </a:xfrm>
          <a:custGeom>
            <a:avLst/>
            <a:gdLst/>
            <a:ahLst/>
            <a:rect l="l" t="t" r="r" b="b"/>
            <a:pathLst>
              <a:path w="1316" h="241">
                <a:moveTo>
                  <a:pt x="0" y="189"/>
                </a:moveTo>
                <a:cubicBezTo>
                  <a:pt x="90" y="94"/>
                  <a:pt x="181" y="0"/>
                  <a:pt x="272" y="8"/>
                </a:cubicBezTo>
                <a:cubicBezTo>
                  <a:pt x="363" y="16"/>
                  <a:pt x="432" y="227"/>
                  <a:pt x="545" y="234"/>
                </a:cubicBezTo>
                <a:cubicBezTo>
                  <a:pt x="658" y="241"/>
                  <a:pt x="825" y="53"/>
                  <a:pt x="953" y="53"/>
                </a:cubicBezTo>
                <a:cubicBezTo>
                  <a:pt x="1081" y="53"/>
                  <a:pt x="1198" y="143"/>
                  <a:pt x="1316" y="23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72520" y="403056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8880" y="5211720"/>
            <a:ext cx="3596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- 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man Old Style"/>
              </a:rPr>
              <a:t>3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mino minimo da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68360" y="1352520"/>
            <a:ext cx="8135640" cy="1943280"/>
            <a:chOff x="468360" y="1352520"/>
            <a:chExt cx="8135640" cy="1943280"/>
          </a:xfrm>
        </p:grpSpPr>
        <p:sp>
          <p:nvSpPr>
            <p:cNvPr id="165" name=""/>
            <p:cNvSpPr/>
            <p:nvPr/>
          </p:nvSpPr>
          <p:spPr>
            <a:xfrm>
              <a:off x="468360" y="1352520"/>
              <a:ext cx="8135640" cy="19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Proprietà 1. (Ereditarietà della struttura ottim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 un cammin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man Old Style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man Old Style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man Old Style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ookman Old Style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man Old Style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man Old Style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ookman Old Style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man Old Style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man Old Style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ookman Old Style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man Old Style"/>
                </a:rPr>
                <a:t>,…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man Old Style"/>
                </a:rPr>
                <a:t>a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Bookman Old Style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man Old Style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man Old Style"/>
                </a:rPr>
                <a:t>v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Bookman Old Style"/>
                </a:rPr>
                <a:t>k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è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n cammino minimo da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man Old Style"/>
                </a:rPr>
                <a:t> r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man Old Style"/>
                </a:rPr>
                <a:t>v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Bookman Old Style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allora per ogni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man Old Style"/>
                </a:rPr>
                <a:t>q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1,2,…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man Old Style"/>
                </a:rPr>
                <a:t>k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-1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l cammino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man Old Style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man Old Style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man Old Style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ookman Old Style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man Old Style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man Old Style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ookman Old Style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man Old Style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man Old Style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ookman Old Style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man Old Style"/>
                </a:rPr>
                <a:t>,…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man Old Style"/>
                </a:rPr>
                <a:t> 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ookman Old Style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man Old Style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man Old Style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ookman Old Style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è un cammino minimo da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man Old Style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a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man Old Style"/>
                </a:rPr>
                <a:t>v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Bookman Old Style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08000" y="1456200"/>
              <a:ext cx="66960" cy="29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4707000" y="5181480"/>
            <a:ext cx="3612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mino minimo da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34320" y="5235480"/>
            <a:ext cx="5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uttura della soluzione otti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FB65-9DC8-4901-912A-3DBFD36133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3355920"/>
            <a:ext cx="820728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niamo che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n sia un cammino minimo da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 risulti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) &gt;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Allora i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cor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tare che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ono essere non disgiunti)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 lunghezza inferiore a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o che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contiene cicli negativi,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ene almeno un cammino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) &lt;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2098800"/>
            <a:ext cx="431640" cy="431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86200" y="2241720"/>
            <a:ext cx="431640" cy="431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2241720"/>
            <a:ext cx="432000" cy="431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83080" y="150984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17840" y="2003400"/>
            <a:ext cx="2449440" cy="1114560"/>
          </a:xfrm>
          <a:custGeom>
            <a:avLst/>
            <a:gdLst/>
            <a:ahLst/>
            <a:rect l="l" t="t" r="r" b="b"/>
            <a:pathLst>
              <a:path w="1543" h="702">
                <a:moveTo>
                  <a:pt x="0" y="286"/>
                </a:moveTo>
                <a:cubicBezTo>
                  <a:pt x="155" y="143"/>
                  <a:pt x="310" y="0"/>
                  <a:pt x="499" y="60"/>
                </a:cubicBezTo>
                <a:cubicBezTo>
                  <a:pt x="688" y="120"/>
                  <a:pt x="960" y="596"/>
                  <a:pt x="1134" y="649"/>
                </a:cubicBezTo>
                <a:cubicBezTo>
                  <a:pt x="1308" y="702"/>
                  <a:pt x="1425" y="539"/>
                  <a:pt x="1543" y="377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69840" y="1870200"/>
            <a:ext cx="2089440" cy="382320"/>
          </a:xfrm>
          <a:custGeom>
            <a:avLst/>
            <a:gdLst/>
            <a:ahLst/>
            <a:rect l="l" t="t" r="r" b="b"/>
            <a:pathLst>
              <a:path w="1316" h="241">
                <a:moveTo>
                  <a:pt x="0" y="189"/>
                </a:moveTo>
                <a:cubicBezTo>
                  <a:pt x="90" y="94"/>
                  <a:pt x="181" y="0"/>
                  <a:pt x="272" y="8"/>
                </a:cubicBezTo>
                <a:cubicBezTo>
                  <a:pt x="363" y="16"/>
                  <a:pt x="432" y="227"/>
                  <a:pt x="545" y="234"/>
                </a:cubicBezTo>
                <a:cubicBezTo>
                  <a:pt x="658" y="241"/>
                  <a:pt x="825" y="53"/>
                  <a:pt x="953" y="53"/>
                </a:cubicBezTo>
                <a:cubicBezTo>
                  <a:pt x="1081" y="53"/>
                  <a:pt x="1198" y="143"/>
                  <a:pt x="1316" y="234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98560" y="2530440"/>
            <a:ext cx="2232000" cy="671400"/>
          </a:xfrm>
          <a:custGeom>
            <a:avLst/>
            <a:gdLst/>
            <a:ahLst/>
            <a:rect l="l" t="t" r="r" b="b"/>
            <a:pathLst>
              <a:path w="1406" h="423">
                <a:moveTo>
                  <a:pt x="0" y="0"/>
                </a:moveTo>
                <a:cubicBezTo>
                  <a:pt x="41" y="143"/>
                  <a:pt x="83" y="287"/>
                  <a:pt x="181" y="317"/>
                </a:cubicBezTo>
                <a:cubicBezTo>
                  <a:pt x="279" y="347"/>
                  <a:pt x="439" y="166"/>
                  <a:pt x="590" y="181"/>
                </a:cubicBezTo>
                <a:cubicBezTo>
                  <a:pt x="741" y="196"/>
                  <a:pt x="953" y="423"/>
                  <a:pt x="1089" y="408"/>
                </a:cubicBezTo>
                <a:cubicBezTo>
                  <a:pt x="1225" y="393"/>
                  <a:pt x="1315" y="241"/>
                  <a:pt x="1406" y="9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40160" y="302112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08720" y="190656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27960" y="1413000"/>
            <a:ext cx="2483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p: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 - </a:t>
            </a:r>
            <a:r>
              <a:rPr b="0" i="1" lang="en-US" sz="2400" spc="-1" strike="noStrike">
                <a:solidFill>
                  <a:srgbClr val="ff3300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Bookman Old Style"/>
              </a:rPr>
              <a:t>3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ammino min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uttura della soluzione otti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5292-5CD0-4089-90E3-6542494EC7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bero dei cammini mini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786440" cy="1871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Definizion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Un albero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 = (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i radice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è detto </a:t>
            </a:r>
            <a:r>
              <a:rPr b="0" i="1" lang="en-US" sz="2200" spc="-1" strike="noStrike">
                <a:solidFill>
                  <a:srgbClr val="0033cc"/>
                </a:solidFill>
                <a:latin typeface="Arial"/>
              </a:rPr>
              <a:t>albero dei cammini minim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ispetto alla funzione lunghezza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e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è tale che, per ogni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il cammino da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è un cammino minimo da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1280" y="3860640"/>
            <a:ext cx="7777080" cy="151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eorem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Sia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 = (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un grafo orientato,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e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ora esiste un albero dei cammini minimi (di radice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rispetto ad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020A-3479-474B-BC34-7CA14353B5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39640" y="1413000"/>
            <a:ext cx="806472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most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a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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 insieme minimale contente per ogni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un cammino minimo da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roprietà 1 implica che, per ciascun nodo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iene, un unico arco entrant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ndi,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|=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–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 il corrispondente sottografo contiene esattamente un cammino da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028000" y="5445000"/>
            <a:ext cx="144360" cy="1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bero dei cammini mini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7CF2-F63E-42EA-9859-C425301C90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2014560" y="1770120"/>
            <a:ext cx="4130640" cy="2940840"/>
            <a:chOff x="2014560" y="1770120"/>
            <a:chExt cx="4130640" cy="2940840"/>
          </a:xfrm>
        </p:grpSpPr>
        <p:sp>
          <p:nvSpPr>
            <p:cNvPr id="189" name=""/>
            <p:cNvSpPr/>
            <p:nvPr/>
          </p:nvSpPr>
          <p:spPr>
            <a:xfrm>
              <a:off x="4465080" y="1770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14560" y="3089880"/>
              <a:ext cx="404640" cy="3657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430440" y="2105280"/>
              <a:ext cx="405000" cy="371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30440" y="4038840"/>
              <a:ext cx="405000" cy="367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24560" y="2105280"/>
              <a:ext cx="404640" cy="371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526000" y="4040640"/>
              <a:ext cx="405000" cy="365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5" name=""/>
            <p:cNvCxnSpPr>
              <a:stCxn id="190" idx="7"/>
              <a:endCxn id="191" idx="2"/>
            </p:cNvCxnSpPr>
            <p:nvPr/>
          </p:nvCxnSpPr>
          <p:spPr>
            <a:xfrm flipV="1">
              <a:off x="2359080" y="2289960"/>
              <a:ext cx="1061280" cy="842040"/>
            </a:xfrm>
            <a:prstGeom prst="straightConnector1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96" name=""/>
            <p:cNvCxnSpPr>
              <a:stCxn id="190" idx="5"/>
              <a:endCxn id="192" idx="2"/>
            </p:cNvCxnSpPr>
            <p:nvPr/>
          </p:nvCxnSpPr>
          <p:spPr>
            <a:xfrm>
              <a:off x="2359080" y="3416760"/>
              <a:ext cx="1061280" cy="80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97" name=""/>
            <p:cNvCxnSpPr>
              <a:stCxn id="191" idx="6"/>
              <a:endCxn id="193" idx="2"/>
            </p:cNvCxnSpPr>
            <p:nvPr/>
          </p:nvCxnSpPr>
          <p:spPr>
            <a:xfrm>
              <a:off x="3849480" y="2290320"/>
              <a:ext cx="1662840" cy="1080"/>
            </a:xfrm>
            <a:prstGeom prst="straightConnector1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>
              <a:stCxn id="191" idx="5"/>
              <a:endCxn id="194" idx="1"/>
            </p:cNvCxnSpPr>
            <p:nvPr/>
          </p:nvCxnSpPr>
          <p:spPr>
            <a:xfrm>
              <a:off x="3776760" y="2433600"/>
              <a:ext cx="1808640" cy="1647720"/>
            </a:xfrm>
            <a:prstGeom prst="straightConnector1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199" name=""/>
            <p:cNvSpPr/>
            <p:nvPr/>
          </p:nvSpPr>
          <p:spPr>
            <a:xfrm>
              <a:off x="2482560" y="2270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Bookman Old Style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96840" y="28166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Bookman Old Style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83920" y="3745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Bookman Old Style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79480" y="42512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3" name=""/>
            <p:cNvCxnSpPr>
              <a:stCxn id="194" idx="2"/>
              <a:endCxn id="192" idx="6"/>
            </p:cNvCxnSpPr>
            <p:nvPr/>
          </p:nvCxnSpPr>
          <p:spPr>
            <a:xfrm flipH="1" flipV="1">
              <a:off x="3849120" y="4223520"/>
              <a:ext cx="1662840" cy="1080"/>
            </a:xfrm>
            <a:prstGeom prst="straightConnector1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204" name=""/>
            <p:cNvCxnSpPr>
              <a:stCxn id="194" idx="0"/>
              <a:endCxn id="193" idx="4"/>
            </p:cNvCxnSpPr>
            <p:nvPr/>
          </p:nvCxnSpPr>
          <p:spPr>
            <a:xfrm flipH="1" flipV="1">
              <a:off x="5725800" y="2485800"/>
              <a:ext cx="2160" cy="1541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205" name=""/>
            <p:cNvSpPr/>
            <p:nvPr/>
          </p:nvSpPr>
          <p:spPr>
            <a:xfrm>
              <a:off x="5790600" y="3002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Bookman Old Style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271960" y="5587920"/>
            <a:ext cx="3440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Albero dei cammini mini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1E08-185E-48DD-AE78-80F8FCFA99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tenzial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21844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funzione</a:t>
            </a:r>
            <a:r>
              <a:rPr b="0" lang="en-US" sz="2400" spc="-1" strike="noStrike">
                <a:solidFill>
                  <a:srgbClr val="000000"/>
                </a:solidFill>
                <a:latin typeface="LCMSS8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CMSS8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è detta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otenzia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- 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man Old Style"/>
              </a:rPr>
              <a:t>u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man Old Style"/>
              </a:rPr>
              <a:t>uv</a:t>
            </a:r>
            <a:r>
              <a:rPr b="0" i="1" lang="en-US" sz="2400" spc="-1" strike="noStrike">
                <a:solidFill>
                  <a:srgbClr val="000000"/>
                </a:solidFill>
                <a:latin typeface="LCMSSB8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ogni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LCMSS8"/>
              </a:rPr>
              <a:t>      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270828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sservazi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n dipende dal nodo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1440" y="3672000"/>
            <a:ext cx="79912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eor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a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 grafo orientato,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d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Allora esiste un potenziale se e solo se ogni ciclo orientato ha lunghezza non negativa. Inoltre, se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è intera, esiste un potenziale int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8EEE-841D-4831-8B37-604422D191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sservazion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sservazion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niamo che le capacità sugli archi abbiano valore infinito e che esistano un nodo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 un nodo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ali ch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) =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) = 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) = 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 ogni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≠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l problema di flusso a costo minimo diventa il problema del cammino minimo da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E0ED-2318-4DA7-8E04-6373471472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11280" y="1052640"/>
            <a:ext cx="8064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cessit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a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 potenziale e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…,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ciclo orientato. Allo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2484360" y="3013200"/>
                <a:ext cx="367200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≥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mostrazi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1280" y="4267080"/>
            <a:ext cx="80643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uffici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sco un algoritmo che costruisce un potenziale nell’ipotesi che non ci siano cicli di lunghezza neg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EAAD-AC0F-4942-8CB0-A71054B1D8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struzione di un potenzia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4360" y="1414080"/>
            <a:ext cx="79200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ogni nod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sia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la lunghezza di un percorso di lunghezza minima da un qualsiasi altro qualsiasi nod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funzion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un potenzi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fatti, se non lo fosse, esisterebbe un arco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cui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v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- y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&gt;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uv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 Indicando con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percorso minimo entrante in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si ha che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percors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-{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}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arebbe un percorso di lunghezza inferiore a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ovvero una contraddi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Osserv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esto algoritmo è valido anche scegliendo, per ogni nod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lo stesso nod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a cui calcolare il percorso minimo. Ovve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2D86-AA96-46AA-B8E5-5231A9E315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struzione di un potenzia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18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a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un nodo di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Per ogni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sia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a lunghezza minima di un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ercors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a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La funzione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è un potenzia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non lo fosse, esisterebbe un arco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per cui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Bookman Old Style"/>
              </a:rPr>
              <a:t>v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+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Bookman Old Style"/>
              </a:rPr>
              <a:t>u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Allora, concatenando l’arco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n il cammino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Bookman Old Style"/>
              </a:rPr>
              <a:t>ru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 ottiene un nuovo cammino da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i lunghezza inferiore a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92360" y="4592520"/>
            <a:ext cx="431640" cy="432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21440" y="3584520"/>
            <a:ext cx="431640" cy="4320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84720" y="5384880"/>
            <a:ext cx="432000" cy="4316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"/>
          <p:cNvCxnSpPr>
            <a:stCxn id="221" idx="5"/>
            <a:endCxn id="222" idx="0"/>
          </p:cNvCxnSpPr>
          <p:nvPr/>
        </p:nvCxnSpPr>
        <p:spPr>
          <a:xfrm>
            <a:off x="5589360" y="3967200"/>
            <a:ext cx="711720" cy="14040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2052720" y="3429000"/>
            <a:ext cx="3168720" cy="1235160"/>
          </a:xfrm>
          <a:custGeom>
            <a:avLst/>
            <a:gdLst/>
            <a:ahLst/>
            <a:rect l="l" t="t" r="r" b="b"/>
            <a:pathLst>
              <a:path w="1996" h="778">
                <a:moveTo>
                  <a:pt x="0" y="778"/>
                </a:moveTo>
                <a:cubicBezTo>
                  <a:pt x="83" y="577"/>
                  <a:pt x="166" y="377"/>
                  <a:pt x="317" y="370"/>
                </a:cubicBezTo>
                <a:cubicBezTo>
                  <a:pt x="468" y="363"/>
                  <a:pt x="718" y="778"/>
                  <a:pt x="907" y="733"/>
                </a:cubicBezTo>
                <a:cubicBezTo>
                  <a:pt x="1096" y="688"/>
                  <a:pt x="1270" y="196"/>
                  <a:pt x="1451" y="98"/>
                </a:cubicBezTo>
                <a:cubicBezTo>
                  <a:pt x="1632" y="0"/>
                  <a:pt x="1814" y="71"/>
                  <a:pt x="1996" y="14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052720" y="4951440"/>
            <a:ext cx="4103640" cy="1189080"/>
          </a:xfrm>
          <a:custGeom>
            <a:avLst/>
            <a:gdLst/>
            <a:ahLst/>
            <a:rect l="l" t="t" r="r" b="b"/>
            <a:pathLst>
              <a:path w="2585" h="749">
                <a:moveTo>
                  <a:pt x="0" y="0"/>
                </a:moveTo>
                <a:cubicBezTo>
                  <a:pt x="117" y="287"/>
                  <a:pt x="234" y="575"/>
                  <a:pt x="408" y="635"/>
                </a:cubicBezTo>
                <a:cubicBezTo>
                  <a:pt x="582" y="695"/>
                  <a:pt x="771" y="348"/>
                  <a:pt x="1043" y="363"/>
                </a:cubicBezTo>
                <a:cubicBezTo>
                  <a:pt x="1315" y="378"/>
                  <a:pt x="1784" y="703"/>
                  <a:pt x="2041" y="726"/>
                </a:cubicBezTo>
                <a:cubicBezTo>
                  <a:pt x="2298" y="749"/>
                  <a:pt x="2494" y="537"/>
                  <a:pt x="2585" y="49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67080" y="3678120"/>
            <a:ext cx="4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84520" y="5765760"/>
            <a:ext cx="45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FEC8-6BC0-4BBB-9647-B670FA9E9F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68360" y="1341360"/>
            <a:ext cx="813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emp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5796000" y="1920960"/>
          <a:ext cx="2597040" cy="2755800"/>
        </p:xfrm>
        <a:graphic>
          <a:graphicData uri="http://schemas.openxmlformats.org/drawingml/2006/table">
            <a:tbl>
              <a:tblPr/>
              <a:tblGrid>
                <a:gridCol w="863280"/>
                <a:gridCol w="866880"/>
                <a:gridCol w="866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339966"/>
                          </a:solidFill>
                          <a:latin typeface="Bookman Old Style"/>
                        </a:rPr>
                        <a:t>y</a:t>
                      </a:r>
                      <a:r>
                        <a:rPr b="0" i="1" lang="en-US" sz="2400" spc="-1" strike="noStrike">
                          <a:solidFill>
                            <a:srgbClr val="339966"/>
                          </a:solidFill>
                          <a:latin typeface="Symbol"/>
                          <a:ea typeface="Symbol"/>
                        </a:rPr>
                        <a:t>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=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Bookman Old Style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Bookman Old Style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Bookman Old Style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Bookman Old Style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66"/>
                          </a:solidFill>
                          <a:latin typeface="Bookman Old Style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3519000" y="1903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79360" y="3129120"/>
            <a:ext cx="385920" cy="341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30440" y="2216160"/>
            <a:ext cx="385920" cy="342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30440" y="4011480"/>
            <a:ext cx="385920" cy="343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27720" y="2216160"/>
            <a:ext cx="385560" cy="342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30600" y="4013280"/>
            <a:ext cx="384480" cy="341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1" idx="7"/>
            <a:endCxn id="232" idx="2"/>
          </p:cNvCxnSpPr>
          <p:nvPr/>
        </p:nvCxnSpPr>
        <p:spPr>
          <a:xfrm flipV="1">
            <a:off x="1507680" y="2387160"/>
            <a:ext cx="1011960" cy="78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37" name=""/>
          <p:cNvCxnSpPr>
            <a:stCxn id="231" idx="5"/>
            <a:endCxn id="233" idx="2"/>
          </p:cNvCxnSpPr>
          <p:nvPr/>
        </p:nvCxnSpPr>
        <p:spPr>
          <a:xfrm>
            <a:off x="1507680" y="3432240"/>
            <a:ext cx="101196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38" name=""/>
          <p:cNvCxnSpPr>
            <a:stCxn id="232" idx="6"/>
            <a:endCxn id="234" idx="2"/>
          </p:cNvCxnSpPr>
          <p:nvPr/>
        </p:nvCxnSpPr>
        <p:spPr>
          <a:xfrm>
            <a:off x="2930400" y="2387160"/>
            <a:ext cx="1586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39" name=""/>
          <p:cNvCxnSpPr>
            <a:stCxn id="232" idx="5"/>
            <a:endCxn id="235" idx="1"/>
          </p:cNvCxnSpPr>
          <p:nvPr/>
        </p:nvCxnSpPr>
        <p:spPr>
          <a:xfrm>
            <a:off x="2860560" y="2519280"/>
            <a:ext cx="1726560" cy="153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40" name=""/>
          <p:cNvSpPr/>
          <p:nvPr/>
        </p:nvSpPr>
        <p:spPr>
          <a:xfrm>
            <a:off x="1625040" y="236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647520" y="28764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533240" y="3738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31600" y="4208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35" idx="2"/>
            <a:endCxn id="233" idx="6"/>
          </p:cNvCxnSpPr>
          <p:nvPr/>
        </p:nvCxnSpPr>
        <p:spPr>
          <a:xfrm flipH="1" flipV="1">
            <a:off x="2930040" y="4182480"/>
            <a:ext cx="1586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45" name=""/>
          <p:cNvCxnSpPr>
            <a:stCxn id="235" idx="0"/>
            <a:endCxn id="234" idx="4"/>
          </p:cNvCxnSpPr>
          <p:nvPr/>
        </p:nvCxnSpPr>
        <p:spPr>
          <a:xfrm flipH="1" flipV="1">
            <a:off x="4721040" y="2569680"/>
            <a:ext cx="2160" cy="143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46" name=""/>
          <p:cNvSpPr/>
          <p:nvPr/>
        </p:nvSpPr>
        <p:spPr>
          <a:xfrm>
            <a:off x="4782600" y="3049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499840" y="1595520"/>
            <a:ext cx="35460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91840" y="3043080"/>
            <a:ext cx="35460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38160" y="1593720"/>
            <a:ext cx="35460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84520" y="4548240"/>
            <a:ext cx="35460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26840" y="4508640"/>
            <a:ext cx="35460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84360" y="5084640"/>
            <a:ext cx="842472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d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y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ono due potenziali ammissibili, ma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y'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 y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 ogni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Domand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è possibile “aumentare”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y’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er qualche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struzione di un potenziale (II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9640" y="2310120"/>
            <a:ext cx="576360" cy="5979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916360" y="1551240"/>
            <a:ext cx="576000" cy="597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932360" y="1551240"/>
            <a:ext cx="576360" cy="597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35280" y="4431240"/>
            <a:ext cx="576000" cy="5979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80000" y="4431240"/>
            <a:ext cx="647640" cy="59796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E2C2-252E-407B-99E0-9613537A2D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826920" y="1989000"/>
            <a:ext cx="7128000" cy="2592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99ff"/>
                </a:solidFill>
                <a:latin typeface="Arial"/>
              </a:rPr>
              <a:t>Istanza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un grafo orientato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=(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n pesi (lunghezze)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man Old Style"/>
              </a:rPr>
              <a:t>uv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associati agli archi; un nodo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99ff"/>
                </a:solidFill>
                <a:latin typeface="Arial"/>
              </a:rPr>
              <a:t>Problema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terminare un potenziale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ale che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 –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 y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ia massimo, per ciascun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struzione di un potenziale (II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4FEE-4169-4696-9D64-A079070C82C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95280" y="4869000"/>
            <a:ext cx="83660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mostrazione. Vale la seguente disuguaglianz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187280" y="5297400"/>
                <a:ext cx="65534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7956720" y="6021360"/>
            <a:ext cx="14436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68360" y="3139920"/>
            <a:ext cx="8207280" cy="151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Si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tenziale e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=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…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=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un cammino d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r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280" y="1341360"/>
            <a:ext cx="82090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o un potenziale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ottraendo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ciascun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i ottiene un nuovo potenziale per cui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=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qualsiasi potenziale (con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=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fornisce limitazioni inferiori delle lunghezze dei cammini minim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prietà dei potenzial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9472-6782-4C4F-BB46-00BC5B69527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55640" y="1700280"/>
            <a:ext cx="7343640" cy="3889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eorema (max potenziale – min lavoro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o un grafo orientato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 = (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una coppia di suoi nodi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d una qualunque funzione lunghezza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massima differenza di potenziale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è pari alla minima lunghezza di un cammi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oltre, se le lunghezze sono intere, tale potenziale è intero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Relazione min-ma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AFAA-2B13-4CF2-839F-51D6FDDF73F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95280" y="1555920"/>
            <a:ext cx="83660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Dimostr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l lemma precedente, sappiamo che il potenziale fornisce una limitazione inferiore della lunghezza del cammino minimo da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 v,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oltre, ponendo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ari alla lunghezza di un cammino minimo da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si ottiene un potenziale. Tale  potenziale è quindi tale da massimizzare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er ogni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820000" y="6524640"/>
            <a:ext cx="14472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Relazione min-ma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3114-E7C9-4577-A962-D2B45ED7A42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82560" y="1268280"/>
            <a:ext cx="79218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Idea chia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olare un potenziale e contemporaneamente un cammino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a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i lunghezza pari a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dal teorema precedente deriva che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è un cammino da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i lunghezza minim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Algoritmo di “discesa duale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una generica iterazione si mantiene un vettore di distanze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he non è un potenziale. In particolare,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 y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è la lunghezza di un qualche cammino da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 usa un vettore dei predecessori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in cui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ntiene il predecessore di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nel cammino di lunghezza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Algoritmo di F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0071-16E3-4821-A2DB-B16E14842CA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539640" y="1989000"/>
            <a:ext cx="7921800" cy="360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zializzazione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 = 0, </a:t>
            </a:r>
            <a:r>
              <a:rPr b="0" i="1" lang="en-US" sz="26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 =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 ogni </a:t>
            </a:r>
            <a:r>
              <a:rPr b="0" i="1" lang="en-US" sz="26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6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6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esiste un arco per cui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-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&gt;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Bookman Old Style"/>
              </a:rPr>
              <a:t>uv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Bookman Old Style"/>
              </a:rPr>
              <a:t>v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: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Bookman Old Style"/>
              </a:rPr>
              <a:t>uv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: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;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Algoritmo di F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0203-C3A7-4E06-8F05-73AAC7B9C5A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Osservazion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Osservazion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upponiamo c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1.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 b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) = 0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per ogni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i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2.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 c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 = 0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per ogni arco 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cegliamo 2 nodi di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e aggiungiamo l’arco 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di capacità infinita e costo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Bookman Old Style"/>
              </a:rPr>
              <a:t>ts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 = -1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problema di flusso a costo minimo diventa il problema di determinare il massimo flusso da 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FF8D-39BD-43F4-B060-85D17C14E2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68360" y="1484280"/>
            <a:ext cx="28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zializzazione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5867280" y="2655720"/>
          <a:ext cx="2594160" cy="2573280"/>
        </p:xfrm>
        <a:graphic>
          <a:graphicData uri="http://schemas.openxmlformats.org/drawingml/2006/table">
            <a:tbl>
              <a:tblPr/>
              <a:tblGrid>
                <a:gridCol w="863640"/>
                <a:gridCol w="866880"/>
                <a:gridCol w="8636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3825360" y="240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374840" y="3646440"/>
            <a:ext cx="404640" cy="3445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790720" y="2719440"/>
            <a:ext cx="405000" cy="349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90720" y="4540320"/>
            <a:ext cx="405000" cy="345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84840" y="2719440"/>
            <a:ext cx="404640" cy="349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886280" y="4541760"/>
            <a:ext cx="405000" cy="344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"/>
          <p:cNvCxnSpPr>
            <a:stCxn id="279" idx="7"/>
            <a:endCxn id="280" idx="2"/>
          </p:cNvCxnSpPr>
          <p:nvPr/>
        </p:nvCxnSpPr>
        <p:spPr>
          <a:xfrm flipV="1">
            <a:off x="1719000" y="2893680"/>
            <a:ext cx="1060920" cy="79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85" name=""/>
          <p:cNvCxnSpPr>
            <a:stCxn id="279" idx="5"/>
            <a:endCxn id="281" idx="2"/>
          </p:cNvCxnSpPr>
          <p:nvPr/>
        </p:nvCxnSpPr>
        <p:spPr>
          <a:xfrm>
            <a:off x="1719000" y="3954600"/>
            <a:ext cx="1060920" cy="76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86" name=""/>
          <p:cNvCxnSpPr>
            <a:stCxn id="280" idx="6"/>
            <a:endCxn id="282" idx="2"/>
          </p:cNvCxnSpPr>
          <p:nvPr/>
        </p:nvCxnSpPr>
        <p:spPr>
          <a:xfrm>
            <a:off x="3209400" y="2893680"/>
            <a:ext cx="166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87" name=""/>
          <p:cNvCxnSpPr>
            <a:stCxn id="280" idx="5"/>
            <a:endCxn id="283" idx="1"/>
          </p:cNvCxnSpPr>
          <p:nvPr/>
        </p:nvCxnSpPr>
        <p:spPr>
          <a:xfrm>
            <a:off x="3137040" y="3029040"/>
            <a:ext cx="1808640" cy="155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88" name=""/>
          <p:cNvSpPr/>
          <p:nvPr/>
        </p:nvSpPr>
        <p:spPr>
          <a:xfrm>
            <a:off x="1842840" y="2874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57120" y="33894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744200" y="4264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39760" y="4740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" name=""/>
          <p:cNvCxnSpPr>
            <a:stCxn id="283" idx="0"/>
            <a:endCxn id="282" idx="4"/>
          </p:cNvCxnSpPr>
          <p:nvPr/>
        </p:nvCxnSpPr>
        <p:spPr>
          <a:xfrm flipH="1" flipV="1">
            <a:off x="5086080" y="3077280"/>
            <a:ext cx="2160" cy="145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93" name=""/>
          <p:cNvSpPr/>
          <p:nvPr/>
        </p:nvSpPr>
        <p:spPr>
          <a:xfrm>
            <a:off x="5150880" y="3564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755080" y="2101680"/>
            <a:ext cx="40932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17200" y="3594240"/>
            <a:ext cx="35460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906080" y="2101680"/>
            <a:ext cx="40932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53640" y="5045040"/>
            <a:ext cx="40932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906080" y="5045040"/>
            <a:ext cx="40932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"/>
          <p:cNvCxnSpPr>
            <a:stCxn id="280" idx="4"/>
            <a:endCxn id="281" idx="0"/>
          </p:cNvCxnSpPr>
          <p:nvPr/>
        </p:nvCxnSpPr>
        <p:spPr>
          <a:xfrm>
            <a:off x="2993760" y="3083040"/>
            <a:ext cx="1080" cy="14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00" name=""/>
          <p:cNvCxnSpPr>
            <a:stCxn id="281" idx="6"/>
            <a:endCxn id="283" idx="2"/>
          </p:cNvCxnSpPr>
          <p:nvPr/>
        </p:nvCxnSpPr>
        <p:spPr>
          <a:xfrm>
            <a:off x="3209400" y="4712760"/>
            <a:ext cx="1662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301" name=""/>
          <p:cNvSpPr/>
          <p:nvPr/>
        </p:nvSpPr>
        <p:spPr>
          <a:xfrm>
            <a:off x="2550600" y="3570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93A4-C8BD-4496-942F-0E4B2957F92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66560" y="1341360"/>
            <a:ext cx="28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erazione  1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5796000" y="3068640"/>
          <a:ext cx="2593800" cy="2573280"/>
        </p:xfrm>
        <a:graphic>
          <a:graphicData uri="http://schemas.openxmlformats.org/drawingml/2006/table">
            <a:tbl>
              <a:tblPr/>
              <a:tblGrid>
                <a:gridCol w="863280"/>
                <a:gridCol w="866880"/>
                <a:gridCol w="8636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5" name=""/>
          <p:cNvSpPr/>
          <p:nvPr/>
        </p:nvSpPr>
        <p:spPr>
          <a:xfrm>
            <a:off x="3561840" y="2987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11320" y="4230720"/>
            <a:ext cx="404640" cy="3445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527200" y="3303720"/>
            <a:ext cx="405000" cy="349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527200" y="5124600"/>
            <a:ext cx="405000" cy="345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621320" y="3303720"/>
            <a:ext cx="404640" cy="349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22760" y="5126040"/>
            <a:ext cx="405000" cy="344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6" idx="7"/>
            <a:endCxn id="307" idx="2"/>
          </p:cNvCxnSpPr>
          <p:nvPr/>
        </p:nvCxnSpPr>
        <p:spPr>
          <a:xfrm flipV="1">
            <a:off x="1455480" y="3477960"/>
            <a:ext cx="1060920" cy="79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12" name=""/>
          <p:cNvCxnSpPr>
            <a:stCxn id="306" idx="5"/>
            <a:endCxn id="308" idx="2"/>
          </p:cNvCxnSpPr>
          <p:nvPr/>
        </p:nvCxnSpPr>
        <p:spPr>
          <a:xfrm>
            <a:off x="1455480" y="4538160"/>
            <a:ext cx="1060920" cy="76140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313" name=""/>
          <p:cNvCxnSpPr>
            <a:stCxn id="307" idx="6"/>
            <a:endCxn id="309" idx="2"/>
          </p:cNvCxnSpPr>
          <p:nvPr/>
        </p:nvCxnSpPr>
        <p:spPr>
          <a:xfrm>
            <a:off x="2945880" y="3477960"/>
            <a:ext cx="166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14" name=""/>
          <p:cNvCxnSpPr>
            <a:stCxn id="307" idx="5"/>
            <a:endCxn id="310" idx="1"/>
          </p:cNvCxnSpPr>
          <p:nvPr/>
        </p:nvCxnSpPr>
        <p:spPr>
          <a:xfrm>
            <a:off x="2873520" y="3613320"/>
            <a:ext cx="1808640" cy="155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315" name=""/>
          <p:cNvSpPr/>
          <p:nvPr/>
        </p:nvSpPr>
        <p:spPr>
          <a:xfrm>
            <a:off x="1579320" y="3459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93600" y="3973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80680" y="4848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576240" y="5324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"/>
          <p:cNvCxnSpPr>
            <a:stCxn id="310" idx="0"/>
            <a:endCxn id="309" idx="4"/>
          </p:cNvCxnSpPr>
          <p:nvPr/>
        </p:nvCxnSpPr>
        <p:spPr>
          <a:xfrm flipH="1" flipV="1">
            <a:off x="4822560" y="3661560"/>
            <a:ext cx="2160" cy="145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320" name=""/>
          <p:cNvSpPr/>
          <p:nvPr/>
        </p:nvSpPr>
        <p:spPr>
          <a:xfrm>
            <a:off x="4887360" y="4148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491560" y="2685960"/>
            <a:ext cx="40932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53680" y="4178160"/>
            <a:ext cx="35460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42560" y="2685960"/>
            <a:ext cx="40932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03080" y="5635800"/>
            <a:ext cx="35460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Bookman Old Style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642560" y="5629320"/>
            <a:ext cx="40932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307" idx="4"/>
            <a:endCxn id="308" idx="0"/>
          </p:cNvCxnSpPr>
          <p:nvPr/>
        </p:nvCxnSpPr>
        <p:spPr>
          <a:xfrm>
            <a:off x="2730240" y="3666600"/>
            <a:ext cx="1080" cy="144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27" name=""/>
          <p:cNvCxnSpPr>
            <a:stCxn id="308" idx="6"/>
            <a:endCxn id="310" idx="2"/>
          </p:cNvCxnSpPr>
          <p:nvPr/>
        </p:nvCxnSpPr>
        <p:spPr>
          <a:xfrm>
            <a:off x="2945880" y="5297040"/>
            <a:ext cx="1662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328" name=""/>
          <p:cNvSpPr/>
          <p:nvPr/>
        </p:nvSpPr>
        <p:spPr>
          <a:xfrm>
            <a:off x="2287080" y="4154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66560" y="1773360"/>
            <a:ext cx="338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co scelto: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,3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7F9C-0615-4BA7-BEAB-AA3AC4E8D4B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561840" y="2987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111320" y="4230720"/>
            <a:ext cx="404640" cy="344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27200" y="3303720"/>
            <a:ext cx="405000" cy="349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27200" y="5124600"/>
            <a:ext cx="405000" cy="345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621320" y="3303720"/>
            <a:ext cx="404640" cy="349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622760" y="5126040"/>
            <a:ext cx="405000" cy="344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7" name=""/>
          <p:cNvCxnSpPr>
            <a:stCxn id="332" idx="7"/>
            <a:endCxn id="333" idx="2"/>
          </p:cNvCxnSpPr>
          <p:nvPr/>
        </p:nvCxnSpPr>
        <p:spPr>
          <a:xfrm flipV="1">
            <a:off x="1455480" y="3477960"/>
            <a:ext cx="1060920" cy="79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38" name=""/>
          <p:cNvCxnSpPr>
            <a:stCxn id="332" idx="5"/>
            <a:endCxn id="334" idx="2"/>
          </p:cNvCxnSpPr>
          <p:nvPr/>
        </p:nvCxnSpPr>
        <p:spPr>
          <a:xfrm>
            <a:off x="1455480" y="4538160"/>
            <a:ext cx="1060920" cy="76140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339" name=""/>
          <p:cNvCxnSpPr>
            <a:stCxn id="333" idx="6"/>
            <a:endCxn id="335" idx="2"/>
          </p:cNvCxnSpPr>
          <p:nvPr/>
        </p:nvCxnSpPr>
        <p:spPr>
          <a:xfrm>
            <a:off x="2945880" y="3477960"/>
            <a:ext cx="166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40" name=""/>
          <p:cNvCxnSpPr>
            <a:stCxn id="333" idx="5"/>
            <a:endCxn id="336" idx="1"/>
          </p:cNvCxnSpPr>
          <p:nvPr/>
        </p:nvCxnSpPr>
        <p:spPr>
          <a:xfrm>
            <a:off x="2873520" y="3613320"/>
            <a:ext cx="1808640" cy="155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341" name=""/>
          <p:cNvSpPr/>
          <p:nvPr/>
        </p:nvSpPr>
        <p:spPr>
          <a:xfrm>
            <a:off x="1579320" y="3459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693600" y="3973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80680" y="4848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576240" y="5324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"/>
          <p:cNvCxnSpPr>
            <a:stCxn id="336" idx="0"/>
            <a:endCxn id="335" idx="4"/>
          </p:cNvCxnSpPr>
          <p:nvPr/>
        </p:nvCxnSpPr>
        <p:spPr>
          <a:xfrm flipH="1" flipV="1">
            <a:off x="4822560" y="3661560"/>
            <a:ext cx="2160" cy="145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346" name=""/>
          <p:cNvSpPr/>
          <p:nvPr/>
        </p:nvSpPr>
        <p:spPr>
          <a:xfrm>
            <a:off x="4887360" y="4148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491560" y="2685960"/>
            <a:ext cx="40932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3680" y="4178160"/>
            <a:ext cx="35460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642560" y="2685960"/>
            <a:ext cx="40932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503080" y="5635800"/>
            <a:ext cx="35460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Bookman Old Style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655880" y="5635800"/>
            <a:ext cx="35460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Bookman Old Style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"/>
          <p:cNvCxnSpPr>
            <a:stCxn id="333" idx="4"/>
            <a:endCxn id="334" idx="0"/>
          </p:cNvCxnSpPr>
          <p:nvPr/>
        </p:nvCxnSpPr>
        <p:spPr>
          <a:xfrm>
            <a:off x="2730240" y="3666600"/>
            <a:ext cx="1080" cy="144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53" name=""/>
          <p:cNvCxnSpPr>
            <a:stCxn id="334" idx="6"/>
            <a:endCxn id="336" idx="2"/>
          </p:cNvCxnSpPr>
          <p:nvPr/>
        </p:nvCxnSpPr>
        <p:spPr>
          <a:xfrm>
            <a:off x="2945880" y="5297040"/>
            <a:ext cx="1662840" cy="252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354" name=""/>
          <p:cNvSpPr/>
          <p:nvPr/>
        </p:nvSpPr>
        <p:spPr>
          <a:xfrm>
            <a:off x="2287080" y="4154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66560" y="1341360"/>
            <a:ext cx="28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erazione 2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6560" y="1773360"/>
            <a:ext cx="338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co scelto: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(3,5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5796000" y="3068640"/>
          <a:ext cx="2593800" cy="2573280"/>
        </p:xfrm>
        <a:graphic>
          <a:graphicData uri="http://schemas.openxmlformats.org/drawingml/2006/table">
            <a:tbl>
              <a:tblPr/>
              <a:tblGrid>
                <a:gridCol w="863280"/>
                <a:gridCol w="866880"/>
                <a:gridCol w="8636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59B9-46A4-45C3-8605-C12C3747449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561840" y="2987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11320" y="4230720"/>
            <a:ext cx="404640" cy="344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527200" y="3303720"/>
            <a:ext cx="405000" cy="349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27200" y="5124600"/>
            <a:ext cx="405000" cy="345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621320" y="3303720"/>
            <a:ext cx="404640" cy="349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622760" y="5126040"/>
            <a:ext cx="405000" cy="344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"/>
          <p:cNvCxnSpPr>
            <a:stCxn id="360" idx="7"/>
            <a:endCxn id="361" idx="2"/>
          </p:cNvCxnSpPr>
          <p:nvPr/>
        </p:nvCxnSpPr>
        <p:spPr>
          <a:xfrm flipV="1">
            <a:off x="1455480" y="3477960"/>
            <a:ext cx="1060920" cy="79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66" name=""/>
          <p:cNvCxnSpPr>
            <a:stCxn id="360" idx="5"/>
            <a:endCxn id="362" idx="2"/>
          </p:cNvCxnSpPr>
          <p:nvPr/>
        </p:nvCxnSpPr>
        <p:spPr>
          <a:xfrm>
            <a:off x="1455480" y="4538160"/>
            <a:ext cx="1060920" cy="76140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367" name=""/>
          <p:cNvCxnSpPr>
            <a:stCxn id="361" idx="6"/>
            <a:endCxn id="363" idx="2"/>
          </p:cNvCxnSpPr>
          <p:nvPr/>
        </p:nvCxnSpPr>
        <p:spPr>
          <a:xfrm>
            <a:off x="2945880" y="3477960"/>
            <a:ext cx="166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68" name=""/>
          <p:cNvCxnSpPr>
            <a:stCxn id="361" idx="5"/>
            <a:endCxn id="364" idx="1"/>
          </p:cNvCxnSpPr>
          <p:nvPr/>
        </p:nvCxnSpPr>
        <p:spPr>
          <a:xfrm>
            <a:off x="2873520" y="3613320"/>
            <a:ext cx="1808640" cy="155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369" name=""/>
          <p:cNvSpPr/>
          <p:nvPr/>
        </p:nvSpPr>
        <p:spPr>
          <a:xfrm>
            <a:off x="1579320" y="3459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693600" y="3973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480680" y="4848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76240" y="5324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"/>
          <p:cNvCxnSpPr>
            <a:stCxn id="364" idx="0"/>
            <a:endCxn id="363" idx="4"/>
          </p:cNvCxnSpPr>
          <p:nvPr/>
        </p:nvCxnSpPr>
        <p:spPr>
          <a:xfrm flipH="1" flipV="1">
            <a:off x="4822560" y="3661560"/>
            <a:ext cx="2160" cy="145188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374" name=""/>
          <p:cNvSpPr/>
          <p:nvPr/>
        </p:nvSpPr>
        <p:spPr>
          <a:xfrm>
            <a:off x="4887360" y="4148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491560" y="2685960"/>
            <a:ext cx="40932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53680" y="4178160"/>
            <a:ext cx="35460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663440" y="2692440"/>
            <a:ext cx="52812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Bookman Old Style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503080" y="5635800"/>
            <a:ext cx="35460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Bookman Old Style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655880" y="5635800"/>
            <a:ext cx="35460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Bookman Old Style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0" name=""/>
          <p:cNvCxnSpPr>
            <a:stCxn id="361" idx="4"/>
            <a:endCxn id="362" idx="0"/>
          </p:cNvCxnSpPr>
          <p:nvPr/>
        </p:nvCxnSpPr>
        <p:spPr>
          <a:xfrm>
            <a:off x="2730240" y="3666600"/>
            <a:ext cx="1080" cy="144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81" name=""/>
          <p:cNvCxnSpPr>
            <a:stCxn id="362" idx="6"/>
            <a:endCxn id="364" idx="2"/>
          </p:cNvCxnSpPr>
          <p:nvPr/>
        </p:nvCxnSpPr>
        <p:spPr>
          <a:xfrm>
            <a:off x="2945880" y="5297040"/>
            <a:ext cx="1662840" cy="252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2287080" y="4154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6560" y="1341360"/>
            <a:ext cx="28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erazione 3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66560" y="1773360"/>
            <a:ext cx="338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co scelto: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(5,4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5796000" y="3068640"/>
          <a:ext cx="2593800" cy="2573280"/>
        </p:xfrm>
        <a:graphic>
          <a:graphicData uri="http://schemas.openxmlformats.org/drawingml/2006/table">
            <a:tbl>
              <a:tblPr/>
              <a:tblGrid>
                <a:gridCol w="863280"/>
                <a:gridCol w="866880"/>
                <a:gridCol w="8636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D13C-C2F5-4708-AD06-081A1F7F22D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561840" y="2987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11320" y="4230720"/>
            <a:ext cx="404640" cy="344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27200" y="3303720"/>
            <a:ext cx="405000" cy="349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7200" y="5124600"/>
            <a:ext cx="405000" cy="345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21320" y="3303720"/>
            <a:ext cx="404640" cy="349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22760" y="5126040"/>
            <a:ext cx="405000" cy="344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3" name=""/>
          <p:cNvCxnSpPr>
            <a:stCxn id="388" idx="7"/>
            <a:endCxn id="389" idx="2"/>
          </p:cNvCxnSpPr>
          <p:nvPr/>
        </p:nvCxnSpPr>
        <p:spPr>
          <a:xfrm flipV="1">
            <a:off x="1455480" y="3477960"/>
            <a:ext cx="1060920" cy="79272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88" idx="5"/>
            <a:endCxn id="390" idx="2"/>
          </p:cNvCxnSpPr>
          <p:nvPr/>
        </p:nvCxnSpPr>
        <p:spPr>
          <a:xfrm>
            <a:off x="1455480" y="4538160"/>
            <a:ext cx="1060920" cy="76140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89" idx="6"/>
            <a:endCxn id="391" idx="2"/>
          </p:cNvCxnSpPr>
          <p:nvPr/>
        </p:nvCxnSpPr>
        <p:spPr>
          <a:xfrm>
            <a:off x="2945880" y="3477960"/>
            <a:ext cx="166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96" name=""/>
          <p:cNvCxnSpPr>
            <a:stCxn id="389" idx="5"/>
            <a:endCxn id="392" idx="1"/>
          </p:cNvCxnSpPr>
          <p:nvPr/>
        </p:nvCxnSpPr>
        <p:spPr>
          <a:xfrm>
            <a:off x="2873520" y="3613320"/>
            <a:ext cx="1808640" cy="155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397" name=""/>
          <p:cNvSpPr/>
          <p:nvPr/>
        </p:nvSpPr>
        <p:spPr>
          <a:xfrm>
            <a:off x="1579320" y="3459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693600" y="3973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480680" y="4848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576240" y="5324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1" name=""/>
          <p:cNvCxnSpPr>
            <a:stCxn id="392" idx="0"/>
            <a:endCxn id="391" idx="4"/>
          </p:cNvCxnSpPr>
          <p:nvPr/>
        </p:nvCxnSpPr>
        <p:spPr>
          <a:xfrm flipH="1" flipV="1">
            <a:off x="4822560" y="3661560"/>
            <a:ext cx="2160" cy="145188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402" name=""/>
          <p:cNvSpPr/>
          <p:nvPr/>
        </p:nvSpPr>
        <p:spPr>
          <a:xfrm>
            <a:off x="4887360" y="4148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504880" y="2692440"/>
            <a:ext cx="35460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53680" y="4178160"/>
            <a:ext cx="35460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663440" y="2692440"/>
            <a:ext cx="52812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Bookman Old Style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503080" y="5635800"/>
            <a:ext cx="35460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Bookman Old Style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55880" y="5635800"/>
            <a:ext cx="35460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Bookman Old Style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8" name=""/>
          <p:cNvCxnSpPr>
            <a:stCxn id="389" idx="4"/>
            <a:endCxn id="390" idx="0"/>
          </p:cNvCxnSpPr>
          <p:nvPr/>
        </p:nvCxnSpPr>
        <p:spPr>
          <a:xfrm>
            <a:off x="2730240" y="3666600"/>
            <a:ext cx="1080" cy="144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09" name=""/>
          <p:cNvCxnSpPr>
            <a:stCxn id="390" idx="6"/>
            <a:endCxn id="392" idx="2"/>
          </p:cNvCxnSpPr>
          <p:nvPr/>
        </p:nvCxnSpPr>
        <p:spPr>
          <a:xfrm>
            <a:off x="2945880" y="5297040"/>
            <a:ext cx="1662840" cy="252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2287080" y="4154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5796000" y="3068640"/>
          <a:ext cx="2593800" cy="2573280"/>
        </p:xfrm>
        <a:graphic>
          <a:graphicData uri="http://schemas.openxmlformats.org/drawingml/2006/table">
            <a:tbl>
              <a:tblPr/>
              <a:tblGrid>
                <a:gridCol w="863280"/>
                <a:gridCol w="866880"/>
                <a:gridCol w="8636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"/>
          <p:cNvSpPr/>
          <p:nvPr/>
        </p:nvSpPr>
        <p:spPr>
          <a:xfrm>
            <a:off x="466560" y="1341360"/>
            <a:ext cx="28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erazione 4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66560" y="1773360"/>
            <a:ext cx="338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co scelto: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,2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0AD0-DD82-4BDB-A07F-04838F98B82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3819240" y="2139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368360" y="3382920"/>
            <a:ext cx="405000" cy="344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784600" y="2455920"/>
            <a:ext cx="404640" cy="349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784600" y="4276800"/>
            <a:ext cx="404640" cy="345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878360" y="2455920"/>
            <a:ext cx="405000" cy="349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879800" y="4278240"/>
            <a:ext cx="405000" cy="344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"/>
          <p:cNvCxnSpPr>
            <a:stCxn id="416" idx="7"/>
            <a:endCxn id="417" idx="2"/>
          </p:cNvCxnSpPr>
          <p:nvPr/>
        </p:nvCxnSpPr>
        <p:spPr>
          <a:xfrm flipV="1">
            <a:off x="1712880" y="2630160"/>
            <a:ext cx="1061280" cy="79272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416" idx="5"/>
            <a:endCxn id="418" idx="2"/>
          </p:cNvCxnSpPr>
          <p:nvPr/>
        </p:nvCxnSpPr>
        <p:spPr>
          <a:xfrm>
            <a:off x="1712880" y="3691080"/>
            <a:ext cx="1061280" cy="76104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423" name=""/>
          <p:cNvCxnSpPr>
            <a:stCxn id="417" idx="6"/>
            <a:endCxn id="419" idx="2"/>
          </p:cNvCxnSpPr>
          <p:nvPr/>
        </p:nvCxnSpPr>
        <p:spPr>
          <a:xfrm>
            <a:off x="3203280" y="2630160"/>
            <a:ext cx="166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24" name=""/>
          <p:cNvCxnSpPr>
            <a:stCxn id="417" idx="5"/>
            <a:endCxn id="420" idx="1"/>
          </p:cNvCxnSpPr>
          <p:nvPr/>
        </p:nvCxnSpPr>
        <p:spPr>
          <a:xfrm>
            <a:off x="3130200" y="2765520"/>
            <a:ext cx="1809000" cy="155160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1836360" y="2611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950640" y="31258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737720" y="4000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833280" y="4476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9" name=""/>
          <p:cNvCxnSpPr>
            <a:stCxn id="420" idx="0"/>
            <a:endCxn id="419" idx="4"/>
          </p:cNvCxnSpPr>
          <p:nvPr/>
        </p:nvCxnSpPr>
        <p:spPr>
          <a:xfrm flipH="1" flipV="1">
            <a:off x="5079240" y="2813760"/>
            <a:ext cx="2520" cy="145188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430" name=""/>
          <p:cNvSpPr/>
          <p:nvPr/>
        </p:nvSpPr>
        <p:spPr>
          <a:xfrm>
            <a:off x="5144760" y="3300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761920" y="1844640"/>
            <a:ext cx="35460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810720" y="3330720"/>
            <a:ext cx="35460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920480" y="1844640"/>
            <a:ext cx="52812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Bookman Old Style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760480" y="4788000"/>
            <a:ext cx="35460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Bookman Old Style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912920" y="4788000"/>
            <a:ext cx="35460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6" name=""/>
          <p:cNvCxnSpPr>
            <a:stCxn id="417" idx="4"/>
            <a:endCxn id="418" idx="0"/>
          </p:cNvCxnSpPr>
          <p:nvPr/>
        </p:nvCxnSpPr>
        <p:spPr>
          <a:xfrm>
            <a:off x="2987280" y="2819520"/>
            <a:ext cx="1080" cy="14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37" name=""/>
          <p:cNvCxnSpPr>
            <a:stCxn id="418" idx="6"/>
            <a:endCxn id="420" idx="2"/>
          </p:cNvCxnSpPr>
          <p:nvPr/>
        </p:nvCxnSpPr>
        <p:spPr>
          <a:xfrm>
            <a:off x="3203280" y="4449240"/>
            <a:ext cx="166284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38" name=""/>
          <p:cNvSpPr/>
          <p:nvPr/>
        </p:nvSpPr>
        <p:spPr>
          <a:xfrm>
            <a:off x="2544480" y="3306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5796000" y="2421000"/>
          <a:ext cx="2593800" cy="2573280"/>
        </p:xfrm>
        <a:graphic>
          <a:graphicData uri="http://schemas.openxmlformats.org/drawingml/2006/table">
            <a:tbl>
              <a:tblPr/>
              <a:tblGrid>
                <a:gridCol w="863640"/>
                <a:gridCol w="866520"/>
                <a:gridCol w="8636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0" name=""/>
          <p:cNvSpPr/>
          <p:nvPr/>
        </p:nvSpPr>
        <p:spPr>
          <a:xfrm>
            <a:off x="324000" y="5229360"/>
            <a:ext cx="849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Osservazion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’arco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(3,5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sce dall’albero ed è sostituito da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(2,5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ntre l’arco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(5,4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iventa violato  (!!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3676680" y="4223880"/>
            <a:ext cx="576360" cy="5050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676680" y="4224240"/>
            <a:ext cx="647640" cy="5050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66560" y="1341360"/>
            <a:ext cx="28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erazione 5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11280" y="1339920"/>
            <a:ext cx="338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co scelto: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(2,5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026B-5AC5-46A5-A192-A003FCD5082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395280" y="1413000"/>
            <a:ext cx="28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erazione 6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561840" y="3048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111320" y="4290840"/>
            <a:ext cx="404640" cy="344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27200" y="3363840"/>
            <a:ext cx="405000" cy="349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27200" y="5184720"/>
            <a:ext cx="405000" cy="345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621320" y="3363840"/>
            <a:ext cx="404640" cy="349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22760" y="5186520"/>
            <a:ext cx="405000" cy="344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48" idx="7"/>
            <a:endCxn id="449" idx="2"/>
          </p:cNvCxnSpPr>
          <p:nvPr/>
        </p:nvCxnSpPr>
        <p:spPr>
          <a:xfrm flipV="1">
            <a:off x="1455480" y="3537720"/>
            <a:ext cx="1060920" cy="79308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454" name=""/>
          <p:cNvCxnSpPr>
            <a:stCxn id="448" idx="5"/>
            <a:endCxn id="450" idx="2"/>
          </p:cNvCxnSpPr>
          <p:nvPr/>
        </p:nvCxnSpPr>
        <p:spPr>
          <a:xfrm>
            <a:off x="1455480" y="4599000"/>
            <a:ext cx="1060920" cy="76104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455" name=""/>
          <p:cNvCxnSpPr>
            <a:stCxn id="449" idx="6"/>
            <a:endCxn id="451" idx="2"/>
          </p:cNvCxnSpPr>
          <p:nvPr/>
        </p:nvCxnSpPr>
        <p:spPr>
          <a:xfrm>
            <a:off x="2945880" y="3538080"/>
            <a:ext cx="1662840" cy="108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49" idx="5"/>
            <a:endCxn id="452" idx="1"/>
          </p:cNvCxnSpPr>
          <p:nvPr/>
        </p:nvCxnSpPr>
        <p:spPr>
          <a:xfrm>
            <a:off x="2873520" y="3673440"/>
            <a:ext cx="1808640" cy="155160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457" name=""/>
          <p:cNvSpPr/>
          <p:nvPr/>
        </p:nvSpPr>
        <p:spPr>
          <a:xfrm>
            <a:off x="1579320" y="3519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693600" y="4033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80680" y="4908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576240" y="5384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1" name=""/>
          <p:cNvCxnSpPr>
            <a:stCxn id="452" idx="0"/>
            <a:endCxn id="451" idx="4"/>
          </p:cNvCxnSpPr>
          <p:nvPr/>
        </p:nvCxnSpPr>
        <p:spPr>
          <a:xfrm flipH="1" flipV="1">
            <a:off x="4822560" y="3722400"/>
            <a:ext cx="2160" cy="1451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62" name=""/>
          <p:cNvSpPr/>
          <p:nvPr/>
        </p:nvSpPr>
        <p:spPr>
          <a:xfrm>
            <a:off x="4887360" y="4208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04880" y="2752560"/>
            <a:ext cx="35460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53680" y="4238640"/>
            <a:ext cx="35460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655880" y="2752560"/>
            <a:ext cx="35460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503080" y="5695920"/>
            <a:ext cx="35460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Bookman Old Style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655880" y="5695920"/>
            <a:ext cx="35460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49" idx="4"/>
            <a:endCxn id="450" idx="0"/>
          </p:cNvCxnSpPr>
          <p:nvPr/>
        </p:nvCxnSpPr>
        <p:spPr>
          <a:xfrm>
            <a:off x="2730240" y="3727440"/>
            <a:ext cx="1080" cy="14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69" name=""/>
          <p:cNvCxnSpPr>
            <a:stCxn id="450" idx="6"/>
            <a:endCxn id="452" idx="2"/>
          </p:cNvCxnSpPr>
          <p:nvPr/>
        </p:nvCxnSpPr>
        <p:spPr>
          <a:xfrm>
            <a:off x="2945880" y="5357880"/>
            <a:ext cx="166284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70" name=""/>
          <p:cNvSpPr/>
          <p:nvPr/>
        </p:nvSpPr>
        <p:spPr>
          <a:xfrm>
            <a:off x="2287080" y="4214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24000" y="1773360"/>
            <a:ext cx="338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co scelto: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(2,4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5724360" y="3201840"/>
          <a:ext cx="2594160" cy="2573280"/>
        </p:xfrm>
        <a:graphic>
          <a:graphicData uri="http://schemas.openxmlformats.org/drawingml/2006/table">
            <a:tbl>
              <a:tblPr/>
              <a:tblGrid>
                <a:gridCol w="863640"/>
                <a:gridCol w="866880"/>
                <a:gridCol w="8636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91BE-6287-4A0B-B789-E096D286868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3561840" y="2500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111320" y="3743280"/>
            <a:ext cx="404640" cy="344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527200" y="2816280"/>
            <a:ext cx="405000" cy="349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527200" y="4637160"/>
            <a:ext cx="405000" cy="345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621320" y="2816280"/>
            <a:ext cx="404640" cy="349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622760" y="4638600"/>
            <a:ext cx="405000" cy="344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0" name=""/>
          <p:cNvCxnSpPr>
            <a:stCxn id="475" idx="7"/>
            <a:endCxn id="476" idx="2"/>
          </p:cNvCxnSpPr>
          <p:nvPr/>
        </p:nvCxnSpPr>
        <p:spPr>
          <a:xfrm flipV="1">
            <a:off x="1455480" y="2990520"/>
            <a:ext cx="1060920" cy="79272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481" name=""/>
          <p:cNvCxnSpPr>
            <a:stCxn id="475" idx="5"/>
            <a:endCxn id="477" idx="2"/>
          </p:cNvCxnSpPr>
          <p:nvPr/>
        </p:nvCxnSpPr>
        <p:spPr>
          <a:xfrm>
            <a:off x="1455480" y="4051440"/>
            <a:ext cx="1060920" cy="761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2" name=""/>
          <p:cNvCxnSpPr>
            <a:stCxn id="476" idx="6"/>
            <a:endCxn id="478" idx="2"/>
          </p:cNvCxnSpPr>
          <p:nvPr/>
        </p:nvCxnSpPr>
        <p:spPr>
          <a:xfrm>
            <a:off x="2945880" y="2990520"/>
            <a:ext cx="1662840" cy="108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483" name=""/>
          <p:cNvCxnSpPr>
            <a:stCxn id="476" idx="5"/>
            <a:endCxn id="479" idx="1"/>
          </p:cNvCxnSpPr>
          <p:nvPr/>
        </p:nvCxnSpPr>
        <p:spPr>
          <a:xfrm>
            <a:off x="2873520" y="3125880"/>
            <a:ext cx="1808640" cy="155160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484" name=""/>
          <p:cNvSpPr/>
          <p:nvPr/>
        </p:nvSpPr>
        <p:spPr>
          <a:xfrm>
            <a:off x="157932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693600" y="34862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480680" y="4361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576240" y="4836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8" name=""/>
          <p:cNvCxnSpPr>
            <a:stCxn id="479" idx="0"/>
            <a:endCxn id="478" idx="4"/>
          </p:cNvCxnSpPr>
          <p:nvPr/>
        </p:nvCxnSpPr>
        <p:spPr>
          <a:xfrm flipH="1" flipV="1">
            <a:off x="4822560" y="3174120"/>
            <a:ext cx="2160" cy="1451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89" name=""/>
          <p:cNvSpPr/>
          <p:nvPr/>
        </p:nvSpPr>
        <p:spPr>
          <a:xfrm>
            <a:off x="4887360" y="3660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4880" y="2205000"/>
            <a:ext cx="35460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53680" y="3691080"/>
            <a:ext cx="35460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655880" y="2205000"/>
            <a:ext cx="35460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503080" y="5148360"/>
            <a:ext cx="35460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655880" y="5148360"/>
            <a:ext cx="35460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5" name=""/>
          <p:cNvCxnSpPr>
            <a:stCxn id="476" idx="4"/>
            <a:endCxn id="477" idx="0"/>
          </p:cNvCxnSpPr>
          <p:nvPr/>
        </p:nvCxnSpPr>
        <p:spPr>
          <a:xfrm>
            <a:off x="2730240" y="3179880"/>
            <a:ext cx="1080" cy="144360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77" idx="6"/>
            <a:endCxn id="479" idx="2"/>
          </p:cNvCxnSpPr>
          <p:nvPr/>
        </p:nvCxnSpPr>
        <p:spPr>
          <a:xfrm>
            <a:off x="2945880" y="4809600"/>
            <a:ext cx="166284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97" name=""/>
          <p:cNvSpPr/>
          <p:nvPr/>
        </p:nvSpPr>
        <p:spPr>
          <a:xfrm>
            <a:off x="2287080" y="3666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50920" y="1700280"/>
            <a:ext cx="338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CMSS8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co scelto: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(2,3)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5796000" y="2867040"/>
          <a:ext cx="2593800" cy="2573280"/>
        </p:xfrm>
        <a:graphic>
          <a:graphicData uri="http://schemas.openxmlformats.org/drawingml/2006/table">
            <a:tbl>
              <a:tblPr/>
              <a:tblGrid>
                <a:gridCol w="863280"/>
                <a:gridCol w="866880"/>
                <a:gridCol w="8636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0" name=""/>
          <p:cNvSpPr/>
          <p:nvPr/>
        </p:nvSpPr>
        <p:spPr>
          <a:xfrm>
            <a:off x="973080" y="5734080"/>
            <a:ext cx="698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to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non esistono archi violati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97080" y="1341360"/>
            <a:ext cx="179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erazione 7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9419-FB5E-4468-A348-BD798B133B7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382680" y="1484280"/>
            <a:ext cx="8150040" cy="45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roposizion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Per ogni arco del grafo dei predecessori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isu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man Old Style"/>
              </a:rPr>
              <a:t>u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do un arco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ne inserito, si esegue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man Old Style"/>
              </a:rPr>
              <a:t>u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Nelle iterazioni success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minuisce, allora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man Old Style"/>
              </a:rPr>
              <a:t>u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s: arco (5,4) all’iter.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, invece, diminuisce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ha che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956720" y="5877000"/>
            <a:ext cx="14436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alis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8F01-8CEA-4FC1-9270-620422BADDD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382680" y="1413000"/>
            <a:ext cx="8150040" cy="30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roposizione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Ad una generica iterazione il grafo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ntiene un cammino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ciascun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 cui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 lunghezza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man Old Style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atti, sia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cammino 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…,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Dalla Proposizione 1 si ha ch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1332000" y="3789360"/>
                <a:ext cx="64087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8" name=""/>
          <p:cNvSpPr/>
          <p:nvPr/>
        </p:nvSpPr>
        <p:spPr>
          <a:xfrm>
            <a:off x="7956720" y="5734080"/>
            <a:ext cx="14436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alis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56AA-5892-4B51-A112-6CB120F14CE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Condizioni di ottimalit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747800" y="2975040"/>
                <a:ext cx="5703840" cy="27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: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δ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δ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</m:t>
                            </m:r>
                            <m:r>
                              <m:t xml:space="preserve">∀</m:t>
                            </m:r>
                          </m:e>
                        </m:nary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          </m:t>
                        </m:r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611280" y="1628640"/>
            <a:ext cx="79246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ssociamo ad ogni vincolo di conservazione una variabil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ad ogni vincolo di capacità una variabil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089E-9B8E-451C-AF02-A238040678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ssit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29920" y="1484280"/>
            <a:ext cx="8002440" cy="100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la funzione lunghezza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è intera, l’algoritmo di Ford converge in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O(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55760" y="2637000"/>
            <a:ext cx="843732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att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distanza di un nodo d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è limitata superiormente d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quanto un cammino contiene al più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 ciascu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lunghezza non superiore 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Analogamente, la minima distan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un nodo d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è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–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l’ipotesi di interezza, la distanza si riduce almeno di una un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 ogni aggiornamento. Quindi il massimo numero di aggiornamen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un nodo è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L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, complessivamente,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o che ogni iterazione esegue un aggiornamento, l’algorit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ge in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O(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r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5CFF-BD47-455C-B28C-BB3B12AB2F8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684360" y="1484280"/>
            <a:ext cx="7848360" cy="165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eore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’algoritmo di Ford termina restituendo l’albero dei cammini minimi da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7040" y="3500280"/>
            <a:ext cx="7861320" cy="24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terminazione dell’algoritmo è dimostrata. La condizione di arresto e la Proposizione 1 implicano che l’algoritmo restituisce un grafo dei predecessori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cui ciascun arco soddisf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-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uv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ndi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ontiene un cammino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 cui di lunghezz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teorema del max potenziale-min lavoro implica l’ottimalità di tali camm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099280" y="5805360"/>
            <a:ext cx="144720" cy="1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alidit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A886-F0DC-4043-8580-903DD152779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611280" y="1268280"/>
            <a:ext cx="7921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96080" indent="-496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a succede se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uò contenere cicli orientati di lunghezza negati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algoritmo di Ford può essere modificato in modo da arrestarsi restituendo un ciclo negativo se il grafo ne contiene almeno u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istono due criteri per l’individuazi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Basato sulle distanze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Basato sulla struttura del grafo dei predecess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dividuazione di cicli negativ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D555-B679-4633-A3CB-CC41E5C5B8E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539640" y="1557360"/>
            <a:ext cx="79218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ntiene un ciclo orientato di lunghezza negativa, allora non esiste un potenziale. Quindi, l’algoritmo di Ford continua a diminuire le distanze indefinitam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–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nL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è una limitazione inferiore della lunghezza di un qualunque cammino quando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non contiene cicli negativ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indi, se una distanza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iventa minore di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–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n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siste un ciclo negativo. Esso è contenuto nel grafo dei predecessori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iterio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B532-7233-4952-A582-A9A29C4A9F7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468360" y="1557360"/>
            <a:ext cx="8207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hiamo l’algoritmo al grafo ed alla funzione lunghezza di fig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558600" y="3040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28720" y="4140360"/>
            <a:ext cx="387360" cy="341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459160" y="3159000"/>
            <a:ext cx="385560" cy="343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546440" y="3591000"/>
            <a:ext cx="385920" cy="342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700360" y="4959360"/>
            <a:ext cx="385920" cy="341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"/>
          <p:cNvCxnSpPr>
            <a:stCxn id="523" idx="7"/>
            <a:endCxn id="524" idx="2"/>
          </p:cNvCxnSpPr>
          <p:nvPr/>
        </p:nvCxnSpPr>
        <p:spPr>
          <a:xfrm flipV="1">
            <a:off x="1158840" y="3330360"/>
            <a:ext cx="1286640" cy="84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28" name=""/>
          <p:cNvCxnSpPr>
            <a:stCxn id="523" idx="5"/>
            <a:endCxn id="526" idx="2"/>
          </p:cNvCxnSpPr>
          <p:nvPr/>
        </p:nvCxnSpPr>
        <p:spPr>
          <a:xfrm>
            <a:off x="1158840" y="4446720"/>
            <a:ext cx="1527840" cy="68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29" name=""/>
          <p:cNvCxnSpPr>
            <a:stCxn id="524" idx="6"/>
            <a:endCxn id="525" idx="2"/>
          </p:cNvCxnSpPr>
          <p:nvPr/>
        </p:nvCxnSpPr>
        <p:spPr>
          <a:xfrm>
            <a:off x="2859120" y="3330360"/>
            <a:ext cx="167400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530" name=""/>
          <p:cNvSpPr/>
          <p:nvPr/>
        </p:nvSpPr>
        <p:spPr>
          <a:xfrm>
            <a:off x="1275840" y="3379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874320" y="44085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542600" y="4788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3" name=""/>
          <p:cNvCxnSpPr>
            <a:stCxn id="525" idx="3"/>
            <a:endCxn id="526" idx="6"/>
          </p:cNvCxnSpPr>
          <p:nvPr/>
        </p:nvCxnSpPr>
        <p:spPr>
          <a:xfrm flipH="1">
            <a:off x="3099960" y="3897360"/>
            <a:ext cx="1504080" cy="12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34" name=""/>
          <p:cNvCxnSpPr>
            <a:stCxn id="526" idx="0"/>
            <a:endCxn id="524" idx="4"/>
          </p:cNvCxnSpPr>
          <p:nvPr/>
        </p:nvCxnSpPr>
        <p:spPr>
          <a:xfrm flipH="1" flipV="1">
            <a:off x="2652480" y="3516120"/>
            <a:ext cx="241920" cy="142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535" name=""/>
          <p:cNvSpPr/>
          <p:nvPr/>
        </p:nvSpPr>
        <p:spPr>
          <a:xfrm>
            <a:off x="2796480" y="3732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5867280" y="3368520"/>
          <a:ext cx="2594160" cy="2148120"/>
        </p:xfrm>
        <a:graphic>
          <a:graphicData uri="http://schemas.openxmlformats.org/drawingml/2006/table">
            <a:tbl>
              <a:tblPr/>
              <a:tblGrid>
                <a:gridCol w="863640"/>
                <a:gridCol w="866880"/>
                <a:gridCol w="8636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r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= 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50BA-64FB-4DC6-82CF-2FD92A59390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539640" y="1557360"/>
            <a:ext cx="820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er 1. arco scelto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,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558600" y="3040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828720" y="4140360"/>
            <a:ext cx="387360" cy="341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459160" y="3159000"/>
            <a:ext cx="385560" cy="343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546440" y="3591000"/>
            <a:ext cx="385920" cy="342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700360" y="4959360"/>
            <a:ext cx="385920" cy="341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4" name=""/>
          <p:cNvCxnSpPr>
            <a:stCxn id="540" idx="7"/>
            <a:endCxn id="541" idx="2"/>
          </p:cNvCxnSpPr>
          <p:nvPr/>
        </p:nvCxnSpPr>
        <p:spPr>
          <a:xfrm flipV="1">
            <a:off x="1158840" y="3330360"/>
            <a:ext cx="1286640" cy="84528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40" idx="5"/>
            <a:endCxn id="543" idx="2"/>
          </p:cNvCxnSpPr>
          <p:nvPr/>
        </p:nvCxnSpPr>
        <p:spPr>
          <a:xfrm>
            <a:off x="1158840" y="4446720"/>
            <a:ext cx="1527840" cy="68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46" name=""/>
          <p:cNvCxnSpPr>
            <a:stCxn id="541" idx="6"/>
            <a:endCxn id="542" idx="2"/>
          </p:cNvCxnSpPr>
          <p:nvPr/>
        </p:nvCxnSpPr>
        <p:spPr>
          <a:xfrm>
            <a:off x="2859120" y="3330360"/>
            <a:ext cx="167400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547" name=""/>
          <p:cNvSpPr/>
          <p:nvPr/>
        </p:nvSpPr>
        <p:spPr>
          <a:xfrm>
            <a:off x="1275840" y="3379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74320" y="44085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542600" y="4788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0" name=""/>
          <p:cNvCxnSpPr>
            <a:stCxn id="542" idx="3"/>
            <a:endCxn id="543" idx="6"/>
          </p:cNvCxnSpPr>
          <p:nvPr/>
        </p:nvCxnSpPr>
        <p:spPr>
          <a:xfrm flipH="1">
            <a:off x="3099960" y="3897360"/>
            <a:ext cx="1504080" cy="12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51" name=""/>
          <p:cNvCxnSpPr>
            <a:stCxn id="543" idx="0"/>
            <a:endCxn id="541" idx="4"/>
          </p:cNvCxnSpPr>
          <p:nvPr/>
        </p:nvCxnSpPr>
        <p:spPr>
          <a:xfrm flipH="1" flipV="1">
            <a:off x="2652480" y="3516120"/>
            <a:ext cx="241920" cy="142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552" name=""/>
          <p:cNvSpPr/>
          <p:nvPr/>
        </p:nvSpPr>
        <p:spPr>
          <a:xfrm>
            <a:off x="2796480" y="3732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5867280" y="3368520"/>
          <a:ext cx="2594160" cy="2148120"/>
        </p:xfrm>
        <a:graphic>
          <a:graphicData uri="http://schemas.openxmlformats.org/drawingml/2006/table">
            <a:tbl>
              <a:tblPr/>
              <a:tblGrid>
                <a:gridCol w="863640"/>
                <a:gridCol w="866880"/>
                <a:gridCol w="8636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r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= 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4" name=""/>
          <p:cNvSpPr/>
          <p:nvPr/>
        </p:nvSpPr>
        <p:spPr>
          <a:xfrm>
            <a:off x="2425320" y="2575080"/>
            <a:ext cx="35460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2D31-BCE1-425A-91B2-EDD6596403A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468360" y="1846440"/>
            <a:ext cx="82072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er 2. arco scelto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(2,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558600" y="3065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28720" y="4165560"/>
            <a:ext cx="387360" cy="341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459160" y="3184560"/>
            <a:ext cx="385560" cy="342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546440" y="3616200"/>
            <a:ext cx="385920" cy="343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700360" y="4984920"/>
            <a:ext cx="385920" cy="341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2" name=""/>
          <p:cNvCxnSpPr>
            <a:stCxn id="558" idx="7"/>
            <a:endCxn id="559" idx="2"/>
          </p:cNvCxnSpPr>
          <p:nvPr/>
        </p:nvCxnSpPr>
        <p:spPr>
          <a:xfrm flipV="1">
            <a:off x="1158840" y="3355560"/>
            <a:ext cx="1286640" cy="84528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563" name=""/>
          <p:cNvCxnSpPr>
            <a:stCxn id="558" idx="5"/>
            <a:endCxn id="561" idx="2"/>
          </p:cNvCxnSpPr>
          <p:nvPr/>
        </p:nvCxnSpPr>
        <p:spPr>
          <a:xfrm>
            <a:off x="1158840" y="4471560"/>
            <a:ext cx="1527840" cy="68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64" name=""/>
          <p:cNvCxnSpPr>
            <a:stCxn id="559" idx="6"/>
            <a:endCxn id="560" idx="2"/>
          </p:cNvCxnSpPr>
          <p:nvPr/>
        </p:nvCxnSpPr>
        <p:spPr>
          <a:xfrm>
            <a:off x="2859120" y="3355920"/>
            <a:ext cx="1674000" cy="43272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565" name=""/>
          <p:cNvSpPr/>
          <p:nvPr/>
        </p:nvSpPr>
        <p:spPr>
          <a:xfrm>
            <a:off x="1275840" y="340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874320" y="44337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542600" y="4813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8" name=""/>
          <p:cNvCxnSpPr>
            <a:stCxn id="560" idx="3"/>
            <a:endCxn id="561" idx="6"/>
          </p:cNvCxnSpPr>
          <p:nvPr/>
        </p:nvCxnSpPr>
        <p:spPr>
          <a:xfrm flipH="1">
            <a:off x="3099960" y="3922200"/>
            <a:ext cx="1504080" cy="123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69" name=""/>
          <p:cNvCxnSpPr>
            <a:stCxn id="561" idx="0"/>
            <a:endCxn id="559" idx="4"/>
          </p:cNvCxnSpPr>
          <p:nvPr/>
        </p:nvCxnSpPr>
        <p:spPr>
          <a:xfrm flipH="1" flipV="1">
            <a:off x="2652480" y="3540960"/>
            <a:ext cx="241920" cy="142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570" name=""/>
          <p:cNvSpPr/>
          <p:nvPr/>
        </p:nvSpPr>
        <p:spPr>
          <a:xfrm>
            <a:off x="2796480" y="3757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5867280" y="3394080"/>
          <a:ext cx="2594160" cy="2147760"/>
        </p:xfrm>
        <a:graphic>
          <a:graphicData uri="http://schemas.openxmlformats.org/drawingml/2006/table">
            <a:tbl>
              <a:tblPr/>
              <a:tblGrid>
                <a:gridCol w="863640"/>
                <a:gridCol w="866880"/>
                <a:gridCol w="8636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r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= 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2" name=""/>
          <p:cNvSpPr/>
          <p:nvPr/>
        </p:nvSpPr>
        <p:spPr>
          <a:xfrm>
            <a:off x="2425320" y="2575080"/>
            <a:ext cx="35460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922640" y="3030480"/>
            <a:ext cx="35460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74B7-62EA-4E48-A687-A0DBE1F3494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468360" y="1846440"/>
            <a:ext cx="82072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er 3. arco scelto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(3,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558600" y="3065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28720" y="4165560"/>
            <a:ext cx="387360" cy="341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459160" y="3184560"/>
            <a:ext cx="385560" cy="342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46440" y="3616200"/>
            <a:ext cx="385920" cy="343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700360" y="4984920"/>
            <a:ext cx="385920" cy="341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1" name=""/>
          <p:cNvCxnSpPr>
            <a:stCxn id="577" idx="7"/>
            <a:endCxn id="578" idx="2"/>
          </p:cNvCxnSpPr>
          <p:nvPr/>
        </p:nvCxnSpPr>
        <p:spPr>
          <a:xfrm flipV="1">
            <a:off x="1158840" y="3355560"/>
            <a:ext cx="1286640" cy="84528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582" name=""/>
          <p:cNvCxnSpPr>
            <a:stCxn id="577" idx="5"/>
            <a:endCxn id="580" idx="2"/>
          </p:cNvCxnSpPr>
          <p:nvPr/>
        </p:nvCxnSpPr>
        <p:spPr>
          <a:xfrm>
            <a:off x="1158840" y="4471560"/>
            <a:ext cx="1527840" cy="68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83" name=""/>
          <p:cNvCxnSpPr>
            <a:stCxn id="578" idx="6"/>
            <a:endCxn id="579" idx="2"/>
          </p:cNvCxnSpPr>
          <p:nvPr/>
        </p:nvCxnSpPr>
        <p:spPr>
          <a:xfrm>
            <a:off x="2859120" y="3355920"/>
            <a:ext cx="1674000" cy="43272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584" name=""/>
          <p:cNvSpPr/>
          <p:nvPr/>
        </p:nvSpPr>
        <p:spPr>
          <a:xfrm>
            <a:off x="1275840" y="340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874320" y="44337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542600" y="4813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7" name=""/>
          <p:cNvCxnSpPr>
            <a:stCxn id="579" idx="3"/>
            <a:endCxn id="580" idx="6"/>
          </p:cNvCxnSpPr>
          <p:nvPr/>
        </p:nvCxnSpPr>
        <p:spPr>
          <a:xfrm flipH="1">
            <a:off x="3099960" y="3922200"/>
            <a:ext cx="1504080" cy="123444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588" name=""/>
          <p:cNvCxnSpPr>
            <a:stCxn id="580" idx="0"/>
            <a:endCxn id="578" idx="4"/>
          </p:cNvCxnSpPr>
          <p:nvPr/>
        </p:nvCxnSpPr>
        <p:spPr>
          <a:xfrm flipH="1" flipV="1">
            <a:off x="2652480" y="3540960"/>
            <a:ext cx="241920" cy="142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589" name=""/>
          <p:cNvSpPr/>
          <p:nvPr/>
        </p:nvSpPr>
        <p:spPr>
          <a:xfrm>
            <a:off x="2796480" y="3757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5867280" y="3394080"/>
          <a:ext cx="2594160" cy="2147760"/>
        </p:xfrm>
        <a:graphic>
          <a:graphicData uri="http://schemas.openxmlformats.org/drawingml/2006/table">
            <a:tbl>
              <a:tblPr/>
              <a:tblGrid>
                <a:gridCol w="863640"/>
                <a:gridCol w="866880"/>
                <a:gridCol w="8636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r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= 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1" name=""/>
          <p:cNvSpPr/>
          <p:nvPr/>
        </p:nvSpPr>
        <p:spPr>
          <a:xfrm>
            <a:off x="2425320" y="2575080"/>
            <a:ext cx="35460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633560" y="2959200"/>
            <a:ext cx="35460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715120" y="5483160"/>
            <a:ext cx="35460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LCMSS8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D548-21DC-45E2-A1F8-DAECB1AEA5F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468360" y="1413000"/>
            <a:ext cx="388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er 4. arco scelto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(4,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558600" y="177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828720" y="2873520"/>
            <a:ext cx="387360" cy="341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59160" y="1892160"/>
            <a:ext cx="385560" cy="343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546440" y="2324160"/>
            <a:ext cx="385920" cy="342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700360" y="3432240"/>
            <a:ext cx="385920" cy="341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1" name=""/>
          <p:cNvCxnSpPr>
            <a:stCxn id="597" idx="7"/>
            <a:endCxn id="598" idx="2"/>
          </p:cNvCxnSpPr>
          <p:nvPr/>
        </p:nvCxnSpPr>
        <p:spPr>
          <a:xfrm flipV="1">
            <a:off x="1158840" y="2063520"/>
            <a:ext cx="1286640" cy="845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2" name=""/>
          <p:cNvCxnSpPr>
            <a:stCxn id="597" idx="5"/>
            <a:endCxn id="600" idx="2"/>
          </p:cNvCxnSpPr>
          <p:nvPr/>
        </p:nvCxnSpPr>
        <p:spPr>
          <a:xfrm>
            <a:off x="1158840" y="3179520"/>
            <a:ext cx="1527840" cy="42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3" name=""/>
          <p:cNvCxnSpPr>
            <a:stCxn id="598" idx="6"/>
            <a:endCxn id="599" idx="2"/>
          </p:cNvCxnSpPr>
          <p:nvPr/>
        </p:nvCxnSpPr>
        <p:spPr>
          <a:xfrm>
            <a:off x="2859120" y="2063520"/>
            <a:ext cx="1674000" cy="43236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604" name=""/>
          <p:cNvSpPr/>
          <p:nvPr/>
        </p:nvSpPr>
        <p:spPr>
          <a:xfrm>
            <a:off x="1325160" y="1943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74320" y="30448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542600" y="3357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7" name=""/>
          <p:cNvCxnSpPr>
            <a:stCxn id="599" idx="3"/>
            <a:endCxn id="600" idx="6"/>
          </p:cNvCxnSpPr>
          <p:nvPr/>
        </p:nvCxnSpPr>
        <p:spPr>
          <a:xfrm flipH="1">
            <a:off x="3099960" y="2630160"/>
            <a:ext cx="1504080" cy="97380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608" name=""/>
          <p:cNvCxnSpPr>
            <a:stCxn id="600" idx="0"/>
            <a:endCxn id="598" idx="4"/>
          </p:cNvCxnSpPr>
          <p:nvPr/>
        </p:nvCxnSpPr>
        <p:spPr>
          <a:xfrm flipH="1" flipV="1">
            <a:off x="2652480" y="2248920"/>
            <a:ext cx="241920" cy="116892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609" name=""/>
          <p:cNvSpPr/>
          <p:nvPr/>
        </p:nvSpPr>
        <p:spPr>
          <a:xfrm>
            <a:off x="2796480" y="2465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920040" y="4199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CMSS8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189080" y="5295960"/>
            <a:ext cx="387360" cy="341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819520" y="4314960"/>
            <a:ext cx="385560" cy="342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906800" y="4746600"/>
            <a:ext cx="385920" cy="343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060720" y="5854680"/>
            <a:ext cx="385920" cy="341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"/>
          <p:cNvCxnSpPr>
            <a:stCxn id="611" idx="7"/>
            <a:endCxn id="612" idx="2"/>
          </p:cNvCxnSpPr>
          <p:nvPr/>
        </p:nvCxnSpPr>
        <p:spPr>
          <a:xfrm flipV="1">
            <a:off x="1519200" y="4485960"/>
            <a:ext cx="1286640" cy="8452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6" name=""/>
          <p:cNvCxnSpPr>
            <a:stCxn id="611" idx="5"/>
            <a:endCxn id="614" idx="2"/>
          </p:cNvCxnSpPr>
          <p:nvPr/>
        </p:nvCxnSpPr>
        <p:spPr>
          <a:xfrm>
            <a:off x="1519200" y="5601960"/>
            <a:ext cx="1527840" cy="42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7" name=""/>
          <p:cNvCxnSpPr>
            <a:stCxn id="612" idx="6"/>
            <a:endCxn id="613" idx="2"/>
          </p:cNvCxnSpPr>
          <p:nvPr/>
        </p:nvCxnSpPr>
        <p:spPr>
          <a:xfrm>
            <a:off x="3219480" y="4485960"/>
            <a:ext cx="1674000" cy="43236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618" name=""/>
          <p:cNvSpPr/>
          <p:nvPr/>
        </p:nvSpPr>
        <p:spPr>
          <a:xfrm>
            <a:off x="1636200" y="4535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234680" y="54673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02960" y="5780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1" name=""/>
          <p:cNvCxnSpPr>
            <a:stCxn id="613" idx="3"/>
            <a:endCxn id="614" idx="6"/>
          </p:cNvCxnSpPr>
          <p:nvPr/>
        </p:nvCxnSpPr>
        <p:spPr>
          <a:xfrm flipH="1">
            <a:off x="3460320" y="5052600"/>
            <a:ext cx="1504080" cy="97380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622" name=""/>
          <p:cNvCxnSpPr>
            <a:stCxn id="614" idx="0"/>
            <a:endCxn id="612" idx="4"/>
          </p:cNvCxnSpPr>
          <p:nvPr/>
        </p:nvCxnSpPr>
        <p:spPr>
          <a:xfrm flipH="1" flipV="1">
            <a:off x="3012840" y="4671360"/>
            <a:ext cx="241920" cy="116892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623" name=""/>
          <p:cNvSpPr/>
          <p:nvPr/>
        </p:nvSpPr>
        <p:spPr>
          <a:xfrm>
            <a:off x="3156840" y="48880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96720" y="3860640"/>
            <a:ext cx="3743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er 5. arco scelto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(2,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5867280" y="1557360"/>
          <a:ext cx="2594160" cy="2127240"/>
        </p:xfrm>
        <a:graphic>
          <a:graphicData uri="http://schemas.openxmlformats.org/drawingml/2006/table">
            <a:tbl>
              <a:tblPr/>
              <a:tblGrid>
                <a:gridCol w="863640"/>
                <a:gridCol w="866880"/>
                <a:gridCol w="8636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r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= 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6" name=""/>
          <p:cNvGraphicFramePr/>
          <p:nvPr/>
        </p:nvGraphicFramePr>
        <p:xfrm>
          <a:off x="5867280" y="3789360"/>
          <a:ext cx="2594160" cy="2127240"/>
        </p:xfrm>
        <a:graphic>
          <a:graphicData uri="http://schemas.openxmlformats.org/drawingml/2006/table">
            <a:tbl>
              <a:tblPr/>
              <a:tblGrid>
                <a:gridCol w="863640"/>
                <a:gridCol w="866880"/>
                <a:gridCol w="8636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r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= 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7" name=""/>
          <p:cNvSpPr/>
          <p:nvPr/>
        </p:nvSpPr>
        <p:spPr>
          <a:xfrm>
            <a:off x="1258920" y="2522520"/>
            <a:ext cx="865080" cy="71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1618920" y="2233440"/>
            <a:ext cx="144360" cy="576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56F4-A1AE-4A1D-92CA-8224DF2EE42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468360" y="1413000"/>
            <a:ext cx="395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er 6. arco scelto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(3,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558600" y="1844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28720" y="2944800"/>
            <a:ext cx="387360" cy="341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459160" y="1963800"/>
            <a:ext cx="385560" cy="342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546440" y="2395440"/>
            <a:ext cx="385920" cy="343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700360" y="3503520"/>
            <a:ext cx="385920" cy="341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6" name=""/>
          <p:cNvCxnSpPr>
            <a:stCxn id="632" idx="7"/>
            <a:endCxn id="633" idx="2"/>
          </p:cNvCxnSpPr>
          <p:nvPr/>
        </p:nvCxnSpPr>
        <p:spPr>
          <a:xfrm flipV="1">
            <a:off x="1158840" y="2134800"/>
            <a:ext cx="1286640" cy="845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7" name=""/>
          <p:cNvCxnSpPr>
            <a:stCxn id="632" idx="5"/>
            <a:endCxn id="635" idx="2"/>
          </p:cNvCxnSpPr>
          <p:nvPr/>
        </p:nvCxnSpPr>
        <p:spPr>
          <a:xfrm>
            <a:off x="1158840" y="3251160"/>
            <a:ext cx="1527840" cy="42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8" name=""/>
          <p:cNvCxnSpPr>
            <a:stCxn id="633" idx="6"/>
            <a:endCxn id="634" idx="2"/>
          </p:cNvCxnSpPr>
          <p:nvPr/>
        </p:nvCxnSpPr>
        <p:spPr>
          <a:xfrm>
            <a:off x="2859120" y="2135160"/>
            <a:ext cx="1674000" cy="43272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639" name=""/>
          <p:cNvSpPr/>
          <p:nvPr/>
        </p:nvSpPr>
        <p:spPr>
          <a:xfrm>
            <a:off x="1275840" y="2184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874320" y="31161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42600" y="342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2" name=""/>
          <p:cNvCxnSpPr>
            <a:stCxn id="634" idx="3"/>
            <a:endCxn id="635" idx="6"/>
          </p:cNvCxnSpPr>
          <p:nvPr/>
        </p:nvCxnSpPr>
        <p:spPr>
          <a:xfrm flipH="1">
            <a:off x="3099960" y="2701800"/>
            <a:ext cx="1504080" cy="97416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643" name=""/>
          <p:cNvCxnSpPr>
            <a:stCxn id="635" idx="0"/>
            <a:endCxn id="633" idx="4"/>
          </p:cNvCxnSpPr>
          <p:nvPr/>
        </p:nvCxnSpPr>
        <p:spPr>
          <a:xfrm flipH="1" flipV="1">
            <a:off x="2652480" y="2320560"/>
            <a:ext cx="241920" cy="116928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644" name=""/>
          <p:cNvSpPr/>
          <p:nvPr/>
        </p:nvSpPr>
        <p:spPr>
          <a:xfrm>
            <a:off x="2796480" y="25369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846240" y="4146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116000" y="5246640"/>
            <a:ext cx="387360" cy="341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746440" y="4265640"/>
            <a:ext cx="385560" cy="342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834080" y="4697280"/>
            <a:ext cx="385560" cy="343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987640" y="5805360"/>
            <a:ext cx="385920" cy="341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0" name=""/>
          <p:cNvCxnSpPr>
            <a:stCxn id="646" idx="7"/>
            <a:endCxn id="647" idx="2"/>
          </p:cNvCxnSpPr>
          <p:nvPr/>
        </p:nvCxnSpPr>
        <p:spPr>
          <a:xfrm flipV="1">
            <a:off x="1446120" y="4436640"/>
            <a:ext cx="1286640" cy="845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51" name=""/>
          <p:cNvCxnSpPr>
            <a:stCxn id="646" idx="5"/>
            <a:endCxn id="649" idx="2"/>
          </p:cNvCxnSpPr>
          <p:nvPr/>
        </p:nvCxnSpPr>
        <p:spPr>
          <a:xfrm>
            <a:off x="1446120" y="5553000"/>
            <a:ext cx="1527840" cy="42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52" name=""/>
          <p:cNvCxnSpPr>
            <a:stCxn id="647" idx="6"/>
            <a:endCxn id="648" idx="2"/>
          </p:cNvCxnSpPr>
          <p:nvPr/>
        </p:nvCxnSpPr>
        <p:spPr>
          <a:xfrm>
            <a:off x="3146400" y="4437000"/>
            <a:ext cx="1674000" cy="43272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653" name=""/>
          <p:cNvSpPr/>
          <p:nvPr/>
        </p:nvSpPr>
        <p:spPr>
          <a:xfrm>
            <a:off x="1563120" y="4486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161600" y="5418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829880" y="5730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6" name=""/>
          <p:cNvCxnSpPr>
            <a:stCxn id="648" idx="3"/>
            <a:endCxn id="649" idx="6"/>
          </p:cNvCxnSpPr>
          <p:nvPr/>
        </p:nvCxnSpPr>
        <p:spPr>
          <a:xfrm flipH="1">
            <a:off x="3387240" y="5003640"/>
            <a:ext cx="1504080" cy="97416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49" idx="0"/>
            <a:endCxn id="647" idx="4"/>
          </p:cNvCxnSpPr>
          <p:nvPr/>
        </p:nvCxnSpPr>
        <p:spPr>
          <a:xfrm flipH="1" flipV="1">
            <a:off x="2939760" y="4622400"/>
            <a:ext cx="241920" cy="116928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658" name=""/>
          <p:cNvSpPr/>
          <p:nvPr/>
        </p:nvSpPr>
        <p:spPr>
          <a:xfrm>
            <a:off x="3083760" y="48387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96720" y="3817800"/>
            <a:ext cx="4030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er 7. arco scelto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(4,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0" name=""/>
          <p:cNvGraphicFramePr/>
          <p:nvPr/>
        </p:nvGraphicFramePr>
        <p:xfrm>
          <a:off x="5796000" y="1628640"/>
          <a:ext cx="2593800" cy="2141280"/>
        </p:xfrm>
        <a:graphic>
          <a:graphicData uri="http://schemas.openxmlformats.org/drawingml/2006/table">
            <a:tbl>
              <a:tblPr/>
              <a:tblGrid>
                <a:gridCol w="863280"/>
                <a:gridCol w="866880"/>
                <a:gridCol w="8636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r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= 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1" name=""/>
          <p:cNvGraphicFramePr/>
          <p:nvPr/>
        </p:nvGraphicFramePr>
        <p:xfrm>
          <a:off x="5796000" y="3860640"/>
          <a:ext cx="2593800" cy="2127240"/>
        </p:xfrm>
        <a:graphic>
          <a:graphicData uri="http://schemas.openxmlformats.org/drawingml/2006/table">
            <a:tbl>
              <a:tblPr/>
              <a:tblGrid>
                <a:gridCol w="863280"/>
                <a:gridCol w="866880"/>
                <a:gridCol w="8636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r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= 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-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70FC-949D-4DE7-9C3A-09402CA9BDD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blema dua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971640" y="1635120"/>
                <a:ext cx="5905440" cy="24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      </m:t>
                        </m:r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rPr>
                            <m:lit/>
                            <m:nor/>
                          </m:rPr>
                          <m:t xml:space="preserve">0                                          </m:t>
                        </m:r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826920" y="4119480"/>
            <a:ext cx="79250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definisc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sto ridot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quantit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916360" y="4869000"/>
                <a:ext cx="24192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7378560" y="2997360"/>
            <a:ext cx="865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74DE-1909-4A60-BFDA-2B7750BEE3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468360" y="1413000"/>
            <a:ext cx="395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er 8. arco scelto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(2,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846240" y="177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116000" y="2873520"/>
            <a:ext cx="387360" cy="341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6440" y="1892160"/>
            <a:ext cx="385560" cy="343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834080" y="2324160"/>
            <a:ext cx="385560" cy="342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987640" y="3432240"/>
            <a:ext cx="385920" cy="341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9" name=""/>
          <p:cNvCxnSpPr>
            <a:stCxn id="665" idx="7"/>
            <a:endCxn id="666" idx="2"/>
          </p:cNvCxnSpPr>
          <p:nvPr/>
        </p:nvCxnSpPr>
        <p:spPr>
          <a:xfrm flipV="1">
            <a:off x="1446120" y="2063520"/>
            <a:ext cx="1286640" cy="845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70" name=""/>
          <p:cNvCxnSpPr>
            <a:stCxn id="665" idx="5"/>
            <a:endCxn id="668" idx="2"/>
          </p:cNvCxnSpPr>
          <p:nvPr/>
        </p:nvCxnSpPr>
        <p:spPr>
          <a:xfrm>
            <a:off x="1446120" y="3179520"/>
            <a:ext cx="1527840" cy="42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71" name=""/>
          <p:cNvCxnSpPr>
            <a:stCxn id="666" idx="6"/>
            <a:endCxn id="667" idx="2"/>
          </p:cNvCxnSpPr>
          <p:nvPr/>
        </p:nvCxnSpPr>
        <p:spPr>
          <a:xfrm>
            <a:off x="3146400" y="2063520"/>
            <a:ext cx="1674000" cy="43236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672" name=""/>
          <p:cNvSpPr/>
          <p:nvPr/>
        </p:nvSpPr>
        <p:spPr>
          <a:xfrm>
            <a:off x="1563120" y="2112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161600" y="30448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29880" y="3357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5" name=""/>
          <p:cNvCxnSpPr>
            <a:stCxn id="667" idx="3"/>
            <a:endCxn id="668" idx="6"/>
          </p:cNvCxnSpPr>
          <p:nvPr/>
        </p:nvCxnSpPr>
        <p:spPr>
          <a:xfrm flipH="1">
            <a:off x="3387240" y="2630160"/>
            <a:ext cx="1504080" cy="97380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676" name=""/>
          <p:cNvCxnSpPr>
            <a:stCxn id="668" idx="0"/>
            <a:endCxn id="666" idx="4"/>
          </p:cNvCxnSpPr>
          <p:nvPr/>
        </p:nvCxnSpPr>
        <p:spPr>
          <a:xfrm flipH="1" flipV="1">
            <a:off x="2939760" y="2248920"/>
            <a:ext cx="241920" cy="116892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677" name=""/>
          <p:cNvSpPr/>
          <p:nvPr/>
        </p:nvSpPr>
        <p:spPr>
          <a:xfrm>
            <a:off x="3083760" y="2465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703320" y="4124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973080" y="5224320"/>
            <a:ext cx="387360" cy="341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603520" y="4243320"/>
            <a:ext cx="385920" cy="343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691160" y="4675320"/>
            <a:ext cx="385560" cy="342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844720" y="5783400"/>
            <a:ext cx="385920" cy="341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3" name=""/>
          <p:cNvCxnSpPr>
            <a:stCxn id="679" idx="7"/>
            <a:endCxn id="680" idx="2"/>
          </p:cNvCxnSpPr>
          <p:nvPr/>
        </p:nvCxnSpPr>
        <p:spPr>
          <a:xfrm flipV="1">
            <a:off x="1303200" y="4414320"/>
            <a:ext cx="1286640" cy="845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4" name=""/>
          <p:cNvCxnSpPr>
            <a:stCxn id="679" idx="5"/>
            <a:endCxn id="682" idx="2"/>
          </p:cNvCxnSpPr>
          <p:nvPr/>
        </p:nvCxnSpPr>
        <p:spPr>
          <a:xfrm>
            <a:off x="1302840" y="5530680"/>
            <a:ext cx="1528200" cy="42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5" name=""/>
          <p:cNvCxnSpPr>
            <a:stCxn id="680" idx="6"/>
            <a:endCxn id="681" idx="2"/>
          </p:cNvCxnSpPr>
          <p:nvPr/>
        </p:nvCxnSpPr>
        <p:spPr>
          <a:xfrm>
            <a:off x="3003480" y="4414680"/>
            <a:ext cx="1674000" cy="43272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686" name=""/>
          <p:cNvSpPr/>
          <p:nvPr/>
        </p:nvSpPr>
        <p:spPr>
          <a:xfrm>
            <a:off x="1420560" y="4464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019040" y="53960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686960" y="5708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9" name=""/>
          <p:cNvCxnSpPr>
            <a:stCxn id="681" idx="3"/>
            <a:endCxn id="682" idx="6"/>
          </p:cNvCxnSpPr>
          <p:nvPr/>
        </p:nvCxnSpPr>
        <p:spPr>
          <a:xfrm flipH="1">
            <a:off x="3244320" y="4981320"/>
            <a:ext cx="1504080" cy="97380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0"/>
            <a:endCxn id="680" idx="4"/>
          </p:cNvCxnSpPr>
          <p:nvPr/>
        </p:nvCxnSpPr>
        <p:spPr>
          <a:xfrm flipH="1" flipV="1">
            <a:off x="2796840" y="4600080"/>
            <a:ext cx="241920" cy="116928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691" name=""/>
          <p:cNvSpPr/>
          <p:nvPr/>
        </p:nvSpPr>
        <p:spPr>
          <a:xfrm>
            <a:off x="2940840" y="48164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96720" y="3789360"/>
            <a:ext cx="388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er 9. arco scelto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(3,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5867280" y="1557360"/>
          <a:ext cx="2594160" cy="2127240"/>
        </p:xfrm>
        <a:graphic>
          <a:graphicData uri="http://schemas.openxmlformats.org/drawingml/2006/table">
            <a:tbl>
              <a:tblPr/>
              <a:tblGrid>
                <a:gridCol w="863640"/>
                <a:gridCol w="866880"/>
                <a:gridCol w="8636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r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= 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-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4" name=""/>
          <p:cNvGraphicFramePr/>
          <p:nvPr/>
        </p:nvGraphicFramePr>
        <p:xfrm>
          <a:off x="5867280" y="3789360"/>
          <a:ext cx="2594160" cy="2127240"/>
        </p:xfrm>
        <a:graphic>
          <a:graphicData uri="http://schemas.openxmlformats.org/drawingml/2006/table">
            <a:tbl>
              <a:tblPr/>
              <a:tblGrid>
                <a:gridCol w="863640"/>
                <a:gridCol w="866880"/>
                <a:gridCol w="8636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r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= 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-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1CDE-08B9-482E-88AF-D75A88A31B0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468360" y="1557360"/>
            <a:ext cx="4390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er 10. arco scelt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(4,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558600" y="2824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828720" y="3924360"/>
            <a:ext cx="387360" cy="341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459160" y="2943360"/>
            <a:ext cx="385560" cy="342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546440" y="3375000"/>
            <a:ext cx="385920" cy="343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700360" y="4483080"/>
            <a:ext cx="385920" cy="341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stCxn id="698" idx="7"/>
            <a:endCxn id="699" idx="2"/>
          </p:cNvCxnSpPr>
          <p:nvPr/>
        </p:nvCxnSpPr>
        <p:spPr>
          <a:xfrm flipV="1">
            <a:off x="1158840" y="3114360"/>
            <a:ext cx="1286640" cy="845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3" name=""/>
          <p:cNvCxnSpPr>
            <a:stCxn id="698" idx="5"/>
            <a:endCxn id="701" idx="2"/>
          </p:cNvCxnSpPr>
          <p:nvPr/>
        </p:nvCxnSpPr>
        <p:spPr>
          <a:xfrm>
            <a:off x="1158840" y="4230360"/>
            <a:ext cx="1527840" cy="42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4" name=""/>
          <p:cNvCxnSpPr>
            <a:stCxn id="699" idx="6"/>
            <a:endCxn id="700" idx="2"/>
          </p:cNvCxnSpPr>
          <p:nvPr/>
        </p:nvCxnSpPr>
        <p:spPr>
          <a:xfrm>
            <a:off x="2859120" y="3114360"/>
            <a:ext cx="1674000" cy="43236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705" name=""/>
          <p:cNvSpPr/>
          <p:nvPr/>
        </p:nvSpPr>
        <p:spPr>
          <a:xfrm>
            <a:off x="1275840" y="3164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874320" y="4095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542600" y="4408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8" name=""/>
          <p:cNvCxnSpPr>
            <a:stCxn id="700" idx="3"/>
            <a:endCxn id="701" idx="6"/>
          </p:cNvCxnSpPr>
          <p:nvPr/>
        </p:nvCxnSpPr>
        <p:spPr>
          <a:xfrm flipH="1">
            <a:off x="3099960" y="3681000"/>
            <a:ext cx="1504080" cy="97380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1" idx="0"/>
            <a:endCxn id="699" idx="4"/>
          </p:cNvCxnSpPr>
          <p:nvPr/>
        </p:nvCxnSpPr>
        <p:spPr>
          <a:xfrm flipH="1" flipV="1">
            <a:off x="2652480" y="3299760"/>
            <a:ext cx="241920" cy="116892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710" name=""/>
          <p:cNvSpPr/>
          <p:nvPr/>
        </p:nvSpPr>
        <p:spPr>
          <a:xfrm>
            <a:off x="2796480" y="35164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1" name=""/>
          <p:cNvGraphicFramePr/>
          <p:nvPr/>
        </p:nvGraphicFramePr>
        <p:xfrm>
          <a:off x="5867280" y="2708280"/>
          <a:ext cx="2594160" cy="2127240"/>
        </p:xfrm>
        <a:graphic>
          <a:graphicData uri="http://schemas.openxmlformats.org/drawingml/2006/table">
            <a:tbl>
              <a:tblPr/>
              <a:tblGrid>
                <a:gridCol w="863640"/>
                <a:gridCol w="866880"/>
                <a:gridCol w="8636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r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= 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-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2" name=""/>
          <p:cNvSpPr/>
          <p:nvPr/>
        </p:nvSpPr>
        <p:spPr>
          <a:xfrm>
            <a:off x="2366280" y="2346480"/>
            <a:ext cx="452160" cy="459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Bookman Old Style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55640" y="5373720"/>
            <a:ext cx="741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= -5 &lt; -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n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e 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tituisce il ciclo negativ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7DBE-9B1A-4DC7-B877-43542F2ED33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395280" y="1339920"/>
            <a:ext cx="79218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l numero di iterazioni dipende da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quindi la convergenza del criterio 1 è in genere molto len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’iterazione 4, l’arco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,2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viene sostituito dall’arco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(4,2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ndo un ciclo in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17680" y="5157720"/>
            <a:ext cx="81579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enerale, questo può accadere se e solo se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ntiene un ciclo orientato di lunghezza negativ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725880" y="2997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3995640" y="4097160"/>
            <a:ext cx="387360" cy="341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626080" y="3116160"/>
            <a:ext cx="385920" cy="343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713720" y="3548160"/>
            <a:ext cx="385560" cy="342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867280" y="4656240"/>
            <a:ext cx="385920" cy="341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2" name=""/>
          <p:cNvCxnSpPr>
            <a:stCxn id="718" idx="7"/>
            <a:endCxn id="719" idx="2"/>
          </p:cNvCxnSpPr>
          <p:nvPr/>
        </p:nvCxnSpPr>
        <p:spPr>
          <a:xfrm flipV="1">
            <a:off x="4325760" y="3287520"/>
            <a:ext cx="1286640" cy="845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3" name=""/>
          <p:cNvCxnSpPr>
            <a:stCxn id="718" idx="5"/>
            <a:endCxn id="721" idx="2"/>
          </p:cNvCxnSpPr>
          <p:nvPr/>
        </p:nvCxnSpPr>
        <p:spPr>
          <a:xfrm>
            <a:off x="4325400" y="4403520"/>
            <a:ext cx="1528200" cy="42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4" name=""/>
          <p:cNvCxnSpPr>
            <a:stCxn id="719" idx="6"/>
            <a:endCxn id="720" idx="2"/>
          </p:cNvCxnSpPr>
          <p:nvPr/>
        </p:nvCxnSpPr>
        <p:spPr>
          <a:xfrm>
            <a:off x="6026040" y="3287520"/>
            <a:ext cx="1674000" cy="43236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4492080" y="3166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041600" y="42688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709520" y="4581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8" name=""/>
          <p:cNvCxnSpPr>
            <a:stCxn id="720" idx="3"/>
            <a:endCxn id="721" idx="6"/>
          </p:cNvCxnSpPr>
          <p:nvPr/>
        </p:nvCxnSpPr>
        <p:spPr>
          <a:xfrm flipH="1">
            <a:off x="6267240" y="3854160"/>
            <a:ext cx="1504080" cy="97380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729" name=""/>
          <p:cNvCxnSpPr>
            <a:stCxn id="721" idx="0"/>
            <a:endCxn id="719" idx="4"/>
          </p:cNvCxnSpPr>
          <p:nvPr/>
        </p:nvCxnSpPr>
        <p:spPr>
          <a:xfrm flipH="1" flipV="1">
            <a:off x="5819400" y="3472920"/>
            <a:ext cx="241920" cy="116928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730" name=""/>
          <p:cNvSpPr/>
          <p:nvPr/>
        </p:nvSpPr>
        <p:spPr>
          <a:xfrm>
            <a:off x="5963400" y="3689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425840" y="3746520"/>
            <a:ext cx="865440" cy="71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4786200" y="3457440"/>
            <a:ext cx="144720" cy="576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iterio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68360" y="3141720"/>
            <a:ext cx="388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er 4. arco scelto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(4,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3961-903C-45BE-9BA9-6CDD9F86AA9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468360" y="5373720"/>
            <a:ext cx="388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646240" y="2565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916360" y="3665520"/>
            <a:ext cx="387360" cy="341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546440" y="2684520"/>
            <a:ext cx="385920" cy="342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634080" y="3116160"/>
            <a:ext cx="385920" cy="343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788000" y="4224240"/>
            <a:ext cx="385560" cy="341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1" name=""/>
          <p:cNvCxnSpPr>
            <a:stCxn id="737" idx="7"/>
            <a:endCxn id="738" idx="2"/>
          </p:cNvCxnSpPr>
          <p:nvPr/>
        </p:nvCxnSpPr>
        <p:spPr>
          <a:xfrm flipV="1">
            <a:off x="3246480" y="2855520"/>
            <a:ext cx="1286640" cy="845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2" name=""/>
          <p:cNvCxnSpPr>
            <a:stCxn id="737" idx="5"/>
            <a:endCxn id="740" idx="2"/>
          </p:cNvCxnSpPr>
          <p:nvPr/>
        </p:nvCxnSpPr>
        <p:spPr>
          <a:xfrm>
            <a:off x="3246480" y="3971880"/>
            <a:ext cx="1527840" cy="42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3" name=""/>
          <p:cNvCxnSpPr>
            <a:stCxn id="738" idx="6"/>
            <a:endCxn id="739" idx="2"/>
          </p:cNvCxnSpPr>
          <p:nvPr/>
        </p:nvCxnSpPr>
        <p:spPr>
          <a:xfrm>
            <a:off x="4946760" y="2855880"/>
            <a:ext cx="1674000" cy="43272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744" name=""/>
          <p:cNvSpPr/>
          <p:nvPr/>
        </p:nvSpPr>
        <p:spPr>
          <a:xfrm>
            <a:off x="3412800" y="2735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961960" y="38368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630240" y="4149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7" name=""/>
          <p:cNvCxnSpPr>
            <a:stCxn id="739" idx="3"/>
            <a:endCxn id="740" idx="6"/>
          </p:cNvCxnSpPr>
          <p:nvPr/>
        </p:nvCxnSpPr>
        <p:spPr>
          <a:xfrm flipH="1">
            <a:off x="5187600" y="3422520"/>
            <a:ext cx="1504080" cy="97416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748" name=""/>
          <p:cNvCxnSpPr>
            <a:stCxn id="740" idx="0"/>
            <a:endCxn id="738" idx="4"/>
          </p:cNvCxnSpPr>
          <p:nvPr/>
        </p:nvCxnSpPr>
        <p:spPr>
          <a:xfrm flipH="1" flipV="1">
            <a:off x="4739400" y="3041280"/>
            <a:ext cx="242280" cy="116928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749" name=""/>
          <p:cNvSpPr/>
          <p:nvPr/>
        </p:nvSpPr>
        <p:spPr>
          <a:xfrm>
            <a:off x="4884120" y="3257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346560" y="3314880"/>
            <a:ext cx="865080" cy="71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3706560" y="3025800"/>
            <a:ext cx="144360" cy="576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20560" y="1413000"/>
            <a:ext cx="7939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indi, un secondo criterio di individuzione di cicli negativi in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nsiste nel verificare (con frequenza fissata) s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ntiene un cicl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93640" y="4724280"/>
            <a:ext cx="7939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po l’aggiornamento di un arco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Bookman Old Style"/>
              </a:rPr>
              <a:t>[(2,4)]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i percorrono i predecessori di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en-US" sz="2200" spc="-1" strike="noStrike">
                <a:solidFill>
                  <a:srgbClr val="ff3300"/>
                </a:solidFill>
                <a:latin typeface="Bookman Old Style"/>
              </a:rPr>
              <a:t>[4]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e si incoltra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200" spc="-1" strike="noStrike">
                <a:solidFill>
                  <a:srgbClr val="ff3300"/>
                </a:solidFill>
                <a:latin typeface="Bookman Old Style"/>
              </a:rPr>
              <a:t>[2]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llora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ntiene un cicl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iterio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B078-B12B-4494-B9F3-3FC0ED9695B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468360" y="5373720"/>
            <a:ext cx="388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93640" y="1254240"/>
            <a:ext cx="79390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secondo criterio è, in generale, molto più efficiente del primo. Nell’esempio, un ciclo in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man Old Style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are alla iterazione 4, mentre il criterio 1 non individua il ciclo negativo prima di 10 iterazio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orrere a ritroso i predecessori di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 complessità linea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omplessità asintotica dell’algoritmo di Ford non cambia se ad ogni passo, si aggiunge la visita a ritroso dei predecessori del nodo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alis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2A18-CDDD-4FBC-932B-7A03E4C5565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ircuiti incrementanti di costo negati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iamo in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 cammino (non necessariamente orientato) incrementa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027160" y="292104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215040" y="2924280"/>
            <a:ext cx="216000" cy="215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106800" y="284796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762440" y="284796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4" name=""/>
          <p:cNvCxnSpPr>
            <a:stCxn id="760" idx="7"/>
            <a:endCxn id="762" idx="2"/>
          </p:cNvCxnSpPr>
          <p:nvPr/>
        </p:nvCxnSpPr>
        <p:spPr>
          <a:xfrm>
            <a:off x="2211120" y="2952360"/>
            <a:ext cx="8960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62" idx="6"/>
            <a:endCxn id="763" idx="2"/>
          </p:cNvCxnSpPr>
          <p:nvPr/>
        </p:nvCxnSpPr>
        <p:spPr>
          <a:xfrm>
            <a:off x="3322440" y="295560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6" name=""/>
          <p:cNvCxnSpPr>
            <a:stCxn id="763" idx="6"/>
            <a:endCxn id="761" idx="1"/>
          </p:cNvCxnSpPr>
          <p:nvPr/>
        </p:nvCxnSpPr>
        <p:spPr>
          <a:xfrm>
            <a:off x="4978080" y="2955600"/>
            <a:ext cx="1269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767" name=""/>
          <p:cNvSpPr/>
          <p:nvPr/>
        </p:nvSpPr>
        <p:spPr>
          <a:xfrm>
            <a:off x="2572200" y="2637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867480" y="2637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418720" y="2643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892880" y="306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150960" y="3068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438280" y="299556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878280" y="30034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18280" y="30114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11280" y="3645000"/>
            <a:ext cx="79246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 marL="150840" indent="-150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aumentiamo il flusso di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ungo il cammino (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l costo varia del valore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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valore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(3+2-6) = 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dice costo del camm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siste in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 circuito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crementante di costo negativo posso, incrementando di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flusso lungo il circuito, diminuire il valore della soluzione corr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C48E-E0E7-420C-BDFF-1C30FBAFE13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340000" y="1916280"/>
            <a:ext cx="2872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340000" y="4005360"/>
            <a:ext cx="2872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187280" y="2924280"/>
            <a:ext cx="28764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492360" y="2925720"/>
            <a:ext cx="28764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1" name=""/>
          <p:cNvCxnSpPr>
            <a:stCxn id="779" idx="7"/>
            <a:endCxn id="777" idx="3"/>
          </p:cNvCxnSpPr>
          <p:nvPr/>
        </p:nvCxnSpPr>
        <p:spPr>
          <a:xfrm flipV="1">
            <a:off x="1431720" y="2160360"/>
            <a:ext cx="951480" cy="80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2" name=""/>
          <p:cNvCxnSpPr>
            <a:stCxn id="779" idx="5"/>
            <a:endCxn id="778" idx="1"/>
          </p:cNvCxnSpPr>
          <p:nvPr/>
        </p:nvCxnSpPr>
        <p:spPr>
          <a:xfrm>
            <a:off x="1431720" y="3168360"/>
            <a:ext cx="951480" cy="88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3" name=""/>
          <p:cNvCxnSpPr>
            <a:stCxn id="777" idx="5"/>
            <a:endCxn id="780" idx="1"/>
          </p:cNvCxnSpPr>
          <p:nvPr/>
        </p:nvCxnSpPr>
        <p:spPr>
          <a:xfrm>
            <a:off x="2584080" y="2160720"/>
            <a:ext cx="951480" cy="808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4" name=""/>
          <p:cNvCxnSpPr>
            <a:stCxn id="780" idx="3"/>
            <a:endCxn id="778" idx="7"/>
          </p:cNvCxnSpPr>
          <p:nvPr/>
        </p:nvCxnSpPr>
        <p:spPr>
          <a:xfrm flipH="1">
            <a:off x="2583720" y="3169800"/>
            <a:ext cx="951480" cy="87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5" name=""/>
          <p:cNvCxnSpPr>
            <a:stCxn id="777" idx="4"/>
            <a:endCxn id="778" idx="0"/>
          </p:cNvCxnSpPr>
          <p:nvPr/>
        </p:nvCxnSpPr>
        <p:spPr>
          <a:xfrm>
            <a:off x="2484000" y="2203200"/>
            <a:ext cx="1080" cy="180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6" name=""/>
          <p:cNvSpPr/>
          <p:nvPr/>
        </p:nvSpPr>
        <p:spPr>
          <a:xfrm>
            <a:off x="1145160" y="22766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,4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158480" y="34941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4, 3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39640" y="4670280"/>
            <a:ext cx="338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tazione: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885760" y="21337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, 3,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166840" y="28526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3, 2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030120" y="35002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, 6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2" name=""/>
          <p:cNvCxnSpPr>
            <a:endCxn id="779" idx="2"/>
          </p:cNvCxnSpPr>
          <p:nvPr/>
        </p:nvCxnSpPr>
        <p:spPr>
          <a:xfrm>
            <a:off x="900000" y="3068280"/>
            <a:ext cx="2880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8" idx="4"/>
          </p:cNvCxnSpPr>
          <p:nvPr/>
        </p:nvCxnSpPr>
        <p:spPr>
          <a:xfrm flipV="1" rot="10800000">
            <a:off x="2483640" y="4292280"/>
            <a:ext cx="1080" cy="216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80" idx="6"/>
          </p:cNvCxnSpPr>
          <p:nvPr/>
        </p:nvCxnSpPr>
        <p:spPr>
          <a:xfrm>
            <a:off x="3780000" y="3069720"/>
            <a:ext cx="35892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795" name=""/>
          <p:cNvSpPr/>
          <p:nvPr/>
        </p:nvSpPr>
        <p:spPr>
          <a:xfrm>
            <a:off x="612720" y="2852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103640" y="2852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485800" y="4292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156360" y="1916280"/>
            <a:ext cx="2872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156360" y="4005360"/>
            <a:ext cx="2872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003640" y="2924280"/>
            <a:ext cx="28764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7308720" y="2925720"/>
            <a:ext cx="28764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2" name=""/>
          <p:cNvCxnSpPr>
            <a:stCxn id="800" idx="0"/>
            <a:endCxn id="798" idx="2"/>
          </p:cNvCxnSpPr>
          <p:nvPr/>
        </p:nvCxnSpPr>
        <p:spPr>
          <a:xfrm flipH="1" flipV="1" rot="5400000">
            <a:off x="5220360" y="1987920"/>
            <a:ext cx="864360" cy="100872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3" name=""/>
          <p:cNvCxnSpPr>
            <a:stCxn id="800" idx="6"/>
            <a:endCxn id="798" idx="3"/>
          </p:cNvCxnSpPr>
          <p:nvPr/>
        </p:nvCxnSpPr>
        <p:spPr>
          <a:xfrm flipV="1">
            <a:off x="5291280" y="2160360"/>
            <a:ext cx="908640" cy="9086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804" name=""/>
          <p:cNvCxnSpPr>
            <a:stCxn id="799" idx="0"/>
            <a:endCxn id="798" idx="4"/>
          </p:cNvCxnSpPr>
          <p:nvPr/>
        </p:nvCxnSpPr>
        <p:spPr>
          <a:xfrm flipV="1">
            <a:off x="6300360" y="2202840"/>
            <a:ext cx="1080" cy="180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5" name=""/>
          <p:cNvCxnSpPr>
            <a:stCxn id="799" idx="2"/>
            <a:endCxn id="800" idx="5"/>
          </p:cNvCxnSpPr>
          <p:nvPr/>
        </p:nvCxnSpPr>
        <p:spPr>
          <a:xfrm flipH="1" flipV="1">
            <a:off x="5248080" y="3168000"/>
            <a:ext cx="908640" cy="981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6" name=""/>
          <p:cNvCxnSpPr>
            <a:stCxn id="798" idx="5"/>
            <a:endCxn id="801" idx="1"/>
          </p:cNvCxnSpPr>
          <p:nvPr/>
        </p:nvCxnSpPr>
        <p:spPr>
          <a:xfrm>
            <a:off x="6400440" y="2160720"/>
            <a:ext cx="951480" cy="808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7" name=""/>
          <p:cNvCxnSpPr>
            <a:stCxn id="799" idx="6"/>
            <a:endCxn id="801" idx="4"/>
          </p:cNvCxnSpPr>
          <p:nvPr/>
        </p:nvCxnSpPr>
        <p:spPr>
          <a:xfrm flipV="1">
            <a:off x="6443280" y="3212640"/>
            <a:ext cx="1010520" cy="93744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808" name=""/>
          <p:cNvCxnSpPr>
            <a:stCxn id="799" idx="7"/>
            <a:endCxn id="801" idx="2"/>
          </p:cNvCxnSpPr>
          <p:nvPr/>
        </p:nvCxnSpPr>
        <p:spPr>
          <a:xfrm flipH="1" flipV="1" rot="5400000">
            <a:off x="6365520" y="3104640"/>
            <a:ext cx="978840" cy="908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9" name=""/>
          <p:cNvSpPr/>
          <p:nvPr/>
        </p:nvSpPr>
        <p:spPr>
          <a:xfrm>
            <a:off x="5101560" y="2133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741280" y="274464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728760" y="220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450840" y="296064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7016040" y="3824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956920" y="324792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236200" y="353700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500720" y="4653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fo ausiliari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39640" y="5157720"/>
            <a:ext cx="81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circuito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crementante di costo negativo corrisponde ad un circuito orientato di peso negativo sul grafo ausiliar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8EE2-A366-4D98-9A98-5976DCB02FB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Teorema (ottimalità per assenza di circuiti di costo negativ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a soluzione ammissibil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ottima se e solo se non esistono circuiti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incrementanti di costo neg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Dimost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mmette un ciclo negativo, ovviament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non è ott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mostriamo il viceversa. Sia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’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l grafo ottenuto aggiungendo a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un nod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collegand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 tutti i nodi in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con cost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c’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r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= 0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 Cerchiamo un cammino minimo da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 tutti gli altri nodi. Se non esiste un ciclo negativo in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’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,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algoritmo di Ford ritorna un potenziale che soddisfa il seguente sist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41A9-CB57-4275-8433-8D5E60F548F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mostrazi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345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 disequ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ra, ponend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=-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y’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 ricordando che s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=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i ha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c’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ji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=-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ottie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lle condizioni di ottimalità segue la tesi.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2" name=""/>
              <p:cNvSpPr txBox="1"/>
              <p:nvPr/>
            </p:nvSpPr>
            <p:spPr>
              <a:xfrm>
                <a:off x="1919160" y="2133720"/>
                <a:ext cx="48006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≤</m:t>
                    </m:r>
                    <m:r>
                      <m:t xml:space="preserve">c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∀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3" name=""/>
              <p:cNvSpPr txBox="1"/>
              <p:nvPr/>
            </p:nvSpPr>
            <p:spPr>
              <a:xfrm>
                <a:off x="2050920" y="3716280"/>
                <a:ext cx="350676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se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0 se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5888-F030-448D-809A-C2F14A18E67E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692360" y="3835440"/>
            <a:ext cx="35856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773440" y="2611440"/>
            <a:ext cx="358560" cy="35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718160" y="2611440"/>
            <a:ext cx="358560" cy="35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773440" y="5059440"/>
            <a:ext cx="35856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789440" y="5059440"/>
            <a:ext cx="3589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084720" y="3835440"/>
            <a:ext cx="3589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"/>
          <p:cNvCxnSpPr>
            <a:stCxn id="825" idx="7"/>
            <a:endCxn id="826" idx="3"/>
          </p:cNvCxnSpPr>
          <p:nvPr/>
        </p:nvCxnSpPr>
        <p:spPr>
          <a:xfrm flipV="1">
            <a:off x="1998360" y="2917440"/>
            <a:ext cx="827640" cy="97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2" name=""/>
          <p:cNvCxnSpPr>
            <a:stCxn id="825" idx="5"/>
            <a:endCxn id="828" idx="1"/>
          </p:cNvCxnSpPr>
          <p:nvPr/>
        </p:nvCxnSpPr>
        <p:spPr>
          <a:xfrm>
            <a:off x="1998360" y="4141800"/>
            <a:ext cx="827640" cy="97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3" name=""/>
          <p:cNvCxnSpPr>
            <a:stCxn id="826" idx="6"/>
            <a:endCxn id="827" idx="2"/>
          </p:cNvCxnSpPr>
          <p:nvPr/>
        </p:nvCxnSpPr>
        <p:spPr>
          <a:xfrm>
            <a:off x="3132000" y="2790360"/>
            <a:ext cx="1586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828" idx="6"/>
            <a:endCxn id="829" idx="2"/>
          </p:cNvCxnSpPr>
          <p:nvPr/>
        </p:nvCxnSpPr>
        <p:spPr>
          <a:xfrm>
            <a:off x="3132000" y="5238360"/>
            <a:ext cx="1658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827" idx="6"/>
            <a:endCxn id="830" idx="1"/>
          </p:cNvCxnSpPr>
          <p:nvPr/>
        </p:nvCxnSpPr>
        <p:spPr>
          <a:xfrm>
            <a:off x="5076720" y="2790360"/>
            <a:ext cx="1061280" cy="10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829" idx="6"/>
            <a:endCxn id="830" idx="3"/>
          </p:cNvCxnSpPr>
          <p:nvPr/>
        </p:nvCxnSpPr>
        <p:spPr>
          <a:xfrm flipV="1">
            <a:off x="5148000" y="4141080"/>
            <a:ext cx="989280" cy="10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826" idx="5"/>
            <a:endCxn id="829" idx="0"/>
          </p:cNvCxnSpPr>
          <p:nvPr/>
        </p:nvCxnSpPr>
        <p:spPr>
          <a:xfrm>
            <a:off x="3079440" y="2917440"/>
            <a:ext cx="1889640" cy="214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828" idx="7"/>
            <a:endCxn id="827" idx="3"/>
          </p:cNvCxnSpPr>
          <p:nvPr/>
        </p:nvCxnSpPr>
        <p:spPr>
          <a:xfrm flipV="1">
            <a:off x="3079800" y="2917440"/>
            <a:ext cx="1691280" cy="219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9" name=""/>
          <p:cNvSpPr/>
          <p:nvPr/>
        </p:nvSpPr>
        <p:spPr>
          <a:xfrm>
            <a:off x="539640" y="5589720"/>
            <a:ext cx="338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tazione: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j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773360" y="304164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,3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649520" y="445140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,3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538960" y="297504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,6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754600" y="452268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,6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489480" y="319104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,5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378240" y="452268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,5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665520" y="232740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5,4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841920" y="531504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5,4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053000" y="38354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+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530040" y="383544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95280" y="14130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vare il flusso di costo minimo sul grafo di figura a partire dalla soluzione ammissibile riportata (di valore 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2E8A-37B7-4DA1-81DE-FAB304FD5FA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Condizioni di ottimalit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34724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niamo che tutte le capacità siano infinite. Ciò significa che nel problema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n compaiono le variabili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Pertanto, una soluzione ammissibile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 la proprietà di av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 imp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255680" y="2943360"/>
                <a:ext cx="187632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364000" y="2924280"/>
                <a:ext cx="10256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11280" y="3616200"/>
            <a:ext cx="734688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≠ +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, una soluzione ammissibile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y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z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di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ha la  propriet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ma si ha anc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n conclusion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916360" y="4221000"/>
                <a:ext cx="12603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987640" y="4941720"/>
                <a:ext cx="9381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987640" y="5516640"/>
                <a:ext cx="23749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89A8-E75E-44C4-B230-4E58D8DDFE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68360" y="145908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grafo ausiliario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’(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iene un ciclo negativo di valore -8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828800" y="3548160"/>
            <a:ext cx="3589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909880" y="2324160"/>
            <a:ext cx="3589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854600" y="2324160"/>
            <a:ext cx="3589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909880" y="4772160"/>
            <a:ext cx="3589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4925880" y="4772160"/>
            <a:ext cx="3589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221520" y="3548160"/>
            <a:ext cx="35856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9" name=""/>
          <p:cNvCxnSpPr>
            <a:stCxn id="853" idx="7"/>
            <a:endCxn id="854" idx="3"/>
          </p:cNvCxnSpPr>
          <p:nvPr/>
        </p:nvCxnSpPr>
        <p:spPr>
          <a:xfrm flipV="1">
            <a:off x="2135160" y="2630160"/>
            <a:ext cx="828000" cy="97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860" name=""/>
          <p:cNvCxnSpPr>
            <a:stCxn id="853" idx="5"/>
            <a:endCxn id="856" idx="1"/>
          </p:cNvCxnSpPr>
          <p:nvPr/>
        </p:nvCxnSpPr>
        <p:spPr>
          <a:xfrm>
            <a:off x="2135160" y="3854520"/>
            <a:ext cx="828000" cy="97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861" name=""/>
          <p:cNvCxnSpPr>
            <a:stCxn id="855" idx="6"/>
            <a:endCxn id="858" idx="1"/>
          </p:cNvCxnSpPr>
          <p:nvPr/>
        </p:nvCxnSpPr>
        <p:spPr>
          <a:xfrm>
            <a:off x="5213160" y="2503080"/>
            <a:ext cx="1060920" cy="10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862" name=""/>
          <p:cNvCxnSpPr>
            <a:stCxn id="857" idx="6"/>
            <a:endCxn id="858" idx="3"/>
          </p:cNvCxnSpPr>
          <p:nvPr/>
        </p:nvCxnSpPr>
        <p:spPr>
          <a:xfrm flipV="1">
            <a:off x="5284440" y="3853800"/>
            <a:ext cx="989280" cy="10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863" name=""/>
          <p:cNvCxnSpPr>
            <a:stCxn id="854" idx="5"/>
            <a:endCxn id="857" idx="0"/>
          </p:cNvCxnSpPr>
          <p:nvPr/>
        </p:nvCxnSpPr>
        <p:spPr>
          <a:xfrm>
            <a:off x="3216240" y="2630160"/>
            <a:ext cx="1890000" cy="2142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64" name=""/>
          <p:cNvCxnSpPr>
            <a:stCxn id="856" idx="7"/>
            <a:endCxn id="855" idx="3"/>
          </p:cNvCxnSpPr>
          <p:nvPr/>
        </p:nvCxnSpPr>
        <p:spPr>
          <a:xfrm flipV="1">
            <a:off x="3216240" y="2630160"/>
            <a:ext cx="1691280" cy="2194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65" name=""/>
          <p:cNvSpPr/>
          <p:nvPr/>
        </p:nvSpPr>
        <p:spPr>
          <a:xfrm>
            <a:off x="1896120" y="275436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1772280" y="416412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661720" y="268776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877720" y="423540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850560" y="285444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942720" y="454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779280" y="1773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666840" y="354816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3" name=""/>
          <p:cNvCxnSpPr>
            <a:stCxn id="854" idx="7"/>
            <a:endCxn id="855" idx="1"/>
          </p:cNvCxnSpPr>
          <p:nvPr/>
        </p:nvCxnSpPr>
        <p:spPr>
          <a:xfrm flipH="1" rot="16200000">
            <a:off x="4060440" y="1530720"/>
            <a:ext cx="2520" cy="1691280"/>
          </a:xfrm>
          <a:prstGeom prst="curvedConnector5">
            <a:avLst>
              <a:gd name="adj1" fmla="val -17700000"/>
              <a:gd name="adj2" fmla="val 49989"/>
              <a:gd name="adj3" fmla="val -177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4" name=""/>
          <p:cNvCxnSpPr>
            <a:stCxn id="856" idx="7"/>
            <a:endCxn id="857" idx="1"/>
          </p:cNvCxnSpPr>
          <p:nvPr/>
        </p:nvCxnSpPr>
        <p:spPr>
          <a:xfrm flipH="1" rot="16200000">
            <a:off x="4096080" y="3943080"/>
            <a:ext cx="2520" cy="1762920"/>
          </a:xfrm>
          <a:prstGeom prst="curvedConnector5">
            <a:avLst>
              <a:gd name="adj1" fmla="val -17700000"/>
              <a:gd name="adj2" fmla="val 50000"/>
              <a:gd name="adj3" fmla="val -177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5" name=""/>
          <p:cNvCxnSpPr>
            <a:stCxn id="857" idx="3"/>
            <a:endCxn id="856" idx="5"/>
          </p:cNvCxnSpPr>
          <p:nvPr/>
        </p:nvCxnSpPr>
        <p:spPr>
          <a:xfrm rot="5400000">
            <a:off x="4095720" y="4197960"/>
            <a:ext cx="2160" cy="1762920"/>
          </a:xfrm>
          <a:prstGeom prst="curvedConnector5">
            <a:avLst>
              <a:gd name="adj1" fmla="val 17700000"/>
              <a:gd name="adj2" fmla="val 50000"/>
              <a:gd name="adj3" fmla="val 1770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76" name=""/>
          <p:cNvCxnSpPr>
            <a:stCxn id="855" idx="3"/>
            <a:endCxn id="854" idx="5"/>
          </p:cNvCxnSpPr>
          <p:nvPr/>
        </p:nvCxnSpPr>
        <p:spPr>
          <a:xfrm rot="5400000">
            <a:off x="4060080" y="1785960"/>
            <a:ext cx="2160" cy="1691280"/>
          </a:xfrm>
          <a:prstGeom prst="curvedConnector5">
            <a:avLst>
              <a:gd name="adj1" fmla="val 17700000"/>
              <a:gd name="adj2" fmla="val 49989"/>
              <a:gd name="adj3" fmla="val 1770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77" name=""/>
          <p:cNvSpPr/>
          <p:nvPr/>
        </p:nvSpPr>
        <p:spPr>
          <a:xfrm>
            <a:off x="3933000" y="526572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3491640" y="3176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3726720" y="4005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CD3B-8213-4A10-977E-3D2CD05EC99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692360" y="3835440"/>
            <a:ext cx="35856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773440" y="2611440"/>
            <a:ext cx="358560" cy="35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718160" y="2611440"/>
            <a:ext cx="358560" cy="35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773440" y="5059440"/>
            <a:ext cx="35856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4789440" y="5059440"/>
            <a:ext cx="3589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084720" y="3835440"/>
            <a:ext cx="3589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7" name=""/>
          <p:cNvCxnSpPr>
            <a:stCxn id="881" idx="7"/>
            <a:endCxn id="882" idx="3"/>
          </p:cNvCxnSpPr>
          <p:nvPr/>
        </p:nvCxnSpPr>
        <p:spPr>
          <a:xfrm flipV="1">
            <a:off x="1998360" y="2917440"/>
            <a:ext cx="827640" cy="97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8" name=""/>
          <p:cNvCxnSpPr>
            <a:stCxn id="881" idx="5"/>
            <a:endCxn id="884" idx="1"/>
          </p:cNvCxnSpPr>
          <p:nvPr/>
        </p:nvCxnSpPr>
        <p:spPr>
          <a:xfrm>
            <a:off x="1998360" y="4141800"/>
            <a:ext cx="827640" cy="97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9" name=""/>
          <p:cNvCxnSpPr>
            <a:stCxn id="882" idx="6"/>
            <a:endCxn id="883" idx="2"/>
          </p:cNvCxnSpPr>
          <p:nvPr/>
        </p:nvCxnSpPr>
        <p:spPr>
          <a:xfrm>
            <a:off x="3132000" y="2790360"/>
            <a:ext cx="1586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0" name=""/>
          <p:cNvCxnSpPr>
            <a:stCxn id="884" idx="6"/>
            <a:endCxn id="885" idx="2"/>
          </p:cNvCxnSpPr>
          <p:nvPr/>
        </p:nvCxnSpPr>
        <p:spPr>
          <a:xfrm>
            <a:off x="3132000" y="5238360"/>
            <a:ext cx="1658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1" name=""/>
          <p:cNvCxnSpPr>
            <a:stCxn id="883" idx="6"/>
            <a:endCxn id="886" idx="1"/>
          </p:cNvCxnSpPr>
          <p:nvPr/>
        </p:nvCxnSpPr>
        <p:spPr>
          <a:xfrm>
            <a:off x="5076720" y="2790360"/>
            <a:ext cx="1061280" cy="10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2" name=""/>
          <p:cNvCxnSpPr>
            <a:stCxn id="885" idx="6"/>
            <a:endCxn id="886" idx="3"/>
          </p:cNvCxnSpPr>
          <p:nvPr/>
        </p:nvCxnSpPr>
        <p:spPr>
          <a:xfrm flipV="1">
            <a:off x="5148000" y="4141080"/>
            <a:ext cx="989280" cy="10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3" name=""/>
          <p:cNvCxnSpPr>
            <a:stCxn id="882" idx="5"/>
            <a:endCxn id="885" idx="0"/>
          </p:cNvCxnSpPr>
          <p:nvPr/>
        </p:nvCxnSpPr>
        <p:spPr>
          <a:xfrm>
            <a:off x="3079440" y="2917440"/>
            <a:ext cx="1889640" cy="214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4" name=""/>
          <p:cNvCxnSpPr>
            <a:stCxn id="884" idx="7"/>
            <a:endCxn id="883" idx="3"/>
          </p:cNvCxnSpPr>
          <p:nvPr/>
        </p:nvCxnSpPr>
        <p:spPr>
          <a:xfrm flipV="1">
            <a:off x="3079800" y="2917440"/>
            <a:ext cx="1691280" cy="219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5" name=""/>
          <p:cNvSpPr/>
          <p:nvPr/>
        </p:nvSpPr>
        <p:spPr>
          <a:xfrm>
            <a:off x="1773360" y="304164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,3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649520" y="445140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,3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538960" y="297504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,6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754600" y="452268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,6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489480" y="319104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,5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378240" y="452268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,5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3665520" y="232740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5,4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053000" y="38354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+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6530040" y="383544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665520" y="531504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5,4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96720" y="141300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o variare di 3 unità il flusso lungo ques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clo, ottenendo la soluzione seguente, di valore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1293-05E2-473C-A366-C9134AB07A9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grafo ausiliario diven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o grafo ammette il seguente potenzi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828800" y="3548160"/>
            <a:ext cx="3589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909880" y="2324160"/>
            <a:ext cx="3589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854600" y="2324160"/>
            <a:ext cx="3589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909880" y="4772160"/>
            <a:ext cx="3589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925880" y="4772160"/>
            <a:ext cx="3589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6221520" y="3548160"/>
            <a:ext cx="35856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4" name=""/>
          <p:cNvCxnSpPr>
            <a:stCxn id="908" idx="7"/>
            <a:endCxn id="909" idx="3"/>
          </p:cNvCxnSpPr>
          <p:nvPr/>
        </p:nvCxnSpPr>
        <p:spPr>
          <a:xfrm flipV="1">
            <a:off x="2135160" y="2630160"/>
            <a:ext cx="828000" cy="97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5" name=""/>
          <p:cNvCxnSpPr>
            <a:stCxn id="908" idx="5"/>
            <a:endCxn id="911" idx="1"/>
          </p:cNvCxnSpPr>
          <p:nvPr/>
        </p:nvCxnSpPr>
        <p:spPr>
          <a:xfrm>
            <a:off x="2135160" y="3854520"/>
            <a:ext cx="828000" cy="97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6" name=""/>
          <p:cNvCxnSpPr>
            <a:stCxn id="910" idx="6"/>
            <a:endCxn id="913" idx="1"/>
          </p:cNvCxnSpPr>
          <p:nvPr/>
        </p:nvCxnSpPr>
        <p:spPr>
          <a:xfrm>
            <a:off x="5213160" y="2503080"/>
            <a:ext cx="1060920" cy="10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7" name=""/>
          <p:cNvCxnSpPr>
            <a:stCxn id="912" idx="6"/>
            <a:endCxn id="913" idx="3"/>
          </p:cNvCxnSpPr>
          <p:nvPr/>
        </p:nvCxnSpPr>
        <p:spPr>
          <a:xfrm flipV="1">
            <a:off x="5284440" y="3853800"/>
            <a:ext cx="989280" cy="10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918" name=""/>
          <p:cNvSpPr/>
          <p:nvPr/>
        </p:nvSpPr>
        <p:spPr>
          <a:xfrm>
            <a:off x="1896120" y="275436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772280" y="416412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661720" y="268776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5877720" y="423540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942720" y="5084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666840" y="354816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4" name=""/>
          <p:cNvCxnSpPr>
            <a:stCxn id="909" idx="6"/>
            <a:endCxn id="912" idx="0"/>
          </p:cNvCxnSpPr>
          <p:nvPr/>
        </p:nvCxnSpPr>
        <p:spPr>
          <a:xfrm>
            <a:off x="3268800" y="2503440"/>
            <a:ext cx="1837440" cy="22694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925" name=""/>
          <p:cNvSpPr/>
          <p:nvPr/>
        </p:nvSpPr>
        <p:spPr>
          <a:xfrm>
            <a:off x="4968000" y="400536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6" name=""/>
          <p:cNvCxnSpPr>
            <a:stCxn id="909" idx="4"/>
            <a:endCxn id="912" idx="2"/>
          </p:cNvCxnSpPr>
          <p:nvPr/>
        </p:nvCxnSpPr>
        <p:spPr>
          <a:xfrm flipH="1" rot="16200000">
            <a:off x="2873160" y="2898360"/>
            <a:ext cx="2269440" cy="1837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10" idx="2"/>
            <a:endCxn id="911" idx="0"/>
          </p:cNvCxnSpPr>
          <p:nvPr/>
        </p:nvCxnSpPr>
        <p:spPr>
          <a:xfrm flipV="1" rot="10800000">
            <a:off x="3088440" y="2503080"/>
            <a:ext cx="1766160" cy="2269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4"/>
            <a:endCxn id="911" idx="6"/>
          </p:cNvCxnSpPr>
          <p:nvPr/>
        </p:nvCxnSpPr>
        <p:spPr>
          <a:xfrm rot="5400000">
            <a:off x="3016080" y="2934360"/>
            <a:ext cx="2269440" cy="17658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9" name=""/>
          <p:cNvCxnSpPr>
            <a:stCxn id="910" idx="1"/>
            <a:endCxn id="909" idx="7"/>
          </p:cNvCxnSpPr>
          <p:nvPr/>
        </p:nvCxnSpPr>
        <p:spPr>
          <a:xfrm flipH="1">
            <a:off x="3215880" y="2376000"/>
            <a:ext cx="1691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0" name=""/>
          <p:cNvCxnSpPr>
            <a:stCxn id="912" idx="3"/>
            <a:endCxn id="911" idx="5"/>
          </p:cNvCxnSpPr>
          <p:nvPr/>
        </p:nvCxnSpPr>
        <p:spPr>
          <a:xfrm flipH="1">
            <a:off x="3215520" y="5078160"/>
            <a:ext cx="176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931" name=""/>
          <p:cNvSpPr/>
          <p:nvPr/>
        </p:nvSpPr>
        <p:spPr>
          <a:xfrm>
            <a:off x="3499560" y="4221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652200" y="299736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147560" y="3824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4002840" y="198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7082-5017-47C9-8908-0564871566D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692360" y="3357720"/>
            <a:ext cx="35856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773440" y="2133720"/>
            <a:ext cx="35856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4718160" y="2133720"/>
            <a:ext cx="35856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773440" y="4581360"/>
            <a:ext cx="358560" cy="35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4789440" y="4581360"/>
            <a:ext cx="358920" cy="35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084720" y="3357720"/>
            <a:ext cx="3589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2" name=""/>
          <p:cNvCxnSpPr>
            <a:stCxn id="936" idx="5"/>
            <a:endCxn id="939" idx="1"/>
          </p:cNvCxnSpPr>
          <p:nvPr/>
        </p:nvCxnSpPr>
        <p:spPr>
          <a:xfrm>
            <a:off x="1998360" y="3664080"/>
            <a:ext cx="827640" cy="97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3" name=""/>
          <p:cNvCxnSpPr>
            <a:stCxn id="938" idx="6"/>
            <a:endCxn id="941" idx="1"/>
          </p:cNvCxnSpPr>
          <p:nvPr/>
        </p:nvCxnSpPr>
        <p:spPr>
          <a:xfrm>
            <a:off x="5076720" y="2312640"/>
            <a:ext cx="1061280" cy="10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4" name=""/>
          <p:cNvCxnSpPr>
            <a:stCxn id="940" idx="6"/>
            <a:endCxn id="941" idx="3"/>
          </p:cNvCxnSpPr>
          <p:nvPr/>
        </p:nvCxnSpPr>
        <p:spPr>
          <a:xfrm flipV="1">
            <a:off x="5148000" y="3663360"/>
            <a:ext cx="989280" cy="10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5" name=""/>
          <p:cNvCxnSpPr>
            <a:stCxn id="937" idx="5"/>
            <a:endCxn id="940" idx="0"/>
          </p:cNvCxnSpPr>
          <p:nvPr/>
        </p:nvCxnSpPr>
        <p:spPr>
          <a:xfrm>
            <a:off x="3079440" y="2440080"/>
            <a:ext cx="1889640" cy="214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6" name=""/>
          <p:cNvCxnSpPr>
            <a:stCxn id="939" idx="7"/>
            <a:endCxn id="938" idx="3"/>
          </p:cNvCxnSpPr>
          <p:nvPr/>
        </p:nvCxnSpPr>
        <p:spPr>
          <a:xfrm flipV="1">
            <a:off x="3079800" y="2439720"/>
            <a:ext cx="1691280" cy="219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947" name=""/>
          <p:cNvSpPr/>
          <p:nvPr/>
        </p:nvSpPr>
        <p:spPr>
          <a:xfrm>
            <a:off x="682560" y="537372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anto, per il teorema precedente la soluzione di valore 18 è ott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164920" y="184464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059840" y="335772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520680" y="3357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643840" y="504828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4875840" y="497664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285280" y="202392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877080" y="2133720"/>
            <a:ext cx="3589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7328520" y="2097000"/>
            <a:ext cx="2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6" name=""/>
          <p:cNvCxnSpPr>
            <a:stCxn id="941" idx="7"/>
          </p:cNvCxnSpPr>
          <p:nvPr/>
        </p:nvCxnSpPr>
        <p:spPr>
          <a:xfrm flipV="1">
            <a:off x="6391440" y="2475720"/>
            <a:ext cx="538560" cy="93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610E-66E2-4724-8A5A-FE399FB9981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Un’applicazione del min cost fl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09480" y="1341360"/>
            <a:ext cx="7778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sideriamo il seguente problema di P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matrice dei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ei coefficienti ha le seguenti propriet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coefficienti sono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li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1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ppaiono sulle colonne in modo consecutivo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consecutive 1’s property)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Osservazio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la proprietà 2 va verificata permutando eventualmente righe e colo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3009960" y="1557360"/>
                <a:ext cx="2786040" cy="25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A856-32E1-4AAF-BBE6-8CB6B472CF85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secutive 1’s proper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09480" y="5375160"/>
            <a:ext cx="79250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questo punto, sottraiamo la riga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lla riga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+1, per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-1, …,1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tenendo il nuovo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826920" y="2279520"/>
                <a:ext cx="5616720" cy="302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3" name=""/>
          <p:cNvSpPr/>
          <p:nvPr/>
        </p:nvSpPr>
        <p:spPr>
          <a:xfrm>
            <a:off x="671040" y="1479600"/>
            <a:ext cx="58777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iamo il problema in forma standard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iamo una riga ridondante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+0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714E-C7DC-4199-AEDF-198DD4DCFDDF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secutive 1’s proper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2027160" y="1413000"/>
                <a:ext cx="470556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6" name=""/>
          <p:cNvSpPr/>
          <p:nvPr/>
        </p:nvSpPr>
        <p:spPr>
          <a:xfrm>
            <a:off x="2556000" y="4724280"/>
            <a:ext cx="28872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995640" y="4724280"/>
            <a:ext cx="2890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435640" y="4724280"/>
            <a:ext cx="28872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875640" y="4724280"/>
            <a:ext cx="28872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8315280" y="4724280"/>
            <a:ext cx="2890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1" name=""/>
              <p:cNvSpPr txBox="1"/>
              <p:nvPr/>
            </p:nvSpPr>
            <p:spPr>
              <a:xfrm>
                <a:off x="1476360" y="1773360"/>
                <a:ext cx="401760" cy="19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a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b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c</m:t>
                                  </m:r>
                                </m:e>
                              </m:mr>
                              <m:m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</m:mr>
                                  </m:m>
                                </m:e>
                              </m:mr>
                            </m:m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cxnSp>
        <p:nvCxnSpPr>
          <p:cNvPr id="972" name=""/>
          <p:cNvCxnSpPr>
            <a:stCxn id="966" idx="0"/>
            <a:endCxn id="970" idx="0"/>
          </p:cNvCxnSpPr>
          <p:nvPr/>
        </p:nvCxnSpPr>
        <p:spPr>
          <a:xfrm flipH="1" rot="16200000">
            <a:off x="5578920" y="1844280"/>
            <a:ext cx="2520" cy="5760000"/>
          </a:xfrm>
          <a:prstGeom prst="curvedConnector5">
            <a:avLst>
              <a:gd name="adj1" fmla="val -56800000"/>
              <a:gd name="adj2" fmla="val 49996"/>
              <a:gd name="adj3" fmla="val -568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3" name=""/>
          <p:cNvCxnSpPr>
            <a:stCxn id="966" idx="6"/>
            <a:endCxn id="967" idx="2"/>
          </p:cNvCxnSpPr>
          <p:nvPr/>
        </p:nvCxnSpPr>
        <p:spPr>
          <a:xfrm>
            <a:off x="2844360" y="4868640"/>
            <a:ext cx="1151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74" name=""/>
          <p:cNvCxnSpPr>
            <a:stCxn id="966" idx="0"/>
            <a:endCxn id="968" idx="0"/>
          </p:cNvCxnSpPr>
          <p:nvPr/>
        </p:nvCxnSpPr>
        <p:spPr>
          <a:xfrm flipH="1" rot="16200000">
            <a:off x="4138920" y="3284280"/>
            <a:ext cx="2520" cy="2880360"/>
          </a:xfrm>
          <a:prstGeom prst="curvedConnector5">
            <a:avLst>
              <a:gd name="adj1" fmla="val -36000000"/>
              <a:gd name="adj2" fmla="val 50000"/>
              <a:gd name="adj3" fmla="val -36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5" name=""/>
          <p:cNvCxnSpPr>
            <a:stCxn id="967" idx="1"/>
            <a:endCxn id="966" idx="7"/>
          </p:cNvCxnSpPr>
          <p:nvPr/>
        </p:nvCxnSpPr>
        <p:spPr>
          <a:xfrm rot="5400000">
            <a:off x="3418560" y="4149000"/>
            <a:ext cx="2520" cy="1236960"/>
          </a:xfrm>
          <a:prstGeom prst="curvedConnector5">
            <a:avLst>
              <a:gd name="adj1" fmla="val -24100000"/>
              <a:gd name="adj2" fmla="val 49985"/>
              <a:gd name="adj3" fmla="val -2410000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76" name=""/>
          <p:cNvCxnSpPr>
            <a:stCxn id="967" idx="4"/>
            <a:endCxn id="970" idx="4"/>
          </p:cNvCxnSpPr>
          <p:nvPr/>
        </p:nvCxnSpPr>
        <p:spPr>
          <a:xfrm flipH="1" rot="16200000">
            <a:off x="6298920" y="2852280"/>
            <a:ext cx="2520" cy="4320000"/>
          </a:xfrm>
          <a:prstGeom prst="curvedConnector5">
            <a:avLst>
              <a:gd name="adj1" fmla="val 40900000"/>
              <a:gd name="adj2" fmla="val 49995"/>
              <a:gd name="adj3" fmla="val 40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7" name=""/>
          <p:cNvCxnSpPr>
            <a:stCxn id="968" idx="2"/>
            <a:endCxn id="967" idx="6"/>
          </p:cNvCxnSpPr>
          <p:nvPr/>
        </p:nvCxnSpPr>
        <p:spPr>
          <a:xfrm flipH="1">
            <a:off x="4284000" y="4868640"/>
            <a:ext cx="1151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8" name=""/>
          <p:cNvCxnSpPr>
            <a:stCxn id="968" idx="4"/>
            <a:endCxn id="970" idx="4"/>
          </p:cNvCxnSpPr>
          <p:nvPr/>
        </p:nvCxnSpPr>
        <p:spPr>
          <a:xfrm flipH="1" rot="16200000">
            <a:off x="7017840" y="3572280"/>
            <a:ext cx="2520" cy="2880360"/>
          </a:xfrm>
          <a:prstGeom prst="curvedConnector5">
            <a:avLst>
              <a:gd name="adj1" fmla="val 19900000"/>
              <a:gd name="adj2" fmla="val 50000"/>
              <a:gd name="adj3" fmla="val 19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9" name=""/>
          <p:cNvCxnSpPr>
            <a:stCxn id="969" idx="2"/>
            <a:endCxn id="968" idx="6"/>
          </p:cNvCxnSpPr>
          <p:nvPr/>
        </p:nvCxnSpPr>
        <p:spPr>
          <a:xfrm flipH="1">
            <a:off x="5724000" y="4868640"/>
            <a:ext cx="115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0" name=""/>
          <p:cNvCxnSpPr>
            <a:stCxn id="970" idx="2"/>
            <a:endCxn id="969" idx="6"/>
          </p:cNvCxnSpPr>
          <p:nvPr/>
        </p:nvCxnSpPr>
        <p:spPr>
          <a:xfrm flipH="1">
            <a:off x="7163640" y="4868640"/>
            <a:ext cx="1151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1" name=""/>
          <p:cNvSpPr/>
          <p:nvPr/>
        </p:nvSpPr>
        <p:spPr>
          <a:xfrm>
            <a:off x="3140280" y="479736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4665960" y="47959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191640" y="47941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7717320" y="479268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293640" y="4292640"/>
            <a:ext cx="388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085640" y="4111560"/>
            <a:ext cx="388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5968440" y="5551560"/>
            <a:ext cx="388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101640" y="5191200"/>
            <a:ext cx="388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679360" y="3716280"/>
            <a:ext cx="388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93840" y="3787920"/>
            <a:ext cx="23065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olvere il problema di PL equivale a determinare il flusso a costo minimo sul grafo di fig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D419-97F5-4F16-9700-69662FC7BE7A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Simplesso su re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09480" y="1412640"/>
            <a:ext cx="792504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iamo il problema di flusso a costo min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1403280" y="2441520"/>
                <a:ext cx="5437080" cy="289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δ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δ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</m:t>
                            </m:r>
                            <m:r>
                              <m:t xml:space="preserve">∀</m:t>
                            </m:r>
                          </m:e>
                        </m:nary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</m:t>
                        </m:r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4" name=""/>
          <p:cNvSpPr/>
          <p:nvPr/>
        </p:nvSpPr>
        <p:spPr>
          <a:xfrm>
            <a:off x="825480" y="5416560"/>
            <a:ext cx="79246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nne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FFFB-B2FC-4D05-912B-AA6BCF4F3F2D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luzioni albe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ché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è connesso, ammette un albero ricoprente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fini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soluzione ammissibile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dic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oluzione alber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, dato un albero ricoprente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h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7" name=""/>
              <p:cNvSpPr txBox="1"/>
              <p:nvPr/>
            </p:nvSpPr>
            <p:spPr>
              <a:xfrm>
                <a:off x="1763640" y="4079880"/>
                <a:ext cx="482436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∈</m:t>
                                    </m:r>
                                    <m:sSup>
                                      <m:e>
                                        <m:r>
                                          <m:t xml:space="preserve">δ</m:t>
                                        </m:r>
                                      </m:e>
                                      <m:sup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e>
                                </m:nary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(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∈</m:t>
                                    </m:r>
                                    <m:sSup>
                                      <m:e>
                                        <m:r>
                                          <m:t xml:space="preserve">δ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</m:sup>
                                    </m:s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ji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b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     </m:t>
                                    </m:r>
                                    <m:r>
                                      <m:t xml:space="preserve">∀</m:t>
                                    </m:r>
                                  </m:e>
                                </m:nary>
                                <m:r>
                                  <m:t xml:space="preserve">i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17F5-57EC-4D27-ACCC-BB2B6B4319F3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806480" y="2205000"/>
            <a:ext cx="2890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014480" y="2997360"/>
            <a:ext cx="28872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670120" y="2997360"/>
            <a:ext cx="2890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014480" y="4365720"/>
            <a:ext cx="28872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668680" y="4365720"/>
            <a:ext cx="28872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4" name=""/>
          <p:cNvCxnSpPr>
            <a:stCxn id="999" idx="3"/>
            <a:endCxn id="1000" idx="7"/>
          </p:cNvCxnSpPr>
          <p:nvPr/>
        </p:nvCxnSpPr>
        <p:spPr>
          <a:xfrm flipH="1">
            <a:off x="1260000" y="2449080"/>
            <a:ext cx="58968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5" name=""/>
          <p:cNvCxnSpPr>
            <a:stCxn id="1000" idx="4"/>
            <a:endCxn id="1002" idx="0"/>
          </p:cNvCxnSpPr>
          <p:nvPr/>
        </p:nvCxnSpPr>
        <p:spPr>
          <a:xfrm>
            <a:off x="1158480" y="3284280"/>
            <a:ext cx="108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6" name=""/>
          <p:cNvCxnSpPr>
            <a:stCxn id="1002" idx="6"/>
            <a:endCxn id="1003" idx="2"/>
          </p:cNvCxnSpPr>
          <p:nvPr/>
        </p:nvCxnSpPr>
        <p:spPr>
          <a:xfrm>
            <a:off x="1302840" y="4509720"/>
            <a:ext cx="136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7" name=""/>
          <p:cNvCxnSpPr>
            <a:stCxn id="999" idx="5"/>
            <a:endCxn id="1001" idx="1"/>
          </p:cNvCxnSpPr>
          <p:nvPr/>
        </p:nvCxnSpPr>
        <p:spPr>
          <a:xfrm>
            <a:off x="2052720" y="2449080"/>
            <a:ext cx="6606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8" name=""/>
          <p:cNvCxnSpPr>
            <a:stCxn id="1001" idx="2"/>
            <a:endCxn id="1000" idx="6"/>
          </p:cNvCxnSpPr>
          <p:nvPr/>
        </p:nvCxnSpPr>
        <p:spPr>
          <a:xfrm flipH="1">
            <a:off x="1302480" y="3141360"/>
            <a:ext cx="1367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9" name=""/>
          <p:cNvCxnSpPr>
            <a:stCxn id="1003" idx="0"/>
            <a:endCxn id="1001" idx="4"/>
          </p:cNvCxnSpPr>
          <p:nvPr/>
        </p:nvCxnSpPr>
        <p:spPr>
          <a:xfrm flipV="1">
            <a:off x="2813040" y="3283920"/>
            <a:ext cx="216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0" name=""/>
          <p:cNvSpPr/>
          <p:nvPr/>
        </p:nvSpPr>
        <p:spPr>
          <a:xfrm>
            <a:off x="2010240" y="19828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+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829080" y="26370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56000" y="464652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902320" y="270828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895480" y="45752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262480" y="2133720"/>
            <a:ext cx="2890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4470480" y="2925720"/>
            <a:ext cx="28872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126120" y="2925720"/>
            <a:ext cx="2890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470480" y="4294080"/>
            <a:ext cx="28872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124680" y="4294080"/>
            <a:ext cx="28872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0" name=""/>
          <p:cNvCxnSpPr>
            <a:stCxn id="1015" idx="3"/>
            <a:endCxn id="1016" idx="7"/>
          </p:cNvCxnSpPr>
          <p:nvPr/>
        </p:nvCxnSpPr>
        <p:spPr>
          <a:xfrm flipH="1">
            <a:off x="4716000" y="2378160"/>
            <a:ext cx="589680" cy="59112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021" name=""/>
          <p:cNvCxnSpPr>
            <a:stCxn id="1016" idx="4"/>
            <a:endCxn id="1018" idx="0"/>
          </p:cNvCxnSpPr>
          <p:nvPr/>
        </p:nvCxnSpPr>
        <p:spPr>
          <a:xfrm>
            <a:off x="4614480" y="3212640"/>
            <a:ext cx="1080" cy="108180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022" name=""/>
          <p:cNvCxnSpPr>
            <a:stCxn id="1018" idx="6"/>
            <a:endCxn id="1019" idx="2"/>
          </p:cNvCxnSpPr>
          <p:nvPr/>
        </p:nvCxnSpPr>
        <p:spPr>
          <a:xfrm>
            <a:off x="4758840" y="4438440"/>
            <a:ext cx="136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3" name=""/>
          <p:cNvCxnSpPr>
            <a:stCxn id="1015" idx="5"/>
            <a:endCxn id="1017" idx="1"/>
          </p:cNvCxnSpPr>
          <p:nvPr/>
        </p:nvCxnSpPr>
        <p:spPr>
          <a:xfrm>
            <a:off x="5508720" y="2378160"/>
            <a:ext cx="660600" cy="59112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024" name=""/>
          <p:cNvCxnSpPr>
            <a:stCxn id="1017" idx="2"/>
            <a:endCxn id="1016" idx="6"/>
          </p:cNvCxnSpPr>
          <p:nvPr/>
        </p:nvCxnSpPr>
        <p:spPr>
          <a:xfrm flipH="1">
            <a:off x="4758480" y="3069720"/>
            <a:ext cx="1367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5" name=""/>
          <p:cNvCxnSpPr>
            <a:stCxn id="1019" idx="0"/>
            <a:endCxn id="1017" idx="4"/>
          </p:cNvCxnSpPr>
          <p:nvPr/>
        </p:nvCxnSpPr>
        <p:spPr>
          <a:xfrm flipV="1">
            <a:off x="6269040" y="3212280"/>
            <a:ext cx="2160" cy="108180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1026" name=""/>
          <p:cNvSpPr/>
          <p:nvPr/>
        </p:nvSpPr>
        <p:spPr>
          <a:xfrm>
            <a:off x="5278680" y="17733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+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4285080" y="256536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4212000" y="45752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6358320" y="26370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351480" y="45036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654800" y="2276640"/>
            <a:ext cx="311760" cy="3682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878800" y="2270160"/>
            <a:ext cx="311760" cy="3682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298120" y="3124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4165920" y="3573360"/>
            <a:ext cx="311760" cy="3682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6480720" y="3645000"/>
            <a:ext cx="311760" cy="3682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5178960" y="4492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1042920" y="5157720"/>
            <a:ext cx="748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grafo di sinistra ha i costi sugli archi. Invece, gli archi blu sul grafo di destra rappresentano una soluzione albero (i valori sugli archi sono i fluss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270800" y="23558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346840" y="2414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1654560" y="3133800"/>
            <a:ext cx="732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868680" y="3652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778480" y="3645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722960" y="4572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4A69-78D9-4A49-B483-8A090EAE3650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dizioni di complementarit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84360" y="1125360"/>
                <a:ext cx="4995720" cy="22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d>
                        <m:r>
                          <m:t xml:space="preserve">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681120" y="3645000"/>
            <a:ext cx="7346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1000"/>
          </a:bodyPr>
          <a:p>
            <a:pPr marL="72000" indent="-72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anto, 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" indent="-72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" indent="-72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ltr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" indent="-72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" indent="-72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biamo quindi dimostrato il seguente teor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616120" y="3645000"/>
                <a:ext cx="21718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556000" y="4365720"/>
                <a:ext cx="2232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59B0-A805-4DAC-8891-1CEB271561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rrispondenza alberi/soluzion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09480" y="1341360"/>
            <a:ext cx="79250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to un alber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possiamo scegliere un suo nod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ome radice e riferir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ome albero con radice in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ta una soluzione albero, s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ha radic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scegliamo un arco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i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si determina una partizione dei nodi di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n due insiemi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\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tali che il flusso tra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\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supportato totalmente dall’arco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(nel verso concorde con il verso dell’arc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altre parole, ogni arco dell’alber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T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a un valore di flusso univocamente determinato. Perta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Le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d un alber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associata un’unica soluzione alb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BA56-216F-404B-8D31-42627B6E200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655720" y="1989000"/>
            <a:ext cx="289080" cy="287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863720" y="2781360"/>
            <a:ext cx="2890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3519360" y="2781360"/>
            <a:ext cx="2890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863720" y="4149720"/>
            <a:ext cx="2890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517920" y="4149720"/>
            <a:ext cx="2890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2" name=""/>
          <p:cNvCxnSpPr>
            <a:stCxn id="1047" idx="3"/>
            <a:endCxn id="1048" idx="7"/>
          </p:cNvCxnSpPr>
          <p:nvPr/>
        </p:nvCxnSpPr>
        <p:spPr>
          <a:xfrm flipH="1">
            <a:off x="2109600" y="2233080"/>
            <a:ext cx="589680" cy="59112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053" name=""/>
          <p:cNvCxnSpPr>
            <a:stCxn id="1048" idx="4"/>
            <a:endCxn id="1050" idx="0"/>
          </p:cNvCxnSpPr>
          <p:nvPr/>
        </p:nvCxnSpPr>
        <p:spPr>
          <a:xfrm>
            <a:off x="2007720" y="3068280"/>
            <a:ext cx="1080" cy="108180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054" name=""/>
          <p:cNvCxnSpPr>
            <a:stCxn id="1050" idx="6"/>
            <a:endCxn id="1051" idx="2"/>
          </p:cNvCxnSpPr>
          <p:nvPr/>
        </p:nvCxnSpPr>
        <p:spPr>
          <a:xfrm>
            <a:off x="2152800" y="4293720"/>
            <a:ext cx="136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5" name=""/>
          <p:cNvCxnSpPr>
            <a:stCxn id="1047" idx="5"/>
            <a:endCxn id="1049" idx="1"/>
          </p:cNvCxnSpPr>
          <p:nvPr/>
        </p:nvCxnSpPr>
        <p:spPr>
          <a:xfrm>
            <a:off x="2901960" y="2233080"/>
            <a:ext cx="660600" cy="591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56" name=""/>
          <p:cNvCxnSpPr>
            <a:stCxn id="1049" idx="2"/>
            <a:endCxn id="1048" idx="6"/>
          </p:cNvCxnSpPr>
          <p:nvPr/>
        </p:nvCxnSpPr>
        <p:spPr>
          <a:xfrm flipH="1">
            <a:off x="2152440" y="2925360"/>
            <a:ext cx="1367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7" name=""/>
          <p:cNvCxnSpPr>
            <a:stCxn id="1051" idx="0"/>
            <a:endCxn id="1049" idx="4"/>
          </p:cNvCxnSpPr>
          <p:nvPr/>
        </p:nvCxnSpPr>
        <p:spPr>
          <a:xfrm flipV="1">
            <a:off x="3661920" y="3067920"/>
            <a:ext cx="2520" cy="108180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1058" name=""/>
          <p:cNvSpPr/>
          <p:nvPr/>
        </p:nvSpPr>
        <p:spPr>
          <a:xfrm>
            <a:off x="2672280" y="162864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+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1678320" y="24210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605240" y="443088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751560" y="249228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744720" y="43592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2048400" y="2131920"/>
            <a:ext cx="311760" cy="3682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286440" y="2060640"/>
            <a:ext cx="3117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691360" y="2979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1559160" y="3429000"/>
            <a:ext cx="311760" cy="3682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873960" y="3500280"/>
            <a:ext cx="311760" cy="3682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572200" y="4348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349800" y="4357800"/>
            <a:ext cx="2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132000" y="2492280"/>
            <a:ext cx="1297080" cy="237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rot="1351200">
            <a:off x="1611000" y="1424160"/>
            <a:ext cx="1305000" cy="352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603320" y="328788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959760" y="2854440"/>
            <a:ext cx="6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R\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86160" y="4967280"/>
            <a:ext cx="7079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arco rosso supporta tutto il flusso da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\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vers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1723-3854-430B-8E1C-64204D7FE230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rrispondenza alberi/soluzion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sserv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 una soluzione ammissibile, in generale, possono corrispondere diverse soluzioni albe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em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a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) =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er ogni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La soluzione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è ammissibile e ogni albero ricoprente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è una soluzione albero associata alla soluzione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EBC7-880E-4A76-980D-337AB1AEE941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rrispondenza alberi/soluzion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09480" y="145692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mmette una soluzione ammissibile, allora ha una soluzione albero ammissibi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P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a soluzione ottima, allora ha una soluzione albero ott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Arial"/>
              </a:rPr>
              <a:t>Dimost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Part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a </a:t>
            </a:r>
            <a:r>
              <a:rPr b="1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una soluzione ammissibile per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Se </a:t>
            </a:r>
            <a:r>
              <a:rPr b="1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non è una soluzione albero, significa che esiste almeno un ciclo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on la proprietà ch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&gt; 0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per ogni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può essere sempre orientato in modo che contenga almeno un arco “reverse”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526B-164F-4442-9B3B-AEC9AA55EACF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rrispondenza alberi/soluzion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a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= min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tale che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è un arco “reverse” di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La soluzione </a:t>
            </a:r>
            <a:r>
              <a:rPr b="1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ottenuta da </a:t>
            </a:r>
            <a:r>
              <a:rPr b="1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on la seguente tecn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’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=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+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se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è un arco forward di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’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=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–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se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è un arco reverse di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è ammissibile e non contiene più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Pongo </a:t>
            </a:r>
            <a:r>
              <a:rPr b="1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’ e reitero finché </a:t>
            </a:r>
            <a:r>
              <a:rPr b="1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è priva di cic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Part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a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*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una soluzione ottima. S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*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ontiene un circuito, questo ha costo zero. Difatti,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*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non può contenere circuiti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i costo negativo (altrimenti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*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non sarebbe ottima). Potendo scegliere l’orientazione di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significa che s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*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ontiene cicli, questi hanno costo zero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sufficiente, quindi, applicare la tecnica precedente per ottenere una soluzione ottima albero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EECD-B924-4FAF-987C-5F8B6A416853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seguen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09480" y="155700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teorema precedente ci consente di poter limitare la ricerca della soluzione ottima alle sole soluzioni albe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opportuna tecnica consente di passare da una soluzione albero ad una nuova soluzione albero. Consideriamo la soluzione di figu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aggiungiamo all’albero in bl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arco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tteniamo un ciclo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a, scegliendo come orien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 ciclo quella dell’arco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o inviare 5 unità di flus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ngo l’arco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vuota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arco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)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tenendo un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ova soluzione alb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079720" y="3357720"/>
            <a:ext cx="28872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287360" y="4149720"/>
            <a:ext cx="2890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943360" y="4149720"/>
            <a:ext cx="28872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287360" y="5518080"/>
            <a:ext cx="2890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2941560" y="5518080"/>
            <a:ext cx="2890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8" name=""/>
          <p:cNvCxnSpPr>
            <a:stCxn id="1083" idx="3"/>
            <a:endCxn id="1084" idx="7"/>
          </p:cNvCxnSpPr>
          <p:nvPr/>
        </p:nvCxnSpPr>
        <p:spPr>
          <a:xfrm flipH="1">
            <a:off x="1533240" y="3602160"/>
            <a:ext cx="589680" cy="59112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089" name=""/>
          <p:cNvCxnSpPr>
            <a:stCxn id="1084" idx="4"/>
            <a:endCxn id="1086" idx="0"/>
          </p:cNvCxnSpPr>
          <p:nvPr/>
        </p:nvCxnSpPr>
        <p:spPr>
          <a:xfrm>
            <a:off x="1431720" y="4436640"/>
            <a:ext cx="1080" cy="108180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090" name=""/>
          <p:cNvCxnSpPr>
            <a:stCxn id="1086" idx="6"/>
            <a:endCxn id="1087" idx="2"/>
          </p:cNvCxnSpPr>
          <p:nvPr/>
        </p:nvCxnSpPr>
        <p:spPr>
          <a:xfrm>
            <a:off x="1576440" y="5662080"/>
            <a:ext cx="136584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91" name=""/>
          <p:cNvCxnSpPr>
            <a:stCxn id="1083" idx="5"/>
            <a:endCxn id="1085" idx="1"/>
          </p:cNvCxnSpPr>
          <p:nvPr/>
        </p:nvCxnSpPr>
        <p:spPr>
          <a:xfrm>
            <a:off x="2325240" y="3602160"/>
            <a:ext cx="661320" cy="59112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092" name=""/>
          <p:cNvCxnSpPr>
            <a:stCxn id="1085" idx="2"/>
            <a:endCxn id="1084" idx="6"/>
          </p:cNvCxnSpPr>
          <p:nvPr/>
        </p:nvCxnSpPr>
        <p:spPr>
          <a:xfrm flipH="1">
            <a:off x="1575720" y="4293720"/>
            <a:ext cx="1367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3" name=""/>
          <p:cNvCxnSpPr>
            <a:stCxn id="1087" idx="0"/>
            <a:endCxn id="1085" idx="4"/>
          </p:cNvCxnSpPr>
          <p:nvPr/>
        </p:nvCxnSpPr>
        <p:spPr>
          <a:xfrm flipV="1">
            <a:off x="3086280" y="4436280"/>
            <a:ext cx="2160" cy="108180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1094" name=""/>
          <p:cNvSpPr/>
          <p:nvPr/>
        </p:nvSpPr>
        <p:spPr>
          <a:xfrm>
            <a:off x="2095920" y="29973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+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101960" y="378936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1028880" y="57992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3175200" y="3860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3168720" y="57276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1472040" y="3500280"/>
            <a:ext cx="311760" cy="3682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2696040" y="3494160"/>
            <a:ext cx="311760" cy="3682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115000" y="4348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983160" y="4797360"/>
            <a:ext cx="311760" cy="3682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297600" y="4869000"/>
            <a:ext cx="311760" cy="3682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1995840" y="5716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A9BD-A7AD-443F-A6FC-118FF135478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seguen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079720" y="3357720"/>
            <a:ext cx="28872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287360" y="4149720"/>
            <a:ext cx="2890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943360" y="4149720"/>
            <a:ext cx="28872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1287360" y="5518080"/>
            <a:ext cx="2890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2941560" y="5518080"/>
            <a:ext cx="2890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1" name=""/>
          <p:cNvCxnSpPr>
            <a:stCxn id="1106" idx="3"/>
            <a:endCxn id="1107" idx="7"/>
          </p:cNvCxnSpPr>
          <p:nvPr/>
        </p:nvCxnSpPr>
        <p:spPr>
          <a:xfrm flipH="1">
            <a:off x="1533240" y="3602160"/>
            <a:ext cx="589680" cy="59112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112" name=""/>
          <p:cNvCxnSpPr>
            <a:stCxn id="1107" idx="4"/>
            <a:endCxn id="1109" idx="0"/>
          </p:cNvCxnSpPr>
          <p:nvPr/>
        </p:nvCxnSpPr>
        <p:spPr>
          <a:xfrm>
            <a:off x="1431720" y="4436640"/>
            <a:ext cx="1080" cy="108180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113" name=""/>
          <p:cNvCxnSpPr>
            <a:stCxn id="1109" idx="6"/>
            <a:endCxn id="1110" idx="2"/>
          </p:cNvCxnSpPr>
          <p:nvPr/>
        </p:nvCxnSpPr>
        <p:spPr>
          <a:xfrm>
            <a:off x="1576440" y="5662080"/>
            <a:ext cx="1365840" cy="108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114" name=""/>
          <p:cNvCxnSpPr>
            <a:stCxn id="1106" idx="5"/>
            <a:endCxn id="1108" idx="1"/>
          </p:cNvCxnSpPr>
          <p:nvPr/>
        </p:nvCxnSpPr>
        <p:spPr>
          <a:xfrm>
            <a:off x="2325240" y="3602160"/>
            <a:ext cx="661320" cy="5911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5" name=""/>
          <p:cNvCxnSpPr>
            <a:stCxn id="1108" idx="2"/>
            <a:endCxn id="1107" idx="6"/>
          </p:cNvCxnSpPr>
          <p:nvPr/>
        </p:nvCxnSpPr>
        <p:spPr>
          <a:xfrm flipH="1">
            <a:off x="1575720" y="4293720"/>
            <a:ext cx="1367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6" name=""/>
          <p:cNvCxnSpPr>
            <a:stCxn id="1110" idx="0"/>
            <a:endCxn id="1108" idx="4"/>
          </p:cNvCxnSpPr>
          <p:nvPr/>
        </p:nvCxnSpPr>
        <p:spPr>
          <a:xfrm flipV="1">
            <a:off x="3086280" y="4436280"/>
            <a:ext cx="2160" cy="108180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1117" name=""/>
          <p:cNvSpPr/>
          <p:nvPr/>
        </p:nvSpPr>
        <p:spPr>
          <a:xfrm>
            <a:off x="2095920" y="29973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+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1101960" y="378936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1028880" y="57992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3175200" y="3860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3168720" y="57276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1348560" y="3429000"/>
            <a:ext cx="442800" cy="3682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2634120" y="3567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2115000" y="4292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983160" y="4797360"/>
            <a:ext cx="311760" cy="3682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3297600" y="4869000"/>
            <a:ext cx="311760" cy="3682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2000520" y="5716440"/>
            <a:ext cx="311760" cy="3682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valore del flusso inviato lungo il nuovo arco è pari al minimo del flusso sugli archi “reverse” del cicl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nuova soluzione albero è, per costruzione,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mmissib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28B6-04C4-4924-868E-028D8CC1803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tenziali di un nod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39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una soluzione albero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 radice in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efinisco potenziale di un nodo la seguente quantit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è il cammino (unico) in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sserv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costo ridotto è stato definito 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lla definizione segue che il costo ridotto di un arco di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è pari a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1" name=""/>
              <p:cNvSpPr txBox="1"/>
              <p:nvPr/>
            </p:nvSpPr>
            <p:spPr>
              <a:xfrm>
                <a:off x="1835280" y="2421000"/>
                <a:ext cx="489744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5724360" y="4581360"/>
                <a:ext cx="1872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9EA1-FCA5-4A1C-B791-44C560CB803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/>
          <p:nvPr/>
        </p:nvSpPr>
        <p:spPr>
          <a:xfrm>
            <a:off x="495360" y="1557360"/>
            <a:ext cx="8109000" cy="30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alle condizioni di ottimalità per il min cost flow, sappiamo che se il costo ridotto è maggiore o uguale a zero per ogni arco del grafo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T,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amo in presenza di una soluzione otti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 la soluzione non è ottima, devo selezionare come arco da far entrare nella soluzione albero un arco con costo ridotto negativ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questa soluzione, di valore 5*5 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4*10 +  1*3 + 1*3 = 71, l’arco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lezionato è l’arco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893960" y="3500280"/>
            <a:ext cx="28872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101600" y="4292640"/>
            <a:ext cx="2890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2757600" y="4292640"/>
            <a:ext cx="28872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101600" y="5661000"/>
            <a:ext cx="2890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2755800" y="5661000"/>
            <a:ext cx="2890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0" name=""/>
          <p:cNvCxnSpPr>
            <a:stCxn id="1135" idx="3"/>
            <a:endCxn id="1136" idx="7"/>
          </p:cNvCxnSpPr>
          <p:nvPr/>
        </p:nvCxnSpPr>
        <p:spPr>
          <a:xfrm flipH="1">
            <a:off x="1347480" y="3745080"/>
            <a:ext cx="589680" cy="59112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141" name=""/>
          <p:cNvCxnSpPr>
            <a:stCxn id="1136" idx="4"/>
            <a:endCxn id="1138" idx="0"/>
          </p:cNvCxnSpPr>
          <p:nvPr/>
        </p:nvCxnSpPr>
        <p:spPr>
          <a:xfrm>
            <a:off x="1245960" y="4579560"/>
            <a:ext cx="1080" cy="108180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142" name=""/>
          <p:cNvCxnSpPr>
            <a:stCxn id="1138" idx="6"/>
            <a:endCxn id="1139" idx="2"/>
          </p:cNvCxnSpPr>
          <p:nvPr/>
        </p:nvCxnSpPr>
        <p:spPr>
          <a:xfrm>
            <a:off x="1390680" y="5805000"/>
            <a:ext cx="136584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3" name=""/>
          <p:cNvCxnSpPr>
            <a:stCxn id="1135" idx="5"/>
            <a:endCxn id="1137" idx="1"/>
          </p:cNvCxnSpPr>
          <p:nvPr/>
        </p:nvCxnSpPr>
        <p:spPr>
          <a:xfrm>
            <a:off x="2139480" y="3745080"/>
            <a:ext cx="661320" cy="59112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144" name=""/>
          <p:cNvCxnSpPr>
            <a:stCxn id="1137" idx="2"/>
            <a:endCxn id="1136" idx="6"/>
          </p:cNvCxnSpPr>
          <p:nvPr/>
        </p:nvCxnSpPr>
        <p:spPr>
          <a:xfrm flipH="1">
            <a:off x="1389960" y="4436640"/>
            <a:ext cx="136764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45" name=""/>
          <p:cNvCxnSpPr>
            <a:stCxn id="1139" idx="0"/>
            <a:endCxn id="1137" idx="4"/>
          </p:cNvCxnSpPr>
          <p:nvPr/>
        </p:nvCxnSpPr>
        <p:spPr>
          <a:xfrm flipV="1">
            <a:off x="2900520" y="4579200"/>
            <a:ext cx="2160" cy="108180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1146" name=""/>
          <p:cNvSpPr/>
          <p:nvPr/>
        </p:nvSpPr>
        <p:spPr>
          <a:xfrm>
            <a:off x="2108520" y="3205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921600" y="393228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Bookman Old Style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848520" y="594216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Bookman Old Style"/>
              </a:rPr>
              <a:t>-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2989440" y="400356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Bookman Old Style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989440" y="587052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Bookman Old Style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1" name=""/>
              <p:cNvSpPr txBox="1"/>
              <p:nvPr/>
            </p:nvSpPr>
            <p:spPr>
              <a:xfrm>
                <a:off x="1332000" y="4503600"/>
                <a:ext cx="151128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2" name=""/>
              <p:cNvSpPr txBox="1"/>
              <p:nvPr/>
            </p:nvSpPr>
            <p:spPr>
              <a:xfrm>
                <a:off x="1403280" y="5848200"/>
                <a:ext cx="1368360" cy="2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FF56-D201-48B9-98B8-4BD3786BC03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1935000" y="2708280"/>
            <a:ext cx="2890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1143000" y="3500280"/>
            <a:ext cx="28908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2798640" y="3500280"/>
            <a:ext cx="28908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1143000" y="4869000"/>
            <a:ext cx="2890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2797200" y="4869000"/>
            <a:ext cx="2890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9" name=""/>
          <p:cNvCxnSpPr>
            <a:stCxn id="1154" idx="3"/>
            <a:endCxn id="1155" idx="7"/>
          </p:cNvCxnSpPr>
          <p:nvPr/>
        </p:nvCxnSpPr>
        <p:spPr>
          <a:xfrm flipH="1">
            <a:off x="1388880" y="2952360"/>
            <a:ext cx="589680" cy="5911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0" name=""/>
          <p:cNvCxnSpPr>
            <a:stCxn id="1155" idx="4"/>
            <a:endCxn id="1157" idx="0"/>
          </p:cNvCxnSpPr>
          <p:nvPr/>
        </p:nvCxnSpPr>
        <p:spPr>
          <a:xfrm>
            <a:off x="1287000" y="3787560"/>
            <a:ext cx="1080" cy="108180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161" name=""/>
          <p:cNvCxnSpPr>
            <a:stCxn id="1157" idx="6"/>
            <a:endCxn id="1158" idx="2"/>
          </p:cNvCxnSpPr>
          <p:nvPr/>
        </p:nvCxnSpPr>
        <p:spPr>
          <a:xfrm>
            <a:off x="1432080" y="5013000"/>
            <a:ext cx="136584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2" name=""/>
          <p:cNvCxnSpPr>
            <a:stCxn id="1154" idx="5"/>
            <a:endCxn id="1156" idx="1"/>
          </p:cNvCxnSpPr>
          <p:nvPr/>
        </p:nvCxnSpPr>
        <p:spPr>
          <a:xfrm>
            <a:off x="2181240" y="2952360"/>
            <a:ext cx="660600" cy="59112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163" name=""/>
          <p:cNvCxnSpPr>
            <a:stCxn id="1156" idx="2"/>
            <a:endCxn id="1155" idx="6"/>
          </p:cNvCxnSpPr>
          <p:nvPr/>
        </p:nvCxnSpPr>
        <p:spPr>
          <a:xfrm flipH="1">
            <a:off x="1431720" y="3644640"/>
            <a:ext cx="1367280" cy="108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164" name=""/>
          <p:cNvCxnSpPr>
            <a:stCxn id="1158" idx="0"/>
            <a:endCxn id="1156" idx="4"/>
          </p:cNvCxnSpPr>
          <p:nvPr/>
        </p:nvCxnSpPr>
        <p:spPr>
          <a:xfrm flipV="1">
            <a:off x="2941200" y="3787200"/>
            <a:ext cx="2520" cy="108180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1165" name=""/>
          <p:cNvSpPr/>
          <p:nvPr/>
        </p:nvSpPr>
        <p:spPr>
          <a:xfrm>
            <a:off x="1951560" y="23479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+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957600" y="313992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884520" y="51498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3030840" y="321156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3024000" y="50785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323000" y="2851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556720" y="2844720"/>
            <a:ext cx="442800" cy="3682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1975320" y="3699000"/>
            <a:ext cx="311760" cy="3682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838440" y="4148280"/>
            <a:ext cx="311760" cy="3682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3143520" y="4149720"/>
            <a:ext cx="311760" cy="3682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1851480" y="5067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539640" y="155736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nuova soluzione vale 10*4 + 5*2 + 1* 3 + 1*3 = 56. I potenziali ai nodi valgo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5983200" y="2708280"/>
            <a:ext cx="2890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5191200" y="3500280"/>
            <a:ext cx="28872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6846840" y="3500280"/>
            <a:ext cx="28908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5191200" y="4869000"/>
            <a:ext cx="28872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6845400" y="4869000"/>
            <a:ext cx="28872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2" name=""/>
          <p:cNvCxnSpPr>
            <a:stCxn id="1177" idx="3"/>
            <a:endCxn id="1178" idx="7"/>
          </p:cNvCxnSpPr>
          <p:nvPr/>
        </p:nvCxnSpPr>
        <p:spPr>
          <a:xfrm flipH="1">
            <a:off x="5436720" y="2952360"/>
            <a:ext cx="589680" cy="5911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3" name=""/>
          <p:cNvCxnSpPr>
            <a:stCxn id="1178" idx="4"/>
            <a:endCxn id="1180" idx="0"/>
          </p:cNvCxnSpPr>
          <p:nvPr/>
        </p:nvCxnSpPr>
        <p:spPr>
          <a:xfrm>
            <a:off x="5335200" y="3787560"/>
            <a:ext cx="1080" cy="108180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184" name=""/>
          <p:cNvCxnSpPr>
            <a:stCxn id="1180" idx="6"/>
            <a:endCxn id="1181" idx="2"/>
          </p:cNvCxnSpPr>
          <p:nvPr/>
        </p:nvCxnSpPr>
        <p:spPr>
          <a:xfrm>
            <a:off x="5479560" y="5013000"/>
            <a:ext cx="136584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"/>
          <p:cNvCxnSpPr>
            <a:stCxn id="1177" idx="5"/>
            <a:endCxn id="1179" idx="1"/>
          </p:cNvCxnSpPr>
          <p:nvPr/>
        </p:nvCxnSpPr>
        <p:spPr>
          <a:xfrm>
            <a:off x="6229440" y="2952360"/>
            <a:ext cx="660600" cy="59112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186" name=""/>
          <p:cNvCxnSpPr>
            <a:stCxn id="1179" idx="2"/>
            <a:endCxn id="1178" idx="6"/>
          </p:cNvCxnSpPr>
          <p:nvPr/>
        </p:nvCxnSpPr>
        <p:spPr>
          <a:xfrm flipH="1">
            <a:off x="5479200" y="3644640"/>
            <a:ext cx="1367640" cy="108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187" name=""/>
          <p:cNvCxnSpPr>
            <a:stCxn id="1181" idx="0"/>
            <a:endCxn id="1179" idx="4"/>
          </p:cNvCxnSpPr>
          <p:nvPr/>
        </p:nvCxnSpPr>
        <p:spPr>
          <a:xfrm flipV="1">
            <a:off x="6989760" y="3787200"/>
            <a:ext cx="2160" cy="108180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1188" name=""/>
          <p:cNvSpPr/>
          <p:nvPr/>
        </p:nvSpPr>
        <p:spPr>
          <a:xfrm>
            <a:off x="5991840" y="2347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4805640" y="34290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Bookman Old Style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4805640" y="479736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Bookman Old Style"/>
              </a:rPr>
              <a:t>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7123320" y="342252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Bookman Old Style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123320" y="479736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Bookman Old Style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3" name=""/>
              <p:cNvSpPr txBox="1"/>
              <p:nvPr/>
            </p:nvSpPr>
            <p:spPr>
              <a:xfrm>
                <a:off x="4429080" y="3024360"/>
                <a:ext cx="166068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5349960" y="5157720"/>
                <a:ext cx="18860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5" name=""/>
          <p:cNvSpPr/>
          <p:nvPr/>
        </p:nvSpPr>
        <p:spPr>
          <a:xfrm>
            <a:off x="611280" y="544500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ché la nuova soluzione ha costi ridotti positivi per gli arch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a è ott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4CE3-200F-44F4-816C-0D3F48B95D92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dizioni di complementarit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Teorema (condizioni di ottimalità per il min cost 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a soluzion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mmissibile per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ottima se e solo se esiste un vettor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|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|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tale che, per ogni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oddisfa le seguenti condizion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093680" y="3836880"/>
                <a:ext cx="6647040" cy="15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  {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llora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Se </m:t>
                    </m:r>
                    <m:r>
                      <m:t xml:space="preserve">0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llora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sSub>
                      <m:e/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Se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sSub>
                      <m:e/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allora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A6EA-356E-43D9-BBE1-838CF5594A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Algoritmo del simplesso su re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353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Trova una soluzione albero ammissibile,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Calcola i potenziali dei nodi </a:t>
            </a:r>
            <a:r>
              <a:rPr b="1" i="1" lang="it-IT" sz="1800" spc="-1" strike="noStrike">
                <a:solidFill>
                  <a:srgbClr val="000000"/>
                </a:solidFill>
                <a:latin typeface="Bookman Old Style"/>
              </a:rPr>
              <a:t>y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esiste un arco 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tale che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+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&lt; 0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sia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il ciclo (orientato secondo 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))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che si ottiene aggiungendo 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a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i="1" lang="it-IT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C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non contiene archi reverse)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stop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min {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Bookman Old Style"/>
              </a:rPr>
              <a:t>hk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t.c.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h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è un arco reverse di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}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scegli un arco reverse 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di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t.c.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Bookman Old Style"/>
              </a:rPr>
              <a:t>lm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=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aumenta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di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lungo il ciclo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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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=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)\(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aggiorna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it-IT" sz="18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1B04-8B7B-49DE-9984-53809E152F3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sservazion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68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 si determina una soluzione albero inizia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etodo 1 (o degli archi artificia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lgo un nodo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 ogni nodo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≠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se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man Old Style"/>
                <a:ea typeface="Arial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inserisco in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l’arco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se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&lt; 0 inserisco in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l’arco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 Se qualcuno di questi archi non esiste in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li aggiungo al grafo con un costo 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 la soluzione ottima non contiene archi di costo M, allora il problema originario era ammissib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6559560" y="2205000"/>
            <a:ext cx="2890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767560" y="2997360"/>
            <a:ext cx="28872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7423200" y="2997360"/>
            <a:ext cx="28872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767560" y="4365720"/>
            <a:ext cx="28872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7421400" y="4365720"/>
            <a:ext cx="2890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5" name=""/>
          <p:cNvCxnSpPr>
            <a:stCxn id="1200" idx="3"/>
            <a:endCxn id="1201" idx="7"/>
          </p:cNvCxnSpPr>
          <p:nvPr/>
        </p:nvCxnSpPr>
        <p:spPr>
          <a:xfrm flipH="1">
            <a:off x="6013080" y="2449080"/>
            <a:ext cx="589680" cy="591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6" name=""/>
          <p:cNvCxnSpPr>
            <a:stCxn id="1201" idx="4"/>
            <a:endCxn id="1203" idx="0"/>
          </p:cNvCxnSpPr>
          <p:nvPr/>
        </p:nvCxnSpPr>
        <p:spPr>
          <a:xfrm>
            <a:off x="5911560" y="3284280"/>
            <a:ext cx="108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7" name=""/>
          <p:cNvCxnSpPr>
            <a:stCxn id="1203" idx="6"/>
            <a:endCxn id="1204" idx="2"/>
          </p:cNvCxnSpPr>
          <p:nvPr/>
        </p:nvCxnSpPr>
        <p:spPr>
          <a:xfrm>
            <a:off x="6056280" y="4509720"/>
            <a:ext cx="136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8" name=""/>
          <p:cNvCxnSpPr>
            <a:stCxn id="1200" idx="5"/>
            <a:endCxn id="1202" idx="1"/>
          </p:cNvCxnSpPr>
          <p:nvPr/>
        </p:nvCxnSpPr>
        <p:spPr>
          <a:xfrm>
            <a:off x="6805080" y="2449080"/>
            <a:ext cx="661320" cy="591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9" name=""/>
          <p:cNvCxnSpPr>
            <a:stCxn id="1202" idx="2"/>
            <a:endCxn id="1201" idx="6"/>
          </p:cNvCxnSpPr>
          <p:nvPr/>
        </p:nvCxnSpPr>
        <p:spPr>
          <a:xfrm flipH="1">
            <a:off x="6055560" y="3141360"/>
            <a:ext cx="1367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0" name=""/>
          <p:cNvCxnSpPr>
            <a:stCxn id="1204" idx="0"/>
            <a:endCxn id="1202" idx="4"/>
          </p:cNvCxnSpPr>
          <p:nvPr/>
        </p:nvCxnSpPr>
        <p:spPr>
          <a:xfrm flipV="1">
            <a:off x="7566120" y="3283920"/>
            <a:ext cx="216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1" name=""/>
          <p:cNvSpPr/>
          <p:nvPr/>
        </p:nvSpPr>
        <p:spPr>
          <a:xfrm>
            <a:off x="6762960" y="19828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+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5581800" y="26370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509080" y="464652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655400" y="270828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7648560" y="45752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6023520" y="2355840"/>
            <a:ext cx="311760" cy="3682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7128360" y="2349360"/>
            <a:ext cx="311760" cy="3682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8" name=""/>
          <p:cNvCxnSpPr>
            <a:stCxn id="1200" idx="4"/>
            <a:endCxn id="1203" idx="7"/>
          </p:cNvCxnSpPr>
          <p:nvPr/>
        </p:nvCxnSpPr>
        <p:spPr>
          <a:xfrm flipH="1">
            <a:off x="6013080" y="2491920"/>
            <a:ext cx="691200" cy="1917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19" name=""/>
          <p:cNvCxnSpPr>
            <a:stCxn id="1200" idx="4"/>
            <a:endCxn id="1204" idx="1"/>
          </p:cNvCxnSpPr>
          <p:nvPr/>
        </p:nvCxnSpPr>
        <p:spPr>
          <a:xfrm>
            <a:off x="6703560" y="2491920"/>
            <a:ext cx="761400" cy="1917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1220" name=""/>
          <p:cNvSpPr/>
          <p:nvPr/>
        </p:nvSpPr>
        <p:spPr>
          <a:xfrm>
            <a:off x="5904360" y="3429000"/>
            <a:ext cx="311760" cy="3682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7272720" y="3429000"/>
            <a:ext cx="311760" cy="3682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6327360" y="33577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773400" y="34290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822B-1EF9-4BB2-8529-452F0016CFEB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sservazion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439416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etod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iungo due nodi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 li collego, rispettivamente ai nodi con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)&gt;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 ai nodi con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)&lt;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La capacità di un arco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è pari a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a capacità di un arco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è pari 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ndi, calcolo l’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lusso massimo. Se il flusso satura tutti gli archi aggiunti, il problema originario è ammissib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6340320" y="1928880"/>
            <a:ext cx="2890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548320" y="2720880"/>
            <a:ext cx="2890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7203960" y="2720880"/>
            <a:ext cx="2890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5548320" y="4089240"/>
            <a:ext cx="289080" cy="287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7202520" y="4089240"/>
            <a:ext cx="288720" cy="287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1" name=""/>
          <p:cNvCxnSpPr>
            <a:stCxn id="1226" idx="3"/>
            <a:endCxn id="1227" idx="7"/>
          </p:cNvCxnSpPr>
          <p:nvPr/>
        </p:nvCxnSpPr>
        <p:spPr>
          <a:xfrm flipH="1">
            <a:off x="5793840" y="2173320"/>
            <a:ext cx="58968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2" name=""/>
          <p:cNvCxnSpPr>
            <a:stCxn id="1227" idx="4"/>
            <a:endCxn id="1229" idx="0"/>
          </p:cNvCxnSpPr>
          <p:nvPr/>
        </p:nvCxnSpPr>
        <p:spPr>
          <a:xfrm>
            <a:off x="5692320" y="3007800"/>
            <a:ext cx="108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3" name=""/>
          <p:cNvCxnSpPr>
            <a:stCxn id="1229" idx="6"/>
            <a:endCxn id="1230" idx="2"/>
          </p:cNvCxnSpPr>
          <p:nvPr/>
        </p:nvCxnSpPr>
        <p:spPr>
          <a:xfrm>
            <a:off x="5837400" y="4233600"/>
            <a:ext cx="136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4" name=""/>
          <p:cNvCxnSpPr>
            <a:stCxn id="1226" idx="5"/>
            <a:endCxn id="1228" idx="1"/>
          </p:cNvCxnSpPr>
          <p:nvPr/>
        </p:nvCxnSpPr>
        <p:spPr>
          <a:xfrm>
            <a:off x="6586560" y="2173320"/>
            <a:ext cx="6606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5" name=""/>
          <p:cNvCxnSpPr>
            <a:stCxn id="1228" idx="2"/>
            <a:endCxn id="1227" idx="6"/>
          </p:cNvCxnSpPr>
          <p:nvPr/>
        </p:nvCxnSpPr>
        <p:spPr>
          <a:xfrm flipH="1">
            <a:off x="5837040" y="2865240"/>
            <a:ext cx="1367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6" name=""/>
          <p:cNvCxnSpPr>
            <a:stCxn id="1230" idx="0"/>
            <a:endCxn id="1228" idx="4"/>
          </p:cNvCxnSpPr>
          <p:nvPr/>
        </p:nvCxnSpPr>
        <p:spPr>
          <a:xfrm flipV="1">
            <a:off x="7346520" y="3007440"/>
            <a:ext cx="252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7" name=""/>
          <p:cNvSpPr/>
          <p:nvPr/>
        </p:nvSpPr>
        <p:spPr>
          <a:xfrm>
            <a:off x="6906600" y="1417680"/>
            <a:ext cx="82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6167160" y="379404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5519520" y="443556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787800" y="443556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=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442200" y="5019840"/>
            <a:ext cx="288720" cy="2872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8097840" y="1562040"/>
            <a:ext cx="289080" cy="2872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8256240" y="119700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6685920" y="50911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5" name=""/>
          <p:cNvCxnSpPr>
            <a:stCxn id="1242" idx="2"/>
            <a:endCxn id="1226" idx="7"/>
          </p:cNvCxnSpPr>
          <p:nvPr/>
        </p:nvCxnSpPr>
        <p:spPr>
          <a:xfrm flipH="1">
            <a:off x="6586200" y="1706040"/>
            <a:ext cx="1512000" cy="266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46" name=""/>
          <p:cNvCxnSpPr>
            <a:stCxn id="1242" idx="4"/>
            <a:endCxn id="1230" idx="7"/>
          </p:cNvCxnSpPr>
          <p:nvPr/>
        </p:nvCxnSpPr>
        <p:spPr>
          <a:xfrm flipH="1">
            <a:off x="7447680" y="1849320"/>
            <a:ext cx="794520" cy="2283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47" name=""/>
          <p:cNvSpPr/>
          <p:nvPr/>
        </p:nvSpPr>
        <p:spPr>
          <a:xfrm>
            <a:off x="7882560" y="2635200"/>
            <a:ext cx="6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8" name=""/>
          <p:cNvCxnSpPr>
            <a:stCxn id="1227" idx="5"/>
            <a:endCxn id="1241" idx="0"/>
          </p:cNvCxnSpPr>
          <p:nvPr/>
        </p:nvCxnSpPr>
        <p:spPr>
          <a:xfrm>
            <a:off x="5793840" y="2964960"/>
            <a:ext cx="793080" cy="2055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49" name=""/>
          <p:cNvCxnSpPr>
            <a:stCxn id="1229" idx="5"/>
            <a:endCxn id="1241" idx="1"/>
          </p:cNvCxnSpPr>
          <p:nvPr/>
        </p:nvCxnSpPr>
        <p:spPr>
          <a:xfrm>
            <a:off x="5793840" y="4334040"/>
            <a:ext cx="691560" cy="729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50" name=""/>
          <p:cNvCxnSpPr>
            <a:stCxn id="1228" idx="2"/>
            <a:endCxn id="1241" idx="7"/>
          </p:cNvCxnSpPr>
          <p:nvPr/>
        </p:nvCxnSpPr>
        <p:spPr>
          <a:xfrm flipH="1">
            <a:off x="6687360" y="2865240"/>
            <a:ext cx="516600" cy="2197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51" name=""/>
          <p:cNvSpPr/>
          <p:nvPr/>
        </p:nvSpPr>
        <p:spPr>
          <a:xfrm>
            <a:off x="611280" y="522936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erminazione dell’algorit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quanto riguarda la convergenza in un numero finito di iterazioni del metodo, si rimanda al paragrafo del libro di testo (pagg. 108/1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9F20-9761-4787-AD52-78C274A961EE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Simplesso su re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 si adatta l’algoritmo precedente quando reintroduciamo le capacità sugli arch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1574640" y="2522520"/>
                <a:ext cx="4840560" cy="357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/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in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A</m:t>
                                  </m:r>
                                </m:sub>
                                <m:sup/>
                                <m:e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j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j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  <m:m>
                          <m:mr>
                            <m:e/>
                          </m:mr>
                          <m:mr>
                            <m:e/>
                          </m:mr>
                        </m:m>
                        <m:m>
                          <m:mr>
                            <m:e/>
                          </m:mr>
                          <m:mr>
                            <m:e/>
                          </m:mr>
                        </m:m>
                        <m:m>
                          <m:mr>
                            <m:e/>
                          </m:mr>
                          <m:mr>
                            <m:e/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C59A-A92E-49D1-96E4-A6A225E9A76D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luzione albe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80760" y="1341000"/>
            <a:ext cx="79232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fini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soluzione ammissibile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 dice soluzione albero se, dato un albero ricoprente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e una partizione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gli archi di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appartenenti 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h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soluzione albero si indica con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1403280" y="3443400"/>
                <a:ext cx="5722920" cy="18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∈</m:t>
                                </m:r>
                                <m:sSup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∈</m:t>
                                </m:r>
                                <m:sSup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  <m:r>
                                  <m:t xml:space="preserve">∀</m:t>
                                </m:r>
                              </m:e>
                            </m:nary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 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                                  </m:t>
                            </m:r>
                            <m:r>
                              <m:t xml:space="preserve">∀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L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B2EF-2EAA-4C6C-9DB7-523283DDFDA8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Simplesso su re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09480" y="153000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che in questo caso si può dimostrare il segu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mette una soluzione ammissibile, allora ha una soluzione albero ammissibi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 soluzione ottima, allora ha una soluzione albero otti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anto, ci si può limitare a esplorare soluzioni albero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BD2E-A8D6-40F9-AC3B-4EB7E9B03547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Simplesso su re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Osserv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. La presenza di capacità sugli archi modifica la modalità di aggiornamento della soluzione alb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2. Per verificare l’ottimalità della soluzione bisogna considerare le condizioni di ottimalità anche per gli archi in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’algoritmo modificato è il segu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CEE9-FED9-47E9-B8CC-562BCF308726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Simplesso su re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353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826920" y="1413000"/>
            <a:ext cx="8209080" cy="49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Trova una soluzione albero ammissibile, (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 , 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U 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Calcola i potenziali dei nodi </a:t>
            </a:r>
            <a:r>
              <a:rPr b="1" i="1" lang="it-IT" sz="1400" spc="-1" strike="noStrike">
                <a:solidFill>
                  <a:srgbClr val="000000"/>
                </a:solidFill>
                <a:latin typeface="Bookman Old Style"/>
              </a:rPr>
              <a:t>y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esiste un arco 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tale che 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it-IT" sz="14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it-IT" sz="14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 + 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it-IT" sz="1400" spc="-1" strike="noStrike" baseline="-25000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 &lt; 0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esiste un arco 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tale che 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it-IT" sz="14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it-IT" sz="14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 + 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it-IT" sz="1400" spc="-1" strike="noStrike" baseline="-25000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 &gt; 0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sia 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il ciclo orientato in cui 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è forward se 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oppure è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reverse se 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i="1" lang="it-IT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C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non contiene archi reverse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or 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C 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non contiene archi forward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di capacità finita)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stop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else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min {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1400" spc="-1" strike="noStrike" baseline="-25000">
                <a:solidFill>
                  <a:srgbClr val="000000"/>
                </a:solidFill>
                <a:latin typeface="Bookman Old Style"/>
              </a:rPr>
              <a:t>hk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t.c.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 (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h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è un arco reverse di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}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min {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i="1" lang="it-IT" sz="1400" spc="-1" strike="noStrike" baseline="-25000">
                <a:solidFill>
                  <a:srgbClr val="000000"/>
                </a:solidFill>
                <a:latin typeface="Bookman Old Style"/>
              </a:rPr>
              <a:t>hk 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- x</a:t>
            </a:r>
            <a:r>
              <a:rPr b="0" i="1" lang="it-IT" sz="1400" spc="-1" strike="noStrike" baseline="-25000">
                <a:solidFill>
                  <a:srgbClr val="000000"/>
                </a:solidFill>
                <a:latin typeface="Bookman Old Style"/>
              </a:rPr>
              <a:t>hk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t.c.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 (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h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è un arco forward di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}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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min {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1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1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scegli un arco reverse 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di 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t.c. 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1400" spc="-1" strike="noStrike" baseline="-25000">
                <a:solidFill>
                  <a:srgbClr val="000000"/>
                </a:solidFill>
                <a:latin typeface="Bookman Old Style"/>
              </a:rPr>
              <a:t>lm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 = 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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oppure un arco forward 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di 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t.c. 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i="1" lang="it-IT" sz="1400" spc="-1" strike="noStrike" baseline="-25000">
                <a:solidFill>
                  <a:srgbClr val="000000"/>
                </a:solidFill>
                <a:latin typeface="Bookman Old Style"/>
              </a:rPr>
              <a:t>lm 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0" i="1" lang="it-IT" sz="1400" spc="-1" strike="noStrike" baseline="-25000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1400" spc="-1" strike="noStrike" baseline="-25000">
                <a:solidFill>
                  <a:srgbClr val="000000"/>
                </a:solidFill>
                <a:latin typeface="Bookman Old Style"/>
              </a:rPr>
              <a:t>lm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 = 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aumenta 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di 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lungo il ciclo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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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 =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T 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 (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)\(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1400" spc="-1" strike="noStrike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aggiorna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it-IT" sz="14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AAD0-EADF-4586-8E9F-98F05DFFE22C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554200" y="2205000"/>
            <a:ext cx="360360" cy="360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2554200" y="4653000"/>
            <a:ext cx="360360" cy="360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116000" y="3357720"/>
            <a:ext cx="360360" cy="3603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5075280" y="2205000"/>
            <a:ext cx="360360" cy="3603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075280" y="4653000"/>
            <a:ext cx="360360" cy="3603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6443640" y="3284640"/>
            <a:ext cx="360360" cy="36036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2" name=""/>
          <p:cNvCxnSpPr>
            <a:stCxn id="1268" idx="7"/>
            <a:endCxn id="1266" idx="2"/>
          </p:cNvCxnSpPr>
          <p:nvPr/>
        </p:nvCxnSpPr>
        <p:spPr>
          <a:xfrm flipV="1">
            <a:off x="1423800" y="2385720"/>
            <a:ext cx="113076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3" name=""/>
          <p:cNvCxnSpPr>
            <a:stCxn id="1266" idx="6"/>
            <a:endCxn id="1269" idx="2"/>
          </p:cNvCxnSpPr>
          <p:nvPr/>
        </p:nvCxnSpPr>
        <p:spPr>
          <a:xfrm>
            <a:off x="2914560" y="2385720"/>
            <a:ext cx="216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4" name=""/>
          <p:cNvCxnSpPr>
            <a:stCxn id="1269" idx="4"/>
            <a:endCxn id="1270" idx="0"/>
          </p:cNvCxnSpPr>
          <p:nvPr/>
        </p:nvCxnSpPr>
        <p:spPr>
          <a:xfrm>
            <a:off x="5256000" y="2565000"/>
            <a:ext cx="1080" cy="20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5" name=""/>
          <p:cNvCxnSpPr>
            <a:stCxn id="1267" idx="2"/>
            <a:endCxn id="1268" idx="5"/>
          </p:cNvCxnSpPr>
          <p:nvPr/>
        </p:nvCxnSpPr>
        <p:spPr>
          <a:xfrm flipH="1" flipV="1">
            <a:off x="1423440" y="3665160"/>
            <a:ext cx="1130760" cy="1169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6" name=""/>
          <p:cNvCxnSpPr>
            <a:stCxn id="1267" idx="0"/>
            <a:endCxn id="1266" idx="4"/>
          </p:cNvCxnSpPr>
          <p:nvPr/>
        </p:nvCxnSpPr>
        <p:spPr>
          <a:xfrm flipV="1">
            <a:off x="2734920" y="2564640"/>
            <a:ext cx="1080" cy="20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7" name=""/>
          <p:cNvCxnSpPr>
            <a:stCxn id="1267" idx="6"/>
            <a:endCxn id="1270" idx="2"/>
          </p:cNvCxnSpPr>
          <p:nvPr/>
        </p:nvCxnSpPr>
        <p:spPr>
          <a:xfrm>
            <a:off x="2914560" y="4833720"/>
            <a:ext cx="216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8" name=""/>
          <p:cNvCxnSpPr>
            <a:stCxn id="1269" idx="6"/>
            <a:endCxn id="1271" idx="1"/>
          </p:cNvCxnSpPr>
          <p:nvPr/>
        </p:nvCxnSpPr>
        <p:spPr>
          <a:xfrm>
            <a:off x="5435640" y="2385720"/>
            <a:ext cx="1061280" cy="95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9" name=""/>
          <p:cNvCxnSpPr>
            <a:stCxn id="1271" idx="3"/>
            <a:endCxn id="1270" idx="6"/>
          </p:cNvCxnSpPr>
          <p:nvPr/>
        </p:nvCxnSpPr>
        <p:spPr>
          <a:xfrm flipH="1">
            <a:off x="5435280" y="3592080"/>
            <a:ext cx="1061280" cy="12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0" name=""/>
          <p:cNvSpPr/>
          <p:nvPr/>
        </p:nvSpPr>
        <p:spPr>
          <a:xfrm>
            <a:off x="751320" y="35766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+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421360" y="50133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+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5031720" y="5013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6758640" y="3284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428200" y="1838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5013720" y="18381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356120" y="24922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8,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1490040" y="422100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7,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2719800" y="3429000"/>
            <a:ext cx="75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0,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654000" y="198900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,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4598280" y="349416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,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659400" y="4862520"/>
            <a:ext cx="6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0,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5946480" y="255744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,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5886000" y="436572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6,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1323360" y="5568840"/>
            <a:ext cx="94896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800" spc="-1" strike="noStrike">
                <a:solidFill>
                  <a:srgbClr val="ff0000"/>
                </a:solidFill>
                <a:latin typeface="Bookman Old Style"/>
              </a:rPr>
              <a:t>u</a:t>
            </a:r>
            <a:r>
              <a:rPr b="0" i="1" lang="it-IT" sz="2800" spc="-1" strike="noStrike" baseline="-25000">
                <a:solidFill>
                  <a:srgbClr val="ff0000"/>
                </a:solidFill>
                <a:latin typeface="Bookman Old Style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8619-FB1E-496F-88BD-E4FDAD8AF367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914560" y="2276640"/>
            <a:ext cx="360360" cy="360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2914560" y="4724280"/>
            <a:ext cx="360360" cy="360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1476360" y="3429000"/>
            <a:ext cx="360360" cy="3603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5435640" y="2276640"/>
            <a:ext cx="360360" cy="3603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5435640" y="4724280"/>
            <a:ext cx="360360" cy="3603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6804000" y="3355920"/>
            <a:ext cx="360360" cy="36036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2" name=""/>
          <p:cNvCxnSpPr>
            <a:stCxn id="1298" idx="7"/>
            <a:endCxn id="1296" idx="2"/>
          </p:cNvCxnSpPr>
          <p:nvPr/>
        </p:nvCxnSpPr>
        <p:spPr>
          <a:xfrm flipV="1">
            <a:off x="1784160" y="2456640"/>
            <a:ext cx="1130760" cy="102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3" name=""/>
          <p:cNvCxnSpPr>
            <a:stCxn id="1296" idx="6"/>
            <a:endCxn id="1299" idx="2"/>
          </p:cNvCxnSpPr>
          <p:nvPr/>
        </p:nvCxnSpPr>
        <p:spPr>
          <a:xfrm>
            <a:off x="3274920" y="2457000"/>
            <a:ext cx="216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4" name=""/>
          <p:cNvCxnSpPr>
            <a:stCxn id="1299" idx="4"/>
            <a:endCxn id="1300" idx="0"/>
          </p:cNvCxnSpPr>
          <p:nvPr/>
        </p:nvCxnSpPr>
        <p:spPr>
          <a:xfrm>
            <a:off x="5616360" y="2637000"/>
            <a:ext cx="1080" cy="20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5" name=""/>
          <p:cNvCxnSpPr>
            <a:stCxn id="1297" idx="2"/>
            <a:endCxn id="1298" idx="5"/>
          </p:cNvCxnSpPr>
          <p:nvPr/>
        </p:nvCxnSpPr>
        <p:spPr>
          <a:xfrm flipH="1" flipV="1">
            <a:off x="1783800" y="3736440"/>
            <a:ext cx="1130760" cy="1169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6" name=""/>
          <p:cNvCxnSpPr>
            <a:stCxn id="1297" idx="0"/>
            <a:endCxn id="1296" idx="4"/>
          </p:cNvCxnSpPr>
          <p:nvPr/>
        </p:nvCxnSpPr>
        <p:spPr>
          <a:xfrm flipV="1">
            <a:off x="3095280" y="2636640"/>
            <a:ext cx="1080" cy="20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7" name=""/>
          <p:cNvCxnSpPr>
            <a:stCxn id="1297" idx="6"/>
            <a:endCxn id="1300" idx="2"/>
          </p:cNvCxnSpPr>
          <p:nvPr/>
        </p:nvCxnSpPr>
        <p:spPr>
          <a:xfrm>
            <a:off x="3274920" y="4905000"/>
            <a:ext cx="216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8" name=""/>
          <p:cNvCxnSpPr>
            <a:stCxn id="1299" idx="6"/>
            <a:endCxn id="1301" idx="1"/>
          </p:cNvCxnSpPr>
          <p:nvPr/>
        </p:nvCxnSpPr>
        <p:spPr>
          <a:xfrm>
            <a:off x="5796000" y="2457360"/>
            <a:ext cx="1061280" cy="95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9" name=""/>
          <p:cNvCxnSpPr>
            <a:stCxn id="1301" idx="3"/>
            <a:endCxn id="1300" idx="6"/>
          </p:cNvCxnSpPr>
          <p:nvPr/>
        </p:nvCxnSpPr>
        <p:spPr>
          <a:xfrm flipH="1">
            <a:off x="5795640" y="3664080"/>
            <a:ext cx="1061280" cy="12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0" name=""/>
          <p:cNvSpPr/>
          <p:nvPr/>
        </p:nvSpPr>
        <p:spPr>
          <a:xfrm>
            <a:off x="990360" y="277488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8,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842840" y="429264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0,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3074760" y="350028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1,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4014360" y="255744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5,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4951080" y="356544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1,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4371480" y="486900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4,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6306840" y="262908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6,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246360" y="414972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0,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539640" y="2563920"/>
            <a:ext cx="360360" cy="36036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9" name=""/>
          <p:cNvCxnSpPr>
            <a:stCxn id="1318" idx="3"/>
            <a:endCxn id="1297" idx="3"/>
          </p:cNvCxnSpPr>
          <p:nvPr/>
        </p:nvCxnSpPr>
        <p:spPr>
          <a:xfrm flipH="1" rot="16200000">
            <a:off x="698040" y="2764440"/>
            <a:ext cx="2161080" cy="2375280"/>
          </a:xfrm>
          <a:prstGeom prst="curvedConnector5">
            <a:avLst>
              <a:gd name="adj1" fmla="val 112945"/>
              <a:gd name="adj2" fmla="val 49992"/>
              <a:gd name="adj3" fmla="val 1129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0" name=""/>
          <p:cNvCxnSpPr>
            <a:stCxn id="1318" idx="5"/>
            <a:endCxn id="1298" idx="1"/>
          </p:cNvCxnSpPr>
          <p:nvPr/>
        </p:nvCxnSpPr>
        <p:spPr>
          <a:xfrm>
            <a:off x="847800" y="2871720"/>
            <a:ext cx="68184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1" name=""/>
          <p:cNvCxnSpPr>
            <a:stCxn id="1318" idx="7"/>
            <a:endCxn id="1299" idx="0"/>
          </p:cNvCxnSpPr>
          <p:nvPr/>
        </p:nvCxnSpPr>
        <p:spPr>
          <a:xfrm flipH="1" flipV="1" rot="5400000">
            <a:off x="3061800" y="61560"/>
            <a:ext cx="340200" cy="4769280"/>
          </a:xfrm>
          <a:prstGeom prst="curvedConnector5">
            <a:avLst>
              <a:gd name="adj1" fmla="val 167266"/>
              <a:gd name="adj2" fmla="val 49996"/>
              <a:gd name="adj3" fmla="val 1672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2" name=""/>
          <p:cNvSpPr/>
          <p:nvPr/>
        </p:nvSpPr>
        <p:spPr>
          <a:xfrm>
            <a:off x="2144880" y="29908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8,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3870000" y="170028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2,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563480" y="529416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5,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7524720" y="5300640"/>
            <a:ext cx="360360" cy="36036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6" name=""/>
          <p:cNvCxnSpPr>
            <a:stCxn id="1301" idx="5"/>
            <a:endCxn id="1325" idx="0"/>
          </p:cNvCxnSpPr>
          <p:nvPr/>
        </p:nvCxnSpPr>
        <p:spPr>
          <a:xfrm>
            <a:off x="7111800" y="3664080"/>
            <a:ext cx="594360" cy="163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7" name=""/>
          <p:cNvCxnSpPr>
            <a:stCxn id="1300" idx="5"/>
            <a:endCxn id="1325" idx="2"/>
          </p:cNvCxnSpPr>
          <p:nvPr/>
        </p:nvCxnSpPr>
        <p:spPr>
          <a:xfrm>
            <a:off x="5743440" y="5032440"/>
            <a:ext cx="1782000" cy="45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8" name=""/>
          <p:cNvCxnSpPr>
            <a:stCxn id="1296" idx="5"/>
            <a:endCxn id="1325" idx="3"/>
          </p:cNvCxnSpPr>
          <p:nvPr/>
        </p:nvCxnSpPr>
        <p:spPr>
          <a:xfrm flipH="1" rot="16200000">
            <a:off x="3887640" y="1918800"/>
            <a:ext cx="3025080" cy="4355280"/>
          </a:xfrm>
          <a:prstGeom prst="curvedConnector5">
            <a:avLst>
              <a:gd name="adj1" fmla="val 109235"/>
              <a:gd name="adj2" fmla="val 49995"/>
              <a:gd name="adj3" fmla="val 1092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9" name=""/>
          <p:cNvSpPr/>
          <p:nvPr/>
        </p:nvSpPr>
        <p:spPr>
          <a:xfrm>
            <a:off x="6027480" y="551664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4,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6532200" y="500688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5,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7324560" y="421488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6,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544400" y="5589720"/>
            <a:ext cx="9590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33cc"/>
                </a:solidFill>
                <a:latin typeface="Bookman Old Style"/>
              </a:rPr>
              <a:t>x</a:t>
            </a:r>
            <a:r>
              <a:rPr b="0" i="1" lang="it-IT" sz="2800" spc="-1" strike="noStrike" baseline="-25000">
                <a:solidFill>
                  <a:srgbClr val="0033cc"/>
                </a:solidFill>
                <a:latin typeface="Bookman Old Style"/>
              </a:rPr>
              <a:t>ij</a:t>
            </a:r>
            <a:r>
              <a:rPr b="0" lang="it-IT" sz="2800" spc="-1" strike="noStrike">
                <a:solidFill>
                  <a:srgbClr val="0033cc"/>
                </a:solidFill>
                <a:latin typeface="Bookman Old Style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800" spc="-1" strike="noStrike">
                <a:solidFill>
                  <a:srgbClr val="ff0000"/>
                </a:solidFill>
                <a:latin typeface="Bookman Old Style"/>
              </a:rPr>
              <a:t>u</a:t>
            </a:r>
            <a:r>
              <a:rPr b="0" i="1" lang="it-IT" sz="2800" spc="-1" strike="noStrike" baseline="-25000">
                <a:solidFill>
                  <a:srgbClr val="ff0000"/>
                </a:solidFill>
                <a:latin typeface="Bookman Old Style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02E8-AFF7-4E1A-8F60-D8191A15798C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rcorsi, cammini e cicli (richiami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4600" y="1557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a</a:t>
            </a:r>
            <a:r>
              <a:rPr b="0" lang="en-US" sz="2000" spc="-1" strike="noStrike">
                <a:solidFill>
                  <a:srgbClr val="000000"/>
                </a:solidFill>
                <a:latin typeface="LCMSS8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LCMSS8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grafo orienta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perco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</a:t>
            </a:r>
            <a:r>
              <a:rPr b="0" lang="en-US" sz="2000" spc="-1" strike="noStrike">
                <a:solidFill>
                  <a:srgbClr val="000000"/>
                </a:solidFill>
                <a:latin typeface="LCMSS8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LCMSS8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è una sequenz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…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CMSS8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ui ogni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è un nodo, ogni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è un arco e, per ogni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-1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LCMSS8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ure</a:t>
            </a:r>
            <a:r>
              <a:rPr b="0" lang="en-US" sz="2000" spc="-1" strike="noStrike">
                <a:solidFill>
                  <a:srgbClr val="000000"/>
                </a:solidFill>
                <a:latin typeface="LCMSS8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percorso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…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LCMSS8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MMI8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LCMSS8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è detto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rienta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, per ogni</a:t>
            </a:r>
            <a:r>
              <a:rPr b="0" lang="en-US" sz="2000" spc="-1" strike="noStrike">
                <a:solidFill>
                  <a:srgbClr val="000000"/>
                </a:solidFill>
                <a:latin typeface="LCMSS8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percorso (orientato) senza ripetizione di nodi è detto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ammi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rienta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sottografo composto dal cammino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…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8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dall’arco</a:t>
            </a:r>
            <a:r>
              <a:rPr b="0" lang="en-US" sz="2000" spc="-1" strike="noStrike">
                <a:solidFill>
                  <a:srgbClr val="000000"/>
                </a:solidFill>
                <a:latin typeface="LCMSS8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LCMSS8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ure</a:t>
            </a:r>
            <a:r>
              <a:rPr b="0" lang="en-US" sz="2000" spc="-1" strike="noStrike">
                <a:solidFill>
                  <a:srgbClr val="000000"/>
                </a:solidFill>
                <a:latin typeface="LCMSS8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LCMSS8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è detto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ic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sottografo composto dal cammino orientato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…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8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dall’arco</a:t>
            </a:r>
            <a:r>
              <a:rPr b="0" lang="en-US" sz="2000" spc="-1" strike="noStrike">
                <a:solidFill>
                  <a:srgbClr val="000000"/>
                </a:solidFill>
                <a:latin typeface="LCMSS8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LCMSS8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è detto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iclo orien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DB71-FC5A-4885-882B-A8EA652964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2554200" y="2205000"/>
            <a:ext cx="360360" cy="360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2554200" y="4653000"/>
            <a:ext cx="360360" cy="360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1116000" y="3357720"/>
            <a:ext cx="360360" cy="3603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5075280" y="2205000"/>
            <a:ext cx="360360" cy="3603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5075280" y="4653000"/>
            <a:ext cx="360360" cy="3603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443640" y="3284640"/>
            <a:ext cx="360360" cy="36036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0" name=""/>
          <p:cNvCxnSpPr>
            <a:stCxn id="1336" idx="7"/>
            <a:endCxn id="1334" idx="2"/>
          </p:cNvCxnSpPr>
          <p:nvPr/>
        </p:nvCxnSpPr>
        <p:spPr>
          <a:xfrm flipV="1">
            <a:off x="1423800" y="2385720"/>
            <a:ext cx="1130760" cy="10245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341" name=""/>
          <p:cNvCxnSpPr>
            <a:stCxn id="1334" idx="6"/>
            <a:endCxn id="1337" idx="2"/>
          </p:cNvCxnSpPr>
          <p:nvPr/>
        </p:nvCxnSpPr>
        <p:spPr>
          <a:xfrm>
            <a:off x="2914560" y="2385720"/>
            <a:ext cx="2161080" cy="108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342" name=""/>
          <p:cNvCxnSpPr>
            <a:stCxn id="1337" idx="4"/>
            <a:endCxn id="1338" idx="0"/>
          </p:cNvCxnSpPr>
          <p:nvPr/>
        </p:nvCxnSpPr>
        <p:spPr>
          <a:xfrm>
            <a:off x="5256000" y="2565000"/>
            <a:ext cx="1080" cy="20883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343" name=""/>
          <p:cNvCxnSpPr>
            <a:stCxn id="1335" idx="2"/>
            <a:endCxn id="1336" idx="5"/>
          </p:cNvCxnSpPr>
          <p:nvPr/>
        </p:nvCxnSpPr>
        <p:spPr>
          <a:xfrm flipH="1" flipV="1">
            <a:off x="1423440" y="3665160"/>
            <a:ext cx="1130760" cy="1169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4" name=""/>
          <p:cNvCxnSpPr>
            <a:stCxn id="1335" idx="0"/>
            <a:endCxn id="1334" idx="4"/>
          </p:cNvCxnSpPr>
          <p:nvPr/>
        </p:nvCxnSpPr>
        <p:spPr>
          <a:xfrm flipV="1">
            <a:off x="2734920" y="2564640"/>
            <a:ext cx="1080" cy="20883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345" name=""/>
          <p:cNvCxnSpPr>
            <a:stCxn id="1335" idx="6"/>
            <a:endCxn id="1338" idx="2"/>
          </p:cNvCxnSpPr>
          <p:nvPr/>
        </p:nvCxnSpPr>
        <p:spPr>
          <a:xfrm>
            <a:off x="2914560" y="4833720"/>
            <a:ext cx="216108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46" name=""/>
          <p:cNvCxnSpPr>
            <a:stCxn id="1337" idx="6"/>
            <a:endCxn id="1339" idx="1"/>
          </p:cNvCxnSpPr>
          <p:nvPr/>
        </p:nvCxnSpPr>
        <p:spPr>
          <a:xfrm>
            <a:off x="5435640" y="2385720"/>
            <a:ext cx="1061280" cy="95148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347" name=""/>
          <p:cNvCxnSpPr>
            <a:stCxn id="1339" idx="3"/>
            <a:endCxn id="1338" idx="6"/>
          </p:cNvCxnSpPr>
          <p:nvPr/>
        </p:nvCxnSpPr>
        <p:spPr>
          <a:xfrm flipH="1">
            <a:off x="5435280" y="3592080"/>
            <a:ext cx="1061280" cy="1242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8" name=""/>
          <p:cNvSpPr/>
          <p:nvPr/>
        </p:nvSpPr>
        <p:spPr>
          <a:xfrm>
            <a:off x="748440" y="3576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2418480" y="5013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5037120" y="501336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764400" y="328464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2428200" y="1838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5025960" y="183816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576000" y="1484280"/>
            <a:ext cx="5884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ttura</a:t>
            </a:r>
            <a:r>
              <a:rPr b="0" i="1" lang="en-US" sz="2800" spc="-1" strike="noStrike">
                <a:solidFill>
                  <a:srgbClr val="0033cc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1" i="1" lang="en-US" sz="2800" spc="-1" strike="noStrike">
                <a:solidFill>
                  <a:srgbClr val="0033cc"/>
                </a:solidFill>
                <a:latin typeface="Bookman Old Style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en-US" sz="2800" spc="-1" strike="noStrike">
                <a:solidFill>
                  <a:srgbClr val="0033cc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en-US" sz="2800" spc="-1" strike="noStrike">
                <a:solidFill>
                  <a:srgbClr val="0033cc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Bookman Old Style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potenziali ai no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5" name=""/>
              <p:cNvSpPr txBox="1"/>
              <p:nvPr/>
            </p:nvSpPr>
            <p:spPr>
              <a:xfrm>
                <a:off x="3395520" y="4876920"/>
                <a:ext cx="8161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6046920" y="4013280"/>
                <a:ext cx="8460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"/>
              <p:cNvSpPr txBox="1"/>
              <p:nvPr/>
            </p:nvSpPr>
            <p:spPr>
              <a:xfrm>
                <a:off x="1173240" y="4365720"/>
                <a:ext cx="8460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8" name=""/>
          <p:cNvSpPr/>
          <p:nvPr/>
        </p:nvSpPr>
        <p:spPr>
          <a:xfrm>
            <a:off x="1501200" y="26370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3805920" y="19890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6019200" y="25574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2778840" y="3349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3805920" y="4365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5317560" y="34290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613800" y="5686560"/>
            <a:ext cx="4458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ore della soluzione: 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3378-C253-4FDC-A66B-55F0676237E3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2554200" y="2205000"/>
            <a:ext cx="360360" cy="360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2554200" y="4653000"/>
            <a:ext cx="360360" cy="360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1116000" y="3357720"/>
            <a:ext cx="360360" cy="3603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5075280" y="2205000"/>
            <a:ext cx="360360" cy="3603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5075280" y="4653000"/>
            <a:ext cx="360360" cy="3603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6443640" y="3284640"/>
            <a:ext cx="360360" cy="36036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2" name=""/>
          <p:cNvCxnSpPr>
            <a:stCxn id="1368" idx="7"/>
            <a:endCxn id="1366" idx="2"/>
          </p:cNvCxnSpPr>
          <p:nvPr/>
        </p:nvCxnSpPr>
        <p:spPr>
          <a:xfrm flipV="1">
            <a:off x="1423800" y="2385720"/>
            <a:ext cx="1130760" cy="10245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373" name=""/>
          <p:cNvCxnSpPr>
            <a:stCxn id="1366" idx="6"/>
            <a:endCxn id="1369" idx="2"/>
          </p:cNvCxnSpPr>
          <p:nvPr/>
        </p:nvCxnSpPr>
        <p:spPr>
          <a:xfrm>
            <a:off x="2914560" y="2385720"/>
            <a:ext cx="2161080" cy="108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374" name=""/>
          <p:cNvCxnSpPr>
            <a:stCxn id="1369" idx="4"/>
            <a:endCxn id="1370" idx="0"/>
          </p:cNvCxnSpPr>
          <p:nvPr/>
        </p:nvCxnSpPr>
        <p:spPr>
          <a:xfrm>
            <a:off x="5256000" y="2565000"/>
            <a:ext cx="1080" cy="20883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375" name=""/>
          <p:cNvCxnSpPr>
            <a:stCxn id="1367" idx="2"/>
            <a:endCxn id="1368" idx="5"/>
          </p:cNvCxnSpPr>
          <p:nvPr/>
        </p:nvCxnSpPr>
        <p:spPr>
          <a:xfrm flipH="1" flipV="1">
            <a:off x="1423440" y="3665160"/>
            <a:ext cx="1130760" cy="1169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6" name=""/>
          <p:cNvCxnSpPr>
            <a:stCxn id="1367" idx="0"/>
            <a:endCxn id="1366" idx="4"/>
          </p:cNvCxnSpPr>
          <p:nvPr/>
        </p:nvCxnSpPr>
        <p:spPr>
          <a:xfrm flipV="1">
            <a:off x="2734920" y="2564640"/>
            <a:ext cx="1080" cy="20883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377" name=""/>
          <p:cNvCxnSpPr>
            <a:stCxn id="1367" idx="6"/>
            <a:endCxn id="1370" idx="2"/>
          </p:cNvCxnSpPr>
          <p:nvPr/>
        </p:nvCxnSpPr>
        <p:spPr>
          <a:xfrm>
            <a:off x="2914560" y="4833720"/>
            <a:ext cx="216108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78" name=""/>
          <p:cNvCxnSpPr>
            <a:stCxn id="1369" idx="6"/>
            <a:endCxn id="1371" idx="1"/>
          </p:cNvCxnSpPr>
          <p:nvPr/>
        </p:nvCxnSpPr>
        <p:spPr>
          <a:xfrm>
            <a:off x="5435640" y="2385720"/>
            <a:ext cx="1061280" cy="95148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379" name=""/>
          <p:cNvCxnSpPr>
            <a:stCxn id="1371" idx="3"/>
            <a:endCxn id="1370" idx="6"/>
          </p:cNvCxnSpPr>
          <p:nvPr/>
        </p:nvCxnSpPr>
        <p:spPr>
          <a:xfrm flipH="1">
            <a:off x="5435280" y="3592080"/>
            <a:ext cx="1061280" cy="1242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0" name=""/>
          <p:cNvSpPr/>
          <p:nvPr/>
        </p:nvSpPr>
        <p:spPr>
          <a:xfrm>
            <a:off x="748440" y="3576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2418480" y="5013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5037120" y="501336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6764400" y="328464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2428200" y="1838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5025960" y="183816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6" name=""/>
              <p:cNvSpPr txBox="1"/>
              <p:nvPr/>
            </p:nvSpPr>
            <p:spPr>
              <a:xfrm>
                <a:off x="3381480" y="4365720"/>
                <a:ext cx="8460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7" name=""/>
          <p:cNvSpPr/>
          <p:nvPr/>
        </p:nvSpPr>
        <p:spPr>
          <a:xfrm>
            <a:off x="3036600" y="493380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o entr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3132000" y="2936880"/>
            <a:ext cx="1224000" cy="1212840"/>
          </a:xfrm>
          <a:custGeom>
            <a:avLst/>
            <a:gdLst/>
            <a:ahLst/>
            <a:rect l="l" t="t" r="r" b="b"/>
            <a:pathLst>
              <a:path w="771" h="764">
                <a:moveTo>
                  <a:pt x="408" y="764"/>
                </a:moveTo>
                <a:cubicBezTo>
                  <a:pt x="249" y="707"/>
                  <a:pt x="90" y="650"/>
                  <a:pt x="45" y="537"/>
                </a:cubicBezTo>
                <a:cubicBezTo>
                  <a:pt x="0" y="424"/>
                  <a:pt x="45" y="166"/>
                  <a:pt x="136" y="83"/>
                </a:cubicBezTo>
                <a:cubicBezTo>
                  <a:pt x="227" y="0"/>
                  <a:pt x="483" y="0"/>
                  <a:pt x="589" y="38"/>
                </a:cubicBezTo>
                <a:cubicBezTo>
                  <a:pt x="695" y="76"/>
                  <a:pt x="741" y="265"/>
                  <a:pt x="771" y="31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9" name=""/>
              <p:cNvSpPr txBox="1"/>
              <p:nvPr/>
            </p:nvSpPr>
            <p:spPr>
              <a:xfrm>
                <a:off x="1925640" y="3357720"/>
                <a:ext cx="8460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0" name=""/>
              <p:cNvSpPr txBox="1"/>
              <p:nvPr/>
            </p:nvSpPr>
            <p:spPr>
              <a:xfrm>
                <a:off x="3540240" y="1852560"/>
                <a:ext cx="78552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1" name=""/>
              <p:cNvSpPr txBox="1"/>
              <p:nvPr/>
            </p:nvSpPr>
            <p:spPr>
              <a:xfrm>
                <a:off x="5340240" y="3365640"/>
                <a:ext cx="7858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2" name=""/>
          <p:cNvSpPr/>
          <p:nvPr/>
        </p:nvSpPr>
        <p:spPr>
          <a:xfrm>
            <a:off x="3058200" y="256536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o del cic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7CA7-4069-4983-804E-96AB5C292D6E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2554200" y="2205000"/>
            <a:ext cx="360360" cy="360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2554200" y="4653000"/>
            <a:ext cx="360360" cy="360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116000" y="3357720"/>
            <a:ext cx="360360" cy="3603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5075280" y="2205000"/>
            <a:ext cx="360360" cy="3603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5075280" y="4653000"/>
            <a:ext cx="360360" cy="3603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6443640" y="3284640"/>
            <a:ext cx="360360" cy="36036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0" name=""/>
          <p:cNvCxnSpPr>
            <a:stCxn id="1396" idx="7"/>
            <a:endCxn id="1394" idx="2"/>
          </p:cNvCxnSpPr>
          <p:nvPr/>
        </p:nvCxnSpPr>
        <p:spPr>
          <a:xfrm flipV="1">
            <a:off x="1423800" y="2385720"/>
            <a:ext cx="1130760" cy="10245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401" name=""/>
          <p:cNvCxnSpPr>
            <a:stCxn id="1394" idx="6"/>
            <a:endCxn id="1397" idx="2"/>
          </p:cNvCxnSpPr>
          <p:nvPr/>
        </p:nvCxnSpPr>
        <p:spPr>
          <a:xfrm>
            <a:off x="2914560" y="2385720"/>
            <a:ext cx="2161080" cy="108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402" name=""/>
          <p:cNvCxnSpPr>
            <a:stCxn id="1397" idx="4"/>
            <a:endCxn id="1398" idx="0"/>
          </p:cNvCxnSpPr>
          <p:nvPr/>
        </p:nvCxnSpPr>
        <p:spPr>
          <a:xfrm>
            <a:off x="5256000" y="2565000"/>
            <a:ext cx="1080" cy="2088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03" name=""/>
          <p:cNvCxnSpPr>
            <a:stCxn id="1395" idx="2"/>
            <a:endCxn id="1396" idx="5"/>
          </p:cNvCxnSpPr>
          <p:nvPr/>
        </p:nvCxnSpPr>
        <p:spPr>
          <a:xfrm flipH="1" flipV="1">
            <a:off x="1423440" y="3665160"/>
            <a:ext cx="1130760" cy="1169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4" name=""/>
          <p:cNvCxnSpPr>
            <a:stCxn id="1395" idx="0"/>
            <a:endCxn id="1394" idx="4"/>
          </p:cNvCxnSpPr>
          <p:nvPr/>
        </p:nvCxnSpPr>
        <p:spPr>
          <a:xfrm flipV="1">
            <a:off x="2734920" y="2564640"/>
            <a:ext cx="1080" cy="20883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405" name=""/>
          <p:cNvCxnSpPr>
            <a:stCxn id="1395" idx="6"/>
            <a:endCxn id="1398" idx="2"/>
          </p:cNvCxnSpPr>
          <p:nvPr/>
        </p:nvCxnSpPr>
        <p:spPr>
          <a:xfrm>
            <a:off x="2914560" y="4833720"/>
            <a:ext cx="2161080" cy="108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406" name=""/>
          <p:cNvCxnSpPr>
            <a:stCxn id="1397" idx="6"/>
            <a:endCxn id="1399" idx="1"/>
          </p:cNvCxnSpPr>
          <p:nvPr/>
        </p:nvCxnSpPr>
        <p:spPr>
          <a:xfrm>
            <a:off x="5435640" y="2385720"/>
            <a:ext cx="1061280" cy="95148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407" name=""/>
          <p:cNvCxnSpPr>
            <a:stCxn id="1399" idx="3"/>
            <a:endCxn id="1398" idx="6"/>
          </p:cNvCxnSpPr>
          <p:nvPr/>
        </p:nvCxnSpPr>
        <p:spPr>
          <a:xfrm flipH="1">
            <a:off x="5435280" y="3592080"/>
            <a:ext cx="1061280" cy="1242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8" name=""/>
          <p:cNvSpPr/>
          <p:nvPr/>
        </p:nvSpPr>
        <p:spPr>
          <a:xfrm>
            <a:off x="748440" y="3576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2418480" y="5013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037120" y="501336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6764400" y="328464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2428200" y="1838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5025960" y="183816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1501200" y="26370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805920" y="19890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6019200" y="25574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778840" y="3349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3805920" y="48690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5317560" y="34290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0" name=""/>
              <p:cNvSpPr txBox="1"/>
              <p:nvPr/>
            </p:nvSpPr>
            <p:spPr>
              <a:xfrm>
                <a:off x="1173240" y="4229280"/>
                <a:ext cx="8460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5973840" y="4076640"/>
                <a:ext cx="8460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2" name=""/>
              <p:cNvSpPr txBox="1"/>
              <p:nvPr/>
            </p:nvSpPr>
            <p:spPr>
              <a:xfrm>
                <a:off x="4194000" y="3068640"/>
                <a:ext cx="10288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3" name=""/>
          <p:cNvSpPr/>
          <p:nvPr/>
        </p:nvSpPr>
        <p:spPr>
          <a:xfrm>
            <a:off x="1009080" y="5473800"/>
            <a:ext cx="4952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zione ottima di valore 1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20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F525-02CC-4333-B09D-EEED8CBE73F3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16:55:04Z</dcterms:created>
  <dc:creator>/</dc:creator>
  <dc:description/>
  <dc:language>en-US</dc:language>
  <cp:lastModifiedBy> </cp:lastModifiedBy>
  <dcterms:modified xsi:type="dcterms:W3CDTF">2006-12-06T11:17:22Z</dcterms:modified>
  <cp:revision>243</cp:revision>
  <dc:subject/>
  <dc:title>Diapositiva 1</dc:title>
</cp:coreProperties>
</file>