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5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1.xml.rels" ContentType="application/vnd.openxmlformats-package.relationships+xml"/>
  <Override PartName="/ppt/slides/_rels/slide52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58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3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2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2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9.xml" ContentType="application/vnd.openxmlformats-officedocument.presentationml.slide+xml"/>
  <Override PartName="/ppt/slides/slide59.xml" ContentType="application/vnd.openxmlformats-officedocument.presentationml.slide+xml"/>
  <Override PartName="/ppt/slides/slide58.xml" ContentType="application/vnd.openxmlformats-officedocument.presentationml.slide+xml"/>
  <Override PartName="/ppt/slides/slide8.xml" ContentType="application/vnd.openxmlformats-officedocument.presentationml.slide+xml"/>
  <Override PartName="/ppt/slides/slide21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81.xml" ContentType="application/vnd.openxmlformats-officedocument.presentationml.slide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8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34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44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29.xml" ContentType="application/vnd.openxmlformats-officedocument.presentationml.slide+xml"/>
  <Override PartName="/ppt/slides/slide97.xml" ContentType="application/vnd.openxmlformats-officedocument.presentationml.slide+xml"/>
  <Override PartName="/ppt/slides/slide125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931C-0C3A-48BA-AA84-ED075C602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9187-8605-488F-A7A7-9F68EEB65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8B41-0474-4A8D-865B-91C183CBF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80B5-CF39-482A-8FCA-CF2B9E838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B7B0D-E101-4C78-BC8F-6589C2AFE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822D2-9F1F-4D8D-84A8-1A9020E9C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2A53A-A1B8-414E-9573-7051A6E6E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6ABEC-40C7-4B3A-884D-F8A7D525F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49160-B7F0-4A1E-9A0E-09AAB3EC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A7984-A1D3-4FC6-93EB-026AA2E31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BE870-4451-4E11-AFAC-7448612A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4478-6FB9-4E53-9123-CB9458AF7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B9C35-0B5A-4386-9B07-04B27B31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07C45-3F28-4A00-AD57-8EAAECDC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A3FC8-7186-4CC6-929E-84B07CABF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112D0-BA00-40F0-B5C1-F9087D1BD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5CF82-3458-4245-804E-C645AE12C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5280-1D88-46B1-A614-807784A8B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E6FE-EAFE-4626-BE56-03D4969D8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827D-BF71-4300-BAF3-63EA435C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0EB7-1B3F-419B-B5D8-872A3EE06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0DF5-A32C-44E5-BBA6-F2D79B80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3783-9C83-4AC6-9407-FAD5E2B5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06F6-C10B-4483-A38D-1F515423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331640" y="6237360"/>
            <a:ext cx="55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2DCE2-2CC4-498D-8D68-8024B0F3A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904F8-78AB-4B21-86F7-6074CDACFB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rossi@di.univaq.it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Progetto e Ottimizzazione di Reti </a:t>
            </a:r>
            <a:br>
              <a:rPr sz="3200"/>
            </a:b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A. A. 2006-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483920"/>
            <a:ext cx="792504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cc"/>
                </a:solidFill>
                <a:latin typeface="Arial"/>
              </a:rPr>
              <a:t>Docent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Fabrizio Ross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rossi@di.univaq.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cc"/>
                </a:solidFill>
                <a:latin typeface="Arial"/>
              </a:rPr>
              <a:t>Or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Martedi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15-17 aula 2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Mercoledi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11.30-13.30 aula 2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Giovedi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11.30-13.30 aula 2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cc"/>
                </a:solidFill>
                <a:latin typeface="Arial"/>
              </a:rPr>
              <a:t>Orario di ricev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Mercoledi 17-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585F-4C3F-44BA-999B-3BA360A4070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476360" y="456876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08720" y="4568760"/>
            <a:ext cx="215640" cy="21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56000" y="3705120"/>
            <a:ext cx="21564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211640" y="370512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557440" y="52894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213080" y="52894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3" idx="7"/>
            <a:endCxn id="235" idx="2"/>
          </p:cNvCxnSpPr>
          <p:nvPr/>
        </p:nvCxnSpPr>
        <p:spPr>
          <a:xfrm flipV="1">
            <a:off x="1660320" y="3812400"/>
            <a:ext cx="896040" cy="788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3" idx="5"/>
            <a:endCxn id="237" idx="2"/>
          </p:cNvCxnSpPr>
          <p:nvPr/>
        </p:nvCxnSpPr>
        <p:spPr>
          <a:xfrm>
            <a:off x="1660320" y="4753080"/>
            <a:ext cx="897480" cy="64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35" idx="6"/>
            <a:endCxn id="236" idx="2"/>
          </p:cNvCxnSpPr>
          <p:nvPr/>
        </p:nvCxnSpPr>
        <p:spPr>
          <a:xfrm>
            <a:off x="2771640" y="3812760"/>
            <a:ext cx="144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"/>
          <p:cNvCxnSpPr>
            <a:stCxn id="236" idx="6"/>
            <a:endCxn id="234" idx="1"/>
          </p:cNvCxnSpPr>
          <p:nvPr/>
        </p:nvCxnSpPr>
        <p:spPr>
          <a:xfrm>
            <a:off x="4427280" y="3812760"/>
            <a:ext cx="1113120" cy="788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37" idx="6"/>
            <a:endCxn id="238" idx="2"/>
          </p:cNvCxnSpPr>
          <p:nvPr/>
        </p:nvCxnSpPr>
        <p:spPr>
          <a:xfrm>
            <a:off x="2773080" y="5397120"/>
            <a:ext cx="144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"/>
          <p:cNvCxnSpPr>
            <a:stCxn id="238" idx="6"/>
            <a:endCxn id="234" idx="3"/>
          </p:cNvCxnSpPr>
          <p:nvPr/>
        </p:nvCxnSpPr>
        <p:spPr>
          <a:xfrm flipV="1">
            <a:off x="4428720" y="4752720"/>
            <a:ext cx="1112040" cy="64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5" idx="4"/>
            <a:endCxn id="237" idx="0"/>
          </p:cNvCxnSpPr>
          <p:nvPr/>
        </p:nvCxnSpPr>
        <p:spPr>
          <a:xfrm>
            <a:off x="2664000" y="3920760"/>
            <a:ext cx="2160" cy="136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8" idx="0"/>
            <a:endCxn id="236" idx="4"/>
          </p:cNvCxnSpPr>
          <p:nvPr/>
        </p:nvCxnSpPr>
        <p:spPr>
          <a:xfrm flipH="1" flipV="1">
            <a:off x="4319280" y="3920400"/>
            <a:ext cx="2160" cy="136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"/>
          <p:cNvSpPr/>
          <p:nvPr/>
        </p:nvSpPr>
        <p:spPr>
          <a:xfrm>
            <a:off x="1201320" y="470700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706360" y="46404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346840" y="3429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362840" y="3424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635560" y="5432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312080" y="5438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842120" y="51498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180600" y="54324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807440" y="5073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892760" y="3843360"/>
            <a:ext cx="6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291560" y="4417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701080" y="432432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+</a:t>
            </a:r>
            <a:r>
              <a:rPr b="0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semp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1661760" y="3817440"/>
            <a:ext cx="3896280" cy="1581840"/>
            <a:chOff x="1661760" y="3817440"/>
            <a:chExt cx="3896280" cy="1581840"/>
          </a:xfrm>
        </p:grpSpPr>
        <p:cxnSp>
          <p:nvCxnSpPr>
            <p:cNvPr id="261" name=""/>
            <p:cNvCxnSpPr/>
            <p:nvPr/>
          </p:nvCxnSpPr>
          <p:spPr>
            <a:xfrm flipV="1">
              <a:off x="1661760" y="3817440"/>
              <a:ext cx="896040" cy="788400"/>
            </a:xfrm>
            <a:prstGeom prst="straightConnector1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/>
            <p:nvPr/>
          </p:nvCxnSpPr>
          <p:spPr>
            <a:xfrm>
              <a:off x="2671200" y="3919320"/>
              <a:ext cx="2520" cy="1369080"/>
            </a:xfrm>
            <a:prstGeom prst="straightConnector1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263" name=""/>
            <p:cNvCxnSpPr/>
            <p:nvPr/>
          </p:nvCxnSpPr>
          <p:spPr>
            <a:xfrm>
              <a:off x="2790720" y="5398560"/>
              <a:ext cx="1440360" cy="1080"/>
            </a:xfrm>
            <a:prstGeom prst="straightConnector1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/>
            <p:nvPr/>
          </p:nvCxnSpPr>
          <p:spPr>
            <a:xfrm flipV="1">
              <a:off x="4446720" y="4754160"/>
              <a:ext cx="1111680" cy="645120"/>
            </a:xfrm>
            <a:prstGeom prst="straightConnector1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</p:cxnSp>
      </p:grpSp>
      <p:sp>
        <p:nvSpPr>
          <p:cNvPr id="265" name=""/>
          <p:cNvSpPr/>
          <p:nvPr/>
        </p:nvSpPr>
        <p:spPr>
          <a:xfrm>
            <a:off x="539640" y="1660680"/>
            <a:ext cx="792180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l momento che la capacità dell’arco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(1, 4)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è completamente utilizzata, non possiamo scegliere un cammino che utilizzi gli stessi archi di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Bookman Old Style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tanto, scelgo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, 1, 2, 3,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434960" y="3927600"/>
            <a:ext cx="6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341520" y="3416400"/>
            <a:ext cx="6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396B-3FCC-4EB8-BFC0-91044E68C3E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semp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6" name=""/>
          <p:cNvSpPr/>
          <p:nvPr/>
        </p:nvSpPr>
        <p:spPr>
          <a:xfrm>
            <a:off x="2378160" y="1486080"/>
            <a:ext cx="28728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"/>
          <p:cNvSpPr/>
          <p:nvPr/>
        </p:nvSpPr>
        <p:spPr>
          <a:xfrm>
            <a:off x="2378160" y="2997360"/>
            <a:ext cx="28728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"/>
          <p:cNvSpPr/>
          <p:nvPr/>
        </p:nvSpPr>
        <p:spPr>
          <a:xfrm>
            <a:off x="3386160" y="2276640"/>
            <a:ext cx="287280" cy="287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"/>
          <p:cNvSpPr/>
          <p:nvPr/>
        </p:nvSpPr>
        <p:spPr>
          <a:xfrm>
            <a:off x="4538520" y="2276640"/>
            <a:ext cx="287640" cy="287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"/>
          <p:cNvSpPr/>
          <p:nvPr/>
        </p:nvSpPr>
        <p:spPr>
          <a:xfrm>
            <a:off x="5618160" y="1486080"/>
            <a:ext cx="287280" cy="287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"/>
          <p:cNvSpPr/>
          <p:nvPr/>
        </p:nvSpPr>
        <p:spPr>
          <a:xfrm>
            <a:off x="5618160" y="2997360"/>
            <a:ext cx="287280" cy="287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2" name=""/>
          <p:cNvCxnSpPr>
            <a:stCxn id="2296" idx="5"/>
            <a:endCxn id="2298" idx="1"/>
          </p:cNvCxnSpPr>
          <p:nvPr/>
        </p:nvCxnSpPr>
        <p:spPr>
          <a:xfrm>
            <a:off x="2622600" y="1730520"/>
            <a:ext cx="807120" cy="589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303" name=""/>
          <p:cNvCxnSpPr>
            <a:stCxn id="2297" idx="7"/>
            <a:endCxn id="2298" idx="3"/>
          </p:cNvCxnSpPr>
          <p:nvPr/>
        </p:nvCxnSpPr>
        <p:spPr>
          <a:xfrm flipV="1">
            <a:off x="2622600" y="2520720"/>
            <a:ext cx="807120" cy="519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304" name=""/>
          <p:cNvCxnSpPr>
            <a:stCxn id="2297" idx="0"/>
            <a:endCxn id="2296" idx="4"/>
          </p:cNvCxnSpPr>
          <p:nvPr/>
        </p:nvCxnSpPr>
        <p:spPr>
          <a:xfrm flipV="1">
            <a:off x="2522160" y="1773000"/>
            <a:ext cx="1080" cy="1224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305" name=""/>
          <p:cNvCxnSpPr>
            <a:stCxn id="2298" idx="6"/>
            <a:endCxn id="2299" idx="2"/>
          </p:cNvCxnSpPr>
          <p:nvPr/>
        </p:nvCxnSpPr>
        <p:spPr>
          <a:xfrm>
            <a:off x="3673080" y="2420640"/>
            <a:ext cx="86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306" name=""/>
          <p:cNvCxnSpPr>
            <a:stCxn id="2299" idx="5"/>
            <a:endCxn id="2301" idx="2"/>
          </p:cNvCxnSpPr>
          <p:nvPr/>
        </p:nvCxnSpPr>
        <p:spPr>
          <a:xfrm>
            <a:off x="4782960" y="2521080"/>
            <a:ext cx="835920" cy="621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307" name=""/>
          <p:cNvCxnSpPr>
            <a:stCxn id="2299" idx="7"/>
            <a:endCxn id="2300" idx="3"/>
          </p:cNvCxnSpPr>
          <p:nvPr/>
        </p:nvCxnSpPr>
        <p:spPr>
          <a:xfrm flipV="1">
            <a:off x="4782600" y="1730160"/>
            <a:ext cx="878760" cy="589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308" name=""/>
          <p:cNvCxnSpPr>
            <a:stCxn id="2301" idx="0"/>
            <a:endCxn id="2300" idx="4"/>
          </p:cNvCxnSpPr>
          <p:nvPr/>
        </p:nvCxnSpPr>
        <p:spPr>
          <a:xfrm flipV="1">
            <a:off x="5762160" y="1773000"/>
            <a:ext cx="1080" cy="1224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309" name=""/>
          <p:cNvSpPr/>
          <p:nvPr/>
        </p:nvSpPr>
        <p:spPr>
          <a:xfrm>
            <a:off x="3855600" y="25290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"/>
          <p:cNvSpPr/>
          <p:nvPr/>
        </p:nvSpPr>
        <p:spPr>
          <a:xfrm>
            <a:off x="4863960" y="1628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"/>
          <p:cNvSpPr/>
          <p:nvPr/>
        </p:nvSpPr>
        <p:spPr>
          <a:xfrm>
            <a:off x="4898880" y="2887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"/>
          <p:cNvSpPr/>
          <p:nvPr/>
        </p:nvSpPr>
        <p:spPr>
          <a:xfrm>
            <a:off x="5906880" y="21337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"/>
          <p:cNvSpPr/>
          <p:nvPr/>
        </p:nvSpPr>
        <p:spPr>
          <a:xfrm>
            <a:off x="2018880" y="22050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"/>
          <p:cNvSpPr/>
          <p:nvPr/>
        </p:nvSpPr>
        <p:spPr>
          <a:xfrm>
            <a:off x="2954160" y="16635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"/>
          <p:cNvSpPr/>
          <p:nvPr/>
        </p:nvSpPr>
        <p:spPr>
          <a:xfrm>
            <a:off x="2954160" y="27446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"/>
          <p:cNvSpPr/>
          <p:nvPr/>
        </p:nvSpPr>
        <p:spPr>
          <a:xfrm>
            <a:off x="1987560" y="148428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"/>
          <p:cNvSpPr/>
          <p:nvPr/>
        </p:nvSpPr>
        <p:spPr>
          <a:xfrm>
            <a:off x="2054880" y="299736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>
            <a:off x="3497040" y="191628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"/>
          <p:cNvSpPr/>
          <p:nvPr/>
        </p:nvSpPr>
        <p:spPr>
          <a:xfrm>
            <a:off x="4364640" y="191628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"/>
          <p:cNvSpPr/>
          <p:nvPr/>
        </p:nvSpPr>
        <p:spPr>
          <a:xfrm>
            <a:off x="5893200" y="3032280"/>
            <a:ext cx="30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"/>
          <p:cNvSpPr/>
          <p:nvPr/>
        </p:nvSpPr>
        <p:spPr>
          <a:xfrm>
            <a:off x="5886000" y="1413000"/>
            <a:ext cx="26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PlaceHolder 2"/>
          <p:cNvSpPr>
            <a:spLocks noGrp="1"/>
          </p:cNvSpPr>
          <p:nvPr>
            <p:ph/>
          </p:nvPr>
        </p:nvSpPr>
        <p:spPr>
          <a:xfrm>
            <a:off x="539640" y="3357720"/>
            <a:ext cx="7925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487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chiamo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generando il nuovo vertice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7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7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3" name=""/>
          <p:cNvGrpSpPr/>
          <p:nvPr/>
        </p:nvGrpSpPr>
        <p:grpSpPr>
          <a:xfrm>
            <a:off x="1762920" y="3716280"/>
            <a:ext cx="4608000" cy="2018160"/>
            <a:chOff x="1762920" y="3716280"/>
            <a:chExt cx="4608000" cy="2018160"/>
          </a:xfrm>
        </p:grpSpPr>
        <p:sp>
          <p:nvSpPr>
            <p:cNvPr id="2324" name=""/>
            <p:cNvSpPr/>
            <p:nvPr/>
          </p:nvSpPr>
          <p:spPr>
            <a:xfrm>
              <a:off x="2124000" y="4579920"/>
              <a:ext cx="287280" cy="287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3386160" y="4579920"/>
              <a:ext cx="287280" cy="2872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4538520" y="4579920"/>
              <a:ext cx="287640" cy="2872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5618160" y="3789360"/>
              <a:ext cx="287280" cy="2872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5618160" y="5300640"/>
              <a:ext cx="287280" cy="2872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29" name=""/>
            <p:cNvCxnSpPr>
              <a:stCxn id="2325" idx="6"/>
              <a:endCxn id="2326" idx="2"/>
            </p:cNvCxnSpPr>
            <p:nvPr/>
          </p:nvCxnSpPr>
          <p:spPr>
            <a:xfrm>
              <a:off x="3673080" y="4723920"/>
              <a:ext cx="8658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30" name=""/>
            <p:cNvCxnSpPr>
              <a:stCxn id="2326" idx="5"/>
              <a:endCxn id="2328" idx="2"/>
            </p:cNvCxnSpPr>
            <p:nvPr/>
          </p:nvCxnSpPr>
          <p:spPr>
            <a:xfrm>
              <a:off x="4782960" y="4824360"/>
              <a:ext cx="835920" cy="621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31" name=""/>
            <p:cNvCxnSpPr>
              <a:stCxn id="2326" idx="7"/>
              <a:endCxn id="2327" idx="3"/>
            </p:cNvCxnSpPr>
            <p:nvPr/>
          </p:nvCxnSpPr>
          <p:spPr>
            <a:xfrm flipV="1">
              <a:off x="4782600" y="4033440"/>
              <a:ext cx="878760" cy="589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32" name=""/>
            <p:cNvCxnSpPr>
              <a:stCxn id="2328" idx="0"/>
              <a:endCxn id="2327" idx="4"/>
            </p:cNvCxnSpPr>
            <p:nvPr/>
          </p:nvCxnSpPr>
          <p:spPr>
            <a:xfrm flipV="1">
              <a:off x="5762160" y="4076280"/>
              <a:ext cx="1080" cy="1224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333" name=""/>
            <p:cNvSpPr/>
            <p:nvPr/>
          </p:nvSpPr>
          <p:spPr>
            <a:xfrm>
              <a:off x="3855600" y="48322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4863960" y="3932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4898880" y="51912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5906880" y="44370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2701440" y="40384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2701440" y="50482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1762920" y="4471920"/>
              <a:ext cx="32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3497040" y="41832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4364640" y="4219560"/>
              <a:ext cx="32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5893200" y="5335560"/>
              <a:ext cx="30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5886000" y="3716280"/>
              <a:ext cx="26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44" name=""/>
            <p:cNvCxnSpPr>
              <a:stCxn id="2324" idx="0"/>
              <a:endCxn id="2325" idx="0"/>
            </p:cNvCxnSpPr>
            <p:nvPr/>
          </p:nvCxnSpPr>
          <p:spPr>
            <a:xfrm flipH="1" rot="16200000">
              <a:off x="2898720" y="3949200"/>
              <a:ext cx="2160" cy="1262880"/>
            </a:xfrm>
            <a:prstGeom prst="curvedConnector5">
              <a:avLst>
                <a:gd name="adj1" fmla="val -14400000"/>
                <a:gd name="adj2" fmla="val 49985"/>
                <a:gd name="adj3" fmla="val -1440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45" name=""/>
            <p:cNvCxnSpPr>
              <a:stCxn id="2324" idx="4"/>
              <a:endCxn id="2325" idx="4"/>
            </p:cNvCxnSpPr>
            <p:nvPr/>
          </p:nvCxnSpPr>
          <p:spPr>
            <a:xfrm flipH="1" rot="16200000">
              <a:off x="2898360" y="4236480"/>
              <a:ext cx="2520" cy="1262880"/>
            </a:xfrm>
            <a:prstGeom prst="curvedConnector5">
              <a:avLst>
                <a:gd name="adj1" fmla="val 14300000"/>
                <a:gd name="adj2" fmla="val 49985"/>
                <a:gd name="adj3" fmla="val 14300000"/>
              </a:avLst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85A2-AF59-450D-9EDF-65ED59997BFA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"/>
          <p:cNvSpPr/>
          <p:nvPr/>
        </p:nvSpPr>
        <p:spPr>
          <a:xfrm>
            <a:off x="611280" y="4724280"/>
            <a:ext cx="7489800" cy="122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semp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8" name=""/>
          <p:cNvSpPr/>
          <p:nvPr/>
        </p:nvSpPr>
        <p:spPr>
          <a:xfrm>
            <a:off x="1014480" y="1514520"/>
            <a:ext cx="233280" cy="225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"/>
          <p:cNvSpPr/>
          <p:nvPr/>
        </p:nvSpPr>
        <p:spPr>
          <a:xfrm>
            <a:off x="1014480" y="2698920"/>
            <a:ext cx="233280" cy="225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"/>
          <p:cNvSpPr/>
          <p:nvPr/>
        </p:nvSpPr>
        <p:spPr>
          <a:xfrm>
            <a:off x="1835280" y="2133720"/>
            <a:ext cx="233280" cy="225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"/>
          <p:cNvSpPr/>
          <p:nvPr/>
        </p:nvSpPr>
        <p:spPr>
          <a:xfrm>
            <a:off x="2773440" y="2133720"/>
            <a:ext cx="234720" cy="225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"/>
          <p:cNvSpPr/>
          <p:nvPr/>
        </p:nvSpPr>
        <p:spPr>
          <a:xfrm>
            <a:off x="3652920" y="1514520"/>
            <a:ext cx="234720" cy="225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"/>
          <p:cNvSpPr/>
          <p:nvPr/>
        </p:nvSpPr>
        <p:spPr>
          <a:xfrm>
            <a:off x="3652920" y="2698920"/>
            <a:ext cx="234720" cy="225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4" name=""/>
          <p:cNvCxnSpPr>
            <a:stCxn id="2348" idx="5"/>
            <a:endCxn id="2350" idx="1"/>
          </p:cNvCxnSpPr>
          <p:nvPr/>
        </p:nvCxnSpPr>
        <p:spPr>
          <a:xfrm>
            <a:off x="1212840" y="1706040"/>
            <a:ext cx="658080" cy="461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355" name=""/>
          <p:cNvCxnSpPr>
            <a:stCxn id="2349" idx="7"/>
            <a:endCxn id="2350" idx="3"/>
          </p:cNvCxnSpPr>
          <p:nvPr/>
        </p:nvCxnSpPr>
        <p:spPr>
          <a:xfrm flipV="1">
            <a:off x="1212840" y="2324880"/>
            <a:ext cx="658080" cy="407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356" name=""/>
          <p:cNvCxnSpPr>
            <a:stCxn id="2349" idx="0"/>
            <a:endCxn id="2348" idx="4"/>
          </p:cNvCxnSpPr>
          <p:nvPr/>
        </p:nvCxnSpPr>
        <p:spPr>
          <a:xfrm flipV="1">
            <a:off x="1131480" y="1739520"/>
            <a:ext cx="1080" cy="959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357" name=""/>
          <p:cNvCxnSpPr>
            <a:stCxn id="2350" idx="6"/>
            <a:endCxn id="2351" idx="2"/>
          </p:cNvCxnSpPr>
          <p:nvPr/>
        </p:nvCxnSpPr>
        <p:spPr>
          <a:xfrm>
            <a:off x="2068560" y="2247480"/>
            <a:ext cx="70524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358" name=""/>
          <p:cNvCxnSpPr>
            <a:stCxn id="2351" idx="5"/>
            <a:endCxn id="2353" idx="2"/>
          </p:cNvCxnSpPr>
          <p:nvPr/>
        </p:nvCxnSpPr>
        <p:spPr>
          <a:xfrm>
            <a:off x="2973240" y="2325600"/>
            <a:ext cx="680400" cy="486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359" name=""/>
          <p:cNvCxnSpPr>
            <a:stCxn id="2351" idx="7"/>
            <a:endCxn id="2352" idx="3"/>
          </p:cNvCxnSpPr>
          <p:nvPr/>
        </p:nvCxnSpPr>
        <p:spPr>
          <a:xfrm flipV="1">
            <a:off x="2972880" y="1705680"/>
            <a:ext cx="715320" cy="461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360" name=""/>
          <p:cNvCxnSpPr>
            <a:stCxn id="2353" idx="0"/>
            <a:endCxn id="2352" idx="4"/>
          </p:cNvCxnSpPr>
          <p:nvPr/>
        </p:nvCxnSpPr>
        <p:spPr>
          <a:xfrm flipV="1">
            <a:off x="3771720" y="1739520"/>
            <a:ext cx="1080" cy="959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361" name=""/>
          <p:cNvSpPr/>
          <p:nvPr/>
        </p:nvSpPr>
        <p:spPr>
          <a:xfrm>
            <a:off x="2217240" y="23320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>
            <a:off x="3039840" y="1627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"/>
          <p:cNvSpPr/>
          <p:nvPr/>
        </p:nvSpPr>
        <p:spPr>
          <a:xfrm>
            <a:off x="3068640" y="2611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"/>
          <p:cNvSpPr/>
          <p:nvPr/>
        </p:nvSpPr>
        <p:spPr>
          <a:xfrm>
            <a:off x="3889080" y="20224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"/>
          <p:cNvSpPr/>
          <p:nvPr/>
        </p:nvSpPr>
        <p:spPr>
          <a:xfrm>
            <a:off x="721800" y="20779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"/>
          <p:cNvSpPr/>
          <p:nvPr/>
        </p:nvSpPr>
        <p:spPr>
          <a:xfrm>
            <a:off x="1483920" y="16527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"/>
          <p:cNvSpPr/>
          <p:nvPr/>
        </p:nvSpPr>
        <p:spPr>
          <a:xfrm>
            <a:off x="1483920" y="25002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"/>
          <p:cNvSpPr/>
          <p:nvPr/>
        </p:nvSpPr>
        <p:spPr>
          <a:xfrm>
            <a:off x="696960" y="151272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"/>
          <p:cNvSpPr/>
          <p:nvPr/>
        </p:nvSpPr>
        <p:spPr>
          <a:xfrm>
            <a:off x="751680" y="269892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"/>
          <p:cNvSpPr/>
          <p:nvPr/>
        </p:nvSpPr>
        <p:spPr>
          <a:xfrm>
            <a:off x="1927080" y="185112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"/>
          <p:cNvSpPr/>
          <p:nvPr/>
        </p:nvSpPr>
        <p:spPr>
          <a:xfrm>
            <a:off x="2635200" y="185112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>
            <a:off x="3877200" y="2727360"/>
            <a:ext cx="30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"/>
          <p:cNvSpPr/>
          <p:nvPr/>
        </p:nvSpPr>
        <p:spPr>
          <a:xfrm>
            <a:off x="3872880" y="1457280"/>
            <a:ext cx="26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"/>
          <p:cNvSpPr/>
          <p:nvPr/>
        </p:nvSpPr>
        <p:spPr>
          <a:xfrm>
            <a:off x="4843440" y="2089080"/>
            <a:ext cx="216000" cy="225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"/>
          <p:cNvSpPr/>
          <p:nvPr/>
        </p:nvSpPr>
        <p:spPr>
          <a:xfrm>
            <a:off x="5794200" y="2089080"/>
            <a:ext cx="217800" cy="225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"/>
          <p:cNvSpPr/>
          <p:nvPr/>
        </p:nvSpPr>
        <p:spPr>
          <a:xfrm>
            <a:off x="6662880" y="2089080"/>
            <a:ext cx="217440" cy="225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"/>
          <p:cNvSpPr/>
          <p:nvPr/>
        </p:nvSpPr>
        <p:spPr>
          <a:xfrm>
            <a:off x="7477200" y="1469880"/>
            <a:ext cx="216000" cy="225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"/>
          <p:cNvSpPr/>
          <p:nvPr/>
        </p:nvSpPr>
        <p:spPr>
          <a:xfrm>
            <a:off x="7477200" y="2654280"/>
            <a:ext cx="216000" cy="223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79" name=""/>
          <p:cNvCxnSpPr>
            <a:stCxn id="2375" idx="6"/>
            <a:endCxn id="2376" idx="2"/>
          </p:cNvCxnSpPr>
          <p:nvPr/>
        </p:nvCxnSpPr>
        <p:spPr>
          <a:xfrm>
            <a:off x="6012000" y="2201400"/>
            <a:ext cx="6516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380" name=""/>
          <p:cNvCxnSpPr>
            <a:stCxn id="2376" idx="5"/>
            <a:endCxn id="2378" idx="2"/>
          </p:cNvCxnSpPr>
          <p:nvPr/>
        </p:nvCxnSpPr>
        <p:spPr>
          <a:xfrm>
            <a:off x="6846480" y="2280960"/>
            <a:ext cx="631080" cy="486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381" name=""/>
          <p:cNvCxnSpPr>
            <a:stCxn id="2376" idx="7"/>
            <a:endCxn id="2377" idx="3"/>
          </p:cNvCxnSpPr>
          <p:nvPr/>
        </p:nvCxnSpPr>
        <p:spPr>
          <a:xfrm flipV="1">
            <a:off x="6846480" y="1661400"/>
            <a:ext cx="662760" cy="461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382" name=""/>
          <p:cNvCxnSpPr>
            <a:stCxn id="2378" idx="0"/>
            <a:endCxn id="2377" idx="4"/>
          </p:cNvCxnSpPr>
          <p:nvPr/>
        </p:nvCxnSpPr>
        <p:spPr>
          <a:xfrm flipV="1">
            <a:off x="7584840" y="1694880"/>
            <a:ext cx="1080" cy="959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383" name=""/>
          <p:cNvSpPr/>
          <p:nvPr/>
        </p:nvSpPr>
        <p:spPr>
          <a:xfrm>
            <a:off x="6149520" y="22860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"/>
          <p:cNvSpPr/>
          <p:nvPr/>
        </p:nvSpPr>
        <p:spPr>
          <a:xfrm>
            <a:off x="6908760" y="1582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5" name=""/>
          <p:cNvSpPr/>
          <p:nvPr/>
        </p:nvSpPr>
        <p:spPr>
          <a:xfrm>
            <a:off x="6935760" y="25686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"/>
          <p:cNvSpPr/>
          <p:nvPr/>
        </p:nvSpPr>
        <p:spPr>
          <a:xfrm>
            <a:off x="7695720" y="19782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"/>
          <p:cNvSpPr/>
          <p:nvPr/>
        </p:nvSpPr>
        <p:spPr>
          <a:xfrm>
            <a:off x="5401800" y="1484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"/>
          <p:cNvSpPr/>
          <p:nvPr/>
        </p:nvSpPr>
        <p:spPr>
          <a:xfrm>
            <a:off x="5401800" y="25272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"/>
          <p:cNvSpPr/>
          <p:nvPr/>
        </p:nvSpPr>
        <p:spPr>
          <a:xfrm>
            <a:off x="4571280" y="200484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"/>
          <p:cNvSpPr/>
          <p:nvPr/>
        </p:nvSpPr>
        <p:spPr>
          <a:xfrm>
            <a:off x="5879880" y="177948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"/>
          <p:cNvSpPr/>
          <p:nvPr/>
        </p:nvSpPr>
        <p:spPr>
          <a:xfrm>
            <a:off x="6534720" y="180648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"/>
          <p:cNvSpPr/>
          <p:nvPr/>
        </p:nvSpPr>
        <p:spPr>
          <a:xfrm>
            <a:off x="7685640" y="2679840"/>
            <a:ext cx="30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"/>
          <p:cNvSpPr/>
          <p:nvPr/>
        </p:nvSpPr>
        <p:spPr>
          <a:xfrm>
            <a:off x="7679880" y="1413000"/>
            <a:ext cx="26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4" name=""/>
          <p:cNvCxnSpPr>
            <a:stCxn id="2374" idx="0"/>
            <a:endCxn id="2375" idx="0"/>
          </p:cNvCxnSpPr>
          <p:nvPr/>
        </p:nvCxnSpPr>
        <p:spPr>
          <a:xfrm flipH="1" rot="16200000">
            <a:off x="5427360" y="1613160"/>
            <a:ext cx="2520" cy="951840"/>
          </a:xfrm>
          <a:prstGeom prst="curvedConnector5">
            <a:avLst>
              <a:gd name="adj1" fmla="val -14400000"/>
              <a:gd name="adj2" fmla="val 49981"/>
              <a:gd name="adj3" fmla="val -1440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395" name=""/>
          <p:cNvCxnSpPr>
            <a:stCxn id="2374" idx="4"/>
            <a:endCxn id="2375" idx="4"/>
          </p:cNvCxnSpPr>
          <p:nvPr/>
        </p:nvCxnSpPr>
        <p:spPr>
          <a:xfrm flipH="1" rot="16200000">
            <a:off x="5427360" y="1839240"/>
            <a:ext cx="2520" cy="951840"/>
          </a:xfrm>
          <a:prstGeom prst="curvedConnector5">
            <a:avLst>
              <a:gd name="adj1" fmla="val 14300000"/>
              <a:gd name="adj2" fmla="val 49981"/>
              <a:gd name="adj3" fmla="val 1430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396" name="PlaceHolder 2"/>
          <p:cNvSpPr>
            <a:spLocks noGrp="1"/>
          </p:cNvSpPr>
          <p:nvPr>
            <p:ph/>
          </p:nvPr>
        </p:nvSpPr>
        <p:spPr>
          <a:xfrm>
            <a:off x="679320" y="3792240"/>
            <a:ext cx="7925040" cy="22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Osserv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ab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on è un grafo semp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2. Un taglio di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ab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è un taglio in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3. Un taglio in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che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NON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separa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è un taglio di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7" name=""/>
          <p:cNvGrpSpPr/>
          <p:nvPr/>
        </p:nvGrpSpPr>
        <p:grpSpPr>
          <a:xfrm>
            <a:off x="1403280" y="1628640"/>
            <a:ext cx="4044960" cy="1297080"/>
            <a:chOff x="1403280" y="1628640"/>
            <a:chExt cx="4044960" cy="1297080"/>
          </a:xfrm>
        </p:grpSpPr>
        <p:sp>
          <p:nvSpPr>
            <p:cNvPr id="2398" name=""/>
            <p:cNvSpPr/>
            <p:nvPr/>
          </p:nvSpPr>
          <p:spPr>
            <a:xfrm>
              <a:off x="1403280" y="1628640"/>
              <a:ext cx="155520" cy="1297080"/>
            </a:xfrm>
            <a:custGeom>
              <a:avLst/>
              <a:gdLst/>
              <a:ahLst/>
              <a:rect l="l" t="t" r="r" b="b"/>
              <a:pathLst>
                <a:path w="98" h="817">
                  <a:moveTo>
                    <a:pt x="53" y="0"/>
                  </a:moveTo>
                  <a:cubicBezTo>
                    <a:pt x="26" y="98"/>
                    <a:pt x="0" y="196"/>
                    <a:pt x="8" y="272"/>
                  </a:cubicBezTo>
                  <a:cubicBezTo>
                    <a:pt x="16" y="348"/>
                    <a:pt x="98" y="394"/>
                    <a:pt x="98" y="454"/>
                  </a:cubicBezTo>
                  <a:cubicBezTo>
                    <a:pt x="98" y="514"/>
                    <a:pt x="16" y="575"/>
                    <a:pt x="8" y="635"/>
                  </a:cubicBezTo>
                  <a:cubicBezTo>
                    <a:pt x="0" y="695"/>
                    <a:pt x="26" y="756"/>
                    <a:pt x="53" y="817"/>
                  </a:cubicBezTo>
                </a:path>
              </a:pathLst>
            </a:custGeom>
            <a:noFill/>
            <a:ln w="57240">
              <a:solidFill>
                <a:srgbClr val="cc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5292720" y="1628640"/>
              <a:ext cx="155520" cy="1297080"/>
            </a:xfrm>
            <a:custGeom>
              <a:avLst/>
              <a:gdLst/>
              <a:ahLst/>
              <a:rect l="l" t="t" r="r" b="b"/>
              <a:pathLst>
                <a:path w="98" h="817">
                  <a:moveTo>
                    <a:pt x="53" y="0"/>
                  </a:moveTo>
                  <a:cubicBezTo>
                    <a:pt x="26" y="98"/>
                    <a:pt x="0" y="196"/>
                    <a:pt x="8" y="272"/>
                  </a:cubicBezTo>
                  <a:cubicBezTo>
                    <a:pt x="16" y="348"/>
                    <a:pt x="98" y="394"/>
                    <a:pt x="98" y="454"/>
                  </a:cubicBezTo>
                  <a:cubicBezTo>
                    <a:pt x="98" y="514"/>
                    <a:pt x="16" y="575"/>
                    <a:pt x="8" y="635"/>
                  </a:cubicBezTo>
                  <a:cubicBezTo>
                    <a:pt x="0" y="695"/>
                    <a:pt x="26" y="756"/>
                    <a:pt x="53" y="817"/>
                  </a:cubicBezTo>
                </a:path>
              </a:pathLst>
            </a:custGeom>
            <a:noFill/>
            <a:ln w="57240">
              <a:solidFill>
                <a:srgbClr val="cc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0" name=""/>
          <p:cNvGrpSpPr/>
          <p:nvPr/>
        </p:nvGrpSpPr>
        <p:grpSpPr>
          <a:xfrm>
            <a:off x="2184480" y="1482840"/>
            <a:ext cx="4116240" cy="1369800"/>
            <a:chOff x="2184480" y="1482840"/>
            <a:chExt cx="4116240" cy="1369800"/>
          </a:xfrm>
        </p:grpSpPr>
        <p:sp>
          <p:nvSpPr>
            <p:cNvPr id="2401" name=""/>
            <p:cNvSpPr/>
            <p:nvPr/>
          </p:nvSpPr>
          <p:spPr>
            <a:xfrm>
              <a:off x="2184480" y="1555920"/>
              <a:ext cx="155520" cy="1296720"/>
            </a:xfrm>
            <a:custGeom>
              <a:avLst/>
              <a:gdLst/>
              <a:ahLst/>
              <a:rect l="l" t="t" r="r" b="b"/>
              <a:pathLst>
                <a:path w="98" h="817">
                  <a:moveTo>
                    <a:pt x="53" y="0"/>
                  </a:moveTo>
                  <a:cubicBezTo>
                    <a:pt x="26" y="98"/>
                    <a:pt x="0" y="196"/>
                    <a:pt x="8" y="272"/>
                  </a:cubicBezTo>
                  <a:cubicBezTo>
                    <a:pt x="16" y="348"/>
                    <a:pt x="98" y="394"/>
                    <a:pt x="98" y="454"/>
                  </a:cubicBezTo>
                  <a:cubicBezTo>
                    <a:pt x="98" y="514"/>
                    <a:pt x="16" y="575"/>
                    <a:pt x="8" y="635"/>
                  </a:cubicBezTo>
                  <a:cubicBezTo>
                    <a:pt x="0" y="695"/>
                    <a:pt x="26" y="756"/>
                    <a:pt x="53" y="817"/>
                  </a:cubicBezTo>
                </a:path>
              </a:pathLst>
            </a:custGeom>
            <a:noFill/>
            <a:ln w="5724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6145200" y="1482840"/>
              <a:ext cx="155520" cy="1296720"/>
            </a:xfrm>
            <a:custGeom>
              <a:avLst/>
              <a:gdLst/>
              <a:ahLst/>
              <a:rect l="l" t="t" r="r" b="b"/>
              <a:pathLst>
                <a:path w="98" h="817">
                  <a:moveTo>
                    <a:pt x="53" y="0"/>
                  </a:moveTo>
                  <a:cubicBezTo>
                    <a:pt x="26" y="98"/>
                    <a:pt x="0" y="196"/>
                    <a:pt x="8" y="272"/>
                  </a:cubicBezTo>
                  <a:cubicBezTo>
                    <a:pt x="16" y="348"/>
                    <a:pt x="98" y="394"/>
                    <a:pt x="98" y="454"/>
                  </a:cubicBezTo>
                  <a:cubicBezTo>
                    <a:pt x="98" y="514"/>
                    <a:pt x="16" y="575"/>
                    <a:pt x="8" y="635"/>
                  </a:cubicBezTo>
                  <a:cubicBezTo>
                    <a:pt x="0" y="695"/>
                    <a:pt x="26" y="756"/>
                    <a:pt x="53" y="817"/>
                  </a:cubicBezTo>
                </a:path>
              </a:pathLst>
            </a:custGeom>
            <a:noFill/>
            <a:ln w="5724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3" name=""/>
          <p:cNvGrpSpPr/>
          <p:nvPr/>
        </p:nvGrpSpPr>
        <p:grpSpPr>
          <a:xfrm>
            <a:off x="684360" y="1630440"/>
            <a:ext cx="4464000" cy="1554840"/>
            <a:chOff x="684360" y="1630440"/>
            <a:chExt cx="4464000" cy="1554840"/>
          </a:xfrm>
        </p:grpSpPr>
        <p:sp>
          <p:nvSpPr>
            <p:cNvPr id="2404" name=""/>
            <p:cNvSpPr/>
            <p:nvPr/>
          </p:nvSpPr>
          <p:spPr>
            <a:xfrm>
              <a:off x="684360" y="1630440"/>
              <a:ext cx="1096920" cy="253800"/>
            </a:xfrm>
            <a:custGeom>
              <a:avLst/>
              <a:gdLst/>
              <a:ahLst/>
              <a:rect l="l" t="t" r="r" b="b"/>
              <a:pathLst>
                <a:path w="499" h="204">
                  <a:moveTo>
                    <a:pt x="499" y="0"/>
                  </a:moveTo>
                  <a:cubicBezTo>
                    <a:pt x="450" y="79"/>
                    <a:pt x="401" y="158"/>
                    <a:pt x="318" y="181"/>
                  </a:cubicBezTo>
                  <a:cubicBezTo>
                    <a:pt x="235" y="204"/>
                    <a:pt x="53" y="143"/>
                    <a:pt x="0" y="136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4649760" y="2421000"/>
              <a:ext cx="498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C58C-C45C-48D0-9535-E3BE01632854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semp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07" name=""/>
          <p:cNvGrpSpPr/>
          <p:nvPr/>
        </p:nvGrpSpPr>
        <p:grpSpPr>
          <a:xfrm>
            <a:off x="1834560" y="1341360"/>
            <a:ext cx="4607280" cy="2018160"/>
            <a:chOff x="1834560" y="1341360"/>
            <a:chExt cx="4607280" cy="2018160"/>
          </a:xfrm>
        </p:grpSpPr>
        <p:sp>
          <p:nvSpPr>
            <p:cNvPr id="2408" name=""/>
            <p:cNvSpPr/>
            <p:nvPr/>
          </p:nvSpPr>
          <p:spPr>
            <a:xfrm>
              <a:off x="2195280" y="2205000"/>
              <a:ext cx="286920" cy="287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3457440" y="2205000"/>
              <a:ext cx="286920" cy="2872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4609800" y="2205000"/>
              <a:ext cx="287280" cy="2872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5689440" y="1414440"/>
              <a:ext cx="286920" cy="2872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5689440" y="2925720"/>
              <a:ext cx="286920" cy="2872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13" name=""/>
            <p:cNvCxnSpPr>
              <a:stCxn id="2409" idx="6"/>
              <a:endCxn id="2410" idx="2"/>
            </p:cNvCxnSpPr>
            <p:nvPr/>
          </p:nvCxnSpPr>
          <p:spPr>
            <a:xfrm>
              <a:off x="3744720" y="2349000"/>
              <a:ext cx="86544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14" name=""/>
            <p:cNvCxnSpPr>
              <a:stCxn id="2410" idx="5"/>
              <a:endCxn id="2412" idx="2"/>
            </p:cNvCxnSpPr>
            <p:nvPr/>
          </p:nvCxnSpPr>
          <p:spPr>
            <a:xfrm>
              <a:off x="4853880" y="2449440"/>
              <a:ext cx="835560" cy="621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15" name=""/>
            <p:cNvCxnSpPr>
              <a:stCxn id="2410" idx="7"/>
              <a:endCxn id="2411" idx="3"/>
            </p:cNvCxnSpPr>
            <p:nvPr/>
          </p:nvCxnSpPr>
          <p:spPr>
            <a:xfrm flipV="1">
              <a:off x="4854240" y="1658520"/>
              <a:ext cx="878400" cy="589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16" name=""/>
            <p:cNvCxnSpPr>
              <a:stCxn id="2412" idx="0"/>
              <a:endCxn id="2411" idx="4"/>
            </p:cNvCxnSpPr>
            <p:nvPr/>
          </p:nvCxnSpPr>
          <p:spPr>
            <a:xfrm flipV="1">
              <a:off x="5833440" y="1701360"/>
              <a:ext cx="1080" cy="1224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17" name=""/>
            <p:cNvSpPr/>
            <p:nvPr/>
          </p:nvSpPr>
          <p:spPr>
            <a:xfrm>
              <a:off x="3926880" y="24573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4934880" y="1557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4969800" y="2816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5977800" y="20620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2772720" y="16635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2772720" y="26733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1834560" y="2097000"/>
              <a:ext cx="32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3568320" y="1808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4435920" y="1844640"/>
              <a:ext cx="32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5964120" y="2960640"/>
              <a:ext cx="30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5956920" y="1341360"/>
              <a:ext cx="26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28" name=""/>
            <p:cNvCxnSpPr>
              <a:stCxn id="2408" idx="0"/>
              <a:endCxn id="2409" idx="0"/>
            </p:cNvCxnSpPr>
            <p:nvPr/>
          </p:nvCxnSpPr>
          <p:spPr>
            <a:xfrm flipH="1" rot="16200000">
              <a:off x="2969640" y="1574640"/>
              <a:ext cx="2160" cy="1262520"/>
            </a:xfrm>
            <a:prstGeom prst="curvedConnector5">
              <a:avLst>
                <a:gd name="adj1" fmla="val -14400000"/>
                <a:gd name="adj2" fmla="val 50000"/>
                <a:gd name="adj3" fmla="val -1440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9" name=""/>
            <p:cNvCxnSpPr>
              <a:stCxn id="2408" idx="4"/>
              <a:endCxn id="2409" idx="4"/>
            </p:cNvCxnSpPr>
            <p:nvPr/>
          </p:nvCxnSpPr>
          <p:spPr>
            <a:xfrm flipH="1" rot="16200000">
              <a:off x="2968560" y="1861920"/>
              <a:ext cx="2520" cy="1262520"/>
            </a:xfrm>
            <a:prstGeom prst="curvedConnector5">
              <a:avLst>
                <a:gd name="adj1" fmla="val 14300000"/>
                <a:gd name="adj2" fmla="val 50000"/>
                <a:gd name="adj3" fmla="val 14300000"/>
              </a:avLst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2430" name="PlaceHolder 2"/>
          <p:cNvSpPr>
            <a:spLocks noGrp="1"/>
          </p:cNvSpPr>
          <p:nvPr>
            <p:ph/>
          </p:nvPr>
        </p:nvSpPr>
        <p:spPr>
          <a:xfrm>
            <a:off x="684000" y="3789000"/>
            <a:ext cx="7924680" cy="22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Conseguenza delle oss. 2 e 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a </a:t>
            </a:r>
            <a:r>
              <a:rPr b="0" i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il taglio minimo in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e </a:t>
            </a:r>
            <a:r>
              <a:rPr b="0" i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G, a, b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il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a,b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-taglio minimo (ovvero, il taglio minimo che separa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). Si h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 = min {</a:t>
            </a:r>
            <a:r>
              <a:rPr b="0" i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ab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, </a:t>
            </a:r>
            <a:r>
              <a:rPr b="0" i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G, a, b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} = min {42, </a:t>
            </a:r>
            <a:r>
              <a:rPr b="0" i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ab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FDB1-951F-454A-88C9-1E7121CF37A9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semp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2" name=""/>
          <p:cNvGrpSpPr/>
          <p:nvPr/>
        </p:nvGrpSpPr>
        <p:grpSpPr>
          <a:xfrm>
            <a:off x="3418920" y="1413000"/>
            <a:ext cx="4607280" cy="2017800"/>
            <a:chOff x="3418920" y="1413000"/>
            <a:chExt cx="4607280" cy="2017800"/>
          </a:xfrm>
        </p:grpSpPr>
        <p:sp>
          <p:nvSpPr>
            <p:cNvPr id="2433" name=""/>
            <p:cNvSpPr/>
            <p:nvPr/>
          </p:nvSpPr>
          <p:spPr>
            <a:xfrm>
              <a:off x="3779640" y="2276280"/>
              <a:ext cx="286920" cy="286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5041800" y="2276280"/>
              <a:ext cx="286920" cy="2869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6194160" y="2276280"/>
              <a:ext cx="287280" cy="2869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7273800" y="1485720"/>
              <a:ext cx="286920" cy="2869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7273800" y="2997000"/>
              <a:ext cx="286920" cy="2869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38" name=""/>
            <p:cNvCxnSpPr>
              <a:stCxn id="2434" idx="6"/>
              <a:endCxn id="2435" idx="2"/>
            </p:cNvCxnSpPr>
            <p:nvPr/>
          </p:nvCxnSpPr>
          <p:spPr>
            <a:xfrm>
              <a:off x="5329080" y="2420280"/>
              <a:ext cx="86544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39" name=""/>
            <p:cNvCxnSpPr>
              <a:stCxn id="2435" idx="5"/>
              <a:endCxn id="2437" idx="2"/>
            </p:cNvCxnSpPr>
            <p:nvPr/>
          </p:nvCxnSpPr>
          <p:spPr>
            <a:xfrm>
              <a:off x="6438240" y="2520360"/>
              <a:ext cx="835560" cy="621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40" name=""/>
            <p:cNvCxnSpPr>
              <a:stCxn id="2435" idx="7"/>
              <a:endCxn id="2436" idx="3"/>
            </p:cNvCxnSpPr>
            <p:nvPr/>
          </p:nvCxnSpPr>
          <p:spPr>
            <a:xfrm flipV="1">
              <a:off x="6438600" y="1729440"/>
              <a:ext cx="878400" cy="5893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41" name=""/>
            <p:cNvCxnSpPr>
              <a:stCxn id="2437" idx="0"/>
              <a:endCxn id="2436" idx="4"/>
            </p:cNvCxnSpPr>
            <p:nvPr/>
          </p:nvCxnSpPr>
          <p:spPr>
            <a:xfrm flipV="1">
              <a:off x="7417800" y="1772280"/>
              <a:ext cx="1080" cy="1224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42" name=""/>
            <p:cNvSpPr/>
            <p:nvPr/>
          </p:nvSpPr>
          <p:spPr>
            <a:xfrm>
              <a:off x="5511240" y="25286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6519240" y="16286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6554160" y="28875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7562160" y="21333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4357080" y="17348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4357080" y="27446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3418920" y="2168280"/>
              <a:ext cx="32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5152680" y="187956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6020280" y="1915920"/>
              <a:ext cx="32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7548480" y="3031920"/>
              <a:ext cx="30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7541280" y="1413000"/>
              <a:ext cx="26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53" name=""/>
            <p:cNvCxnSpPr>
              <a:stCxn id="2433" idx="0"/>
              <a:endCxn id="2434" idx="0"/>
            </p:cNvCxnSpPr>
            <p:nvPr/>
          </p:nvCxnSpPr>
          <p:spPr>
            <a:xfrm flipH="1" rot="16200000">
              <a:off x="4554000" y="1644840"/>
              <a:ext cx="1800" cy="1262520"/>
            </a:xfrm>
            <a:prstGeom prst="curvedConnector5">
              <a:avLst>
                <a:gd name="adj1" fmla="val -14400000"/>
                <a:gd name="adj2" fmla="val 50000"/>
                <a:gd name="adj3" fmla="val -1440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54" name=""/>
            <p:cNvCxnSpPr>
              <a:stCxn id="2433" idx="4"/>
              <a:endCxn id="2434" idx="4"/>
            </p:cNvCxnSpPr>
            <p:nvPr/>
          </p:nvCxnSpPr>
          <p:spPr>
            <a:xfrm flipH="1" rot="16200000">
              <a:off x="4553280" y="1933200"/>
              <a:ext cx="2160" cy="1262520"/>
            </a:xfrm>
            <a:prstGeom prst="curvedConnector5">
              <a:avLst>
                <a:gd name="adj1" fmla="val 14300000"/>
                <a:gd name="adj2" fmla="val 50000"/>
                <a:gd name="adj3" fmla="val 14300000"/>
              </a:avLst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2455" name="PlaceHolder 2"/>
          <p:cNvSpPr>
            <a:spLocks noGrp="1"/>
          </p:cNvSpPr>
          <p:nvPr>
            <p:ph/>
          </p:nvPr>
        </p:nvSpPr>
        <p:spPr>
          <a:xfrm>
            <a:off x="684000" y="5013360"/>
            <a:ext cx="79246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dentificando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si ottiene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h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e si h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 = min {42, </a:t>
            </a:r>
            <a:r>
              <a:rPr b="0" i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ab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}= min{42,min{ </a:t>
            </a:r>
            <a:r>
              <a:rPr b="0" i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gc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, </a:t>
            </a:r>
            <a:r>
              <a:rPr b="0" i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G, g, c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}}= min {42, 47, </a:t>
            </a:r>
            <a:r>
              <a:rPr b="0" i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gc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}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6" name=""/>
          <p:cNvGrpSpPr/>
          <p:nvPr/>
        </p:nvGrpSpPr>
        <p:grpSpPr>
          <a:xfrm>
            <a:off x="826920" y="2924280"/>
            <a:ext cx="2984760" cy="2018160"/>
            <a:chOff x="826920" y="2924280"/>
            <a:chExt cx="2984760" cy="2018160"/>
          </a:xfrm>
        </p:grpSpPr>
        <p:sp>
          <p:nvSpPr>
            <p:cNvPr id="2457" name=""/>
            <p:cNvSpPr/>
            <p:nvPr/>
          </p:nvSpPr>
          <p:spPr>
            <a:xfrm>
              <a:off x="826920" y="3787920"/>
              <a:ext cx="287640" cy="287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1979640" y="3787920"/>
              <a:ext cx="287280" cy="2872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3059280" y="2997360"/>
              <a:ext cx="287280" cy="2872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3059280" y="4508640"/>
              <a:ext cx="287280" cy="2872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61" name=""/>
            <p:cNvCxnSpPr>
              <a:stCxn id="2457" idx="6"/>
              <a:endCxn id="2458" idx="2"/>
            </p:cNvCxnSpPr>
            <p:nvPr/>
          </p:nvCxnSpPr>
          <p:spPr>
            <a:xfrm>
              <a:off x="1114200" y="3931920"/>
              <a:ext cx="8658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62" name=""/>
            <p:cNvCxnSpPr>
              <a:stCxn id="2458" idx="5"/>
              <a:endCxn id="2460" idx="2"/>
            </p:cNvCxnSpPr>
            <p:nvPr/>
          </p:nvCxnSpPr>
          <p:spPr>
            <a:xfrm>
              <a:off x="2224080" y="4032360"/>
              <a:ext cx="835920" cy="621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63" name=""/>
            <p:cNvCxnSpPr>
              <a:stCxn id="2458" idx="7"/>
              <a:endCxn id="2459" idx="3"/>
            </p:cNvCxnSpPr>
            <p:nvPr/>
          </p:nvCxnSpPr>
          <p:spPr>
            <a:xfrm flipV="1">
              <a:off x="2223720" y="3241440"/>
              <a:ext cx="878760" cy="589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64" name=""/>
            <p:cNvCxnSpPr>
              <a:stCxn id="2460" idx="0"/>
              <a:endCxn id="2459" idx="4"/>
            </p:cNvCxnSpPr>
            <p:nvPr/>
          </p:nvCxnSpPr>
          <p:spPr>
            <a:xfrm flipV="1">
              <a:off x="3203280" y="3284280"/>
              <a:ext cx="1080" cy="1224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65" name=""/>
            <p:cNvSpPr/>
            <p:nvPr/>
          </p:nvSpPr>
          <p:spPr>
            <a:xfrm>
              <a:off x="1296720" y="40402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2305080" y="3140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2340000" y="43992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3347640" y="36450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939600" y="3390840"/>
              <a:ext cx="32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1805760" y="3427560"/>
              <a:ext cx="32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3334320" y="4543560"/>
              <a:ext cx="30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3326760" y="2924280"/>
              <a:ext cx="26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3" name=""/>
          <p:cNvSpPr/>
          <p:nvPr/>
        </p:nvSpPr>
        <p:spPr>
          <a:xfrm>
            <a:off x="1889280" y="1947960"/>
            <a:ext cx="7948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i="1" lang="it-IT" sz="3600" spc="-1" strike="noStrike" baseline="-25000">
                <a:solidFill>
                  <a:srgbClr val="000000"/>
                </a:solidFill>
                <a:latin typeface="Bookman Old Style"/>
              </a:rPr>
              <a:t>a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"/>
          <p:cNvSpPr/>
          <p:nvPr/>
        </p:nvSpPr>
        <p:spPr>
          <a:xfrm>
            <a:off x="4427640" y="3573360"/>
            <a:ext cx="8492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i="1" lang="it-IT" sz="3600" spc="-1" strike="noStrike" baseline="-25000">
                <a:solidFill>
                  <a:srgbClr val="000000"/>
                </a:solidFill>
                <a:latin typeface="Bookman Old Style"/>
              </a:rPr>
              <a:t>g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E0AA-B5E4-473C-89A3-A412CAB88B78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semp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76" name=""/>
          <p:cNvGrpSpPr/>
          <p:nvPr/>
        </p:nvGrpSpPr>
        <p:grpSpPr>
          <a:xfrm>
            <a:off x="826920" y="1557360"/>
            <a:ext cx="2984760" cy="2018160"/>
            <a:chOff x="826920" y="1557360"/>
            <a:chExt cx="2984760" cy="2018160"/>
          </a:xfrm>
        </p:grpSpPr>
        <p:sp>
          <p:nvSpPr>
            <p:cNvPr id="2477" name=""/>
            <p:cNvSpPr/>
            <p:nvPr/>
          </p:nvSpPr>
          <p:spPr>
            <a:xfrm>
              <a:off x="826920" y="2421000"/>
              <a:ext cx="287640" cy="287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1979640" y="2421000"/>
              <a:ext cx="287280" cy="2872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3059280" y="1630440"/>
              <a:ext cx="287280" cy="2872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3059280" y="3141720"/>
              <a:ext cx="287280" cy="2872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81" name=""/>
            <p:cNvCxnSpPr>
              <a:stCxn id="2477" idx="6"/>
              <a:endCxn id="2478" idx="2"/>
            </p:cNvCxnSpPr>
            <p:nvPr/>
          </p:nvCxnSpPr>
          <p:spPr>
            <a:xfrm>
              <a:off x="1114200" y="2565000"/>
              <a:ext cx="8658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82" name=""/>
            <p:cNvCxnSpPr>
              <a:stCxn id="2478" idx="5"/>
              <a:endCxn id="2480" idx="2"/>
            </p:cNvCxnSpPr>
            <p:nvPr/>
          </p:nvCxnSpPr>
          <p:spPr>
            <a:xfrm>
              <a:off x="2224080" y="2665440"/>
              <a:ext cx="835920" cy="621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83" name=""/>
            <p:cNvCxnSpPr>
              <a:stCxn id="2478" idx="7"/>
              <a:endCxn id="2479" idx="3"/>
            </p:cNvCxnSpPr>
            <p:nvPr/>
          </p:nvCxnSpPr>
          <p:spPr>
            <a:xfrm flipV="1">
              <a:off x="2223720" y="1874520"/>
              <a:ext cx="878760" cy="589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84" name=""/>
            <p:cNvCxnSpPr>
              <a:stCxn id="2480" idx="0"/>
              <a:endCxn id="2479" idx="4"/>
            </p:cNvCxnSpPr>
            <p:nvPr/>
          </p:nvCxnSpPr>
          <p:spPr>
            <a:xfrm flipV="1">
              <a:off x="3203280" y="1917360"/>
              <a:ext cx="1080" cy="1224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85" name=""/>
            <p:cNvSpPr/>
            <p:nvPr/>
          </p:nvSpPr>
          <p:spPr>
            <a:xfrm>
              <a:off x="1296720" y="26733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2305080" y="1773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2340000" y="3032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3347640" y="22780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939600" y="2023920"/>
              <a:ext cx="32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1805760" y="2060640"/>
              <a:ext cx="32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3334320" y="3176640"/>
              <a:ext cx="30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3326760" y="1557360"/>
              <a:ext cx="26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3" name=""/>
          <p:cNvSpPr/>
          <p:nvPr/>
        </p:nvSpPr>
        <p:spPr>
          <a:xfrm>
            <a:off x="4067280" y="2206800"/>
            <a:ext cx="8492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i="1" lang="it-IT" sz="3600" spc="-1" strike="noStrike" baseline="-25000">
                <a:solidFill>
                  <a:srgbClr val="000000"/>
                </a:solidFill>
                <a:latin typeface="Bookman Old Style"/>
              </a:rPr>
              <a:t>g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PlaceHolder 2"/>
          <p:cNvSpPr>
            <a:spLocks noGrp="1"/>
          </p:cNvSpPr>
          <p:nvPr>
            <p:ph/>
          </p:nvPr>
        </p:nvSpPr>
        <p:spPr>
          <a:xfrm>
            <a:off x="684000" y="5013360"/>
            <a:ext cx="79246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dentificando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f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d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si ottiene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e si h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= min {42, 47, </a:t>
            </a:r>
            <a:r>
              <a:rPr b="0" i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gc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} = min{42, 47, 20, </a:t>
            </a:r>
            <a:r>
              <a:rPr b="0" i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fe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}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5" name=""/>
          <p:cNvGrpSpPr/>
          <p:nvPr/>
        </p:nvGrpSpPr>
        <p:grpSpPr>
          <a:xfrm>
            <a:off x="3419640" y="3498840"/>
            <a:ext cx="4146480" cy="1516320"/>
            <a:chOff x="3419640" y="3498840"/>
            <a:chExt cx="4146480" cy="1516320"/>
          </a:xfrm>
        </p:grpSpPr>
        <p:sp>
          <p:nvSpPr>
            <p:cNvPr id="2496" name=""/>
            <p:cNvSpPr/>
            <p:nvPr/>
          </p:nvSpPr>
          <p:spPr>
            <a:xfrm>
              <a:off x="3419640" y="4146480"/>
              <a:ext cx="287280" cy="287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4572360" y="4146480"/>
              <a:ext cx="287280" cy="2872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98" name=""/>
            <p:cNvCxnSpPr>
              <a:stCxn id="2496" idx="6"/>
              <a:endCxn id="2497" idx="2"/>
            </p:cNvCxnSpPr>
            <p:nvPr/>
          </p:nvCxnSpPr>
          <p:spPr>
            <a:xfrm>
              <a:off x="3706920" y="4290480"/>
              <a:ext cx="86616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99" name=""/>
            <p:cNvSpPr/>
            <p:nvPr/>
          </p:nvSpPr>
          <p:spPr>
            <a:xfrm>
              <a:off x="3889080" y="43988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5384880" y="3498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5423040" y="4616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3532320" y="3749400"/>
              <a:ext cx="32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4398120" y="3786120"/>
              <a:ext cx="32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6716880" y="4010040"/>
              <a:ext cx="8492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3600" spc="-1" strike="noStrike">
                  <a:solidFill>
                    <a:srgbClr val="000000"/>
                  </a:solidFill>
                  <a:latin typeface="Bookman Old Style"/>
                </a:rPr>
                <a:t>G</a:t>
              </a:r>
              <a:r>
                <a:rPr b="0" i="1" lang="it-IT" sz="3600" spc="-1" strike="noStrike" baseline="-25000">
                  <a:solidFill>
                    <a:srgbClr val="000000"/>
                  </a:solidFill>
                  <a:latin typeface="Bookman Old Style"/>
                </a:rPr>
                <a:t>f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6286680" y="4146480"/>
              <a:ext cx="287280" cy="287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06" name=""/>
            <p:cNvCxnSpPr>
              <a:stCxn id="2497" idx="7"/>
              <a:endCxn id="2505" idx="1"/>
            </p:cNvCxnSpPr>
            <p:nvPr/>
          </p:nvCxnSpPr>
          <p:spPr>
            <a:xfrm flipH="1" rot="16200000">
              <a:off x="5572440" y="3433320"/>
              <a:ext cx="2160" cy="1513440"/>
            </a:xfrm>
            <a:prstGeom prst="curvedConnector5">
              <a:avLst>
                <a:gd name="adj1" fmla="val -17100000"/>
                <a:gd name="adj2" fmla="val 49988"/>
                <a:gd name="adj3" fmla="val -1710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07" name=""/>
            <p:cNvCxnSpPr>
              <a:stCxn id="2497" idx="5"/>
              <a:endCxn id="2505" idx="3"/>
            </p:cNvCxnSpPr>
            <p:nvPr/>
          </p:nvCxnSpPr>
          <p:spPr>
            <a:xfrm flipH="1" rot="16200000">
              <a:off x="5572440" y="3634920"/>
              <a:ext cx="2160" cy="1513440"/>
            </a:xfrm>
            <a:prstGeom prst="curvedConnector5">
              <a:avLst>
                <a:gd name="adj1" fmla="val 17000000"/>
                <a:gd name="adj2" fmla="val 49988"/>
                <a:gd name="adj3" fmla="val 1700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508" name=""/>
            <p:cNvSpPr/>
            <p:nvPr/>
          </p:nvSpPr>
          <p:spPr>
            <a:xfrm>
              <a:off x="6503040" y="4290840"/>
              <a:ext cx="23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993E-4CAB-4B7A-AE11-26ADD5DD9353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semp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0" name="PlaceHolder 2"/>
          <p:cNvSpPr>
            <a:spLocks noGrp="1"/>
          </p:cNvSpPr>
          <p:nvPr>
            <p:ph/>
          </p:nvPr>
        </p:nvSpPr>
        <p:spPr>
          <a:xfrm>
            <a:off x="684000" y="5013360"/>
            <a:ext cx="79246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fine, identificando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h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d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si ottiene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l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e si h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= min {42, 47, 20,</a:t>
            </a:r>
            <a:r>
              <a:rPr b="0" i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15, </a:t>
            </a:r>
            <a:r>
              <a:rPr b="0" i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hd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}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min{42, 47, 20, 15, 5}= 5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"/>
          <p:cNvSpPr/>
          <p:nvPr/>
        </p:nvSpPr>
        <p:spPr>
          <a:xfrm>
            <a:off x="4572000" y="4146480"/>
            <a:ext cx="28728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"/>
          <p:cNvSpPr/>
          <p:nvPr/>
        </p:nvSpPr>
        <p:spPr>
          <a:xfrm>
            <a:off x="5384520" y="34988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3" name=""/>
          <p:cNvSpPr/>
          <p:nvPr/>
        </p:nvSpPr>
        <p:spPr>
          <a:xfrm>
            <a:off x="5422680" y="4616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4" name=""/>
          <p:cNvSpPr/>
          <p:nvPr/>
        </p:nvSpPr>
        <p:spPr>
          <a:xfrm>
            <a:off x="4394160" y="378612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5" name=""/>
          <p:cNvSpPr/>
          <p:nvPr/>
        </p:nvSpPr>
        <p:spPr>
          <a:xfrm>
            <a:off x="6716880" y="4010040"/>
            <a:ext cx="10951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i="1" lang="it-IT" sz="3600" spc="-1" strike="noStrike" baseline="-25000">
                <a:solidFill>
                  <a:srgbClr val="000000"/>
                </a:solidFill>
                <a:latin typeface="Bookman Old Style"/>
              </a:rPr>
              <a:t>h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6" name=""/>
          <p:cNvSpPr/>
          <p:nvPr/>
        </p:nvSpPr>
        <p:spPr>
          <a:xfrm>
            <a:off x="6286680" y="4146480"/>
            <a:ext cx="28728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17" name=""/>
          <p:cNvCxnSpPr>
            <a:stCxn id="2511" idx="7"/>
            <a:endCxn id="2516" idx="1"/>
          </p:cNvCxnSpPr>
          <p:nvPr/>
        </p:nvCxnSpPr>
        <p:spPr>
          <a:xfrm flipH="1" rot="16200000">
            <a:off x="5571720" y="3432600"/>
            <a:ext cx="2520" cy="1513800"/>
          </a:xfrm>
          <a:prstGeom prst="curvedConnector5">
            <a:avLst>
              <a:gd name="adj1" fmla="val -17100000"/>
              <a:gd name="adj2" fmla="val 50000"/>
              <a:gd name="adj3" fmla="val -1710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518" name=""/>
          <p:cNvCxnSpPr>
            <a:stCxn id="2511" idx="5"/>
            <a:endCxn id="2516" idx="3"/>
          </p:cNvCxnSpPr>
          <p:nvPr/>
        </p:nvCxnSpPr>
        <p:spPr>
          <a:xfrm flipH="1" rot="16200000">
            <a:off x="5571000" y="3634920"/>
            <a:ext cx="2520" cy="1513800"/>
          </a:xfrm>
          <a:prstGeom prst="curvedConnector5">
            <a:avLst>
              <a:gd name="adj1" fmla="val 17000000"/>
              <a:gd name="adj2" fmla="val 50000"/>
              <a:gd name="adj3" fmla="val 1700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519" name=""/>
          <p:cNvSpPr/>
          <p:nvPr/>
        </p:nvSpPr>
        <p:spPr>
          <a:xfrm>
            <a:off x="6505560" y="429732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0" name=""/>
          <p:cNvGrpSpPr/>
          <p:nvPr/>
        </p:nvGrpSpPr>
        <p:grpSpPr>
          <a:xfrm>
            <a:off x="785880" y="1700280"/>
            <a:ext cx="4146480" cy="1516320"/>
            <a:chOff x="785880" y="1700280"/>
            <a:chExt cx="4146480" cy="1516320"/>
          </a:xfrm>
        </p:grpSpPr>
        <p:sp>
          <p:nvSpPr>
            <p:cNvPr id="2521" name=""/>
            <p:cNvSpPr/>
            <p:nvPr/>
          </p:nvSpPr>
          <p:spPr>
            <a:xfrm>
              <a:off x="785880" y="2347920"/>
              <a:ext cx="287280" cy="287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1938600" y="2347920"/>
              <a:ext cx="287280" cy="2872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23" name=""/>
            <p:cNvCxnSpPr>
              <a:stCxn id="2521" idx="6"/>
              <a:endCxn id="2522" idx="2"/>
            </p:cNvCxnSpPr>
            <p:nvPr/>
          </p:nvCxnSpPr>
          <p:spPr>
            <a:xfrm>
              <a:off x="1073160" y="2491920"/>
              <a:ext cx="86616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524" name=""/>
            <p:cNvSpPr/>
            <p:nvPr/>
          </p:nvSpPr>
          <p:spPr>
            <a:xfrm>
              <a:off x="1255320" y="26002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2751120" y="1700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2789280" y="2817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898560" y="1950840"/>
              <a:ext cx="32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1764360" y="1987560"/>
              <a:ext cx="32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4083120" y="2211480"/>
              <a:ext cx="8492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3600" spc="-1" strike="noStrike">
                  <a:solidFill>
                    <a:srgbClr val="000000"/>
                  </a:solidFill>
                  <a:latin typeface="Bookman Old Style"/>
                </a:rPr>
                <a:t>G</a:t>
              </a:r>
              <a:r>
                <a:rPr b="0" i="1" lang="it-IT" sz="3600" spc="-1" strike="noStrike" baseline="-25000">
                  <a:solidFill>
                    <a:srgbClr val="000000"/>
                  </a:solidFill>
                  <a:latin typeface="Bookman Old Style"/>
                </a:rPr>
                <a:t>f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3652920" y="2347920"/>
              <a:ext cx="287280" cy="287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31" name=""/>
            <p:cNvCxnSpPr>
              <a:stCxn id="2522" idx="7"/>
              <a:endCxn id="2530" idx="1"/>
            </p:cNvCxnSpPr>
            <p:nvPr/>
          </p:nvCxnSpPr>
          <p:spPr>
            <a:xfrm flipH="1" rot="16200000">
              <a:off x="2938680" y="1634760"/>
              <a:ext cx="2160" cy="1513440"/>
            </a:xfrm>
            <a:prstGeom prst="curvedConnector5">
              <a:avLst>
                <a:gd name="adj1" fmla="val -17100000"/>
                <a:gd name="adj2" fmla="val 49988"/>
                <a:gd name="adj3" fmla="val -1710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32" name=""/>
            <p:cNvCxnSpPr>
              <a:stCxn id="2522" idx="5"/>
              <a:endCxn id="2530" idx="3"/>
            </p:cNvCxnSpPr>
            <p:nvPr/>
          </p:nvCxnSpPr>
          <p:spPr>
            <a:xfrm flipH="1" rot="16200000">
              <a:off x="2938680" y="1836360"/>
              <a:ext cx="2160" cy="1513440"/>
            </a:xfrm>
            <a:prstGeom prst="curvedConnector5">
              <a:avLst>
                <a:gd name="adj1" fmla="val 17000000"/>
                <a:gd name="adj2" fmla="val 49988"/>
                <a:gd name="adj3" fmla="val 1700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533" name=""/>
            <p:cNvSpPr/>
            <p:nvPr/>
          </p:nvSpPr>
          <p:spPr>
            <a:xfrm>
              <a:off x="3869280" y="2492280"/>
              <a:ext cx="23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68A1-04BC-4610-8D55-31636299B863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semp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/>
          </p:nvPr>
        </p:nvSpPr>
        <p:spPr>
          <a:xfrm>
            <a:off x="67932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enendo conto dei tagli “persi” durante le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n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-1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operazioni di identificazione, abbiamo messo a punto un algoritmo che ha complessità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O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nk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, con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k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complessità di un algoritmo per il max-flo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Finora, l’unico vantaggio di questo approccio è quello di risolvere problemi di max-flow di dimensioni decrescent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  <a:ea typeface="Arial"/>
              </a:rPr>
              <a:t>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Scegliere i vertici da identificare in modo che sia facile individuare il minimo taglio che li sepa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9FD9-EA6F-428E-BD81-067EA64B0B03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Legal orde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7" name="PlaceHolder 2"/>
          <p:cNvSpPr>
            <a:spLocks noGrp="1"/>
          </p:cNvSpPr>
          <p:nvPr>
            <p:ph/>
          </p:nvPr>
        </p:nvSpPr>
        <p:spPr>
          <a:xfrm>
            <a:off x="609480" y="1484280"/>
            <a:ext cx="799488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ia </a:t>
            </a: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lang="it-IT" sz="28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it-IT" sz="2800" spc="-1" strike="noStrike">
                <a:solidFill>
                  <a:srgbClr val="000000"/>
                </a:solidFill>
                <a:latin typeface="Bookman Old Style"/>
              </a:rPr>
              <a:t>, …, </a:t>
            </a: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it-IT" sz="2800" spc="-1" strike="noStrike" baseline="-25000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un ordinamento dei vertici di </a:t>
            </a: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e sia </a:t>
            </a: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it-IT" sz="2800" spc="-1" strike="noStrike" baseline="-25000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Bookman Old Style"/>
              </a:rPr>
              <a:t>={</a:t>
            </a: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lang="it-IT" sz="28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it-IT" sz="2800" spc="-1" strike="noStrike">
                <a:solidFill>
                  <a:srgbClr val="000000"/>
                </a:solidFill>
                <a:latin typeface="Bookman Old Style"/>
              </a:rPr>
              <a:t>, …, </a:t>
            </a: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it-IT" sz="2800" spc="-1" strike="noStrike" baseline="-25000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Bookman Old Style"/>
              </a:rPr>
              <a:t>}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.  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8" name=""/>
              <p:cNvSpPr txBox="1"/>
              <p:nvPr/>
            </p:nvSpPr>
            <p:spPr>
              <a:xfrm>
                <a:off x="612720" y="2629080"/>
                <a:ext cx="792000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∩</m:t>
                    </m:r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∩</m:t>
                    </m:r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per </m:t>
                    </m:r>
                    <m:r>
                      <m:t xml:space="preserve">2</m:t>
                    </m:r>
                    <m:r>
                      <m:t xml:space="preserve">≤</m:t>
                    </m:r>
                    <m:r>
                      <m:t xml:space="preserve">i</m:t>
                    </m:r>
                    <m:r>
                      <m:t xml:space="preserve">≤</m:t>
                    </m:r>
                    <m:r>
                      <m:t xml:space="preserve">j</m:t>
                    </m:r>
                    <m:r>
                      <m:t xml:space="preserve">≤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39" name=""/>
          <p:cNvSpPr/>
          <p:nvPr/>
        </p:nvSpPr>
        <p:spPr>
          <a:xfrm>
            <a:off x="611280" y="3328920"/>
            <a:ext cx="799452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i dice  che </a:t>
            </a: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lang="it-IT" sz="28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it-IT" sz="2800" spc="-1" strike="noStrike">
                <a:solidFill>
                  <a:srgbClr val="000000"/>
                </a:solidFill>
                <a:latin typeface="Bookman Old Style"/>
              </a:rPr>
              <a:t>, …, </a:t>
            </a: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it-IT" sz="2800" spc="-1" strike="noStrike" baseline="-25000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è un “legal ordering”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0" name=""/>
          <p:cNvGrpSpPr/>
          <p:nvPr/>
        </p:nvGrpSpPr>
        <p:grpSpPr>
          <a:xfrm>
            <a:off x="547560" y="3933720"/>
            <a:ext cx="4383360" cy="2018160"/>
            <a:chOff x="547560" y="3933720"/>
            <a:chExt cx="4383360" cy="2018160"/>
          </a:xfrm>
        </p:grpSpPr>
        <p:sp>
          <p:nvSpPr>
            <p:cNvPr id="2541" name=""/>
            <p:cNvSpPr/>
            <p:nvPr/>
          </p:nvSpPr>
          <p:spPr>
            <a:xfrm>
              <a:off x="938160" y="4006800"/>
              <a:ext cx="287280" cy="2872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938160" y="5518080"/>
              <a:ext cx="287280" cy="2872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1946160" y="4797360"/>
              <a:ext cx="287280" cy="2872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3098520" y="4797360"/>
              <a:ext cx="287640" cy="2872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4178160" y="4006800"/>
              <a:ext cx="287280" cy="2872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4178160" y="5518080"/>
              <a:ext cx="287280" cy="2872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47" name=""/>
            <p:cNvCxnSpPr>
              <a:stCxn id="2541" idx="5"/>
              <a:endCxn id="2543" idx="1"/>
            </p:cNvCxnSpPr>
            <p:nvPr/>
          </p:nvCxnSpPr>
          <p:spPr>
            <a:xfrm>
              <a:off x="1182600" y="4251240"/>
              <a:ext cx="807120" cy="589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48" name=""/>
            <p:cNvCxnSpPr>
              <a:stCxn id="2542" idx="7"/>
              <a:endCxn id="2543" idx="3"/>
            </p:cNvCxnSpPr>
            <p:nvPr/>
          </p:nvCxnSpPr>
          <p:spPr>
            <a:xfrm flipV="1">
              <a:off x="1182600" y="5041440"/>
              <a:ext cx="807120" cy="519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49" name=""/>
            <p:cNvCxnSpPr>
              <a:stCxn id="2542" idx="0"/>
              <a:endCxn id="2541" idx="4"/>
            </p:cNvCxnSpPr>
            <p:nvPr/>
          </p:nvCxnSpPr>
          <p:spPr>
            <a:xfrm flipV="1">
              <a:off x="1082160" y="4293720"/>
              <a:ext cx="1080" cy="1224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50" name=""/>
            <p:cNvCxnSpPr>
              <a:stCxn id="2543" idx="6"/>
              <a:endCxn id="2544" idx="2"/>
            </p:cNvCxnSpPr>
            <p:nvPr/>
          </p:nvCxnSpPr>
          <p:spPr>
            <a:xfrm>
              <a:off x="2233080" y="4941360"/>
              <a:ext cx="8658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51" name=""/>
            <p:cNvCxnSpPr>
              <a:stCxn id="2544" idx="5"/>
              <a:endCxn id="2546" idx="2"/>
            </p:cNvCxnSpPr>
            <p:nvPr/>
          </p:nvCxnSpPr>
          <p:spPr>
            <a:xfrm>
              <a:off x="3342960" y="5041800"/>
              <a:ext cx="835920" cy="621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52" name=""/>
            <p:cNvCxnSpPr>
              <a:stCxn id="2544" idx="7"/>
              <a:endCxn id="2545" idx="3"/>
            </p:cNvCxnSpPr>
            <p:nvPr/>
          </p:nvCxnSpPr>
          <p:spPr>
            <a:xfrm flipV="1">
              <a:off x="3342600" y="4250880"/>
              <a:ext cx="878760" cy="589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53" name=""/>
            <p:cNvCxnSpPr>
              <a:stCxn id="2546" idx="0"/>
              <a:endCxn id="2545" idx="4"/>
            </p:cNvCxnSpPr>
            <p:nvPr/>
          </p:nvCxnSpPr>
          <p:spPr>
            <a:xfrm flipV="1">
              <a:off x="4322160" y="4293720"/>
              <a:ext cx="1080" cy="1224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554" name=""/>
            <p:cNvSpPr/>
            <p:nvPr/>
          </p:nvSpPr>
          <p:spPr>
            <a:xfrm>
              <a:off x="2415600" y="50497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3423960" y="41493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3458880" y="5408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4466880" y="46544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578880" y="47257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1514160" y="41842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1514160" y="52653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547560" y="4005000"/>
              <a:ext cx="32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614880" y="5518080"/>
              <a:ext cx="32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2057040" y="44370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2924640" y="4437000"/>
              <a:ext cx="32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4453200" y="5553000"/>
              <a:ext cx="30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4446000" y="3933720"/>
              <a:ext cx="26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7" name=""/>
          <p:cNvSpPr/>
          <p:nvPr/>
        </p:nvSpPr>
        <p:spPr>
          <a:xfrm>
            <a:off x="5146560" y="4119480"/>
            <a:ext cx="79948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Esemp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a, c, b, d, e,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639E-655F-46FB-8C03-57304DCC90C5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Trovare un “legal ordering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9" name=""/>
          <p:cNvSpPr/>
          <p:nvPr/>
        </p:nvSpPr>
        <p:spPr>
          <a:xfrm>
            <a:off x="662760" y="1503360"/>
            <a:ext cx="775944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Inizializz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ssocia un’etichetta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e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= 0, ad ogni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cegli un nodo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di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e poni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=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it-IT" sz="2400" spc="-1" strike="noStrike" baseline="30000">
                <a:solidFill>
                  <a:srgbClr val="000000"/>
                </a:solidFill>
                <a:latin typeface="Bookman Old Style"/>
              </a:rPr>
              <a:t>ORD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= {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},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k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"/>
          <p:cNvSpPr/>
          <p:nvPr/>
        </p:nvSpPr>
        <p:spPr>
          <a:xfrm>
            <a:off x="466560" y="2792520"/>
            <a:ext cx="9218880" cy="31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Passo </a:t>
            </a:r>
            <a:r>
              <a:rPr b="0" i="1" lang="it-IT" sz="2400" spc="-1" strike="noStrike">
                <a:solidFill>
                  <a:srgbClr val="ff0000"/>
                </a:solidFill>
                <a:latin typeface="Bookman Old Style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ggiorna le etichette dei nodi adiacenti a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k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onendo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e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e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+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iv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k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,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ogni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diacente a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k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leziona il nodo avente etichetta massima tra 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odi non appartenenti a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it-IT" sz="2400" spc="-1" strike="noStrike" baseline="30000">
                <a:solidFill>
                  <a:srgbClr val="000000"/>
                </a:solidFill>
                <a:latin typeface="Bookman Old Style"/>
              </a:rPr>
              <a:t>ORD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a esso il nodo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oni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k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+1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it-IT" sz="2400" spc="-1" strike="noStrike" baseline="30000">
                <a:solidFill>
                  <a:srgbClr val="000000"/>
                </a:solidFill>
                <a:latin typeface="Bookman Old Style"/>
              </a:rPr>
              <a:t>ORD</a:t>
            </a:r>
            <a:r>
              <a:rPr b="0" lang="it-IT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=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it-IT" sz="2400" spc="-1" strike="noStrike" baseline="30000">
                <a:solidFill>
                  <a:srgbClr val="000000"/>
                </a:solidFill>
                <a:latin typeface="Bookman Old Style"/>
              </a:rPr>
              <a:t>ORD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{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k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+1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}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k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k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+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Ripeti finché </a:t>
            </a:r>
            <a:r>
              <a:rPr b="0" i="1" lang="it-IT" sz="2400" spc="-1" strike="noStrike">
                <a:solidFill>
                  <a:srgbClr val="ff0000"/>
                </a:solidFill>
                <a:latin typeface="Bookman Old Style"/>
              </a:rPr>
              <a:t>k</a:t>
            </a:r>
            <a:r>
              <a:rPr b="0" lang="it-IT" sz="2400" spc="-1" strike="noStrike">
                <a:solidFill>
                  <a:srgbClr val="ff0000"/>
                </a:solidFill>
                <a:latin typeface="Bookman Old Style"/>
              </a:rPr>
              <a:t> &lt; </a:t>
            </a:r>
            <a:r>
              <a:rPr b="0" i="1" lang="it-IT" sz="2400" spc="-1" strike="noStrike">
                <a:solidFill>
                  <a:srgbClr val="ff0000"/>
                </a:solidFill>
                <a:latin typeface="Bookman Old Style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8539-4FF6-4E7F-9B7E-F36C321DB015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semp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2" name=""/>
          <p:cNvSpPr/>
          <p:nvPr/>
        </p:nvSpPr>
        <p:spPr>
          <a:xfrm>
            <a:off x="2449440" y="2781360"/>
            <a:ext cx="28728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"/>
          <p:cNvSpPr/>
          <p:nvPr/>
        </p:nvSpPr>
        <p:spPr>
          <a:xfrm>
            <a:off x="2449440" y="4292640"/>
            <a:ext cx="287280" cy="287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"/>
          <p:cNvSpPr/>
          <p:nvPr/>
        </p:nvSpPr>
        <p:spPr>
          <a:xfrm>
            <a:off x="3457440" y="3571920"/>
            <a:ext cx="287640" cy="287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"/>
          <p:cNvSpPr/>
          <p:nvPr/>
        </p:nvSpPr>
        <p:spPr>
          <a:xfrm>
            <a:off x="4610160" y="3571920"/>
            <a:ext cx="287280" cy="287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6" name=""/>
          <p:cNvSpPr/>
          <p:nvPr/>
        </p:nvSpPr>
        <p:spPr>
          <a:xfrm>
            <a:off x="5689440" y="2781360"/>
            <a:ext cx="287640" cy="287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"/>
          <p:cNvSpPr/>
          <p:nvPr/>
        </p:nvSpPr>
        <p:spPr>
          <a:xfrm>
            <a:off x="5689440" y="4292640"/>
            <a:ext cx="287640" cy="287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78" name=""/>
          <p:cNvCxnSpPr>
            <a:stCxn id="2572" idx="5"/>
            <a:endCxn id="2574" idx="1"/>
          </p:cNvCxnSpPr>
          <p:nvPr/>
        </p:nvCxnSpPr>
        <p:spPr>
          <a:xfrm>
            <a:off x="2693880" y="3025800"/>
            <a:ext cx="807120" cy="589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579" name=""/>
          <p:cNvCxnSpPr>
            <a:stCxn id="2573" idx="7"/>
            <a:endCxn id="2574" idx="3"/>
          </p:cNvCxnSpPr>
          <p:nvPr/>
        </p:nvCxnSpPr>
        <p:spPr>
          <a:xfrm flipV="1">
            <a:off x="2693880" y="3816000"/>
            <a:ext cx="807120" cy="519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580" name=""/>
          <p:cNvCxnSpPr>
            <a:stCxn id="2573" idx="0"/>
            <a:endCxn id="2572" idx="4"/>
          </p:cNvCxnSpPr>
          <p:nvPr/>
        </p:nvCxnSpPr>
        <p:spPr>
          <a:xfrm flipV="1">
            <a:off x="2593440" y="3068280"/>
            <a:ext cx="1080" cy="1224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581" name=""/>
          <p:cNvCxnSpPr>
            <a:stCxn id="2574" idx="6"/>
            <a:endCxn id="2575" idx="2"/>
          </p:cNvCxnSpPr>
          <p:nvPr/>
        </p:nvCxnSpPr>
        <p:spPr>
          <a:xfrm>
            <a:off x="3744720" y="3715920"/>
            <a:ext cx="86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582" name=""/>
          <p:cNvCxnSpPr>
            <a:stCxn id="2575" idx="5"/>
            <a:endCxn id="2577" idx="2"/>
          </p:cNvCxnSpPr>
          <p:nvPr/>
        </p:nvCxnSpPr>
        <p:spPr>
          <a:xfrm>
            <a:off x="4854240" y="3816360"/>
            <a:ext cx="835560" cy="621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583" name=""/>
          <p:cNvCxnSpPr>
            <a:stCxn id="2575" idx="7"/>
            <a:endCxn id="2576" idx="3"/>
          </p:cNvCxnSpPr>
          <p:nvPr/>
        </p:nvCxnSpPr>
        <p:spPr>
          <a:xfrm flipV="1">
            <a:off x="4854240" y="3025440"/>
            <a:ext cx="878760" cy="589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584" name=""/>
          <p:cNvCxnSpPr>
            <a:stCxn id="2577" idx="0"/>
            <a:endCxn id="2576" idx="4"/>
          </p:cNvCxnSpPr>
          <p:nvPr/>
        </p:nvCxnSpPr>
        <p:spPr>
          <a:xfrm flipV="1">
            <a:off x="5833800" y="3068280"/>
            <a:ext cx="1080" cy="1224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585" name=""/>
          <p:cNvSpPr/>
          <p:nvPr/>
        </p:nvSpPr>
        <p:spPr>
          <a:xfrm>
            <a:off x="3927240" y="3824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6" name=""/>
          <p:cNvSpPr/>
          <p:nvPr/>
        </p:nvSpPr>
        <p:spPr>
          <a:xfrm>
            <a:off x="4935240" y="2924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"/>
          <p:cNvSpPr/>
          <p:nvPr/>
        </p:nvSpPr>
        <p:spPr>
          <a:xfrm>
            <a:off x="4970160" y="4183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8" name=""/>
          <p:cNvSpPr/>
          <p:nvPr/>
        </p:nvSpPr>
        <p:spPr>
          <a:xfrm>
            <a:off x="5978160" y="34290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"/>
          <p:cNvSpPr/>
          <p:nvPr/>
        </p:nvSpPr>
        <p:spPr>
          <a:xfrm>
            <a:off x="2090520" y="3500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"/>
          <p:cNvSpPr/>
          <p:nvPr/>
        </p:nvSpPr>
        <p:spPr>
          <a:xfrm>
            <a:off x="3025440" y="29592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"/>
          <p:cNvSpPr/>
          <p:nvPr/>
        </p:nvSpPr>
        <p:spPr>
          <a:xfrm>
            <a:off x="3025440" y="4040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"/>
          <p:cNvSpPr/>
          <p:nvPr/>
        </p:nvSpPr>
        <p:spPr>
          <a:xfrm>
            <a:off x="2137680" y="2421000"/>
            <a:ext cx="749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=0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"/>
          <p:cNvSpPr/>
          <p:nvPr/>
        </p:nvSpPr>
        <p:spPr>
          <a:xfrm>
            <a:off x="2001600" y="4471920"/>
            <a:ext cx="68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"/>
          <p:cNvSpPr/>
          <p:nvPr/>
        </p:nvSpPr>
        <p:spPr>
          <a:xfrm>
            <a:off x="3440880" y="3141720"/>
            <a:ext cx="666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Bookman Old Style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"/>
          <p:cNvSpPr/>
          <p:nvPr/>
        </p:nvSpPr>
        <p:spPr>
          <a:xfrm>
            <a:off x="4381560" y="3141720"/>
            <a:ext cx="685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Bookman Old Style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"/>
          <p:cNvSpPr/>
          <p:nvPr/>
        </p:nvSpPr>
        <p:spPr>
          <a:xfrm>
            <a:off x="5603040" y="4545000"/>
            <a:ext cx="672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Bookman Old Style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"/>
          <p:cNvSpPr/>
          <p:nvPr/>
        </p:nvSpPr>
        <p:spPr>
          <a:xfrm>
            <a:off x="5528160" y="2349360"/>
            <a:ext cx="646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Bookman Old Style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"/>
          <p:cNvSpPr/>
          <p:nvPr/>
        </p:nvSpPr>
        <p:spPr>
          <a:xfrm>
            <a:off x="1157760" y="1700280"/>
            <a:ext cx="118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it-IT" sz="2000" spc="-1" strike="noStrike" baseline="30000">
                <a:solidFill>
                  <a:srgbClr val="000000"/>
                </a:solidFill>
                <a:latin typeface="Bookman Old Style"/>
              </a:rPr>
              <a:t>ORD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={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}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5529-C3C7-4A6C-B504-E9D53AB0D8B9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476360" y="456876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508720" y="4568760"/>
            <a:ext cx="215640" cy="21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556000" y="3705120"/>
            <a:ext cx="21564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211640" y="370512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557440" y="52894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13080" y="52894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4" name=""/>
          <p:cNvCxnSpPr>
            <a:stCxn id="268" idx="7"/>
            <a:endCxn id="270" idx="2"/>
          </p:cNvCxnSpPr>
          <p:nvPr/>
        </p:nvCxnSpPr>
        <p:spPr>
          <a:xfrm flipV="1">
            <a:off x="1660320" y="3812400"/>
            <a:ext cx="896040" cy="788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"/>
          <p:cNvCxnSpPr>
            <a:stCxn id="268" idx="5"/>
            <a:endCxn id="272" idx="2"/>
          </p:cNvCxnSpPr>
          <p:nvPr/>
        </p:nvCxnSpPr>
        <p:spPr>
          <a:xfrm>
            <a:off x="1660320" y="4753080"/>
            <a:ext cx="897480" cy="64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0" idx="6"/>
            <a:endCxn id="271" idx="2"/>
          </p:cNvCxnSpPr>
          <p:nvPr/>
        </p:nvCxnSpPr>
        <p:spPr>
          <a:xfrm>
            <a:off x="2771640" y="3812760"/>
            <a:ext cx="144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1" idx="6"/>
            <a:endCxn id="269" idx="1"/>
          </p:cNvCxnSpPr>
          <p:nvPr/>
        </p:nvCxnSpPr>
        <p:spPr>
          <a:xfrm>
            <a:off x="4427280" y="3812760"/>
            <a:ext cx="1113120" cy="788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72" idx="6"/>
            <a:endCxn id="273" idx="2"/>
          </p:cNvCxnSpPr>
          <p:nvPr/>
        </p:nvCxnSpPr>
        <p:spPr>
          <a:xfrm>
            <a:off x="2773080" y="5397120"/>
            <a:ext cx="144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9" name=""/>
          <p:cNvCxnSpPr>
            <a:stCxn id="273" idx="6"/>
            <a:endCxn id="269" idx="3"/>
          </p:cNvCxnSpPr>
          <p:nvPr/>
        </p:nvCxnSpPr>
        <p:spPr>
          <a:xfrm flipV="1">
            <a:off x="4428720" y="4752720"/>
            <a:ext cx="1112040" cy="64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"/>
          <p:cNvCxnSpPr>
            <a:stCxn id="270" idx="4"/>
            <a:endCxn id="272" idx="0"/>
          </p:cNvCxnSpPr>
          <p:nvPr/>
        </p:nvCxnSpPr>
        <p:spPr>
          <a:xfrm>
            <a:off x="2664000" y="3920760"/>
            <a:ext cx="2160" cy="136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"/>
          <p:cNvCxnSpPr>
            <a:stCxn id="273" idx="0"/>
            <a:endCxn id="271" idx="4"/>
          </p:cNvCxnSpPr>
          <p:nvPr/>
        </p:nvCxnSpPr>
        <p:spPr>
          <a:xfrm flipH="1" flipV="1">
            <a:off x="4319280" y="3920400"/>
            <a:ext cx="2160" cy="136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2" name=""/>
          <p:cNvSpPr/>
          <p:nvPr/>
        </p:nvSpPr>
        <p:spPr>
          <a:xfrm>
            <a:off x="1508040" y="3927600"/>
            <a:ext cx="6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201320" y="470700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706360" y="46404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346840" y="3429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362840" y="3424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635560" y="5432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312080" y="5438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316680" y="342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842120" y="51498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205440" y="5427720"/>
            <a:ext cx="75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832280" y="5068800"/>
            <a:ext cx="6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867920" y="38480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91560" y="4417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718360" y="4324320"/>
            <a:ext cx="102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33cc"/>
                </a:solidFill>
                <a:latin typeface="Bookman Old Style"/>
              </a:rPr>
              <a:t>+</a:t>
            </a:r>
            <a:r>
              <a:rPr b="0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semp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1647720" y="4743000"/>
            <a:ext cx="3908520" cy="656280"/>
            <a:chOff x="1647720" y="4743000"/>
            <a:chExt cx="3908520" cy="656280"/>
          </a:xfrm>
        </p:grpSpPr>
        <p:cxnSp>
          <p:nvCxnSpPr>
            <p:cNvPr id="298" name=""/>
            <p:cNvCxnSpPr/>
            <p:nvPr/>
          </p:nvCxnSpPr>
          <p:spPr>
            <a:xfrm>
              <a:off x="1647720" y="4743000"/>
              <a:ext cx="897840" cy="645480"/>
            </a:xfrm>
            <a:prstGeom prst="straightConnector1">
              <a:avLst/>
            </a:prstGeom>
            <a:ln w="38160">
              <a:solidFill>
                <a:srgbClr val="cc3399"/>
              </a:solidFill>
              <a:miter/>
              <a:tailEnd len="med" type="triangle" w="med"/>
            </a:ln>
          </p:spPr>
        </p:cxnSp>
        <p:cxnSp>
          <p:nvCxnSpPr>
            <p:cNvPr id="299" name=""/>
            <p:cNvCxnSpPr/>
            <p:nvPr/>
          </p:nvCxnSpPr>
          <p:spPr>
            <a:xfrm>
              <a:off x="2789280" y="5398560"/>
              <a:ext cx="1440360" cy="1080"/>
            </a:xfrm>
            <a:prstGeom prst="straightConnector1">
              <a:avLst/>
            </a:prstGeom>
            <a:ln w="38160">
              <a:solidFill>
                <a:srgbClr val="cc3399"/>
              </a:solidFill>
              <a:miter/>
              <a:tailEnd len="med" type="triangle" w="med"/>
            </a:ln>
          </p:spPr>
        </p:cxnSp>
        <p:cxnSp>
          <p:nvCxnSpPr>
            <p:cNvPr id="300" name=""/>
            <p:cNvCxnSpPr/>
            <p:nvPr/>
          </p:nvCxnSpPr>
          <p:spPr>
            <a:xfrm flipV="1">
              <a:off x="4444560" y="4754160"/>
              <a:ext cx="1112040" cy="645120"/>
            </a:xfrm>
            <a:prstGeom prst="straightConnector1">
              <a:avLst/>
            </a:prstGeom>
            <a:ln w="38160">
              <a:solidFill>
                <a:srgbClr val="cc3399"/>
              </a:solidFill>
              <a:miter/>
              <a:tailEnd len="med" type="triangle" w="med"/>
            </a:ln>
          </p:spPr>
        </p:cxnSp>
      </p:grpSp>
      <p:sp>
        <p:nvSpPr>
          <p:cNvPr id="301" name=""/>
          <p:cNvSpPr/>
          <p:nvPr/>
        </p:nvSpPr>
        <p:spPr>
          <a:xfrm>
            <a:off x="611280" y="1660680"/>
            <a:ext cx="792144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questo punto, anche la capacità dell’arco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,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1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è completamente utilizzata. Pertanto il cammino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, 2, 3,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}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zza l’arco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,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034A-0AAA-4EC9-952D-70DD3549D55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semp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0" name=""/>
          <p:cNvSpPr/>
          <p:nvPr/>
        </p:nvSpPr>
        <p:spPr>
          <a:xfrm>
            <a:off x="2449440" y="2781360"/>
            <a:ext cx="28728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"/>
          <p:cNvSpPr/>
          <p:nvPr/>
        </p:nvSpPr>
        <p:spPr>
          <a:xfrm>
            <a:off x="2449440" y="4292640"/>
            <a:ext cx="287280" cy="287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"/>
          <p:cNvSpPr/>
          <p:nvPr/>
        </p:nvSpPr>
        <p:spPr>
          <a:xfrm>
            <a:off x="3457440" y="3571920"/>
            <a:ext cx="287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"/>
          <p:cNvSpPr/>
          <p:nvPr/>
        </p:nvSpPr>
        <p:spPr>
          <a:xfrm>
            <a:off x="4610160" y="3571920"/>
            <a:ext cx="287280" cy="287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"/>
          <p:cNvSpPr/>
          <p:nvPr/>
        </p:nvSpPr>
        <p:spPr>
          <a:xfrm>
            <a:off x="5689440" y="2781360"/>
            <a:ext cx="287640" cy="287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"/>
          <p:cNvSpPr/>
          <p:nvPr/>
        </p:nvSpPr>
        <p:spPr>
          <a:xfrm>
            <a:off x="5689440" y="4292640"/>
            <a:ext cx="287640" cy="287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6" name=""/>
          <p:cNvCxnSpPr>
            <a:stCxn id="2600" idx="5"/>
            <a:endCxn id="2602" idx="1"/>
          </p:cNvCxnSpPr>
          <p:nvPr/>
        </p:nvCxnSpPr>
        <p:spPr>
          <a:xfrm>
            <a:off x="2693880" y="3025800"/>
            <a:ext cx="807120" cy="589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607" name=""/>
          <p:cNvCxnSpPr>
            <a:stCxn id="2601" idx="7"/>
            <a:endCxn id="2602" idx="3"/>
          </p:cNvCxnSpPr>
          <p:nvPr/>
        </p:nvCxnSpPr>
        <p:spPr>
          <a:xfrm flipV="1">
            <a:off x="2693880" y="3816000"/>
            <a:ext cx="807120" cy="519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608" name=""/>
          <p:cNvCxnSpPr>
            <a:stCxn id="2601" idx="0"/>
            <a:endCxn id="2600" idx="4"/>
          </p:cNvCxnSpPr>
          <p:nvPr/>
        </p:nvCxnSpPr>
        <p:spPr>
          <a:xfrm flipV="1">
            <a:off x="2593440" y="3068280"/>
            <a:ext cx="1080" cy="1224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609" name=""/>
          <p:cNvCxnSpPr>
            <a:stCxn id="2602" idx="6"/>
            <a:endCxn id="2603" idx="2"/>
          </p:cNvCxnSpPr>
          <p:nvPr/>
        </p:nvCxnSpPr>
        <p:spPr>
          <a:xfrm>
            <a:off x="3744720" y="3715920"/>
            <a:ext cx="86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610" name=""/>
          <p:cNvCxnSpPr>
            <a:stCxn id="2603" idx="5"/>
            <a:endCxn id="2605" idx="2"/>
          </p:cNvCxnSpPr>
          <p:nvPr/>
        </p:nvCxnSpPr>
        <p:spPr>
          <a:xfrm>
            <a:off x="4854240" y="3816360"/>
            <a:ext cx="835560" cy="621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611" name=""/>
          <p:cNvCxnSpPr>
            <a:stCxn id="2603" idx="7"/>
            <a:endCxn id="2604" idx="3"/>
          </p:cNvCxnSpPr>
          <p:nvPr/>
        </p:nvCxnSpPr>
        <p:spPr>
          <a:xfrm flipV="1">
            <a:off x="4854240" y="3025440"/>
            <a:ext cx="878760" cy="589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612" name=""/>
          <p:cNvCxnSpPr>
            <a:stCxn id="2605" idx="0"/>
            <a:endCxn id="2604" idx="4"/>
          </p:cNvCxnSpPr>
          <p:nvPr/>
        </p:nvCxnSpPr>
        <p:spPr>
          <a:xfrm flipV="1">
            <a:off x="5833800" y="3068280"/>
            <a:ext cx="1080" cy="1224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13" name=""/>
          <p:cNvSpPr/>
          <p:nvPr/>
        </p:nvSpPr>
        <p:spPr>
          <a:xfrm>
            <a:off x="3927240" y="3824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4" name=""/>
          <p:cNvSpPr/>
          <p:nvPr/>
        </p:nvSpPr>
        <p:spPr>
          <a:xfrm>
            <a:off x="4935240" y="2924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5" name=""/>
          <p:cNvSpPr/>
          <p:nvPr/>
        </p:nvSpPr>
        <p:spPr>
          <a:xfrm>
            <a:off x="4970160" y="4183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"/>
          <p:cNvSpPr/>
          <p:nvPr/>
        </p:nvSpPr>
        <p:spPr>
          <a:xfrm>
            <a:off x="5978160" y="34290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7" name=""/>
          <p:cNvSpPr/>
          <p:nvPr/>
        </p:nvSpPr>
        <p:spPr>
          <a:xfrm>
            <a:off x="2090520" y="3500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8" name=""/>
          <p:cNvSpPr/>
          <p:nvPr/>
        </p:nvSpPr>
        <p:spPr>
          <a:xfrm>
            <a:off x="3025440" y="29592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9" name=""/>
          <p:cNvSpPr/>
          <p:nvPr/>
        </p:nvSpPr>
        <p:spPr>
          <a:xfrm>
            <a:off x="3025440" y="4040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0" name=""/>
          <p:cNvSpPr/>
          <p:nvPr/>
        </p:nvSpPr>
        <p:spPr>
          <a:xfrm>
            <a:off x="2137680" y="2421000"/>
            <a:ext cx="749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=0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1" name=""/>
          <p:cNvSpPr/>
          <p:nvPr/>
        </p:nvSpPr>
        <p:spPr>
          <a:xfrm>
            <a:off x="2007000" y="4545000"/>
            <a:ext cx="831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"/>
          <p:cNvSpPr/>
          <p:nvPr/>
        </p:nvSpPr>
        <p:spPr>
          <a:xfrm>
            <a:off x="3446280" y="3141720"/>
            <a:ext cx="812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Bookman Old Style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=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"/>
          <p:cNvSpPr/>
          <p:nvPr/>
        </p:nvSpPr>
        <p:spPr>
          <a:xfrm>
            <a:off x="4381560" y="3141720"/>
            <a:ext cx="685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Bookman Old Style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"/>
          <p:cNvSpPr/>
          <p:nvPr/>
        </p:nvSpPr>
        <p:spPr>
          <a:xfrm>
            <a:off x="5603040" y="4545000"/>
            <a:ext cx="672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Bookman Old Style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"/>
          <p:cNvSpPr/>
          <p:nvPr/>
        </p:nvSpPr>
        <p:spPr>
          <a:xfrm>
            <a:off x="5528160" y="2349360"/>
            <a:ext cx="646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Bookman Old Style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6" name=""/>
          <p:cNvSpPr/>
          <p:nvPr/>
        </p:nvSpPr>
        <p:spPr>
          <a:xfrm>
            <a:off x="1162440" y="1700280"/>
            <a:ext cx="1907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it-IT" sz="2000" spc="-1" strike="noStrike" baseline="30000">
                <a:solidFill>
                  <a:srgbClr val="000000"/>
                </a:solidFill>
                <a:latin typeface="Bookman Old Style"/>
              </a:rPr>
              <a:t>ORD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={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}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, v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={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A65A-36B5-48AD-85F7-C818A2B1BD51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semp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8" name=""/>
          <p:cNvSpPr/>
          <p:nvPr/>
        </p:nvSpPr>
        <p:spPr>
          <a:xfrm>
            <a:off x="2449440" y="2781360"/>
            <a:ext cx="28728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9" name=""/>
          <p:cNvSpPr/>
          <p:nvPr/>
        </p:nvSpPr>
        <p:spPr>
          <a:xfrm>
            <a:off x="2449440" y="4292640"/>
            <a:ext cx="287280" cy="287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0" name=""/>
          <p:cNvSpPr/>
          <p:nvPr/>
        </p:nvSpPr>
        <p:spPr>
          <a:xfrm>
            <a:off x="3457440" y="3571920"/>
            <a:ext cx="287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1" name=""/>
          <p:cNvSpPr/>
          <p:nvPr/>
        </p:nvSpPr>
        <p:spPr>
          <a:xfrm>
            <a:off x="4610160" y="3571920"/>
            <a:ext cx="287280" cy="287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2" name=""/>
          <p:cNvSpPr/>
          <p:nvPr/>
        </p:nvSpPr>
        <p:spPr>
          <a:xfrm>
            <a:off x="5689440" y="2781360"/>
            <a:ext cx="287640" cy="287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3" name=""/>
          <p:cNvSpPr/>
          <p:nvPr/>
        </p:nvSpPr>
        <p:spPr>
          <a:xfrm>
            <a:off x="5689440" y="4292640"/>
            <a:ext cx="287640" cy="287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34" name=""/>
          <p:cNvCxnSpPr>
            <a:stCxn id="2628" idx="5"/>
            <a:endCxn id="2630" idx="1"/>
          </p:cNvCxnSpPr>
          <p:nvPr/>
        </p:nvCxnSpPr>
        <p:spPr>
          <a:xfrm>
            <a:off x="2693880" y="3025800"/>
            <a:ext cx="807120" cy="589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635" name=""/>
          <p:cNvCxnSpPr>
            <a:stCxn id="2629" idx="7"/>
            <a:endCxn id="2630" idx="3"/>
          </p:cNvCxnSpPr>
          <p:nvPr/>
        </p:nvCxnSpPr>
        <p:spPr>
          <a:xfrm flipV="1">
            <a:off x="2693880" y="3816000"/>
            <a:ext cx="807120" cy="519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636" name=""/>
          <p:cNvCxnSpPr>
            <a:stCxn id="2629" idx="0"/>
            <a:endCxn id="2628" idx="4"/>
          </p:cNvCxnSpPr>
          <p:nvPr/>
        </p:nvCxnSpPr>
        <p:spPr>
          <a:xfrm flipV="1">
            <a:off x="2593440" y="3068280"/>
            <a:ext cx="1080" cy="1224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637" name=""/>
          <p:cNvCxnSpPr>
            <a:stCxn id="2630" idx="6"/>
            <a:endCxn id="2631" idx="2"/>
          </p:cNvCxnSpPr>
          <p:nvPr/>
        </p:nvCxnSpPr>
        <p:spPr>
          <a:xfrm>
            <a:off x="3744720" y="3715920"/>
            <a:ext cx="86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638" name=""/>
          <p:cNvCxnSpPr>
            <a:stCxn id="2631" idx="5"/>
            <a:endCxn id="2633" idx="2"/>
          </p:cNvCxnSpPr>
          <p:nvPr/>
        </p:nvCxnSpPr>
        <p:spPr>
          <a:xfrm>
            <a:off x="4854240" y="3816360"/>
            <a:ext cx="835560" cy="621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639" name=""/>
          <p:cNvCxnSpPr>
            <a:stCxn id="2631" idx="7"/>
            <a:endCxn id="2632" idx="3"/>
          </p:cNvCxnSpPr>
          <p:nvPr/>
        </p:nvCxnSpPr>
        <p:spPr>
          <a:xfrm flipV="1">
            <a:off x="4854240" y="3025440"/>
            <a:ext cx="878760" cy="589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640" name=""/>
          <p:cNvCxnSpPr>
            <a:stCxn id="2633" idx="0"/>
            <a:endCxn id="2632" idx="4"/>
          </p:cNvCxnSpPr>
          <p:nvPr/>
        </p:nvCxnSpPr>
        <p:spPr>
          <a:xfrm flipV="1">
            <a:off x="5833800" y="3068280"/>
            <a:ext cx="1080" cy="1224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41" name=""/>
          <p:cNvSpPr/>
          <p:nvPr/>
        </p:nvSpPr>
        <p:spPr>
          <a:xfrm>
            <a:off x="3927240" y="3824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2" name=""/>
          <p:cNvSpPr/>
          <p:nvPr/>
        </p:nvSpPr>
        <p:spPr>
          <a:xfrm>
            <a:off x="4935240" y="2924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3" name=""/>
          <p:cNvSpPr/>
          <p:nvPr/>
        </p:nvSpPr>
        <p:spPr>
          <a:xfrm>
            <a:off x="4970160" y="4183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4" name=""/>
          <p:cNvSpPr/>
          <p:nvPr/>
        </p:nvSpPr>
        <p:spPr>
          <a:xfrm>
            <a:off x="5978160" y="34290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5" name=""/>
          <p:cNvSpPr/>
          <p:nvPr/>
        </p:nvSpPr>
        <p:spPr>
          <a:xfrm>
            <a:off x="2090520" y="3500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6" name=""/>
          <p:cNvSpPr/>
          <p:nvPr/>
        </p:nvSpPr>
        <p:spPr>
          <a:xfrm>
            <a:off x="3025440" y="29592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7" name=""/>
          <p:cNvSpPr/>
          <p:nvPr/>
        </p:nvSpPr>
        <p:spPr>
          <a:xfrm>
            <a:off x="3025440" y="4040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"/>
          <p:cNvSpPr/>
          <p:nvPr/>
        </p:nvSpPr>
        <p:spPr>
          <a:xfrm>
            <a:off x="2137680" y="2421000"/>
            <a:ext cx="749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=0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"/>
          <p:cNvSpPr/>
          <p:nvPr/>
        </p:nvSpPr>
        <p:spPr>
          <a:xfrm>
            <a:off x="2007000" y="4545000"/>
            <a:ext cx="831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0" name=""/>
          <p:cNvSpPr/>
          <p:nvPr/>
        </p:nvSpPr>
        <p:spPr>
          <a:xfrm>
            <a:off x="3446280" y="3141720"/>
            <a:ext cx="812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Bookman Old Style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=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1" name=""/>
          <p:cNvSpPr/>
          <p:nvPr/>
        </p:nvSpPr>
        <p:spPr>
          <a:xfrm>
            <a:off x="4387320" y="3141720"/>
            <a:ext cx="831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Bookman Old Style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=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"/>
          <p:cNvSpPr/>
          <p:nvPr/>
        </p:nvSpPr>
        <p:spPr>
          <a:xfrm>
            <a:off x="5603040" y="4545000"/>
            <a:ext cx="672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Bookman Old Style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"/>
          <p:cNvSpPr/>
          <p:nvPr/>
        </p:nvSpPr>
        <p:spPr>
          <a:xfrm>
            <a:off x="5528160" y="2349360"/>
            <a:ext cx="646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Bookman Old Style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"/>
          <p:cNvSpPr/>
          <p:nvPr/>
        </p:nvSpPr>
        <p:spPr>
          <a:xfrm>
            <a:off x="1175400" y="1700280"/>
            <a:ext cx="2186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it-IT" sz="2000" spc="-1" strike="noStrike" baseline="30000">
                <a:solidFill>
                  <a:srgbClr val="000000"/>
                </a:solidFill>
                <a:latin typeface="Bookman Old Style"/>
              </a:rPr>
              <a:t>ORD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={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a, c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}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, v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={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154C-7B80-4CEC-94B9-7798F0DFCF35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semp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6" name=""/>
          <p:cNvSpPr/>
          <p:nvPr/>
        </p:nvSpPr>
        <p:spPr>
          <a:xfrm>
            <a:off x="2449440" y="2781360"/>
            <a:ext cx="28728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"/>
          <p:cNvSpPr/>
          <p:nvPr/>
        </p:nvSpPr>
        <p:spPr>
          <a:xfrm>
            <a:off x="2449440" y="4292640"/>
            <a:ext cx="28728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8" name=""/>
          <p:cNvSpPr/>
          <p:nvPr/>
        </p:nvSpPr>
        <p:spPr>
          <a:xfrm>
            <a:off x="3457440" y="3571920"/>
            <a:ext cx="287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9" name=""/>
          <p:cNvSpPr/>
          <p:nvPr/>
        </p:nvSpPr>
        <p:spPr>
          <a:xfrm>
            <a:off x="4610160" y="3571920"/>
            <a:ext cx="287280" cy="287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0" name=""/>
          <p:cNvSpPr/>
          <p:nvPr/>
        </p:nvSpPr>
        <p:spPr>
          <a:xfrm>
            <a:off x="5689440" y="2781360"/>
            <a:ext cx="287640" cy="287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"/>
          <p:cNvSpPr/>
          <p:nvPr/>
        </p:nvSpPr>
        <p:spPr>
          <a:xfrm>
            <a:off x="5689440" y="4292640"/>
            <a:ext cx="287640" cy="287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62" name=""/>
          <p:cNvCxnSpPr>
            <a:stCxn id="2656" idx="5"/>
            <a:endCxn id="2658" idx="1"/>
          </p:cNvCxnSpPr>
          <p:nvPr/>
        </p:nvCxnSpPr>
        <p:spPr>
          <a:xfrm>
            <a:off x="2693880" y="3025800"/>
            <a:ext cx="807120" cy="589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663" name=""/>
          <p:cNvCxnSpPr>
            <a:stCxn id="2657" idx="7"/>
            <a:endCxn id="2658" idx="3"/>
          </p:cNvCxnSpPr>
          <p:nvPr/>
        </p:nvCxnSpPr>
        <p:spPr>
          <a:xfrm flipV="1">
            <a:off x="2693880" y="3816000"/>
            <a:ext cx="807120" cy="519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664" name=""/>
          <p:cNvCxnSpPr>
            <a:stCxn id="2657" idx="0"/>
            <a:endCxn id="2656" idx="4"/>
          </p:cNvCxnSpPr>
          <p:nvPr/>
        </p:nvCxnSpPr>
        <p:spPr>
          <a:xfrm flipV="1">
            <a:off x="2593440" y="3068280"/>
            <a:ext cx="1080" cy="1224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665" name=""/>
          <p:cNvCxnSpPr>
            <a:stCxn id="2658" idx="6"/>
            <a:endCxn id="2659" idx="2"/>
          </p:cNvCxnSpPr>
          <p:nvPr/>
        </p:nvCxnSpPr>
        <p:spPr>
          <a:xfrm>
            <a:off x="3744720" y="3715920"/>
            <a:ext cx="86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666" name=""/>
          <p:cNvCxnSpPr>
            <a:stCxn id="2659" idx="5"/>
            <a:endCxn id="2661" idx="2"/>
          </p:cNvCxnSpPr>
          <p:nvPr/>
        </p:nvCxnSpPr>
        <p:spPr>
          <a:xfrm>
            <a:off x="4854240" y="3816360"/>
            <a:ext cx="835560" cy="621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667" name=""/>
          <p:cNvCxnSpPr>
            <a:stCxn id="2659" idx="7"/>
            <a:endCxn id="2660" idx="3"/>
          </p:cNvCxnSpPr>
          <p:nvPr/>
        </p:nvCxnSpPr>
        <p:spPr>
          <a:xfrm flipV="1">
            <a:off x="4854240" y="3025440"/>
            <a:ext cx="878760" cy="589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668" name=""/>
          <p:cNvCxnSpPr>
            <a:stCxn id="2661" idx="0"/>
            <a:endCxn id="2660" idx="4"/>
          </p:cNvCxnSpPr>
          <p:nvPr/>
        </p:nvCxnSpPr>
        <p:spPr>
          <a:xfrm flipV="1">
            <a:off x="5833800" y="3068280"/>
            <a:ext cx="1080" cy="1224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69" name=""/>
          <p:cNvSpPr/>
          <p:nvPr/>
        </p:nvSpPr>
        <p:spPr>
          <a:xfrm>
            <a:off x="3927240" y="3824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0" name=""/>
          <p:cNvSpPr/>
          <p:nvPr/>
        </p:nvSpPr>
        <p:spPr>
          <a:xfrm>
            <a:off x="4935240" y="2924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1" name=""/>
          <p:cNvSpPr/>
          <p:nvPr/>
        </p:nvSpPr>
        <p:spPr>
          <a:xfrm>
            <a:off x="4970160" y="4183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2" name=""/>
          <p:cNvSpPr/>
          <p:nvPr/>
        </p:nvSpPr>
        <p:spPr>
          <a:xfrm>
            <a:off x="5978160" y="34290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"/>
          <p:cNvSpPr/>
          <p:nvPr/>
        </p:nvSpPr>
        <p:spPr>
          <a:xfrm>
            <a:off x="2090520" y="3500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4" name=""/>
          <p:cNvSpPr/>
          <p:nvPr/>
        </p:nvSpPr>
        <p:spPr>
          <a:xfrm>
            <a:off x="3025440" y="29592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5" name=""/>
          <p:cNvSpPr/>
          <p:nvPr/>
        </p:nvSpPr>
        <p:spPr>
          <a:xfrm>
            <a:off x="3025440" y="4040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6" name=""/>
          <p:cNvSpPr/>
          <p:nvPr/>
        </p:nvSpPr>
        <p:spPr>
          <a:xfrm>
            <a:off x="2137680" y="2421000"/>
            <a:ext cx="749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=0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7" name=""/>
          <p:cNvSpPr/>
          <p:nvPr/>
        </p:nvSpPr>
        <p:spPr>
          <a:xfrm>
            <a:off x="2007000" y="4545000"/>
            <a:ext cx="831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8" name=""/>
          <p:cNvSpPr/>
          <p:nvPr/>
        </p:nvSpPr>
        <p:spPr>
          <a:xfrm>
            <a:off x="3446280" y="3141720"/>
            <a:ext cx="812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Bookman Old Style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=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9" name=""/>
          <p:cNvSpPr/>
          <p:nvPr/>
        </p:nvSpPr>
        <p:spPr>
          <a:xfrm>
            <a:off x="4387320" y="3141720"/>
            <a:ext cx="831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Bookman Old Style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=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0" name=""/>
          <p:cNvSpPr/>
          <p:nvPr/>
        </p:nvSpPr>
        <p:spPr>
          <a:xfrm>
            <a:off x="5603040" y="4545000"/>
            <a:ext cx="672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Bookman Old Style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1" name=""/>
          <p:cNvSpPr/>
          <p:nvPr/>
        </p:nvSpPr>
        <p:spPr>
          <a:xfrm>
            <a:off x="5528160" y="2349360"/>
            <a:ext cx="646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Bookman Old Style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2" name=""/>
          <p:cNvSpPr/>
          <p:nvPr/>
        </p:nvSpPr>
        <p:spPr>
          <a:xfrm>
            <a:off x="1193040" y="1700280"/>
            <a:ext cx="2465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it-IT" sz="2000" spc="-1" strike="noStrike" baseline="30000">
                <a:solidFill>
                  <a:srgbClr val="000000"/>
                </a:solidFill>
                <a:latin typeface="Bookman Old Style"/>
              </a:rPr>
              <a:t>ORD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={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a, c, b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}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, v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={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A2EF-B7A6-45A1-88EF-4AA8B3AC2EF2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semp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4" name=""/>
          <p:cNvSpPr/>
          <p:nvPr/>
        </p:nvSpPr>
        <p:spPr>
          <a:xfrm>
            <a:off x="2449440" y="2781360"/>
            <a:ext cx="28728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5" name=""/>
          <p:cNvSpPr/>
          <p:nvPr/>
        </p:nvSpPr>
        <p:spPr>
          <a:xfrm>
            <a:off x="2449440" y="4292640"/>
            <a:ext cx="28728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6" name=""/>
          <p:cNvSpPr/>
          <p:nvPr/>
        </p:nvSpPr>
        <p:spPr>
          <a:xfrm>
            <a:off x="3457440" y="3571920"/>
            <a:ext cx="287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7" name=""/>
          <p:cNvSpPr/>
          <p:nvPr/>
        </p:nvSpPr>
        <p:spPr>
          <a:xfrm>
            <a:off x="4610160" y="3571920"/>
            <a:ext cx="28728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8" name=""/>
          <p:cNvSpPr/>
          <p:nvPr/>
        </p:nvSpPr>
        <p:spPr>
          <a:xfrm>
            <a:off x="5689440" y="2781360"/>
            <a:ext cx="287640" cy="287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9" name=""/>
          <p:cNvSpPr/>
          <p:nvPr/>
        </p:nvSpPr>
        <p:spPr>
          <a:xfrm>
            <a:off x="5689440" y="4292640"/>
            <a:ext cx="287640" cy="287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90" name=""/>
          <p:cNvCxnSpPr>
            <a:stCxn id="2684" idx="5"/>
            <a:endCxn id="2686" idx="1"/>
          </p:cNvCxnSpPr>
          <p:nvPr/>
        </p:nvCxnSpPr>
        <p:spPr>
          <a:xfrm>
            <a:off x="2693880" y="3025800"/>
            <a:ext cx="807120" cy="589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691" name=""/>
          <p:cNvCxnSpPr>
            <a:stCxn id="2685" idx="7"/>
            <a:endCxn id="2686" idx="3"/>
          </p:cNvCxnSpPr>
          <p:nvPr/>
        </p:nvCxnSpPr>
        <p:spPr>
          <a:xfrm flipV="1">
            <a:off x="2693880" y="3816000"/>
            <a:ext cx="807120" cy="519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692" name=""/>
          <p:cNvCxnSpPr>
            <a:stCxn id="2685" idx="0"/>
            <a:endCxn id="2684" idx="4"/>
          </p:cNvCxnSpPr>
          <p:nvPr/>
        </p:nvCxnSpPr>
        <p:spPr>
          <a:xfrm flipV="1">
            <a:off x="2593440" y="3068280"/>
            <a:ext cx="1080" cy="1224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693" name=""/>
          <p:cNvCxnSpPr>
            <a:stCxn id="2686" idx="6"/>
            <a:endCxn id="2687" idx="2"/>
          </p:cNvCxnSpPr>
          <p:nvPr/>
        </p:nvCxnSpPr>
        <p:spPr>
          <a:xfrm>
            <a:off x="3744720" y="3715920"/>
            <a:ext cx="86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694" name=""/>
          <p:cNvCxnSpPr>
            <a:stCxn id="2687" idx="5"/>
            <a:endCxn id="2689" idx="2"/>
          </p:cNvCxnSpPr>
          <p:nvPr/>
        </p:nvCxnSpPr>
        <p:spPr>
          <a:xfrm>
            <a:off x="4854240" y="3816360"/>
            <a:ext cx="835560" cy="621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695" name=""/>
          <p:cNvCxnSpPr>
            <a:stCxn id="2687" idx="7"/>
            <a:endCxn id="2688" idx="3"/>
          </p:cNvCxnSpPr>
          <p:nvPr/>
        </p:nvCxnSpPr>
        <p:spPr>
          <a:xfrm flipV="1">
            <a:off x="4854240" y="3025440"/>
            <a:ext cx="878760" cy="589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696" name=""/>
          <p:cNvCxnSpPr>
            <a:stCxn id="2689" idx="0"/>
            <a:endCxn id="2688" idx="4"/>
          </p:cNvCxnSpPr>
          <p:nvPr/>
        </p:nvCxnSpPr>
        <p:spPr>
          <a:xfrm flipV="1">
            <a:off x="5833800" y="3068280"/>
            <a:ext cx="1080" cy="1224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697" name=""/>
          <p:cNvSpPr/>
          <p:nvPr/>
        </p:nvSpPr>
        <p:spPr>
          <a:xfrm>
            <a:off x="3927240" y="3824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"/>
          <p:cNvSpPr/>
          <p:nvPr/>
        </p:nvSpPr>
        <p:spPr>
          <a:xfrm>
            <a:off x="4935240" y="2924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"/>
          <p:cNvSpPr/>
          <p:nvPr/>
        </p:nvSpPr>
        <p:spPr>
          <a:xfrm>
            <a:off x="4970160" y="4183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0" name=""/>
          <p:cNvSpPr/>
          <p:nvPr/>
        </p:nvSpPr>
        <p:spPr>
          <a:xfrm>
            <a:off x="5978160" y="34290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"/>
          <p:cNvSpPr/>
          <p:nvPr/>
        </p:nvSpPr>
        <p:spPr>
          <a:xfrm>
            <a:off x="2090520" y="3500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2" name=""/>
          <p:cNvSpPr/>
          <p:nvPr/>
        </p:nvSpPr>
        <p:spPr>
          <a:xfrm>
            <a:off x="3025440" y="29592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3" name=""/>
          <p:cNvSpPr/>
          <p:nvPr/>
        </p:nvSpPr>
        <p:spPr>
          <a:xfrm>
            <a:off x="3025440" y="4040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4" name=""/>
          <p:cNvSpPr/>
          <p:nvPr/>
        </p:nvSpPr>
        <p:spPr>
          <a:xfrm>
            <a:off x="2137680" y="2421000"/>
            <a:ext cx="749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=0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"/>
          <p:cNvSpPr/>
          <p:nvPr/>
        </p:nvSpPr>
        <p:spPr>
          <a:xfrm>
            <a:off x="2007000" y="4545000"/>
            <a:ext cx="831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6" name=""/>
          <p:cNvSpPr/>
          <p:nvPr/>
        </p:nvSpPr>
        <p:spPr>
          <a:xfrm>
            <a:off x="3446280" y="3141720"/>
            <a:ext cx="812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Bookman Old Style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=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"/>
          <p:cNvSpPr/>
          <p:nvPr/>
        </p:nvSpPr>
        <p:spPr>
          <a:xfrm>
            <a:off x="4387320" y="3141720"/>
            <a:ext cx="831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Bookman Old Style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=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"/>
          <p:cNvSpPr/>
          <p:nvPr/>
        </p:nvSpPr>
        <p:spPr>
          <a:xfrm>
            <a:off x="5603040" y="4545000"/>
            <a:ext cx="672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Bookman Old Style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=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"/>
          <p:cNvSpPr/>
          <p:nvPr/>
        </p:nvSpPr>
        <p:spPr>
          <a:xfrm>
            <a:off x="5528160" y="2349360"/>
            <a:ext cx="646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Bookman Old Style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=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"/>
          <p:cNvSpPr/>
          <p:nvPr/>
        </p:nvSpPr>
        <p:spPr>
          <a:xfrm>
            <a:off x="1208880" y="1700280"/>
            <a:ext cx="2722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it-IT" sz="2000" spc="-1" strike="noStrike" baseline="30000">
                <a:solidFill>
                  <a:srgbClr val="000000"/>
                </a:solidFill>
                <a:latin typeface="Bookman Old Style"/>
              </a:rPr>
              <a:t>ORD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={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a, c, b, d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}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, v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={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e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96AC-6901-427A-B64B-F7C2693C792F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semp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2" name=""/>
          <p:cNvSpPr/>
          <p:nvPr/>
        </p:nvSpPr>
        <p:spPr>
          <a:xfrm>
            <a:off x="2449440" y="2781360"/>
            <a:ext cx="28728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"/>
          <p:cNvSpPr/>
          <p:nvPr/>
        </p:nvSpPr>
        <p:spPr>
          <a:xfrm>
            <a:off x="2449440" y="4292640"/>
            <a:ext cx="28728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"/>
          <p:cNvSpPr/>
          <p:nvPr/>
        </p:nvSpPr>
        <p:spPr>
          <a:xfrm>
            <a:off x="3457440" y="3571920"/>
            <a:ext cx="287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5" name=""/>
          <p:cNvSpPr/>
          <p:nvPr/>
        </p:nvSpPr>
        <p:spPr>
          <a:xfrm>
            <a:off x="4610160" y="3571920"/>
            <a:ext cx="28728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6" name=""/>
          <p:cNvSpPr/>
          <p:nvPr/>
        </p:nvSpPr>
        <p:spPr>
          <a:xfrm>
            <a:off x="5689440" y="2781360"/>
            <a:ext cx="287640" cy="287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7" name=""/>
          <p:cNvSpPr/>
          <p:nvPr/>
        </p:nvSpPr>
        <p:spPr>
          <a:xfrm>
            <a:off x="5689440" y="4292640"/>
            <a:ext cx="287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18" name=""/>
          <p:cNvCxnSpPr>
            <a:stCxn id="2712" idx="5"/>
            <a:endCxn id="2714" idx="1"/>
          </p:cNvCxnSpPr>
          <p:nvPr/>
        </p:nvCxnSpPr>
        <p:spPr>
          <a:xfrm>
            <a:off x="2693880" y="3025800"/>
            <a:ext cx="807120" cy="589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719" name=""/>
          <p:cNvCxnSpPr>
            <a:stCxn id="2713" idx="7"/>
            <a:endCxn id="2714" idx="3"/>
          </p:cNvCxnSpPr>
          <p:nvPr/>
        </p:nvCxnSpPr>
        <p:spPr>
          <a:xfrm flipV="1">
            <a:off x="2693880" y="3816000"/>
            <a:ext cx="807120" cy="519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720" name=""/>
          <p:cNvCxnSpPr>
            <a:stCxn id="2713" idx="0"/>
            <a:endCxn id="2712" idx="4"/>
          </p:cNvCxnSpPr>
          <p:nvPr/>
        </p:nvCxnSpPr>
        <p:spPr>
          <a:xfrm flipV="1">
            <a:off x="2593440" y="3068280"/>
            <a:ext cx="1080" cy="1224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721" name=""/>
          <p:cNvCxnSpPr>
            <a:stCxn id="2714" idx="6"/>
            <a:endCxn id="2715" idx="2"/>
          </p:cNvCxnSpPr>
          <p:nvPr/>
        </p:nvCxnSpPr>
        <p:spPr>
          <a:xfrm>
            <a:off x="3744720" y="3715920"/>
            <a:ext cx="86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722" name=""/>
          <p:cNvCxnSpPr>
            <a:stCxn id="2715" idx="5"/>
            <a:endCxn id="2717" idx="2"/>
          </p:cNvCxnSpPr>
          <p:nvPr/>
        </p:nvCxnSpPr>
        <p:spPr>
          <a:xfrm>
            <a:off x="4854240" y="3816360"/>
            <a:ext cx="835560" cy="621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723" name=""/>
          <p:cNvCxnSpPr>
            <a:stCxn id="2715" idx="7"/>
            <a:endCxn id="2716" idx="3"/>
          </p:cNvCxnSpPr>
          <p:nvPr/>
        </p:nvCxnSpPr>
        <p:spPr>
          <a:xfrm flipV="1">
            <a:off x="4854240" y="3025440"/>
            <a:ext cx="878760" cy="589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724" name=""/>
          <p:cNvCxnSpPr>
            <a:stCxn id="2717" idx="0"/>
            <a:endCxn id="2716" idx="4"/>
          </p:cNvCxnSpPr>
          <p:nvPr/>
        </p:nvCxnSpPr>
        <p:spPr>
          <a:xfrm flipV="1">
            <a:off x="5833800" y="3068280"/>
            <a:ext cx="1080" cy="1224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25" name=""/>
          <p:cNvSpPr/>
          <p:nvPr/>
        </p:nvSpPr>
        <p:spPr>
          <a:xfrm>
            <a:off x="3962160" y="3716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6" name=""/>
          <p:cNvSpPr/>
          <p:nvPr/>
        </p:nvSpPr>
        <p:spPr>
          <a:xfrm>
            <a:off x="5149800" y="2924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7" name=""/>
          <p:cNvSpPr/>
          <p:nvPr/>
        </p:nvSpPr>
        <p:spPr>
          <a:xfrm>
            <a:off x="5111640" y="4111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8" name=""/>
          <p:cNvSpPr/>
          <p:nvPr/>
        </p:nvSpPr>
        <p:spPr>
          <a:xfrm>
            <a:off x="5797080" y="34290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9" name=""/>
          <p:cNvSpPr/>
          <p:nvPr/>
        </p:nvSpPr>
        <p:spPr>
          <a:xfrm>
            <a:off x="2161800" y="34290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0" name=""/>
          <p:cNvSpPr/>
          <p:nvPr/>
        </p:nvSpPr>
        <p:spPr>
          <a:xfrm>
            <a:off x="3025440" y="29592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1" name=""/>
          <p:cNvSpPr/>
          <p:nvPr/>
        </p:nvSpPr>
        <p:spPr>
          <a:xfrm>
            <a:off x="3025440" y="4040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2" name=""/>
          <p:cNvSpPr/>
          <p:nvPr/>
        </p:nvSpPr>
        <p:spPr>
          <a:xfrm>
            <a:off x="2137680" y="2421000"/>
            <a:ext cx="749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=0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3" name=""/>
          <p:cNvSpPr/>
          <p:nvPr/>
        </p:nvSpPr>
        <p:spPr>
          <a:xfrm>
            <a:off x="2007000" y="4545000"/>
            <a:ext cx="831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4" name=""/>
          <p:cNvSpPr/>
          <p:nvPr/>
        </p:nvSpPr>
        <p:spPr>
          <a:xfrm>
            <a:off x="3446280" y="3141720"/>
            <a:ext cx="812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Bookman Old Style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=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5" name=""/>
          <p:cNvSpPr/>
          <p:nvPr/>
        </p:nvSpPr>
        <p:spPr>
          <a:xfrm>
            <a:off x="4387320" y="3141720"/>
            <a:ext cx="831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Bookman Old Style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=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6" name=""/>
          <p:cNvSpPr/>
          <p:nvPr/>
        </p:nvSpPr>
        <p:spPr>
          <a:xfrm>
            <a:off x="5603040" y="4545000"/>
            <a:ext cx="672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Bookman Old Style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=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7" name=""/>
          <p:cNvSpPr/>
          <p:nvPr/>
        </p:nvSpPr>
        <p:spPr>
          <a:xfrm>
            <a:off x="5533560" y="2349360"/>
            <a:ext cx="793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Bookman Old Style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=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"/>
          <p:cNvSpPr/>
          <p:nvPr/>
        </p:nvSpPr>
        <p:spPr>
          <a:xfrm>
            <a:off x="1227240" y="1700280"/>
            <a:ext cx="2999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it-IT" sz="2000" spc="-1" strike="noStrike" baseline="30000">
                <a:solidFill>
                  <a:srgbClr val="000000"/>
                </a:solidFill>
                <a:latin typeface="Bookman Old Style"/>
              </a:rPr>
              <a:t>ORD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={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a, c, b, d, e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}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, v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={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f 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8320-AE79-46CE-9AE2-B8450DEAA341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semp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0" name=""/>
          <p:cNvSpPr/>
          <p:nvPr/>
        </p:nvSpPr>
        <p:spPr>
          <a:xfrm>
            <a:off x="2449440" y="2781360"/>
            <a:ext cx="28728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"/>
          <p:cNvSpPr/>
          <p:nvPr/>
        </p:nvSpPr>
        <p:spPr>
          <a:xfrm>
            <a:off x="2449440" y="4292640"/>
            <a:ext cx="28728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"/>
          <p:cNvSpPr/>
          <p:nvPr/>
        </p:nvSpPr>
        <p:spPr>
          <a:xfrm>
            <a:off x="3457440" y="3571920"/>
            <a:ext cx="287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"/>
          <p:cNvSpPr/>
          <p:nvPr/>
        </p:nvSpPr>
        <p:spPr>
          <a:xfrm>
            <a:off x="4610160" y="3571920"/>
            <a:ext cx="28728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4" name=""/>
          <p:cNvSpPr/>
          <p:nvPr/>
        </p:nvSpPr>
        <p:spPr>
          <a:xfrm>
            <a:off x="5689440" y="2781360"/>
            <a:ext cx="287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5" name=""/>
          <p:cNvSpPr/>
          <p:nvPr/>
        </p:nvSpPr>
        <p:spPr>
          <a:xfrm>
            <a:off x="5689440" y="4292640"/>
            <a:ext cx="287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46" name=""/>
          <p:cNvCxnSpPr>
            <a:stCxn id="2740" idx="5"/>
            <a:endCxn id="2742" idx="1"/>
          </p:cNvCxnSpPr>
          <p:nvPr/>
        </p:nvCxnSpPr>
        <p:spPr>
          <a:xfrm>
            <a:off x="2693880" y="3025800"/>
            <a:ext cx="807120" cy="589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747" name=""/>
          <p:cNvCxnSpPr>
            <a:stCxn id="2741" idx="7"/>
            <a:endCxn id="2742" idx="3"/>
          </p:cNvCxnSpPr>
          <p:nvPr/>
        </p:nvCxnSpPr>
        <p:spPr>
          <a:xfrm flipV="1">
            <a:off x="2693880" y="3816000"/>
            <a:ext cx="807120" cy="519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748" name=""/>
          <p:cNvCxnSpPr>
            <a:stCxn id="2741" idx="0"/>
            <a:endCxn id="2740" idx="4"/>
          </p:cNvCxnSpPr>
          <p:nvPr/>
        </p:nvCxnSpPr>
        <p:spPr>
          <a:xfrm flipV="1">
            <a:off x="2593440" y="3068280"/>
            <a:ext cx="1080" cy="1224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749" name=""/>
          <p:cNvCxnSpPr>
            <a:stCxn id="2742" idx="6"/>
            <a:endCxn id="2743" idx="2"/>
          </p:cNvCxnSpPr>
          <p:nvPr/>
        </p:nvCxnSpPr>
        <p:spPr>
          <a:xfrm>
            <a:off x="3744720" y="3715920"/>
            <a:ext cx="86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750" name=""/>
          <p:cNvCxnSpPr>
            <a:stCxn id="2743" idx="5"/>
            <a:endCxn id="2745" idx="2"/>
          </p:cNvCxnSpPr>
          <p:nvPr/>
        </p:nvCxnSpPr>
        <p:spPr>
          <a:xfrm>
            <a:off x="4854240" y="3816360"/>
            <a:ext cx="835560" cy="621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751" name=""/>
          <p:cNvCxnSpPr>
            <a:stCxn id="2743" idx="7"/>
            <a:endCxn id="2744" idx="3"/>
          </p:cNvCxnSpPr>
          <p:nvPr/>
        </p:nvCxnSpPr>
        <p:spPr>
          <a:xfrm flipV="1">
            <a:off x="4854240" y="3025440"/>
            <a:ext cx="878760" cy="589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752" name=""/>
          <p:cNvCxnSpPr>
            <a:stCxn id="2745" idx="0"/>
            <a:endCxn id="2744" idx="4"/>
          </p:cNvCxnSpPr>
          <p:nvPr/>
        </p:nvCxnSpPr>
        <p:spPr>
          <a:xfrm flipV="1">
            <a:off x="5833800" y="3068280"/>
            <a:ext cx="1080" cy="1224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753" name=""/>
          <p:cNvSpPr/>
          <p:nvPr/>
        </p:nvSpPr>
        <p:spPr>
          <a:xfrm>
            <a:off x="3962160" y="3716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4" name=""/>
          <p:cNvSpPr/>
          <p:nvPr/>
        </p:nvSpPr>
        <p:spPr>
          <a:xfrm>
            <a:off x="5149800" y="2924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"/>
          <p:cNvSpPr/>
          <p:nvPr/>
        </p:nvSpPr>
        <p:spPr>
          <a:xfrm>
            <a:off x="5111640" y="41115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"/>
          <p:cNvSpPr/>
          <p:nvPr/>
        </p:nvSpPr>
        <p:spPr>
          <a:xfrm>
            <a:off x="5797080" y="34290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7" name=""/>
          <p:cNvSpPr/>
          <p:nvPr/>
        </p:nvSpPr>
        <p:spPr>
          <a:xfrm>
            <a:off x="2161800" y="34290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"/>
          <p:cNvSpPr/>
          <p:nvPr/>
        </p:nvSpPr>
        <p:spPr>
          <a:xfrm>
            <a:off x="3025440" y="29592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"/>
          <p:cNvSpPr/>
          <p:nvPr/>
        </p:nvSpPr>
        <p:spPr>
          <a:xfrm>
            <a:off x="3025440" y="4040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"/>
          <p:cNvSpPr/>
          <p:nvPr/>
        </p:nvSpPr>
        <p:spPr>
          <a:xfrm>
            <a:off x="2137680" y="2421000"/>
            <a:ext cx="749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=0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"/>
          <p:cNvSpPr/>
          <p:nvPr/>
        </p:nvSpPr>
        <p:spPr>
          <a:xfrm>
            <a:off x="2007000" y="4545000"/>
            <a:ext cx="831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"/>
          <p:cNvSpPr/>
          <p:nvPr/>
        </p:nvSpPr>
        <p:spPr>
          <a:xfrm>
            <a:off x="3446280" y="3141720"/>
            <a:ext cx="812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Bookman Old Style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=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"/>
          <p:cNvSpPr/>
          <p:nvPr/>
        </p:nvSpPr>
        <p:spPr>
          <a:xfrm>
            <a:off x="4387320" y="3141720"/>
            <a:ext cx="831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Bookman Old Style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=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4" name=""/>
          <p:cNvSpPr/>
          <p:nvPr/>
        </p:nvSpPr>
        <p:spPr>
          <a:xfrm>
            <a:off x="5603040" y="4545000"/>
            <a:ext cx="672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Bookman Old Style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=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"/>
          <p:cNvSpPr/>
          <p:nvPr/>
        </p:nvSpPr>
        <p:spPr>
          <a:xfrm>
            <a:off x="5533560" y="2349360"/>
            <a:ext cx="793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Bookman Old Style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=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6" name=""/>
          <p:cNvSpPr/>
          <p:nvPr/>
        </p:nvSpPr>
        <p:spPr>
          <a:xfrm>
            <a:off x="1231200" y="1700280"/>
            <a:ext cx="245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it-IT" sz="2000" spc="-1" strike="noStrike" baseline="30000">
                <a:solidFill>
                  <a:srgbClr val="000000"/>
                </a:solidFill>
                <a:latin typeface="Bookman Old Style"/>
              </a:rPr>
              <a:t>ORD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={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a, c, b, d, e, f 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FE06-3BFA-413D-952C-B39E2DF2F2AE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priet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92324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1. L’algoritmo descritto trova un legal ordering in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O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it-IT" sz="2400" spc="-1" strike="noStrike" baseline="30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2. Se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it-IT" sz="2400" spc="-1" strike="noStrike" baseline="30000">
                <a:solidFill>
                  <a:srgbClr val="000000"/>
                </a:solidFill>
                <a:latin typeface="Bookman Old Style"/>
              </a:rPr>
              <a:t>ORD</a:t>
            </a:r>
            <a:r>
              <a:rPr b="0" lang="it-IT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è un legal ordering, allora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)  è il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-1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-taglio minimo di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[da dimostrar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icordiamo ch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Quindi, il seguente algoritmo termina con il taglio minimo di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9" name=""/>
              <p:cNvSpPr txBox="1"/>
              <p:nvPr/>
            </p:nvSpPr>
            <p:spPr>
              <a:xfrm>
                <a:off x="2268360" y="2994120"/>
                <a:ext cx="489600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0" name=""/>
              <p:cNvSpPr txBox="1"/>
              <p:nvPr/>
            </p:nvSpPr>
            <p:spPr>
              <a:xfrm>
                <a:off x="2268360" y="4270320"/>
                <a:ext cx="35276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04F0-42F0-4DB1-A3A4-C38E31C84AD7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Algoritmo Min Cu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8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inizializzazione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M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= +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=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ha più di 2 nodi 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trova un legal ordering 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: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 …,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}</a:t>
            </a:r>
            <a:r>
              <a:rPr b="0" i="1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) &lt;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 M</a:t>
            </a:r>
            <a:r>
              <a:rPr b="0" i="1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M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)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A =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identifica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-1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poni</a:t>
            </a:r>
            <a:r>
              <a:rPr b="0" i="1" lang="it-IT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endwhile;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3" name=""/>
              <p:cNvSpPr txBox="1"/>
              <p:nvPr/>
            </p:nvSpPr>
            <p:spPr>
              <a:xfrm>
                <a:off x="1835280" y="4390920"/>
                <a:ext cx="158436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4564-4C0D-4ED8-B0E9-48CC2CC22854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sempio (continu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5" name=""/>
          <p:cNvSpPr/>
          <p:nvPr/>
        </p:nvSpPr>
        <p:spPr>
          <a:xfrm>
            <a:off x="1071360" y="1695600"/>
            <a:ext cx="428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it-IT" sz="2000" spc="-1" strike="noStrike" baseline="30000">
                <a:solidFill>
                  <a:srgbClr val="000000"/>
                </a:solidFill>
                <a:latin typeface="Bookman Old Style"/>
              </a:rPr>
              <a:t>ORD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={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a, c, b, d, e, f 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}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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f 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)) = 2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M = 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20;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= {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df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ef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6" name=""/>
          <p:cNvGrpSpPr/>
          <p:nvPr/>
        </p:nvGrpSpPr>
        <p:grpSpPr>
          <a:xfrm>
            <a:off x="1771560" y="3068640"/>
            <a:ext cx="4383360" cy="2018160"/>
            <a:chOff x="1771560" y="3068640"/>
            <a:chExt cx="4383360" cy="2018160"/>
          </a:xfrm>
        </p:grpSpPr>
        <p:sp>
          <p:nvSpPr>
            <p:cNvPr id="2777" name=""/>
            <p:cNvSpPr/>
            <p:nvPr/>
          </p:nvSpPr>
          <p:spPr>
            <a:xfrm>
              <a:off x="2162160" y="3141720"/>
              <a:ext cx="287280" cy="2872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2162160" y="4653000"/>
              <a:ext cx="287280" cy="2872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3170160" y="3932280"/>
              <a:ext cx="287280" cy="2872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4322520" y="3932280"/>
              <a:ext cx="287640" cy="2872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5402160" y="3141720"/>
              <a:ext cx="287280" cy="2872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5402160" y="4653000"/>
              <a:ext cx="287280" cy="2872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83" name=""/>
            <p:cNvCxnSpPr>
              <a:stCxn id="2777" idx="5"/>
              <a:endCxn id="2779" idx="1"/>
            </p:cNvCxnSpPr>
            <p:nvPr/>
          </p:nvCxnSpPr>
          <p:spPr>
            <a:xfrm>
              <a:off x="2406600" y="3386160"/>
              <a:ext cx="807120" cy="589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84" name=""/>
            <p:cNvCxnSpPr>
              <a:stCxn id="2778" idx="7"/>
              <a:endCxn id="2779" idx="3"/>
            </p:cNvCxnSpPr>
            <p:nvPr/>
          </p:nvCxnSpPr>
          <p:spPr>
            <a:xfrm flipV="1">
              <a:off x="2406600" y="4176360"/>
              <a:ext cx="807120" cy="519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85" name=""/>
            <p:cNvCxnSpPr>
              <a:stCxn id="2778" idx="0"/>
              <a:endCxn id="2777" idx="4"/>
            </p:cNvCxnSpPr>
            <p:nvPr/>
          </p:nvCxnSpPr>
          <p:spPr>
            <a:xfrm flipV="1">
              <a:off x="2306160" y="3428640"/>
              <a:ext cx="1080" cy="1224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86" name=""/>
            <p:cNvCxnSpPr>
              <a:stCxn id="2779" idx="6"/>
              <a:endCxn id="2780" idx="2"/>
            </p:cNvCxnSpPr>
            <p:nvPr/>
          </p:nvCxnSpPr>
          <p:spPr>
            <a:xfrm>
              <a:off x="3457080" y="4076280"/>
              <a:ext cx="8658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87" name=""/>
            <p:cNvCxnSpPr>
              <a:stCxn id="2780" idx="5"/>
              <a:endCxn id="2782" idx="2"/>
            </p:cNvCxnSpPr>
            <p:nvPr/>
          </p:nvCxnSpPr>
          <p:spPr>
            <a:xfrm>
              <a:off x="4566960" y="4176720"/>
              <a:ext cx="835920" cy="621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88" name=""/>
            <p:cNvCxnSpPr>
              <a:stCxn id="2780" idx="7"/>
              <a:endCxn id="2781" idx="3"/>
            </p:cNvCxnSpPr>
            <p:nvPr/>
          </p:nvCxnSpPr>
          <p:spPr>
            <a:xfrm flipV="1">
              <a:off x="4566600" y="3385800"/>
              <a:ext cx="878760" cy="589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89" name=""/>
            <p:cNvCxnSpPr>
              <a:stCxn id="2782" idx="0"/>
              <a:endCxn id="2781" idx="4"/>
            </p:cNvCxnSpPr>
            <p:nvPr/>
          </p:nvCxnSpPr>
          <p:spPr>
            <a:xfrm flipV="1">
              <a:off x="5546160" y="3428640"/>
              <a:ext cx="1080" cy="1224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790" name=""/>
            <p:cNvSpPr/>
            <p:nvPr/>
          </p:nvSpPr>
          <p:spPr>
            <a:xfrm>
              <a:off x="3639600" y="41846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4647960" y="3284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4682880" y="45432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5690880" y="37893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1802880" y="38606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2738160" y="33192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2738160" y="44002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1771560" y="3139920"/>
              <a:ext cx="32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1838880" y="4653000"/>
              <a:ext cx="32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3281040" y="35719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4148640" y="3571920"/>
              <a:ext cx="32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5677200" y="4687920"/>
              <a:ext cx="30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5670000" y="3068640"/>
              <a:ext cx="26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9AA7-3704-497D-A0DE-4F790FA0BBCA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sempio (continu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4" name=""/>
          <p:cNvSpPr/>
          <p:nvPr/>
        </p:nvSpPr>
        <p:spPr>
          <a:xfrm>
            <a:off x="900000" y="1541520"/>
            <a:ext cx="720108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opo aver identificato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f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ed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ottengo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ef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che ammette i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egal order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it-IT" sz="2000" spc="-1" strike="noStrike" baseline="30000">
                <a:solidFill>
                  <a:srgbClr val="000000"/>
                </a:solidFill>
                <a:latin typeface="Bookman Old Style"/>
              </a:rPr>
              <a:t>ORD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={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g, d, c, a, b 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}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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)) = 44,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indi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on aggiorno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M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d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M = 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20;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= {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df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ef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5" name=""/>
          <p:cNvSpPr/>
          <p:nvPr/>
        </p:nvSpPr>
        <p:spPr>
          <a:xfrm>
            <a:off x="2162160" y="3176640"/>
            <a:ext cx="287280" cy="287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6" name=""/>
          <p:cNvSpPr/>
          <p:nvPr/>
        </p:nvSpPr>
        <p:spPr>
          <a:xfrm>
            <a:off x="2162160" y="4687920"/>
            <a:ext cx="287280" cy="287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"/>
          <p:cNvSpPr/>
          <p:nvPr/>
        </p:nvSpPr>
        <p:spPr>
          <a:xfrm>
            <a:off x="3170160" y="3967200"/>
            <a:ext cx="287280" cy="287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8" name=""/>
          <p:cNvSpPr/>
          <p:nvPr/>
        </p:nvSpPr>
        <p:spPr>
          <a:xfrm>
            <a:off x="4322880" y="3967200"/>
            <a:ext cx="287280" cy="287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9" name=""/>
          <p:cNvSpPr/>
          <p:nvPr/>
        </p:nvSpPr>
        <p:spPr>
          <a:xfrm>
            <a:off x="5508720" y="3967200"/>
            <a:ext cx="287280" cy="287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10" name=""/>
          <p:cNvCxnSpPr>
            <a:stCxn id="2805" idx="5"/>
            <a:endCxn id="2807" idx="1"/>
          </p:cNvCxnSpPr>
          <p:nvPr/>
        </p:nvCxnSpPr>
        <p:spPr>
          <a:xfrm>
            <a:off x="2406600" y="3421080"/>
            <a:ext cx="807120" cy="589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811" name=""/>
          <p:cNvCxnSpPr>
            <a:stCxn id="2806" idx="7"/>
            <a:endCxn id="2807" idx="3"/>
          </p:cNvCxnSpPr>
          <p:nvPr/>
        </p:nvCxnSpPr>
        <p:spPr>
          <a:xfrm flipV="1">
            <a:off x="2406600" y="4211280"/>
            <a:ext cx="807120" cy="519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812" name=""/>
          <p:cNvCxnSpPr>
            <a:stCxn id="2806" idx="0"/>
            <a:endCxn id="2805" idx="4"/>
          </p:cNvCxnSpPr>
          <p:nvPr/>
        </p:nvCxnSpPr>
        <p:spPr>
          <a:xfrm flipV="1">
            <a:off x="2306160" y="3463560"/>
            <a:ext cx="1080" cy="1224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813" name=""/>
          <p:cNvCxnSpPr>
            <a:stCxn id="2807" idx="6"/>
            <a:endCxn id="2808" idx="2"/>
          </p:cNvCxnSpPr>
          <p:nvPr/>
        </p:nvCxnSpPr>
        <p:spPr>
          <a:xfrm>
            <a:off x="3457440" y="4111200"/>
            <a:ext cx="8661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814" name=""/>
          <p:cNvCxnSpPr>
            <a:stCxn id="2808" idx="6"/>
            <a:endCxn id="2809" idx="2"/>
          </p:cNvCxnSpPr>
          <p:nvPr/>
        </p:nvCxnSpPr>
        <p:spPr>
          <a:xfrm>
            <a:off x="4610160" y="4111200"/>
            <a:ext cx="8992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815" name=""/>
          <p:cNvSpPr/>
          <p:nvPr/>
        </p:nvSpPr>
        <p:spPr>
          <a:xfrm>
            <a:off x="3639960" y="42195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"/>
          <p:cNvSpPr/>
          <p:nvPr/>
        </p:nvSpPr>
        <p:spPr>
          <a:xfrm>
            <a:off x="4860720" y="4146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"/>
          <p:cNvSpPr/>
          <p:nvPr/>
        </p:nvSpPr>
        <p:spPr>
          <a:xfrm>
            <a:off x="1802880" y="38955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"/>
          <p:cNvSpPr/>
          <p:nvPr/>
        </p:nvSpPr>
        <p:spPr>
          <a:xfrm>
            <a:off x="2738160" y="33544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"/>
          <p:cNvSpPr/>
          <p:nvPr/>
        </p:nvSpPr>
        <p:spPr>
          <a:xfrm>
            <a:off x="2738160" y="44355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"/>
          <p:cNvSpPr/>
          <p:nvPr/>
        </p:nvSpPr>
        <p:spPr>
          <a:xfrm>
            <a:off x="1771560" y="317484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"/>
          <p:cNvSpPr/>
          <p:nvPr/>
        </p:nvSpPr>
        <p:spPr>
          <a:xfrm>
            <a:off x="1839240" y="468792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"/>
          <p:cNvSpPr/>
          <p:nvPr/>
        </p:nvSpPr>
        <p:spPr>
          <a:xfrm>
            <a:off x="3281400" y="360684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"/>
          <p:cNvSpPr/>
          <p:nvPr/>
        </p:nvSpPr>
        <p:spPr>
          <a:xfrm>
            <a:off x="4149000" y="360684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"/>
          <p:cNvSpPr/>
          <p:nvPr/>
        </p:nvSpPr>
        <p:spPr>
          <a:xfrm>
            <a:off x="5795280" y="360684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842E-F555-4D49-9BCC-034E17456E3A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semp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476360" y="456876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508720" y="4568760"/>
            <a:ext cx="215640" cy="21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556000" y="3705120"/>
            <a:ext cx="21564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211640" y="370512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557440" y="52894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213080" y="52894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9" name=""/>
          <p:cNvCxnSpPr>
            <a:stCxn id="303" idx="7"/>
            <a:endCxn id="305" idx="2"/>
          </p:cNvCxnSpPr>
          <p:nvPr/>
        </p:nvCxnSpPr>
        <p:spPr>
          <a:xfrm flipV="1">
            <a:off x="1660320" y="3812400"/>
            <a:ext cx="896040" cy="788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0" name=""/>
          <p:cNvCxnSpPr>
            <a:stCxn id="303" idx="5"/>
            <a:endCxn id="307" idx="2"/>
          </p:cNvCxnSpPr>
          <p:nvPr/>
        </p:nvCxnSpPr>
        <p:spPr>
          <a:xfrm>
            <a:off x="1660320" y="4753080"/>
            <a:ext cx="897480" cy="64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1" name=""/>
          <p:cNvCxnSpPr>
            <a:stCxn id="305" idx="6"/>
            <a:endCxn id="306" idx="2"/>
          </p:cNvCxnSpPr>
          <p:nvPr/>
        </p:nvCxnSpPr>
        <p:spPr>
          <a:xfrm>
            <a:off x="2771640" y="3812760"/>
            <a:ext cx="144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2" name=""/>
          <p:cNvCxnSpPr>
            <a:stCxn id="306" idx="6"/>
            <a:endCxn id="304" idx="1"/>
          </p:cNvCxnSpPr>
          <p:nvPr/>
        </p:nvCxnSpPr>
        <p:spPr>
          <a:xfrm>
            <a:off x="4427280" y="3812760"/>
            <a:ext cx="1113120" cy="788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3" name=""/>
          <p:cNvCxnSpPr>
            <a:stCxn id="307" idx="6"/>
            <a:endCxn id="308" idx="2"/>
          </p:cNvCxnSpPr>
          <p:nvPr/>
        </p:nvCxnSpPr>
        <p:spPr>
          <a:xfrm>
            <a:off x="2773080" y="5397120"/>
            <a:ext cx="144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4" name=""/>
          <p:cNvCxnSpPr>
            <a:stCxn id="308" idx="6"/>
            <a:endCxn id="304" idx="3"/>
          </p:cNvCxnSpPr>
          <p:nvPr/>
        </p:nvCxnSpPr>
        <p:spPr>
          <a:xfrm flipV="1">
            <a:off x="4428720" y="4752720"/>
            <a:ext cx="1112040" cy="64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"/>
          <p:cNvCxnSpPr>
            <a:stCxn id="305" idx="4"/>
            <a:endCxn id="307" idx="0"/>
          </p:cNvCxnSpPr>
          <p:nvPr/>
        </p:nvCxnSpPr>
        <p:spPr>
          <a:xfrm>
            <a:off x="2664000" y="3920760"/>
            <a:ext cx="2160" cy="136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6" name=""/>
          <p:cNvCxnSpPr>
            <a:stCxn id="308" idx="0"/>
            <a:endCxn id="306" idx="4"/>
          </p:cNvCxnSpPr>
          <p:nvPr/>
        </p:nvCxnSpPr>
        <p:spPr>
          <a:xfrm flipH="1" flipV="1">
            <a:off x="4319280" y="3920400"/>
            <a:ext cx="2160" cy="136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1746720" y="3932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201320" y="470700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706360" y="46404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346840" y="3429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362840" y="3424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35560" y="5432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312080" y="5438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316680" y="342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657800" y="5145120"/>
            <a:ext cx="6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200400" y="5427720"/>
            <a:ext cx="6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832280" y="5068800"/>
            <a:ext cx="6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867920" y="38480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291560" y="4417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718360" y="4324320"/>
            <a:ext cx="102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33cc"/>
                </a:solidFill>
                <a:latin typeface="Bookman Old Style"/>
              </a:rPr>
              <a:t>+</a:t>
            </a:r>
            <a:r>
              <a:rPr b="0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60360" y="1660680"/>
            <a:ext cx="85327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al nodo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s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on è più possibile aggiungere cammini senza violare il vincolo di capacità sugli archi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1)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s,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2)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famiglia di cammini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{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, P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, P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, P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}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con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 k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=4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è una soluzione ammissibile del problema di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“path packing”.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119640" y="3892680"/>
            <a:ext cx="233676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, 1, 4,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, 1, 4,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={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, 1, 2, 3,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={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, 2, 3,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B06A-7F91-49A4-95FF-CCC2976EE65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sempio (continu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6" name=""/>
          <p:cNvSpPr/>
          <p:nvPr/>
        </p:nvSpPr>
        <p:spPr>
          <a:xfrm>
            <a:off x="900000" y="1541520"/>
            <a:ext cx="7201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opo aver identificato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ottengo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ab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che ammette i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egal order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it-IT" sz="2000" spc="-1" strike="noStrike" baseline="30000">
                <a:solidFill>
                  <a:srgbClr val="000000"/>
                </a:solidFill>
                <a:latin typeface="Bookman Old Style"/>
              </a:rPr>
              <a:t>ORD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={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h, c, d, g 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}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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)) = 5.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indi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M = 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5;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= {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dg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} = {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df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de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"/>
          <p:cNvSpPr/>
          <p:nvPr/>
        </p:nvSpPr>
        <p:spPr>
          <a:xfrm>
            <a:off x="1946160" y="3970440"/>
            <a:ext cx="287280" cy="287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"/>
          <p:cNvSpPr/>
          <p:nvPr/>
        </p:nvSpPr>
        <p:spPr>
          <a:xfrm>
            <a:off x="3170160" y="3967200"/>
            <a:ext cx="287280" cy="287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"/>
          <p:cNvSpPr/>
          <p:nvPr/>
        </p:nvSpPr>
        <p:spPr>
          <a:xfrm>
            <a:off x="4322880" y="3967200"/>
            <a:ext cx="287280" cy="287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"/>
          <p:cNvSpPr/>
          <p:nvPr/>
        </p:nvSpPr>
        <p:spPr>
          <a:xfrm>
            <a:off x="5508720" y="3967200"/>
            <a:ext cx="287280" cy="287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31" name=""/>
          <p:cNvCxnSpPr>
            <a:stCxn id="2827" idx="6"/>
            <a:endCxn id="2828" idx="2"/>
          </p:cNvCxnSpPr>
          <p:nvPr/>
        </p:nvCxnSpPr>
        <p:spPr>
          <a:xfrm flipV="1">
            <a:off x="2233440" y="4110840"/>
            <a:ext cx="937440" cy="3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832" name=""/>
          <p:cNvCxnSpPr>
            <a:stCxn id="2828" idx="6"/>
            <a:endCxn id="2829" idx="2"/>
          </p:cNvCxnSpPr>
          <p:nvPr/>
        </p:nvCxnSpPr>
        <p:spPr>
          <a:xfrm>
            <a:off x="3457440" y="4111200"/>
            <a:ext cx="8661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833" name=""/>
          <p:cNvCxnSpPr>
            <a:stCxn id="2829" idx="6"/>
            <a:endCxn id="2830" idx="2"/>
          </p:cNvCxnSpPr>
          <p:nvPr/>
        </p:nvCxnSpPr>
        <p:spPr>
          <a:xfrm>
            <a:off x="4610160" y="4111200"/>
            <a:ext cx="8992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834" name=""/>
          <p:cNvSpPr/>
          <p:nvPr/>
        </p:nvSpPr>
        <p:spPr>
          <a:xfrm>
            <a:off x="3639960" y="421956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"/>
          <p:cNvSpPr/>
          <p:nvPr/>
        </p:nvSpPr>
        <p:spPr>
          <a:xfrm>
            <a:off x="4860720" y="4146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"/>
          <p:cNvSpPr/>
          <p:nvPr/>
        </p:nvSpPr>
        <p:spPr>
          <a:xfrm>
            <a:off x="1572840" y="357336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"/>
          <p:cNvSpPr/>
          <p:nvPr/>
        </p:nvSpPr>
        <p:spPr>
          <a:xfrm>
            <a:off x="3281400" y="360684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8" name=""/>
          <p:cNvSpPr/>
          <p:nvPr/>
        </p:nvSpPr>
        <p:spPr>
          <a:xfrm>
            <a:off x="4149000" y="360684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9" name=""/>
          <p:cNvSpPr/>
          <p:nvPr/>
        </p:nvSpPr>
        <p:spPr>
          <a:xfrm>
            <a:off x="5795280" y="360684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0" name=""/>
          <p:cNvSpPr/>
          <p:nvPr/>
        </p:nvSpPr>
        <p:spPr>
          <a:xfrm>
            <a:off x="2485800" y="42210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1" name=""/>
          <p:cNvSpPr/>
          <p:nvPr/>
        </p:nvSpPr>
        <p:spPr>
          <a:xfrm>
            <a:off x="900000" y="4710240"/>
            <a:ext cx="720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 questo punto, identifico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e ripeto il passo centrale dell’algoritmo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Osserv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’algoritmo Min-cut ha complessità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O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it-IT" sz="2000" spc="-1" strike="noStrike" baseline="30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3C08-022C-4F79-8415-78173BA96E7B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orem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Teor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it-IT" sz="2400" spc="-1" strike="noStrike" baseline="30000">
                <a:solidFill>
                  <a:srgbClr val="000000"/>
                </a:solidFill>
                <a:latin typeface="Bookman Old Style"/>
              </a:rPr>
              <a:t>ORD</a:t>
            </a:r>
            <a:r>
              <a:rPr b="0" lang="it-IT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è un legal ordering, allora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)  è il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-1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-taglio minimo di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em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no nodi di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llora          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min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),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Dimostrazione Lem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sideriamo il minimo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j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-taglio </a:t>
            </a:r>
            <a:r>
              <a:rPr b="0" i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e supponiamo che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. Se anche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h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allora </a:t>
            </a:r>
            <a:r>
              <a:rPr b="0" i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è anche un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j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h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-taglio e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≥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. Altrimenti, </a:t>
            </a:r>
            <a:r>
              <a:rPr b="0" i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è un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h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-taglio e u(</a:t>
            </a:r>
            <a:r>
              <a:rPr b="0" i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C33F-2A27-48EB-90EB-C297A272117D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Dimostrazione teorem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5" name="PlaceHolder 2"/>
          <p:cNvSpPr>
            <a:spLocks noGrp="1"/>
          </p:cNvSpPr>
          <p:nvPr>
            <p:ph/>
          </p:nvPr>
        </p:nvSpPr>
        <p:spPr>
          <a:xfrm>
            <a:off x="609480" y="148392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)  è un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-1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-taglio. Dobbiamo dimostrare che è minimo (ovvero che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≤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mostrazione per induzione: se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= 2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il teorema è ver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upponiamo che esista lo spigolo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e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=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-1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n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G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 sia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 G’ =G\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legal ordering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 v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 …,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di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è anche un legal ordering di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G’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. Quind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)) =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’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))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+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e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, per l’ipotesi induttiv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G’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) +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Bookman Old Style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4ABA-ADAA-4094-BD27-87540416D2B5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Dimostrazione teorem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7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vece, se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-1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n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on sono adiacenti in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G,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sidero il nodo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-2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 dimostro ch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))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≤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-2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))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≤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-2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n-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oiché dal lemma precedente si ha c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) ≥ min {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-2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),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-2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n-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)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≥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)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 i punti 1 e 2 sono veri il teorema è dimostra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54EC-06A3-430F-9521-D0F75ECF1DAE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Dimostrazione teorem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9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79250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0000"/>
                </a:solidFill>
                <a:latin typeface="Arial"/>
              </a:rPr>
              <a:t>Caso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Consideriamo </a:t>
            </a:r>
            <a:r>
              <a:rPr b="0" i="1" lang="it-IT" sz="22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it-IT" sz="2200" spc="-1" strike="noStrike">
                <a:solidFill>
                  <a:srgbClr val="000000"/>
                </a:solidFill>
                <a:latin typeface="Bookman Old Style"/>
              </a:rPr>
              <a:t>’ = </a:t>
            </a:r>
            <a:r>
              <a:rPr b="0" i="1" lang="it-IT" sz="22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it-IT" sz="2200" spc="-1" strike="noStrike">
                <a:solidFill>
                  <a:srgbClr val="000000"/>
                </a:solidFill>
                <a:latin typeface="Bookman Old Style"/>
              </a:rPr>
              <a:t>\</a:t>
            </a:r>
            <a:r>
              <a:rPr b="0" i="1" lang="it-IT" sz="22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it-IT" sz="2200" spc="-1" strike="noStrike" baseline="-25000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Bookman Old Style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La sequenza </a:t>
            </a:r>
            <a:r>
              <a:rPr b="0" i="1" lang="it-IT" sz="22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lang="it-IT" sz="22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2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it-IT" sz="2200" spc="-1" strike="noStrike">
                <a:solidFill>
                  <a:srgbClr val="000000"/>
                </a:solidFill>
                <a:latin typeface="Bookman Old Style"/>
              </a:rPr>
              <a:t>, …, </a:t>
            </a:r>
            <a:r>
              <a:rPr b="0" i="1" lang="it-IT" sz="22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it-IT" sz="2200" spc="-1" strike="noStrike" baseline="-25000">
                <a:solidFill>
                  <a:srgbClr val="000000"/>
                </a:solidFill>
                <a:latin typeface="Bookman Old Style"/>
              </a:rPr>
              <a:t>n-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i="1" lang="it-IT" sz="22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it-IT" sz="2200" spc="-1" strike="noStrike" baseline="-25000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22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it-IT" sz="2200" spc="-1" strike="noStrike" baseline="-25000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è un legal ordering di </a:t>
            </a:r>
            <a:r>
              <a:rPr b="0" i="1" lang="it-IT" sz="2200" spc="-1" strike="noStrike">
                <a:solidFill>
                  <a:srgbClr val="000000"/>
                </a:solidFill>
                <a:latin typeface="Bookman Old Style"/>
              </a:rPr>
              <a:t>G’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Ora</a:t>
            </a:r>
            <a:r>
              <a:rPr b="0" i="1" lang="it-IT" sz="2200" spc="-1" strike="noStrike">
                <a:solidFill>
                  <a:srgbClr val="000000"/>
                </a:solidFill>
                <a:latin typeface="Bookman Old Style"/>
              </a:rPr>
              <a:t> u</a:t>
            </a:r>
            <a:r>
              <a:rPr b="0" lang="it-IT" sz="22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it-IT" sz="22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it-IT" sz="2200" spc="-1" strike="noStrike" baseline="-25000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)) = </a:t>
            </a:r>
            <a:r>
              <a:rPr b="0" i="1" lang="it-IT" sz="22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lang="it-IT" sz="22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it-IT" sz="2200" spc="-1" strike="noStrike">
                <a:solidFill>
                  <a:srgbClr val="000000"/>
                </a:solidFill>
                <a:latin typeface="Bookman Old Style"/>
              </a:rPr>
              <a:t>’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it-IT" sz="22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it-IT" sz="2200" spc="-1" strike="noStrike" baseline="-25000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)) e per ipotesi induttiv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lang="it-IT" sz="22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it-IT" sz="2200" spc="-1" strike="noStrike">
                <a:solidFill>
                  <a:srgbClr val="000000"/>
                </a:solidFill>
                <a:latin typeface="Bookman Old Style"/>
              </a:rPr>
              <a:t>’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it-IT" sz="22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it-IT" sz="2200" spc="-1" strike="noStrike" baseline="-25000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)) </a:t>
            </a:r>
            <a:r>
              <a:rPr b="0" lang="it-IT" sz="2200" spc="-1" strike="noStrike">
                <a:solidFill>
                  <a:srgbClr val="000000"/>
                </a:solidFill>
                <a:latin typeface="Bookman Old Style"/>
              </a:rPr>
              <a:t>= 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G’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2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it-IT" sz="2200" spc="-1" strike="noStrike" baseline="-25000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Bookman Old Style"/>
              </a:rPr>
              <a:t>-2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2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it-IT" sz="2200" spc="-1" strike="noStrike" baseline="-25000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) ≤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2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it-IT" sz="2200" spc="-1" strike="noStrike" baseline="-25000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Bookman Old Style"/>
              </a:rPr>
              <a:t>-2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2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it-IT" sz="2200" spc="-1" strike="noStrike" baseline="-25000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)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vero </a:t>
            </a:r>
            <a:r>
              <a:rPr b="0" i="1" lang="it-IT" sz="22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lang="it-IT" sz="22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it-IT" sz="22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it-IT" sz="2200" spc="-1" strike="noStrike" baseline="-25000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)) 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≤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2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it-IT" sz="2200" spc="-1" strike="noStrike" baseline="-25000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Bookman Old Style"/>
              </a:rPr>
              <a:t>-2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2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it-IT" sz="2200" spc="-1" strike="noStrike" baseline="-25000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0000"/>
                </a:solidFill>
                <a:latin typeface="Arial"/>
              </a:rPr>
              <a:t>Caso 2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Consideriamo </a:t>
            </a:r>
            <a:r>
              <a:rPr b="0" i="1" lang="it-IT" sz="22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it-IT" sz="2200" spc="-1" strike="noStrike">
                <a:solidFill>
                  <a:srgbClr val="000000"/>
                </a:solidFill>
                <a:latin typeface="Bookman Old Style"/>
              </a:rPr>
              <a:t>’ = </a:t>
            </a:r>
            <a:r>
              <a:rPr b="0" i="1" lang="it-IT" sz="22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it-IT" sz="2200" spc="-1" strike="noStrike">
                <a:solidFill>
                  <a:srgbClr val="000000"/>
                </a:solidFill>
                <a:latin typeface="Bookman Old Style"/>
              </a:rPr>
              <a:t>\</a:t>
            </a:r>
            <a:r>
              <a:rPr b="0" i="1" lang="it-IT" sz="22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it-IT" sz="2200" spc="-1" strike="noStrike" baseline="-25000">
                <a:solidFill>
                  <a:srgbClr val="000000"/>
                </a:solidFill>
                <a:latin typeface="Bookman Old Style"/>
              </a:rPr>
              <a:t>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La sequenza </a:t>
            </a:r>
            <a:r>
              <a:rPr b="0" i="1" lang="it-IT" sz="22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lang="it-IT" sz="22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2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it-IT" sz="2200" spc="-1" strike="noStrike">
                <a:solidFill>
                  <a:srgbClr val="000000"/>
                </a:solidFill>
                <a:latin typeface="Bookman Old Style"/>
              </a:rPr>
              <a:t>, …, </a:t>
            </a:r>
            <a:r>
              <a:rPr b="0" i="1" lang="it-IT" sz="22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it-IT" sz="2200" spc="-1" strike="noStrike" baseline="-25000">
                <a:solidFill>
                  <a:srgbClr val="000000"/>
                </a:solidFill>
                <a:latin typeface="Bookman Old Style"/>
              </a:rPr>
              <a:t>n-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Bookman Old Style"/>
              </a:rPr>
              <a:t>1 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è un legal ordering di </a:t>
            </a:r>
            <a:r>
              <a:rPr b="0" i="1" lang="it-IT" sz="2200" spc="-1" strike="noStrike">
                <a:solidFill>
                  <a:srgbClr val="000000"/>
                </a:solidFill>
                <a:latin typeface="Bookman Old Style"/>
              </a:rPr>
              <a:t>G’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Per definizione di legal ordering </a:t>
            </a:r>
            <a:r>
              <a:rPr b="0" i="1" lang="it-IT" sz="22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lang="it-IT" sz="22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it-IT" sz="22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it-IT" sz="2200" spc="-1" strike="noStrike" baseline="-25000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)) 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22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lang="it-IT" sz="22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it-IT" sz="22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it-IT" sz="2200" spc="-1" strike="noStrike" baseline="-25000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Bookman Old Style"/>
              </a:rPr>
              <a:t>-1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)), m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lang="it-IT" sz="22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it-IT" sz="22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it-IT" sz="2200" spc="-1" strike="noStrike" baseline="-25000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Bookman Old Style"/>
              </a:rPr>
              <a:t>-1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))= </a:t>
            </a:r>
            <a:r>
              <a:rPr b="0" i="1" lang="it-IT" sz="22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lang="it-IT" sz="22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it-IT" sz="2200" spc="-1" strike="noStrike">
                <a:solidFill>
                  <a:srgbClr val="000000"/>
                </a:solidFill>
                <a:latin typeface="Bookman Old Style"/>
              </a:rPr>
              <a:t>’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it-IT" sz="22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it-IT" sz="2200" spc="-1" strike="noStrike" baseline="-25000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Bookman Old Style"/>
              </a:rPr>
              <a:t>-1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))  e per ipotesi induttiv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lang="it-IT" sz="22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it-IT" sz="2200" spc="-1" strike="noStrike">
                <a:solidFill>
                  <a:srgbClr val="000000"/>
                </a:solidFill>
                <a:latin typeface="Bookman Old Style"/>
              </a:rPr>
              <a:t>’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it-IT" sz="22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it-IT" sz="2200" spc="-1" strike="noStrike" baseline="-25000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Bookman Old Style"/>
              </a:rPr>
              <a:t>-1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))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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G’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2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it-IT" sz="2200" spc="-1" strike="noStrike" baseline="-25000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Bookman Old Style"/>
              </a:rPr>
              <a:t>-2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2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it-IT" sz="2200" spc="-1" strike="noStrike" baseline="-25000">
                <a:solidFill>
                  <a:srgbClr val="000000"/>
                </a:solidFill>
                <a:latin typeface="Bookman Old Style"/>
              </a:rPr>
              <a:t>n-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) ≤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2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it-IT" sz="2200" spc="-1" strike="noStrike" baseline="-25000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Bookman Old Style"/>
              </a:rPr>
              <a:t>-2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2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it-IT" sz="2200" spc="-1" strike="noStrike" baseline="-25000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Bookman Old Style"/>
              </a:rPr>
              <a:t>-1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vero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22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lang="it-IT" sz="22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it-IT" sz="22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it-IT" sz="2200" spc="-1" strike="noStrike" baseline="-25000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)) 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≤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2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it-IT" sz="2200" spc="-1" strike="noStrike" baseline="-25000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Bookman Old Style"/>
              </a:rPr>
              <a:t>-2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2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it-IT" sz="2200" spc="-1" strike="noStrike" baseline="-25000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it-IT" sz="2200" spc="-1" strike="noStrike" baseline="-25000">
                <a:solidFill>
                  <a:srgbClr val="000000"/>
                </a:solidFill>
                <a:latin typeface="Bookman Old Style"/>
              </a:rPr>
              <a:t>-1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).            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A7D7-0530-4106-9401-DF04FCA192C5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n algoritmo probabilistic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07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ha più di 2 nodi 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scegli un arco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ij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 di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 G 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con probabilità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ij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/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}</a:t>
            </a:r>
            <a:r>
              <a:rPr b="0" i="1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risultato dell’algoritmo è l’unico taglio di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2" name=""/>
              <p:cNvSpPr txBox="1"/>
              <p:nvPr/>
            </p:nvSpPr>
            <p:spPr>
              <a:xfrm>
                <a:off x="971640" y="2852640"/>
                <a:ext cx="115236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1B0D-C35D-4436-B58E-D5C85A485677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orema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9488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a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il taglio minimo di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. L’algoritmo di “random contraction” restituisce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con probabilità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2/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n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Dimostr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 nessun arco di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viene scelto durante l’esecuzione,  allora l’algoritmo restituisce esattamente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upponiamo di aver eseguito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passi dell’algoritmo, e di aver contratto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archi,  nessuno dei quali appartiene ad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 Sia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’=(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’,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E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’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il grafo corrente. Ovviamente, |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’| =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n-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 Essendo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il minimo taglio di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esso è anche il taglio minimo di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’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valore del taglio minimo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è al più pari alla media della capacità dei tagli del tipo </a:t>
            </a:r>
            <a:r>
              <a:rPr b="0" i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’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, ovver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5" name=""/>
              <p:cNvSpPr txBox="1"/>
              <p:nvPr/>
            </p:nvSpPr>
            <p:spPr>
              <a:xfrm>
                <a:off x="1619280" y="5124600"/>
                <a:ext cx="561492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≤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v</m:t>
                        </m:r>
                        <m:r>
                          <m:t xml:space="preserve">∈</m:t>
                        </m:r>
                        <m:r>
                          <m:t xml:space="preserve">V</m:t>
                        </m:r>
                        <m:r>
                          <m:t xml:space="preserve">'</m:t>
                        </m:r>
                      </m:sub>
                      <m:sup/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</m:den>
                        </m:f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t xml:space="preserve">'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</m:den>
                        </m:f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7D68-15A7-4DBF-BE8E-0329A2A7BF38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mostrazio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7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75610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tanto, la probabilità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e un arco di A venga scelto al passo i+1 è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8" name=""/>
              <p:cNvSpPr txBox="1"/>
              <p:nvPr/>
            </p:nvSpPr>
            <p:spPr>
              <a:xfrm>
                <a:off x="2195640" y="2552760"/>
                <a:ext cx="410508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≤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59" name=""/>
          <p:cNvSpPr/>
          <p:nvPr/>
        </p:nvSpPr>
        <p:spPr>
          <a:xfrm>
            <a:off x="611280" y="3718080"/>
            <a:ext cx="7561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probabilità dell’evento complementare (ovvero, c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ESS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co di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enga scelto al passo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va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0" name=""/>
              <p:cNvSpPr txBox="1"/>
              <p:nvPr/>
            </p:nvSpPr>
            <p:spPr>
              <a:xfrm>
                <a:off x="2556000" y="5013360"/>
                <a:ext cx="309564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3FC8-0318-4E55-A20B-DF60222C5775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mostrazio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92324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tanto, la probabilità che durante l’esecuzione dell’algoritmo non venga scelto nessun arco di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a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3" name=""/>
              <p:cNvSpPr txBox="1"/>
              <p:nvPr/>
            </p:nvSpPr>
            <p:spPr>
              <a:xfrm>
                <a:off x="1728720" y="3182760"/>
                <a:ext cx="550728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⋯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AD6E-2A57-481F-A8B5-8BB42CC13C4F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rollar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4916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a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un taglio minimo di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k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un intero positivo. La probabilità che l’algoritmo di “random contraction”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NON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restituisca A in una di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kn</a:t>
            </a:r>
            <a:r>
              <a:rPr b="0" lang="it-IT" sz="2400" spc="-1" strike="noStrike" baseline="30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it-IT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secuzioni è al più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e </a:t>
            </a:r>
            <a:r>
              <a:rPr b="0" lang="it-IT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i="1" lang="it-IT" sz="2400" spc="-1" strike="noStrike" baseline="30000">
                <a:solidFill>
                  <a:srgbClr val="000000"/>
                </a:solidFill>
                <a:latin typeface="Bookman Old Style"/>
              </a:rPr>
              <a:t>k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Dimostr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6" name=""/>
              <p:cNvSpPr txBox="1"/>
              <p:nvPr/>
            </p:nvSpPr>
            <p:spPr>
              <a:xfrm>
                <a:off x="971640" y="3860640"/>
                <a:ext cx="669600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e>
                      <m: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r>
                      <m:t xml:space="preserve">≤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2</m:t>
                                    </m:r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</m:sup>
                            </m:sSup>
                          </m:e>
                        </m:d>
                      </m:e>
                      <m: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67" name=""/>
          <p:cNvSpPr/>
          <p:nvPr/>
        </p:nvSpPr>
        <p:spPr>
          <a:xfrm>
            <a:off x="3492360" y="3789360"/>
            <a:ext cx="1366920" cy="172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68" name=""/>
          <p:cNvCxnSpPr>
            <a:stCxn id="2867" idx="4"/>
          </p:cNvCxnSpPr>
          <p:nvPr/>
        </p:nvCxnSpPr>
        <p:spPr>
          <a:xfrm rot="5400000">
            <a:off x="3480840" y="5330880"/>
            <a:ext cx="491040" cy="900720"/>
          </a:xfrm>
          <a:prstGeom prst="curved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2869" name=""/>
              <p:cNvSpPr txBox="1"/>
              <p:nvPr/>
            </p:nvSpPr>
            <p:spPr>
              <a:xfrm>
                <a:off x="1866960" y="5661000"/>
                <a:ext cx="148104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≤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E472-1F66-4D47-B988-02F5E89E4272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sservazion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33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È possibile certificare l’ottimalità della soluzione che abbiamo trovato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33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siste una formulazione di PLI per il problema di path pack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33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sistono algoritmi a complessità polinomiale per il problema di path packing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7DB3-251E-4AF4-9E93-C5349471D3B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sservazione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generale, se scelgo cammini in modo greedy po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 trovare la soluzione ottima. Difatti, 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 seguente gra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tiene due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cammin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595520" y="4432320"/>
            <a:ext cx="215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627520" y="4432320"/>
            <a:ext cx="216000" cy="21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674800" y="35686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330800" y="3568680"/>
            <a:ext cx="21564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676600" y="515304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332240" y="515304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3" name=""/>
          <p:cNvCxnSpPr>
            <a:stCxn id="337" idx="7"/>
            <a:endCxn id="339" idx="2"/>
          </p:cNvCxnSpPr>
          <p:nvPr/>
        </p:nvCxnSpPr>
        <p:spPr>
          <a:xfrm flipV="1">
            <a:off x="1779120" y="3675960"/>
            <a:ext cx="896040" cy="78804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344" name=""/>
          <p:cNvCxnSpPr>
            <a:stCxn id="337" idx="5"/>
            <a:endCxn id="341" idx="2"/>
          </p:cNvCxnSpPr>
          <p:nvPr/>
        </p:nvCxnSpPr>
        <p:spPr>
          <a:xfrm>
            <a:off x="1779480" y="4615920"/>
            <a:ext cx="897840" cy="6454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45" name=""/>
          <p:cNvCxnSpPr>
            <a:stCxn id="339" idx="6"/>
            <a:endCxn id="340" idx="2"/>
          </p:cNvCxnSpPr>
          <p:nvPr/>
        </p:nvCxnSpPr>
        <p:spPr>
          <a:xfrm>
            <a:off x="2890800" y="3676320"/>
            <a:ext cx="1440360" cy="108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346" name=""/>
          <p:cNvCxnSpPr>
            <a:stCxn id="340" idx="6"/>
            <a:endCxn id="338" idx="1"/>
          </p:cNvCxnSpPr>
          <p:nvPr/>
        </p:nvCxnSpPr>
        <p:spPr>
          <a:xfrm>
            <a:off x="4546440" y="3676320"/>
            <a:ext cx="1113840" cy="78804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347" name=""/>
          <p:cNvCxnSpPr>
            <a:stCxn id="341" idx="6"/>
            <a:endCxn id="342" idx="2"/>
          </p:cNvCxnSpPr>
          <p:nvPr/>
        </p:nvCxnSpPr>
        <p:spPr>
          <a:xfrm>
            <a:off x="2892240" y="5260680"/>
            <a:ext cx="144036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48" name=""/>
          <p:cNvCxnSpPr>
            <a:stCxn id="342" idx="6"/>
            <a:endCxn id="338" idx="3"/>
          </p:cNvCxnSpPr>
          <p:nvPr/>
        </p:nvCxnSpPr>
        <p:spPr>
          <a:xfrm flipV="1">
            <a:off x="4547880" y="4615560"/>
            <a:ext cx="1112040" cy="6454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39" idx="4"/>
            <a:endCxn id="341" idx="0"/>
          </p:cNvCxnSpPr>
          <p:nvPr/>
        </p:nvCxnSpPr>
        <p:spPr>
          <a:xfrm>
            <a:off x="2782440" y="3784320"/>
            <a:ext cx="2520" cy="136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0" name=""/>
          <p:cNvCxnSpPr>
            <a:stCxn id="342" idx="0"/>
            <a:endCxn id="340" idx="4"/>
          </p:cNvCxnSpPr>
          <p:nvPr/>
        </p:nvCxnSpPr>
        <p:spPr>
          <a:xfrm flipH="1" flipV="1">
            <a:off x="4438440" y="3783960"/>
            <a:ext cx="2160" cy="136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1" name=""/>
          <p:cNvSpPr/>
          <p:nvPr/>
        </p:nvSpPr>
        <p:spPr>
          <a:xfrm>
            <a:off x="1579320" y="3795840"/>
            <a:ext cx="62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320480" y="457056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825160" y="45036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466000" y="3292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482000" y="3287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754720" y="52959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431240" y="5302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410720" y="4281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813400" y="41418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650960" y="4941720"/>
            <a:ext cx="62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263760" y="5308560"/>
            <a:ext cx="62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035320" y="4941720"/>
            <a:ext cx="62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335400" y="3219480"/>
            <a:ext cx="62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064120" y="3645000"/>
            <a:ext cx="62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F2E4-5B83-4EC1-866A-A8B273A8070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Osservazione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a, se scelgo come primo cammino il cammi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= {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 1, 2, 3, 4,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}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non riesco a trovare ulterior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ammini da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595520" y="4432320"/>
            <a:ext cx="215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627520" y="4432320"/>
            <a:ext cx="216000" cy="21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674800" y="35686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330800" y="3568680"/>
            <a:ext cx="21564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676600" y="515304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332240" y="515304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3" name=""/>
          <p:cNvCxnSpPr>
            <a:stCxn id="367" idx="7"/>
            <a:endCxn id="369" idx="2"/>
          </p:cNvCxnSpPr>
          <p:nvPr/>
        </p:nvCxnSpPr>
        <p:spPr>
          <a:xfrm flipV="1">
            <a:off x="1779120" y="3675960"/>
            <a:ext cx="896040" cy="788040"/>
          </a:xfrm>
          <a:prstGeom prst="straightConnector1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</p:cxnSp>
      <p:cxnSp>
        <p:nvCxnSpPr>
          <p:cNvPr id="374" name=""/>
          <p:cNvCxnSpPr>
            <a:stCxn id="367" idx="5"/>
            <a:endCxn id="371" idx="2"/>
          </p:cNvCxnSpPr>
          <p:nvPr/>
        </p:nvCxnSpPr>
        <p:spPr>
          <a:xfrm>
            <a:off x="1779480" y="4615920"/>
            <a:ext cx="897840" cy="6454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5" name=""/>
          <p:cNvCxnSpPr>
            <a:stCxn id="369" idx="6"/>
            <a:endCxn id="370" idx="2"/>
          </p:cNvCxnSpPr>
          <p:nvPr/>
        </p:nvCxnSpPr>
        <p:spPr>
          <a:xfrm>
            <a:off x="2890800" y="3676320"/>
            <a:ext cx="144036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6" name=""/>
          <p:cNvCxnSpPr>
            <a:stCxn id="370" idx="6"/>
            <a:endCxn id="368" idx="1"/>
          </p:cNvCxnSpPr>
          <p:nvPr/>
        </p:nvCxnSpPr>
        <p:spPr>
          <a:xfrm>
            <a:off x="4546440" y="3676320"/>
            <a:ext cx="1113840" cy="788040"/>
          </a:xfrm>
          <a:prstGeom prst="straightConnector1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</p:cxnSp>
      <p:cxnSp>
        <p:nvCxnSpPr>
          <p:cNvPr id="377" name=""/>
          <p:cNvCxnSpPr>
            <a:stCxn id="371" idx="6"/>
            <a:endCxn id="372" idx="2"/>
          </p:cNvCxnSpPr>
          <p:nvPr/>
        </p:nvCxnSpPr>
        <p:spPr>
          <a:xfrm>
            <a:off x="2892240" y="5260680"/>
            <a:ext cx="1440360" cy="1080"/>
          </a:xfrm>
          <a:prstGeom prst="straightConnector1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</p:cxnSp>
      <p:cxnSp>
        <p:nvCxnSpPr>
          <p:cNvPr id="378" name=""/>
          <p:cNvCxnSpPr>
            <a:stCxn id="372" idx="6"/>
            <a:endCxn id="368" idx="3"/>
          </p:cNvCxnSpPr>
          <p:nvPr/>
        </p:nvCxnSpPr>
        <p:spPr>
          <a:xfrm flipV="1">
            <a:off x="4547880" y="4615560"/>
            <a:ext cx="1112040" cy="6454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9" name=""/>
          <p:cNvCxnSpPr>
            <a:stCxn id="369" idx="4"/>
            <a:endCxn id="371" idx="0"/>
          </p:cNvCxnSpPr>
          <p:nvPr/>
        </p:nvCxnSpPr>
        <p:spPr>
          <a:xfrm>
            <a:off x="2782440" y="3784320"/>
            <a:ext cx="2520" cy="1369080"/>
          </a:xfrm>
          <a:prstGeom prst="straightConnector1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</p:cxnSp>
      <p:cxnSp>
        <p:nvCxnSpPr>
          <p:cNvPr id="380" name=""/>
          <p:cNvCxnSpPr>
            <a:stCxn id="372" idx="0"/>
            <a:endCxn id="370" idx="4"/>
          </p:cNvCxnSpPr>
          <p:nvPr/>
        </p:nvCxnSpPr>
        <p:spPr>
          <a:xfrm flipH="1" flipV="1">
            <a:off x="4438440" y="3783960"/>
            <a:ext cx="2160" cy="1369080"/>
          </a:xfrm>
          <a:prstGeom prst="straightConnector1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</p:cxnSp>
      <p:sp>
        <p:nvSpPr>
          <p:cNvPr id="381" name=""/>
          <p:cNvSpPr/>
          <p:nvPr/>
        </p:nvSpPr>
        <p:spPr>
          <a:xfrm>
            <a:off x="1320480" y="457056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825160" y="45036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466000" y="3292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482000" y="3287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754720" y="52959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431240" y="5302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435840" y="3284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810800" y="4869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974120" y="49370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608120" y="3795840"/>
            <a:ext cx="62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759040" y="4156200"/>
            <a:ext cx="62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308400" y="5300640"/>
            <a:ext cx="62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416480" y="4227480"/>
            <a:ext cx="62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064120" y="3795840"/>
            <a:ext cx="62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5A59-C527-444F-9500-6177B21657E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sservazione 2: formulazio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ssociamo ad ogni arco </a:t>
            </a:r>
            <a:r>
              <a:rPr b="0" lang="it-IT" sz="28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j</a:t>
            </a:r>
            <a:r>
              <a:rPr b="0" lang="it-IT" sz="28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una variabile </a:t>
            </a:r>
            <a:r>
              <a:rPr b="0" lang="it-IT" sz="2800" spc="-1" strike="noStrike">
                <a:solidFill>
                  <a:srgbClr val="0033cc"/>
                </a:solidFill>
                <a:latin typeface="Arial"/>
              </a:rPr>
              <a:t>INTERA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i="1" lang="it-IT" sz="2800" spc="-1" strike="noStrike" baseline="-25000">
                <a:solidFill>
                  <a:srgbClr val="000000"/>
                </a:solidFill>
                <a:latin typeface="Bookman Old Style"/>
              </a:rPr>
              <a:t>ij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con il seguente significa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i="1" lang="it-IT" sz="2800" spc="-1" strike="noStrike" baseline="-25000">
                <a:solidFill>
                  <a:srgbClr val="000000"/>
                </a:solidFill>
                <a:latin typeface="Bookman Old Style"/>
              </a:rPr>
              <a:t>ij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= Numero di volte che l’arco </a:t>
            </a:r>
            <a:r>
              <a:rPr b="0" lang="it-IT" sz="28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j</a:t>
            </a:r>
            <a:r>
              <a:rPr b="0" lang="it-IT" sz="28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viene utilizzato dai cammini di </a:t>
            </a:r>
            <a:r>
              <a:rPr b="0" lang="it-IT" sz="3200" spc="-1" strike="noStrike">
                <a:solidFill>
                  <a:srgbClr val="000000"/>
                </a:solidFill>
                <a:latin typeface="Monotype Corsiva"/>
              </a:rPr>
              <a:t>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Arial"/>
              </a:rPr>
              <a:t>Vinco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33cc"/>
                </a:solidFill>
                <a:latin typeface="Arial"/>
              </a:rPr>
              <a:t>Osserv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er ogni nodo </a:t>
            </a: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v ≠ s</a:t>
            </a:r>
            <a:r>
              <a:rPr b="0" lang="it-IT" sz="2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t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 si ha che ogni cammino </a:t>
            </a: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0" i="1" lang="it-IT" sz="2800" spc="-1" strike="noStrike" baseline="-25000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entra ed esce da </a:t>
            </a: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esattamente lo stesso numero di vol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BE07-B20A-4584-8ECB-C028FD9B750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mulazio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609120" y="2514240"/>
            <a:ext cx="3886200" cy="2590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1042920" y="2421000"/>
                <a:ext cx="590400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: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: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  <m:r>
                          <m:t xml:space="preserve">{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00" name=""/>
          <p:cNvSpPr/>
          <p:nvPr/>
        </p:nvSpPr>
        <p:spPr>
          <a:xfrm>
            <a:off x="671040" y="1476360"/>
            <a:ext cx="33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incoli di bilanci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68880" y="3645000"/>
            <a:ext cx="26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incoli di capac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67800" y="4987800"/>
            <a:ext cx="27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tipula di interez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1042920" y="4365720"/>
                <a:ext cx="31528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∀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∈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1042920" y="5516640"/>
                <a:ext cx="27543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intera, </m:t>
                    </m:r>
                    <m:r>
                      <m:t xml:space="preserve">∀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∈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E05E-357E-421C-A42A-110DA38F4CA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lus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850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 il nodo sorgente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 ha, inve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n vettore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000000"/>
                </a:solidFill>
                <a:latin typeface="Monotype Corsiva"/>
              </a:rPr>
              <a:t>Z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r>
              <a:rPr b="0" lang="it-IT" sz="2000" spc="-1" strike="noStrike" baseline="30000">
                <a:solidFill>
                  <a:srgbClr val="000000"/>
                </a:solidFill>
                <a:latin typeface="Arial"/>
              </a:rPr>
              <a:t>|A|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che soddisfa tutti i vincoli di bilanciamento si definisce </a:t>
            </a:r>
            <a:r>
              <a:rPr b="0" lang="it-IT" sz="2000" spc="-1" strike="noStrike">
                <a:solidFill>
                  <a:srgbClr val="0033cc"/>
                </a:solidFill>
                <a:latin typeface="Arial"/>
              </a:rPr>
              <a:t>(s,t)-fluss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o, semplicemente, </a:t>
            </a:r>
            <a:r>
              <a:rPr b="0" lang="it-IT" sz="2000" spc="-1" strike="noStrike">
                <a:solidFill>
                  <a:srgbClr val="0033cc"/>
                </a:solidFill>
                <a:latin typeface="Arial"/>
              </a:rPr>
              <a:t>fluss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 il vettore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soddisfa anche i vincoli di capacità il flusso si dice </a:t>
            </a:r>
            <a:r>
              <a:rPr b="0" lang="it-IT" sz="2000" spc="-1" strike="noStrike">
                <a:solidFill>
                  <a:srgbClr val="0033cc"/>
                </a:solidFill>
                <a:latin typeface="Arial"/>
              </a:rPr>
              <a:t>ammissibil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termi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 dice </a:t>
            </a:r>
            <a:r>
              <a:rPr b="0" lang="it-IT" sz="2000" spc="-1" strike="noStrike">
                <a:solidFill>
                  <a:srgbClr val="0033cc"/>
                </a:solidFill>
                <a:latin typeface="Arial"/>
              </a:rPr>
              <a:t>flusso nett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v.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f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 è il </a:t>
            </a:r>
            <a:r>
              <a:rPr b="0" lang="it-IT" sz="2000" spc="-1" strike="noStrike">
                <a:solidFill>
                  <a:srgbClr val="0033cc"/>
                </a:solidFill>
                <a:latin typeface="Arial"/>
              </a:rPr>
              <a:t>valore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el flusso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2795760" y="2139840"/>
                <a:ext cx="283176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: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j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: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2627280" y="4513320"/>
                <a:ext cx="28591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: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j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: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v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5992-A88D-454E-8F71-58CE7C6D6BC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orema di decomposizio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09480" y="1557360"/>
            <a:ext cx="7925040" cy="48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d una famiglia di cammini </a:t>
            </a:r>
            <a:r>
              <a:rPr b="0" lang="it-IT" sz="3200" spc="-1" strike="noStrike">
                <a:solidFill>
                  <a:srgbClr val="000000"/>
                </a:solidFill>
                <a:latin typeface="Monotype Corsiva"/>
              </a:rPr>
              <a:t>P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{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, P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, …, P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k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}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mmissibile  è sempre possibile associare un vettore di flusso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ammissibi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È vero il vicevers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Teorema di decomposi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 un grafo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=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esiste una famiglia </a:t>
            </a:r>
            <a:r>
              <a:rPr b="0" lang="it-IT" sz="3200" spc="-1" strike="noStrike">
                <a:solidFill>
                  <a:srgbClr val="000000"/>
                </a:solidFill>
                <a:latin typeface="Monotype Corsiva"/>
              </a:rPr>
              <a:t>P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{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, P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, …, P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k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}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k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-cammini ammissibile se e solo se esiste un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-flusso ammissibile di valore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7880-7620-4D36-9528-DB629C87F11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erequisit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48392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Teoria della Duali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lgoritmi per la Programmazione Line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Arial"/>
              </a:rPr>
              <a:t>[Ricerca Operativa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Formulazioni di P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Tecniche di bounding e algoritmi per la P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Arial"/>
              </a:rPr>
              <a:t>[Ottimizzazione Combinatoria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lgoritmi di visita su graf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lgoritmi per i problemi di cammino mini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Arial"/>
              </a:rPr>
              <a:t>[Algoritmi e strutture dati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7233-FA6A-4DB5-ADAC-23627B477F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mostrazio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09480" y="1484280"/>
            <a:ext cx="7925040" cy="29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a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un flusso ammissibile “aciclico”, ovvero tale che non esiste un ciclo orientato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avente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ij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&gt; 0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per tutti gli archi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j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fatti, se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contiene un ciclo orientato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con questa proprietà, basta diminuire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ij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di una unità per tutti gli archi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j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421080" y="4437000"/>
            <a:ext cx="358920" cy="3603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645080" y="4437000"/>
            <a:ext cx="358560" cy="3603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995640" y="5445000"/>
            <a:ext cx="358920" cy="3603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268360" y="4437000"/>
            <a:ext cx="358920" cy="3603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013440" y="4437000"/>
            <a:ext cx="358920" cy="3603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8" name=""/>
          <p:cNvCxnSpPr>
            <a:stCxn id="416" idx="6"/>
            <a:endCxn id="413" idx="2"/>
          </p:cNvCxnSpPr>
          <p:nvPr/>
        </p:nvCxnSpPr>
        <p:spPr>
          <a:xfrm>
            <a:off x="2641320" y="4617720"/>
            <a:ext cx="765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9" name=""/>
          <p:cNvCxnSpPr>
            <a:stCxn id="413" idx="6"/>
            <a:endCxn id="414" idx="2"/>
          </p:cNvCxnSpPr>
          <p:nvPr/>
        </p:nvCxnSpPr>
        <p:spPr>
          <a:xfrm>
            <a:off x="3794040" y="4617720"/>
            <a:ext cx="837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0" name=""/>
          <p:cNvCxnSpPr>
            <a:stCxn id="414" idx="4"/>
            <a:endCxn id="415" idx="7"/>
          </p:cNvCxnSpPr>
          <p:nvPr/>
        </p:nvCxnSpPr>
        <p:spPr>
          <a:xfrm flipH="1">
            <a:off x="4301280" y="4811400"/>
            <a:ext cx="523080" cy="672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1" name=""/>
          <p:cNvCxnSpPr>
            <a:stCxn id="415" idx="1"/>
            <a:endCxn id="413" idx="4"/>
          </p:cNvCxnSpPr>
          <p:nvPr/>
        </p:nvCxnSpPr>
        <p:spPr>
          <a:xfrm flipH="1" flipV="1">
            <a:off x="3600000" y="4811040"/>
            <a:ext cx="448560" cy="672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2" name=""/>
          <p:cNvCxnSpPr>
            <a:stCxn id="414" idx="6"/>
            <a:endCxn id="417" idx="2"/>
          </p:cNvCxnSpPr>
          <p:nvPr/>
        </p:nvCxnSpPr>
        <p:spPr>
          <a:xfrm>
            <a:off x="5017680" y="4617720"/>
            <a:ext cx="981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23" name=""/>
          <p:cNvSpPr/>
          <p:nvPr/>
        </p:nvSpPr>
        <p:spPr>
          <a:xfrm>
            <a:off x="2846880" y="4286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070520" y="4292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66160" y="4286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623120" y="50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422880" y="50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926720" y="4367160"/>
            <a:ext cx="31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375240" y="4365720"/>
            <a:ext cx="2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11B2-B786-43B9-8A5C-84AC06E756F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mostrazio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421080" y="4437000"/>
            <a:ext cx="358920" cy="3603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645080" y="4437000"/>
            <a:ext cx="358560" cy="3603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995640" y="5445000"/>
            <a:ext cx="358920" cy="3603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268360" y="4437000"/>
            <a:ext cx="358920" cy="3603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013440" y="4437000"/>
            <a:ext cx="358920" cy="3603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6" name=""/>
          <p:cNvCxnSpPr>
            <a:stCxn id="434" idx="6"/>
            <a:endCxn id="431" idx="2"/>
          </p:cNvCxnSpPr>
          <p:nvPr/>
        </p:nvCxnSpPr>
        <p:spPr>
          <a:xfrm>
            <a:off x="2641320" y="4617720"/>
            <a:ext cx="765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7" name=""/>
          <p:cNvCxnSpPr>
            <a:stCxn id="431" idx="6"/>
            <a:endCxn id="432" idx="2"/>
          </p:cNvCxnSpPr>
          <p:nvPr/>
        </p:nvCxnSpPr>
        <p:spPr>
          <a:xfrm>
            <a:off x="3794040" y="4617720"/>
            <a:ext cx="837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8" name=""/>
          <p:cNvCxnSpPr>
            <a:stCxn id="432" idx="4"/>
            <a:endCxn id="433" idx="7"/>
          </p:cNvCxnSpPr>
          <p:nvPr/>
        </p:nvCxnSpPr>
        <p:spPr>
          <a:xfrm flipH="1">
            <a:off x="4301280" y="4811400"/>
            <a:ext cx="523080" cy="672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9" name=""/>
          <p:cNvCxnSpPr>
            <a:stCxn id="433" idx="1"/>
            <a:endCxn id="431" idx="4"/>
          </p:cNvCxnSpPr>
          <p:nvPr/>
        </p:nvCxnSpPr>
        <p:spPr>
          <a:xfrm flipH="1" flipV="1">
            <a:off x="3600000" y="4811040"/>
            <a:ext cx="448560" cy="672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0" name=""/>
          <p:cNvCxnSpPr>
            <a:stCxn id="432" idx="6"/>
            <a:endCxn id="435" idx="2"/>
          </p:cNvCxnSpPr>
          <p:nvPr/>
        </p:nvCxnSpPr>
        <p:spPr>
          <a:xfrm>
            <a:off x="5017680" y="4617720"/>
            <a:ext cx="981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41" name=""/>
          <p:cNvSpPr/>
          <p:nvPr/>
        </p:nvSpPr>
        <p:spPr>
          <a:xfrm>
            <a:off x="2846880" y="4286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930480" y="4286160"/>
            <a:ext cx="61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366160" y="4286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593960" y="5013360"/>
            <a:ext cx="68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153960" y="5081760"/>
            <a:ext cx="68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09480" y="160128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questo modo si ottiene ancora un flusso ammissibile di valor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k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questo punto basta ripetere la procedura finché il ciclo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n esiste pi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926720" y="4367160"/>
            <a:ext cx="31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375240" y="4365720"/>
            <a:ext cx="2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31F4-ACB0-447B-BBF6-BD6CAE1C2F4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mostrazio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421080" y="4437000"/>
            <a:ext cx="358920" cy="3603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645080" y="4437000"/>
            <a:ext cx="358560" cy="3603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995640" y="5445000"/>
            <a:ext cx="358920" cy="3603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268360" y="4437000"/>
            <a:ext cx="358920" cy="3603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013440" y="4437000"/>
            <a:ext cx="358920" cy="3603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5" name=""/>
          <p:cNvCxnSpPr>
            <a:stCxn id="453" idx="6"/>
            <a:endCxn id="450" idx="2"/>
          </p:cNvCxnSpPr>
          <p:nvPr/>
        </p:nvCxnSpPr>
        <p:spPr>
          <a:xfrm>
            <a:off x="2641320" y="4617720"/>
            <a:ext cx="765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6" name=""/>
          <p:cNvCxnSpPr>
            <a:stCxn id="450" idx="6"/>
            <a:endCxn id="451" idx="2"/>
          </p:cNvCxnSpPr>
          <p:nvPr/>
        </p:nvCxnSpPr>
        <p:spPr>
          <a:xfrm>
            <a:off x="3794040" y="4617720"/>
            <a:ext cx="837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7" name=""/>
          <p:cNvCxnSpPr>
            <a:stCxn id="451" idx="4"/>
            <a:endCxn id="452" idx="7"/>
          </p:cNvCxnSpPr>
          <p:nvPr/>
        </p:nvCxnSpPr>
        <p:spPr>
          <a:xfrm flipH="1">
            <a:off x="4301280" y="4811400"/>
            <a:ext cx="523080" cy="672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8" name=""/>
          <p:cNvCxnSpPr>
            <a:stCxn id="452" idx="1"/>
            <a:endCxn id="450" idx="4"/>
          </p:cNvCxnSpPr>
          <p:nvPr/>
        </p:nvCxnSpPr>
        <p:spPr>
          <a:xfrm flipH="1" flipV="1">
            <a:off x="3600000" y="4811040"/>
            <a:ext cx="448560" cy="672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9" name=""/>
          <p:cNvCxnSpPr>
            <a:stCxn id="451" idx="6"/>
            <a:endCxn id="454" idx="2"/>
          </p:cNvCxnSpPr>
          <p:nvPr/>
        </p:nvCxnSpPr>
        <p:spPr>
          <a:xfrm>
            <a:off x="5017680" y="4617720"/>
            <a:ext cx="981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60" name=""/>
          <p:cNvSpPr/>
          <p:nvPr/>
        </p:nvSpPr>
        <p:spPr>
          <a:xfrm>
            <a:off x="2846880" y="4286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930480" y="4286160"/>
            <a:ext cx="61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366160" y="4286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593960" y="5013360"/>
            <a:ext cx="68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153960" y="5081760"/>
            <a:ext cx="68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926720" y="4367160"/>
            <a:ext cx="31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375240" y="4365720"/>
            <a:ext cx="2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480" y="160128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questo modo si ottiene ancora un flusso ammissibile di valor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k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questo punto basta ripetere la procedura finché il ciclo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n esiste pi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a semplice procedura consente sempre di ottenere un flusso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iclico senza alterarne il valore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5487-68BE-468B-8ECE-0712B1AB5A0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mostrazio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480" y="19616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 questo punto, se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k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≥ 1, esiste un arco 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v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,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t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avente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x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  <a:ea typeface="Arial"/>
              </a:rPr>
              <a:t>vt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≥1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Se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v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, dai vincoli di bilanciamento  segue che esiste almeno un arco avente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x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  <a:ea typeface="Arial"/>
              </a:rPr>
              <a:t>wv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≥1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Ripetendo il ragionamento per il nodo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w,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se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w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s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allora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esiste un arco (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p, w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con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x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  <a:ea typeface="Arial"/>
              </a:rPr>
              <a:t>pw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≥1.  Se continuiamo a ripetere questa procedura, essendo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aciclico, ci si arresta con un 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,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t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)-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cammino semplice fatto di archi 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,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aventi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x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  <a:ea typeface="Arial"/>
              </a:rPr>
              <a:t>ij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≥1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È, quindi, sufficiente decrementare di una unità ogni componente del vettore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x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corrispondente ad ogni arco dell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,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t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)-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cammino  per ottenere un nuovo flusso (intero) ammissibile di valore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-1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Ripetendo la procedura finché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k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= 0, si ottengono i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cammini della famiglia </a:t>
            </a:r>
            <a:r>
              <a:rPr b="0" lang="it-IT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P</a:t>
            </a:r>
            <a:r>
              <a:rPr b="0" lang="it-IT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3DE4-F9E8-4C99-AD50-BFC4C3D86DB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755640" y="2205000"/>
            <a:ext cx="7704000" cy="3816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blema del massimo flus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1116000" y="3432240"/>
                <a:ext cx="590400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: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: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  <m:r>
                          <m:t xml:space="preserve">{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1419120" y="4451400"/>
                <a:ext cx="31528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∀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∈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1246320" y="5084640"/>
                <a:ext cx="29271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intera, </m:t>
                    </m:r>
                    <m:r>
                      <m:t xml:space="preserve">∀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∈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1258920" y="2305080"/>
                <a:ext cx="146376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6" name=""/>
          <p:cNvSpPr/>
          <p:nvPr/>
        </p:nvSpPr>
        <p:spPr>
          <a:xfrm>
            <a:off x="1290600" y="2828880"/>
            <a:ext cx="66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s.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1692360" y="4869000"/>
            <a:ext cx="792000" cy="79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548B-D7DB-427C-8B03-331C9215BAC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glio di un grafo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Arial"/>
              </a:rPr>
              <a:t>Defini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ato un grafo </a:t>
            </a: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it-IT" sz="2800" spc="-1" strike="noStrike">
                <a:solidFill>
                  <a:srgbClr val="000000"/>
                </a:solidFill>
                <a:latin typeface="Bookman Old Style"/>
              </a:rPr>
              <a:t>=(</a:t>
            </a: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it-IT" sz="28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 un insieme </a:t>
            </a:r>
            <a:r>
              <a:rPr b="0" i="1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it-IT" sz="28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it-IT" sz="2800" spc="-1" strike="noStrike">
                <a:solidFill>
                  <a:srgbClr val="000000"/>
                </a:solidFill>
                <a:latin typeface="Bookman Old Style"/>
              </a:rPr>
              <a:t>)={</a:t>
            </a: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vw</a:t>
            </a:r>
            <a:r>
              <a:rPr b="0" lang="it-IT" sz="2800" spc="-1" strike="noStrike">
                <a:solidFill>
                  <a:srgbClr val="000000"/>
                </a:solidFill>
                <a:latin typeface="Bookman Old Style"/>
              </a:rPr>
              <a:t>: (</a:t>
            </a: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v,w</a:t>
            </a:r>
            <a:r>
              <a:rPr b="0" lang="it-IT" sz="2800" spc="-1" strike="noStrike">
                <a:solidFill>
                  <a:srgbClr val="000000"/>
                </a:solidFill>
                <a:latin typeface="Bookman Old Style"/>
              </a:rPr>
              <a:t>)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it-IT" sz="28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w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it-IT" sz="2800" spc="-1" strike="noStrike">
                <a:solidFill>
                  <a:srgbClr val="000000"/>
                </a:solidFill>
                <a:latin typeface="Bookman Old Style"/>
              </a:rPr>
              <a:t>}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per qualche </a:t>
            </a: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R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si dice </a:t>
            </a:r>
            <a:r>
              <a:rPr b="0" lang="it-IT" sz="2800" spc="-1" strike="noStrike">
                <a:solidFill>
                  <a:srgbClr val="0033cc"/>
                </a:solidFill>
                <a:latin typeface="Arial"/>
              </a:rPr>
              <a:t>tagl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Un</a:t>
            </a:r>
            <a:r>
              <a:rPr b="0" lang="it-IT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33cc"/>
                </a:solidFill>
                <a:latin typeface="Bookman Old Style"/>
              </a:rPr>
              <a:t>(</a:t>
            </a:r>
            <a:r>
              <a:rPr b="0" i="1" lang="it-IT" sz="2800" spc="-1" strike="noStrike">
                <a:solidFill>
                  <a:srgbClr val="0033cc"/>
                </a:solidFill>
                <a:latin typeface="Bookman Old Style"/>
              </a:rPr>
              <a:t>s</a:t>
            </a:r>
            <a:r>
              <a:rPr b="0" lang="it-IT" sz="2800" spc="-1" strike="noStrike">
                <a:solidFill>
                  <a:srgbClr val="0033cc"/>
                </a:solidFill>
                <a:latin typeface="Bookman Old Style"/>
              </a:rPr>
              <a:t>,</a:t>
            </a:r>
            <a:r>
              <a:rPr b="0" i="1" lang="it-IT" sz="2800" spc="-1" strike="noStrike">
                <a:solidFill>
                  <a:srgbClr val="0033cc"/>
                </a:solidFill>
                <a:latin typeface="Bookman Old Style"/>
              </a:rPr>
              <a:t>t</a:t>
            </a:r>
            <a:r>
              <a:rPr b="0" lang="it-IT" sz="2800" spc="-1" strike="noStrike">
                <a:solidFill>
                  <a:srgbClr val="0033cc"/>
                </a:solidFill>
                <a:latin typeface="Bookman Old Style"/>
              </a:rPr>
              <a:t>)</a:t>
            </a:r>
            <a:r>
              <a:rPr b="0" lang="it-IT" sz="2800" spc="-1" strike="noStrike">
                <a:solidFill>
                  <a:srgbClr val="0033cc"/>
                </a:solidFill>
                <a:latin typeface="Arial"/>
              </a:rPr>
              <a:t>-taglio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è un taglio per cui </a:t>
            </a: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it-IT" sz="28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t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i definisce capacità del </a:t>
            </a:r>
            <a:r>
              <a:rPr b="0" lang="it-IT" sz="2800" spc="-1" strike="noStrike">
                <a:solidFill>
                  <a:srgbClr val="0033cc"/>
                </a:solidFill>
                <a:latin typeface="Bookman Old Style"/>
              </a:rPr>
              <a:t>(</a:t>
            </a:r>
            <a:r>
              <a:rPr b="0" i="1" lang="it-IT" sz="2800" spc="-1" strike="noStrike">
                <a:solidFill>
                  <a:srgbClr val="0033cc"/>
                </a:solidFill>
                <a:latin typeface="Bookman Old Style"/>
              </a:rPr>
              <a:t>s</a:t>
            </a:r>
            <a:r>
              <a:rPr b="0" lang="it-IT" sz="2800" spc="-1" strike="noStrike">
                <a:solidFill>
                  <a:srgbClr val="0033cc"/>
                </a:solidFill>
                <a:latin typeface="Bookman Old Style"/>
              </a:rPr>
              <a:t>,</a:t>
            </a:r>
            <a:r>
              <a:rPr b="0" i="1" lang="it-IT" sz="2800" spc="-1" strike="noStrike">
                <a:solidFill>
                  <a:srgbClr val="0033cc"/>
                </a:solidFill>
                <a:latin typeface="Bookman Old Style"/>
              </a:rPr>
              <a:t>t</a:t>
            </a:r>
            <a:r>
              <a:rPr b="0" lang="it-IT" sz="2800" spc="-1" strike="noStrike">
                <a:solidFill>
                  <a:srgbClr val="0033cc"/>
                </a:solidFill>
                <a:latin typeface="Bookman Old Style"/>
              </a:rPr>
              <a:t>)</a:t>
            </a:r>
            <a:r>
              <a:rPr b="0" lang="it-IT" sz="2800" spc="-1" strike="noStrike">
                <a:solidFill>
                  <a:srgbClr val="0033cc"/>
                </a:solidFill>
                <a:latin typeface="Arial"/>
              </a:rPr>
              <a:t>-taglio la quanti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it-IT" sz="2800" spc="-1" strike="noStrike" baseline="-25000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it-IT" sz="2800" spc="-1" strike="noStrike" baseline="-25000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800" spc="-1" strike="noStrike" baseline="-25000">
                <a:solidFill>
                  <a:srgbClr val="000000"/>
                </a:solidFill>
                <a:latin typeface="Bookman Old Style"/>
              </a:rPr>
              <a:t>j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it-IT" sz="2800" spc="-1" strike="noStrike" baseline="-25000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i="1" lang="it-IT" sz="2800" spc="-1" strike="noStrike" baseline="-25000">
                <a:solidFill>
                  <a:srgbClr val="000000"/>
                </a:solidFill>
                <a:latin typeface="Bookman Old Style"/>
              </a:rPr>
              <a:t>ij</a:t>
            </a: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= u </a:t>
            </a:r>
            <a:r>
              <a:rPr b="0" lang="it-IT" sz="28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it-IT" sz="28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it-IT" sz="2800" spc="-1" strike="noStrike">
                <a:solidFill>
                  <a:srgbClr val="000000"/>
                </a:solidFill>
                <a:latin typeface="Bookman Old Style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2D24-0EB5-4C51-A0C7-A6BD78CD8B6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semp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981080" y="3705120"/>
            <a:ext cx="216000" cy="2160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013440" y="3705120"/>
            <a:ext cx="216000" cy="21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060720" y="2841480"/>
            <a:ext cx="216000" cy="2160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716360" y="284148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062160" y="4425840"/>
            <a:ext cx="216000" cy="2160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718160" y="4425840"/>
            <a:ext cx="215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7" name=""/>
          <p:cNvCxnSpPr>
            <a:stCxn id="481" idx="7"/>
            <a:endCxn id="483" idx="2"/>
          </p:cNvCxnSpPr>
          <p:nvPr/>
        </p:nvCxnSpPr>
        <p:spPr>
          <a:xfrm flipV="1">
            <a:off x="2165040" y="2948760"/>
            <a:ext cx="896040" cy="788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8" name=""/>
          <p:cNvCxnSpPr>
            <a:stCxn id="481" idx="5"/>
            <a:endCxn id="485" idx="2"/>
          </p:cNvCxnSpPr>
          <p:nvPr/>
        </p:nvCxnSpPr>
        <p:spPr>
          <a:xfrm>
            <a:off x="2165040" y="3889440"/>
            <a:ext cx="897480" cy="64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9" name=""/>
          <p:cNvCxnSpPr>
            <a:stCxn id="483" idx="6"/>
            <a:endCxn id="484" idx="2"/>
          </p:cNvCxnSpPr>
          <p:nvPr/>
        </p:nvCxnSpPr>
        <p:spPr>
          <a:xfrm>
            <a:off x="3276360" y="2949120"/>
            <a:ext cx="144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0" name=""/>
          <p:cNvCxnSpPr>
            <a:stCxn id="484" idx="6"/>
            <a:endCxn id="482" idx="1"/>
          </p:cNvCxnSpPr>
          <p:nvPr/>
        </p:nvCxnSpPr>
        <p:spPr>
          <a:xfrm>
            <a:off x="4932000" y="2949120"/>
            <a:ext cx="1113120" cy="788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1" name=""/>
          <p:cNvCxnSpPr>
            <a:stCxn id="485" idx="6"/>
            <a:endCxn id="486" idx="2"/>
          </p:cNvCxnSpPr>
          <p:nvPr/>
        </p:nvCxnSpPr>
        <p:spPr>
          <a:xfrm>
            <a:off x="3278160" y="4533480"/>
            <a:ext cx="144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2" name=""/>
          <p:cNvCxnSpPr>
            <a:stCxn id="486" idx="6"/>
            <a:endCxn id="482" idx="3"/>
          </p:cNvCxnSpPr>
          <p:nvPr/>
        </p:nvCxnSpPr>
        <p:spPr>
          <a:xfrm flipV="1">
            <a:off x="4933440" y="3889080"/>
            <a:ext cx="1112040" cy="64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3" name=""/>
          <p:cNvCxnSpPr>
            <a:stCxn id="483" idx="4"/>
            <a:endCxn id="485" idx="0"/>
          </p:cNvCxnSpPr>
          <p:nvPr/>
        </p:nvCxnSpPr>
        <p:spPr>
          <a:xfrm>
            <a:off x="3168720" y="3057120"/>
            <a:ext cx="2160" cy="136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4" name=""/>
          <p:cNvCxnSpPr>
            <a:stCxn id="486" idx="0"/>
            <a:endCxn id="484" idx="4"/>
          </p:cNvCxnSpPr>
          <p:nvPr/>
        </p:nvCxnSpPr>
        <p:spPr>
          <a:xfrm flipH="1" flipV="1">
            <a:off x="4823640" y="3056760"/>
            <a:ext cx="2520" cy="136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5" name=""/>
          <p:cNvSpPr/>
          <p:nvPr/>
        </p:nvSpPr>
        <p:spPr>
          <a:xfrm>
            <a:off x="1706400" y="384336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211080" y="37767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191400" y="2554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867920" y="2560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140640" y="4568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816800" y="45752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1" name=""/>
          <p:cNvCxnSpPr>
            <a:stCxn id="486" idx="1"/>
            <a:endCxn id="483" idx="5"/>
          </p:cNvCxnSpPr>
          <p:nvPr/>
        </p:nvCxnSpPr>
        <p:spPr>
          <a:xfrm flipH="1" flipV="1">
            <a:off x="3243960" y="3025440"/>
            <a:ext cx="1505880" cy="1432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2" name=""/>
          <p:cNvCxnSpPr/>
          <p:nvPr/>
        </p:nvCxnSpPr>
        <p:spPr>
          <a:xfrm>
            <a:off x="3276360" y="2953800"/>
            <a:ext cx="144036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503" name=""/>
          <p:cNvCxnSpPr/>
          <p:nvPr/>
        </p:nvCxnSpPr>
        <p:spPr>
          <a:xfrm>
            <a:off x="3278160" y="4538160"/>
            <a:ext cx="144036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04" name=""/>
          <p:cNvSpPr/>
          <p:nvPr/>
        </p:nvSpPr>
        <p:spPr>
          <a:xfrm>
            <a:off x="3827520" y="2492280"/>
            <a:ext cx="407880" cy="2737080"/>
          </a:xfrm>
          <a:custGeom>
            <a:avLst/>
            <a:gdLst/>
            <a:ahLst/>
            <a:rect l="l" t="t" r="r" b="b"/>
            <a:pathLst>
              <a:path w="257" h="1724">
                <a:moveTo>
                  <a:pt x="61" y="0"/>
                </a:moveTo>
                <a:cubicBezTo>
                  <a:pt x="30" y="136"/>
                  <a:pt x="0" y="272"/>
                  <a:pt x="15" y="363"/>
                </a:cubicBezTo>
                <a:cubicBezTo>
                  <a:pt x="30" y="454"/>
                  <a:pt x="143" y="454"/>
                  <a:pt x="151" y="545"/>
                </a:cubicBezTo>
                <a:cubicBezTo>
                  <a:pt x="159" y="636"/>
                  <a:pt x="61" y="810"/>
                  <a:pt x="61" y="908"/>
                </a:cubicBezTo>
                <a:cubicBezTo>
                  <a:pt x="61" y="1006"/>
                  <a:pt x="121" y="1028"/>
                  <a:pt x="151" y="1134"/>
                </a:cubicBezTo>
                <a:cubicBezTo>
                  <a:pt x="181" y="1240"/>
                  <a:pt x="257" y="1445"/>
                  <a:pt x="242" y="1543"/>
                </a:cubicBezTo>
                <a:cubicBezTo>
                  <a:pt x="227" y="1641"/>
                  <a:pt x="144" y="1682"/>
                  <a:pt x="61" y="1724"/>
                </a:cubicBezTo>
              </a:path>
            </a:pathLst>
          </a:custGeom>
          <a:noFill/>
          <a:ln w="76320">
            <a:solidFill>
              <a:srgbClr val="cc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26040" y="1541520"/>
            <a:ext cx="203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R =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, 1, 2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= {3, 4,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84360" y="2060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D8E7-14C1-4C8E-9229-5453FE62148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orema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1392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 ogni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taglio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per ogni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flusso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si h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semp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1547640" y="2523960"/>
                <a:ext cx="3886200" cy="61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δ</m:t>
                    </m:r>
                    <m:r>
                      <m:t xml:space="preserve">(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R</m:t>
                        </m:r>
                      </m:e>
                    </m:ba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0" name=""/>
          <p:cNvSpPr/>
          <p:nvPr/>
        </p:nvSpPr>
        <p:spPr>
          <a:xfrm>
            <a:off x="1981080" y="4568760"/>
            <a:ext cx="216000" cy="2160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013440" y="4568760"/>
            <a:ext cx="216000" cy="21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060720" y="3705120"/>
            <a:ext cx="216000" cy="2160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716360" y="370512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062160" y="5289480"/>
            <a:ext cx="216000" cy="2160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718160" y="5289480"/>
            <a:ext cx="215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6" name=""/>
          <p:cNvCxnSpPr>
            <a:stCxn id="510" idx="7"/>
            <a:endCxn id="512" idx="2"/>
          </p:cNvCxnSpPr>
          <p:nvPr/>
        </p:nvCxnSpPr>
        <p:spPr>
          <a:xfrm flipV="1">
            <a:off x="2165040" y="3812400"/>
            <a:ext cx="896040" cy="788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7" name=""/>
          <p:cNvCxnSpPr>
            <a:stCxn id="510" idx="5"/>
            <a:endCxn id="514" idx="2"/>
          </p:cNvCxnSpPr>
          <p:nvPr/>
        </p:nvCxnSpPr>
        <p:spPr>
          <a:xfrm>
            <a:off x="2165040" y="4753080"/>
            <a:ext cx="897480" cy="64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8" name=""/>
          <p:cNvCxnSpPr>
            <a:stCxn id="512" idx="6"/>
            <a:endCxn id="513" idx="2"/>
          </p:cNvCxnSpPr>
          <p:nvPr/>
        </p:nvCxnSpPr>
        <p:spPr>
          <a:xfrm>
            <a:off x="3276360" y="3812760"/>
            <a:ext cx="144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9" name=""/>
          <p:cNvCxnSpPr>
            <a:stCxn id="513" idx="6"/>
            <a:endCxn id="511" idx="1"/>
          </p:cNvCxnSpPr>
          <p:nvPr/>
        </p:nvCxnSpPr>
        <p:spPr>
          <a:xfrm>
            <a:off x="4932000" y="3812760"/>
            <a:ext cx="1113120" cy="788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0" name=""/>
          <p:cNvCxnSpPr>
            <a:stCxn id="514" idx="6"/>
            <a:endCxn id="515" idx="2"/>
          </p:cNvCxnSpPr>
          <p:nvPr/>
        </p:nvCxnSpPr>
        <p:spPr>
          <a:xfrm>
            <a:off x="3278160" y="5397120"/>
            <a:ext cx="144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515" idx="6"/>
            <a:endCxn id="511" idx="3"/>
          </p:cNvCxnSpPr>
          <p:nvPr/>
        </p:nvCxnSpPr>
        <p:spPr>
          <a:xfrm flipV="1">
            <a:off x="4933440" y="4752720"/>
            <a:ext cx="1112040" cy="64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2" name=""/>
          <p:cNvCxnSpPr>
            <a:stCxn id="512" idx="4"/>
            <a:endCxn id="514" idx="0"/>
          </p:cNvCxnSpPr>
          <p:nvPr/>
        </p:nvCxnSpPr>
        <p:spPr>
          <a:xfrm>
            <a:off x="3168720" y="3920760"/>
            <a:ext cx="2160" cy="136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3" name=""/>
          <p:cNvCxnSpPr>
            <a:stCxn id="515" idx="0"/>
            <a:endCxn id="513" idx="4"/>
          </p:cNvCxnSpPr>
          <p:nvPr/>
        </p:nvCxnSpPr>
        <p:spPr>
          <a:xfrm flipH="1" flipV="1">
            <a:off x="4823640" y="3920400"/>
            <a:ext cx="2520" cy="136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4" name=""/>
          <p:cNvSpPr/>
          <p:nvPr/>
        </p:nvSpPr>
        <p:spPr>
          <a:xfrm>
            <a:off x="1706400" y="470700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211080" y="46404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6" name=""/>
          <p:cNvCxnSpPr>
            <a:stCxn id="515" idx="1"/>
            <a:endCxn id="512" idx="5"/>
          </p:cNvCxnSpPr>
          <p:nvPr/>
        </p:nvCxnSpPr>
        <p:spPr>
          <a:xfrm flipH="1" flipV="1">
            <a:off x="3243960" y="3888720"/>
            <a:ext cx="1505880" cy="143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"/>
          <p:cNvCxnSpPr/>
          <p:nvPr/>
        </p:nvCxnSpPr>
        <p:spPr>
          <a:xfrm>
            <a:off x="3276360" y="3817440"/>
            <a:ext cx="144036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528" name=""/>
          <p:cNvCxnSpPr/>
          <p:nvPr/>
        </p:nvCxnSpPr>
        <p:spPr>
          <a:xfrm>
            <a:off x="3278160" y="5401800"/>
            <a:ext cx="144036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29" name=""/>
          <p:cNvSpPr/>
          <p:nvPr/>
        </p:nvSpPr>
        <p:spPr>
          <a:xfrm>
            <a:off x="2347200" y="37879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347200" y="51195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733200" y="3429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858480" y="53737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158280" y="44006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931560" y="42559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317560" y="38242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442840" y="49417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7" name=""/>
          <p:cNvCxnSpPr/>
          <p:nvPr/>
        </p:nvCxnSpPr>
        <p:spPr>
          <a:xfrm flipH="1" flipV="1">
            <a:off x="3231360" y="3882600"/>
            <a:ext cx="1505880" cy="1432800"/>
          </a:xfrm>
          <a:prstGeom prst="straightConnector1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</p:cxnSp>
      <p:sp>
        <p:nvSpPr>
          <p:cNvPr id="538" name=""/>
          <p:cNvSpPr/>
          <p:nvPr/>
        </p:nvSpPr>
        <p:spPr>
          <a:xfrm>
            <a:off x="4795200" y="43657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729A-E227-41F9-9D7A-A14336B0CBC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mostrazio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sideriamo un taglio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e sommiamo, per tutti i nodi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R,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v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s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 vincoli di bilanciamen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 ottiene un’equazione del tip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HS = 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termine LHS è così forma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1. Per ogni arco 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w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tale che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v, w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R, v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s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variabile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 x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vw 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NON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è contenuta in LHS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ha coefficiente 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0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ella somma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2. Per ogni arco 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w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tale che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v, w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R,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variabile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 x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vw 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NON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è contenuta in LHS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gli estremi dell’arco non appartengono a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3. Per ogni arco 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w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tale che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v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R, w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R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variabile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 x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vw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mpare nel LHS con coefficiente +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DCC1-81E0-419A-8356-231F9117D6C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mostrazio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09480" y="1484280"/>
            <a:ext cx="77788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4. Per ogni arco 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w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tale che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v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 R, w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 R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variabile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 x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vw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mpare nel LHS con coefficiente -1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5. Per ogni arco 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tale che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v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 R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variabile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 x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sv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mpare nel LHS con coefficiente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6. Per ogni arco 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tale che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v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 R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variabile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 x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vs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mpare nel LHS con coefficiente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aggruppando le variabili che soddisfano le condizioni 3 e 4 si ottiene il termine: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e variabili che soddisfano le condizioni 5 e 6 valgono complessivamente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 –f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.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tant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2482920" y="5230800"/>
                <a:ext cx="403236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HS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δ</m:t>
                    </m:r>
                    <m:r>
                      <m:t xml:space="preserve">(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R</m:t>
                        </m:r>
                      </m:e>
                    </m:ba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3176640" y="3908520"/>
                <a:ext cx="250488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δ</m:t>
                    </m:r>
                    <m:r>
                      <m:t xml:space="preserve">(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R</m:t>
                        </m:r>
                      </m:e>
                    </m:ba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C020-3DD6-4A44-AF4B-E80F92205C1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gramm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10960" y="134100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cc"/>
                </a:solidFill>
                <a:latin typeface="Arial"/>
              </a:rPr>
              <a:t>Parte 1 </a:t>
            </a:r>
            <a:r>
              <a:rPr b="0" lang="it-IT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33cc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roblemi di flusso massimo [Capitolo 3, par. 1-4 del testo 1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orema Max-Flow Min-Cu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lgoritmo di Ford e Fulker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lgoritmo di Edmonds e Kar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lgoritmo Preflow-push (cenn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roblemi di taglio minimo su grafi non orientati [Capitolo 3, par 5 del testo 1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lgoritmo Node Ident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lgoritmo Random Contr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cc"/>
                </a:solidFill>
                <a:latin typeface="Arial"/>
              </a:rPr>
              <a:t>Part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roblemi di taglio multiterminale [Capitolo 3, par 5 del testo 1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lgoritmo di Gomory-Hu (senza dimostrazion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roblemi di cammino minimo con pesi qualsiasi [slide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lgoritmi Label-Correct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lgoritmo di Bellman e Fo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roblemi di flusso a costo minimo [Capitolo 4, par 1 e 2 del testo 1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lgoritmo del circuito aument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mplesso su reti caso senza capacit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mplesso su reti caso con capacit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cc"/>
                </a:solidFill>
                <a:latin typeface="Arial"/>
              </a:rPr>
              <a:t>Testi di riferi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[1] Cook, Cunningham, Pulleyblank, Schrijver Combinatorial Optimization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[2] Ahuja, Magnanti, Orlin Network Fl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0C32-EF70-480E-B997-293725430D4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rollario (dualità debol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94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ogni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-taglio </a:t>
            </a:r>
            <a:r>
              <a:rPr b="0" i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 per ogni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-flusso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si h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f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≤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u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Dimostr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al teorema 1 si ha ch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ra, per definizione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≤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u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).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oltre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Pertanto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f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≤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u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).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2697120" y="3416400"/>
                <a:ext cx="317016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δ</m:t>
                    </m:r>
                    <m:r>
                      <m:t xml:space="preserve">(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R</m:t>
                        </m:r>
                      </m:e>
                    </m:ba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6719760" y="4149720"/>
                <a:ext cx="149724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δ</m:t>
                    </m:r>
                    <m:r>
                      <m:t xml:space="preserve">(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R</m:t>
                        </m:r>
                      </m:e>
                    </m:ba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DAC9-E6E1-4515-8E7C-B77975DF2E3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seguenz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corollario di dualità debole fornisce un bound per il valore del massimo flus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tanto, se identifichiamo in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un flusso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avente valore pari alla capacità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di un taglio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abbiamo individuato la soluzione ottima del problema di massimo flus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teorema Max-Flow Min-Cut, afferma che questa possibilità si verifica per ogni grafo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che ammette un flusso massimo fini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121D-AEE9-4864-8D9D-4BCB9FD58D9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50920" y="498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Teorema Max-flow Min-cut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7704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0" lang="it-IT" sz="2800" spc="-1" strike="noStrike">
                <a:solidFill>
                  <a:srgbClr val="000000"/>
                </a:solidFill>
                <a:latin typeface="Bookman Old Style"/>
              </a:rPr>
              <a:t>G=(</a:t>
            </a: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it-IT" sz="2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Bookman Old Style"/>
              </a:rPr>
              <a:t>)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mmette</a:t>
            </a:r>
            <a:r>
              <a:rPr b="0" lang="it-IT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0" lang="it-IT" sz="28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t</a:t>
            </a:r>
            <a:r>
              <a:rPr b="0" lang="it-IT" sz="28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-flusso massimo, all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cc"/>
                </a:solidFill>
                <a:latin typeface="Arial"/>
              </a:rPr>
              <a:t>[Ford e Fulkerson, Kotzig 1956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dimostrare questo teorema dobbiamo introdurre il concetto di “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cammino aumentant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”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3" name=""/>
              <p:cNvSpPr txBox="1"/>
              <p:nvPr/>
            </p:nvSpPr>
            <p:spPr>
              <a:xfrm>
                <a:off x="684360" y="2563920"/>
                <a:ext cx="741672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: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è un 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lusso ammissibile</m:t>
                            </m:r>
                          </m:e>
                        </m:d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δ</m:t>
                            </m:r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t xml:space="preserve">:</m:t>
                            </m:r>
                            <m:r>
                              <m:t xml:space="preserve">δ</m:t>
                            </m:r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è un 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-taglio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CF27-E427-462D-BE63-7458037C33A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mmini aumentant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09120" y="1413000"/>
            <a:ext cx="792324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Osserv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ato un grafo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= 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e un flusso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se esiste un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-cammino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tale che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ij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&lt;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ij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per ogni arco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j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allora posso aumentare il flusso di un valore pari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2195640" y="3032280"/>
                <a:ext cx="381636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4572000" y="5475240"/>
                <a:ext cx="38163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1,5</m:t>
                        </m:r>
                        <m:r>
                          <m:t xml:space="preserve">−</m:t>
                        </m:r>
                        <m:r>
                          <m:t xml:space="preserve">1,6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58" name=""/>
          <p:cNvGrpSpPr/>
          <p:nvPr/>
        </p:nvGrpSpPr>
        <p:grpSpPr>
          <a:xfrm>
            <a:off x="409320" y="3645000"/>
            <a:ext cx="4761720" cy="2376360"/>
            <a:chOff x="409320" y="3645000"/>
            <a:chExt cx="4761720" cy="2376360"/>
          </a:xfrm>
        </p:grpSpPr>
        <p:sp>
          <p:nvSpPr>
            <p:cNvPr id="559" name=""/>
            <p:cNvSpPr/>
            <p:nvPr/>
          </p:nvSpPr>
          <p:spPr>
            <a:xfrm>
              <a:off x="409320" y="4923000"/>
              <a:ext cx="27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Bookman Old Style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84360" y="4784760"/>
              <a:ext cx="215640" cy="21600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716360" y="4784760"/>
              <a:ext cx="216000" cy="216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763640" y="3921120"/>
              <a:ext cx="216000" cy="216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419640" y="3921120"/>
              <a:ext cx="215640" cy="216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765440" y="5505480"/>
              <a:ext cx="215640" cy="216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421080" y="5505480"/>
              <a:ext cx="216000" cy="216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66" name=""/>
            <p:cNvCxnSpPr>
              <a:stCxn id="560" idx="7"/>
              <a:endCxn id="562" idx="2"/>
            </p:cNvCxnSpPr>
            <p:nvPr/>
          </p:nvCxnSpPr>
          <p:spPr>
            <a:xfrm flipV="1">
              <a:off x="867960" y="4028400"/>
              <a:ext cx="896040" cy="788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67" name=""/>
            <p:cNvCxnSpPr>
              <a:stCxn id="560" idx="5"/>
              <a:endCxn id="564" idx="2"/>
            </p:cNvCxnSpPr>
            <p:nvPr/>
          </p:nvCxnSpPr>
          <p:spPr>
            <a:xfrm>
              <a:off x="868320" y="4968360"/>
              <a:ext cx="897840" cy="645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68" name=""/>
            <p:cNvCxnSpPr>
              <a:stCxn id="562" idx="6"/>
              <a:endCxn id="563" idx="2"/>
            </p:cNvCxnSpPr>
            <p:nvPr/>
          </p:nvCxnSpPr>
          <p:spPr>
            <a:xfrm>
              <a:off x="1979640" y="4028760"/>
              <a:ext cx="14403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69" name=""/>
            <p:cNvCxnSpPr>
              <a:stCxn id="563" idx="6"/>
              <a:endCxn id="561" idx="1"/>
            </p:cNvCxnSpPr>
            <p:nvPr/>
          </p:nvCxnSpPr>
          <p:spPr>
            <a:xfrm>
              <a:off x="3634920" y="4028760"/>
              <a:ext cx="1113120" cy="788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70" name=""/>
            <p:cNvCxnSpPr>
              <a:stCxn id="564" idx="6"/>
              <a:endCxn id="565" idx="2"/>
            </p:cNvCxnSpPr>
            <p:nvPr/>
          </p:nvCxnSpPr>
          <p:spPr>
            <a:xfrm>
              <a:off x="1981080" y="5613120"/>
              <a:ext cx="14403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71" name=""/>
            <p:cNvCxnSpPr>
              <a:stCxn id="565" idx="6"/>
              <a:endCxn id="561" idx="3"/>
            </p:cNvCxnSpPr>
            <p:nvPr/>
          </p:nvCxnSpPr>
          <p:spPr>
            <a:xfrm flipV="1">
              <a:off x="3637080" y="4968000"/>
              <a:ext cx="1111680" cy="645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72" name=""/>
            <p:cNvCxnSpPr>
              <a:stCxn id="562" idx="4"/>
              <a:endCxn id="564" idx="0"/>
            </p:cNvCxnSpPr>
            <p:nvPr/>
          </p:nvCxnSpPr>
          <p:spPr>
            <a:xfrm>
              <a:off x="1871640" y="4136760"/>
              <a:ext cx="2160" cy="1369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73" name=""/>
            <p:cNvCxnSpPr>
              <a:stCxn id="565" idx="0"/>
              <a:endCxn id="563" idx="4"/>
            </p:cNvCxnSpPr>
            <p:nvPr/>
          </p:nvCxnSpPr>
          <p:spPr>
            <a:xfrm flipH="1" flipV="1">
              <a:off x="3526560" y="4136400"/>
              <a:ext cx="2520" cy="1369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74" name=""/>
            <p:cNvSpPr/>
            <p:nvPr/>
          </p:nvSpPr>
          <p:spPr>
            <a:xfrm>
              <a:off x="4914000" y="485604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Bookman Old Style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836720" y="564840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513240" y="56545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77" name=""/>
            <p:cNvCxnSpPr>
              <a:stCxn id="565" idx="1"/>
              <a:endCxn id="562" idx="5"/>
            </p:cNvCxnSpPr>
            <p:nvPr/>
          </p:nvCxnSpPr>
          <p:spPr>
            <a:xfrm flipH="1" flipV="1">
              <a:off x="1947600" y="4104720"/>
              <a:ext cx="1505520" cy="1432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78" name=""/>
            <p:cNvSpPr/>
            <p:nvPr/>
          </p:nvSpPr>
          <p:spPr>
            <a:xfrm>
              <a:off x="772920" y="4003560"/>
              <a:ext cx="54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1,</a:t>
              </a: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061640" y="5335560"/>
              <a:ext cx="54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4,</a:t>
              </a: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447640" y="3645000"/>
              <a:ext cx="54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1,</a:t>
              </a: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572920" y="5589720"/>
              <a:ext cx="54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5,</a:t>
              </a: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873080" y="4616280"/>
              <a:ext cx="54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1,</a:t>
              </a: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646000" y="4471920"/>
              <a:ext cx="54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1,</a:t>
              </a: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032000" y="4040280"/>
              <a:ext cx="54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1,</a:t>
              </a: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157280" y="5157720"/>
              <a:ext cx="54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4,</a:t>
              </a: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511080" y="4545000"/>
              <a:ext cx="54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0,</a:t>
              </a: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863280" y="4023720"/>
            <a:ext cx="3879720" cy="788040"/>
            <a:chOff x="863280" y="4023720"/>
            <a:chExt cx="3879720" cy="788040"/>
          </a:xfrm>
        </p:grpSpPr>
        <p:cxnSp>
          <p:nvCxnSpPr>
            <p:cNvPr id="588" name=""/>
            <p:cNvCxnSpPr/>
            <p:nvPr/>
          </p:nvCxnSpPr>
          <p:spPr>
            <a:xfrm flipV="1">
              <a:off x="863280" y="4023720"/>
              <a:ext cx="896040" cy="78804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589" name=""/>
            <p:cNvCxnSpPr/>
            <p:nvPr/>
          </p:nvCxnSpPr>
          <p:spPr>
            <a:xfrm>
              <a:off x="1974600" y="4024080"/>
              <a:ext cx="1440360" cy="10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590" name=""/>
            <p:cNvCxnSpPr/>
            <p:nvPr/>
          </p:nvCxnSpPr>
          <p:spPr>
            <a:xfrm>
              <a:off x="3630240" y="4024080"/>
              <a:ext cx="1113120" cy="78804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AF7B-936D-4F31-B949-FCF62F36CA8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1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mmini aumentant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09120" y="1413000"/>
            <a:ext cx="792324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Osservazione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nuovo flusso è ottimo. Difatti, esiste un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-taglio (individuato dai nodi blu e rossi) di capacità 8, pari al valore del massimo flus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409320" y="3645000"/>
            <a:ext cx="4761720" cy="2376360"/>
            <a:chOff x="409320" y="3645000"/>
            <a:chExt cx="4761720" cy="2376360"/>
          </a:xfrm>
        </p:grpSpPr>
        <p:sp>
          <p:nvSpPr>
            <p:cNvPr id="594" name=""/>
            <p:cNvSpPr/>
            <p:nvPr/>
          </p:nvSpPr>
          <p:spPr>
            <a:xfrm>
              <a:off x="409320" y="4923000"/>
              <a:ext cx="27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Bookman Old Style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84360" y="4784760"/>
              <a:ext cx="215640" cy="21600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716360" y="4784760"/>
              <a:ext cx="216000" cy="216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763640" y="3921120"/>
              <a:ext cx="216000" cy="216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419640" y="3921120"/>
              <a:ext cx="215640" cy="216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765440" y="5505480"/>
              <a:ext cx="215640" cy="216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421080" y="5505480"/>
              <a:ext cx="216000" cy="216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01" name=""/>
            <p:cNvCxnSpPr>
              <a:stCxn id="595" idx="7"/>
              <a:endCxn id="597" idx="2"/>
            </p:cNvCxnSpPr>
            <p:nvPr/>
          </p:nvCxnSpPr>
          <p:spPr>
            <a:xfrm flipV="1">
              <a:off x="867960" y="4028400"/>
              <a:ext cx="896040" cy="78804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602" name=""/>
            <p:cNvCxnSpPr>
              <a:stCxn id="595" idx="5"/>
              <a:endCxn id="599" idx="2"/>
            </p:cNvCxnSpPr>
            <p:nvPr/>
          </p:nvCxnSpPr>
          <p:spPr>
            <a:xfrm>
              <a:off x="868320" y="4968360"/>
              <a:ext cx="897840" cy="6454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603" name=""/>
            <p:cNvCxnSpPr>
              <a:stCxn id="597" idx="6"/>
              <a:endCxn id="598" idx="2"/>
            </p:cNvCxnSpPr>
            <p:nvPr/>
          </p:nvCxnSpPr>
          <p:spPr>
            <a:xfrm>
              <a:off x="1979640" y="4028760"/>
              <a:ext cx="14403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04" name=""/>
            <p:cNvCxnSpPr>
              <a:stCxn id="598" idx="6"/>
              <a:endCxn id="596" idx="1"/>
            </p:cNvCxnSpPr>
            <p:nvPr/>
          </p:nvCxnSpPr>
          <p:spPr>
            <a:xfrm>
              <a:off x="3634920" y="4028760"/>
              <a:ext cx="1113120" cy="788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05" name=""/>
            <p:cNvCxnSpPr>
              <a:stCxn id="599" idx="6"/>
              <a:endCxn id="600" idx="2"/>
            </p:cNvCxnSpPr>
            <p:nvPr/>
          </p:nvCxnSpPr>
          <p:spPr>
            <a:xfrm>
              <a:off x="1981080" y="5613120"/>
              <a:ext cx="14403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06" name=""/>
            <p:cNvCxnSpPr>
              <a:stCxn id="600" idx="6"/>
              <a:endCxn id="596" idx="3"/>
            </p:cNvCxnSpPr>
            <p:nvPr/>
          </p:nvCxnSpPr>
          <p:spPr>
            <a:xfrm flipV="1">
              <a:off x="3637080" y="4968000"/>
              <a:ext cx="1111680" cy="645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07" name=""/>
            <p:cNvCxnSpPr>
              <a:stCxn id="597" idx="4"/>
              <a:endCxn id="599" idx="0"/>
            </p:cNvCxnSpPr>
            <p:nvPr/>
          </p:nvCxnSpPr>
          <p:spPr>
            <a:xfrm>
              <a:off x="1871640" y="4136760"/>
              <a:ext cx="2160" cy="1369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08" name=""/>
            <p:cNvCxnSpPr>
              <a:stCxn id="600" idx="0"/>
              <a:endCxn id="598" idx="4"/>
            </p:cNvCxnSpPr>
            <p:nvPr/>
          </p:nvCxnSpPr>
          <p:spPr>
            <a:xfrm flipH="1" flipV="1">
              <a:off x="3526560" y="4136400"/>
              <a:ext cx="2520" cy="1369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9" name=""/>
            <p:cNvSpPr/>
            <p:nvPr/>
          </p:nvSpPr>
          <p:spPr>
            <a:xfrm>
              <a:off x="4914000" y="485604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Bookman Old Style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36720" y="564840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513240" y="56545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2" name=""/>
            <p:cNvCxnSpPr>
              <a:stCxn id="600" idx="1"/>
              <a:endCxn id="597" idx="5"/>
            </p:cNvCxnSpPr>
            <p:nvPr/>
          </p:nvCxnSpPr>
          <p:spPr>
            <a:xfrm flipH="1" flipV="1">
              <a:off x="1947600" y="4104720"/>
              <a:ext cx="1505520" cy="1432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3" name=""/>
            <p:cNvSpPr/>
            <p:nvPr/>
          </p:nvSpPr>
          <p:spPr>
            <a:xfrm>
              <a:off x="772920" y="4003560"/>
              <a:ext cx="54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4,</a:t>
              </a: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061640" y="5335560"/>
              <a:ext cx="54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4,</a:t>
              </a: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447640" y="3645000"/>
              <a:ext cx="54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4,</a:t>
              </a: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572920" y="5589720"/>
              <a:ext cx="54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5,</a:t>
              </a: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873080" y="4616280"/>
              <a:ext cx="54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1,</a:t>
              </a: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646000" y="4471920"/>
              <a:ext cx="54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1,</a:t>
              </a: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032000" y="4040280"/>
              <a:ext cx="54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4,</a:t>
              </a: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157280" y="5157720"/>
              <a:ext cx="54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4,</a:t>
              </a: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511080" y="4545000"/>
              <a:ext cx="54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0,</a:t>
              </a: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D738-A32A-4544-9AAF-79709C81524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n possibile algoritm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3924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nizializzazione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do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cerca in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un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t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cammino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tale che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ij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&lt;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ij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per ogni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arc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)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P 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aumenta lungo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il flusso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 x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del valore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}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1" lang="it-IT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(P ≠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);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esto algoritm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1. Termin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2. Trova la soluzione ottim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3. Qual è la sua complessità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971640" y="3500280"/>
                <a:ext cx="30956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A4EC-C8B6-46C2-9E3E-6DC55B2F7D8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mmini aumentant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iamo il grafo di figu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1463400" y="2276640"/>
            <a:ext cx="4761720" cy="2376360"/>
            <a:chOff x="1463400" y="2276640"/>
            <a:chExt cx="4761720" cy="2376360"/>
          </a:xfrm>
        </p:grpSpPr>
        <p:sp>
          <p:nvSpPr>
            <p:cNvPr id="628" name=""/>
            <p:cNvSpPr/>
            <p:nvPr/>
          </p:nvSpPr>
          <p:spPr>
            <a:xfrm>
              <a:off x="1463400" y="3554280"/>
              <a:ext cx="27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Bookman Old Style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738440" y="3416400"/>
              <a:ext cx="215640" cy="21564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770440" y="3416400"/>
              <a:ext cx="216000" cy="215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817720" y="2552760"/>
              <a:ext cx="216000" cy="216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473720" y="2552760"/>
              <a:ext cx="215640" cy="216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819520" y="4137120"/>
              <a:ext cx="215640" cy="215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475160" y="4137120"/>
              <a:ext cx="216000" cy="215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35" name=""/>
            <p:cNvCxnSpPr>
              <a:stCxn id="629" idx="7"/>
              <a:endCxn id="631" idx="2"/>
            </p:cNvCxnSpPr>
            <p:nvPr/>
          </p:nvCxnSpPr>
          <p:spPr>
            <a:xfrm flipV="1">
              <a:off x="1922040" y="2660040"/>
              <a:ext cx="896040" cy="788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6" name=""/>
            <p:cNvCxnSpPr>
              <a:stCxn id="629" idx="5"/>
              <a:endCxn id="633" idx="2"/>
            </p:cNvCxnSpPr>
            <p:nvPr/>
          </p:nvCxnSpPr>
          <p:spPr>
            <a:xfrm>
              <a:off x="1922400" y="3600000"/>
              <a:ext cx="897840" cy="645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7" name=""/>
            <p:cNvCxnSpPr>
              <a:stCxn id="631" idx="6"/>
              <a:endCxn id="632" idx="2"/>
            </p:cNvCxnSpPr>
            <p:nvPr/>
          </p:nvCxnSpPr>
          <p:spPr>
            <a:xfrm>
              <a:off x="3033720" y="2660400"/>
              <a:ext cx="14403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8" name=""/>
            <p:cNvCxnSpPr>
              <a:stCxn id="632" idx="6"/>
              <a:endCxn id="630" idx="1"/>
            </p:cNvCxnSpPr>
            <p:nvPr/>
          </p:nvCxnSpPr>
          <p:spPr>
            <a:xfrm>
              <a:off x="4689360" y="2660400"/>
              <a:ext cx="1113840" cy="788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9" name=""/>
            <p:cNvCxnSpPr>
              <a:stCxn id="633" idx="6"/>
              <a:endCxn id="634" idx="2"/>
            </p:cNvCxnSpPr>
            <p:nvPr/>
          </p:nvCxnSpPr>
          <p:spPr>
            <a:xfrm>
              <a:off x="3035160" y="4244760"/>
              <a:ext cx="14403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0" name=""/>
            <p:cNvCxnSpPr>
              <a:stCxn id="634" idx="6"/>
              <a:endCxn id="630" idx="3"/>
            </p:cNvCxnSpPr>
            <p:nvPr/>
          </p:nvCxnSpPr>
          <p:spPr>
            <a:xfrm flipV="1">
              <a:off x="4690800" y="3599640"/>
              <a:ext cx="1112040" cy="645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1" name=""/>
            <p:cNvCxnSpPr>
              <a:stCxn id="631" idx="4"/>
              <a:endCxn id="633" idx="0"/>
            </p:cNvCxnSpPr>
            <p:nvPr/>
          </p:nvCxnSpPr>
          <p:spPr>
            <a:xfrm>
              <a:off x="2925360" y="2768400"/>
              <a:ext cx="2520" cy="1369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642" name=""/>
            <p:cNvCxnSpPr>
              <a:stCxn id="634" idx="0"/>
              <a:endCxn id="632" idx="4"/>
            </p:cNvCxnSpPr>
            <p:nvPr/>
          </p:nvCxnSpPr>
          <p:spPr>
            <a:xfrm flipH="1" flipV="1">
              <a:off x="4580640" y="2768040"/>
              <a:ext cx="2520" cy="1369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643" name=""/>
            <p:cNvSpPr/>
            <p:nvPr/>
          </p:nvSpPr>
          <p:spPr>
            <a:xfrm>
              <a:off x="5968080" y="348768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Bookman Old Style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890800" y="428004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567320" y="428616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827000" y="2635200"/>
              <a:ext cx="54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3,</a:t>
              </a: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115720" y="3967200"/>
              <a:ext cx="54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5,</a:t>
              </a: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501720" y="2276640"/>
              <a:ext cx="54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4,</a:t>
              </a: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627000" y="4221000"/>
              <a:ext cx="54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4,</a:t>
              </a: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927160" y="3247920"/>
              <a:ext cx="54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1,</a:t>
              </a: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086080" y="2671920"/>
              <a:ext cx="54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4,</a:t>
              </a: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211360" y="3789360"/>
              <a:ext cx="54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4,</a:t>
              </a: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565160" y="3176640"/>
              <a:ext cx="54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0,</a:t>
              </a: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4" name=""/>
          <p:cNvSpPr/>
          <p:nvPr/>
        </p:nvSpPr>
        <p:spPr>
          <a:xfrm>
            <a:off x="684360" y="4695840"/>
            <a:ext cx="79246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Non esistono </a:t>
            </a:r>
            <a:r>
              <a:rPr b="0" lang="it-IT" sz="28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t</a:t>
            </a:r>
            <a:r>
              <a:rPr b="0" lang="it-IT" sz="28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-cammini </a:t>
            </a: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tali che </a:t>
            </a: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i="1" lang="it-IT" sz="2800" spc="-1" strike="noStrike" baseline="-25000">
                <a:solidFill>
                  <a:srgbClr val="000000"/>
                </a:solidFill>
                <a:latin typeface="Bookman Old Style"/>
              </a:rPr>
              <a:t>ij</a:t>
            </a:r>
            <a:r>
              <a:rPr b="0" lang="it-IT" sz="2800" spc="-1" strike="noStrike">
                <a:solidFill>
                  <a:srgbClr val="000000"/>
                </a:solidFill>
                <a:latin typeface="Bookman Old Style"/>
              </a:rPr>
              <a:t> &lt; </a:t>
            </a: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i="1" lang="it-IT" sz="2800" spc="-1" strike="noStrike" baseline="-25000">
                <a:solidFill>
                  <a:srgbClr val="000000"/>
                </a:solidFill>
                <a:latin typeface="Bookman Old Style"/>
              </a:rPr>
              <a:t>ij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per ogni arco </a:t>
            </a:r>
            <a:r>
              <a:rPr b="0" lang="it-IT" sz="28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j</a:t>
            </a:r>
            <a:r>
              <a:rPr b="0" lang="it-IT" sz="28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 ma il flusso non è ottim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4C25-710C-445B-A6CF-5AF0C7160AF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mmini aumentant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1463400" y="2276640"/>
            <a:ext cx="4761720" cy="2376360"/>
            <a:chOff x="1463400" y="2276640"/>
            <a:chExt cx="4761720" cy="2376360"/>
          </a:xfrm>
        </p:grpSpPr>
        <p:sp>
          <p:nvSpPr>
            <p:cNvPr id="657" name=""/>
            <p:cNvSpPr/>
            <p:nvPr/>
          </p:nvSpPr>
          <p:spPr>
            <a:xfrm>
              <a:off x="1463400" y="3554280"/>
              <a:ext cx="27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Bookman Old Style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738440" y="3416400"/>
              <a:ext cx="215640" cy="21564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770440" y="3416400"/>
              <a:ext cx="216000" cy="215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817720" y="2552760"/>
              <a:ext cx="216000" cy="216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473720" y="2552760"/>
              <a:ext cx="215640" cy="216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819520" y="4137120"/>
              <a:ext cx="215640" cy="215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475160" y="4137120"/>
              <a:ext cx="216000" cy="215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4" name=""/>
            <p:cNvCxnSpPr>
              <a:stCxn id="658" idx="7"/>
              <a:endCxn id="660" idx="2"/>
            </p:cNvCxnSpPr>
            <p:nvPr/>
          </p:nvCxnSpPr>
          <p:spPr>
            <a:xfrm flipV="1">
              <a:off x="1922040" y="2660040"/>
              <a:ext cx="896040" cy="788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65" name=""/>
            <p:cNvCxnSpPr>
              <a:stCxn id="658" idx="5"/>
              <a:endCxn id="662" idx="2"/>
            </p:cNvCxnSpPr>
            <p:nvPr/>
          </p:nvCxnSpPr>
          <p:spPr>
            <a:xfrm>
              <a:off x="1922400" y="3600000"/>
              <a:ext cx="897840" cy="645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66" name=""/>
            <p:cNvCxnSpPr>
              <a:stCxn id="660" idx="6"/>
              <a:endCxn id="661" idx="2"/>
            </p:cNvCxnSpPr>
            <p:nvPr/>
          </p:nvCxnSpPr>
          <p:spPr>
            <a:xfrm>
              <a:off x="3033720" y="2660400"/>
              <a:ext cx="14403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67" name=""/>
            <p:cNvCxnSpPr>
              <a:stCxn id="661" idx="6"/>
              <a:endCxn id="659" idx="1"/>
            </p:cNvCxnSpPr>
            <p:nvPr/>
          </p:nvCxnSpPr>
          <p:spPr>
            <a:xfrm>
              <a:off x="4689360" y="2660400"/>
              <a:ext cx="1113840" cy="788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68" name=""/>
            <p:cNvCxnSpPr>
              <a:stCxn id="662" idx="6"/>
              <a:endCxn id="663" idx="2"/>
            </p:cNvCxnSpPr>
            <p:nvPr/>
          </p:nvCxnSpPr>
          <p:spPr>
            <a:xfrm>
              <a:off x="3035160" y="4244760"/>
              <a:ext cx="14403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69" name=""/>
            <p:cNvCxnSpPr>
              <a:stCxn id="663" idx="6"/>
              <a:endCxn id="659" idx="3"/>
            </p:cNvCxnSpPr>
            <p:nvPr/>
          </p:nvCxnSpPr>
          <p:spPr>
            <a:xfrm flipV="1">
              <a:off x="4690800" y="3599640"/>
              <a:ext cx="1112040" cy="645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70" name=""/>
            <p:cNvCxnSpPr>
              <a:stCxn id="660" idx="4"/>
              <a:endCxn id="662" idx="0"/>
            </p:cNvCxnSpPr>
            <p:nvPr/>
          </p:nvCxnSpPr>
          <p:spPr>
            <a:xfrm>
              <a:off x="2925360" y="2768400"/>
              <a:ext cx="2520" cy="1369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671" name=""/>
            <p:cNvCxnSpPr>
              <a:stCxn id="663" idx="0"/>
              <a:endCxn id="661" idx="4"/>
            </p:cNvCxnSpPr>
            <p:nvPr/>
          </p:nvCxnSpPr>
          <p:spPr>
            <a:xfrm flipH="1" flipV="1">
              <a:off x="4580640" y="2768040"/>
              <a:ext cx="2520" cy="1369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672" name=""/>
            <p:cNvSpPr/>
            <p:nvPr/>
          </p:nvSpPr>
          <p:spPr>
            <a:xfrm>
              <a:off x="5968080" y="348768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Bookman Old Style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890800" y="428004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567320" y="428616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827000" y="2635200"/>
              <a:ext cx="54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4,</a:t>
              </a: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115720" y="3967200"/>
              <a:ext cx="54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5,</a:t>
              </a: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501720" y="2276640"/>
              <a:ext cx="54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4,</a:t>
              </a: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627000" y="4221000"/>
              <a:ext cx="54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5,</a:t>
              </a: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927160" y="3247920"/>
              <a:ext cx="54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0,</a:t>
              </a: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086080" y="2671920"/>
              <a:ext cx="54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4,</a:t>
              </a: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211360" y="3789360"/>
              <a:ext cx="54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5,</a:t>
              </a: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565160" y="3176640"/>
              <a:ext cx="54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0,</a:t>
              </a: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o è il flusso ottimo! [Perché?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84360" y="5056200"/>
            <a:ext cx="79246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e si fa ad ottenerlo dal flusso preceden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E1A3-90D6-44A0-BCA6-4E8D9E8EEBC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mmini aumentant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a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un cammino (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NON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ben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rientato) da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. Un arco di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si dice “in avanti” (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forward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) se ha verso concorde con la direzione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“all’indietro” (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revers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) vicever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Defini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-cammino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tale che ogni arco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j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orward ha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ij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&lt;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ij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 ogni arco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i, j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everse ha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ji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&gt; 0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 dice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cammino aumentant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1EF7-E336-41A8-8CCE-DE7B360E6FB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mmini aumentant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463400" y="341136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738440" y="3273480"/>
            <a:ext cx="215640" cy="2160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770440" y="327348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817720" y="240984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4473720" y="2409840"/>
            <a:ext cx="21564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2819520" y="3994200"/>
            <a:ext cx="21564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475160" y="399420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5" name=""/>
          <p:cNvCxnSpPr>
            <a:stCxn id="689" idx="7"/>
            <a:endCxn id="691" idx="2"/>
          </p:cNvCxnSpPr>
          <p:nvPr/>
        </p:nvCxnSpPr>
        <p:spPr>
          <a:xfrm flipV="1">
            <a:off x="1922040" y="2517120"/>
            <a:ext cx="896040" cy="788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6" name=""/>
          <p:cNvCxnSpPr>
            <a:stCxn id="689" idx="5"/>
            <a:endCxn id="693" idx="2"/>
          </p:cNvCxnSpPr>
          <p:nvPr/>
        </p:nvCxnSpPr>
        <p:spPr>
          <a:xfrm>
            <a:off x="1922400" y="3457080"/>
            <a:ext cx="897840" cy="64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7" name=""/>
          <p:cNvCxnSpPr>
            <a:stCxn id="691" idx="6"/>
            <a:endCxn id="692" idx="2"/>
          </p:cNvCxnSpPr>
          <p:nvPr/>
        </p:nvCxnSpPr>
        <p:spPr>
          <a:xfrm>
            <a:off x="3033720" y="2517480"/>
            <a:ext cx="144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8" name=""/>
          <p:cNvCxnSpPr>
            <a:stCxn id="692" idx="6"/>
            <a:endCxn id="690" idx="1"/>
          </p:cNvCxnSpPr>
          <p:nvPr/>
        </p:nvCxnSpPr>
        <p:spPr>
          <a:xfrm>
            <a:off x="4689360" y="2517480"/>
            <a:ext cx="1113840" cy="788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9" name=""/>
          <p:cNvCxnSpPr>
            <a:stCxn id="693" idx="6"/>
            <a:endCxn id="694" idx="2"/>
          </p:cNvCxnSpPr>
          <p:nvPr/>
        </p:nvCxnSpPr>
        <p:spPr>
          <a:xfrm>
            <a:off x="3035160" y="4101840"/>
            <a:ext cx="144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0" name=""/>
          <p:cNvCxnSpPr>
            <a:stCxn id="694" idx="6"/>
            <a:endCxn id="690" idx="3"/>
          </p:cNvCxnSpPr>
          <p:nvPr/>
        </p:nvCxnSpPr>
        <p:spPr>
          <a:xfrm flipV="1">
            <a:off x="4690800" y="3456720"/>
            <a:ext cx="1112040" cy="64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1" name=""/>
          <p:cNvCxnSpPr>
            <a:stCxn id="691" idx="4"/>
            <a:endCxn id="693" idx="0"/>
          </p:cNvCxnSpPr>
          <p:nvPr/>
        </p:nvCxnSpPr>
        <p:spPr>
          <a:xfrm>
            <a:off x="2925360" y="2625480"/>
            <a:ext cx="2520" cy="136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702" name=""/>
          <p:cNvCxnSpPr>
            <a:stCxn id="694" idx="0"/>
            <a:endCxn id="692" idx="4"/>
          </p:cNvCxnSpPr>
          <p:nvPr/>
        </p:nvCxnSpPr>
        <p:spPr>
          <a:xfrm flipH="1" flipV="1">
            <a:off x="4580640" y="2625120"/>
            <a:ext cx="2520" cy="136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703" name=""/>
          <p:cNvSpPr/>
          <p:nvPr/>
        </p:nvSpPr>
        <p:spPr>
          <a:xfrm>
            <a:off x="5968080" y="33447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890800" y="4137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567320" y="4143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1823760" y="24922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3&lt;</a:t>
            </a:r>
            <a:r>
              <a:rPr b="0" lang="en-US" sz="2000" spc="-1" strike="noStrike">
                <a:solidFill>
                  <a:srgbClr val="0033cc"/>
                </a:solidFill>
                <a:latin typeface="Bookman Old Style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115720" y="382428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5,</a:t>
            </a:r>
            <a:r>
              <a:rPr b="0" lang="en-US" sz="2000" spc="-1" strike="noStrike">
                <a:solidFill>
                  <a:srgbClr val="0033cc"/>
                </a:solidFill>
                <a:latin typeface="Bookman Old Style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501720" y="213372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4,</a:t>
            </a:r>
            <a:r>
              <a:rPr b="0" lang="en-US" sz="2000" spc="-1" strike="noStrike">
                <a:solidFill>
                  <a:srgbClr val="0033cc"/>
                </a:solidFill>
                <a:latin typeface="Bookman Old Style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623760" y="40784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4&lt;</a:t>
            </a:r>
            <a:r>
              <a:rPr b="0" lang="en-US" sz="2000" spc="-1" strike="noStrike">
                <a:solidFill>
                  <a:srgbClr val="0033cc"/>
                </a:solidFill>
                <a:latin typeface="Bookman Old Style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2923920" y="310500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1&gt;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5086080" y="252900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4,</a:t>
            </a:r>
            <a:r>
              <a:rPr b="0" lang="en-US" sz="2000" spc="-1" strike="noStrike">
                <a:solidFill>
                  <a:srgbClr val="0033cc"/>
                </a:solidFill>
                <a:latin typeface="Bookman Old Style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08120" y="364644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4&lt;</a:t>
            </a:r>
            <a:r>
              <a:rPr b="0" lang="en-US" sz="2000" spc="-1" strike="noStrike">
                <a:solidFill>
                  <a:srgbClr val="0033cc"/>
                </a:solidFill>
                <a:latin typeface="Bookman Old Style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565160" y="303372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0,</a:t>
            </a:r>
            <a:r>
              <a:rPr b="0" lang="en-US" sz="2000" spc="-1" strike="noStrike">
                <a:solidFill>
                  <a:srgbClr val="0033cc"/>
                </a:solidFill>
                <a:latin typeface="Bookman Old Style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"/>
          <p:cNvGrpSpPr/>
          <p:nvPr/>
        </p:nvGrpSpPr>
        <p:grpSpPr>
          <a:xfrm>
            <a:off x="1922040" y="2522160"/>
            <a:ext cx="3880080" cy="1585080"/>
            <a:chOff x="1922040" y="2522160"/>
            <a:chExt cx="3880080" cy="1585080"/>
          </a:xfrm>
        </p:grpSpPr>
        <p:cxnSp>
          <p:nvCxnSpPr>
            <p:cNvPr id="715" name=""/>
            <p:cNvCxnSpPr/>
            <p:nvPr/>
          </p:nvCxnSpPr>
          <p:spPr>
            <a:xfrm flipV="1">
              <a:off x="1922040" y="2522160"/>
              <a:ext cx="896040" cy="78840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716" name=""/>
            <p:cNvCxnSpPr/>
            <p:nvPr/>
          </p:nvCxnSpPr>
          <p:spPr>
            <a:xfrm>
              <a:off x="3035160" y="4106520"/>
              <a:ext cx="1440360" cy="10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717" name=""/>
            <p:cNvCxnSpPr/>
            <p:nvPr/>
          </p:nvCxnSpPr>
          <p:spPr>
            <a:xfrm flipV="1">
              <a:off x="4690440" y="3462120"/>
              <a:ext cx="1112040" cy="6451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718" name=""/>
            <p:cNvCxnSpPr/>
            <p:nvPr/>
          </p:nvCxnSpPr>
          <p:spPr>
            <a:xfrm>
              <a:off x="2925720" y="2630160"/>
              <a:ext cx="2160" cy="13690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</p:cxnSp>
      </p:grp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 cammino di figura è u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ammino aumentan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11280" y="4508640"/>
            <a:ext cx="792468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ugli archi del cammino possiamo aumentare il flusso della quantità 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min {</a:t>
            </a:r>
            <a:r>
              <a:rPr b="0" i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}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o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=min{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ij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-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ij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: (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è un arco forward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}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=min{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ij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: (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)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è un arco reverse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338B-CEFE-4265-8EC6-0BACA3E73DC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tazio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3548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rafo orienta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G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)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 due nodi “speciali”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 nodo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[nodo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orgen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 e il nodo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[nodo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ozz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370512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13440" y="3705120"/>
            <a:ext cx="216000" cy="21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60720" y="28414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16360" y="28414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62160" y="442584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8160" y="4425840"/>
            <a:ext cx="21564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98" idx="7"/>
            <a:endCxn id="100" idx="2"/>
          </p:cNvCxnSpPr>
          <p:nvPr/>
        </p:nvCxnSpPr>
        <p:spPr>
          <a:xfrm flipV="1">
            <a:off x="2165040" y="2948760"/>
            <a:ext cx="896040" cy="788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8" idx="5"/>
            <a:endCxn id="102" idx="2"/>
          </p:cNvCxnSpPr>
          <p:nvPr/>
        </p:nvCxnSpPr>
        <p:spPr>
          <a:xfrm>
            <a:off x="2165040" y="3889440"/>
            <a:ext cx="897480" cy="64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100" idx="6"/>
            <a:endCxn id="101" idx="2"/>
          </p:cNvCxnSpPr>
          <p:nvPr/>
        </p:nvCxnSpPr>
        <p:spPr>
          <a:xfrm>
            <a:off x="3276360" y="2949120"/>
            <a:ext cx="144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1" idx="6"/>
            <a:endCxn id="99" idx="1"/>
          </p:cNvCxnSpPr>
          <p:nvPr/>
        </p:nvCxnSpPr>
        <p:spPr>
          <a:xfrm>
            <a:off x="4932000" y="2949120"/>
            <a:ext cx="1113120" cy="788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2" idx="6"/>
            <a:endCxn id="103" idx="2"/>
          </p:cNvCxnSpPr>
          <p:nvPr/>
        </p:nvCxnSpPr>
        <p:spPr>
          <a:xfrm>
            <a:off x="3278160" y="4533480"/>
            <a:ext cx="144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103" idx="6"/>
            <a:endCxn id="99" idx="3"/>
          </p:cNvCxnSpPr>
          <p:nvPr/>
        </p:nvCxnSpPr>
        <p:spPr>
          <a:xfrm flipV="1">
            <a:off x="4933440" y="3889080"/>
            <a:ext cx="1112040" cy="64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0" idx="4"/>
            <a:endCxn id="102" idx="0"/>
          </p:cNvCxnSpPr>
          <p:nvPr/>
        </p:nvCxnSpPr>
        <p:spPr>
          <a:xfrm>
            <a:off x="3168720" y="3057120"/>
            <a:ext cx="2160" cy="136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3" idx="0"/>
            <a:endCxn id="101" idx="4"/>
          </p:cNvCxnSpPr>
          <p:nvPr/>
        </p:nvCxnSpPr>
        <p:spPr>
          <a:xfrm flipH="1" flipV="1">
            <a:off x="4823640" y="3056760"/>
            <a:ext cx="2520" cy="136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1807920" y="2978280"/>
            <a:ext cx="76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cc"/>
                </a:solidFill>
                <a:latin typeface="Bookman Old Style"/>
              </a:rPr>
              <a:t>u</a:t>
            </a:r>
            <a:r>
              <a:rPr b="0" i="1" lang="en-US" sz="1800" spc="-1" strike="noStrike" baseline="-25000">
                <a:solidFill>
                  <a:srgbClr val="0033cc"/>
                </a:solidFill>
                <a:latin typeface="Bookman Old Style"/>
              </a:rPr>
              <a:t>s</a:t>
            </a:r>
            <a:r>
              <a:rPr b="0" lang="en-US" sz="1800" spc="-1" strike="noStrike" baseline="-25000">
                <a:solidFill>
                  <a:srgbClr val="0033cc"/>
                </a:solidFill>
                <a:latin typeface="Bookman Old Style"/>
              </a:rPr>
              <a:t>1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06400" y="384336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211080" y="37767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91400" y="2554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67920" y="2560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40640" y="4568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16800" y="45752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605400" y="2560680"/>
            <a:ext cx="786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cc"/>
                </a:solidFill>
                <a:latin typeface="Bookman Old Style"/>
              </a:rPr>
              <a:t>u</a:t>
            </a:r>
            <a:r>
              <a:rPr b="0" lang="en-US" sz="1800" spc="-1" strike="noStrike" baseline="-25000">
                <a:solidFill>
                  <a:srgbClr val="0033cc"/>
                </a:solidFill>
                <a:latin typeface="Bookman Old Style"/>
              </a:rPr>
              <a:t>14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07920" y="4275000"/>
            <a:ext cx="76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cc"/>
                </a:solidFill>
                <a:latin typeface="Bookman Old Style"/>
              </a:rPr>
              <a:t>u</a:t>
            </a:r>
            <a:r>
              <a:rPr b="0" i="1" lang="en-US" sz="1800" spc="-1" strike="noStrike" baseline="-25000">
                <a:solidFill>
                  <a:srgbClr val="0033cc"/>
                </a:solidFill>
                <a:latin typeface="Bookman Old Style"/>
              </a:rPr>
              <a:t>s</a:t>
            </a:r>
            <a:r>
              <a:rPr b="0" lang="en-US" sz="1800" spc="-1" strike="noStrike" baseline="-25000">
                <a:solidFill>
                  <a:srgbClr val="0033cc"/>
                </a:solidFill>
                <a:latin typeface="Bookman Old Style"/>
              </a:rPr>
              <a:t>2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50320" y="4568760"/>
            <a:ext cx="91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cc"/>
                </a:solidFill>
                <a:latin typeface="Bookman Old Style"/>
              </a:rPr>
              <a:t>u</a:t>
            </a:r>
            <a:r>
              <a:rPr b="0" lang="en-US" sz="1800" spc="-1" strike="noStrike" baseline="-25000">
                <a:solidFill>
                  <a:srgbClr val="0033cc"/>
                </a:solidFill>
                <a:latin typeface="Bookman Old Style"/>
              </a:rPr>
              <a:t>23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39520" y="4210200"/>
            <a:ext cx="75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cc"/>
                </a:solidFill>
                <a:latin typeface="Bookman Old Style"/>
              </a:rPr>
              <a:t>u</a:t>
            </a:r>
            <a:r>
              <a:rPr b="0" lang="en-US" sz="1800" spc="-1" strike="noStrike" baseline="-25000">
                <a:solidFill>
                  <a:srgbClr val="0033cc"/>
                </a:solidFill>
                <a:latin typeface="Bookman Old Style"/>
              </a:rPr>
              <a:t>3</a:t>
            </a:r>
            <a:r>
              <a:rPr b="0" i="1" lang="en-US" sz="1800" spc="-1" strike="noStrike" baseline="-25000">
                <a:solidFill>
                  <a:srgbClr val="0033cc"/>
                </a:solidFill>
                <a:latin typeface="Bookman Old Style"/>
              </a:rPr>
              <a:t>t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=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00000" y="2984400"/>
            <a:ext cx="755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cc"/>
                </a:solidFill>
                <a:latin typeface="Bookman Old Style"/>
              </a:rPr>
              <a:t>u</a:t>
            </a:r>
            <a:r>
              <a:rPr b="0" lang="en-US" sz="1800" spc="-1" strike="noStrike" baseline="-25000">
                <a:solidFill>
                  <a:srgbClr val="0033cc"/>
                </a:solidFill>
                <a:latin typeface="Bookman Old Style"/>
              </a:rPr>
              <a:t>4</a:t>
            </a:r>
            <a:r>
              <a:rPr b="0" i="1" lang="en-US" sz="1800" spc="-1" strike="noStrike" baseline="-25000">
                <a:solidFill>
                  <a:srgbClr val="0033cc"/>
                </a:solidFill>
                <a:latin typeface="Bookman Old Style"/>
              </a:rPr>
              <a:t>t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=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29400" y="3554280"/>
            <a:ext cx="786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cc"/>
                </a:solidFill>
                <a:latin typeface="Bookman Old Style"/>
              </a:rPr>
              <a:t>u</a:t>
            </a:r>
            <a:r>
              <a:rPr b="0" lang="en-US" sz="1800" spc="-1" strike="noStrike" baseline="-25000">
                <a:solidFill>
                  <a:srgbClr val="0033cc"/>
                </a:solidFill>
                <a:latin typeface="Bookman Old Style"/>
              </a:rPr>
              <a:t>34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65840" y="3460680"/>
            <a:ext cx="97884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cc"/>
                </a:solidFill>
                <a:latin typeface="Bookman Old Style"/>
              </a:rPr>
              <a:t>u</a:t>
            </a:r>
            <a:r>
              <a:rPr b="0" lang="en-US" sz="1800" spc="-1" strike="noStrike" baseline="-25000">
                <a:solidFill>
                  <a:srgbClr val="0033cc"/>
                </a:solidFill>
                <a:latin typeface="Bookman Old Style"/>
              </a:rPr>
              <a:t>12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= +</a:t>
            </a:r>
            <a:r>
              <a:rPr b="0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5127480"/>
            <a:ext cx="705636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d ogni arco </a:t>
            </a:r>
            <a:r>
              <a:rPr b="0" lang="it-IT" sz="28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j</a:t>
            </a:r>
            <a:r>
              <a:rPr b="0" lang="it-IT" sz="2800" spc="-1" strike="noStrike">
                <a:solidFill>
                  <a:srgbClr val="000000"/>
                </a:solidFill>
                <a:latin typeface="Bookman Old Style"/>
              </a:rPr>
              <a:t>)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è associata una </a:t>
            </a:r>
            <a:r>
              <a:rPr b="0" lang="it-IT" sz="2800" spc="-1" strike="noStrike">
                <a:solidFill>
                  <a:srgbClr val="ff0000"/>
                </a:solidFill>
                <a:latin typeface="Arial"/>
              </a:rPr>
              <a:t>capacità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i="1" lang="it-IT" sz="2800" spc="-1" strike="noStrike" baseline="-25000">
                <a:solidFill>
                  <a:srgbClr val="000000"/>
                </a:solidFill>
                <a:latin typeface="Bookman Old Style"/>
              </a:rPr>
              <a:t>ij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[0, +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it-IT" sz="2800" spc="-1" strike="noStrike">
                <a:solidFill>
                  <a:srgbClr val="0033cc"/>
                </a:solidFill>
                <a:latin typeface="Arial"/>
              </a:rPr>
              <a:t>INT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AE16-351C-49BF-B752-467886375EC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mmini aumentant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463400" y="341136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738440" y="3273480"/>
            <a:ext cx="215640" cy="2160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770440" y="327348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2817720" y="240984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473720" y="2409840"/>
            <a:ext cx="21564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2819520" y="3994200"/>
            <a:ext cx="21564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475160" y="399420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9" name=""/>
          <p:cNvCxnSpPr>
            <a:stCxn id="723" idx="7"/>
            <a:endCxn id="725" idx="2"/>
          </p:cNvCxnSpPr>
          <p:nvPr/>
        </p:nvCxnSpPr>
        <p:spPr>
          <a:xfrm flipV="1">
            <a:off x="1922040" y="2517120"/>
            <a:ext cx="896040" cy="788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0" name=""/>
          <p:cNvCxnSpPr>
            <a:stCxn id="723" idx="5"/>
            <a:endCxn id="727" idx="2"/>
          </p:cNvCxnSpPr>
          <p:nvPr/>
        </p:nvCxnSpPr>
        <p:spPr>
          <a:xfrm>
            <a:off x="1922400" y="3457080"/>
            <a:ext cx="897840" cy="64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1" name=""/>
          <p:cNvCxnSpPr>
            <a:stCxn id="725" idx="6"/>
            <a:endCxn id="726" idx="2"/>
          </p:cNvCxnSpPr>
          <p:nvPr/>
        </p:nvCxnSpPr>
        <p:spPr>
          <a:xfrm>
            <a:off x="3033720" y="2517480"/>
            <a:ext cx="144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2" name=""/>
          <p:cNvCxnSpPr>
            <a:stCxn id="726" idx="6"/>
            <a:endCxn id="724" idx="1"/>
          </p:cNvCxnSpPr>
          <p:nvPr/>
        </p:nvCxnSpPr>
        <p:spPr>
          <a:xfrm>
            <a:off x="4689360" y="2517480"/>
            <a:ext cx="1113840" cy="788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3" name=""/>
          <p:cNvCxnSpPr>
            <a:stCxn id="727" idx="6"/>
            <a:endCxn id="728" idx="2"/>
          </p:cNvCxnSpPr>
          <p:nvPr/>
        </p:nvCxnSpPr>
        <p:spPr>
          <a:xfrm>
            <a:off x="3035160" y="4101840"/>
            <a:ext cx="144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4" name=""/>
          <p:cNvCxnSpPr>
            <a:stCxn id="728" idx="6"/>
            <a:endCxn id="724" idx="3"/>
          </p:cNvCxnSpPr>
          <p:nvPr/>
        </p:nvCxnSpPr>
        <p:spPr>
          <a:xfrm flipV="1">
            <a:off x="4690800" y="3456720"/>
            <a:ext cx="1112040" cy="64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5" name=""/>
          <p:cNvCxnSpPr>
            <a:stCxn id="725" idx="4"/>
            <a:endCxn id="727" idx="0"/>
          </p:cNvCxnSpPr>
          <p:nvPr/>
        </p:nvCxnSpPr>
        <p:spPr>
          <a:xfrm>
            <a:off x="2925360" y="2625480"/>
            <a:ext cx="2520" cy="136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736" name=""/>
          <p:cNvCxnSpPr>
            <a:stCxn id="728" idx="0"/>
            <a:endCxn id="726" idx="4"/>
          </p:cNvCxnSpPr>
          <p:nvPr/>
        </p:nvCxnSpPr>
        <p:spPr>
          <a:xfrm flipH="1" flipV="1">
            <a:off x="4580640" y="2625120"/>
            <a:ext cx="2520" cy="136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737" name=""/>
          <p:cNvSpPr/>
          <p:nvPr/>
        </p:nvSpPr>
        <p:spPr>
          <a:xfrm>
            <a:off x="5968080" y="33447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2890800" y="4137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567320" y="4143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827000" y="249228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4,</a:t>
            </a:r>
            <a:r>
              <a:rPr b="0" lang="en-US" sz="2000" spc="-1" strike="noStrike">
                <a:solidFill>
                  <a:srgbClr val="0033cc"/>
                </a:solidFill>
                <a:latin typeface="Bookman Old Style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2115720" y="382428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5,</a:t>
            </a:r>
            <a:r>
              <a:rPr b="0" lang="en-US" sz="2000" spc="-1" strike="noStrike">
                <a:solidFill>
                  <a:srgbClr val="0033cc"/>
                </a:solidFill>
                <a:latin typeface="Bookman Old Style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501720" y="213372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4,</a:t>
            </a:r>
            <a:r>
              <a:rPr b="0" lang="en-US" sz="2000" spc="-1" strike="noStrike">
                <a:solidFill>
                  <a:srgbClr val="0033cc"/>
                </a:solidFill>
                <a:latin typeface="Bookman Old Style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627000" y="407844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5,</a:t>
            </a:r>
            <a:r>
              <a:rPr b="0" lang="en-US" sz="2000" spc="-1" strike="noStrike">
                <a:solidFill>
                  <a:srgbClr val="0033cc"/>
                </a:solidFill>
                <a:latin typeface="Bookman Old Style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2927160" y="310500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0,</a:t>
            </a:r>
            <a:r>
              <a:rPr b="0" lang="en-US" sz="2000" spc="-1" strike="noStrike">
                <a:solidFill>
                  <a:srgbClr val="0033cc"/>
                </a:solidFill>
                <a:latin typeface="Bookman Old Style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5086080" y="252900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4,</a:t>
            </a:r>
            <a:r>
              <a:rPr b="0" lang="en-US" sz="2000" spc="-1" strike="noStrike">
                <a:solidFill>
                  <a:srgbClr val="0033cc"/>
                </a:solidFill>
                <a:latin typeface="Bookman Old Style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5211360" y="364644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5,</a:t>
            </a:r>
            <a:r>
              <a:rPr b="0" lang="en-US" sz="2000" spc="-1" strike="noStrike">
                <a:solidFill>
                  <a:srgbClr val="0033cc"/>
                </a:solidFill>
                <a:latin typeface="Bookman Old Style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4565160" y="303372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0,</a:t>
            </a:r>
            <a:r>
              <a:rPr b="0" lang="en-US" sz="2000" spc="-1" strike="noStrike">
                <a:solidFill>
                  <a:srgbClr val="0033cc"/>
                </a:solidFill>
                <a:latin typeface="Bookman Old Style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mentando il flusso lungo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ottie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68360" y="4621320"/>
            <a:ext cx="799128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Defini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-cammino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tale che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≠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t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 ogni arco 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)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rward ha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ij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&lt;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ij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 per ogni arco 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i, j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everse ha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ji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&gt; 0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 dice 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cammino incrementant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E7BF-185E-415D-A184-CB21EDAF9C4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Dimostrazione teorema Max-flow Min-cu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948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alla proprietà di dualità debole sappiamo che è sufficiente dimostrare che in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esiste un flusso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e un taglio </a:t>
            </a:r>
            <a:r>
              <a:rPr b="0" i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tali che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f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) =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))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ia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un flusso avente valore massimo. Costruiamo il taglio </a:t>
            </a:r>
            <a:r>
              <a:rPr b="0" i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efinendo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come segu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{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esiste un cammino incrementante 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) }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er definizione,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t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 Difatti, se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t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appartenesse ad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il cammino sarebbe aumentante, contraddicendo la massimalità di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er ogni arco 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j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si ha che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Bookman Old Style"/>
              </a:rPr>
              <a:t>ij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=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Bookman Old Style"/>
              </a:rPr>
              <a:t>ij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 Difatti, se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Bookman Old Style"/>
              </a:rPr>
              <a:t>ij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fosse minore di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Bookman Old Style"/>
              </a:rPr>
              <a:t>ij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si avrebbe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j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 Quindi,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))=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)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er ogni arco 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j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si ha che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Bookman Old Style"/>
              </a:rPr>
              <a:t>ij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=0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 Difatti, se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Bookman Old Style"/>
              </a:rPr>
              <a:t>ij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fosse maggiore di 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0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si avrebbe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j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 Quindi,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))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ertanto, dal Teorema 1 si ha ch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411280" y="5180040"/>
                <a:ext cx="37450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δ</m:t>
                    </m:r>
                    <m:r>
                      <m:t xml:space="preserve">(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R</m:t>
                        </m:r>
                      </m:e>
                    </m:ba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3" name=""/>
          <p:cNvSpPr/>
          <p:nvPr/>
        </p:nvSpPr>
        <p:spPr>
          <a:xfrm>
            <a:off x="2916360" y="41752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3637080" y="44118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60F4-0461-4388-9324-B3A1B4FA3D1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seguenze del teorema MFM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534600" y="138600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Teorem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n flusso ammissibile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è ottimo se e solo se non esistono in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cammini aumentanti rispetto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Dimostr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massimo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non esistono cammini aumenta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on esistono cammini aumentanti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massi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e non esistono cammini aumentanti, utilizzando la costruzione del teore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FMC, possiamo determinare un taglio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 con la propriet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f</a:t>
            </a:r>
            <a:r>
              <a:rPr b="0" i="1" lang="it-IT" sz="1800" spc="-1" strike="noStrike" baseline="-25000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u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(</a:t>
            </a:r>
            <a:r>
              <a:rPr b="0" i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)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alla proprietà di dualità debole segue che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è massimo.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Corollario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è un 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t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-flusso ammissibile e </a:t>
            </a:r>
            <a:r>
              <a:rPr b="0" i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 è un (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t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-taglio, allora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assimo e </a:t>
            </a:r>
            <a:r>
              <a:rPr b="0" i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 è minimo se e solo se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ij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=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ij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per ogni (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 j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ij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=0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 ogni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 j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276720" y="57340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5F57-DDA6-4F4E-9413-67C9C1E3ECE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goritmo del cammino aumentan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inizializzazione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do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cerca in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un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t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cammino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aumenta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rispetto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aumenta lungo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 il flusso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 x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del valore </a:t>
            </a:r>
            <a:r>
              <a:rPr b="0" lang="it-IT" sz="1600" spc="-1" strike="noStrike">
                <a:solidFill>
                  <a:srgbClr val="000000"/>
                </a:solidFill>
                <a:latin typeface="Bookman Old Style"/>
              </a:rPr>
              <a:t>min {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it-IT" sz="1600" spc="-1" strike="noStrike">
                <a:solidFill>
                  <a:srgbClr val="000000"/>
                </a:solidFill>
                <a:latin typeface="Bookman Old Style"/>
              </a:rPr>
              <a:t>}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;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} 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1" lang="it-IT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(P ≠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);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it-IT" sz="1800" spc="-1" strike="noStrike">
                <a:solidFill>
                  <a:srgbClr val="0033cc"/>
                </a:solidFill>
                <a:latin typeface="Arial"/>
              </a:rPr>
              <a:t>[Algoritmo di Ford e Fulkerso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Questo algoritm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1. Termin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2. Trova la soluzione ottima?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S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 se l’algoritmo termina, dal teorema 2 sappiamo che il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lusso è otti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3. Qual è la sua complessità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EB47-5501-4F0F-81F7-F65C69CD30C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a struttura per cercare cammini aumentan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480" y="153000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 cercare cammini aumentanti abbiamo bisogno di una opportuna struttura da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 partire da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definiamo un grafo ausiliario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con le seguenti caratteristich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-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(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)) =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’arco 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appartiene ad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)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se e solo se l’arco 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ppartiene ad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ij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&lt;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ij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oppure (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j, 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 appartiene ad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ji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&gt; 0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Osserv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grafo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non è un grafo </a:t>
            </a:r>
            <a:r>
              <a:rPr b="0" lang="it-IT" sz="2000" spc="-1" strike="noStrike">
                <a:solidFill>
                  <a:srgbClr val="0033cc"/>
                </a:solidFill>
                <a:latin typeface="Arial"/>
              </a:rPr>
              <a:t>semplic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CCA3-BB01-4CBD-A3A1-8D6504856C1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a struttura per cercare cammini aumentan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09480" y="131400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semp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3408120" y="290664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3683160" y="2768760"/>
            <a:ext cx="215640" cy="21564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7715160" y="2768760"/>
            <a:ext cx="216000" cy="21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762440" y="1905120"/>
            <a:ext cx="21600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418440" y="1905120"/>
            <a:ext cx="21564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4764240" y="3489480"/>
            <a:ext cx="21564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6419880" y="3489480"/>
            <a:ext cx="21600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1" name=""/>
          <p:cNvCxnSpPr>
            <a:stCxn id="765" idx="7"/>
            <a:endCxn id="767" idx="2"/>
          </p:cNvCxnSpPr>
          <p:nvPr/>
        </p:nvCxnSpPr>
        <p:spPr>
          <a:xfrm flipV="1">
            <a:off x="3866760" y="2012400"/>
            <a:ext cx="896040" cy="788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2" name=""/>
          <p:cNvCxnSpPr>
            <a:stCxn id="765" idx="5"/>
            <a:endCxn id="769" idx="2"/>
          </p:cNvCxnSpPr>
          <p:nvPr/>
        </p:nvCxnSpPr>
        <p:spPr>
          <a:xfrm>
            <a:off x="3867120" y="2952720"/>
            <a:ext cx="897840" cy="64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3" name=""/>
          <p:cNvCxnSpPr>
            <a:stCxn id="767" idx="6"/>
            <a:endCxn id="768" idx="2"/>
          </p:cNvCxnSpPr>
          <p:nvPr/>
        </p:nvCxnSpPr>
        <p:spPr>
          <a:xfrm>
            <a:off x="4978440" y="2012760"/>
            <a:ext cx="144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4" name=""/>
          <p:cNvCxnSpPr>
            <a:stCxn id="768" idx="6"/>
            <a:endCxn id="766" idx="1"/>
          </p:cNvCxnSpPr>
          <p:nvPr/>
        </p:nvCxnSpPr>
        <p:spPr>
          <a:xfrm>
            <a:off x="6633720" y="2012760"/>
            <a:ext cx="1113120" cy="788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5" name=""/>
          <p:cNvCxnSpPr>
            <a:stCxn id="770" idx="6"/>
            <a:endCxn id="766" idx="3"/>
          </p:cNvCxnSpPr>
          <p:nvPr/>
        </p:nvCxnSpPr>
        <p:spPr>
          <a:xfrm flipV="1">
            <a:off x="6635880" y="2952360"/>
            <a:ext cx="1111680" cy="64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6" name=""/>
          <p:cNvCxnSpPr>
            <a:stCxn id="767" idx="4"/>
            <a:endCxn id="769" idx="0"/>
          </p:cNvCxnSpPr>
          <p:nvPr/>
        </p:nvCxnSpPr>
        <p:spPr>
          <a:xfrm>
            <a:off x="4870440" y="2120760"/>
            <a:ext cx="2160" cy="136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777" name=""/>
          <p:cNvCxnSpPr>
            <a:stCxn id="770" idx="0"/>
            <a:endCxn id="768" idx="4"/>
          </p:cNvCxnSpPr>
          <p:nvPr/>
        </p:nvCxnSpPr>
        <p:spPr>
          <a:xfrm flipH="1" flipV="1">
            <a:off x="6525360" y="2120400"/>
            <a:ext cx="2520" cy="136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778" name=""/>
          <p:cNvSpPr/>
          <p:nvPr/>
        </p:nvSpPr>
        <p:spPr>
          <a:xfrm>
            <a:off x="7912800" y="28400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3771720" y="198756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3,</a:t>
            </a:r>
            <a:r>
              <a:rPr b="0" lang="en-US" sz="2000" spc="-1" strike="noStrike">
                <a:solidFill>
                  <a:srgbClr val="0033cc"/>
                </a:solidFill>
                <a:latin typeface="Bookman Old Style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3798720" y="321300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4,</a:t>
            </a:r>
            <a:r>
              <a:rPr b="0" lang="en-US" sz="2000" spc="-1" strike="noStrike">
                <a:solidFill>
                  <a:srgbClr val="0033cc"/>
                </a:solidFill>
                <a:latin typeface="Bookman Old Style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5446440" y="162864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4,</a:t>
            </a:r>
            <a:r>
              <a:rPr b="0" lang="en-US" sz="2000" spc="-1" strike="noStrike">
                <a:solidFill>
                  <a:srgbClr val="0033cc"/>
                </a:solidFill>
                <a:latin typeface="Bookman Old Style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4871880" y="260028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1,</a:t>
            </a:r>
            <a:r>
              <a:rPr b="0" lang="en-US" sz="2000" spc="-1" strike="noStrike">
                <a:solidFill>
                  <a:srgbClr val="0033cc"/>
                </a:solidFill>
                <a:latin typeface="Bookman Old Style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7030800" y="202392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3,</a:t>
            </a:r>
            <a:r>
              <a:rPr b="0" lang="en-US" sz="2000" spc="-1" strike="noStrike">
                <a:solidFill>
                  <a:srgbClr val="0033cc"/>
                </a:solidFill>
                <a:latin typeface="Bookman Old Style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7156080" y="314172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4,</a:t>
            </a:r>
            <a:r>
              <a:rPr b="0" lang="en-US" sz="2000" spc="-1" strike="noStrike">
                <a:solidFill>
                  <a:srgbClr val="0033cc"/>
                </a:solidFill>
                <a:latin typeface="Bookman Old Style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509880" y="252900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1,</a:t>
            </a:r>
            <a:r>
              <a:rPr b="0" lang="en-US" sz="2000" spc="-1" strike="noStrike">
                <a:solidFill>
                  <a:srgbClr val="0033cc"/>
                </a:solidFill>
                <a:latin typeface="Bookman Old Style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5451120" y="389556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4,</a:t>
            </a:r>
            <a:r>
              <a:rPr b="0" lang="en-US" sz="2000" spc="-1" strike="noStrike">
                <a:solidFill>
                  <a:srgbClr val="0033cc"/>
                </a:solidFill>
                <a:latin typeface="Bookman Old Style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53680" y="499428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828720" y="4856040"/>
            <a:ext cx="216000" cy="2160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861080" y="4856040"/>
            <a:ext cx="215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1908000" y="399240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3564000" y="399240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1909800" y="557676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3565440" y="5576760"/>
            <a:ext cx="216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4" name=""/>
          <p:cNvCxnSpPr>
            <a:stCxn id="792" idx="1"/>
            <a:endCxn id="788" idx="5"/>
          </p:cNvCxnSpPr>
          <p:nvPr/>
        </p:nvCxnSpPr>
        <p:spPr>
          <a:xfrm flipH="1" flipV="1">
            <a:off x="1012320" y="5040000"/>
            <a:ext cx="929520" cy="56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5" name=""/>
          <p:cNvCxnSpPr>
            <a:stCxn id="790" idx="6"/>
            <a:endCxn id="791" idx="2"/>
          </p:cNvCxnSpPr>
          <p:nvPr/>
        </p:nvCxnSpPr>
        <p:spPr>
          <a:xfrm>
            <a:off x="2124000" y="4100040"/>
            <a:ext cx="144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796" name=""/>
          <p:cNvCxnSpPr>
            <a:stCxn id="790" idx="4"/>
            <a:endCxn id="792" idx="0"/>
          </p:cNvCxnSpPr>
          <p:nvPr/>
        </p:nvCxnSpPr>
        <p:spPr>
          <a:xfrm>
            <a:off x="2015640" y="4208040"/>
            <a:ext cx="2520" cy="136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7" name=""/>
          <p:cNvSpPr/>
          <p:nvPr/>
        </p:nvSpPr>
        <p:spPr>
          <a:xfrm>
            <a:off x="5058720" y="49276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8" name=""/>
          <p:cNvGrpSpPr/>
          <p:nvPr/>
        </p:nvGrpSpPr>
        <p:grpSpPr>
          <a:xfrm>
            <a:off x="1012320" y="4100040"/>
            <a:ext cx="927360" cy="864000"/>
            <a:chOff x="1012320" y="4100040"/>
            <a:chExt cx="927360" cy="864000"/>
          </a:xfrm>
        </p:grpSpPr>
        <p:cxnSp>
          <p:nvCxnSpPr>
            <p:cNvPr id="799" name=""/>
            <p:cNvCxnSpPr>
              <a:stCxn id="788" idx="7"/>
              <a:endCxn id="790" idx="2"/>
            </p:cNvCxnSpPr>
            <p:nvPr/>
          </p:nvCxnSpPr>
          <p:spPr>
            <a:xfrm flipH="1" flipV="1" rot="5400000">
              <a:off x="1065960" y="4046040"/>
              <a:ext cx="788400" cy="89604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0" idx="3"/>
              <a:endCxn id="788" idx="6"/>
            </p:cNvCxnSpPr>
            <p:nvPr/>
          </p:nvCxnSpPr>
          <p:spPr>
            <a:xfrm rot="5400000">
              <a:off x="1098000" y="4122360"/>
              <a:ext cx="788040" cy="89604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801" name=""/>
          <p:cNvGrpSpPr/>
          <p:nvPr/>
        </p:nvGrpSpPr>
        <p:grpSpPr>
          <a:xfrm>
            <a:off x="2093400" y="5576400"/>
            <a:ext cx="1504080" cy="479880"/>
            <a:chOff x="2093400" y="5576400"/>
            <a:chExt cx="1504080" cy="479880"/>
          </a:xfrm>
        </p:grpSpPr>
        <p:cxnSp>
          <p:nvCxnSpPr>
            <p:cNvPr id="802" name=""/>
            <p:cNvCxnSpPr>
              <a:stCxn id="792" idx="7"/>
              <a:endCxn id="793" idx="1"/>
            </p:cNvCxnSpPr>
            <p:nvPr/>
          </p:nvCxnSpPr>
          <p:spPr>
            <a:xfrm flipH="1" rot="16200000">
              <a:off x="2844720" y="4857480"/>
              <a:ext cx="2160" cy="1504080"/>
            </a:xfrm>
            <a:prstGeom prst="curvedConnector5">
              <a:avLst>
                <a:gd name="adj1" fmla="val -1800000"/>
                <a:gd name="adj2" fmla="val 49988"/>
                <a:gd name="adj3" fmla="val -18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03" name=""/>
            <p:cNvCxnSpPr>
              <a:stCxn id="793" idx="3"/>
              <a:endCxn id="792" idx="5"/>
            </p:cNvCxnSpPr>
            <p:nvPr/>
          </p:nvCxnSpPr>
          <p:spPr>
            <a:xfrm rot="5400000">
              <a:off x="2844000" y="5010120"/>
              <a:ext cx="2160" cy="1504080"/>
            </a:xfrm>
            <a:prstGeom prst="curvedConnector5">
              <a:avLst>
                <a:gd name="adj1" fmla="val 16400000"/>
                <a:gd name="adj2" fmla="val 49988"/>
                <a:gd name="adj3" fmla="val 16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804" name=""/>
          <p:cNvGrpSpPr/>
          <p:nvPr/>
        </p:nvGrpSpPr>
        <p:grpSpPr>
          <a:xfrm>
            <a:off x="3747960" y="4100400"/>
            <a:ext cx="1144440" cy="863640"/>
            <a:chOff x="3747960" y="4100400"/>
            <a:chExt cx="1144440" cy="863640"/>
          </a:xfrm>
        </p:grpSpPr>
        <p:cxnSp>
          <p:nvCxnSpPr>
            <p:cNvPr id="805" name=""/>
            <p:cNvCxnSpPr>
              <a:stCxn id="791" idx="6"/>
              <a:endCxn id="789" idx="1"/>
            </p:cNvCxnSpPr>
            <p:nvPr/>
          </p:nvCxnSpPr>
          <p:spPr>
            <a:xfrm>
              <a:off x="3779640" y="4100400"/>
              <a:ext cx="1113120" cy="7884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06" name=""/>
            <p:cNvCxnSpPr>
              <a:stCxn id="791" idx="5"/>
              <a:endCxn id="789" idx="2"/>
            </p:cNvCxnSpPr>
            <p:nvPr/>
          </p:nvCxnSpPr>
          <p:spPr>
            <a:xfrm flipH="1" rot="16200000">
              <a:off x="3910680" y="4013280"/>
              <a:ext cx="788040" cy="111384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</p:grpSp>
      <p:cxnSp>
        <p:nvCxnSpPr>
          <p:cNvPr id="807" name=""/>
          <p:cNvCxnSpPr>
            <a:stCxn id="769" idx="5"/>
            <a:endCxn id="770" idx="3"/>
          </p:cNvCxnSpPr>
          <p:nvPr/>
        </p:nvCxnSpPr>
        <p:spPr>
          <a:xfrm flipH="1" rot="16200000">
            <a:off x="5698800" y="2922120"/>
            <a:ext cx="2520" cy="1504080"/>
          </a:xfrm>
          <a:prstGeom prst="curvedConnector5">
            <a:avLst>
              <a:gd name="adj1" fmla="val 16400000"/>
              <a:gd name="adj2" fmla="val 49988"/>
              <a:gd name="adj3" fmla="val 16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8" name=""/>
          <p:cNvCxnSpPr>
            <a:stCxn id="769" idx="7"/>
            <a:endCxn id="770" idx="1"/>
          </p:cNvCxnSpPr>
          <p:nvPr/>
        </p:nvCxnSpPr>
        <p:spPr>
          <a:xfrm flipH="1" rot="16200000">
            <a:off x="5699160" y="2769840"/>
            <a:ext cx="2160" cy="1504080"/>
          </a:xfrm>
          <a:prstGeom prst="curvedConnector5">
            <a:avLst>
              <a:gd name="adj1" fmla="val -16400000"/>
              <a:gd name="adj2" fmla="val 49988"/>
              <a:gd name="adj3" fmla="val -16400000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809" name=""/>
          <p:cNvSpPr/>
          <p:nvPr/>
        </p:nvSpPr>
        <p:spPr>
          <a:xfrm>
            <a:off x="5524200" y="288756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1,</a:t>
            </a:r>
            <a:r>
              <a:rPr b="0" lang="en-US" sz="2000" spc="-1" strike="noStrike">
                <a:solidFill>
                  <a:srgbClr val="0033cc"/>
                </a:solidFill>
                <a:latin typeface="Bookman Old Style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0" name=""/>
          <p:cNvCxnSpPr>
            <a:stCxn id="792" idx="7"/>
            <a:endCxn id="793" idx="1"/>
          </p:cNvCxnSpPr>
          <p:nvPr/>
        </p:nvCxnSpPr>
        <p:spPr>
          <a:xfrm flipH="1" rot="16200000">
            <a:off x="2844720" y="4857480"/>
            <a:ext cx="2160" cy="1504080"/>
          </a:xfrm>
          <a:prstGeom prst="curvedConnector5">
            <a:avLst>
              <a:gd name="adj1" fmla="val -24500000"/>
              <a:gd name="adj2" fmla="val 49988"/>
              <a:gd name="adj3" fmla="val -24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811" name=""/>
          <p:cNvGrpSpPr/>
          <p:nvPr/>
        </p:nvGrpSpPr>
        <p:grpSpPr>
          <a:xfrm>
            <a:off x="3749040" y="4962960"/>
            <a:ext cx="1219680" cy="721800"/>
            <a:chOff x="3749040" y="4962960"/>
            <a:chExt cx="1219680" cy="721800"/>
          </a:xfrm>
        </p:grpSpPr>
        <p:cxnSp>
          <p:nvCxnSpPr>
            <p:cNvPr id="812" name=""/>
            <p:cNvCxnSpPr>
              <a:stCxn id="793" idx="6"/>
              <a:endCxn id="789" idx="4"/>
            </p:cNvCxnSpPr>
            <p:nvPr/>
          </p:nvCxnSpPr>
          <p:spPr>
            <a:xfrm flipV="1">
              <a:off x="3781440" y="5071680"/>
              <a:ext cx="1187640" cy="61344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13" name=""/>
            <p:cNvCxnSpPr>
              <a:stCxn id="789" idx="2"/>
              <a:endCxn id="793" idx="7"/>
            </p:cNvCxnSpPr>
            <p:nvPr/>
          </p:nvCxnSpPr>
          <p:spPr>
            <a:xfrm flipV="1" rot="10800000">
              <a:off x="3749040" y="4962960"/>
              <a:ext cx="1112040" cy="6454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14" name=""/>
          <p:cNvSpPr/>
          <p:nvPr/>
        </p:nvSpPr>
        <p:spPr>
          <a:xfrm>
            <a:off x="5605920" y="4781520"/>
            <a:ext cx="8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5" name=""/>
          <p:cNvGrpSpPr/>
          <p:nvPr/>
        </p:nvGrpSpPr>
        <p:grpSpPr>
          <a:xfrm>
            <a:off x="3304440" y="4099680"/>
            <a:ext cx="736560" cy="1585080"/>
            <a:chOff x="3304440" y="4099680"/>
            <a:chExt cx="736560" cy="1585080"/>
          </a:xfrm>
        </p:grpSpPr>
        <p:cxnSp>
          <p:nvCxnSpPr>
            <p:cNvPr id="816" name=""/>
            <p:cNvCxnSpPr>
              <a:stCxn id="791" idx="6"/>
              <a:endCxn id="793" idx="6"/>
            </p:cNvCxnSpPr>
            <p:nvPr/>
          </p:nvCxnSpPr>
          <p:spPr>
            <a:xfrm>
              <a:off x="3780000" y="4100040"/>
              <a:ext cx="2160" cy="1585080"/>
            </a:xfrm>
            <a:prstGeom prst="curvedConnector5">
              <a:avLst>
                <a:gd name="adj1" fmla="val 14500000"/>
                <a:gd name="adj2" fmla="val 50000"/>
                <a:gd name="adj3" fmla="val 1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17" name=""/>
            <p:cNvCxnSpPr>
              <a:stCxn id="793" idx="2"/>
              <a:endCxn id="791" idx="2"/>
            </p:cNvCxnSpPr>
            <p:nvPr/>
          </p:nvCxnSpPr>
          <p:spPr>
            <a:xfrm rot="10800000">
              <a:off x="3563280" y="4099680"/>
              <a:ext cx="2160" cy="1585080"/>
            </a:xfrm>
            <a:prstGeom prst="curvedConnector5">
              <a:avLst>
                <a:gd name="adj1" fmla="val 14500000"/>
                <a:gd name="adj2" fmla="val 50000"/>
                <a:gd name="adj3" fmla="val 1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18CC-B1CD-4AAE-95A1-4C718DFAAB0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rminazione e complessit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609480" y="148392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t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cammino su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corrisponde ad un cammino aumentante su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 Pertanto, un cammino aumentante su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si può determinare in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O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m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),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“semplicemente” visitando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G 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è intero e il grafo ammette un flusso finito, allora un bound sul numero di iterazioni dell’algoritmo è dato da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k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dove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k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è il valore del massimo fluss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n bound banale per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k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i ottiene considerando un taglio con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={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}.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e indichiamo con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la capacita massima degli archi,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)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nU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ertanto, l’algoritmo basato sul cammino aumentante termina in al più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O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nmU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iterazioni se G ammette un flusso diverso da +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nche se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è razionale, si può costruire un opportuno problema “scalato” e dimostrare la convergenza in un numero finito di pass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0980-F9AB-48BA-8952-202879C8F23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semp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complessità “pratica” dipende dalla scelta dei cammini aumentan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iamo il seguente graf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919080" y="4076640"/>
            <a:ext cx="287280" cy="2872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432160" y="3284640"/>
            <a:ext cx="28728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944880" y="4076640"/>
            <a:ext cx="28728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2430360" y="5013360"/>
            <a:ext cx="28728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6" name=""/>
          <p:cNvCxnSpPr>
            <a:stCxn id="822" idx="7"/>
            <a:endCxn id="823" idx="2"/>
          </p:cNvCxnSpPr>
          <p:nvPr/>
        </p:nvCxnSpPr>
        <p:spPr>
          <a:xfrm flipV="1">
            <a:off x="1163520" y="3428640"/>
            <a:ext cx="1269360" cy="691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7" name=""/>
          <p:cNvCxnSpPr>
            <a:stCxn id="822" idx="5"/>
            <a:endCxn id="825" idx="2"/>
          </p:cNvCxnSpPr>
          <p:nvPr/>
        </p:nvCxnSpPr>
        <p:spPr>
          <a:xfrm>
            <a:off x="1163160" y="4321080"/>
            <a:ext cx="1267560" cy="83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8" name=""/>
          <p:cNvCxnSpPr>
            <a:stCxn id="825" idx="6"/>
            <a:endCxn id="824" idx="3"/>
          </p:cNvCxnSpPr>
          <p:nvPr/>
        </p:nvCxnSpPr>
        <p:spPr>
          <a:xfrm flipV="1">
            <a:off x="2717640" y="4320720"/>
            <a:ext cx="1270800" cy="83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9" name=""/>
          <p:cNvCxnSpPr>
            <a:stCxn id="823" idx="6"/>
            <a:endCxn id="824" idx="1"/>
          </p:cNvCxnSpPr>
          <p:nvPr/>
        </p:nvCxnSpPr>
        <p:spPr>
          <a:xfrm>
            <a:off x="2719080" y="3429000"/>
            <a:ext cx="1269000" cy="691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0" name=""/>
          <p:cNvCxnSpPr>
            <a:stCxn id="823" idx="4"/>
            <a:endCxn id="825" idx="0"/>
          </p:cNvCxnSpPr>
          <p:nvPr/>
        </p:nvCxnSpPr>
        <p:spPr>
          <a:xfrm flipH="1">
            <a:off x="2574720" y="3571920"/>
            <a:ext cx="216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1" name=""/>
          <p:cNvSpPr/>
          <p:nvPr/>
        </p:nvSpPr>
        <p:spPr>
          <a:xfrm>
            <a:off x="770760" y="429408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4139640" y="4227480"/>
            <a:ext cx="26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2655000" y="3036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2294640" y="5268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513800" y="3355920"/>
            <a:ext cx="56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0,</a:t>
            </a:r>
            <a:r>
              <a:rPr b="0" i="1" lang="en-US" sz="2000" spc="-1" strike="noStrike">
                <a:solidFill>
                  <a:srgbClr val="0033cc"/>
                </a:solidFill>
                <a:latin typeface="Bookman Old Style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350360" y="4722840"/>
            <a:ext cx="56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0,</a:t>
            </a:r>
            <a:r>
              <a:rPr b="0" i="1" lang="en-US" sz="2000" spc="-1" strike="noStrike">
                <a:solidFill>
                  <a:srgbClr val="0033cc"/>
                </a:solidFill>
                <a:latin typeface="Bookman Old Style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3234600" y="3355920"/>
            <a:ext cx="56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0,</a:t>
            </a:r>
            <a:r>
              <a:rPr b="0" i="1" lang="en-US" sz="2000" spc="-1" strike="noStrike">
                <a:solidFill>
                  <a:srgbClr val="0033cc"/>
                </a:solidFill>
                <a:latin typeface="Bookman Old Style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3458520" y="4614840"/>
            <a:ext cx="56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0,</a:t>
            </a:r>
            <a:r>
              <a:rPr b="0" i="1" lang="en-US" sz="2000" spc="-1" strike="noStrike">
                <a:solidFill>
                  <a:srgbClr val="0033cc"/>
                </a:solidFill>
                <a:latin typeface="Bookman Old Style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2587320" y="404028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0,</a:t>
            </a:r>
            <a:r>
              <a:rPr b="0" lang="en-US" sz="2000" spc="-1" strike="noStrike">
                <a:solidFill>
                  <a:srgbClr val="0033cc"/>
                </a:solidFill>
                <a:latin typeface="Bookman Old Style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280960" y="5697360"/>
            <a:ext cx="35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4752000" y="2997360"/>
            <a:ext cx="3633480" cy="2989440"/>
            <a:chOff x="4752000" y="2997360"/>
            <a:chExt cx="3633480" cy="2989440"/>
          </a:xfrm>
        </p:grpSpPr>
        <p:sp>
          <p:nvSpPr>
            <p:cNvPr id="842" name=""/>
            <p:cNvSpPr/>
            <p:nvPr/>
          </p:nvSpPr>
          <p:spPr>
            <a:xfrm>
              <a:off x="4900680" y="4037040"/>
              <a:ext cx="287280" cy="28728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413400" y="3244680"/>
              <a:ext cx="287280" cy="287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926480" y="4037040"/>
              <a:ext cx="287280" cy="287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411960" y="4973760"/>
              <a:ext cx="287280" cy="28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46" name=""/>
            <p:cNvCxnSpPr>
              <a:stCxn id="842" idx="7"/>
              <a:endCxn id="843" idx="2"/>
            </p:cNvCxnSpPr>
            <p:nvPr/>
          </p:nvCxnSpPr>
          <p:spPr>
            <a:xfrm flipV="1">
              <a:off x="5144760" y="3389040"/>
              <a:ext cx="1269000" cy="691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7" name=""/>
            <p:cNvCxnSpPr>
              <a:stCxn id="842" idx="5"/>
              <a:endCxn id="845" idx="2"/>
            </p:cNvCxnSpPr>
            <p:nvPr/>
          </p:nvCxnSpPr>
          <p:spPr>
            <a:xfrm>
              <a:off x="5144760" y="4281480"/>
              <a:ext cx="1267560" cy="837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8" name=""/>
            <p:cNvCxnSpPr>
              <a:stCxn id="845" idx="6"/>
              <a:endCxn id="844" idx="3"/>
            </p:cNvCxnSpPr>
            <p:nvPr/>
          </p:nvCxnSpPr>
          <p:spPr>
            <a:xfrm flipV="1">
              <a:off x="6699240" y="4281120"/>
              <a:ext cx="1270800" cy="837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9" name=""/>
            <p:cNvCxnSpPr>
              <a:stCxn id="843" idx="6"/>
              <a:endCxn id="844" idx="1"/>
            </p:cNvCxnSpPr>
            <p:nvPr/>
          </p:nvCxnSpPr>
          <p:spPr>
            <a:xfrm>
              <a:off x="6700680" y="3389400"/>
              <a:ext cx="1269360" cy="691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50" name=""/>
            <p:cNvCxnSpPr>
              <a:stCxn id="843" idx="4"/>
              <a:endCxn id="845" idx="0"/>
            </p:cNvCxnSpPr>
            <p:nvPr/>
          </p:nvCxnSpPr>
          <p:spPr>
            <a:xfrm flipH="1">
              <a:off x="6555600" y="3532320"/>
              <a:ext cx="2520" cy="14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51" name=""/>
            <p:cNvSpPr/>
            <p:nvPr/>
          </p:nvSpPr>
          <p:spPr>
            <a:xfrm>
              <a:off x="4752000" y="425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8120880" y="4187880"/>
              <a:ext cx="26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636600" y="2997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276240" y="5229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517800" y="5587920"/>
              <a:ext cx="62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G</a:t>
              </a: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x</a:t>
              </a: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13F1-1004-4D78-B0C5-30A24DC0AFD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semp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mino aumentante su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: {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, 1, 2,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}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4900680" y="4037040"/>
            <a:ext cx="287280" cy="2872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6413400" y="3244680"/>
            <a:ext cx="287280" cy="28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7926480" y="4037040"/>
            <a:ext cx="28728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6411960" y="4973760"/>
            <a:ext cx="28728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2" name=""/>
          <p:cNvCxnSpPr>
            <a:stCxn id="858" idx="7"/>
            <a:endCxn id="859" idx="2"/>
          </p:cNvCxnSpPr>
          <p:nvPr/>
        </p:nvCxnSpPr>
        <p:spPr>
          <a:xfrm flipV="1">
            <a:off x="5144760" y="3389040"/>
            <a:ext cx="1269000" cy="691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3" name=""/>
          <p:cNvCxnSpPr>
            <a:stCxn id="861" idx="6"/>
            <a:endCxn id="860" idx="3"/>
          </p:cNvCxnSpPr>
          <p:nvPr/>
        </p:nvCxnSpPr>
        <p:spPr>
          <a:xfrm flipV="1">
            <a:off x="6699240" y="4281120"/>
            <a:ext cx="1270800" cy="83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4" name=""/>
          <p:cNvCxnSpPr>
            <a:stCxn id="859" idx="4"/>
            <a:endCxn id="861" idx="0"/>
          </p:cNvCxnSpPr>
          <p:nvPr/>
        </p:nvCxnSpPr>
        <p:spPr>
          <a:xfrm flipH="1">
            <a:off x="6555600" y="3532320"/>
            <a:ext cx="252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5" name=""/>
          <p:cNvSpPr/>
          <p:nvPr/>
        </p:nvSpPr>
        <p:spPr>
          <a:xfrm>
            <a:off x="4752000" y="425448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8120880" y="4187880"/>
            <a:ext cx="26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6636600" y="2997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6276240" y="5229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"/>
          <p:cNvGrpSpPr/>
          <p:nvPr/>
        </p:nvGrpSpPr>
        <p:grpSpPr>
          <a:xfrm>
            <a:off x="770760" y="3036960"/>
            <a:ext cx="3633480" cy="3059280"/>
            <a:chOff x="770760" y="3036960"/>
            <a:chExt cx="3633480" cy="3059280"/>
          </a:xfrm>
        </p:grpSpPr>
        <p:sp>
          <p:nvSpPr>
            <p:cNvPr id="870" name=""/>
            <p:cNvSpPr/>
            <p:nvPr/>
          </p:nvSpPr>
          <p:spPr>
            <a:xfrm>
              <a:off x="919080" y="4076640"/>
              <a:ext cx="287280" cy="28728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432160" y="3284640"/>
              <a:ext cx="287280" cy="28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944880" y="4076640"/>
              <a:ext cx="287280" cy="287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430360" y="5013360"/>
              <a:ext cx="287280" cy="28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4" name=""/>
            <p:cNvCxnSpPr>
              <a:stCxn id="870" idx="7"/>
              <a:endCxn id="871" idx="2"/>
            </p:cNvCxnSpPr>
            <p:nvPr/>
          </p:nvCxnSpPr>
          <p:spPr>
            <a:xfrm flipV="1">
              <a:off x="1163520" y="3428640"/>
              <a:ext cx="1269360" cy="691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75" name=""/>
            <p:cNvCxnSpPr>
              <a:stCxn id="870" idx="5"/>
              <a:endCxn id="873" idx="2"/>
            </p:cNvCxnSpPr>
            <p:nvPr/>
          </p:nvCxnSpPr>
          <p:spPr>
            <a:xfrm>
              <a:off x="1163160" y="4321080"/>
              <a:ext cx="1267560" cy="837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76" name=""/>
            <p:cNvCxnSpPr>
              <a:stCxn id="873" idx="6"/>
              <a:endCxn id="872" idx="3"/>
            </p:cNvCxnSpPr>
            <p:nvPr/>
          </p:nvCxnSpPr>
          <p:spPr>
            <a:xfrm flipV="1">
              <a:off x="2717640" y="4320720"/>
              <a:ext cx="1270800" cy="837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77" name=""/>
            <p:cNvCxnSpPr>
              <a:stCxn id="871" idx="6"/>
              <a:endCxn id="872" idx="1"/>
            </p:cNvCxnSpPr>
            <p:nvPr/>
          </p:nvCxnSpPr>
          <p:spPr>
            <a:xfrm>
              <a:off x="2719080" y="3429000"/>
              <a:ext cx="1269000" cy="691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78" name=""/>
            <p:cNvCxnSpPr>
              <a:stCxn id="871" idx="4"/>
              <a:endCxn id="873" idx="0"/>
            </p:cNvCxnSpPr>
            <p:nvPr/>
          </p:nvCxnSpPr>
          <p:spPr>
            <a:xfrm flipH="1">
              <a:off x="2574720" y="3571920"/>
              <a:ext cx="2160" cy="14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79" name=""/>
            <p:cNvSpPr/>
            <p:nvPr/>
          </p:nvSpPr>
          <p:spPr>
            <a:xfrm>
              <a:off x="770760" y="42940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139640" y="4227480"/>
              <a:ext cx="26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655000" y="3036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294640" y="5268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513800" y="3355920"/>
              <a:ext cx="56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1,</a:t>
              </a:r>
              <a:r>
                <a:rPr b="0" i="1" lang="en-US" sz="2000" spc="-1" strike="noStrike">
                  <a:solidFill>
                    <a:srgbClr val="0033cc"/>
                  </a:solidFill>
                  <a:latin typeface="Bookman Old Style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350360" y="4722840"/>
              <a:ext cx="56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0,</a:t>
              </a:r>
              <a:r>
                <a:rPr b="0" i="1" lang="en-US" sz="2000" spc="-1" strike="noStrike">
                  <a:solidFill>
                    <a:srgbClr val="0033cc"/>
                  </a:solidFill>
                  <a:latin typeface="Bookman Old Style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234600" y="3355920"/>
              <a:ext cx="56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0,</a:t>
              </a:r>
              <a:r>
                <a:rPr b="0" i="1" lang="en-US" sz="2000" spc="-1" strike="noStrike">
                  <a:solidFill>
                    <a:srgbClr val="0033cc"/>
                  </a:solidFill>
                  <a:latin typeface="Bookman Old Style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458520" y="4614840"/>
              <a:ext cx="56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1,</a:t>
              </a:r>
              <a:r>
                <a:rPr b="0" i="1" lang="en-US" sz="2000" spc="-1" strike="noStrike">
                  <a:solidFill>
                    <a:srgbClr val="0033cc"/>
                  </a:solidFill>
                  <a:latin typeface="Bookman Old Style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587320" y="4040280"/>
              <a:ext cx="54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1,</a:t>
              </a: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280960" y="5697360"/>
              <a:ext cx="35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9" name=""/>
          <p:cNvSpPr/>
          <p:nvPr/>
        </p:nvSpPr>
        <p:spPr>
          <a:xfrm>
            <a:off x="6517800" y="55879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ADDF-9356-43DC-AEB9-A52D13AF59BD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semp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1" name=""/>
          <p:cNvGrpSpPr/>
          <p:nvPr/>
        </p:nvGrpSpPr>
        <p:grpSpPr>
          <a:xfrm>
            <a:off x="770760" y="2133720"/>
            <a:ext cx="3948840" cy="3962520"/>
            <a:chOff x="770760" y="2133720"/>
            <a:chExt cx="3948840" cy="3962520"/>
          </a:xfrm>
        </p:grpSpPr>
        <p:grpSp>
          <p:nvGrpSpPr>
            <p:cNvPr id="892" name=""/>
            <p:cNvGrpSpPr/>
            <p:nvPr/>
          </p:nvGrpSpPr>
          <p:grpSpPr>
            <a:xfrm>
              <a:off x="770760" y="3036960"/>
              <a:ext cx="3633480" cy="3059280"/>
              <a:chOff x="770760" y="3036960"/>
              <a:chExt cx="3633480" cy="3059280"/>
            </a:xfrm>
          </p:grpSpPr>
          <p:sp>
            <p:nvSpPr>
              <p:cNvPr id="893" name=""/>
              <p:cNvSpPr/>
              <p:nvPr/>
            </p:nvSpPr>
            <p:spPr>
              <a:xfrm>
                <a:off x="919080" y="4076640"/>
                <a:ext cx="287280" cy="28728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2432160" y="3284640"/>
                <a:ext cx="287280" cy="287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944880" y="4076640"/>
                <a:ext cx="287280" cy="287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430360" y="5013360"/>
                <a:ext cx="287280" cy="287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97" name=""/>
              <p:cNvCxnSpPr>
                <a:stCxn id="893" idx="7"/>
                <a:endCxn id="894" idx="2"/>
              </p:cNvCxnSpPr>
              <p:nvPr/>
            </p:nvCxnSpPr>
            <p:spPr>
              <a:xfrm flipV="1">
                <a:off x="1163520" y="3428640"/>
                <a:ext cx="1269360" cy="6912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898" name=""/>
              <p:cNvCxnSpPr>
                <a:stCxn id="893" idx="5"/>
                <a:endCxn id="896" idx="2"/>
              </p:cNvCxnSpPr>
              <p:nvPr/>
            </p:nvCxnSpPr>
            <p:spPr>
              <a:xfrm>
                <a:off x="1163160" y="4321080"/>
                <a:ext cx="1267560" cy="837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899" name=""/>
              <p:cNvCxnSpPr>
                <a:stCxn id="896" idx="6"/>
                <a:endCxn id="895" idx="3"/>
              </p:cNvCxnSpPr>
              <p:nvPr/>
            </p:nvCxnSpPr>
            <p:spPr>
              <a:xfrm flipV="1">
                <a:off x="2717640" y="4320720"/>
                <a:ext cx="1270800" cy="837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00" name=""/>
              <p:cNvCxnSpPr>
                <a:stCxn id="894" idx="6"/>
                <a:endCxn id="895" idx="1"/>
              </p:cNvCxnSpPr>
              <p:nvPr/>
            </p:nvCxnSpPr>
            <p:spPr>
              <a:xfrm>
                <a:off x="2719080" y="3429000"/>
                <a:ext cx="1269000" cy="6912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01" name=""/>
              <p:cNvCxnSpPr>
                <a:stCxn id="894" idx="4"/>
                <a:endCxn id="896" idx="0"/>
              </p:cNvCxnSpPr>
              <p:nvPr/>
            </p:nvCxnSpPr>
            <p:spPr>
              <a:xfrm flipH="1">
                <a:off x="2574720" y="3571920"/>
                <a:ext cx="2160" cy="144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902" name=""/>
              <p:cNvSpPr/>
              <p:nvPr/>
            </p:nvSpPr>
            <p:spPr>
              <a:xfrm>
                <a:off x="770760" y="4294080"/>
                <a:ext cx="290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4139640" y="4227480"/>
                <a:ext cx="26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2655000" y="303696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2294640" y="526896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13800" y="3355920"/>
                <a:ext cx="56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1,</a:t>
                </a:r>
                <a:r>
                  <a:rPr b="0" i="1" lang="en-US" sz="2000" spc="-1" strike="noStrike">
                    <a:solidFill>
                      <a:srgbClr val="0033cc"/>
                    </a:solidFill>
                    <a:latin typeface="Bookman Old Style"/>
                  </a:rPr>
                  <a:t>U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350360" y="4722840"/>
                <a:ext cx="56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0,</a:t>
                </a:r>
                <a:r>
                  <a:rPr b="0" i="1" lang="en-US" sz="2000" spc="-1" strike="noStrike">
                    <a:solidFill>
                      <a:srgbClr val="0033cc"/>
                    </a:solidFill>
                    <a:latin typeface="Bookman Old Style"/>
                  </a:rPr>
                  <a:t>U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234600" y="3355920"/>
                <a:ext cx="56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0,</a:t>
                </a:r>
                <a:r>
                  <a:rPr b="0" i="1" lang="en-US" sz="2000" spc="-1" strike="noStrike">
                    <a:solidFill>
                      <a:srgbClr val="0033cc"/>
                    </a:solidFill>
                    <a:latin typeface="Bookman Old Style"/>
                  </a:rPr>
                  <a:t>U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3458520" y="4614840"/>
                <a:ext cx="56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1,</a:t>
                </a:r>
                <a:r>
                  <a:rPr b="0" i="1" lang="en-US" sz="2000" spc="-1" strike="noStrike">
                    <a:solidFill>
                      <a:srgbClr val="0033cc"/>
                    </a:solidFill>
                    <a:latin typeface="Bookman Old Style"/>
                  </a:rPr>
                  <a:t>U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2587320" y="4040280"/>
                <a:ext cx="541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1,</a:t>
                </a:r>
                <a:r>
                  <a:rPr b="0" lang="en-US" sz="2000" spc="-1" strike="noStrike">
                    <a:solidFill>
                      <a:srgbClr val="0033cc"/>
                    </a:solidFill>
                    <a:latin typeface="Bookman Old Style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2280960" y="5697360"/>
                <a:ext cx="352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G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2" name=""/>
            <p:cNvSpPr/>
            <p:nvPr/>
          </p:nvSpPr>
          <p:spPr>
            <a:xfrm>
              <a:off x="900000" y="2133720"/>
              <a:ext cx="38196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9000"/>
            </a:bodyPr>
            <a:p>
              <a:pPr marL="305280" indent="-3052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lusso di valore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4752000" y="2103480"/>
            <a:ext cx="3923640" cy="3883320"/>
            <a:chOff x="4752000" y="2103480"/>
            <a:chExt cx="3923640" cy="3883320"/>
          </a:xfrm>
        </p:grpSpPr>
        <p:sp>
          <p:nvSpPr>
            <p:cNvPr id="914" name=""/>
            <p:cNvSpPr/>
            <p:nvPr/>
          </p:nvSpPr>
          <p:spPr>
            <a:xfrm>
              <a:off x="4900680" y="4037040"/>
              <a:ext cx="287280" cy="28728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413400" y="3244680"/>
              <a:ext cx="287280" cy="287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926480" y="4037040"/>
              <a:ext cx="287280" cy="287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411960" y="4973760"/>
              <a:ext cx="287280" cy="28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18" name=""/>
            <p:cNvCxnSpPr>
              <a:stCxn id="914" idx="5"/>
              <a:endCxn id="917" idx="2"/>
            </p:cNvCxnSpPr>
            <p:nvPr/>
          </p:nvCxnSpPr>
          <p:spPr>
            <a:xfrm>
              <a:off x="5144760" y="4281480"/>
              <a:ext cx="1267560" cy="837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9" name=""/>
            <p:cNvCxnSpPr>
              <a:stCxn id="915" idx="6"/>
              <a:endCxn id="916" idx="1"/>
            </p:cNvCxnSpPr>
            <p:nvPr/>
          </p:nvCxnSpPr>
          <p:spPr>
            <a:xfrm>
              <a:off x="6700680" y="3389400"/>
              <a:ext cx="1269360" cy="691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0" name=""/>
            <p:cNvCxnSpPr>
              <a:stCxn id="915" idx="4"/>
              <a:endCxn id="917" idx="0"/>
            </p:cNvCxnSpPr>
            <p:nvPr/>
          </p:nvCxnSpPr>
          <p:spPr>
            <a:xfrm flipH="1">
              <a:off x="6555600" y="3532320"/>
              <a:ext cx="2520" cy="14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921" name=""/>
            <p:cNvSpPr/>
            <p:nvPr/>
          </p:nvSpPr>
          <p:spPr>
            <a:xfrm>
              <a:off x="4752000" y="425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120880" y="4187880"/>
              <a:ext cx="26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636600" y="2997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6276240" y="5229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517800" y="5587920"/>
              <a:ext cx="62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G</a:t>
              </a: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x</a:t>
              </a: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856040" y="2103480"/>
              <a:ext cx="38196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9000"/>
            </a:bodyPr>
            <a:p>
              <a:pPr marL="305280" indent="-3052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rafo ausiliario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900680" y="4037040"/>
              <a:ext cx="287280" cy="28728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413400" y="3244680"/>
              <a:ext cx="287280" cy="287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926480" y="4037040"/>
              <a:ext cx="287280" cy="287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411960" y="4973760"/>
              <a:ext cx="287280" cy="28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31" name=""/>
            <p:cNvCxnSpPr>
              <a:stCxn id="928" idx="4"/>
              <a:endCxn id="930" idx="0"/>
            </p:cNvCxnSpPr>
            <p:nvPr/>
          </p:nvCxnSpPr>
          <p:spPr>
            <a:xfrm flipH="1">
              <a:off x="6555600" y="3532320"/>
              <a:ext cx="2520" cy="14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2" name=""/>
            <p:cNvSpPr/>
            <p:nvPr/>
          </p:nvSpPr>
          <p:spPr>
            <a:xfrm>
              <a:off x="4752000" y="425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8120880" y="4187880"/>
              <a:ext cx="26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276240" y="5229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517800" y="5587920"/>
              <a:ext cx="62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G</a:t>
              </a: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x</a:t>
              </a: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856040" y="2103480"/>
              <a:ext cx="38196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9000"/>
            </a:bodyPr>
            <a:p>
              <a:pPr marL="305280" indent="-3052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rafo ausiliario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37" name=""/>
            <p:cNvCxnSpPr>
              <a:stCxn id="927" idx="7"/>
              <a:endCxn id="928" idx="2"/>
            </p:cNvCxnSpPr>
            <p:nvPr/>
          </p:nvCxnSpPr>
          <p:spPr>
            <a:xfrm flipH="1" flipV="1" rot="5400000">
              <a:off x="5433480" y="3099960"/>
              <a:ext cx="691200" cy="12690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38" name=""/>
            <p:cNvCxnSpPr>
              <a:stCxn id="927" idx="6"/>
              <a:endCxn id="928" idx="3"/>
            </p:cNvCxnSpPr>
            <p:nvPr/>
          </p:nvCxnSpPr>
          <p:spPr>
            <a:xfrm flipV="1">
              <a:off x="5187600" y="3489120"/>
              <a:ext cx="1269000" cy="69264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939" name=""/>
            <p:cNvCxnSpPr>
              <a:stCxn id="930" idx="6"/>
              <a:endCxn id="929" idx="3"/>
            </p:cNvCxnSpPr>
            <p:nvPr/>
          </p:nvCxnSpPr>
          <p:spPr>
            <a:xfrm flipV="1">
              <a:off x="6699240" y="4281120"/>
              <a:ext cx="1270800" cy="8373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0" name=""/>
            <p:cNvCxnSpPr>
              <a:stCxn id="930" idx="7"/>
              <a:endCxn id="929" idx="2"/>
            </p:cNvCxnSpPr>
            <p:nvPr/>
          </p:nvCxnSpPr>
          <p:spPr>
            <a:xfrm flipH="1" flipV="1" rot="5400000">
              <a:off x="6873480" y="3963600"/>
              <a:ext cx="835920" cy="12708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DEF6-DADC-4A6B-83B5-AA04BE9B13FA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 grafo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iene u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ammino orienta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l nodo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 nodo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atto esclusivamente da archi aventi capacità infini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 grafo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iene archi “paralleli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 grafo si possono sempre aggiungere archi aventi capacità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ssunzioni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60720" y="3933720"/>
            <a:ext cx="360360" cy="35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16360" y="3933720"/>
            <a:ext cx="360360" cy="35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29" idx="4"/>
            <a:endCxn id="130" idx="4"/>
          </p:cNvCxnSpPr>
          <p:nvPr/>
        </p:nvCxnSpPr>
        <p:spPr>
          <a:xfrm flipH="1" rot="16200000">
            <a:off x="4068000" y="3465360"/>
            <a:ext cx="2160" cy="1656360"/>
          </a:xfrm>
          <a:prstGeom prst="curvedConnector5">
            <a:avLst>
              <a:gd name="adj1" fmla="val 29500000"/>
              <a:gd name="adj2" fmla="val 50000"/>
              <a:gd name="adj3" fmla="val 295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2" name=""/>
          <p:cNvCxnSpPr>
            <a:stCxn id="129" idx="0"/>
            <a:endCxn id="130" idx="0"/>
          </p:cNvCxnSpPr>
          <p:nvPr/>
        </p:nvCxnSpPr>
        <p:spPr>
          <a:xfrm flipH="1" rot="16200000">
            <a:off x="4068360" y="3105720"/>
            <a:ext cx="2520" cy="1656360"/>
          </a:xfrm>
          <a:prstGeom prst="curvedConnector5">
            <a:avLst>
              <a:gd name="adj1" fmla="val -30700000"/>
              <a:gd name="adj2" fmla="val 50000"/>
              <a:gd name="adj3" fmla="val -307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71B9-21E2-44F8-886C-C140A4CDFFB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semp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4900680" y="4037040"/>
            <a:ext cx="287280" cy="2872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6413400" y="3244680"/>
            <a:ext cx="287280" cy="28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7926480" y="4037040"/>
            <a:ext cx="28728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6411960" y="4973760"/>
            <a:ext cx="28728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6" name=""/>
          <p:cNvCxnSpPr>
            <a:stCxn id="942" idx="5"/>
            <a:endCxn id="945" idx="2"/>
          </p:cNvCxnSpPr>
          <p:nvPr/>
        </p:nvCxnSpPr>
        <p:spPr>
          <a:xfrm>
            <a:off x="5144760" y="4281480"/>
            <a:ext cx="1267560" cy="83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7" name=""/>
          <p:cNvCxnSpPr>
            <a:stCxn id="943" idx="6"/>
            <a:endCxn id="944" idx="1"/>
          </p:cNvCxnSpPr>
          <p:nvPr/>
        </p:nvCxnSpPr>
        <p:spPr>
          <a:xfrm>
            <a:off x="6700680" y="3389400"/>
            <a:ext cx="1269360" cy="691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8" name=""/>
          <p:cNvCxnSpPr>
            <a:stCxn id="943" idx="4"/>
            <a:endCxn id="945" idx="0"/>
          </p:cNvCxnSpPr>
          <p:nvPr/>
        </p:nvCxnSpPr>
        <p:spPr>
          <a:xfrm flipH="1">
            <a:off x="6555600" y="3532320"/>
            <a:ext cx="252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949" name=""/>
          <p:cNvSpPr/>
          <p:nvPr/>
        </p:nvSpPr>
        <p:spPr>
          <a:xfrm>
            <a:off x="4752000" y="425448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8120880" y="4187880"/>
            <a:ext cx="26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6636600" y="2997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6276240" y="5229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6517800" y="55879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4" name=""/>
          <p:cNvGrpSpPr/>
          <p:nvPr/>
        </p:nvGrpSpPr>
        <p:grpSpPr>
          <a:xfrm>
            <a:off x="770760" y="3036960"/>
            <a:ext cx="3633480" cy="3059280"/>
            <a:chOff x="770760" y="3036960"/>
            <a:chExt cx="3633480" cy="3059280"/>
          </a:xfrm>
        </p:grpSpPr>
        <p:sp>
          <p:nvSpPr>
            <p:cNvPr id="955" name=""/>
            <p:cNvSpPr/>
            <p:nvPr/>
          </p:nvSpPr>
          <p:spPr>
            <a:xfrm>
              <a:off x="919080" y="4076640"/>
              <a:ext cx="287280" cy="28728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432160" y="3284640"/>
              <a:ext cx="287280" cy="28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944880" y="4076640"/>
              <a:ext cx="287280" cy="287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30360" y="5013360"/>
              <a:ext cx="287280" cy="28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59" name=""/>
            <p:cNvCxnSpPr>
              <a:stCxn id="955" idx="7"/>
              <a:endCxn id="956" idx="2"/>
            </p:cNvCxnSpPr>
            <p:nvPr/>
          </p:nvCxnSpPr>
          <p:spPr>
            <a:xfrm flipV="1">
              <a:off x="1163520" y="3428640"/>
              <a:ext cx="1269360" cy="691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60" name=""/>
            <p:cNvCxnSpPr>
              <a:stCxn id="955" idx="5"/>
              <a:endCxn id="958" idx="2"/>
            </p:cNvCxnSpPr>
            <p:nvPr/>
          </p:nvCxnSpPr>
          <p:spPr>
            <a:xfrm>
              <a:off x="1163160" y="4321080"/>
              <a:ext cx="1267560" cy="837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61" name=""/>
            <p:cNvCxnSpPr>
              <a:stCxn id="958" idx="6"/>
              <a:endCxn id="957" idx="3"/>
            </p:cNvCxnSpPr>
            <p:nvPr/>
          </p:nvCxnSpPr>
          <p:spPr>
            <a:xfrm flipV="1">
              <a:off x="2717640" y="4320720"/>
              <a:ext cx="1270800" cy="837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62" name=""/>
            <p:cNvCxnSpPr>
              <a:stCxn id="956" idx="6"/>
              <a:endCxn id="957" idx="1"/>
            </p:cNvCxnSpPr>
            <p:nvPr/>
          </p:nvCxnSpPr>
          <p:spPr>
            <a:xfrm>
              <a:off x="2719080" y="3429000"/>
              <a:ext cx="1269000" cy="691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63" name=""/>
            <p:cNvCxnSpPr>
              <a:stCxn id="956" idx="4"/>
              <a:endCxn id="958" idx="0"/>
            </p:cNvCxnSpPr>
            <p:nvPr/>
          </p:nvCxnSpPr>
          <p:spPr>
            <a:xfrm flipH="1">
              <a:off x="2574720" y="3571920"/>
              <a:ext cx="2160" cy="14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64" name=""/>
            <p:cNvSpPr/>
            <p:nvPr/>
          </p:nvSpPr>
          <p:spPr>
            <a:xfrm>
              <a:off x="770760" y="42940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139640" y="4227480"/>
              <a:ext cx="26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655000" y="3036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294640" y="5268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513800" y="3355920"/>
              <a:ext cx="56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1,</a:t>
              </a:r>
              <a:r>
                <a:rPr b="0" i="1" lang="en-US" sz="2000" spc="-1" strike="noStrike">
                  <a:solidFill>
                    <a:srgbClr val="0033cc"/>
                  </a:solidFill>
                  <a:latin typeface="Bookman Old Style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1350360" y="4722840"/>
              <a:ext cx="56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1,</a:t>
              </a:r>
              <a:r>
                <a:rPr b="0" i="1" lang="en-US" sz="2000" spc="-1" strike="noStrike">
                  <a:solidFill>
                    <a:srgbClr val="0033cc"/>
                  </a:solidFill>
                  <a:latin typeface="Bookman Old Style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234600" y="3355920"/>
              <a:ext cx="56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1,</a:t>
              </a:r>
              <a:r>
                <a:rPr b="0" i="1" lang="en-US" sz="2000" spc="-1" strike="noStrike">
                  <a:solidFill>
                    <a:srgbClr val="0033cc"/>
                  </a:solidFill>
                  <a:latin typeface="Bookman Old Style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458520" y="4614840"/>
              <a:ext cx="56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1,</a:t>
              </a:r>
              <a:r>
                <a:rPr b="0" i="1" lang="en-US" sz="2000" spc="-1" strike="noStrike">
                  <a:solidFill>
                    <a:srgbClr val="0033cc"/>
                  </a:solidFill>
                  <a:latin typeface="Bookman Old Style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587320" y="4040280"/>
              <a:ext cx="54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0,</a:t>
              </a: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280960" y="5697360"/>
              <a:ext cx="35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"/>
          <p:cNvSpPr/>
          <p:nvPr/>
        </p:nvSpPr>
        <p:spPr>
          <a:xfrm>
            <a:off x="468360" y="1700280"/>
            <a:ext cx="748836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mino aumentante su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: {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, 2, 1,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},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589F-6A52-42C0-9490-9079234D8B3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semp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6" name=""/>
          <p:cNvGrpSpPr/>
          <p:nvPr/>
        </p:nvGrpSpPr>
        <p:grpSpPr>
          <a:xfrm>
            <a:off x="770760" y="2133720"/>
            <a:ext cx="3948840" cy="3962520"/>
            <a:chOff x="770760" y="2133720"/>
            <a:chExt cx="3948840" cy="3962520"/>
          </a:xfrm>
        </p:grpSpPr>
        <p:grpSp>
          <p:nvGrpSpPr>
            <p:cNvPr id="977" name=""/>
            <p:cNvGrpSpPr/>
            <p:nvPr/>
          </p:nvGrpSpPr>
          <p:grpSpPr>
            <a:xfrm>
              <a:off x="770760" y="3036960"/>
              <a:ext cx="3633480" cy="3059280"/>
              <a:chOff x="770760" y="3036960"/>
              <a:chExt cx="3633480" cy="3059280"/>
            </a:xfrm>
          </p:grpSpPr>
          <p:sp>
            <p:nvSpPr>
              <p:cNvPr id="978" name=""/>
              <p:cNvSpPr/>
              <p:nvPr/>
            </p:nvSpPr>
            <p:spPr>
              <a:xfrm>
                <a:off x="919080" y="4076640"/>
                <a:ext cx="287280" cy="28728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2432160" y="3284640"/>
                <a:ext cx="287280" cy="287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3944880" y="4076640"/>
                <a:ext cx="287280" cy="287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2430360" y="5013360"/>
                <a:ext cx="287280" cy="287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82" name=""/>
              <p:cNvCxnSpPr>
                <a:stCxn id="978" idx="7"/>
                <a:endCxn id="979" idx="2"/>
              </p:cNvCxnSpPr>
              <p:nvPr/>
            </p:nvCxnSpPr>
            <p:spPr>
              <a:xfrm flipV="1">
                <a:off x="1163520" y="3428640"/>
                <a:ext cx="1269360" cy="6912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83" name=""/>
              <p:cNvCxnSpPr>
                <a:stCxn id="978" idx="5"/>
                <a:endCxn id="981" idx="2"/>
              </p:cNvCxnSpPr>
              <p:nvPr/>
            </p:nvCxnSpPr>
            <p:spPr>
              <a:xfrm>
                <a:off x="1163160" y="4321080"/>
                <a:ext cx="1267560" cy="837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84" name=""/>
              <p:cNvCxnSpPr>
                <a:stCxn id="981" idx="6"/>
                <a:endCxn id="980" idx="3"/>
              </p:cNvCxnSpPr>
              <p:nvPr/>
            </p:nvCxnSpPr>
            <p:spPr>
              <a:xfrm flipV="1">
                <a:off x="2717640" y="4320720"/>
                <a:ext cx="1270800" cy="837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85" name=""/>
              <p:cNvCxnSpPr>
                <a:stCxn id="979" idx="6"/>
                <a:endCxn id="980" idx="1"/>
              </p:cNvCxnSpPr>
              <p:nvPr/>
            </p:nvCxnSpPr>
            <p:spPr>
              <a:xfrm>
                <a:off x="2719080" y="3429000"/>
                <a:ext cx="1269000" cy="6912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86" name=""/>
              <p:cNvCxnSpPr>
                <a:stCxn id="979" idx="4"/>
                <a:endCxn id="981" idx="0"/>
              </p:cNvCxnSpPr>
              <p:nvPr/>
            </p:nvCxnSpPr>
            <p:spPr>
              <a:xfrm flipH="1">
                <a:off x="2574720" y="3571920"/>
                <a:ext cx="2160" cy="144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987" name=""/>
              <p:cNvSpPr/>
              <p:nvPr/>
            </p:nvSpPr>
            <p:spPr>
              <a:xfrm>
                <a:off x="770760" y="4294080"/>
                <a:ext cx="290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4139640" y="4227480"/>
                <a:ext cx="26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2655000" y="303696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2294640" y="526896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1513800" y="3355920"/>
                <a:ext cx="56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1,</a:t>
                </a:r>
                <a:r>
                  <a:rPr b="0" i="1" lang="en-US" sz="2000" spc="-1" strike="noStrike">
                    <a:solidFill>
                      <a:srgbClr val="0033cc"/>
                    </a:solidFill>
                    <a:latin typeface="Bookman Old Style"/>
                  </a:rPr>
                  <a:t>U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1350360" y="4722840"/>
                <a:ext cx="56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1,</a:t>
                </a:r>
                <a:r>
                  <a:rPr b="0" i="1" lang="en-US" sz="2000" spc="-1" strike="noStrike">
                    <a:solidFill>
                      <a:srgbClr val="0033cc"/>
                    </a:solidFill>
                    <a:latin typeface="Bookman Old Style"/>
                  </a:rPr>
                  <a:t>U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3234600" y="3355920"/>
                <a:ext cx="56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1,</a:t>
                </a:r>
                <a:r>
                  <a:rPr b="0" i="1" lang="en-US" sz="2000" spc="-1" strike="noStrike">
                    <a:solidFill>
                      <a:srgbClr val="0033cc"/>
                    </a:solidFill>
                    <a:latin typeface="Bookman Old Style"/>
                  </a:rPr>
                  <a:t>U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3458520" y="4614840"/>
                <a:ext cx="56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1,</a:t>
                </a:r>
                <a:r>
                  <a:rPr b="0" i="1" lang="en-US" sz="2000" spc="-1" strike="noStrike">
                    <a:solidFill>
                      <a:srgbClr val="0033cc"/>
                    </a:solidFill>
                    <a:latin typeface="Bookman Old Style"/>
                  </a:rPr>
                  <a:t>U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2587320" y="4040280"/>
                <a:ext cx="541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0,</a:t>
                </a:r>
                <a:r>
                  <a:rPr b="0" lang="en-US" sz="2000" spc="-1" strike="noStrike">
                    <a:solidFill>
                      <a:srgbClr val="0033cc"/>
                    </a:solidFill>
                    <a:latin typeface="Bookman Old Style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2280960" y="5697360"/>
                <a:ext cx="352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Bookman Old Style"/>
                  </a:rPr>
                  <a:t>G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7" name=""/>
            <p:cNvSpPr/>
            <p:nvPr/>
          </p:nvSpPr>
          <p:spPr>
            <a:xfrm>
              <a:off x="900000" y="2133720"/>
              <a:ext cx="38196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9000"/>
            </a:bodyPr>
            <a:p>
              <a:pPr marL="305280" indent="-3052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lusso di valore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"/>
          <p:cNvGrpSpPr/>
          <p:nvPr/>
        </p:nvGrpSpPr>
        <p:grpSpPr>
          <a:xfrm>
            <a:off x="4752000" y="2103480"/>
            <a:ext cx="3923640" cy="3883320"/>
            <a:chOff x="4752000" y="2103480"/>
            <a:chExt cx="3923640" cy="3883320"/>
          </a:xfrm>
        </p:grpSpPr>
        <p:sp>
          <p:nvSpPr>
            <p:cNvPr id="999" name=""/>
            <p:cNvSpPr/>
            <p:nvPr/>
          </p:nvSpPr>
          <p:spPr>
            <a:xfrm>
              <a:off x="4900680" y="4037040"/>
              <a:ext cx="287280" cy="28728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413400" y="3244680"/>
              <a:ext cx="287280" cy="287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7926480" y="4037040"/>
              <a:ext cx="287280" cy="287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411960" y="4973760"/>
              <a:ext cx="287280" cy="28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03" name=""/>
            <p:cNvCxnSpPr>
              <a:stCxn id="1000" idx="4"/>
              <a:endCxn id="1002" idx="0"/>
            </p:cNvCxnSpPr>
            <p:nvPr/>
          </p:nvCxnSpPr>
          <p:spPr>
            <a:xfrm flipH="1">
              <a:off x="6555600" y="3532320"/>
              <a:ext cx="2520" cy="14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4" name=""/>
            <p:cNvSpPr/>
            <p:nvPr/>
          </p:nvSpPr>
          <p:spPr>
            <a:xfrm>
              <a:off x="4752000" y="42544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8120880" y="4187880"/>
              <a:ext cx="26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6739920" y="292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6276240" y="5229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517800" y="5587920"/>
              <a:ext cx="62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G</a:t>
              </a: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x</a:t>
              </a: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856040" y="2103480"/>
              <a:ext cx="38196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9000"/>
            </a:bodyPr>
            <a:p>
              <a:pPr marL="305280" indent="-3052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rafo ausiliario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10" name=""/>
            <p:cNvCxnSpPr>
              <a:stCxn id="999" idx="7"/>
              <a:endCxn id="1000" idx="2"/>
            </p:cNvCxnSpPr>
            <p:nvPr/>
          </p:nvCxnSpPr>
          <p:spPr>
            <a:xfrm flipH="1" flipV="1" rot="5400000">
              <a:off x="5433480" y="3099960"/>
              <a:ext cx="691200" cy="12690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1" name=""/>
            <p:cNvCxnSpPr>
              <a:stCxn id="999" idx="6"/>
              <a:endCxn id="1000" idx="3"/>
            </p:cNvCxnSpPr>
            <p:nvPr/>
          </p:nvCxnSpPr>
          <p:spPr>
            <a:xfrm flipV="1">
              <a:off x="5187600" y="3489120"/>
              <a:ext cx="1269000" cy="69264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012" name=""/>
            <p:cNvCxnSpPr>
              <a:stCxn id="999" idx="5"/>
              <a:endCxn id="1002" idx="2"/>
            </p:cNvCxnSpPr>
            <p:nvPr/>
          </p:nvCxnSpPr>
          <p:spPr>
            <a:xfrm flipH="1" rot="16200000">
              <a:off x="5359320" y="4066200"/>
              <a:ext cx="837360" cy="12675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3" name=""/>
            <p:cNvCxnSpPr>
              <a:stCxn id="999" idx="6"/>
              <a:endCxn id="1002" idx="1"/>
            </p:cNvCxnSpPr>
            <p:nvPr/>
          </p:nvCxnSpPr>
          <p:spPr>
            <a:xfrm>
              <a:off x="5187600" y="4181400"/>
              <a:ext cx="1267560" cy="83592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014" name=""/>
            <p:cNvCxnSpPr>
              <a:stCxn id="1000" idx="5"/>
              <a:endCxn id="1001" idx="2"/>
            </p:cNvCxnSpPr>
            <p:nvPr/>
          </p:nvCxnSpPr>
          <p:spPr>
            <a:xfrm flipH="1" rot="16200000">
              <a:off x="6946200" y="3200760"/>
              <a:ext cx="692640" cy="12693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5" name=""/>
            <p:cNvCxnSpPr>
              <a:stCxn id="1002" idx="6"/>
              <a:endCxn id="1001" idx="3"/>
            </p:cNvCxnSpPr>
            <p:nvPr/>
          </p:nvCxnSpPr>
          <p:spPr>
            <a:xfrm flipV="1">
              <a:off x="6699240" y="4281120"/>
              <a:ext cx="1270800" cy="8373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6" name=""/>
            <p:cNvCxnSpPr>
              <a:stCxn id="1000" idx="6"/>
              <a:endCxn id="1001" idx="1"/>
            </p:cNvCxnSpPr>
            <p:nvPr/>
          </p:nvCxnSpPr>
          <p:spPr>
            <a:xfrm>
              <a:off x="6700680" y="3389400"/>
              <a:ext cx="1269360" cy="6912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017" name=""/>
            <p:cNvCxnSpPr>
              <a:stCxn id="1002" idx="7"/>
              <a:endCxn id="1001" idx="2"/>
            </p:cNvCxnSpPr>
            <p:nvPr/>
          </p:nvCxnSpPr>
          <p:spPr>
            <a:xfrm flipH="1" flipV="1" rot="5400000">
              <a:off x="6873480" y="3963600"/>
              <a:ext cx="835920" cy="12708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32C8-792A-4478-8B3D-5BA9B6B50970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semp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mino aumentante su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: {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, 1, 2,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}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usso di valore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4900680" y="4037040"/>
            <a:ext cx="287280" cy="2872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6413400" y="3244680"/>
            <a:ext cx="287280" cy="28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7926480" y="4037040"/>
            <a:ext cx="28728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6411960" y="4973760"/>
            <a:ext cx="28728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4" name=""/>
          <p:cNvCxnSpPr>
            <a:stCxn id="1020" idx="7"/>
            <a:endCxn id="1021" idx="2"/>
          </p:cNvCxnSpPr>
          <p:nvPr/>
        </p:nvCxnSpPr>
        <p:spPr>
          <a:xfrm flipV="1">
            <a:off x="5144760" y="3389040"/>
            <a:ext cx="1269000" cy="691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5" name=""/>
          <p:cNvCxnSpPr>
            <a:stCxn id="1023" idx="6"/>
            <a:endCxn id="1022" idx="3"/>
          </p:cNvCxnSpPr>
          <p:nvPr/>
        </p:nvCxnSpPr>
        <p:spPr>
          <a:xfrm flipV="1">
            <a:off x="6699240" y="4281120"/>
            <a:ext cx="1270800" cy="83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6" name=""/>
          <p:cNvCxnSpPr>
            <a:stCxn id="1021" idx="4"/>
            <a:endCxn id="1023" idx="0"/>
          </p:cNvCxnSpPr>
          <p:nvPr/>
        </p:nvCxnSpPr>
        <p:spPr>
          <a:xfrm flipH="1">
            <a:off x="6555600" y="3532320"/>
            <a:ext cx="2520" cy="144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7" name=""/>
          <p:cNvSpPr/>
          <p:nvPr/>
        </p:nvSpPr>
        <p:spPr>
          <a:xfrm>
            <a:off x="4752000" y="425448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8120880" y="4187880"/>
            <a:ext cx="26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6636600" y="2997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6276240" y="5229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1" name=""/>
          <p:cNvGrpSpPr/>
          <p:nvPr/>
        </p:nvGrpSpPr>
        <p:grpSpPr>
          <a:xfrm>
            <a:off x="770760" y="3036960"/>
            <a:ext cx="3633480" cy="3059280"/>
            <a:chOff x="770760" y="3036960"/>
            <a:chExt cx="3633480" cy="3059280"/>
          </a:xfrm>
        </p:grpSpPr>
        <p:sp>
          <p:nvSpPr>
            <p:cNvPr id="1032" name=""/>
            <p:cNvSpPr/>
            <p:nvPr/>
          </p:nvSpPr>
          <p:spPr>
            <a:xfrm>
              <a:off x="919080" y="4076640"/>
              <a:ext cx="287280" cy="28728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432160" y="3284640"/>
              <a:ext cx="287280" cy="28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944880" y="4076640"/>
              <a:ext cx="287280" cy="287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430360" y="5013360"/>
              <a:ext cx="287280" cy="28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6" name=""/>
            <p:cNvCxnSpPr>
              <a:stCxn id="1032" idx="7"/>
              <a:endCxn id="1033" idx="2"/>
            </p:cNvCxnSpPr>
            <p:nvPr/>
          </p:nvCxnSpPr>
          <p:spPr>
            <a:xfrm flipV="1">
              <a:off x="1163520" y="3428640"/>
              <a:ext cx="1269360" cy="691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37" name=""/>
            <p:cNvCxnSpPr>
              <a:stCxn id="1032" idx="5"/>
              <a:endCxn id="1035" idx="2"/>
            </p:cNvCxnSpPr>
            <p:nvPr/>
          </p:nvCxnSpPr>
          <p:spPr>
            <a:xfrm>
              <a:off x="1163160" y="4321080"/>
              <a:ext cx="1267560" cy="837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38" name=""/>
            <p:cNvCxnSpPr>
              <a:stCxn id="1035" idx="6"/>
              <a:endCxn id="1034" idx="3"/>
            </p:cNvCxnSpPr>
            <p:nvPr/>
          </p:nvCxnSpPr>
          <p:spPr>
            <a:xfrm flipV="1">
              <a:off x="2717640" y="4320720"/>
              <a:ext cx="1270800" cy="837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39" name=""/>
            <p:cNvCxnSpPr>
              <a:stCxn id="1033" idx="6"/>
              <a:endCxn id="1034" idx="1"/>
            </p:cNvCxnSpPr>
            <p:nvPr/>
          </p:nvCxnSpPr>
          <p:spPr>
            <a:xfrm>
              <a:off x="2719080" y="3429000"/>
              <a:ext cx="1269000" cy="691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40" name=""/>
            <p:cNvCxnSpPr>
              <a:stCxn id="1033" idx="4"/>
              <a:endCxn id="1035" idx="0"/>
            </p:cNvCxnSpPr>
            <p:nvPr/>
          </p:nvCxnSpPr>
          <p:spPr>
            <a:xfrm flipH="1">
              <a:off x="2574720" y="3571920"/>
              <a:ext cx="2160" cy="14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41" name=""/>
            <p:cNvSpPr/>
            <p:nvPr/>
          </p:nvSpPr>
          <p:spPr>
            <a:xfrm>
              <a:off x="770760" y="42940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139640" y="4227480"/>
              <a:ext cx="26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655000" y="3036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294640" y="5268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513800" y="3355920"/>
              <a:ext cx="56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2,</a:t>
              </a:r>
              <a:r>
                <a:rPr b="0" i="1" lang="en-US" sz="2000" spc="-1" strike="noStrike">
                  <a:solidFill>
                    <a:srgbClr val="0033cc"/>
                  </a:solidFill>
                  <a:latin typeface="Bookman Old Style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350360" y="4722840"/>
              <a:ext cx="56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1,</a:t>
              </a:r>
              <a:r>
                <a:rPr b="0" i="1" lang="en-US" sz="2000" spc="-1" strike="noStrike">
                  <a:solidFill>
                    <a:srgbClr val="0033cc"/>
                  </a:solidFill>
                  <a:latin typeface="Bookman Old Style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234600" y="3355920"/>
              <a:ext cx="56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1,</a:t>
              </a:r>
              <a:r>
                <a:rPr b="0" i="1" lang="en-US" sz="2000" spc="-1" strike="noStrike">
                  <a:solidFill>
                    <a:srgbClr val="0033cc"/>
                  </a:solidFill>
                  <a:latin typeface="Bookman Old Style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458520" y="4614840"/>
              <a:ext cx="56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2,</a:t>
              </a:r>
              <a:r>
                <a:rPr b="0" i="1" lang="en-US" sz="2000" spc="-1" strike="noStrike">
                  <a:solidFill>
                    <a:srgbClr val="0033cc"/>
                  </a:solidFill>
                  <a:latin typeface="Bookman Old Style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587320" y="4040280"/>
              <a:ext cx="54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1,</a:t>
              </a: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280960" y="5697360"/>
              <a:ext cx="35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1" name=""/>
          <p:cNvSpPr/>
          <p:nvPr/>
        </p:nvSpPr>
        <p:spPr>
          <a:xfrm>
            <a:off x="6517800" y="558792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A28B-4EC8-4FDA-9E8A-9D3A2277D960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semp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ipetendo questa scelta dei cammini aumentanti, l’algoritmo termina esattamente dopo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2U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iterazioni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Osserv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 il valore di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non fosse finito, l’algoritmo sul grafo precedente potrebbe NON terminar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na semplice criterio di scelta del cammino aumentante ad ogni iterazione elimina questa difficoltà e determina una complessità polinomiale dell’algoritmo di Ford e Fulkerson [cioè, non dipendente dalla capacità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imostremo che è sufficiente scegliere ad ogni iterazione il cammino su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che minimizza il numero di archi utilizzati (in altre parole, il 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cammino aumentante più cort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cc"/>
                </a:solidFill>
                <a:latin typeface="Arial"/>
              </a:rPr>
              <a:t>[Edmonds e Karp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21AE-B203-4641-B839-4170402574DA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Shortest augmenting pa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d una generica iterazione dell’algoritmo si passa da un flusso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ad un flusso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’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attraverso un cammino aumentante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P 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= {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Bookman Old Style"/>
              </a:rPr>
              <a:t>0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, …,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}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a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w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la lunghezza del cammino da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w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avente il minor numero di arch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è il più corto cammino aumentante valgono le seguenti proprietà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) =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t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) =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k -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oltre, se un arco 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w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di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’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non appartiene a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allora esiste un indice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tale che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=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w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=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-1.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 altre parole, l’arco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(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w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)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ra un arco del cammino aumentante più corto su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CB88-407C-4436-81DA-5507CB197E27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Shortest augmenting pa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Lemma 1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ogni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’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 ≥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’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v, t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 ≥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v,t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Dimostr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upponiamo che esista un nodo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tale 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’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 &lt;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 scegliamo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 modo che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’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a la più piccola possibile.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ssendo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v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≠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’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&gt;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a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P’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n cammino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’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w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penultimo nodo di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P’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 ha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 &gt;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’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 =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’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w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 + 1 ≥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w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 +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8F98-AB4B-48FF-89B3-083D35E94D9F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mostrazio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 &gt;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w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 + 1,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llora l’arco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w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on appartiene a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altrimenti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 =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w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 + 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 l’arco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w,v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che appartiene a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’)) non appartiene a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 ha che esiste un indice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cui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w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=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=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-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tanto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 =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-1 &gt;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w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 + 1 =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+ 1,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 si ha una contraddizione.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 un argomento simile si dimostra la seconda parte del lemm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EFC1-B57D-4254-94CA-A1C8BDE02B3E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Shortest augmenting pa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394920" y="1456920"/>
            <a:ext cx="8280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Lemma 2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urante l’esecuzione dell’algoritmo di Edmonds e Karp, un arco 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j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) scompare (e compare) in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l più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/2 volt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Dimostr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 un arco 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“scompare” dalla rete ausiliaria, significa che esso è su un cammino aumentante e che il corrispondente arco in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si satura oppure si svuota. Pertanto, nella rete ausiliaria successiva compare l’arco 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).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Sia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f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il flusso al momento della “scomparsa dell’arco”. Supponiamo che ad una successiva iterazione l’arco 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ricompaia in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(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h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 Ciò significa che il cammino aumentante che ha generato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h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contiene l’arco 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C919-FA5E-4E33-8338-B0E4BBF723AB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Shortest augmenting pa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llora, se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è il flusso a partire dal quale si è generato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h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si ha [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Lemma 1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 =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j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 + 1 ≥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f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j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 + 1 =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f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 +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tanto, nel passare dal flusso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f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al flusso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h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è aumentata almeno di 2. Poiché il massimo valore che può assumere 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è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un arco può scomparire e riapparire al più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/2 volte.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F6FC-EE9B-46F2-B8CA-46534968FD4D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Shortest augmenting pa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Lemma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’algoritmo di Edmonds e Karp ha complessità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O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nm</a:t>
            </a:r>
            <a:r>
              <a:rPr b="0" lang="it-IT" sz="2400" spc="-1" strike="noStrike" baseline="30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Dimostr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gni arco può “scomparire” al più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/2 volte durante l’esecuzione dell’algoritmo [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Lemma 2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]. Ogni volta che effettuiamo un aumento di flusso, scompare almeno un arco. Pertanto, durante l’esecuzione, si hanno al più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mn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/2 “sparizioni”. Ogni operazione di aumento richiede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O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m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e, quindi, la complessità dell’algoritmo è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O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nm</a:t>
            </a:r>
            <a:r>
              <a:rPr b="0" lang="it-IT" sz="2400" spc="-1" strike="noStrike" baseline="30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229B-A996-4783-8EF3-265434F5FB46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blem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Arial"/>
              </a:rPr>
              <a:t>Path pa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ati un grafo orientato </a:t>
            </a: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G </a:t>
            </a:r>
            <a:r>
              <a:rPr b="0" lang="it-IT" sz="2800" spc="-1" strike="noStrike">
                <a:solidFill>
                  <a:srgbClr val="000000"/>
                </a:solidFill>
                <a:latin typeface="Bookman Old Style"/>
              </a:rPr>
              <a:t>= (</a:t>
            </a: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it-IT" sz="28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Bookman Old Style"/>
              </a:rPr>
              <a:t>)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 un vettore capacità</a:t>
            </a:r>
            <a:r>
              <a:rPr b="0" lang="it-IT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it-IT" sz="2800" spc="-1" strike="noStrike">
                <a:solidFill>
                  <a:srgbClr val="000000"/>
                </a:solidFill>
                <a:latin typeface="Bookman Old Style"/>
              </a:rPr>
              <a:t>u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3200" spc="-1" strike="noStrike">
                <a:solidFill>
                  <a:srgbClr val="000000"/>
                </a:solidFill>
                <a:latin typeface="Monotype Corsiva"/>
              </a:rPr>
              <a:t>Z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r>
              <a:rPr b="0" lang="it-IT" sz="2400" spc="-1" strike="noStrike" baseline="30000">
                <a:solidFill>
                  <a:srgbClr val="000000"/>
                </a:solidFill>
                <a:latin typeface="Arial"/>
              </a:rPr>
              <a:t>|A|</a:t>
            </a:r>
            <a:r>
              <a:rPr b="0" lang="it-IT" sz="28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ndividuare una </a:t>
            </a:r>
            <a:r>
              <a:rPr b="0" lang="it-IT" sz="2800" spc="-1" strike="noStrike">
                <a:solidFill>
                  <a:srgbClr val="0033cc"/>
                </a:solidFill>
                <a:latin typeface="Arial"/>
              </a:rPr>
              <a:t>famiglia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di cammini orientati (semplici) </a:t>
            </a:r>
            <a:r>
              <a:rPr b="0" lang="it-IT" sz="3200" spc="-1" strike="noStrike">
                <a:solidFill>
                  <a:srgbClr val="000000"/>
                </a:solidFill>
                <a:latin typeface="Monotype Corsiva"/>
              </a:rPr>
              <a:t>P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= {</a:t>
            </a: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lang="it-IT" sz="28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it-IT" sz="2800" spc="-1" strike="noStrike">
                <a:solidFill>
                  <a:srgbClr val="000000"/>
                </a:solidFill>
                <a:latin typeface="Bookman Old Style"/>
              </a:rPr>
              <a:t>, …</a:t>
            </a: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0" i="1" lang="it-IT" sz="2800" spc="-1" strike="noStrike" baseline="-25000">
                <a:solidFill>
                  <a:srgbClr val="000000"/>
                </a:solidFill>
                <a:latin typeface="Bookman Old Style"/>
              </a:rPr>
              <a:t>k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}, </a:t>
            </a:r>
            <a:r>
              <a:rPr b="0" lang="it-IT" sz="2800" spc="-1" strike="noStrike">
                <a:solidFill>
                  <a:srgbClr val="0033cc"/>
                </a:solidFill>
                <a:latin typeface="Arial"/>
              </a:rPr>
              <a:t>non necessariamente distinti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it-IT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tale ch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1. Ogni arco </a:t>
            </a:r>
            <a:r>
              <a:rPr b="0" lang="it-IT" sz="28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j</a:t>
            </a:r>
            <a:r>
              <a:rPr b="0" lang="it-IT" sz="2800" spc="-1" strike="noStrike">
                <a:solidFill>
                  <a:srgbClr val="000000"/>
                </a:solidFill>
                <a:latin typeface="Bookman Old Style"/>
              </a:rPr>
              <a:t>)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è utilizzato da </a:t>
            </a:r>
            <a:r>
              <a:rPr b="0" lang="it-IT" sz="2800" spc="-1" strike="noStrike">
                <a:solidFill>
                  <a:srgbClr val="ff0000"/>
                </a:solidFill>
                <a:latin typeface="Arial"/>
              </a:rPr>
              <a:t>al più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i="1" lang="it-IT" sz="2800" spc="-1" strike="noStrike" baseline="-25000">
                <a:solidFill>
                  <a:srgbClr val="000000"/>
                </a:solidFill>
                <a:latin typeface="Bookman Old Style"/>
              </a:rPr>
              <a:t>ij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ammi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k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sia massi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7661-F12B-4F24-98C3-C7AC217077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lema di flusso con richiesta mini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3548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e etichette di colore rosso sulla seguente rete, rappresentano una quantità di flusso minima che deve essere trasportata dall’arco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l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ij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ij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 flipV="1">
            <a:off x="3328920" y="4255920"/>
            <a:ext cx="72072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4184640" y="4235400"/>
            <a:ext cx="7192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3346560" y="3443400"/>
            <a:ext cx="7189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 flipV="1">
            <a:off x="4184640" y="3476160"/>
            <a:ext cx="720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2144880" y="4137120"/>
            <a:ext cx="215640" cy="21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6176880" y="4137120"/>
            <a:ext cx="216000" cy="215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3224160" y="32734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4879800" y="32734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3225960" y="4857840"/>
            <a:ext cx="215640" cy="21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4881600" y="4857840"/>
            <a:ext cx="216000" cy="21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8" name=""/>
          <p:cNvCxnSpPr>
            <a:stCxn id="1072" idx="7"/>
            <a:endCxn id="1074" idx="2"/>
          </p:cNvCxnSpPr>
          <p:nvPr/>
        </p:nvCxnSpPr>
        <p:spPr>
          <a:xfrm flipV="1">
            <a:off x="2328480" y="3380760"/>
            <a:ext cx="896040" cy="788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9" name=""/>
          <p:cNvCxnSpPr>
            <a:stCxn id="1072" idx="5"/>
            <a:endCxn id="1076" idx="2"/>
          </p:cNvCxnSpPr>
          <p:nvPr/>
        </p:nvCxnSpPr>
        <p:spPr>
          <a:xfrm>
            <a:off x="2328840" y="4320720"/>
            <a:ext cx="897840" cy="64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0" name=""/>
          <p:cNvCxnSpPr>
            <a:stCxn id="1074" idx="6"/>
            <a:endCxn id="1075" idx="2"/>
          </p:cNvCxnSpPr>
          <p:nvPr/>
        </p:nvCxnSpPr>
        <p:spPr>
          <a:xfrm>
            <a:off x="3439800" y="3381120"/>
            <a:ext cx="144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1" name=""/>
          <p:cNvCxnSpPr>
            <a:stCxn id="1075" idx="6"/>
            <a:endCxn id="1073" idx="1"/>
          </p:cNvCxnSpPr>
          <p:nvPr/>
        </p:nvCxnSpPr>
        <p:spPr>
          <a:xfrm>
            <a:off x="5095440" y="3381120"/>
            <a:ext cx="1113120" cy="788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2" name=""/>
          <p:cNvCxnSpPr>
            <a:stCxn id="1076" idx="6"/>
            <a:endCxn id="1077" idx="2"/>
          </p:cNvCxnSpPr>
          <p:nvPr/>
        </p:nvCxnSpPr>
        <p:spPr>
          <a:xfrm>
            <a:off x="3441600" y="4965480"/>
            <a:ext cx="144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3" name=""/>
          <p:cNvCxnSpPr>
            <a:stCxn id="1077" idx="6"/>
            <a:endCxn id="1073" idx="3"/>
          </p:cNvCxnSpPr>
          <p:nvPr/>
        </p:nvCxnSpPr>
        <p:spPr>
          <a:xfrm flipV="1">
            <a:off x="5097600" y="4320360"/>
            <a:ext cx="1111680" cy="64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4" name=""/>
          <p:cNvCxnSpPr>
            <a:stCxn id="1074" idx="4"/>
            <a:endCxn id="1076" idx="0"/>
          </p:cNvCxnSpPr>
          <p:nvPr/>
        </p:nvCxnSpPr>
        <p:spPr>
          <a:xfrm>
            <a:off x="3332160" y="3489120"/>
            <a:ext cx="2160" cy="136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085" name=""/>
          <p:cNvCxnSpPr>
            <a:stCxn id="1077" idx="0"/>
            <a:endCxn id="1075" idx="4"/>
          </p:cNvCxnSpPr>
          <p:nvPr/>
        </p:nvCxnSpPr>
        <p:spPr>
          <a:xfrm flipH="1" flipV="1">
            <a:off x="4987080" y="3488760"/>
            <a:ext cx="2520" cy="136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6" name=""/>
          <p:cNvSpPr/>
          <p:nvPr/>
        </p:nvSpPr>
        <p:spPr>
          <a:xfrm>
            <a:off x="2416680" y="340992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Bookman Old Style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1831680" y="403380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6400080" y="40687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3176280" y="29242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4856760" y="29304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3178800" y="5002200"/>
            <a:ext cx="2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4863240" y="49831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3861360" y="305604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Bookman Old Style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2416680" y="461808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Bookman Old Style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3864600" y="492444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Bookman Old Style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5512320" y="457848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Bookman Old Style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5509080" y="345456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Bookman Old Style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4958280" y="394812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Bookman Old Style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2883600" y="392112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Bookman Old Style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4014720" y="40654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3976200" y="3745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3397680" y="374796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Bookman Old Style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3407400" y="419256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Bookman Old Style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4359960" y="376560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Bookman Old Style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4359960" y="421020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Bookman Old Style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6A23-7D5C-458E-9C0D-132CE127079D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sservazio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problema di flusso con richiesta minima positiva sugli archi potrebbe non essere ammissib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 di calcolare il massimo flusso sulla rete, vediamo se esiste un flusso ammissib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sformiamo il problema di flusso in un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problema di circolazi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ggiungendo un arco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 capacità infini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1908000" y="292572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3203640" y="2924280"/>
            <a:ext cx="21600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4427640" y="2925720"/>
            <a:ext cx="215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1" name=""/>
          <p:cNvCxnSpPr>
            <a:stCxn id="1108" idx="6"/>
            <a:endCxn id="1109" idx="2"/>
          </p:cNvCxnSpPr>
          <p:nvPr/>
        </p:nvCxnSpPr>
        <p:spPr>
          <a:xfrm flipV="1">
            <a:off x="2123640" y="3031920"/>
            <a:ext cx="10803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2" name=""/>
          <p:cNvCxnSpPr>
            <a:stCxn id="1109" idx="6"/>
            <a:endCxn id="1110" idx="2"/>
          </p:cNvCxnSpPr>
          <p:nvPr/>
        </p:nvCxnSpPr>
        <p:spPr>
          <a:xfrm>
            <a:off x="3419640" y="3032280"/>
            <a:ext cx="10087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3" name=""/>
          <p:cNvSpPr/>
          <p:nvPr/>
        </p:nvSpPr>
        <p:spPr>
          <a:xfrm>
            <a:off x="1777680" y="306864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2429280" y="263700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Bookman Old Style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4429800" y="30621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3140640" y="3068640"/>
            <a:ext cx="2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3550320" y="2637000"/>
            <a:ext cx="6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Bookman Old Style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32F0-6179-4B1F-91A6-784874D3C7D9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. Ammissibilit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468360" y="1463760"/>
            <a:ext cx="79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 problema di flusso ammette una soluzione ammissibile se e solo se il problema di circolazione è ammissib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0" name=""/>
          <p:cNvCxnSpPr/>
          <p:nvPr/>
        </p:nvCxnSpPr>
        <p:spPr>
          <a:xfrm rot="5400000">
            <a:off x="4103640" y="2432520"/>
            <a:ext cx="2160" cy="4033080"/>
          </a:xfrm>
          <a:prstGeom prst="curvedConnector5">
            <a:avLst>
              <a:gd name="adj1" fmla="val 92000000"/>
              <a:gd name="adj2" fmla="val 50000"/>
              <a:gd name="adj3" fmla="val 92000000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121" name=""/>
          <p:cNvSpPr/>
          <p:nvPr/>
        </p:nvSpPr>
        <p:spPr>
          <a:xfrm>
            <a:off x="3759120" y="57927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 Unicode MS"/>
                <a:ea typeface="Arial Unicode MS"/>
              </a:rPr>
              <a:t>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2" name=""/>
          <p:cNvGrpSpPr/>
          <p:nvPr/>
        </p:nvGrpSpPr>
        <p:grpSpPr>
          <a:xfrm>
            <a:off x="1688760" y="2997360"/>
            <a:ext cx="4825440" cy="2446200"/>
            <a:chOff x="1688760" y="2997360"/>
            <a:chExt cx="4825440" cy="2446200"/>
          </a:xfrm>
        </p:grpSpPr>
        <p:sp>
          <p:nvSpPr>
            <p:cNvPr id="1123" name=""/>
            <p:cNvSpPr/>
            <p:nvPr/>
          </p:nvSpPr>
          <p:spPr>
            <a:xfrm flipV="1">
              <a:off x="3186000" y="4329000"/>
              <a:ext cx="720720" cy="6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041720" y="4308480"/>
              <a:ext cx="71892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203280" y="3516480"/>
              <a:ext cx="71928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 flipV="1">
              <a:off x="4041720" y="3549240"/>
              <a:ext cx="72072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001600" y="4210200"/>
              <a:ext cx="216000" cy="215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6033960" y="4210200"/>
              <a:ext cx="216000" cy="2156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081240" y="3346560"/>
              <a:ext cx="216000" cy="215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736880" y="3346560"/>
              <a:ext cx="216000" cy="215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082680" y="4930920"/>
              <a:ext cx="216000" cy="215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738680" y="4930920"/>
              <a:ext cx="215640" cy="215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3" name=""/>
            <p:cNvCxnSpPr>
              <a:stCxn id="1127" idx="7"/>
              <a:endCxn id="1129" idx="2"/>
            </p:cNvCxnSpPr>
            <p:nvPr/>
          </p:nvCxnSpPr>
          <p:spPr>
            <a:xfrm flipV="1">
              <a:off x="2185560" y="3453840"/>
              <a:ext cx="896040" cy="788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34" name=""/>
            <p:cNvCxnSpPr>
              <a:stCxn id="1127" idx="5"/>
              <a:endCxn id="1131" idx="2"/>
            </p:cNvCxnSpPr>
            <p:nvPr/>
          </p:nvCxnSpPr>
          <p:spPr>
            <a:xfrm>
              <a:off x="2185560" y="4394160"/>
              <a:ext cx="897480" cy="645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35" name=""/>
            <p:cNvCxnSpPr>
              <a:stCxn id="1129" idx="6"/>
              <a:endCxn id="1130" idx="2"/>
            </p:cNvCxnSpPr>
            <p:nvPr/>
          </p:nvCxnSpPr>
          <p:spPr>
            <a:xfrm>
              <a:off x="3296880" y="3454200"/>
              <a:ext cx="14403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36" name=""/>
            <p:cNvCxnSpPr>
              <a:stCxn id="1130" idx="6"/>
              <a:endCxn id="1128" idx="1"/>
            </p:cNvCxnSpPr>
            <p:nvPr/>
          </p:nvCxnSpPr>
          <p:spPr>
            <a:xfrm>
              <a:off x="4952520" y="3454200"/>
              <a:ext cx="1113120" cy="788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37" name=""/>
            <p:cNvCxnSpPr>
              <a:stCxn id="1131" idx="6"/>
              <a:endCxn id="1132" idx="2"/>
            </p:cNvCxnSpPr>
            <p:nvPr/>
          </p:nvCxnSpPr>
          <p:spPr>
            <a:xfrm>
              <a:off x="3298680" y="5038200"/>
              <a:ext cx="14403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38" name=""/>
            <p:cNvCxnSpPr>
              <a:stCxn id="1132" idx="6"/>
              <a:endCxn id="1128" idx="3"/>
            </p:cNvCxnSpPr>
            <p:nvPr/>
          </p:nvCxnSpPr>
          <p:spPr>
            <a:xfrm flipV="1">
              <a:off x="4953960" y="4393800"/>
              <a:ext cx="1112040" cy="645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39" name=""/>
            <p:cNvCxnSpPr>
              <a:stCxn id="1129" idx="4"/>
              <a:endCxn id="1131" idx="0"/>
            </p:cNvCxnSpPr>
            <p:nvPr/>
          </p:nvCxnSpPr>
          <p:spPr>
            <a:xfrm>
              <a:off x="3189240" y="3562200"/>
              <a:ext cx="2160" cy="1369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140" name=""/>
            <p:cNvCxnSpPr>
              <a:stCxn id="1132" idx="0"/>
              <a:endCxn id="1130" idx="4"/>
            </p:cNvCxnSpPr>
            <p:nvPr/>
          </p:nvCxnSpPr>
          <p:spPr>
            <a:xfrm flipH="1" flipV="1">
              <a:off x="4844160" y="3561840"/>
              <a:ext cx="2520" cy="1369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41" name=""/>
            <p:cNvSpPr/>
            <p:nvPr/>
          </p:nvSpPr>
          <p:spPr>
            <a:xfrm>
              <a:off x="2273760" y="348300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Bookman Old Style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Bookman Old Style"/>
                </a:rPr>
                <a:t>,</a:t>
              </a:r>
              <a:r>
                <a:rPr b="0" lang="en-US" sz="1800" spc="-1" strike="noStrike">
                  <a:solidFill>
                    <a:srgbClr val="0033cc"/>
                  </a:solidFill>
                  <a:latin typeface="Bookman Old Style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688760" y="4106880"/>
              <a:ext cx="27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Bookman Old Style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257160" y="414180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Bookman Old Style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033360" y="299736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Bookman Old Style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713840" y="30034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Bookman Old Style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035880" y="5075280"/>
              <a:ext cx="29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Bookman Old Style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720320" y="505620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Bookman Old Style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718440" y="312912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Bookman Old Style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Bookman Old Style"/>
                </a:rPr>
                <a:t>,</a:t>
              </a:r>
              <a:r>
                <a:rPr b="0" lang="en-US" sz="1800" spc="-1" strike="noStrike">
                  <a:solidFill>
                    <a:srgbClr val="0033cc"/>
                  </a:solidFill>
                  <a:latin typeface="Bookman Old Style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2273760" y="469116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Bookman Old Style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Bookman Old Style"/>
                </a:rPr>
                <a:t>,</a:t>
              </a:r>
              <a:r>
                <a:rPr b="0" lang="en-US" sz="1800" spc="-1" strike="noStrike">
                  <a:solidFill>
                    <a:srgbClr val="0033cc"/>
                  </a:solidFill>
                  <a:latin typeface="Bookman Old Style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721680" y="499752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Bookman Old Style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Bookman Old Style"/>
                </a:rPr>
                <a:t>,</a:t>
              </a:r>
              <a:r>
                <a:rPr b="0" lang="en-US" sz="1800" spc="-1" strike="noStrike">
                  <a:solidFill>
                    <a:srgbClr val="0033cc"/>
                  </a:solidFill>
                  <a:latin typeface="Bookman Old Style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369400" y="465156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Bookman Old Style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Bookman Old Style"/>
                </a:rPr>
                <a:t>,</a:t>
              </a:r>
              <a:r>
                <a:rPr b="0" lang="en-US" sz="1800" spc="-1" strike="noStrike">
                  <a:solidFill>
                    <a:srgbClr val="0033cc"/>
                  </a:solidFill>
                  <a:latin typeface="Bookman Old Style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366160" y="352728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Bookman Old Style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Bookman Old Style"/>
                </a:rPr>
                <a:t>,</a:t>
              </a:r>
              <a:r>
                <a:rPr b="0" lang="en-US" sz="1800" spc="-1" strike="noStrike">
                  <a:solidFill>
                    <a:srgbClr val="0033cc"/>
                  </a:solidFill>
                  <a:latin typeface="Bookman Old Style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815360" y="402120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Bookman Old Style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Bookman Old Style"/>
                </a:rPr>
                <a:t>,</a:t>
              </a:r>
              <a:r>
                <a:rPr b="0" lang="en-US" sz="1800" spc="-1" strike="noStrike">
                  <a:solidFill>
                    <a:srgbClr val="0033cc"/>
                  </a:solidFill>
                  <a:latin typeface="Bookman Old Style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2740320" y="399420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Bookman Old Style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Bookman Old Style"/>
                </a:rPr>
                <a:t>,</a:t>
              </a:r>
              <a:r>
                <a:rPr b="0" lang="en-US" sz="1800" spc="-1" strike="noStrike">
                  <a:solidFill>
                    <a:srgbClr val="0033cc"/>
                  </a:solidFill>
                  <a:latin typeface="Bookman Old Style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871800" y="4138560"/>
              <a:ext cx="216000" cy="21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833280" y="38178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Bookman Old Style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254760" y="382104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Bookman Old Style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Bookman Old Style"/>
                </a:rPr>
                <a:t>,</a:t>
              </a:r>
              <a:r>
                <a:rPr b="0" lang="en-US" sz="1800" spc="-1" strike="noStrike">
                  <a:solidFill>
                    <a:srgbClr val="0033cc"/>
                  </a:solidFill>
                  <a:latin typeface="Bookman Old Style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264480" y="426564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Bookman Old Style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Bookman Old Style"/>
                </a:rPr>
                <a:t>,</a:t>
              </a:r>
              <a:r>
                <a:rPr b="0" lang="en-US" sz="1800" spc="-1" strike="noStrike">
                  <a:solidFill>
                    <a:srgbClr val="0033cc"/>
                  </a:solidFill>
                  <a:latin typeface="Bookman Old Style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216680" y="383868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Bookman Old Style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Bookman Old Style"/>
                </a:rPr>
                <a:t>,</a:t>
              </a:r>
              <a:r>
                <a:rPr b="0" lang="en-US" sz="1800" spc="-1" strike="noStrike">
                  <a:solidFill>
                    <a:srgbClr val="0033cc"/>
                  </a:solidFill>
                  <a:latin typeface="Bookman Old Style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216680" y="428292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Bookman Old Style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Bookman Old Style"/>
                </a:rPr>
                <a:t>,</a:t>
              </a:r>
              <a:r>
                <a:rPr b="0" lang="en-US" sz="1800" spc="-1" strike="noStrike">
                  <a:solidFill>
                    <a:srgbClr val="0033cc"/>
                  </a:solidFill>
                  <a:latin typeface="Bookman Old Style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36FD-E9CD-4D4B-9F1E-7C389282644C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. Ammissibilit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68360" y="1460520"/>
            <a:ext cx="806616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el problema di circolazione, in ogni nodo il flusso entrante è uguale al flusso usc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: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su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+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sx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–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ts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: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uv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+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uw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–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su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–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xu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: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vt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–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uv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–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wv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–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yv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w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: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wv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+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wy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–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uw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–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xw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= 0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: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xu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+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xw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+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xy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–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sx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y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: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yv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+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yt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–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wy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–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xy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t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: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ts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–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vt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–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yt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l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ij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≤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x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  <a:ea typeface="Arial"/>
              </a:rPr>
              <a:t>ij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 ≤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u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  <a:ea typeface="Arial"/>
              </a:rPr>
              <a:t>ij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Bookman Old Style"/>
                <a:ea typeface="Arial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  <a:ea typeface="Arial Unicode MS"/>
              </a:rPr>
              <a:t>∀ arco (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  <a:ea typeface="Arial Unicode MS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  <a:ea typeface="Arial Unicode MS"/>
              </a:rPr>
              <a:t>,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  <a:ea typeface="Arial Unicode MS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  <a:ea typeface="Arial Unicode MS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 operiamo la sostituzione </a:t>
            </a:r>
            <a:r>
              <a:rPr b="0" i="1" lang="it-IT" sz="2400" spc="-1" strike="noStrike">
                <a:solidFill>
                  <a:srgbClr val="0033cc"/>
                </a:solidFill>
                <a:latin typeface="Bookman Old Style"/>
              </a:rPr>
              <a:t>x</a:t>
            </a:r>
            <a:r>
              <a:rPr b="0" i="1" lang="it-IT" sz="2400" spc="-1" strike="noStrike" baseline="-25000">
                <a:solidFill>
                  <a:srgbClr val="0033cc"/>
                </a:solidFill>
                <a:latin typeface="Bookman Old Style"/>
              </a:rPr>
              <a:t>ij</a:t>
            </a:r>
            <a:r>
              <a:rPr b="0" lang="it-IT" sz="2400" spc="-1" strike="noStrike">
                <a:solidFill>
                  <a:srgbClr val="0033cc"/>
                </a:solidFill>
                <a:latin typeface="Bookman Old Style"/>
              </a:rPr>
              <a:t> = </a:t>
            </a:r>
            <a:r>
              <a:rPr b="0" i="1" lang="it-IT" sz="2400" spc="-1" strike="noStrike">
                <a:solidFill>
                  <a:srgbClr val="0033cc"/>
                </a:solidFill>
                <a:latin typeface="Bookman Old Style"/>
              </a:rPr>
              <a:t>x</a:t>
            </a:r>
            <a:r>
              <a:rPr b="0" i="1" lang="it-IT" sz="2400" spc="-1" strike="noStrike" baseline="30000">
                <a:solidFill>
                  <a:srgbClr val="0033cc"/>
                </a:solidFill>
                <a:latin typeface="Bookman Old Style"/>
              </a:rPr>
              <a:t>’</a:t>
            </a:r>
            <a:r>
              <a:rPr b="0" i="1" lang="it-IT" sz="2400" spc="-1" strike="noStrike" baseline="-25000">
                <a:solidFill>
                  <a:srgbClr val="0033cc"/>
                </a:solidFill>
                <a:latin typeface="Bookman Old Style"/>
              </a:rPr>
              <a:t>ij</a:t>
            </a:r>
            <a:r>
              <a:rPr b="0" lang="it-IT" sz="2400" spc="-1" strike="noStrike">
                <a:solidFill>
                  <a:srgbClr val="0033cc"/>
                </a:solidFill>
                <a:latin typeface="Bookman Old Style"/>
              </a:rPr>
              <a:t> + </a:t>
            </a:r>
            <a:r>
              <a:rPr b="0" i="1" lang="it-IT" sz="2400" spc="-1" strike="noStrike">
                <a:solidFill>
                  <a:srgbClr val="0033cc"/>
                </a:solidFill>
                <a:latin typeface="Bookman Old Style"/>
              </a:rPr>
              <a:t>l</a:t>
            </a:r>
            <a:r>
              <a:rPr b="0" i="1" lang="it-IT" sz="2400" spc="-1" strike="noStrike" baseline="-25000">
                <a:solidFill>
                  <a:srgbClr val="0033cc"/>
                </a:solidFill>
                <a:latin typeface="Bookman Old Style"/>
              </a:rPr>
              <a:t>ij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 ottie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D748-08C0-4241-9DFB-33B905AC8F4A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. Ammissibilit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611280" y="1508040"/>
            <a:ext cx="8207280" cy="441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: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'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su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+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'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sx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–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'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ts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=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)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: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'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uv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+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'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uw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–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'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su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–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'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xu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=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) =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: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'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vt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–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'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uv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–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'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wv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–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'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yv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=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) =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w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: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'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wv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+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'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wy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–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'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uw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–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'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xw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=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w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)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0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: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'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xu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+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'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xw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+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'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xy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–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'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sx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=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) =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y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: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'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yv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+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'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yt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–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'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wy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–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'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xy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=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y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)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t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: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'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ts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–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'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vt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–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'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yt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=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t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)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0 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≤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x'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  <a:ea typeface="Arial"/>
              </a:rPr>
              <a:t>ij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 ≤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l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  <a:ea typeface="Arial"/>
              </a:rPr>
              <a:t>ij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 -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u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  <a:ea typeface="Arial"/>
              </a:rPr>
              <a:t>ij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Bookman Old Style"/>
                <a:ea typeface="Arial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  <a:ea typeface="Arial Unicode MS"/>
              </a:rPr>
              <a:t>∀ arco (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  <a:ea typeface="Arial Unicode MS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  <a:ea typeface="Arial Unicode MS"/>
              </a:rPr>
              <a:t>,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  <a:ea typeface="Arial Unicode MS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  <a:ea typeface="Arial Unicode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esto è un problema di circolazione equivalente con “particolari” vincoli di bilanciamento (rhs non tutti uguali a zer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EA13-3493-45DC-BCF4-A71CCF2FEA4E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. Ammissibilit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7925040" cy="18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indi, introduciamo due nodi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’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t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’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cc"/>
                </a:solidFill>
                <a:latin typeface="Arial"/>
              </a:rPr>
              <a:t>1.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Per ogni nodo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con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) &gt; 0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aggiungiamo un arco </a:t>
            </a:r>
            <a:r>
              <a:rPr b="0" lang="it-IT" sz="2000" spc="-1" strike="noStrike">
                <a:solidFill>
                  <a:srgbClr val="0033cc"/>
                </a:solidFill>
                <a:latin typeface="Bookman Old Style"/>
              </a:rPr>
              <a:t>(</a:t>
            </a:r>
            <a:r>
              <a:rPr b="0" i="1" lang="it-IT" sz="2000" spc="-1" strike="noStrike">
                <a:solidFill>
                  <a:srgbClr val="0033cc"/>
                </a:solidFill>
                <a:latin typeface="Bookman Old Style"/>
              </a:rPr>
              <a:t>s</a:t>
            </a:r>
            <a:r>
              <a:rPr b="0" lang="it-IT" sz="2000" spc="-1" strike="noStrike" baseline="30000">
                <a:solidFill>
                  <a:srgbClr val="0033cc"/>
                </a:solidFill>
                <a:latin typeface="Bookman Old Style"/>
              </a:rPr>
              <a:t>’</a:t>
            </a:r>
            <a:r>
              <a:rPr b="0" lang="it-IT" sz="2000" spc="-1" strike="noStrike">
                <a:solidFill>
                  <a:srgbClr val="0033cc"/>
                </a:solidFill>
                <a:latin typeface="Bookman Old Style"/>
              </a:rPr>
              <a:t>, </a:t>
            </a:r>
            <a:r>
              <a:rPr b="0" i="1" lang="it-IT" sz="2000" spc="-1" strike="noStrike">
                <a:solidFill>
                  <a:srgbClr val="0033cc"/>
                </a:solidFill>
                <a:latin typeface="Bookman Old Style"/>
              </a:rPr>
              <a:t>i</a:t>
            </a:r>
            <a:r>
              <a:rPr b="0" lang="it-IT" sz="2000" spc="-1" strike="noStrike">
                <a:solidFill>
                  <a:srgbClr val="0033cc"/>
                </a:solidFill>
                <a:latin typeface="Bookman Old Style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con capacità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)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 richiesta pari a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cc"/>
                </a:solidFill>
                <a:latin typeface="Arial"/>
              </a:rPr>
              <a:t>2.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Per ogni nodo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con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) &lt; 0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aggiungiamo un arco </a:t>
            </a:r>
            <a:r>
              <a:rPr b="0" lang="it-IT" sz="2000" spc="-1" strike="noStrike">
                <a:solidFill>
                  <a:srgbClr val="cc3399"/>
                </a:solidFill>
                <a:latin typeface="Bookman Old Style"/>
              </a:rPr>
              <a:t>(</a:t>
            </a:r>
            <a:r>
              <a:rPr b="0" i="1" lang="it-IT" sz="2000" spc="-1" strike="noStrike">
                <a:solidFill>
                  <a:srgbClr val="cc3399"/>
                </a:solidFill>
                <a:latin typeface="Bookman Old Style"/>
              </a:rPr>
              <a:t>i</a:t>
            </a:r>
            <a:r>
              <a:rPr b="0" lang="it-IT" sz="2000" spc="-1" strike="noStrike">
                <a:solidFill>
                  <a:srgbClr val="cc3399"/>
                </a:solidFill>
                <a:latin typeface="Bookman Old Style"/>
              </a:rPr>
              <a:t>, </a:t>
            </a:r>
            <a:r>
              <a:rPr b="0" i="1" lang="it-IT" sz="2000" spc="-1" strike="noStrike">
                <a:solidFill>
                  <a:srgbClr val="cc3399"/>
                </a:solidFill>
                <a:latin typeface="Bookman Old Style"/>
              </a:rPr>
              <a:t>t</a:t>
            </a:r>
            <a:r>
              <a:rPr b="0" lang="it-IT" sz="2000" spc="-1" strike="noStrike" baseline="30000">
                <a:solidFill>
                  <a:srgbClr val="cc3399"/>
                </a:solidFill>
                <a:latin typeface="Bookman Old Style"/>
              </a:rPr>
              <a:t>’</a:t>
            </a:r>
            <a:r>
              <a:rPr b="0" lang="it-IT" sz="2000" spc="-1" strike="noStrike">
                <a:solidFill>
                  <a:srgbClr val="cc3399"/>
                </a:solidFill>
                <a:latin typeface="Bookman Old Style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con capacità 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–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)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 richiesta pari a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 flipV="1" rot="408000">
            <a:off x="2421000" y="2562480"/>
            <a:ext cx="5350680" cy="302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087" y="1635"/>
                </a:moveTo>
                <a:arcTo wR="10800" hR="10800" stAng="-7316138" swAng="7150162"/>
                <a:lnTo>
                  <a:pt x="10800" y="10800"/>
                </a:lnTo>
                <a:close/>
              </a:path>
              <a:path fill="none" w="21600" h="21600">
                <a:moveTo>
                  <a:pt x="5087" y="1635"/>
                </a:moveTo>
                <a:arcTo wR="10800" hR="10800" stAng="-7316138" swAng="7150162"/>
              </a:path>
            </a:pathLst>
          </a:custGeom>
          <a:noFill/>
          <a:ln w="936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 rot="21192000">
            <a:off x="2267280" y="3149640"/>
            <a:ext cx="5472000" cy="2738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710" y="1275"/>
                </a:moveTo>
                <a:arcTo wR="10800" hR="10800" stAng="-7087204" swAng="7128344"/>
                <a:lnTo>
                  <a:pt x="10800" y="10800"/>
                </a:lnTo>
                <a:close/>
              </a:path>
              <a:path fill="none" w="21600" h="21600">
                <a:moveTo>
                  <a:pt x="5710" y="1275"/>
                </a:moveTo>
                <a:arcTo wR="10800" hR="10800" stAng="-7087204" swAng="7128344"/>
              </a:path>
            </a:pathLst>
          </a:custGeom>
          <a:noFill/>
          <a:ln w="936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7596360" y="4221000"/>
            <a:ext cx="215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7910640" y="43308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 flipV="1" rot="11208000">
            <a:off x="1073520" y="3186000"/>
            <a:ext cx="5474160" cy="273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392" y="940"/>
                </a:moveTo>
                <a:arcTo wR="10800" hR="10800" stAng="-6845264" swAng="7527756"/>
                <a:lnTo>
                  <a:pt x="10800" y="10800"/>
                </a:lnTo>
                <a:close/>
              </a:path>
              <a:path fill="none" w="21600" h="21600">
                <a:moveTo>
                  <a:pt x="6392" y="940"/>
                </a:moveTo>
                <a:arcTo wR="10800" hR="10800" stAng="-6845264" swAng="7527756"/>
              </a:path>
            </a:pathLst>
          </a:custGeom>
          <a:noFill/>
          <a:ln w="9360">
            <a:solidFill>
              <a:srgbClr val="00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 rot="10256400">
            <a:off x="1064520" y="2632680"/>
            <a:ext cx="5451480" cy="331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14" y="6686"/>
                </a:moveTo>
                <a:arcTo wR="10800" hR="10800" stAng="-9456448" swAng="9550933"/>
                <a:lnTo>
                  <a:pt x="10800" y="10800"/>
                </a:lnTo>
                <a:close/>
              </a:path>
              <a:path fill="none" w="21600" h="21600">
                <a:moveTo>
                  <a:pt x="814" y="6686"/>
                </a:moveTo>
                <a:arcTo wR="10800" hR="10800" stAng="-9456448" swAng="9550933"/>
              </a:path>
            </a:pathLst>
          </a:custGeom>
          <a:noFill/>
          <a:ln w="9360">
            <a:solidFill>
              <a:srgbClr val="00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1692360" y="33498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Bookman Old Style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3419640" y="5877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Bookman Old Style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6877080" y="52941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Bookman Old Style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6948360" y="3068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Bookman Old Style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"/>
          <p:cNvGrpSpPr/>
          <p:nvPr/>
        </p:nvGrpSpPr>
        <p:grpSpPr>
          <a:xfrm>
            <a:off x="1976040" y="3068640"/>
            <a:ext cx="4825440" cy="2446200"/>
            <a:chOff x="1976040" y="3068640"/>
            <a:chExt cx="4825440" cy="2446200"/>
          </a:xfrm>
        </p:grpSpPr>
        <p:sp>
          <p:nvSpPr>
            <p:cNvPr id="1178" name=""/>
            <p:cNvSpPr/>
            <p:nvPr/>
          </p:nvSpPr>
          <p:spPr>
            <a:xfrm flipV="1">
              <a:off x="3473280" y="4400280"/>
              <a:ext cx="720720" cy="6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329000" y="4379760"/>
              <a:ext cx="71892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3490560" y="3587760"/>
              <a:ext cx="71928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 flipV="1">
              <a:off x="4329000" y="3620520"/>
              <a:ext cx="72072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2288880" y="4281480"/>
              <a:ext cx="216000" cy="215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321240" y="4281480"/>
              <a:ext cx="216000" cy="2156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368520" y="3417840"/>
              <a:ext cx="216000" cy="215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024160" y="3417840"/>
              <a:ext cx="216000" cy="215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3369960" y="5002200"/>
              <a:ext cx="216000" cy="215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025960" y="5002200"/>
              <a:ext cx="215640" cy="215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88" name=""/>
            <p:cNvCxnSpPr>
              <a:stCxn id="1182" idx="7"/>
              <a:endCxn id="1184" idx="2"/>
            </p:cNvCxnSpPr>
            <p:nvPr/>
          </p:nvCxnSpPr>
          <p:spPr>
            <a:xfrm flipV="1">
              <a:off x="2472840" y="3525120"/>
              <a:ext cx="896040" cy="788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89" name=""/>
            <p:cNvCxnSpPr>
              <a:stCxn id="1182" idx="5"/>
              <a:endCxn id="1186" idx="2"/>
            </p:cNvCxnSpPr>
            <p:nvPr/>
          </p:nvCxnSpPr>
          <p:spPr>
            <a:xfrm>
              <a:off x="2472840" y="4465440"/>
              <a:ext cx="897480" cy="645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90" name=""/>
            <p:cNvCxnSpPr>
              <a:stCxn id="1184" idx="6"/>
              <a:endCxn id="1185" idx="2"/>
            </p:cNvCxnSpPr>
            <p:nvPr/>
          </p:nvCxnSpPr>
          <p:spPr>
            <a:xfrm>
              <a:off x="3584160" y="3525480"/>
              <a:ext cx="14403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91" name=""/>
            <p:cNvCxnSpPr>
              <a:stCxn id="1185" idx="6"/>
              <a:endCxn id="1183" idx="1"/>
            </p:cNvCxnSpPr>
            <p:nvPr/>
          </p:nvCxnSpPr>
          <p:spPr>
            <a:xfrm>
              <a:off x="5239800" y="3525480"/>
              <a:ext cx="1113120" cy="788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92" name=""/>
            <p:cNvCxnSpPr>
              <a:stCxn id="1186" idx="6"/>
              <a:endCxn id="1187" idx="2"/>
            </p:cNvCxnSpPr>
            <p:nvPr/>
          </p:nvCxnSpPr>
          <p:spPr>
            <a:xfrm>
              <a:off x="3585960" y="5109480"/>
              <a:ext cx="14403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93" name=""/>
            <p:cNvCxnSpPr>
              <a:stCxn id="1187" idx="6"/>
              <a:endCxn id="1183" idx="3"/>
            </p:cNvCxnSpPr>
            <p:nvPr/>
          </p:nvCxnSpPr>
          <p:spPr>
            <a:xfrm flipV="1">
              <a:off x="5241240" y="4465080"/>
              <a:ext cx="1112040" cy="645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94" name=""/>
            <p:cNvCxnSpPr>
              <a:stCxn id="1184" idx="4"/>
              <a:endCxn id="1186" idx="0"/>
            </p:cNvCxnSpPr>
            <p:nvPr/>
          </p:nvCxnSpPr>
          <p:spPr>
            <a:xfrm>
              <a:off x="3476520" y="3633480"/>
              <a:ext cx="2160" cy="1369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195" name=""/>
            <p:cNvCxnSpPr>
              <a:stCxn id="1187" idx="0"/>
              <a:endCxn id="1185" idx="4"/>
            </p:cNvCxnSpPr>
            <p:nvPr/>
          </p:nvCxnSpPr>
          <p:spPr>
            <a:xfrm flipH="1" flipV="1">
              <a:off x="5131440" y="3633120"/>
              <a:ext cx="2520" cy="1369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96" name=""/>
            <p:cNvSpPr/>
            <p:nvPr/>
          </p:nvSpPr>
          <p:spPr>
            <a:xfrm>
              <a:off x="2561040" y="355428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Bookman Old Style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Bookman Old Style"/>
                </a:rPr>
                <a:t>,</a:t>
              </a:r>
              <a:r>
                <a:rPr b="0" lang="en-US" sz="1800" spc="-1" strike="noStrike">
                  <a:solidFill>
                    <a:srgbClr val="0033cc"/>
                  </a:solidFill>
                  <a:latin typeface="Bookman Old Style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1976040" y="4178160"/>
              <a:ext cx="27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Bookman Old Style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6544440" y="421308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Bookman Old Style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320640" y="306864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Bookman Old Style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001120" y="307476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Bookman Old Style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3323160" y="5146560"/>
              <a:ext cx="29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Bookman Old Style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007600" y="51274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Bookman Old Style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005720" y="320040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Bookman Old Style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Bookman Old Style"/>
                </a:rPr>
                <a:t>,</a:t>
              </a:r>
              <a:r>
                <a:rPr b="0" lang="en-US" sz="1800" spc="-1" strike="noStrike">
                  <a:solidFill>
                    <a:srgbClr val="0033cc"/>
                  </a:solidFill>
                  <a:latin typeface="Bookman Old Style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2561040" y="476244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Bookman Old Style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Bookman Old Style"/>
                </a:rPr>
                <a:t>,</a:t>
              </a:r>
              <a:r>
                <a:rPr b="0" lang="en-US" sz="1800" spc="-1" strike="noStrike">
                  <a:solidFill>
                    <a:srgbClr val="0033cc"/>
                  </a:solidFill>
                  <a:latin typeface="Bookman Old Style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008960" y="506880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Bookman Old Style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Bookman Old Style"/>
                </a:rPr>
                <a:t>,</a:t>
              </a:r>
              <a:r>
                <a:rPr b="0" lang="en-US" sz="1800" spc="-1" strike="noStrike">
                  <a:solidFill>
                    <a:srgbClr val="0033cc"/>
                  </a:solidFill>
                  <a:latin typeface="Bookman Old Style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656680" y="472284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Bookman Old Style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Bookman Old Style"/>
                </a:rPr>
                <a:t>,</a:t>
              </a:r>
              <a:r>
                <a:rPr b="0" lang="en-US" sz="1800" spc="-1" strike="noStrike">
                  <a:solidFill>
                    <a:srgbClr val="0033cc"/>
                  </a:solidFill>
                  <a:latin typeface="Bookman Old Style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653440" y="359856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Bookman Old Style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Bookman Old Style"/>
                </a:rPr>
                <a:t>,</a:t>
              </a:r>
              <a:r>
                <a:rPr b="0" lang="en-US" sz="1800" spc="-1" strike="noStrike">
                  <a:solidFill>
                    <a:srgbClr val="0033cc"/>
                  </a:solidFill>
                  <a:latin typeface="Bookman Old Style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102640" y="409248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Bookman Old Style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Bookman Old Style"/>
                </a:rPr>
                <a:t>,</a:t>
              </a:r>
              <a:r>
                <a:rPr b="0" lang="en-US" sz="1800" spc="-1" strike="noStrike">
                  <a:solidFill>
                    <a:srgbClr val="0033cc"/>
                  </a:solidFill>
                  <a:latin typeface="Bookman Old Style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3027600" y="406548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Bookman Old Style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Bookman Old Style"/>
                </a:rPr>
                <a:t>,</a:t>
              </a:r>
              <a:r>
                <a:rPr b="0" lang="en-US" sz="1800" spc="-1" strike="noStrike">
                  <a:solidFill>
                    <a:srgbClr val="0033cc"/>
                  </a:solidFill>
                  <a:latin typeface="Bookman Old Style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159080" y="4209840"/>
              <a:ext cx="216000" cy="21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120560" y="38890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Bookman Old Style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542040" y="389232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Bookman Old Style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Bookman Old Style"/>
                </a:rPr>
                <a:t>,</a:t>
              </a:r>
              <a:r>
                <a:rPr b="0" lang="en-US" sz="1800" spc="-1" strike="noStrike">
                  <a:solidFill>
                    <a:srgbClr val="0033cc"/>
                  </a:solidFill>
                  <a:latin typeface="Bookman Old Style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551760" y="433692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Bookman Old Style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Bookman Old Style"/>
                </a:rPr>
                <a:t>,</a:t>
              </a:r>
              <a:r>
                <a:rPr b="0" lang="en-US" sz="1800" spc="-1" strike="noStrike">
                  <a:solidFill>
                    <a:srgbClr val="0033cc"/>
                  </a:solidFill>
                  <a:latin typeface="Bookman Old Style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503960" y="390996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Bookman Old Style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Bookman Old Style"/>
                </a:rPr>
                <a:t>,</a:t>
              </a:r>
              <a:r>
                <a:rPr b="0" lang="en-US" sz="1800" spc="-1" strike="noStrike">
                  <a:solidFill>
                    <a:srgbClr val="0033cc"/>
                  </a:solidFill>
                  <a:latin typeface="Bookman Old Style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503960" y="435420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Bookman Old Style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Bookman Old Style"/>
                </a:rPr>
                <a:t>,</a:t>
              </a:r>
              <a:r>
                <a:rPr b="0" lang="en-US" sz="1800" spc="-1" strike="noStrike">
                  <a:solidFill>
                    <a:srgbClr val="0033cc"/>
                  </a:solidFill>
                  <a:latin typeface="Bookman Old Style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6" name=""/>
          <p:cNvSpPr/>
          <p:nvPr/>
        </p:nvSpPr>
        <p:spPr>
          <a:xfrm>
            <a:off x="565560" y="443700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971640" y="4508640"/>
            <a:ext cx="215640" cy="21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D5ED-0A1F-478D-9C72-E3AB9BF96D1D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. Ammissibilit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95000" y="1460160"/>
            <a:ext cx="81090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 il flusso massimo satura gli archi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i="1" lang="it-IT" sz="2400" spc="-1" strike="noStrike" baseline="30000">
                <a:solidFill>
                  <a:srgbClr val="000000"/>
                </a:solidFill>
                <a:latin typeface="Bookman Old Style"/>
              </a:rPr>
              <a:t>’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quivalentemente, gli archi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t</a:t>
            </a:r>
            <a:r>
              <a:rPr b="0" i="1" lang="it-IT" sz="2400" spc="-1" strike="noStrike" baseline="30000">
                <a:solidFill>
                  <a:srgbClr val="000000"/>
                </a:solidFill>
                <a:latin typeface="Bookman Old Style"/>
              </a:rPr>
              <a:t>’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allora il problema inizia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è ammissibile, altrimenti non lo è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 flipV="1" rot="408000">
            <a:off x="2304720" y="2830680"/>
            <a:ext cx="5473800" cy="2736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087" y="1635"/>
                </a:moveTo>
                <a:arcTo wR="10800" hR="10800" stAng="-7316138" swAng="7150162"/>
                <a:lnTo>
                  <a:pt x="10800" y="10800"/>
                </a:lnTo>
                <a:close/>
              </a:path>
              <a:path fill="none" w="21600" h="21600">
                <a:moveTo>
                  <a:pt x="5087" y="1635"/>
                </a:moveTo>
                <a:arcTo wR="10800" hR="10800" stAng="-7316138" swAng="7150162"/>
              </a:path>
            </a:pathLst>
          </a:custGeom>
          <a:noFill/>
          <a:ln w="936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 rot="21192000">
            <a:off x="2288160" y="3164400"/>
            <a:ext cx="5473440" cy="273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087" y="1635"/>
                </a:moveTo>
                <a:arcTo wR="10800" hR="10800" stAng="-7316138" swAng="7662556"/>
                <a:lnTo>
                  <a:pt x="10800" y="10800"/>
                </a:lnTo>
                <a:close/>
              </a:path>
              <a:path fill="none" w="21600" h="21600">
                <a:moveTo>
                  <a:pt x="5087" y="1635"/>
                </a:moveTo>
                <a:arcTo wR="10800" hR="10800" stAng="-7316138" swAng="7662556"/>
              </a:path>
            </a:pathLst>
          </a:custGeom>
          <a:noFill/>
          <a:ln w="936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 flipV="1">
            <a:off x="3490920" y="4414680"/>
            <a:ext cx="72072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4346640" y="4394160"/>
            <a:ext cx="7189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3508200" y="3602160"/>
            <a:ext cx="7192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 flipV="1">
            <a:off x="4346640" y="3634920"/>
            <a:ext cx="720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2306520" y="4295880"/>
            <a:ext cx="216000" cy="21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6338880" y="4295880"/>
            <a:ext cx="216000" cy="215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3386160" y="343224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5041800" y="343224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3387600" y="5016600"/>
            <a:ext cx="216000" cy="21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5043600" y="5016600"/>
            <a:ext cx="215640" cy="21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2" name=""/>
          <p:cNvCxnSpPr>
            <a:stCxn id="1226" idx="7"/>
            <a:endCxn id="1228" idx="2"/>
          </p:cNvCxnSpPr>
          <p:nvPr/>
        </p:nvCxnSpPr>
        <p:spPr>
          <a:xfrm flipV="1">
            <a:off x="2490480" y="3539520"/>
            <a:ext cx="896040" cy="788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3" name=""/>
          <p:cNvCxnSpPr>
            <a:stCxn id="1226" idx="5"/>
            <a:endCxn id="1230" idx="2"/>
          </p:cNvCxnSpPr>
          <p:nvPr/>
        </p:nvCxnSpPr>
        <p:spPr>
          <a:xfrm>
            <a:off x="2490480" y="4479480"/>
            <a:ext cx="897480" cy="64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4" name=""/>
          <p:cNvCxnSpPr>
            <a:stCxn id="1228" idx="6"/>
            <a:endCxn id="1229" idx="2"/>
          </p:cNvCxnSpPr>
          <p:nvPr/>
        </p:nvCxnSpPr>
        <p:spPr>
          <a:xfrm>
            <a:off x="3601800" y="3539880"/>
            <a:ext cx="144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5" name=""/>
          <p:cNvCxnSpPr>
            <a:stCxn id="1229" idx="6"/>
            <a:endCxn id="1227" idx="1"/>
          </p:cNvCxnSpPr>
          <p:nvPr/>
        </p:nvCxnSpPr>
        <p:spPr>
          <a:xfrm>
            <a:off x="5257440" y="3539880"/>
            <a:ext cx="1113120" cy="788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6" name=""/>
          <p:cNvCxnSpPr>
            <a:stCxn id="1230" idx="6"/>
            <a:endCxn id="1231" idx="2"/>
          </p:cNvCxnSpPr>
          <p:nvPr/>
        </p:nvCxnSpPr>
        <p:spPr>
          <a:xfrm>
            <a:off x="3603600" y="5124240"/>
            <a:ext cx="144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7" name=""/>
          <p:cNvCxnSpPr>
            <a:stCxn id="1231" idx="6"/>
            <a:endCxn id="1227" idx="3"/>
          </p:cNvCxnSpPr>
          <p:nvPr/>
        </p:nvCxnSpPr>
        <p:spPr>
          <a:xfrm flipV="1">
            <a:off x="5258880" y="4479120"/>
            <a:ext cx="1112040" cy="64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8" name=""/>
          <p:cNvCxnSpPr>
            <a:stCxn id="1228" idx="4"/>
            <a:endCxn id="1230" idx="0"/>
          </p:cNvCxnSpPr>
          <p:nvPr/>
        </p:nvCxnSpPr>
        <p:spPr>
          <a:xfrm>
            <a:off x="3494160" y="3647880"/>
            <a:ext cx="2160" cy="136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239" name=""/>
          <p:cNvCxnSpPr>
            <a:stCxn id="1231" idx="0"/>
            <a:endCxn id="1229" idx="4"/>
          </p:cNvCxnSpPr>
          <p:nvPr/>
        </p:nvCxnSpPr>
        <p:spPr>
          <a:xfrm flipH="1" flipV="1">
            <a:off x="5149080" y="3647520"/>
            <a:ext cx="2520" cy="136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0" name=""/>
          <p:cNvSpPr/>
          <p:nvPr/>
        </p:nvSpPr>
        <p:spPr>
          <a:xfrm>
            <a:off x="2578680" y="356868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Bookman Old Style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1993680" y="419256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6562080" y="42274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3338280" y="308304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5018760" y="30891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3340800" y="5160960"/>
            <a:ext cx="2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5025240" y="51418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4037040" y="3214800"/>
            <a:ext cx="62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Bookman Old Style"/>
              </a:rPr>
              <a:t>  </a:t>
            </a:r>
            <a:r>
              <a:rPr b="0" lang="en-US" sz="1800" spc="-1" strike="noStrike">
                <a:solidFill>
                  <a:srgbClr val="00cc00"/>
                </a:solidFill>
                <a:latin typeface="Bookman Old Style"/>
              </a:rPr>
              <a:t>0,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2578680" y="477684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Bookman Old Style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4040280" y="5083200"/>
            <a:ext cx="62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Bookman Old Style"/>
              </a:rPr>
              <a:t>  </a:t>
            </a:r>
            <a:r>
              <a:rPr b="0" lang="en-US" sz="1800" spc="-1" strike="noStrike">
                <a:solidFill>
                  <a:srgbClr val="00cc00"/>
                </a:solidFill>
                <a:latin typeface="Bookman Old Style"/>
              </a:rPr>
              <a:t>0,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5453640" y="450216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Bookman Old Style"/>
              </a:rPr>
              <a:t>0,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5671080" y="361332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Bookman Old Style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5120280" y="410688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Bookman Old Style"/>
              </a:rPr>
              <a:t>0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3045240" y="407988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Bookman Old Style"/>
              </a:rPr>
              <a:t>0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4176720" y="422424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4138200" y="39038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3630600" y="3645000"/>
            <a:ext cx="62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Bookman Old Style"/>
              </a:rPr>
              <a:t>  </a:t>
            </a:r>
            <a:r>
              <a:rPr b="0" lang="en-US" sz="1800" spc="-1" strike="noStrike">
                <a:solidFill>
                  <a:srgbClr val="00cc00"/>
                </a:solidFill>
                <a:latin typeface="Bookman Old Style"/>
              </a:rPr>
              <a:t>0,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3701880" y="4575240"/>
            <a:ext cx="62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  </a:t>
            </a:r>
            <a:r>
              <a:rPr b="0" lang="en-US" sz="1800" spc="-1" strike="noStrike">
                <a:solidFill>
                  <a:srgbClr val="00cc00"/>
                </a:solidFill>
                <a:latin typeface="Bookman Old Style"/>
              </a:rPr>
              <a:t>0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4590000" y="386064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Bookman Old Style"/>
              </a:rPr>
              <a:t>0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4521600" y="436896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Bookman Old Style"/>
              </a:rPr>
              <a:t>0,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0" name=""/>
          <p:cNvCxnSpPr>
            <a:stCxn id="1227" idx="4"/>
            <a:endCxn id="1226" idx="4"/>
          </p:cNvCxnSpPr>
          <p:nvPr/>
        </p:nvCxnSpPr>
        <p:spPr>
          <a:xfrm rot="5400000">
            <a:off x="4429080" y="2495880"/>
            <a:ext cx="2520" cy="4033080"/>
          </a:xfrm>
          <a:prstGeom prst="curvedConnector5">
            <a:avLst>
              <a:gd name="adj1" fmla="val 84000000"/>
              <a:gd name="adj2" fmla="val 50000"/>
              <a:gd name="adj3" fmla="val 84000000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261" name=""/>
          <p:cNvSpPr/>
          <p:nvPr/>
        </p:nvSpPr>
        <p:spPr>
          <a:xfrm>
            <a:off x="4084560" y="58561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Bookman Old Style"/>
                <a:ea typeface="Arial Unicode MS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  <a:ea typeface="Arial Unicode MS"/>
              </a:rPr>
              <a:t>,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  <a:ea typeface="Arial Unicode MS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971640" y="4292640"/>
            <a:ext cx="215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7647120" y="4351320"/>
            <a:ext cx="215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539640" y="42926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7839000" y="42577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t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 flipV="1" rot="11208000">
            <a:off x="1047960" y="3220920"/>
            <a:ext cx="5474160" cy="2736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392" y="940"/>
                </a:moveTo>
                <a:arcTo wR="10800" hR="10800" stAng="-6845264" swAng="6845264"/>
                <a:lnTo>
                  <a:pt x="10800" y="10800"/>
                </a:lnTo>
                <a:close/>
              </a:path>
              <a:path fill="none" w="21600" h="21600">
                <a:moveTo>
                  <a:pt x="6392" y="940"/>
                </a:moveTo>
                <a:arcTo wR="10800" hR="10800" stAng="-6845264" swAng="6845264"/>
              </a:path>
            </a:pathLst>
          </a:custGeom>
          <a:noFill/>
          <a:ln w="9360">
            <a:solidFill>
              <a:srgbClr val="00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 rot="10392000">
            <a:off x="1038600" y="2833200"/>
            <a:ext cx="5474880" cy="273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90" y="6507"/>
                </a:moveTo>
                <a:arcTo wR="10800" hR="10800" stAng="-9394763" swAng="9394763"/>
                <a:lnTo>
                  <a:pt x="10800" y="10800"/>
                </a:lnTo>
                <a:close/>
              </a:path>
              <a:path fill="none" w="21600" h="21600">
                <a:moveTo>
                  <a:pt x="890" y="6507"/>
                </a:moveTo>
                <a:arcTo wR="10800" hR="10800" stAng="-9394763" swAng="9394763"/>
              </a:path>
            </a:pathLst>
          </a:custGeom>
          <a:noFill/>
          <a:ln w="9360">
            <a:solidFill>
              <a:srgbClr val="00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1620720" y="3068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Bookman Old Style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1646280" y="5354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Bookman Old Style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6919920" y="5219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Bookman Old Style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6915240" y="31352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Bookman Old Style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5580000" y="256536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5592600" y="223200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flus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capacit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2B90-5A27-4567-84D0-33C4158A3D47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. Ammissibilit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507600" y="1485720"/>
            <a:ext cx="7924680" cy="11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ottenere una soluzione ammissibile del problema iniziale si eliminano gli archi aggiunti e si ripristinano le variabili originali </a:t>
            </a:r>
            <a:r>
              <a:rPr b="0" i="1" lang="it-IT" sz="2400" spc="-1" strike="noStrike">
                <a:solidFill>
                  <a:srgbClr val="0033cc"/>
                </a:solidFill>
                <a:latin typeface="Bookman Old Style"/>
              </a:rPr>
              <a:t>x</a:t>
            </a:r>
            <a:r>
              <a:rPr b="0" i="1" lang="it-IT" sz="2400" spc="-1" strike="noStrike" baseline="-25000">
                <a:solidFill>
                  <a:srgbClr val="0033cc"/>
                </a:solidFill>
                <a:latin typeface="Bookman Old Style"/>
              </a:rPr>
              <a:t>ij</a:t>
            </a:r>
            <a:r>
              <a:rPr b="0" lang="it-IT" sz="2400" spc="-1" strike="noStrike">
                <a:solidFill>
                  <a:srgbClr val="0033cc"/>
                </a:solidFill>
                <a:latin typeface="Bookman Old Style"/>
              </a:rPr>
              <a:t> = </a:t>
            </a:r>
            <a:r>
              <a:rPr b="0" i="1" lang="it-IT" sz="2400" spc="-1" strike="noStrike">
                <a:solidFill>
                  <a:srgbClr val="0033cc"/>
                </a:solidFill>
                <a:latin typeface="Bookman Old Style"/>
              </a:rPr>
              <a:t>x’</a:t>
            </a:r>
            <a:r>
              <a:rPr b="0" i="1" lang="it-IT" sz="2400" spc="-1" strike="noStrike" baseline="-25000">
                <a:solidFill>
                  <a:srgbClr val="0033cc"/>
                </a:solidFill>
                <a:latin typeface="Bookman Old Style"/>
              </a:rPr>
              <a:t>ij</a:t>
            </a:r>
            <a:r>
              <a:rPr b="0" lang="it-IT" sz="2400" spc="-1" strike="noStrike">
                <a:solidFill>
                  <a:srgbClr val="0033cc"/>
                </a:solidFill>
                <a:latin typeface="Bookman Old Style"/>
              </a:rPr>
              <a:t> + </a:t>
            </a:r>
            <a:r>
              <a:rPr b="0" i="1" lang="it-IT" sz="2400" spc="-1" strike="noStrike">
                <a:solidFill>
                  <a:srgbClr val="0033cc"/>
                </a:solidFill>
                <a:latin typeface="Bookman Old Style"/>
              </a:rPr>
              <a:t>l</a:t>
            </a:r>
            <a:r>
              <a:rPr b="0" i="1" lang="it-IT" sz="2400" spc="-1" strike="noStrike" baseline="-25000">
                <a:solidFill>
                  <a:srgbClr val="0033cc"/>
                </a:solidFill>
                <a:latin typeface="Bookman Old Style"/>
              </a:rPr>
              <a:t>ij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 flipV="1">
            <a:off x="3490920" y="4400280"/>
            <a:ext cx="720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4346640" y="4379760"/>
            <a:ext cx="71892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3508200" y="3587760"/>
            <a:ext cx="7192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 flipV="1">
            <a:off x="4346640" y="3620880"/>
            <a:ext cx="720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2306520" y="428148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6338880" y="4281480"/>
            <a:ext cx="216000" cy="21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3386160" y="341784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5041800" y="341784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3387600" y="500220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5043600" y="5002200"/>
            <a:ext cx="21564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6" name=""/>
          <p:cNvCxnSpPr>
            <a:stCxn id="1280" idx="7"/>
            <a:endCxn id="1282" idx="2"/>
          </p:cNvCxnSpPr>
          <p:nvPr/>
        </p:nvCxnSpPr>
        <p:spPr>
          <a:xfrm flipV="1">
            <a:off x="2490480" y="3525120"/>
            <a:ext cx="896040" cy="788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7" name=""/>
          <p:cNvCxnSpPr>
            <a:stCxn id="1280" idx="5"/>
            <a:endCxn id="1284" idx="2"/>
          </p:cNvCxnSpPr>
          <p:nvPr/>
        </p:nvCxnSpPr>
        <p:spPr>
          <a:xfrm>
            <a:off x="2490480" y="4465800"/>
            <a:ext cx="897480" cy="64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8" name=""/>
          <p:cNvCxnSpPr>
            <a:stCxn id="1282" idx="6"/>
            <a:endCxn id="1283" idx="2"/>
          </p:cNvCxnSpPr>
          <p:nvPr/>
        </p:nvCxnSpPr>
        <p:spPr>
          <a:xfrm>
            <a:off x="3601800" y="3525480"/>
            <a:ext cx="144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9" name=""/>
          <p:cNvCxnSpPr>
            <a:stCxn id="1283" idx="6"/>
            <a:endCxn id="1281" idx="1"/>
          </p:cNvCxnSpPr>
          <p:nvPr/>
        </p:nvCxnSpPr>
        <p:spPr>
          <a:xfrm>
            <a:off x="5257440" y="3525480"/>
            <a:ext cx="1113120" cy="788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0" name=""/>
          <p:cNvCxnSpPr>
            <a:stCxn id="1284" idx="6"/>
            <a:endCxn id="1285" idx="2"/>
          </p:cNvCxnSpPr>
          <p:nvPr/>
        </p:nvCxnSpPr>
        <p:spPr>
          <a:xfrm>
            <a:off x="3603600" y="5109840"/>
            <a:ext cx="144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1" name=""/>
          <p:cNvCxnSpPr>
            <a:stCxn id="1285" idx="6"/>
            <a:endCxn id="1281" idx="3"/>
          </p:cNvCxnSpPr>
          <p:nvPr/>
        </p:nvCxnSpPr>
        <p:spPr>
          <a:xfrm flipV="1">
            <a:off x="5258880" y="4465440"/>
            <a:ext cx="1112040" cy="64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2" name=""/>
          <p:cNvCxnSpPr>
            <a:stCxn id="1282" idx="4"/>
            <a:endCxn id="1284" idx="0"/>
          </p:cNvCxnSpPr>
          <p:nvPr/>
        </p:nvCxnSpPr>
        <p:spPr>
          <a:xfrm>
            <a:off x="3494160" y="3633480"/>
            <a:ext cx="2160" cy="136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293" name=""/>
          <p:cNvCxnSpPr>
            <a:stCxn id="1285" idx="0"/>
            <a:endCxn id="1283" idx="4"/>
          </p:cNvCxnSpPr>
          <p:nvPr/>
        </p:nvCxnSpPr>
        <p:spPr>
          <a:xfrm flipH="1" flipV="1">
            <a:off x="5149080" y="3633120"/>
            <a:ext cx="2520" cy="136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4" name=""/>
          <p:cNvSpPr/>
          <p:nvPr/>
        </p:nvSpPr>
        <p:spPr>
          <a:xfrm>
            <a:off x="2424600" y="3554280"/>
            <a:ext cx="6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Bookman Old Style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en-US" sz="1800" spc="-1" strike="noStrike">
                <a:solidFill>
                  <a:srgbClr val="ff0000"/>
                </a:solidFill>
                <a:latin typeface="Bookman Old Style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1993680" y="417816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6562080" y="4213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3338280" y="306864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5018760" y="30751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3340800" y="5146560"/>
            <a:ext cx="2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5025240" y="51274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4034520" y="3200400"/>
            <a:ext cx="6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Bookman Old Style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en-US" sz="1800" spc="-1" strike="noStrike">
                <a:solidFill>
                  <a:srgbClr val="ff0000"/>
                </a:solidFill>
                <a:latin typeface="Bookman Old Style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2437560" y="4762440"/>
            <a:ext cx="6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Bookman Old Style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en-US" sz="1800" spc="-1" strike="noStrike">
                <a:solidFill>
                  <a:srgbClr val="ff0000"/>
                </a:solidFill>
                <a:latin typeface="Bookman Old Style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4037760" y="5068800"/>
            <a:ext cx="6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Bookman Old Style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en-US" sz="1800" spc="-1" strike="noStrike">
                <a:solidFill>
                  <a:srgbClr val="ff0000"/>
                </a:solidFill>
                <a:latin typeface="Bookman Old Style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5685480" y="4722840"/>
            <a:ext cx="6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Bookman Old Style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en-US" sz="1800" spc="-1" strike="noStrike">
                <a:solidFill>
                  <a:srgbClr val="ff0000"/>
                </a:solidFill>
                <a:latin typeface="Bookman Old Style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5682240" y="3598920"/>
            <a:ext cx="6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Bookman Old Style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en-US" sz="1800" spc="-1" strike="noStrike">
                <a:solidFill>
                  <a:srgbClr val="ff0000"/>
                </a:solidFill>
                <a:latin typeface="Bookman Old Style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5131440" y="4092480"/>
            <a:ext cx="6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Bookman Old Style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en-US" sz="1800" spc="-1" strike="noStrike">
                <a:solidFill>
                  <a:srgbClr val="ff0000"/>
                </a:solidFill>
                <a:latin typeface="Bookman Old Style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2872440" y="4065480"/>
            <a:ext cx="6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Bookman Old Style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en-US" sz="1800" spc="-1" strike="noStrike">
                <a:solidFill>
                  <a:srgbClr val="ff0000"/>
                </a:solidFill>
                <a:latin typeface="Bookman Old Style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4176720" y="4210200"/>
            <a:ext cx="216000" cy="21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4138200" y="3889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3415320" y="3716280"/>
            <a:ext cx="6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Bookman Old Style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en-US" sz="1800" spc="-1" strike="noStrike">
                <a:solidFill>
                  <a:srgbClr val="ff0000"/>
                </a:solidFill>
                <a:latin typeface="Bookman Old Style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3486600" y="4502160"/>
            <a:ext cx="6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Bookman Old Style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en-US" sz="1800" spc="-1" strike="noStrike">
                <a:solidFill>
                  <a:srgbClr val="ff0000"/>
                </a:solidFill>
                <a:latin typeface="Bookman Old Style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4456800" y="3716280"/>
            <a:ext cx="6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Bookman Old Style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en-US" sz="1800" spc="-1" strike="noStrike">
                <a:solidFill>
                  <a:srgbClr val="ff0000"/>
                </a:solidFill>
                <a:latin typeface="Bookman Old Style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4456800" y="4502160"/>
            <a:ext cx="6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Bookman Old Style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en-US" sz="1800" spc="-1" strike="noStrike">
                <a:solidFill>
                  <a:srgbClr val="ff0000"/>
                </a:solidFill>
                <a:latin typeface="Bookman Old Style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5724360" y="2781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5435640" y="245124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flus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ichies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capacit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AECA-1E72-4BB6-803B-D9EF9308A3F7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2. Ottimalit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507600" y="1447920"/>
            <a:ext cx="792468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 partire dal flusso ammissibile trovato, determiniamo il flusso massi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struiamo il grafo ausiliario mettendo un arco “</a:t>
            </a:r>
            <a:r>
              <a:rPr b="0" lang="it-IT" sz="2400" spc="-1" strike="noStrike">
                <a:solidFill>
                  <a:srgbClr val="0033cc"/>
                </a:solidFill>
                <a:latin typeface="Arial"/>
              </a:rPr>
              <a:t>forward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” se </a:t>
            </a:r>
            <a:r>
              <a:rPr b="0" i="1" lang="it-IT" sz="2400" spc="-1" strike="noStrike">
                <a:solidFill>
                  <a:srgbClr val="0033cc"/>
                </a:solidFill>
                <a:latin typeface="Bookman Old Style"/>
              </a:rPr>
              <a:t>x</a:t>
            </a:r>
            <a:r>
              <a:rPr b="0" i="1" lang="it-IT" sz="2400" spc="-1" strike="noStrike" baseline="-25000">
                <a:solidFill>
                  <a:srgbClr val="0033cc"/>
                </a:solidFill>
                <a:latin typeface="Bookman Old Style"/>
              </a:rPr>
              <a:t>ij</a:t>
            </a:r>
            <a:r>
              <a:rPr b="0" lang="it-IT" sz="2400" spc="-1" strike="noStrike">
                <a:solidFill>
                  <a:srgbClr val="0033cc"/>
                </a:solidFill>
                <a:latin typeface="Bookman Old Style"/>
              </a:rPr>
              <a:t> &lt; </a:t>
            </a:r>
            <a:r>
              <a:rPr b="0" i="1" lang="it-IT" sz="2400" spc="-1" strike="noStrike">
                <a:solidFill>
                  <a:srgbClr val="0033cc"/>
                </a:solidFill>
                <a:latin typeface="Bookman Old Style"/>
              </a:rPr>
              <a:t>u</a:t>
            </a:r>
            <a:r>
              <a:rPr b="0" i="1" lang="it-IT" sz="2400" spc="-1" strike="noStrike" baseline="-25000">
                <a:solidFill>
                  <a:srgbClr val="0033cc"/>
                </a:solidFill>
                <a:latin typeface="Bookman Old Style"/>
              </a:rPr>
              <a:t>ij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e un arco “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revers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” se </a:t>
            </a:r>
            <a:r>
              <a:rPr b="0" i="1" lang="it-IT" sz="2400" spc="-1" strike="noStrike">
                <a:solidFill>
                  <a:srgbClr val="ff0000"/>
                </a:solidFill>
                <a:latin typeface="Bookman Old Style"/>
              </a:rPr>
              <a:t>x</a:t>
            </a:r>
            <a:r>
              <a:rPr b="0" i="1" lang="it-IT" sz="2400" spc="-1" strike="noStrike" baseline="-25000">
                <a:solidFill>
                  <a:srgbClr val="ff0000"/>
                </a:solidFill>
                <a:latin typeface="Bookman Old Style"/>
              </a:rPr>
              <a:t>ij</a:t>
            </a:r>
            <a:r>
              <a:rPr b="0" lang="it-IT" sz="2400" spc="-1" strike="noStrike">
                <a:solidFill>
                  <a:srgbClr val="ff0000"/>
                </a:solidFill>
                <a:latin typeface="Bookman Old Style"/>
              </a:rPr>
              <a:t> &gt; </a:t>
            </a:r>
            <a:r>
              <a:rPr b="0" i="1" lang="it-IT" sz="2400" spc="-1" strike="noStrike">
                <a:solidFill>
                  <a:srgbClr val="ff0000"/>
                </a:solidFill>
                <a:latin typeface="Bookman Old Style"/>
              </a:rPr>
              <a:t>l</a:t>
            </a:r>
            <a:r>
              <a:rPr b="0" i="1" lang="it-IT" sz="2400" spc="-1" strike="noStrike" baseline="-25000">
                <a:solidFill>
                  <a:srgbClr val="ff0000"/>
                </a:solidFill>
                <a:latin typeface="Bookman Old Style"/>
              </a:rPr>
              <a:t>ij</a:t>
            </a:r>
            <a:r>
              <a:rPr b="0" lang="it-IT" sz="2400" spc="-1" strike="noStrike" baseline="-25000">
                <a:solidFill>
                  <a:srgbClr val="00cc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 cerchiamo un cammino aumenta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8" name=""/>
          <p:cNvGrpSpPr/>
          <p:nvPr/>
        </p:nvGrpSpPr>
        <p:grpSpPr>
          <a:xfrm>
            <a:off x="1849320" y="3430440"/>
            <a:ext cx="4825080" cy="2446560"/>
            <a:chOff x="1849320" y="3430440"/>
            <a:chExt cx="4825080" cy="2446560"/>
          </a:xfrm>
        </p:grpSpPr>
        <p:sp>
          <p:nvSpPr>
            <p:cNvPr id="1319" name=""/>
            <p:cNvSpPr/>
            <p:nvPr/>
          </p:nvSpPr>
          <p:spPr>
            <a:xfrm rot="12825600">
              <a:off x="2182320" y="4903200"/>
              <a:ext cx="122580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 rot="19257600">
              <a:off x="2182680" y="4098600"/>
              <a:ext cx="122580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 flipV="1">
              <a:off x="3346560" y="4762080"/>
              <a:ext cx="72072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4202280" y="4741920"/>
              <a:ext cx="71892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3363840" y="3949560"/>
              <a:ext cx="719280" cy="6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 flipV="1">
              <a:off x="4202280" y="3982680"/>
              <a:ext cx="72072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2162160" y="4643280"/>
              <a:ext cx="216000" cy="216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194520" y="464328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3241800" y="3780000"/>
              <a:ext cx="215640" cy="215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897440" y="3780000"/>
              <a:ext cx="216000" cy="215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243240" y="5364000"/>
              <a:ext cx="216000" cy="21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898880" y="5364000"/>
              <a:ext cx="216000" cy="21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31" name=""/>
            <p:cNvCxnSpPr>
              <a:stCxn id="1327" idx="6"/>
              <a:endCxn id="1328" idx="2"/>
            </p:cNvCxnSpPr>
            <p:nvPr/>
          </p:nvCxnSpPr>
          <p:spPr>
            <a:xfrm>
              <a:off x="3457440" y="3887280"/>
              <a:ext cx="14403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2" name=""/>
            <p:cNvCxnSpPr>
              <a:stCxn id="1328" idx="6"/>
              <a:endCxn id="1326" idx="1"/>
            </p:cNvCxnSpPr>
            <p:nvPr/>
          </p:nvCxnSpPr>
          <p:spPr>
            <a:xfrm>
              <a:off x="5113080" y="3887640"/>
              <a:ext cx="1113120" cy="78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333" name=""/>
            <p:cNvCxnSpPr>
              <a:stCxn id="1329" idx="6"/>
              <a:endCxn id="1330" idx="2"/>
            </p:cNvCxnSpPr>
            <p:nvPr/>
          </p:nvCxnSpPr>
          <p:spPr>
            <a:xfrm>
              <a:off x="3458880" y="5471640"/>
              <a:ext cx="14403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4" name=""/>
            <p:cNvCxnSpPr>
              <a:stCxn id="1330" idx="6"/>
              <a:endCxn id="1326" idx="3"/>
            </p:cNvCxnSpPr>
            <p:nvPr/>
          </p:nvCxnSpPr>
          <p:spPr>
            <a:xfrm flipV="1">
              <a:off x="5114520" y="4827240"/>
              <a:ext cx="1112040" cy="645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5" name=""/>
            <p:cNvCxnSpPr>
              <a:stCxn id="1327" idx="4"/>
              <a:endCxn id="1329" idx="0"/>
            </p:cNvCxnSpPr>
            <p:nvPr/>
          </p:nvCxnSpPr>
          <p:spPr>
            <a:xfrm>
              <a:off x="3349800" y="3995280"/>
              <a:ext cx="2160" cy="1369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336" name=""/>
            <p:cNvCxnSpPr>
              <a:stCxn id="1330" idx="0"/>
              <a:endCxn id="1328" idx="4"/>
            </p:cNvCxnSpPr>
            <p:nvPr/>
          </p:nvCxnSpPr>
          <p:spPr>
            <a:xfrm flipH="1" flipV="1">
              <a:off x="5005080" y="3994920"/>
              <a:ext cx="2160" cy="1369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37" name=""/>
            <p:cNvSpPr/>
            <p:nvPr/>
          </p:nvSpPr>
          <p:spPr>
            <a:xfrm>
              <a:off x="1849320" y="4540320"/>
              <a:ext cx="27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Bookman Old Style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417360" y="457524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Bookman Old Style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3193920" y="343044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Bookman Old Style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874400" y="34369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Bookman Old Style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196440" y="5508720"/>
              <a:ext cx="29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Bookman Old Style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4880520" y="548964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Bookman Old Style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4032360" y="4572000"/>
              <a:ext cx="215640" cy="21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3993840" y="42512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Bookman Old Style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365200" y="4699080"/>
              <a:ext cx="73080" cy="71280"/>
            </a:xfrm>
            <a:prstGeom prst="triangle">
              <a:avLst>
                <a:gd name="adj" fmla="val 8260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3170160" y="3849840"/>
              <a:ext cx="73080" cy="71280"/>
            </a:xfrm>
            <a:prstGeom prst="triangle">
              <a:avLst>
                <a:gd name="adj" fmla="val 8260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243160" y="4856040"/>
              <a:ext cx="73080" cy="71640"/>
            </a:xfrm>
            <a:prstGeom prst="triangle">
              <a:avLst>
                <a:gd name="adj" fmla="val 8260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251160" y="5292720"/>
              <a:ext cx="73080" cy="71280"/>
            </a:xfrm>
            <a:prstGeom prst="triangle">
              <a:avLst>
                <a:gd name="adj" fmla="val 8260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4F9F-2DD4-4471-A42F-1D0E9963B5D8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Ottimalit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79246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d esempio un cammino aumentante è P: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{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 x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y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t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}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massimo flusso inviabile su tale cammino è il minimo valore tra </a:t>
            </a:r>
            <a:r>
              <a:rPr b="0" lang="it-IT" sz="2400" spc="-1" strike="noStrike">
                <a:solidFill>
                  <a:srgbClr val="0033cc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33cc"/>
                </a:solidFill>
                <a:latin typeface="Bookman Old Style"/>
              </a:rPr>
              <a:t>u</a:t>
            </a:r>
            <a:r>
              <a:rPr b="0" i="1" lang="it-IT" sz="2400" spc="-1" strike="noStrike" baseline="-25000">
                <a:solidFill>
                  <a:srgbClr val="0033cc"/>
                </a:solidFill>
                <a:latin typeface="Bookman Old Style"/>
              </a:rPr>
              <a:t>ij</a:t>
            </a:r>
            <a:r>
              <a:rPr b="0" lang="it-IT" sz="2400" spc="-1" strike="noStrike">
                <a:solidFill>
                  <a:srgbClr val="0033cc"/>
                </a:solidFill>
                <a:latin typeface="Bookman Old Style"/>
              </a:rPr>
              <a:t> - </a:t>
            </a:r>
            <a:r>
              <a:rPr b="0" i="1" lang="it-IT" sz="2400" spc="-1" strike="noStrike">
                <a:solidFill>
                  <a:srgbClr val="0033cc"/>
                </a:solidFill>
                <a:latin typeface="Bookman Old Style"/>
              </a:rPr>
              <a:t>x</a:t>
            </a:r>
            <a:r>
              <a:rPr b="0" i="1" lang="it-IT" sz="2400" spc="-1" strike="noStrike" baseline="-25000">
                <a:solidFill>
                  <a:srgbClr val="0033cc"/>
                </a:solidFill>
                <a:latin typeface="Bookman Old Style"/>
              </a:rPr>
              <a:t>ij</a:t>
            </a:r>
            <a:r>
              <a:rPr b="0" lang="it-IT" sz="2400" spc="-1" strike="noStrike">
                <a:solidFill>
                  <a:srgbClr val="0033cc"/>
                </a:solidFill>
                <a:latin typeface="Bookman Old Style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per ogni arco “</a:t>
            </a:r>
            <a:r>
              <a:rPr b="0" lang="it-IT" sz="2400" spc="-1" strike="noStrike">
                <a:solidFill>
                  <a:srgbClr val="0033cc"/>
                </a:solidFill>
                <a:latin typeface="Arial"/>
              </a:rPr>
              <a:t>forward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” e </a:t>
            </a:r>
            <a:r>
              <a:rPr b="0" lang="it-IT" sz="2400" spc="-1" strike="noStrike">
                <a:solidFill>
                  <a:srgbClr val="ff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ff0000"/>
                </a:solidFill>
                <a:latin typeface="Bookman Old Style"/>
              </a:rPr>
              <a:t>x</a:t>
            </a:r>
            <a:r>
              <a:rPr b="0" i="1" lang="it-IT" sz="2400" spc="-1" strike="noStrike" baseline="-25000">
                <a:solidFill>
                  <a:srgbClr val="ff0000"/>
                </a:solidFill>
                <a:latin typeface="Bookman Old Style"/>
              </a:rPr>
              <a:t>ij</a:t>
            </a:r>
            <a:r>
              <a:rPr b="0" lang="it-IT" sz="2400" spc="-1" strike="noStrike">
                <a:solidFill>
                  <a:srgbClr val="ff0000"/>
                </a:solidFill>
                <a:latin typeface="Bookman Old Style"/>
              </a:rPr>
              <a:t> - </a:t>
            </a:r>
            <a:r>
              <a:rPr b="0" i="1" lang="it-IT" sz="2400" spc="-1" strike="noStrike">
                <a:solidFill>
                  <a:srgbClr val="ff0000"/>
                </a:solidFill>
                <a:latin typeface="Bookman Old Style"/>
              </a:rPr>
              <a:t>l</a:t>
            </a:r>
            <a:r>
              <a:rPr b="0" i="1" lang="it-IT" sz="2400" spc="-1" strike="noStrike" baseline="-25000">
                <a:solidFill>
                  <a:srgbClr val="ff0000"/>
                </a:solidFill>
                <a:latin typeface="Bookman Old Style"/>
              </a:rPr>
              <a:t>ij</a:t>
            </a:r>
            <a:r>
              <a:rPr b="0" lang="it-IT" sz="2400" spc="-1" strike="noStrike">
                <a:solidFill>
                  <a:srgbClr val="ff0000"/>
                </a:solidFill>
                <a:latin typeface="Bookman Old Style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per ogni arco “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revers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” appartenenti al cammi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 questo caso: </a:t>
            </a:r>
            <a:r>
              <a:rPr b="0" lang="it-IT" sz="2400" spc="-1" strike="noStrike">
                <a:solidFill>
                  <a:srgbClr val="0033cc"/>
                </a:solidFill>
                <a:latin typeface="Bookman Old Style"/>
              </a:rPr>
              <a:t>min{2, 1, 4} =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 flipV="1">
            <a:off x="3490920" y="4908240"/>
            <a:ext cx="720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4346640" y="4888080"/>
            <a:ext cx="7189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3508200" y="4095720"/>
            <a:ext cx="7192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 flipV="1">
            <a:off x="4346640" y="4128840"/>
            <a:ext cx="720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2306520" y="478944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6338880" y="4789440"/>
            <a:ext cx="216000" cy="21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3386160" y="392580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5041800" y="392580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3387600" y="551016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5043600" y="5510160"/>
            <a:ext cx="21564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1" name=""/>
          <p:cNvCxnSpPr>
            <a:stCxn id="1355" idx="7"/>
            <a:endCxn id="1357" idx="2"/>
          </p:cNvCxnSpPr>
          <p:nvPr/>
        </p:nvCxnSpPr>
        <p:spPr>
          <a:xfrm flipV="1">
            <a:off x="2490480" y="4033080"/>
            <a:ext cx="896040" cy="788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2" name=""/>
          <p:cNvCxnSpPr>
            <a:stCxn id="1355" idx="5"/>
            <a:endCxn id="1359" idx="2"/>
          </p:cNvCxnSpPr>
          <p:nvPr/>
        </p:nvCxnSpPr>
        <p:spPr>
          <a:xfrm>
            <a:off x="2490480" y="4973760"/>
            <a:ext cx="897480" cy="64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3" name=""/>
          <p:cNvCxnSpPr>
            <a:stCxn id="1357" idx="6"/>
            <a:endCxn id="1358" idx="2"/>
          </p:cNvCxnSpPr>
          <p:nvPr/>
        </p:nvCxnSpPr>
        <p:spPr>
          <a:xfrm>
            <a:off x="3601800" y="4033440"/>
            <a:ext cx="144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4" name=""/>
          <p:cNvCxnSpPr>
            <a:stCxn id="1358" idx="6"/>
            <a:endCxn id="1356" idx="1"/>
          </p:cNvCxnSpPr>
          <p:nvPr/>
        </p:nvCxnSpPr>
        <p:spPr>
          <a:xfrm>
            <a:off x="5257440" y="4033440"/>
            <a:ext cx="1113120" cy="788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5" name=""/>
          <p:cNvCxnSpPr>
            <a:stCxn id="1359" idx="6"/>
            <a:endCxn id="1360" idx="2"/>
          </p:cNvCxnSpPr>
          <p:nvPr/>
        </p:nvCxnSpPr>
        <p:spPr>
          <a:xfrm>
            <a:off x="3603600" y="5617800"/>
            <a:ext cx="144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6" name=""/>
          <p:cNvCxnSpPr>
            <a:stCxn id="1360" idx="6"/>
            <a:endCxn id="1356" idx="3"/>
          </p:cNvCxnSpPr>
          <p:nvPr/>
        </p:nvCxnSpPr>
        <p:spPr>
          <a:xfrm flipV="1">
            <a:off x="5258880" y="4973400"/>
            <a:ext cx="1112040" cy="64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7" name=""/>
          <p:cNvCxnSpPr>
            <a:stCxn id="1357" idx="4"/>
            <a:endCxn id="1359" idx="0"/>
          </p:cNvCxnSpPr>
          <p:nvPr/>
        </p:nvCxnSpPr>
        <p:spPr>
          <a:xfrm>
            <a:off x="3494160" y="4141440"/>
            <a:ext cx="2160" cy="136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368" name=""/>
          <p:cNvCxnSpPr>
            <a:stCxn id="1360" idx="0"/>
            <a:endCxn id="1358" idx="4"/>
          </p:cNvCxnSpPr>
          <p:nvPr/>
        </p:nvCxnSpPr>
        <p:spPr>
          <a:xfrm flipH="1" flipV="1">
            <a:off x="5149080" y="4141080"/>
            <a:ext cx="2520" cy="136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69" name=""/>
          <p:cNvSpPr/>
          <p:nvPr/>
        </p:nvSpPr>
        <p:spPr>
          <a:xfrm>
            <a:off x="2424600" y="4062240"/>
            <a:ext cx="6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Bookman Old Style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en-US" sz="1800" spc="-1" strike="noStrike">
                <a:solidFill>
                  <a:srgbClr val="ff0000"/>
                </a:solidFill>
                <a:latin typeface="Bookman Old Style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1993680" y="468648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6562080" y="47214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3340800" y="5654520"/>
            <a:ext cx="2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5025240" y="56358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4034520" y="3708360"/>
            <a:ext cx="6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Bookman Old Style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en-US" sz="1800" spc="-1" strike="noStrike">
                <a:solidFill>
                  <a:srgbClr val="ff0000"/>
                </a:solidFill>
                <a:latin typeface="Bookman Old Style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2437560" y="5270400"/>
            <a:ext cx="6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Bookman Old Style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en-US" sz="1800" spc="-1" strike="noStrike">
                <a:solidFill>
                  <a:srgbClr val="ff0000"/>
                </a:solidFill>
                <a:latin typeface="Bookman Old Style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4037760" y="5576760"/>
            <a:ext cx="6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Bookman Old Style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en-US" sz="1800" spc="-1" strike="noStrike">
                <a:solidFill>
                  <a:srgbClr val="ff0000"/>
                </a:solidFill>
                <a:latin typeface="Bookman Old Style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5685480" y="5230800"/>
            <a:ext cx="6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Bookman Old Style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en-US" sz="1800" spc="-1" strike="noStrike">
                <a:solidFill>
                  <a:srgbClr val="ff0000"/>
                </a:solidFill>
                <a:latin typeface="Bookman Old Style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5682240" y="4106880"/>
            <a:ext cx="6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Bookman Old Style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en-US" sz="1800" spc="-1" strike="noStrike">
                <a:solidFill>
                  <a:srgbClr val="ff0000"/>
                </a:solidFill>
                <a:latin typeface="Bookman Old Style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5131440" y="4600440"/>
            <a:ext cx="6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Bookman Old Style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en-US" sz="1800" spc="-1" strike="noStrike">
                <a:solidFill>
                  <a:srgbClr val="ff0000"/>
                </a:solidFill>
                <a:latin typeface="Bookman Old Style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2872440" y="4573440"/>
            <a:ext cx="6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Bookman Old Style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en-US" sz="1800" spc="-1" strike="noStrike">
                <a:solidFill>
                  <a:srgbClr val="ff0000"/>
                </a:solidFill>
                <a:latin typeface="Bookman Old Style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4176720" y="4718160"/>
            <a:ext cx="216000" cy="21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4138200" y="43974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3415320" y="4224240"/>
            <a:ext cx="6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Bookman Old Style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en-US" sz="1800" spc="-1" strike="noStrike">
                <a:solidFill>
                  <a:srgbClr val="ff0000"/>
                </a:solidFill>
                <a:latin typeface="Bookman Old Style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3486600" y="5010120"/>
            <a:ext cx="6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Bookman Old Style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en-US" sz="1800" spc="-1" strike="noStrike">
                <a:solidFill>
                  <a:srgbClr val="ff0000"/>
                </a:solidFill>
                <a:latin typeface="Bookman Old Style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4456800" y="4224240"/>
            <a:ext cx="6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Bookman Old Style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en-US" sz="1800" spc="-1" strike="noStrike">
                <a:solidFill>
                  <a:srgbClr val="ff0000"/>
                </a:solidFill>
                <a:latin typeface="Bookman Old Style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4456800" y="5010120"/>
            <a:ext cx="6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Bookman Old Style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en-US" sz="1800" spc="-1" strike="noStrike">
                <a:solidFill>
                  <a:srgbClr val="ff0000"/>
                </a:solidFill>
                <a:latin typeface="Bookman Old Style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3338280" y="356076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5018760" y="35672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9505-45D7-46F0-BB82-812C86606B0F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semp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6360" y="456876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508720" y="4568760"/>
            <a:ext cx="215640" cy="21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56000" y="3705120"/>
            <a:ext cx="21564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11640" y="370512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7440" y="52894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13080" y="52894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36" idx="7"/>
            <a:endCxn id="138" idx="2"/>
          </p:cNvCxnSpPr>
          <p:nvPr/>
        </p:nvCxnSpPr>
        <p:spPr>
          <a:xfrm flipV="1">
            <a:off x="1660320" y="3812400"/>
            <a:ext cx="896040" cy="788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6" idx="5"/>
            <a:endCxn id="140" idx="2"/>
          </p:cNvCxnSpPr>
          <p:nvPr/>
        </p:nvCxnSpPr>
        <p:spPr>
          <a:xfrm>
            <a:off x="1660320" y="4753080"/>
            <a:ext cx="897480" cy="64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8" idx="6"/>
            <a:endCxn id="139" idx="2"/>
          </p:cNvCxnSpPr>
          <p:nvPr/>
        </p:nvCxnSpPr>
        <p:spPr>
          <a:xfrm>
            <a:off x="2771640" y="3812760"/>
            <a:ext cx="144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9" idx="6"/>
            <a:endCxn id="137" idx="1"/>
          </p:cNvCxnSpPr>
          <p:nvPr/>
        </p:nvCxnSpPr>
        <p:spPr>
          <a:xfrm>
            <a:off x="4427280" y="3812760"/>
            <a:ext cx="1113120" cy="788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0" idx="6"/>
            <a:endCxn id="141" idx="2"/>
          </p:cNvCxnSpPr>
          <p:nvPr/>
        </p:nvCxnSpPr>
        <p:spPr>
          <a:xfrm>
            <a:off x="2773080" y="5397120"/>
            <a:ext cx="144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41" idx="6"/>
            <a:endCxn id="137" idx="3"/>
          </p:cNvCxnSpPr>
          <p:nvPr/>
        </p:nvCxnSpPr>
        <p:spPr>
          <a:xfrm flipV="1">
            <a:off x="4428720" y="4752720"/>
            <a:ext cx="1112040" cy="64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38" idx="4"/>
            <a:endCxn id="140" idx="0"/>
          </p:cNvCxnSpPr>
          <p:nvPr/>
        </p:nvCxnSpPr>
        <p:spPr>
          <a:xfrm>
            <a:off x="2664000" y="3920760"/>
            <a:ext cx="2160" cy="136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1" idx="0"/>
            <a:endCxn id="139" idx="4"/>
          </p:cNvCxnSpPr>
          <p:nvPr/>
        </p:nvCxnSpPr>
        <p:spPr>
          <a:xfrm flipH="1" flipV="1">
            <a:off x="4319280" y="3920400"/>
            <a:ext cx="2160" cy="136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1732320" y="3932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01320" y="470700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706360" y="46404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346840" y="3429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62840" y="3424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635560" y="5432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312080" y="5438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16680" y="342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42120" y="51498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80600" y="54324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807440" y="5073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67920" y="38480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291560" y="4417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01080" y="432432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+</a:t>
            </a:r>
            <a:r>
              <a:rPr b="0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04960" y="1668600"/>
            <a:ext cx="765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iamo il grafo di figura, avente le capacità descritte sugli arch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E0ED-06FD-4A56-A8E7-AA2DE621C97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Ottimalit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507600" y="1460520"/>
            <a:ext cx="79246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 nuovo grafo residuale è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1" name=""/>
          <p:cNvGrpSpPr/>
          <p:nvPr/>
        </p:nvGrpSpPr>
        <p:grpSpPr>
          <a:xfrm>
            <a:off x="1417320" y="1990800"/>
            <a:ext cx="4825440" cy="2446200"/>
            <a:chOff x="1417320" y="1990800"/>
            <a:chExt cx="4825440" cy="2446200"/>
          </a:xfrm>
        </p:grpSpPr>
        <p:sp>
          <p:nvSpPr>
            <p:cNvPr id="1392" name=""/>
            <p:cNvSpPr/>
            <p:nvPr/>
          </p:nvSpPr>
          <p:spPr>
            <a:xfrm rot="19915800">
              <a:off x="4579920" y="3470040"/>
              <a:ext cx="129528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 rot="12825600">
              <a:off x="1751040" y="3463560"/>
              <a:ext cx="1225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 rot="19257600">
              <a:off x="1750680" y="2658600"/>
              <a:ext cx="1225440" cy="4320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 flipV="1">
              <a:off x="2914560" y="3322440"/>
              <a:ext cx="72072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770280" y="3301920"/>
              <a:ext cx="71928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2932200" y="2509920"/>
              <a:ext cx="71892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 flipV="1">
              <a:off x="3770280" y="2543040"/>
              <a:ext cx="720720" cy="6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1730520" y="3203640"/>
              <a:ext cx="215640" cy="216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5762520" y="3203640"/>
              <a:ext cx="21600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809800" y="2340000"/>
              <a:ext cx="216000" cy="21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465800" y="2340000"/>
              <a:ext cx="215640" cy="21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811600" y="39243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4467240" y="3924360"/>
              <a:ext cx="216000" cy="21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05" name=""/>
            <p:cNvCxnSpPr>
              <a:stCxn id="1401" idx="6"/>
              <a:endCxn id="1402" idx="2"/>
            </p:cNvCxnSpPr>
            <p:nvPr/>
          </p:nvCxnSpPr>
          <p:spPr>
            <a:xfrm>
              <a:off x="3025800" y="2447640"/>
              <a:ext cx="14403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6" name=""/>
            <p:cNvCxnSpPr>
              <a:stCxn id="1402" idx="6"/>
              <a:endCxn id="1400" idx="1"/>
            </p:cNvCxnSpPr>
            <p:nvPr/>
          </p:nvCxnSpPr>
          <p:spPr>
            <a:xfrm>
              <a:off x="4681080" y="2447640"/>
              <a:ext cx="1113120" cy="788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407" name=""/>
            <p:cNvCxnSpPr>
              <a:stCxn id="1403" idx="6"/>
              <a:endCxn id="1404" idx="2"/>
            </p:cNvCxnSpPr>
            <p:nvPr/>
          </p:nvCxnSpPr>
          <p:spPr>
            <a:xfrm>
              <a:off x="3027240" y="4032000"/>
              <a:ext cx="14403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408" name=""/>
            <p:cNvCxnSpPr>
              <a:stCxn id="1401" idx="4"/>
              <a:endCxn id="1403" idx="0"/>
            </p:cNvCxnSpPr>
            <p:nvPr/>
          </p:nvCxnSpPr>
          <p:spPr>
            <a:xfrm>
              <a:off x="2917800" y="2555640"/>
              <a:ext cx="2160" cy="1369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409" name=""/>
            <p:cNvCxnSpPr>
              <a:stCxn id="1404" idx="0"/>
              <a:endCxn id="1402" idx="4"/>
            </p:cNvCxnSpPr>
            <p:nvPr/>
          </p:nvCxnSpPr>
          <p:spPr>
            <a:xfrm flipH="1" flipV="1">
              <a:off x="4572720" y="2555280"/>
              <a:ext cx="2520" cy="1369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0" name=""/>
            <p:cNvSpPr/>
            <p:nvPr/>
          </p:nvSpPr>
          <p:spPr>
            <a:xfrm>
              <a:off x="1417320" y="3100320"/>
              <a:ext cx="27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Bookman Old Style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985720" y="313524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Bookman Old Style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761920" y="199080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Bookman Old Style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4442400" y="19969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Bookman Old Style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764440" y="4068720"/>
              <a:ext cx="29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Bookman Old Style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448880" y="404964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Bookman Old Style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600360" y="3132000"/>
              <a:ext cx="216000" cy="21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3561840" y="28116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Bookman Old Style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933560" y="3259080"/>
              <a:ext cx="73080" cy="71640"/>
            </a:xfrm>
            <a:prstGeom prst="triangle">
              <a:avLst>
                <a:gd name="adj" fmla="val 8260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2738520" y="2409840"/>
              <a:ext cx="73080" cy="71280"/>
            </a:xfrm>
            <a:prstGeom prst="triangle">
              <a:avLst>
                <a:gd name="adj" fmla="val 8260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811160" y="3416400"/>
              <a:ext cx="73080" cy="71280"/>
            </a:xfrm>
            <a:prstGeom prst="triangle">
              <a:avLst>
                <a:gd name="adj" fmla="val 8260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2819520" y="3852720"/>
              <a:ext cx="73080" cy="71640"/>
            </a:xfrm>
            <a:prstGeom prst="triangle">
              <a:avLst>
                <a:gd name="adj" fmla="val 8260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618080" y="3865680"/>
              <a:ext cx="73080" cy="71280"/>
            </a:xfrm>
            <a:prstGeom prst="triangle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749920" y="3429000"/>
              <a:ext cx="73080" cy="71280"/>
            </a:xfrm>
            <a:prstGeom prst="triangle">
              <a:avLst>
                <a:gd name="adj" fmla="val 8260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4" name=""/>
          <p:cNvSpPr/>
          <p:nvPr/>
        </p:nvSpPr>
        <p:spPr>
          <a:xfrm>
            <a:off x="611280" y="4581360"/>
            <a:ext cx="792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cammino aumentante è P: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{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y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}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empre di valore 1. Aggiorniamo il fluss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A97A-4228-4C91-872B-272976A8A751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Ottimalit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539640" y="357336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 nuovo grafo residuale è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7" name=""/>
          <p:cNvGrpSpPr/>
          <p:nvPr/>
        </p:nvGrpSpPr>
        <p:grpSpPr>
          <a:xfrm>
            <a:off x="409320" y="3792600"/>
            <a:ext cx="4825440" cy="2446200"/>
            <a:chOff x="409320" y="3792600"/>
            <a:chExt cx="4825440" cy="2446200"/>
          </a:xfrm>
        </p:grpSpPr>
        <p:sp>
          <p:nvSpPr>
            <p:cNvPr id="1428" name=""/>
            <p:cNvSpPr/>
            <p:nvPr/>
          </p:nvSpPr>
          <p:spPr>
            <a:xfrm rot="13332600">
              <a:off x="1811160" y="4480920"/>
              <a:ext cx="995400" cy="3272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 rot="19915800">
              <a:off x="3571560" y="5271480"/>
              <a:ext cx="1295280" cy="4320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 rot="12825600">
              <a:off x="743040" y="5265360"/>
              <a:ext cx="1225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 rot="19257600">
              <a:off x="743040" y="4460400"/>
              <a:ext cx="1225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V="1">
              <a:off x="1906560" y="5123880"/>
              <a:ext cx="72072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2762280" y="5103720"/>
              <a:ext cx="71928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V="1">
              <a:off x="2762280" y="4344480"/>
              <a:ext cx="72072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722520" y="5005440"/>
              <a:ext cx="215640" cy="215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4754520" y="5005440"/>
              <a:ext cx="216000" cy="2156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1801800" y="4141800"/>
              <a:ext cx="216000" cy="215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3457800" y="4141800"/>
              <a:ext cx="215640" cy="215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1803600" y="5726160"/>
              <a:ext cx="215640" cy="215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3459240" y="5726160"/>
              <a:ext cx="216000" cy="215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41" name=""/>
            <p:cNvCxnSpPr>
              <a:stCxn id="1437" idx="6"/>
              <a:endCxn id="1438" idx="2"/>
            </p:cNvCxnSpPr>
            <p:nvPr/>
          </p:nvCxnSpPr>
          <p:spPr>
            <a:xfrm>
              <a:off x="2017800" y="4249440"/>
              <a:ext cx="14403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2" name=""/>
            <p:cNvCxnSpPr>
              <a:stCxn id="1438" idx="6"/>
              <a:endCxn id="1436" idx="1"/>
            </p:cNvCxnSpPr>
            <p:nvPr/>
          </p:nvCxnSpPr>
          <p:spPr>
            <a:xfrm>
              <a:off x="3673440" y="4249440"/>
              <a:ext cx="1113840" cy="788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443" name=""/>
            <p:cNvCxnSpPr>
              <a:stCxn id="1439" idx="6"/>
              <a:endCxn id="1440" idx="2"/>
            </p:cNvCxnSpPr>
            <p:nvPr/>
          </p:nvCxnSpPr>
          <p:spPr>
            <a:xfrm>
              <a:off x="2019240" y="5833440"/>
              <a:ext cx="14403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444" name=""/>
            <p:cNvCxnSpPr>
              <a:stCxn id="1437" idx="4"/>
              <a:endCxn id="1439" idx="0"/>
            </p:cNvCxnSpPr>
            <p:nvPr/>
          </p:nvCxnSpPr>
          <p:spPr>
            <a:xfrm>
              <a:off x="1909800" y="4357440"/>
              <a:ext cx="2160" cy="1369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445" name=""/>
            <p:cNvCxnSpPr>
              <a:stCxn id="1440" idx="0"/>
              <a:endCxn id="1438" idx="4"/>
            </p:cNvCxnSpPr>
            <p:nvPr/>
          </p:nvCxnSpPr>
          <p:spPr>
            <a:xfrm flipH="1" flipV="1">
              <a:off x="3564720" y="4357080"/>
              <a:ext cx="2520" cy="1369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46" name=""/>
            <p:cNvSpPr/>
            <p:nvPr/>
          </p:nvSpPr>
          <p:spPr>
            <a:xfrm>
              <a:off x="409320" y="4902120"/>
              <a:ext cx="27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Bookman Old Style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4977720" y="4937040"/>
              <a:ext cx="2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Bookman Old Style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1753920" y="379260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Bookman Old Style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3434400" y="37987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Bookman Old Style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1756440" y="5870520"/>
              <a:ext cx="29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Bookman Old Style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3440880" y="585144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Bookman Old Style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592360" y="4933800"/>
              <a:ext cx="216000" cy="21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553840" y="4613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Bookman Old Style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925560" y="5060880"/>
              <a:ext cx="73080" cy="71280"/>
            </a:xfrm>
            <a:prstGeom prst="triangle">
              <a:avLst>
                <a:gd name="adj" fmla="val 8260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1730520" y="4211640"/>
              <a:ext cx="73080" cy="71280"/>
            </a:xfrm>
            <a:prstGeom prst="triangle">
              <a:avLst>
                <a:gd name="adj" fmla="val 8260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803520" y="5217840"/>
              <a:ext cx="72720" cy="71640"/>
            </a:xfrm>
            <a:prstGeom prst="triangle">
              <a:avLst>
                <a:gd name="adj" fmla="val 8260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1811520" y="5654520"/>
              <a:ext cx="73080" cy="71640"/>
            </a:xfrm>
            <a:prstGeom prst="triangle">
              <a:avLst>
                <a:gd name="adj" fmla="val 8260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3610080" y="5667120"/>
              <a:ext cx="73080" cy="71640"/>
            </a:xfrm>
            <a:prstGeom prst="triangle">
              <a:avLst>
                <a:gd name="adj" fmla="val 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4741920" y="5230800"/>
              <a:ext cx="73080" cy="71280"/>
            </a:xfrm>
            <a:prstGeom prst="triangle">
              <a:avLst>
                <a:gd name="adj" fmla="val 8260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979640" y="4243320"/>
              <a:ext cx="73080" cy="71280"/>
            </a:xfrm>
            <a:prstGeom prst="triangle">
              <a:avLst>
                <a:gd name="adj" fmla="val 8260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2521080" y="4933800"/>
              <a:ext cx="73080" cy="71640"/>
            </a:xfrm>
            <a:prstGeom prst="triangle">
              <a:avLst>
                <a:gd name="adj" fmla="val 8260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2" name=""/>
          <p:cNvSpPr/>
          <p:nvPr/>
        </p:nvSpPr>
        <p:spPr>
          <a:xfrm flipV="1">
            <a:off x="3130560" y="2615760"/>
            <a:ext cx="720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3986280" y="2595600"/>
            <a:ext cx="7189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3147840" y="1803240"/>
            <a:ext cx="71928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 flipV="1">
            <a:off x="3986280" y="1836360"/>
            <a:ext cx="720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1946160" y="249696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5978520" y="2496960"/>
            <a:ext cx="216000" cy="21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3025800" y="1633680"/>
            <a:ext cx="216000" cy="21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4681440" y="1633680"/>
            <a:ext cx="216000" cy="21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3027240" y="3218040"/>
            <a:ext cx="216000" cy="21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4683240" y="3218040"/>
            <a:ext cx="215640" cy="21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2" name=""/>
          <p:cNvCxnSpPr>
            <a:stCxn id="1466" idx="7"/>
            <a:endCxn id="1468" idx="2"/>
          </p:cNvCxnSpPr>
          <p:nvPr/>
        </p:nvCxnSpPr>
        <p:spPr>
          <a:xfrm flipV="1">
            <a:off x="2130120" y="1740960"/>
            <a:ext cx="896040" cy="788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3" name=""/>
          <p:cNvCxnSpPr>
            <a:stCxn id="1466" idx="5"/>
            <a:endCxn id="1470" idx="2"/>
          </p:cNvCxnSpPr>
          <p:nvPr/>
        </p:nvCxnSpPr>
        <p:spPr>
          <a:xfrm>
            <a:off x="2130120" y="2681280"/>
            <a:ext cx="897480" cy="64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4" name=""/>
          <p:cNvCxnSpPr>
            <a:stCxn id="1468" idx="6"/>
            <a:endCxn id="1469" idx="2"/>
          </p:cNvCxnSpPr>
          <p:nvPr/>
        </p:nvCxnSpPr>
        <p:spPr>
          <a:xfrm>
            <a:off x="3241440" y="1740960"/>
            <a:ext cx="144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5" name=""/>
          <p:cNvCxnSpPr>
            <a:stCxn id="1469" idx="6"/>
            <a:endCxn id="1467" idx="1"/>
          </p:cNvCxnSpPr>
          <p:nvPr/>
        </p:nvCxnSpPr>
        <p:spPr>
          <a:xfrm>
            <a:off x="4897080" y="1741320"/>
            <a:ext cx="1113120" cy="788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6" name=""/>
          <p:cNvCxnSpPr>
            <a:stCxn id="1470" idx="6"/>
            <a:endCxn id="1471" idx="2"/>
          </p:cNvCxnSpPr>
          <p:nvPr/>
        </p:nvCxnSpPr>
        <p:spPr>
          <a:xfrm>
            <a:off x="3243240" y="3325320"/>
            <a:ext cx="144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7" name=""/>
          <p:cNvCxnSpPr>
            <a:stCxn id="1471" idx="6"/>
            <a:endCxn id="1467" idx="3"/>
          </p:cNvCxnSpPr>
          <p:nvPr/>
        </p:nvCxnSpPr>
        <p:spPr>
          <a:xfrm flipV="1">
            <a:off x="4898520" y="2680920"/>
            <a:ext cx="1112040" cy="64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8" name=""/>
          <p:cNvCxnSpPr>
            <a:stCxn id="1468" idx="4"/>
            <a:endCxn id="1470" idx="0"/>
          </p:cNvCxnSpPr>
          <p:nvPr/>
        </p:nvCxnSpPr>
        <p:spPr>
          <a:xfrm>
            <a:off x="3133800" y="1849320"/>
            <a:ext cx="2160" cy="136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479" name=""/>
          <p:cNvCxnSpPr>
            <a:stCxn id="1471" idx="0"/>
            <a:endCxn id="1469" idx="4"/>
          </p:cNvCxnSpPr>
          <p:nvPr/>
        </p:nvCxnSpPr>
        <p:spPr>
          <a:xfrm flipH="1" flipV="1">
            <a:off x="4788720" y="1848960"/>
            <a:ext cx="2520" cy="136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0" name=""/>
          <p:cNvSpPr/>
          <p:nvPr/>
        </p:nvSpPr>
        <p:spPr>
          <a:xfrm>
            <a:off x="2064240" y="1770120"/>
            <a:ext cx="6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Bookman Old Style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en-US" sz="1800" spc="-1" strike="noStrike">
                <a:solidFill>
                  <a:srgbClr val="ff0000"/>
                </a:solidFill>
                <a:latin typeface="Bookman Old Style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1633320" y="239400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6201720" y="24289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2980440" y="3362400"/>
            <a:ext cx="2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4664880" y="33433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3674160" y="1415880"/>
            <a:ext cx="6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Bookman Old Style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en-US" sz="1800" spc="-1" strike="noStrike">
                <a:solidFill>
                  <a:srgbClr val="ff0000"/>
                </a:solidFill>
                <a:latin typeface="Bookman Old Style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2077200" y="2978280"/>
            <a:ext cx="6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Bookman Old Style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en-US" sz="1800" spc="-1" strike="noStrike">
                <a:solidFill>
                  <a:srgbClr val="ff0000"/>
                </a:solidFill>
                <a:latin typeface="Bookman Old Style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3677400" y="3284640"/>
            <a:ext cx="6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Bookman Old Style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en-US" sz="1800" spc="-1" strike="noStrike">
                <a:solidFill>
                  <a:srgbClr val="ff0000"/>
                </a:solidFill>
                <a:latin typeface="Bookman Old Style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5325120" y="2938320"/>
            <a:ext cx="6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Bookman Old Style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en-US" sz="1800" spc="-1" strike="noStrike">
                <a:solidFill>
                  <a:srgbClr val="ff0000"/>
                </a:solidFill>
                <a:latin typeface="Bookman Old Style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5321880" y="1814400"/>
            <a:ext cx="6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Bookman Old Style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en-US" sz="1800" spc="-1" strike="noStrike">
                <a:solidFill>
                  <a:srgbClr val="ff0000"/>
                </a:solidFill>
                <a:latin typeface="Bookman Old Style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4771080" y="2308320"/>
            <a:ext cx="6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Bookman Old Style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en-US" sz="1800" spc="-1" strike="noStrike">
                <a:solidFill>
                  <a:srgbClr val="ff0000"/>
                </a:solidFill>
                <a:latin typeface="Bookman Old Style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2512080" y="2281320"/>
            <a:ext cx="6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Bookman Old Style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en-US" sz="1800" spc="-1" strike="noStrike">
                <a:solidFill>
                  <a:srgbClr val="ff0000"/>
                </a:solidFill>
                <a:latin typeface="Bookman Old Style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3816360" y="24256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3777840" y="2104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3054960" y="1932120"/>
            <a:ext cx="6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Bookman Old Style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en-US" sz="1800" spc="-1" strike="noStrike">
                <a:solidFill>
                  <a:srgbClr val="ff0000"/>
                </a:solidFill>
                <a:latin typeface="Bookman Old Style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3126240" y="2717640"/>
            <a:ext cx="6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Bookman Old Style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en-US" sz="1800" spc="-1" strike="noStrike">
                <a:solidFill>
                  <a:srgbClr val="ff0000"/>
                </a:solidFill>
                <a:latin typeface="Bookman Old Style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4096440" y="1932120"/>
            <a:ext cx="6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Bookman Old Style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en-US" sz="1800" spc="-1" strike="noStrike">
                <a:solidFill>
                  <a:srgbClr val="ff0000"/>
                </a:solidFill>
                <a:latin typeface="Bookman Old Style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4096440" y="2717640"/>
            <a:ext cx="6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Bookman Old Style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en-US" sz="1800" spc="-1" strike="noStrike">
                <a:solidFill>
                  <a:srgbClr val="ff0000"/>
                </a:solidFill>
                <a:latin typeface="Bookman Old Style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2977920" y="12682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4658400" y="12747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5073480" y="4581360"/>
            <a:ext cx="353088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l grafo residuale non esiste un cammino aumentante, quindi il flusso trovato è ottim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1E4E-2900-43E2-8403-7DC0628DA654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n nuovo algoritm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iamo il seguente grafo e la seguente distribuzione di flusso: (in nero la capacità, in blu il flus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3" name=""/>
          <p:cNvGrpSpPr/>
          <p:nvPr/>
        </p:nvGrpSpPr>
        <p:grpSpPr>
          <a:xfrm>
            <a:off x="986760" y="2708280"/>
            <a:ext cx="3526920" cy="2811960"/>
            <a:chOff x="986760" y="2708280"/>
            <a:chExt cx="3526920" cy="2811960"/>
          </a:xfrm>
        </p:grpSpPr>
        <p:sp>
          <p:nvSpPr>
            <p:cNvPr id="1504" name=""/>
            <p:cNvSpPr/>
            <p:nvPr/>
          </p:nvSpPr>
          <p:spPr>
            <a:xfrm>
              <a:off x="2524320" y="2960640"/>
              <a:ext cx="32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2520360" y="4714920"/>
              <a:ext cx="32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1044720" y="3824280"/>
              <a:ext cx="287280" cy="28728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557800" y="3032280"/>
              <a:ext cx="287280" cy="28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4070520" y="3824280"/>
              <a:ext cx="287280" cy="287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2556000" y="4761000"/>
              <a:ext cx="287280" cy="28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10" name=""/>
            <p:cNvCxnSpPr>
              <a:stCxn id="1506" idx="7"/>
              <a:endCxn id="1504" idx="1"/>
            </p:cNvCxnSpPr>
            <p:nvPr/>
          </p:nvCxnSpPr>
          <p:spPr>
            <a:xfrm flipV="1">
              <a:off x="1288800" y="3158280"/>
              <a:ext cx="1227960" cy="708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1511" name=""/>
            <p:cNvSpPr/>
            <p:nvPr/>
          </p:nvSpPr>
          <p:spPr>
            <a:xfrm>
              <a:off x="986760" y="3753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4049280" y="3753000"/>
              <a:ext cx="26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1454040" y="3103560"/>
              <a:ext cx="54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3,</a:t>
              </a: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3539880" y="4363920"/>
              <a:ext cx="54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,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3035160" y="3787920"/>
              <a:ext cx="54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,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16" name=""/>
            <p:cNvCxnSpPr>
              <a:stCxn id="1504" idx="3"/>
              <a:endCxn id="1509" idx="6"/>
            </p:cNvCxnSpPr>
            <p:nvPr/>
          </p:nvCxnSpPr>
          <p:spPr>
            <a:xfrm flipH="1">
              <a:off x="2842920" y="3158640"/>
              <a:ext cx="15120" cy="1747080"/>
            </a:xfrm>
            <a:prstGeom prst="curvedConnector5">
              <a:avLst>
                <a:gd name="adj1" fmla="val -1587804"/>
                <a:gd name="adj2" fmla="val 50000"/>
                <a:gd name="adj3" fmla="val -1587804"/>
              </a:avLst>
            </a:prstGeom>
            <a:ln w="9360">
              <a:solidFill>
                <a:srgbClr val="000000"/>
              </a:solidFill>
              <a:miter/>
              <a:headEnd len="lg" type="triangle" w="lg"/>
            </a:ln>
          </p:spPr>
        </p:cxnSp>
        <p:cxnSp>
          <p:nvCxnSpPr>
            <p:cNvPr id="1517" name=""/>
            <p:cNvCxnSpPr>
              <a:stCxn id="1507" idx="2"/>
              <a:endCxn id="1509" idx="2"/>
            </p:cNvCxnSpPr>
            <p:nvPr/>
          </p:nvCxnSpPr>
          <p:spPr>
            <a:xfrm flipV="1" rot="10800000">
              <a:off x="2555280" y="3176280"/>
              <a:ext cx="2520" cy="1729440"/>
            </a:xfrm>
            <a:prstGeom prst="curvedConnector5">
              <a:avLst>
                <a:gd name="adj1" fmla="val 14500000"/>
                <a:gd name="adj2" fmla="val 49989"/>
                <a:gd name="adj3" fmla="val 14500000"/>
              </a:avLst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518" name=""/>
            <p:cNvCxnSpPr>
              <a:stCxn id="1505" idx="3"/>
              <a:endCxn id="1508" idx="2"/>
            </p:cNvCxnSpPr>
            <p:nvPr/>
          </p:nvCxnSpPr>
          <p:spPr>
            <a:xfrm flipV="1">
              <a:off x="2853000" y="3968280"/>
              <a:ext cx="1218240" cy="945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519" name=""/>
            <p:cNvCxnSpPr>
              <a:stCxn id="1506" idx="5"/>
              <a:endCxn id="1509" idx="3"/>
            </p:cNvCxnSpPr>
            <p:nvPr/>
          </p:nvCxnSpPr>
          <p:spPr>
            <a:xfrm flipH="1" rot="16200000">
              <a:off x="1475640" y="3881880"/>
              <a:ext cx="937440" cy="1310400"/>
            </a:xfrm>
            <a:prstGeom prst="curvedConnector5">
              <a:avLst>
                <a:gd name="adj1" fmla="val 128812"/>
                <a:gd name="adj2" fmla="val 49986"/>
                <a:gd name="adj3" fmla="val 128812"/>
              </a:avLst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520" name=""/>
            <p:cNvCxnSpPr>
              <a:stCxn id="1507" idx="0"/>
              <a:endCxn id="1508" idx="0"/>
            </p:cNvCxnSpPr>
            <p:nvPr/>
          </p:nvCxnSpPr>
          <p:spPr>
            <a:xfrm flipH="1" rot="16200000">
              <a:off x="3062520" y="2671560"/>
              <a:ext cx="792720" cy="1513440"/>
            </a:xfrm>
            <a:prstGeom prst="curvedConnector5">
              <a:avLst>
                <a:gd name="adj1" fmla="val -28850"/>
                <a:gd name="adj2" fmla="val 49988"/>
                <a:gd name="adj3" fmla="val -28850"/>
              </a:avLst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1521" name=""/>
            <p:cNvSpPr/>
            <p:nvPr/>
          </p:nvSpPr>
          <p:spPr>
            <a:xfrm>
              <a:off x="1854000" y="3968640"/>
              <a:ext cx="54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0</a:t>
              </a: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,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238040" y="5121360"/>
              <a:ext cx="54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4</a:t>
              </a: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,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3906360" y="2708280"/>
              <a:ext cx="60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2, </a:t>
              </a: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4388-FEC2-4F4B-8198-0A5A876280DD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n nuovo algoritm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609480" y="1557360"/>
            <a:ext cx="79250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 fluss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è ammissibile perché non sono soddisfatti i vincoli di bilanciamento ai nodi (flusso in entrata &gt; flusso in usci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) = 3 + 1 – 2 – 0 = 2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= 4 + 0 – 1 – 1 = 2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ttavia, sono soddisfatt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vincoli di capacità sugl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eccesso” di flusso nel nodo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6" name=""/>
          <p:cNvGrpSpPr/>
          <p:nvPr/>
        </p:nvGrpSpPr>
        <p:grpSpPr>
          <a:xfrm>
            <a:off x="770760" y="2708280"/>
            <a:ext cx="3526920" cy="2811960"/>
            <a:chOff x="770760" y="2708280"/>
            <a:chExt cx="3526920" cy="2811960"/>
          </a:xfrm>
        </p:grpSpPr>
        <p:sp>
          <p:nvSpPr>
            <p:cNvPr id="1527" name=""/>
            <p:cNvSpPr/>
            <p:nvPr/>
          </p:nvSpPr>
          <p:spPr>
            <a:xfrm>
              <a:off x="2308320" y="2960640"/>
              <a:ext cx="32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2304360" y="4714920"/>
              <a:ext cx="32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828720" y="3824280"/>
              <a:ext cx="287280" cy="28728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2341800" y="3032280"/>
              <a:ext cx="287280" cy="28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3854520" y="3824280"/>
              <a:ext cx="287280" cy="287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2340000" y="4761000"/>
              <a:ext cx="287280" cy="28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33" name=""/>
            <p:cNvCxnSpPr>
              <a:stCxn id="1529" idx="7"/>
              <a:endCxn id="1527" idx="1"/>
            </p:cNvCxnSpPr>
            <p:nvPr/>
          </p:nvCxnSpPr>
          <p:spPr>
            <a:xfrm flipV="1">
              <a:off x="1072800" y="3158280"/>
              <a:ext cx="1227960" cy="708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1534" name=""/>
            <p:cNvSpPr/>
            <p:nvPr/>
          </p:nvSpPr>
          <p:spPr>
            <a:xfrm>
              <a:off x="770760" y="3753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3833280" y="3753000"/>
              <a:ext cx="26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1238040" y="3103560"/>
              <a:ext cx="54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3,</a:t>
              </a: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3323880" y="4363920"/>
              <a:ext cx="54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,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2819160" y="3787920"/>
              <a:ext cx="54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,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39" name=""/>
            <p:cNvCxnSpPr>
              <a:stCxn id="1527" idx="3"/>
              <a:endCxn id="1532" idx="6"/>
            </p:cNvCxnSpPr>
            <p:nvPr/>
          </p:nvCxnSpPr>
          <p:spPr>
            <a:xfrm flipH="1">
              <a:off x="2626920" y="3158640"/>
              <a:ext cx="15120" cy="1747080"/>
            </a:xfrm>
            <a:prstGeom prst="curvedConnector5">
              <a:avLst>
                <a:gd name="adj1" fmla="val -1587804"/>
                <a:gd name="adj2" fmla="val 50000"/>
                <a:gd name="adj3" fmla="val -1587804"/>
              </a:avLst>
            </a:prstGeom>
            <a:ln w="9360">
              <a:solidFill>
                <a:srgbClr val="000000"/>
              </a:solidFill>
              <a:miter/>
              <a:headEnd len="lg" type="triangle" w="lg"/>
            </a:ln>
          </p:spPr>
        </p:cxnSp>
        <p:cxnSp>
          <p:nvCxnSpPr>
            <p:cNvPr id="1540" name=""/>
            <p:cNvCxnSpPr>
              <a:stCxn id="1530" idx="2"/>
              <a:endCxn id="1532" idx="2"/>
            </p:cNvCxnSpPr>
            <p:nvPr/>
          </p:nvCxnSpPr>
          <p:spPr>
            <a:xfrm flipV="1" rot="10800000">
              <a:off x="2339280" y="3176280"/>
              <a:ext cx="2520" cy="1729440"/>
            </a:xfrm>
            <a:prstGeom prst="curvedConnector5">
              <a:avLst>
                <a:gd name="adj1" fmla="val 14500000"/>
                <a:gd name="adj2" fmla="val 49989"/>
                <a:gd name="adj3" fmla="val 14500000"/>
              </a:avLst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541" name=""/>
            <p:cNvCxnSpPr>
              <a:stCxn id="1528" idx="3"/>
              <a:endCxn id="1531" idx="2"/>
            </p:cNvCxnSpPr>
            <p:nvPr/>
          </p:nvCxnSpPr>
          <p:spPr>
            <a:xfrm flipV="1">
              <a:off x="2637000" y="3968280"/>
              <a:ext cx="1218240" cy="945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542" name=""/>
            <p:cNvCxnSpPr>
              <a:stCxn id="1529" idx="5"/>
              <a:endCxn id="1532" idx="3"/>
            </p:cNvCxnSpPr>
            <p:nvPr/>
          </p:nvCxnSpPr>
          <p:spPr>
            <a:xfrm flipH="1" rot="16200000">
              <a:off x="1259640" y="3881880"/>
              <a:ext cx="937440" cy="1310400"/>
            </a:xfrm>
            <a:prstGeom prst="curvedConnector5">
              <a:avLst>
                <a:gd name="adj1" fmla="val 128812"/>
                <a:gd name="adj2" fmla="val 49986"/>
                <a:gd name="adj3" fmla="val 128812"/>
              </a:avLst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543" name=""/>
            <p:cNvCxnSpPr>
              <a:stCxn id="1530" idx="0"/>
              <a:endCxn id="1531" idx="0"/>
            </p:cNvCxnSpPr>
            <p:nvPr/>
          </p:nvCxnSpPr>
          <p:spPr>
            <a:xfrm flipH="1" rot="16200000">
              <a:off x="2846520" y="2671560"/>
              <a:ext cx="792720" cy="1513440"/>
            </a:xfrm>
            <a:prstGeom prst="curvedConnector5">
              <a:avLst>
                <a:gd name="adj1" fmla="val -28850"/>
                <a:gd name="adj2" fmla="val 49988"/>
                <a:gd name="adj3" fmla="val -28850"/>
              </a:avLst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1544" name=""/>
            <p:cNvSpPr/>
            <p:nvPr/>
          </p:nvSpPr>
          <p:spPr>
            <a:xfrm>
              <a:off x="1638000" y="3968640"/>
              <a:ext cx="54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0</a:t>
              </a: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,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1022040" y="5121360"/>
              <a:ext cx="54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4</a:t>
              </a: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,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3690360" y="2708280"/>
              <a:ext cx="60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2, </a:t>
              </a: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0BF7-4787-4E7F-A077-ED16F6798FC5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uasi-flus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vettore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800" spc="-1" strike="noStrike">
                <a:solidFill>
                  <a:srgbClr val="000000"/>
                </a:solidFill>
                <a:latin typeface="Monotype Corsiva"/>
              </a:rPr>
              <a:t>Z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r>
              <a:rPr b="0" lang="it-IT" sz="2400" spc="-1" strike="noStrike" baseline="30000">
                <a:solidFill>
                  <a:srgbClr val="000000"/>
                </a:solidFill>
                <a:latin typeface="Arial"/>
              </a:rPr>
              <a:t>|A|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ale ch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 e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≥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0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ogni nodo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n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\ {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0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≤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ij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≤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ij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per ogni arco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j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 </a:t>
            </a:r>
            <a:r>
              <a:rPr b="0" lang="it-IT" sz="2400" spc="-1" strike="noStrike" baseline="30000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 dice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quasi-fluss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d un quasi-flusso può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ssere associata una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ete residuale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con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e seguenti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aratteristich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9" name=""/>
          <p:cNvGrpSpPr/>
          <p:nvPr/>
        </p:nvGrpSpPr>
        <p:grpSpPr>
          <a:xfrm>
            <a:off x="915120" y="3427560"/>
            <a:ext cx="3526920" cy="2811960"/>
            <a:chOff x="915120" y="3427560"/>
            <a:chExt cx="3526920" cy="2811960"/>
          </a:xfrm>
        </p:grpSpPr>
        <p:sp>
          <p:nvSpPr>
            <p:cNvPr id="1550" name=""/>
            <p:cNvSpPr/>
            <p:nvPr/>
          </p:nvSpPr>
          <p:spPr>
            <a:xfrm>
              <a:off x="2452680" y="3679920"/>
              <a:ext cx="32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2448720" y="5434200"/>
              <a:ext cx="32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973080" y="4543560"/>
              <a:ext cx="287280" cy="28728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2486160" y="3751560"/>
              <a:ext cx="287280" cy="28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3998880" y="4543560"/>
              <a:ext cx="287280" cy="287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2484360" y="5480280"/>
              <a:ext cx="287280" cy="28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56" name=""/>
            <p:cNvCxnSpPr>
              <a:stCxn id="1552" idx="7"/>
              <a:endCxn id="1550" idx="1"/>
            </p:cNvCxnSpPr>
            <p:nvPr/>
          </p:nvCxnSpPr>
          <p:spPr>
            <a:xfrm flipV="1">
              <a:off x="1217160" y="3877560"/>
              <a:ext cx="1227960" cy="708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1557" name=""/>
            <p:cNvSpPr/>
            <p:nvPr/>
          </p:nvSpPr>
          <p:spPr>
            <a:xfrm>
              <a:off x="915120" y="44722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3977640" y="4472280"/>
              <a:ext cx="26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1382400" y="3822840"/>
              <a:ext cx="54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3,</a:t>
              </a: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3468240" y="5083200"/>
              <a:ext cx="54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,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2963520" y="4507200"/>
              <a:ext cx="54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,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62" name=""/>
            <p:cNvCxnSpPr>
              <a:stCxn id="1550" idx="3"/>
              <a:endCxn id="1555" idx="6"/>
            </p:cNvCxnSpPr>
            <p:nvPr/>
          </p:nvCxnSpPr>
          <p:spPr>
            <a:xfrm flipH="1">
              <a:off x="2771280" y="3877920"/>
              <a:ext cx="15120" cy="1747080"/>
            </a:xfrm>
            <a:prstGeom prst="curvedConnector5">
              <a:avLst>
                <a:gd name="adj1" fmla="val -1587804"/>
                <a:gd name="adj2" fmla="val 50000"/>
                <a:gd name="adj3" fmla="val -1587804"/>
              </a:avLst>
            </a:prstGeom>
            <a:ln w="9360">
              <a:solidFill>
                <a:srgbClr val="000000"/>
              </a:solidFill>
              <a:miter/>
              <a:headEnd len="lg" type="triangle" w="lg"/>
            </a:ln>
          </p:spPr>
        </p:cxnSp>
        <p:cxnSp>
          <p:nvCxnSpPr>
            <p:cNvPr id="1563" name=""/>
            <p:cNvCxnSpPr>
              <a:stCxn id="1553" idx="2"/>
              <a:endCxn id="1555" idx="2"/>
            </p:cNvCxnSpPr>
            <p:nvPr/>
          </p:nvCxnSpPr>
          <p:spPr>
            <a:xfrm flipV="1" rot="10800000">
              <a:off x="2483640" y="3895560"/>
              <a:ext cx="2520" cy="1729440"/>
            </a:xfrm>
            <a:prstGeom prst="curvedConnector5">
              <a:avLst>
                <a:gd name="adj1" fmla="val 14500000"/>
                <a:gd name="adj2" fmla="val 49989"/>
                <a:gd name="adj3" fmla="val 14500000"/>
              </a:avLst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564" name=""/>
            <p:cNvCxnSpPr>
              <a:stCxn id="1551" idx="3"/>
              <a:endCxn id="1554" idx="2"/>
            </p:cNvCxnSpPr>
            <p:nvPr/>
          </p:nvCxnSpPr>
          <p:spPr>
            <a:xfrm flipV="1">
              <a:off x="2781360" y="4687560"/>
              <a:ext cx="1218240" cy="945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565" name=""/>
            <p:cNvCxnSpPr>
              <a:stCxn id="1552" idx="5"/>
              <a:endCxn id="1555" idx="3"/>
            </p:cNvCxnSpPr>
            <p:nvPr/>
          </p:nvCxnSpPr>
          <p:spPr>
            <a:xfrm flipH="1" rot="16200000">
              <a:off x="1404000" y="4601160"/>
              <a:ext cx="937440" cy="1310400"/>
            </a:xfrm>
            <a:prstGeom prst="curvedConnector5">
              <a:avLst>
                <a:gd name="adj1" fmla="val 128812"/>
                <a:gd name="adj2" fmla="val 49986"/>
                <a:gd name="adj3" fmla="val 128812"/>
              </a:avLst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566" name=""/>
            <p:cNvCxnSpPr>
              <a:stCxn id="1553" idx="0"/>
              <a:endCxn id="1554" idx="0"/>
            </p:cNvCxnSpPr>
            <p:nvPr/>
          </p:nvCxnSpPr>
          <p:spPr>
            <a:xfrm flipH="1" rot="16200000">
              <a:off x="2990880" y="3390840"/>
              <a:ext cx="792720" cy="1513440"/>
            </a:xfrm>
            <a:prstGeom prst="curvedConnector5">
              <a:avLst>
                <a:gd name="adj1" fmla="val -28850"/>
                <a:gd name="adj2" fmla="val 49988"/>
                <a:gd name="adj3" fmla="val -28850"/>
              </a:avLst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1567" name=""/>
            <p:cNvSpPr/>
            <p:nvPr/>
          </p:nvSpPr>
          <p:spPr>
            <a:xfrm>
              <a:off x="1782360" y="4687920"/>
              <a:ext cx="54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0</a:t>
              </a: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,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1166400" y="5840640"/>
              <a:ext cx="54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4</a:t>
              </a: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,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3834720" y="3427560"/>
              <a:ext cx="60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2, </a:t>
              </a: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82E4-B313-448A-B44E-A3DB4F40762C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"/>
          <p:cNvSpPr/>
          <p:nvPr/>
        </p:nvSpPr>
        <p:spPr>
          <a:xfrm>
            <a:off x="4412520" y="274320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1. Esiste un arco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j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se e so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ji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&gt; 0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oppure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ij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&lt;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eliminiamo eventuali arch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arallel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4470480" y="2814480"/>
            <a:ext cx="287280" cy="28764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7496280" y="2814480"/>
            <a:ext cx="28728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7475040" y="2743200"/>
            <a:ext cx="26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Rete residua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>
            <a:off x="5950080" y="195120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5945760" y="370512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5983200" y="2022480"/>
            <a:ext cx="28728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5981760" y="3751200"/>
            <a:ext cx="28728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4958640" y="19162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6884280" y="29242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6469920" y="29242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3" name=""/>
          <p:cNvCxnSpPr>
            <a:stCxn id="1576" idx="3"/>
            <a:endCxn id="1579" idx="6"/>
          </p:cNvCxnSpPr>
          <p:nvPr/>
        </p:nvCxnSpPr>
        <p:spPr>
          <a:xfrm flipH="1">
            <a:off x="6268680" y="2149560"/>
            <a:ext cx="15120" cy="1746720"/>
          </a:xfrm>
          <a:prstGeom prst="curvedConnector5">
            <a:avLst>
              <a:gd name="adj1" fmla="val -1587804"/>
              <a:gd name="adj2" fmla="val 49989"/>
              <a:gd name="adj3" fmla="val -1587804"/>
            </a:avLst>
          </a:prstGeom>
          <a:ln w="9360">
            <a:solidFill>
              <a:srgbClr val="000000"/>
            </a:solidFill>
            <a:miter/>
            <a:headEnd len="lg" type="triangle" w="lg"/>
          </a:ln>
        </p:spPr>
      </p:cxnSp>
      <p:cxnSp>
        <p:nvCxnSpPr>
          <p:cNvPr id="1584" name=""/>
          <p:cNvCxnSpPr>
            <a:stCxn id="1578" idx="3"/>
            <a:endCxn id="1579" idx="1"/>
          </p:cNvCxnSpPr>
          <p:nvPr/>
        </p:nvCxnSpPr>
        <p:spPr>
          <a:xfrm rot="5400000">
            <a:off x="5261040" y="3029760"/>
            <a:ext cx="1527840" cy="2160"/>
          </a:xfrm>
          <a:prstGeom prst="curvedConnector5">
            <a:avLst>
              <a:gd name="adj1" fmla="val 49988"/>
              <a:gd name="adj2" fmla="val 40000"/>
              <a:gd name="adj3" fmla="val 49988"/>
            </a:avLst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85" name=""/>
          <p:cNvCxnSpPr>
            <a:stCxn id="1577" idx="3"/>
            <a:endCxn id="1573" idx="2"/>
          </p:cNvCxnSpPr>
          <p:nvPr/>
        </p:nvCxnSpPr>
        <p:spPr>
          <a:xfrm flipV="1">
            <a:off x="6278040" y="2958840"/>
            <a:ext cx="1218600" cy="945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586" name=""/>
          <p:cNvSpPr/>
          <p:nvPr/>
        </p:nvSpPr>
        <p:spPr>
          <a:xfrm>
            <a:off x="5750640" y="29242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>
            <a:off x="4103640" y="4911840"/>
            <a:ext cx="4572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2. L’etichetta dell’arco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j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è pari a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’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ij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=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ij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–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ij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+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ji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7274160" y="3933720"/>
            <a:ext cx="80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9" name=""/>
          <p:cNvCxnSpPr>
            <a:stCxn id="1578" idx="0"/>
            <a:endCxn id="1573" idx="0"/>
          </p:cNvCxnSpPr>
          <p:nvPr/>
        </p:nvCxnSpPr>
        <p:spPr>
          <a:xfrm flipH="1" rot="16200000">
            <a:off x="6488280" y="1661760"/>
            <a:ext cx="792720" cy="1513440"/>
          </a:xfrm>
          <a:prstGeom prst="curvedConnector5">
            <a:avLst>
              <a:gd name="adj1" fmla="val -28850"/>
              <a:gd name="adj2" fmla="val 49988"/>
              <a:gd name="adj3" fmla="val -28850"/>
            </a:avLst>
          </a:prstGeom>
          <a:ln w="9360">
            <a:solidFill>
              <a:srgbClr val="000000"/>
            </a:solidFill>
            <a:miter/>
            <a:headEnd len="lg" type="triangle" w="lg"/>
          </a:ln>
        </p:spPr>
      </p:cxnSp>
      <p:cxnSp>
        <p:nvCxnSpPr>
          <p:cNvPr id="1590" name=""/>
          <p:cNvCxnSpPr>
            <a:stCxn id="1572" idx="4"/>
            <a:endCxn id="1579" idx="3"/>
          </p:cNvCxnSpPr>
          <p:nvPr/>
        </p:nvCxnSpPr>
        <p:spPr>
          <a:xfrm flipH="1" rot="16200000">
            <a:off x="4872960" y="2843640"/>
            <a:ext cx="894240" cy="1410480"/>
          </a:xfrm>
          <a:prstGeom prst="curvedConnector5">
            <a:avLst>
              <a:gd name="adj1" fmla="val 130165"/>
              <a:gd name="adj2" fmla="val 49987"/>
              <a:gd name="adj3" fmla="val 130165"/>
            </a:avLst>
          </a:prstGeom>
          <a:ln w="9360">
            <a:solidFill>
              <a:srgbClr val="000000"/>
            </a:solidFill>
            <a:miter/>
            <a:headEnd len="lg" type="triangle" w="lg"/>
          </a:ln>
        </p:spPr>
      </p:cxnSp>
      <p:sp>
        <p:nvSpPr>
          <p:cNvPr id="1591" name=""/>
          <p:cNvSpPr/>
          <p:nvPr/>
        </p:nvSpPr>
        <p:spPr>
          <a:xfrm>
            <a:off x="7333560" y="17002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>
            <a:off x="4939560" y="41846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3" name=""/>
          <p:cNvCxnSpPr>
            <a:stCxn id="1572" idx="0"/>
            <a:endCxn id="1578" idx="2"/>
          </p:cNvCxnSpPr>
          <p:nvPr/>
        </p:nvCxnSpPr>
        <p:spPr>
          <a:xfrm flipH="1" flipV="1" rot="5400000">
            <a:off x="4974840" y="1805760"/>
            <a:ext cx="648360" cy="1369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94" name=""/>
          <p:cNvCxnSpPr>
            <a:stCxn id="1572" idx="6"/>
            <a:endCxn id="1578" idx="3"/>
          </p:cNvCxnSpPr>
          <p:nvPr/>
        </p:nvCxnSpPr>
        <p:spPr>
          <a:xfrm flipV="1">
            <a:off x="4757400" y="2266200"/>
            <a:ext cx="1269000" cy="69300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</p:cxnSp>
      <p:sp>
        <p:nvSpPr>
          <p:cNvPr id="1595" name=""/>
          <p:cNvSpPr/>
          <p:nvPr/>
        </p:nvSpPr>
        <p:spPr>
          <a:xfrm>
            <a:off x="5174640" y="28162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6" name=""/>
          <p:cNvCxnSpPr>
            <a:stCxn id="1579" idx="6"/>
            <a:endCxn id="1574" idx="2"/>
          </p:cNvCxnSpPr>
          <p:nvPr/>
        </p:nvCxnSpPr>
        <p:spPr>
          <a:xfrm flipV="1">
            <a:off x="6268680" y="3139200"/>
            <a:ext cx="1338840" cy="75636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</p:cxnSp>
      <p:sp>
        <p:nvSpPr>
          <p:cNvPr id="1597" name=""/>
          <p:cNvSpPr/>
          <p:nvPr/>
        </p:nvSpPr>
        <p:spPr>
          <a:xfrm>
            <a:off x="7171560" y="35002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8" name=""/>
          <p:cNvGrpSpPr/>
          <p:nvPr/>
        </p:nvGrpSpPr>
        <p:grpSpPr>
          <a:xfrm>
            <a:off x="483480" y="3357720"/>
            <a:ext cx="3526920" cy="2811960"/>
            <a:chOff x="483480" y="3357720"/>
            <a:chExt cx="3526920" cy="2811960"/>
          </a:xfrm>
        </p:grpSpPr>
        <p:sp>
          <p:nvSpPr>
            <p:cNvPr id="1599" name=""/>
            <p:cNvSpPr/>
            <p:nvPr/>
          </p:nvSpPr>
          <p:spPr>
            <a:xfrm>
              <a:off x="2021040" y="3610080"/>
              <a:ext cx="32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2017080" y="5364360"/>
              <a:ext cx="32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541440" y="4473720"/>
              <a:ext cx="287280" cy="28728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2054520" y="3681720"/>
              <a:ext cx="287280" cy="28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3567240" y="4473720"/>
              <a:ext cx="287280" cy="287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2052720" y="5410440"/>
              <a:ext cx="287280" cy="28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05" name=""/>
            <p:cNvCxnSpPr>
              <a:stCxn id="1601" idx="7"/>
              <a:endCxn id="1599" idx="1"/>
            </p:cNvCxnSpPr>
            <p:nvPr/>
          </p:nvCxnSpPr>
          <p:spPr>
            <a:xfrm flipV="1">
              <a:off x="785520" y="3807720"/>
              <a:ext cx="1227960" cy="708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1606" name=""/>
            <p:cNvSpPr/>
            <p:nvPr/>
          </p:nvSpPr>
          <p:spPr>
            <a:xfrm>
              <a:off x="483480" y="44024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3546000" y="4402440"/>
              <a:ext cx="26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950760" y="3753000"/>
              <a:ext cx="54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3,</a:t>
              </a: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3036600" y="5013360"/>
              <a:ext cx="54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,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2531880" y="4437360"/>
              <a:ext cx="54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,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11" name=""/>
            <p:cNvCxnSpPr>
              <a:stCxn id="1599" idx="3"/>
              <a:endCxn id="1604" idx="6"/>
            </p:cNvCxnSpPr>
            <p:nvPr/>
          </p:nvCxnSpPr>
          <p:spPr>
            <a:xfrm flipH="1">
              <a:off x="2339640" y="3808080"/>
              <a:ext cx="15120" cy="1747080"/>
            </a:xfrm>
            <a:prstGeom prst="curvedConnector5">
              <a:avLst>
                <a:gd name="adj1" fmla="val -1587804"/>
                <a:gd name="adj2" fmla="val 50000"/>
                <a:gd name="adj3" fmla="val -1587804"/>
              </a:avLst>
            </a:prstGeom>
            <a:ln w="9360">
              <a:solidFill>
                <a:srgbClr val="000000"/>
              </a:solidFill>
              <a:miter/>
              <a:headEnd len="lg" type="triangle" w="lg"/>
            </a:ln>
          </p:spPr>
        </p:cxnSp>
        <p:cxnSp>
          <p:nvCxnSpPr>
            <p:cNvPr id="1612" name=""/>
            <p:cNvCxnSpPr>
              <a:stCxn id="1602" idx="2"/>
              <a:endCxn id="1604" idx="2"/>
            </p:cNvCxnSpPr>
            <p:nvPr/>
          </p:nvCxnSpPr>
          <p:spPr>
            <a:xfrm flipV="1" rot="10800000">
              <a:off x="2052000" y="3825720"/>
              <a:ext cx="2520" cy="1729440"/>
            </a:xfrm>
            <a:prstGeom prst="curvedConnector5">
              <a:avLst>
                <a:gd name="adj1" fmla="val 14500000"/>
                <a:gd name="adj2" fmla="val 49989"/>
                <a:gd name="adj3" fmla="val 14500000"/>
              </a:avLst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613" name=""/>
            <p:cNvCxnSpPr>
              <a:stCxn id="1600" idx="3"/>
              <a:endCxn id="1603" idx="2"/>
            </p:cNvCxnSpPr>
            <p:nvPr/>
          </p:nvCxnSpPr>
          <p:spPr>
            <a:xfrm flipV="1">
              <a:off x="2349720" y="4617720"/>
              <a:ext cx="1218240" cy="945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614" name=""/>
            <p:cNvCxnSpPr>
              <a:stCxn id="1601" idx="5"/>
              <a:endCxn id="1604" idx="3"/>
            </p:cNvCxnSpPr>
            <p:nvPr/>
          </p:nvCxnSpPr>
          <p:spPr>
            <a:xfrm flipH="1" rot="16200000">
              <a:off x="972360" y="4531320"/>
              <a:ext cx="937440" cy="1310400"/>
            </a:xfrm>
            <a:prstGeom prst="curvedConnector5">
              <a:avLst>
                <a:gd name="adj1" fmla="val 128812"/>
                <a:gd name="adj2" fmla="val 49986"/>
                <a:gd name="adj3" fmla="val 128812"/>
              </a:avLst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615" name=""/>
            <p:cNvCxnSpPr>
              <a:stCxn id="1602" idx="0"/>
              <a:endCxn id="1603" idx="0"/>
            </p:cNvCxnSpPr>
            <p:nvPr/>
          </p:nvCxnSpPr>
          <p:spPr>
            <a:xfrm flipH="1" rot="16200000">
              <a:off x="2559240" y="3321000"/>
              <a:ext cx="792720" cy="1513440"/>
            </a:xfrm>
            <a:prstGeom prst="curvedConnector5">
              <a:avLst>
                <a:gd name="adj1" fmla="val -28850"/>
                <a:gd name="adj2" fmla="val 49988"/>
                <a:gd name="adj3" fmla="val -28850"/>
              </a:avLst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1616" name=""/>
            <p:cNvSpPr/>
            <p:nvPr/>
          </p:nvSpPr>
          <p:spPr>
            <a:xfrm>
              <a:off x="1350720" y="4618080"/>
              <a:ext cx="54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0</a:t>
              </a: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,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34760" y="5770800"/>
              <a:ext cx="54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4</a:t>
              </a: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,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3403080" y="3357720"/>
              <a:ext cx="60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2, </a:t>
              </a: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4D94-9497-4514-9F00-8CE94D82D753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L’operazione “push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marL="11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rete residuale ci dice che possiamo “spingere” 2 unità di flusso da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verso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ottenen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>
            <a:off x="3708360" y="4221000"/>
            <a:ext cx="5329440" cy="18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sa succede all’eccesso di flu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e in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ima: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e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 = 2;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e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opo: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e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 = 0;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e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2" name=""/>
          <p:cNvGrpSpPr/>
          <p:nvPr/>
        </p:nvGrpSpPr>
        <p:grpSpPr>
          <a:xfrm>
            <a:off x="442080" y="2637000"/>
            <a:ext cx="3526920" cy="2811960"/>
            <a:chOff x="442080" y="2637000"/>
            <a:chExt cx="3526920" cy="2811960"/>
          </a:xfrm>
        </p:grpSpPr>
        <p:sp>
          <p:nvSpPr>
            <p:cNvPr id="1623" name=""/>
            <p:cNvSpPr/>
            <p:nvPr/>
          </p:nvSpPr>
          <p:spPr>
            <a:xfrm>
              <a:off x="1979640" y="2889360"/>
              <a:ext cx="32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1975680" y="4643640"/>
              <a:ext cx="32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500040" y="3753000"/>
              <a:ext cx="287280" cy="28728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2013120" y="2961000"/>
              <a:ext cx="287280" cy="28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3525840" y="3753000"/>
              <a:ext cx="287280" cy="287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2011320" y="4689720"/>
              <a:ext cx="287280" cy="28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29" name=""/>
            <p:cNvCxnSpPr>
              <a:stCxn id="1625" idx="7"/>
              <a:endCxn id="1623" idx="1"/>
            </p:cNvCxnSpPr>
            <p:nvPr/>
          </p:nvCxnSpPr>
          <p:spPr>
            <a:xfrm flipV="1">
              <a:off x="744120" y="3087000"/>
              <a:ext cx="1227960" cy="708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1630" name=""/>
            <p:cNvSpPr/>
            <p:nvPr/>
          </p:nvSpPr>
          <p:spPr>
            <a:xfrm>
              <a:off x="442080" y="368172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504600" y="3681720"/>
              <a:ext cx="26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909360" y="3032280"/>
              <a:ext cx="54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3,</a:t>
              </a: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2995200" y="4292640"/>
              <a:ext cx="54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,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2490480" y="3716640"/>
              <a:ext cx="54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0</a:t>
              </a: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,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35" name=""/>
            <p:cNvCxnSpPr>
              <a:stCxn id="1623" idx="3"/>
              <a:endCxn id="1628" idx="6"/>
            </p:cNvCxnSpPr>
            <p:nvPr/>
          </p:nvCxnSpPr>
          <p:spPr>
            <a:xfrm flipH="1">
              <a:off x="2298240" y="3087360"/>
              <a:ext cx="15120" cy="1747080"/>
            </a:xfrm>
            <a:prstGeom prst="curvedConnector5">
              <a:avLst>
                <a:gd name="adj1" fmla="val -1587804"/>
                <a:gd name="adj2" fmla="val 50000"/>
                <a:gd name="adj3" fmla="val -1587804"/>
              </a:avLst>
            </a:prstGeom>
            <a:ln w="9360">
              <a:solidFill>
                <a:srgbClr val="000000"/>
              </a:solidFill>
              <a:miter/>
              <a:headEnd len="lg" type="triangle" w="lg"/>
            </a:ln>
          </p:spPr>
        </p:cxnSp>
        <p:cxnSp>
          <p:nvCxnSpPr>
            <p:cNvPr id="1636" name=""/>
            <p:cNvCxnSpPr>
              <a:stCxn id="1626" idx="2"/>
              <a:endCxn id="1628" idx="2"/>
            </p:cNvCxnSpPr>
            <p:nvPr/>
          </p:nvCxnSpPr>
          <p:spPr>
            <a:xfrm flipV="1" rot="10800000">
              <a:off x="2010600" y="3105000"/>
              <a:ext cx="2520" cy="1729440"/>
            </a:xfrm>
            <a:prstGeom prst="curvedConnector5">
              <a:avLst>
                <a:gd name="adj1" fmla="val 14500000"/>
                <a:gd name="adj2" fmla="val 49989"/>
                <a:gd name="adj3" fmla="val 14500000"/>
              </a:avLst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637" name=""/>
            <p:cNvCxnSpPr>
              <a:stCxn id="1624" idx="3"/>
              <a:endCxn id="1627" idx="2"/>
            </p:cNvCxnSpPr>
            <p:nvPr/>
          </p:nvCxnSpPr>
          <p:spPr>
            <a:xfrm flipV="1">
              <a:off x="2308320" y="3897000"/>
              <a:ext cx="1218240" cy="945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638" name=""/>
            <p:cNvCxnSpPr>
              <a:stCxn id="1625" idx="5"/>
              <a:endCxn id="1628" idx="3"/>
            </p:cNvCxnSpPr>
            <p:nvPr/>
          </p:nvCxnSpPr>
          <p:spPr>
            <a:xfrm flipH="1" rot="16200000">
              <a:off x="930960" y="3810600"/>
              <a:ext cx="937440" cy="1310400"/>
            </a:xfrm>
            <a:prstGeom prst="curvedConnector5">
              <a:avLst>
                <a:gd name="adj1" fmla="val 128812"/>
                <a:gd name="adj2" fmla="val 49986"/>
                <a:gd name="adj3" fmla="val 128812"/>
              </a:avLst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639" name=""/>
            <p:cNvCxnSpPr>
              <a:stCxn id="1626" idx="0"/>
              <a:endCxn id="1627" idx="0"/>
            </p:cNvCxnSpPr>
            <p:nvPr/>
          </p:nvCxnSpPr>
          <p:spPr>
            <a:xfrm flipH="1" rot="16200000">
              <a:off x="2517840" y="2600280"/>
              <a:ext cx="792720" cy="1513440"/>
            </a:xfrm>
            <a:prstGeom prst="curvedConnector5">
              <a:avLst>
                <a:gd name="adj1" fmla="val -28850"/>
                <a:gd name="adj2" fmla="val 49988"/>
                <a:gd name="adj3" fmla="val -28850"/>
              </a:avLst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1640" name=""/>
            <p:cNvSpPr/>
            <p:nvPr/>
          </p:nvSpPr>
          <p:spPr>
            <a:xfrm>
              <a:off x="1309320" y="3897360"/>
              <a:ext cx="54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,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693360" y="5050080"/>
              <a:ext cx="54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4</a:t>
              </a: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,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3361680" y="2637000"/>
              <a:ext cx="60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2, </a:t>
              </a: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90AC-AAE4-4256-8221-D2E7D95BE930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L’operazione “push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’operazione push ha modificato l’eccesso di flusso nei nodi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ma non ha causato violazione dei vincoli di capacità sugli arch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 particolare, siamo passati da un quasi-flusso ammissibile ad un nuovo quasi-flusso ammissibile (ovvero tale che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e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≥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0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ogni nodo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n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\ {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}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oltre, l’eccesso di flusso su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è stato azzera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0554-ED09-4E3D-818C-9E33893B0ADD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Osservazion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609480" y="148392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 tutti i nodi di un quasi-flusso (tranne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) hanno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e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 = 0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allora il quasi-flusso è un flusso ammissibi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ato un flusso ammissibile su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G,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ha un eccesso di flusso negativo e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ha un eccesso di flusso posi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garantire l’ammissibilità del quasi-flusso, si deve  effettuare un’operazione push su un arco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j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pingendo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n valore di flusso pari a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min {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’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ij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e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decrementare l’eccesso di flusso si cerca di spingere flusso verso il pozzo finché è possibile. Altrimenti si invia flusso verso la sorgen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8D56-7491-46BE-AF91-F5EB9848E2C6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L’operazione “push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609480" y="1413000"/>
            <a:ext cx="79250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 questo caso scegliamo l’arco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b, t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 (1=min {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e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),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u’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bt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}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5407920" y="2527200"/>
            <a:ext cx="1099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e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)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6135840" y="5264280"/>
            <a:ext cx="1103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e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) 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4555440" y="375120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4613400" y="3822840"/>
            <a:ext cx="287280" cy="2872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7639200" y="3822840"/>
            <a:ext cx="28728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7617600" y="3751200"/>
            <a:ext cx="26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6092640" y="295920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>
            <a:off x="6088680" y="471312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>
            <a:off x="6126120" y="3030480"/>
            <a:ext cx="28728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6124680" y="4759200"/>
            <a:ext cx="287280" cy="28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5101560" y="29242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7027200" y="39322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6612840" y="39322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2" name=""/>
          <p:cNvCxnSpPr>
            <a:stCxn id="1655" idx="3"/>
            <a:endCxn id="1658" idx="6"/>
          </p:cNvCxnSpPr>
          <p:nvPr/>
        </p:nvCxnSpPr>
        <p:spPr>
          <a:xfrm flipH="1">
            <a:off x="6411600" y="3157200"/>
            <a:ext cx="15120" cy="1747080"/>
          </a:xfrm>
          <a:prstGeom prst="curvedConnector5">
            <a:avLst>
              <a:gd name="adj1" fmla="val -1587804"/>
              <a:gd name="adj2" fmla="val 50000"/>
              <a:gd name="adj3" fmla="val -1587804"/>
            </a:avLst>
          </a:prstGeom>
          <a:ln w="9360">
            <a:solidFill>
              <a:srgbClr val="000000"/>
            </a:solidFill>
            <a:miter/>
            <a:headEnd len="lg" type="triangle" w="lg"/>
          </a:ln>
        </p:spPr>
      </p:cxnSp>
      <p:cxnSp>
        <p:nvCxnSpPr>
          <p:cNvPr id="1663" name=""/>
          <p:cNvCxnSpPr>
            <a:stCxn id="1656" idx="3"/>
            <a:endCxn id="1653" idx="2"/>
          </p:cNvCxnSpPr>
          <p:nvPr/>
        </p:nvCxnSpPr>
        <p:spPr>
          <a:xfrm flipV="1">
            <a:off x="6420960" y="3966840"/>
            <a:ext cx="1218600" cy="945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664" name=""/>
          <p:cNvSpPr/>
          <p:nvPr/>
        </p:nvSpPr>
        <p:spPr>
          <a:xfrm>
            <a:off x="7417080" y="4941720"/>
            <a:ext cx="80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5" name=""/>
          <p:cNvCxnSpPr>
            <a:stCxn id="1657" idx="0"/>
            <a:endCxn id="1653" idx="0"/>
          </p:cNvCxnSpPr>
          <p:nvPr/>
        </p:nvCxnSpPr>
        <p:spPr>
          <a:xfrm flipH="1" rot="16200000">
            <a:off x="6630480" y="2669040"/>
            <a:ext cx="793080" cy="1513800"/>
          </a:xfrm>
          <a:prstGeom prst="curvedConnector5">
            <a:avLst>
              <a:gd name="adj1" fmla="val -28837"/>
              <a:gd name="adj2" fmla="val 50000"/>
              <a:gd name="adj3" fmla="val -28837"/>
            </a:avLst>
          </a:prstGeom>
          <a:ln w="9360">
            <a:solidFill>
              <a:srgbClr val="000000"/>
            </a:solidFill>
            <a:miter/>
            <a:headEnd len="lg" type="triangle" w="lg"/>
          </a:ln>
        </p:spPr>
      </p:cxnSp>
      <p:cxnSp>
        <p:nvCxnSpPr>
          <p:cNvPr id="1666" name=""/>
          <p:cNvCxnSpPr>
            <a:stCxn id="1652" idx="4"/>
            <a:endCxn id="1658" idx="3"/>
          </p:cNvCxnSpPr>
          <p:nvPr/>
        </p:nvCxnSpPr>
        <p:spPr>
          <a:xfrm flipH="1" rot="16200000">
            <a:off x="5015880" y="3851640"/>
            <a:ext cx="894240" cy="1410480"/>
          </a:xfrm>
          <a:prstGeom prst="curvedConnector5">
            <a:avLst>
              <a:gd name="adj1" fmla="val 130165"/>
              <a:gd name="adj2" fmla="val 49987"/>
              <a:gd name="adj3" fmla="val 130165"/>
            </a:avLst>
          </a:prstGeom>
          <a:ln w="9360">
            <a:solidFill>
              <a:srgbClr val="000000"/>
            </a:solidFill>
            <a:miter/>
            <a:headEnd len="lg" type="triangle" w="lg"/>
          </a:ln>
        </p:spPr>
      </p:cxnSp>
      <p:sp>
        <p:nvSpPr>
          <p:cNvPr id="1667" name=""/>
          <p:cNvSpPr/>
          <p:nvPr/>
        </p:nvSpPr>
        <p:spPr>
          <a:xfrm>
            <a:off x="7476480" y="27082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>
            <a:off x="5082480" y="51926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9" name=""/>
          <p:cNvCxnSpPr>
            <a:stCxn id="1652" idx="0"/>
            <a:endCxn id="1657" idx="2"/>
          </p:cNvCxnSpPr>
          <p:nvPr/>
        </p:nvCxnSpPr>
        <p:spPr>
          <a:xfrm flipH="1" flipV="1" rot="5400000">
            <a:off x="5117760" y="2814480"/>
            <a:ext cx="648360" cy="1369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670" name=""/>
          <p:cNvCxnSpPr>
            <a:stCxn id="1652" idx="6"/>
            <a:endCxn id="1657" idx="3"/>
          </p:cNvCxnSpPr>
          <p:nvPr/>
        </p:nvCxnSpPr>
        <p:spPr>
          <a:xfrm flipV="1">
            <a:off x="4900320" y="3274200"/>
            <a:ext cx="1269000" cy="69300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</p:cxnSp>
      <p:sp>
        <p:nvSpPr>
          <p:cNvPr id="1671" name=""/>
          <p:cNvSpPr/>
          <p:nvPr/>
        </p:nvSpPr>
        <p:spPr>
          <a:xfrm>
            <a:off x="5317560" y="38242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2" name=""/>
          <p:cNvCxnSpPr>
            <a:stCxn id="1658" idx="6"/>
            <a:endCxn id="1654" idx="2"/>
          </p:cNvCxnSpPr>
          <p:nvPr/>
        </p:nvCxnSpPr>
        <p:spPr>
          <a:xfrm flipV="1">
            <a:off x="6411600" y="4147560"/>
            <a:ext cx="1338840" cy="75636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</p:cxnSp>
      <p:sp>
        <p:nvSpPr>
          <p:cNvPr id="1673" name=""/>
          <p:cNvSpPr/>
          <p:nvPr/>
        </p:nvSpPr>
        <p:spPr>
          <a:xfrm>
            <a:off x="7314480" y="45086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4" name=""/>
          <p:cNvGrpSpPr/>
          <p:nvPr/>
        </p:nvGrpSpPr>
        <p:grpSpPr>
          <a:xfrm>
            <a:off x="658080" y="2637000"/>
            <a:ext cx="3526920" cy="2811960"/>
            <a:chOff x="658080" y="2637000"/>
            <a:chExt cx="3526920" cy="2811960"/>
          </a:xfrm>
        </p:grpSpPr>
        <p:sp>
          <p:nvSpPr>
            <p:cNvPr id="1675" name=""/>
            <p:cNvSpPr/>
            <p:nvPr/>
          </p:nvSpPr>
          <p:spPr>
            <a:xfrm>
              <a:off x="2195640" y="2889360"/>
              <a:ext cx="32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2191680" y="4643640"/>
              <a:ext cx="32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716040" y="3753000"/>
              <a:ext cx="287280" cy="28728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2229120" y="2961000"/>
              <a:ext cx="287280" cy="28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3741840" y="3753000"/>
              <a:ext cx="287280" cy="287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2227320" y="4689720"/>
              <a:ext cx="287280" cy="28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81" name=""/>
            <p:cNvCxnSpPr>
              <a:stCxn id="1677" idx="7"/>
              <a:endCxn id="1675" idx="1"/>
            </p:cNvCxnSpPr>
            <p:nvPr/>
          </p:nvCxnSpPr>
          <p:spPr>
            <a:xfrm flipV="1">
              <a:off x="960120" y="3087000"/>
              <a:ext cx="1227960" cy="708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1682" name=""/>
            <p:cNvSpPr/>
            <p:nvPr/>
          </p:nvSpPr>
          <p:spPr>
            <a:xfrm>
              <a:off x="658080" y="368172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3720600" y="3681720"/>
              <a:ext cx="26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1125360" y="3032280"/>
              <a:ext cx="54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3,</a:t>
              </a: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3211200" y="4292640"/>
              <a:ext cx="54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,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2706480" y="3716640"/>
              <a:ext cx="54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0</a:t>
              </a: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,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87" name=""/>
            <p:cNvCxnSpPr>
              <a:stCxn id="1675" idx="3"/>
              <a:endCxn id="1680" idx="6"/>
            </p:cNvCxnSpPr>
            <p:nvPr/>
          </p:nvCxnSpPr>
          <p:spPr>
            <a:xfrm flipH="1">
              <a:off x="2514240" y="3087360"/>
              <a:ext cx="15120" cy="1747080"/>
            </a:xfrm>
            <a:prstGeom prst="curvedConnector5">
              <a:avLst>
                <a:gd name="adj1" fmla="val -1587804"/>
                <a:gd name="adj2" fmla="val 50000"/>
                <a:gd name="adj3" fmla="val -1587804"/>
              </a:avLst>
            </a:prstGeom>
            <a:ln w="9360">
              <a:solidFill>
                <a:srgbClr val="000000"/>
              </a:solidFill>
              <a:miter/>
              <a:headEnd len="lg" type="triangle" w="lg"/>
            </a:ln>
          </p:spPr>
        </p:cxnSp>
        <p:cxnSp>
          <p:nvCxnSpPr>
            <p:cNvPr id="1688" name=""/>
            <p:cNvCxnSpPr>
              <a:stCxn id="1678" idx="2"/>
              <a:endCxn id="1680" idx="2"/>
            </p:cNvCxnSpPr>
            <p:nvPr/>
          </p:nvCxnSpPr>
          <p:spPr>
            <a:xfrm flipV="1" rot="10800000">
              <a:off x="2226600" y="3105000"/>
              <a:ext cx="2520" cy="1729440"/>
            </a:xfrm>
            <a:prstGeom prst="curvedConnector5">
              <a:avLst>
                <a:gd name="adj1" fmla="val 14500000"/>
                <a:gd name="adj2" fmla="val 49989"/>
                <a:gd name="adj3" fmla="val 14500000"/>
              </a:avLst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689" name=""/>
            <p:cNvCxnSpPr>
              <a:stCxn id="1676" idx="3"/>
              <a:endCxn id="1679" idx="2"/>
            </p:cNvCxnSpPr>
            <p:nvPr/>
          </p:nvCxnSpPr>
          <p:spPr>
            <a:xfrm flipV="1">
              <a:off x="2524320" y="3897000"/>
              <a:ext cx="1218240" cy="945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690" name=""/>
            <p:cNvCxnSpPr>
              <a:stCxn id="1677" idx="5"/>
              <a:endCxn id="1680" idx="3"/>
            </p:cNvCxnSpPr>
            <p:nvPr/>
          </p:nvCxnSpPr>
          <p:spPr>
            <a:xfrm flipH="1" rot="16200000">
              <a:off x="1146960" y="3810600"/>
              <a:ext cx="937440" cy="1310400"/>
            </a:xfrm>
            <a:prstGeom prst="curvedConnector5">
              <a:avLst>
                <a:gd name="adj1" fmla="val 128812"/>
                <a:gd name="adj2" fmla="val 49986"/>
                <a:gd name="adj3" fmla="val 128812"/>
              </a:avLst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691" name=""/>
            <p:cNvCxnSpPr>
              <a:stCxn id="1678" idx="0"/>
              <a:endCxn id="1679" idx="0"/>
            </p:cNvCxnSpPr>
            <p:nvPr/>
          </p:nvCxnSpPr>
          <p:spPr>
            <a:xfrm flipH="1" rot="16200000">
              <a:off x="2733840" y="2600280"/>
              <a:ext cx="792720" cy="1513440"/>
            </a:xfrm>
            <a:prstGeom prst="curvedConnector5">
              <a:avLst>
                <a:gd name="adj1" fmla="val -28850"/>
                <a:gd name="adj2" fmla="val 49988"/>
                <a:gd name="adj3" fmla="val -28850"/>
              </a:avLst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1692" name=""/>
            <p:cNvSpPr/>
            <p:nvPr/>
          </p:nvSpPr>
          <p:spPr>
            <a:xfrm>
              <a:off x="1525320" y="3897360"/>
              <a:ext cx="54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,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909360" y="5050080"/>
              <a:ext cx="54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4</a:t>
              </a: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,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3577680" y="2637000"/>
              <a:ext cx="60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2, </a:t>
              </a: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B2A2-C28D-4191-93E8-FABD92EB25B1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65" name=""/>
          <p:cNvCxnSpPr>
            <a:stCxn id="166" idx="7"/>
            <a:endCxn id="167" idx="2"/>
          </p:cNvCxnSpPr>
          <p:nvPr/>
        </p:nvCxnSpPr>
        <p:spPr>
          <a:xfrm flipV="1">
            <a:off x="1660320" y="3812400"/>
            <a:ext cx="896040" cy="788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semp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11280" y="1660680"/>
            <a:ext cx="77058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 primo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,t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mmino che consideriamo è il cammino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, 1, 4,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76360" y="456876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508720" y="4568760"/>
            <a:ext cx="215640" cy="21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56000" y="3705120"/>
            <a:ext cx="21564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211640" y="370512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57440" y="52894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213080" y="52894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66" idx="5"/>
            <a:endCxn id="172" idx="2"/>
          </p:cNvCxnSpPr>
          <p:nvPr/>
        </p:nvCxnSpPr>
        <p:spPr>
          <a:xfrm>
            <a:off x="1660320" y="4753080"/>
            <a:ext cx="897480" cy="64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67" idx="6"/>
            <a:endCxn id="171" idx="2"/>
          </p:cNvCxnSpPr>
          <p:nvPr/>
        </p:nvCxnSpPr>
        <p:spPr>
          <a:xfrm>
            <a:off x="2771640" y="3812760"/>
            <a:ext cx="144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1" idx="6"/>
            <a:endCxn id="170" idx="1"/>
          </p:cNvCxnSpPr>
          <p:nvPr/>
        </p:nvCxnSpPr>
        <p:spPr>
          <a:xfrm>
            <a:off x="4427280" y="3812760"/>
            <a:ext cx="1113120" cy="788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stCxn id="172" idx="6"/>
            <a:endCxn id="173" idx="2"/>
          </p:cNvCxnSpPr>
          <p:nvPr/>
        </p:nvCxnSpPr>
        <p:spPr>
          <a:xfrm>
            <a:off x="2773080" y="5397120"/>
            <a:ext cx="144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3" idx="6"/>
            <a:endCxn id="170" idx="3"/>
          </p:cNvCxnSpPr>
          <p:nvPr/>
        </p:nvCxnSpPr>
        <p:spPr>
          <a:xfrm flipV="1">
            <a:off x="4428720" y="4752720"/>
            <a:ext cx="1112040" cy="64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67" idx="4"/>
            <a:endCxn id="172" idx="0"/>
          </p:cNvCxnSpPr>
          <p:nvPr/>
        </p:nvCxnSpPr>
        <p:spPr>
          <a:xfrm>
            <a:off x="2664000" y="3920760"/>
            <a:ext cx="2160" cy="136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73" idx="0"/>
            <a:endCxn id="171" idx="4"/>
          </p:cNvCxnSpPr>
          <p:nvPr/>
        </p:nvCxnSpPr>
        <p:spPr>
          <a:xfrm flipH="1" flipV="1">
            <a:off x="4319280" y="3920400"/>
            <a:ext cx="2160" cy="136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1" name=""/>
          <p:cNvSpPr/>
          <p:nvPr/>
        </p:nvSpPr>
        <p:spPr>
          <a:xfrm>
            <a:off x="1732320" y="3932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201320" y="470700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06360" y="46404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46840" y="3429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362840" y="3424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635560" y="5432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312080" y="5438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16680" y="342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842120" y="51498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180600" y="54324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07440" y="5073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867920" y="38480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91560" y="4417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701080" y="432432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+</a:t>
            </a:r>
            <a:r>
              <a:rPr b="0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657080" y="3807720"/>
            <a:ext cx="3879720" cy="788040"/>
            <a:chOff x="1657080" y="3807720"/>
            <a:chExt cx="3879720" cy="788040"/>
          </a:xfrm>
        </p:grpSpPr>
        <p:cxnSp>
          <p:nvCxnSpPr>
            <p:cNvPr id="196" name=""/>
            <p:cNvCxnSpPr/>
            <p:nvPr/>
          </p:nvCxnSpPr>
          <p:spPr>
            <a:xfrm flipV="1">
              <a:off x="1657080" y="3807720"/>
              <a:ext cx="896040" cy="788040"/>
            </a:xfrm>
            <a:prstGeom prst="straightConnector1">
              <a:avLst/>
            </a:prstGeom>
            <a:ln w="38160">
              <a:solidFill>
                <a:srgbClr val="003399"/>
              </a:solidFill>
              <a:miter/>
              <a:tailEnd len="med" type="triangle" w="med"/>
            </a:ln>
          </p:spPr>
        </p:cxnSp>
        <p:cxnSp>
          <p:nvCxnSpPr>
            <p:cNvPr id="197" name=""/>
            <p:cNvCxnSpPr/>
            <p:nvPr/>
          </p:nvCxnSpPr>
          <p:spPr>
            <a:xfrm>
              <a:off x="2768400" y="3808080"/>
              <a:ext cx="1440360" cy="1080"/>
            </a:xfrm>
            <a:prstGeom prst="straightConnector1">
              <a:avLst/>
            </a:prstGeom>
            <a:ln w="38160">
              <a:solidFill>
                <a:srgbClr val="003399"/>
              </a:solidFill>
              <a:miter/>
              <a:tailEnd len="med" type="triangle" w="med"/>
            </a:ln>
          </p:spPr>
        </p:cxnSp>
        <p:cxnSp>
          <p:nvCxnSpPr>
            <p:cNvPr id="198" name=""/>
            <p:cNvCxnSpPr/>
            <p:nvPr/>
          </p:nvCxnSpPr>
          <p:spPr>
            <a:xfrm>
              <a:off x="4424040" y="3808080"/>
              <a:ext cx="1113120" cy="788040"/>
            </a:xfrm>
            <a:prstGeom prst="straightConnector1">
              <a:avLst/>
            </a:prstGeom>
            <a:ln w="38160">
              <a:solidFill>
                <a:srgbClr val="003399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88BF-085B-441D-B685-B1C17210264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/>
          </p:nvPr>
        </p:nvSpPr>
        <p:spPr>
          <a:xfrm>
            <a:off x="609480" y="1413000"/>
            <a:ext cx="79250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ra abbiamo solo due scelte possibili per decrementare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e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l’arco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e l’arco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. Tuttavia, se scegliamo l’arco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crementiamo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e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Quindi, scegliamo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b, s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 (3 = min {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e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),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u’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bs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}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L’operazione “push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5407920" y="1374840"/>
            <a:ext cx="1099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e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)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6135840" y="3933720"/>
            <a:ext cx="1103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e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) =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4555440" y="259884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4613400" y="2670120"/>
            <a:ext cx="287280" cy="2872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7639200" y="2670120"/>
            <a:ext cx="28728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7617600" y="2598840"/>
            <a:ext cx="26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6092640" y="180648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6088680" y="356076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6126120" y="1878120"/>
            <a:ext cx="28728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6124680" y="3606840"/>
            <a:ext cx="28728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5101560" y="17715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6612840" y="27795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09" name=""/>
          <p:cNvCxnSpPr>
            <a:stCxn id="1703" idx="3"/>
            <a:endCxn id="1706" idx="6"/>
          </p:cNvCxnSpPr>
          <p:nvPr/>
        </p:nvCxnSpPr>
        <p:spPr>
          <a:xfrm flipH="1">
            <a:off x="6411600" y="2004480"/>
            <a:ext cx="15120" cy="1747080"/>
          </a:xfrm>
          <a:prstGeom prst="curvedConnector5">
            <a:avLst>
              <a:gd name="adj1" fmla="val -1587804"/>
              <a:gd name="adj2" fmla="val 50000"/>
              <a:gd name="adj3" fmla="val -1587804"/>
            </a:avLst>
          </a:prstGeom>
          <a:ln w="9360">
            <a:solidFill>
              <a:srgbClr val="000000"/>
            </a:solidFill>
            <a:miter/>
            <a:headEnd len="lg" type="triangle" w="lg"/>
          </a:ln>
        </p:spPr>
      </p:cxnSp>
      <p:sp>
        <p:nvSpPr>
          <p:cNvPr id="1710" name=""/>
          <p:cNvSpPr/>
          <p:nvPr/>
        </p:nvSpPr>
        <p:spPr>
          <a:xfrm>
            <a:off x="7417080" y="3789360"/>
            <a:ext cx="80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1" name=""/>
          <p:cNvCxnSpPr>
            <a:stCxn id="1705" idx="0"/>
            <a:endCxn id="1701" idx="0"/>
          </p:cNvCxnSpPr>
          <p:nvPr/>
        </p:nvCxnSpPr>
        <p:spPr>
          <a:xfrm flipH="1" rot="16200000">
            <a:off x="6630840" y="1517400"/>
            <a:ext cx="792720" cy="1513800"/>
          </a:xfrm>
          <a:prstGeom prst="curvedConnector5">
            <a:avLst>
              <a:gd name="adj1" fmla="val -28850"/>
              <a:gd name="adj2" fmla="val 50000"/>
              <a:gd name="adj3" fmla="val -28850"/>
            </a:avLst>
          </a:prstGeom>
          <a:ln w="9360">
            <a:solidFill>
              <a:srgbClr val="000000"/>
            </a:solidFill>
            <a:miter/>
            <a:headEnd len="lg" type="triangle" w="lg"/>
          </a:ln>
        </p:spPr>
      </p:cxnSp>
      <p:cxnSp>
        <p:nvCxnSpPr>
          <p:cNvPr id="1712" name=""/>
          <p:cNvCxnSpPr>
            <a:stCxn id="1700" idx="4"/>
            <a:endCxn id="1706" idx="3"/>
          </p:cNvCxnSpPr>
          <p:nvPr/>
        </p:nvCxnSpPr>
        <p:spPr>
          <a:xfrm flipH="1" rot="16200000">
            <a:off x="5015520" y="2698920"/>
            <a:ext cx="894600" cy="1410480"/>
          </a:xfrm>
          <a:prstGeom prst="curvedConnector5">
            <a:avLst>
              <a:gd name="adj1" fmla="val 130193"/>
              <a:gd name="adj2" fmla="val 49987"/>
              <a:gd name="adj3" fmla="val 130193"/>
            </a:avLst>
          </a:prstGeom>
          <a:ln w="9360">
            <a:solidFill>
              <a:srgbClr val="000000"/>
            </a:solidFill>
            <a:miter/>
            <a:headEnd len="lg" type="triangle" w="lg"/>
          </a:ln>
        </p:spPr>
      </p:cxnSp>
      <p:sp>
        <p:nvSpPr>
          <p:cNvPr id="1713" name=""/>
          <p:cNvSpPr/>
          <p:nvPr/>
        </p:nvSpPr>
        <p:spPr>
          <a:xfrm>
            <a:off x="7476480" y="15559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5082480" y="40402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5" name=""/>
          <p:cNvCxnSpPr>
            <a:stCxn id="1700" idx="0"/>
            <a:endCxn id="1705" idx="2"/>
          </p:cNvCxnSpPr>
          <p:nvPr/>
        </p:nvCxnSpPr>
        <p:spPr>
          <a:xfrm flipH="1" flipV="1" rot="5400000">
            <a:off x="5117760" y="1661400"/>
            <a:ext cx="648360" cy="1369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716" name=""/>
          <p:cNvCxnSpPr>
            <a:stCxn id="1700" idx="6"/>
            <a:endCxn id="1705" idx="3"/>
          </p:cNvCxnSpPr>
          <p:nvPr/>
        </p:nvCxnSpPr>
        <p:spPr>
          <a:xfrm flipV="1">
            <a:off x="4900320" y="2122200"/>
            <a:ext cx="1269000" cy="69264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</p:cxnSp>
      <p:sp>
        <p:nvSpPr>
          <p:cNvPr id="1717" name=""/>
          <p:cNvSpPr/>
          <p:nvPr/>
        </p:nvSpPr>
        <p:spPr>
          <a:xfrm>
            <a:off x="5317560" y="26719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8" name=""/>
          <p:cNvCxnSpPr>
            <a:stCxn id="1706" idx="6"/>
            <a:endCxn id="1702" idx="2"/>
          </p:cNvCxnSpPr>
          <p:nvPr/>
        </p:nvCxnSpPr>
        <p:spPr>
          <a:xfrm flipV="1">
            <a:off x="6411600" y="2994840"/>
            <a:ext cx="1338840" cy="75636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</p:cxnSp>
      <p:sp>
        <p:nvSpPr>
          <p:cNvPr id="1719" name=""/>
          <p:cNvSpPr/>
          <p:nvPr/>
        </p:nvSpPr>
        <p:spPr>
          <a:xfrm>
            <a:off x="7314480" y="33559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0" name=""/>
          <p:cNvGrpSpPr/>
          <p:nvPr/>
        </p:nvGrpSpPr>
        <p:grpSpPr>
          <a:xfrm>
            <a:off x="731160" y="1555920"/>
            <a:ext cx="3526920" cy="2811960"/>
            <a:chOff x="731160" y="1555920"/>
            <a:chExt cx="3526920" cy="2811960"/>
          </a:xfrm>
        </p:grpSpPr>
        <p:sp>
          <p:nvSpPr>
            <p:cNvPr id="1721" name=""/>
            <p:cNvSpPr/>
            <p:nvPr/>
          </p:nvSpPr>
          <p:spPr>
            <a:xfrm>
              <a:off x="2268720" y="1808280"/>
              <a:ext cx="32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2264760" y="3562560"/>
              <a:ext cx="32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789120" y="2671920"/>
              <a:ext cx="287280" cy="28728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2302200" y="1879920"/>
              <a:ext cx="287280" cy="28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3814920" y="2671920"/>
              <a:ext cx="287280" cy="287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2300400" y="3608640"/>
              <a:ext cx="287280" cy="28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27" name=""/>
            <p:cNvCxnSpPr>
              <a:stCxn id="1723" idx="7"/>
              <a:endCxn id="1721" idx="1"/>
            </p:cNvCxnSpPr>
            <p:nvPr/>
          </p:nvCxnSpPr>
          <p:spPr>
            <a:xfrm flipV="1">
              <a:off x="1033200" y="2005920"/>
              <a:ext cx="1227960" cy="708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1728" name=""/>
            <p:cNvSpPr/>
            <p:nvPr/>
          </p:nvSpPr>
          <p:spPr>
            <a:xfrm>
              <a:off x="731160" y="260064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3793680" y="2600640"/>
              <a:ext cx="26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1198440" y="1951200"/>
              <a:ext cx="54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3,</a:t>
              </a: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3284280" y="3211560"/>
              <a:ext cx="54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,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2779560" y="2635560"/>
              <a:ext cx="54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0</a:t>
              </a: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,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33" name=""/>
            <p:cNvCxnSpPr>
              <a:stCxn id="1721" idx="3"/>
              <a:endCxn id="1726" idx="6"/>
            </p:cNvCxnSpPr>
            <p:nvPr/>
          </p:nvCxnSpPr>
          <p:spPr>
            <a:xfrm flipH="1">
              <a:off x="2587320" y="2006280"/>
              <a:ext cx="15120" cy="1747080"/>
            </a:xfrm>
            <a:prstGeom prst="curvedConnector5">
              <a:avLst>
                <a:gd name="adj1" fmla="val -1587804"/>
                <a:gd name="adj2" fmla="val 50000"/>
                <a:gd name="adj3" fmla="val -1587804"/>
              </a:avLst>
            </a:prstGeom>
            <a:ln w="9360">
              <a:solidFill>
                <a:srgbClr val="000000"/>
              </a:solidFill>
              <a:miter/>
              <a:headEnd len="lg" type="triangle" w="lg"/>
            </a:ln>
          </p:spPr>
        </p:cxnSp>
        <p:cxnSp>
          <p:nvCxnSpPr>
            <p:cNvPr id="1734" name=""/>
            <p:cNvCxnSpPr>
              <a:stCxn id="1724" idx="2"/>
              <a:endCxn id="1726" idx="2"/>
            </p:cNvCxnSpPr>
            <p:nvPr/>
          </p:nvCxnSpPr>
          <p:spPr>
            <a:xfrm flipV="1" rot="10800000">
              <a:off x="2299680" y="2023920"/>
              <a:ext cx="2520" cy="1729440"/>
            </a:xfrm>
            <a:prstGeom prst="curvedConnector5">
              <a:avLst>
                <a:gd name="adj1" fmla="val 14500000"/>
                <a:gd name="adj2" fmla="val 49989"/>
                <a:gd name="adj3" fmla="val 14500000"/>
              </a:avLst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735" name=""/>
            <p:cNvCxnSpPr>
              <a:stCxn id="1722" idx="3"/>
              <a:endCxn id="1725" idx="2"/>
            </p:cNvCxnSpPr>
            <p:nvPr/>
          </p:nvCxnSpPr>
          <p:spPr>
            <a:xfrm flipV="1">
              <a:off x="2597400" y="2815920"/>
              <a:ext cx="1218240" cy="945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736" name=""/>
            <p:cNvCxnSpPr>
              <a:stCxn id="1723" idx="5"/>
              <a:endCxn id="1726" idx="3"/>
            </p:cNvCxnSpPr>
            <p:nvPr/>
          </p:nvCxnSpPr>
          <p:spPr>
            <a:xfrm flipH="1" rot="16200000">
              <a:off x="1220040" y="2729520"/>
              <a:ext cx="937440" cy="1310400"/>
            </a:xfrm>
            <a:prstGeom prst="curvedConnector5">
              <a:avLst>
                <a:gd name="adj1" fmla="val 128812"/>
                <a:gd name="adj2" fmla="val 49986"/>
                <a:gd name="adj3" fmla="val 128812"/>
              </a:avLst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737" name=""/>
            <p:cNvCxnSpPr>
              <a:stCxn id="1724" idx="0"/>
              <a:endCxn id="1725" idx="0"/>
            </p:cNvCxnSpPr>
            <p:nvPr/>
          </p:nvCxnSpPr>
          <p:spPr>
            <a:xfrm flipH="1" rot="16200000">
              <a:off x="2806920" y="1519200"/>
              <a:ext cx="792720" cy="1513440"/>
            </a:xfrm>
            <a:prstGeom prst="curvedConnector5">
              <a:avLst>
                <a:gd name="adj1" fmla="val -28850"/>
                <a:gd name="adj2" fmla="val 49988"/>
                <a:gd name="adj3" fmla="val -28850"/>
              </a:avLst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1738" name=""/>
            <p:cNvSpPr/>
            <p:nvPr/>
          </p:nvSpPr>
          <p:spPr>
            <a:xfrm>
              <a:off x="1598400" y="2816280"/>
              <a:ext cx="54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,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982440" y="3969000"/>
              <a:ext cx="54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4</a:t>
              </a: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,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3650760" y="1555920"/>
              <a:ext cx="60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2, </a:t>
              </a: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F62D-61C2-40E6-8D65-EBDD2F3DB288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L’operazione “push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bbiamo ottenuto un flusso ammissibi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ottim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me si possono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ormalizzare le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celte effettuate in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ecedenz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1521720" y="2637000"/>
            <a:ext cx="1099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e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)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2309760" y="5084640"/>
            <a:ext cx="1103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e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)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5" name=""/>
          <p:cNvGrpSpPr/>
          <p:nvPr/>
        </p:nvGrpSpPr>
        <p:grpSpPr>
          <a:xfrm>
            <a:off x="731160" y="2708280"/>
            <a:ext cx="3526920" cy="2811960"/>
            <a:chOff x="731160" y="2708280"/>
            <a:chExt cx="3526920" cy="2811960"/>
          </a:xfrm>
        </p:grpSpPr>
        <p:sp>
          <p:nvSpPr>
            <p:cNvPr id="1746" name=""/>
            <p:cNvSpPr/>
            <p:nvPr/>
          </p:nvSpPr>
          <p:spPr>
            <a:xfrm>
              <a:off x="2268720" y="2960640"/>
              <a:ext cx="32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2264760" y="4714920"/>
              <a:ext cx="32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789120" y="3824280"/>
              <a:ext cx="287280" cy="28728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2302200" y="3032280"/>
              <a:ext cx="287280" cy="28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3814920" y="3824280"/>
              <a:ext cx="287280" cy="287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2300400" y="4761000"/>
              <a:ext cx="287280" cy="28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52" name=""/>
            <p:cNvCxnSpPr>
              <a:stCxn id="1748" idx="7"/>
              <a:endCxn id="1746" idx="1"/>
            </p:cNvCxnSpPr>
            <p:nvPr/>
          </p:nvCxnSpPr>
          <p:spPr>
            <a:xfrm flipV="1">
              <a:off x="1033200" y="3158280"/>
              <a:ext cx="1227960" cy="708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1753" name=""/>
            <p:cNvSpPr/>
            <p:nvPr/>
          </p:nvSpPr>
          <p:spPr>
            <a:xfrm>
              <a:off x="731160" y="375300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3793680" y="3753000"/>
              <a:ext cx="26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1198440" y="3103560"/>
              <a:ext cx="54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3,</a:t>
              </a: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3284280" y="4363920"/>
              <a:ext cx="54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,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2779560" y="3787920"/>
              <a:ext cx="54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0</a:t>
              </a: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,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58" name=""/>
            <p:cNvCxnSpPr>
              <a:stCxn id="1746" idx="3"/>
              <a:endCxn id="1751" idx="6"/>
            </p:cNvCxnSpPr>
            <p:nvPr/>
          </p:nvCxnSpPr>
          <p:spPr>
            <a:xfrm flipH="1">
              <a:off x="2587320" y="3158640"/>
              <a:ext cx="15120" cy="1747080"/>
            </a:xfrm>
            <a:prstGeom prst="curvedConnector5">
              <a:avLst>
                <a:gd name="adj1" fmla="val -1587804"/>
                <a:gd name="adj2" fmla="val 50000"/>
                <a:gd name="adj3" fmla="val -1587804"/>
              </a:avLst>
            </a:prstGeom>
            <a:ln w="9360">
              <a:solidFill>
                <a:srgbClr val="000000"/>
              </a:solidFill>
              <a:miter/>
              <a:headEnd len="lg" type="triangle" w="lg"/>
            </a:ln>
          </p:spPr>
        </p:cxnSp>
        <p:cxnSp>
          <p:nvCxnSpPr>
            <p:cNvPr id="1759" name=""/>
            <p:cNvCxnSpPr>
              <a:stCxn id="1749" idx="2"/>
              <a:endCxn id="1751" idx="2"/>
            </p:cNvCxnSpPr>
            <p:nvPr/>
          </p:nvCxnSpPr>
          <p:spPr>
            <a:xfrm flipV="1" rot="10800000">
              <a:off x="2299680" y="3176280"/>
              <a:ext cx="2520" cy="1729440"/>
            </a:xfrm>
            <a:prstGeom prst="curvedConnector5">
              <a:avLst>
                <a:gd name="adj1" fmla="val 14500000"/>
                <a:gd name="adj2" fmla="val 49989"/>
                <a:gd name="adj3" fmla="val 14500000"/>
              </a:avLst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760" name=""/>
            <p:cNvCxnSpPr>
              <a:stCxn id="1747" idx="3"/>
              <a:endCxn id="1750" idx="2"/>
            </p:cNvCxnSpPr>
            <p:nvPr/>
          </p:nvCxnSpPr>
          <p:spPr>
            <a:xfrm flipV="1">
              <a:off x="2597400" y="3968280"/>
              <a:ext cx="1218240" cy="945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761" name=""/>
            <p:cNvCxnSpPr>
              <a:stCxn id="1748" idx="5"/>
              <a:endCxn id="1751" idx="3"/>
            </p:cNvCxnSpPr>
            <p:nvPr/>
          </p:nvCxnSpPr>
          <p:spPr>
            <a:xfrm flipH="1" rot="16200000">
              <a:off x="1220040" y="3881880"/>
              <a:ext cx="937440" cy="1310400"/>
            </a:xfrm>
            <a:prstGeom prst="curvedConnector5">
              <a:avLst>
                <a:gd name="adj1" fmla="val 128812"/>
                <a:gd name="adj2" fmla="val 49986"/>
                <a:gd name="adj3" fmla="val 128812"/>
              </a:avLst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762" name=""/>
            <p:cNvCxnSpPr>
              <a:stCxn id="1749" idx="0"/>
              <a:endCxn id="1750" idx="0"/>
            </p:cNvCxnSpPr>
            <p:nvPr/>
          </p:nvCxnSpPr>
          <p:spPr>
            <a:xfrm flipH="1" rot="16200000">
              <a:off x="2806920" y="2671560"/>
              <a:ext cx="792720" cy="1513440"/>
            </a:xfrm>
            <a:prstGeom prst="curvedConnector5">
              <a:avLst>
                <a:gd name="adj1" fmla="val -28850"/>
                <a:gd name="adj2" fmla="val 49988"/>
                <a:gd name="adj3" fmla="val -28850"/>
              </a:avLst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1763" name=""/>
            <p:cNvSpPr/>
            <p:nvPr/>
          </p:nvSpPr>
          <p:spPr>
            <a:xfrm>
              <a:off x="1598400" y="3968640"/>
              <a:ext cx="54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,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982440" y="5121360"/>
              <a:ext cx="54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,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3650760" y="2708280"/>
              <a:ext cx="60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2, </a:t>
              </a: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4672-135E-46AC-B197-7803DD8AF9A3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Etichettatura</a:t>
            </a: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Defini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- Un nodo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si dice attivo se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e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 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- Un vettore </a:t>
            </a:r>
            <a:r>
              <a:rPr b="1" i="1" lang="it-IT" sz="2400" spc="-1" strike="noStrike">
                <a:solidFill>
                  <a:srgbClr val="000000"/>
                </a:solidFill>
                <a:latin typeface="Bookman Old Style"/>
              </a:rPr>
              <a:t>d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(</a:t>
            </a:r>
            <a:r>
              <a:rPr b="0" lang="it-IT" sz="2400" spc="-1" strike="noStrike">
                <a:solidFill>
                  <a:srgbClr val="000000"/>
                </a:solidFill>
                <a:latin typeface="Monotype Corsiva"/>
              </a:rPr>
              <a:t>Z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+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{+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})</a:t>
            </a:r>
            <a:r>
              <a:rPr b="0" lang="it-IT" sz="2400" spc="-1" strike="noStrike" baseline="30000">
                <a:solidFill>
                  <a:srgbClr val="000000"/>
                </a:solidFill>
                <a:latin typeface="Bookman Old Style"/>
              </a:rPr>
              <a:t>|</a:t>
            </a:r>
            <a:r>
              <a:rPr b="0" i="1" lang="it-IT" sz="2400" spc="-1" strike="noStrike" baseline="30000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it-IT" sz="2400" spc="-1" strike="noStrike" baseline="30000">
                <a:solidFill>
                  <a:srgbClr val="000000"/>
                </a:solidFill>
                <a:latin typeface="Bookman Old Style"/>
              </a:rPr>
              <a:t>|</a:t>
            </a:r>
            <a:r>
              <a:rPr b="0" lang="it-IT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è un’etichettatura valida rispetto ad un quasi-flusso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s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 =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2. Per ogni arco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j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di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,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 ≤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j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Osserv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dichiamo con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cammino minimo (in termini di numero di archi) da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t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u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 G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 scegliamo come etichette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 =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tutte le condizioni precedenti, tranne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 =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n,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ono soddisfat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26F1-93FB-4972-990D-1757ABD120E0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Inizializzazio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ato un grafo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= 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è sempre possibile individuare un quasi-flusso ammissibile e una etichettatura valida, ponend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cc"/>
                </a:solidFill>
                <a:latin typeface="Arial"/>
              </a:rPr>
              <a:t>(Inizializzazi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si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=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s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per ogni arco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uscente da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ij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= 0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per tutti gli altri archi di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 =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 = 0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per tutti gli altri nodi di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Teor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è un quasi-flusso ammissibile e </a:t>
            </a:r>
            <a:r>
              <a:rPr b="1" i="1" lang="it-IT" sz="24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è un’etichettatura valida per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allora esiste un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-taglio </a:t>
            </a:r>
            <a:r>
              <a:rPr b="0" i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tale che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ij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=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ij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ogni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j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ij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=0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per ogni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j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7451640" y="53481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6669-F447-4526-9B4B-0D79602709B0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Push-relab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609480" y="160128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Consegu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è un flusso ammissibile e ammette un’etichettatura valida, allora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è un massimo flus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Proble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me costruire un flusso ammissibile e un’etichettatura valida a partire da un quasi-flusso ammissibile e da un’etichettatura valid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pingo flusso da un nodo attivo lungo un arco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j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con la proprietà che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 =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j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n arco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j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con questa proprietà si dice </a:t>
            </a:r>
            <a:r>
              <a:rPr b="0" lang="it-IT" sz="2400" spc="-1" strike="noStrike">
                <a:solidFill>
                  <a:srgbClr val="0033cc"/>
                </a:solidFill>
                <a:latin typeface="Arial"/>
              </a:rPr>
              <a:t>ammissib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E904-0F58-420D-A8EA-ADEB55007429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Push-relab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Osservazion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ossono non esistere archi ammissibi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cc3399"/>
                </a:solidFill>
                <a:latin typeface="Bookman Old Style"/>
              </a:rPr>
              <a:t>e</a:t>
            </a:r>
            <a:r>
              <a:rPr b="0" i="1" lang="it-IT" sz="2000" spc="-1" strike="noStrike" baseline="-25000">
                <a:solidFill>
                  <a:srgbClr val="cc3399"/>
                </a:solidFill>
                <a:latin typeface="Bookman Old Style"/>
              </a:rPr>
              <a:t>x</a:t>
            </a:r>
            <a:r>
              <a:rPr b="0" lang="it-IT" sz="2000" spc="-1" strike="noStrike">
                <a:solidFill>
                  <a:srgbClr val="cc3399"/>
                </a:solidFill>
                <a:latin typeface="Bookman Old Style"/>
              </a:rPr>
              <a:t>(</a:t>
            </a:r>
            <a:r>
              <a:rPr b="0" i="1" lang="it-IT" sz="2000" spc="-1" strike="noStrike">
                <a:solidFill>
                  <a:srgbClr val="cc3399"/>
                </a:solidFill>
                <a:latin typeface="Bookman Old Style"/>
              </a:rPr>
              <a:t>a</a:t>
            </a:r>
            <a:r>
              <a:rPr b="0" lang="it-IT" sz="2000" spc="-1" strike="noStrike">
                <a:solidFill>
                  <a:srgbClr val="cc3399"/>
                </a:solidFill>
                <a:latin typeface="Bookman Old Style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0000"/>
                </a:solidFill>
                <a:latin typeface="Bookman Old Style"/>
              </a:rPr>
              <a:t>d</a:t>
            </a:r>
            <a:r>
              <a:rPr b="0" lang="it-IT" sz="2000" spc="-1" strike="noStrike">
                <a:solidFill>
                  <a:srgbClr val="ff0000"/>
                </a:solidFill>
                <a:latin typeface="Bookman Old Style"/>
              </a:rPr>
              <a:t>(</a:t>
            </a:r>
            <a:r>
              <a:rPr b="0" i="1" lang="it-IT" sz="2000" spc="-1" strike="noStrike">
                <a:solidFill>
                  <a:srgbClr val="ff0000"/>
                </a:solidFill>
                <a:latin typeface="Bookman Old Style"/>
              </a:rPr>
              <a:t>i</a:t>
            </a:r>
            <a:r>
              <a:rPr b="0" lang="it-IT" sz="2000" spc="-1" strike="noStrike">
                <a:solidFill>
                  <a:srgbClr val="ff0000"/>
                </a:solidFill>
                <a:latin typeface="Bookman Old Style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5" name=""/>
          <p:cNvGrpSpPr/>
          <p:nvPr/>
        </p:nvGrpSpPr>
        <p:grpSpPr>
          <a:xfrm>
            <a:off x="554760" y="2573280"/>
            <a:ext cx="3870000" cy="2153160"/>
            <a:chOff x="554760" y="2573280"/>
            <a:chExt cx="3870000" cy="2153160"/>
          </a:xfrm>
        </p:grpSpPr>
        <p:sp>
          <p:nvSpPr>
            <p:cNvPr id="1776" name=""/>
            <p:cNvSpPr/>
            <p:nvPr/>
          </p:nvSpPr>
          <p:spPr>
            <a:xfrm>
              <a:off x="2346120" y="2573280"/>
              <a:ext cx="32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2342160" y="4327560"/>
              <a:ext cx="32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866520" y="3436920"/>
              <a:ext cx="287280" cy="28728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2379600" y="2644560"/>
              <a:ext cx="287280" cy="28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3892320" y="3436920"/>
              <a:ext cx="287280" cy="287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2377800" y="4373280"/>
              <a:ext cx="287280" cy="287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82" name=""/>
            <p:cNvCxnSpPr>
              <a:stCxn id="1778" idx="7"/>
              <a:endCxn id="1776" idx="1"/>
            </p:cNvCxnSpPr>
            <p:nvPr/>
          </p:nvCxnSpPr>
          <p:spPr>
            <a:xfrm flipV="1">
              <a:off x="1110600" y="2770920"/>
              <a:ext cx="1227960" cy="708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1783" name=""/>
            <p:cNvSpPr/>
            <p:nvPr/>
          </p:nvSpPr>
          <p:spPr>
            <a:xfrm>
              <a:off x="554760" y="35812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4160160" y="3365280"/>
              <a:ext cx="26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85" name=""/>
            <p:cNvCxnSpPr>
              <a:stCxn id="1777" idx="3"/>
              <a:endCxn id="1780" idx="3"/>
            </p:cNvCxnSpPr>
            <p:nvPr/>
          </p:nvCxnSpPr>
          <p:spPr>
            <a:xfrm flipV="1">
              <a:off x="2674440" y="3681000"/>
              <a:ext cx="1261080" cy="845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786" name=""/>
            <p:cNvCxnSpPr>
              <a:stCxn id="1778" idx="5"/>
              <a:endCxn id="1781" idx="2"/>
            </p:cNvCxnSpPr>
            <p:nvPr/>
          </p:nvCxnSpPr>
          <p:spPr>
            <a:xfrm>
              <a:off x="1110600" y="3681360"/>
              <a:ext cx="1267560" cy="837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787" name=""/>
            <p:cNvCxnSpPr>
              <a:stCxn id="1776" idx="3"/>
              <a:endCxn id="1780" idx="1"/>
            </p:cNvCxnSpPr>
            <p:nvPr/>
          </p:nvCxnSpPr>
          <p:spPr>
            <a:xfrm>
              <a:off x="2679480" y="2771280"/>
              <a:ext cx="1256400" cy="708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788" name=""/>
            <p:cNvCxnSpPr>
              <a:stCxn id="1779" idx="4"/>
              <a:endCxn id="1777" idx="0"/>
            </p:cNvCxnSpPr>
            <p:nvPr/>
          </p:nvCxnSpPr>
          <p:spPr>
            <a:xfrm flipH="1">
              <a:off x="2506320" y="2931480"/>
              <a:ext cx="18000" cy="139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1789" name=""/>
            <p:cNvSpPr/>
            <p:nvPr/>
          </p:nvSpPr>
          <p:spPr>
            <a:xfrm>
              <a:off x="1310760" y="286056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1410480" y="39416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3282120" y="28605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3137760" y="4047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2437560" y="3365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4" name=""/>
          <p:cNvGrpSpPr/>
          <p:nvPr/>
        </p:nvGrpSpPr>
        <p:grpSpPr>
          <a:xfrm>
            <a:off x="4371120" y="3681360"/>
            <a:ext cx="3870000" cy="2153160"/>
            <a:chOff x="4371120" y="3681360"/>
            <a:chExt cx="3870000" cy="2153160"/>
          </a:xfrm>
        </p:grpSpPr>
        <p:sp>
          <p:nvSpPr>
            <p:cNvPr id="1795" name=""/>
            <p:cNvSpPr/>
            <p:nvPr/>
          </p:nvSpPr>
          <p:spPr>
            <a:xfrm>
              <a:off x="6162480" y="3681360"/>
              <a:ext cx="32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6158520" y="5435640"/>
              <a:ext cx="32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4682880" y="4545000"/>
              <a:ext cx="287280" cy="28728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6195960" y="3752640"/>
              <a:ext cx="287280" cy="28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7708680" y="4545000"/>
              <a:ext cx="287280" cy="287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6194160" y="5481360"/>
              <a:ext cx="287280" cy="287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01" name=""/>
            <p:cNvCxnSpPr>
              <a:stCxn id="1797" idx="7"/>
              <a:endCxn id="1795" idx="1"/>
            </p:cNvCxnSpPr>
            <p:nvPr/>
          </p:nvCxnSpPr>
          <p:spPr>
            <a:xfrm flipV="1">
              <a:off x="4926960" y="3879000"/>
              <a:ext cx="1227960" cy="708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1802" name=""/>
            <p:cNvSpPr/>
            <p:nvPr/>
          </p:nvSpPr>
          <p:spPr>
            <a:xfrm>
              <a:off x="4371120" y="468936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7976520" y="4473360"/>
              <a:ext cx="26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04" name=""/>
            <p:cNvCxnSpPr>
              <a:stCxn id="1796" idx="3"/>
              <a:endCxn id="1799" idx="3"/>
            </p:cNvCxnSpPr>
            <p:nvPr/>
          </p:nvCxnSpPr>
          <p:spPr>
            <a:xfrm flipV="1">
              <a:off x="6490800" y="4789080"/>
              <a:ext cx="1261080" cy="845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805" name=""/>
            <p:cNvCxnSpPr>
              <a:stCxn id="1797" idx="5"/>
              <a:endCxn id="1800" idx="2"/>
            </p:cNvCxnSpPr>
            <p:nvPr/>
          </p:nvCxnSpPr>
          <p:spPr>
            <a:xfrm>
              <a:off x="4926960" y="4789440"/>
              <a:ext cx="1267560" cy="837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806" name=""/>
            <p:cNvCxnSpPr>
              <a:stCxn id="1795" idx="3"/>
              <a:endCxn id="1799" idx="1"/>
            </p:cNvCxnSpPr>
            <p:nvPr/>
          </p:nvCxnSpPr>
          <p:spPr>
            <a:xfrm>
              <a:off x="6495840" y="3879360"/>
              <a:ext cx="1256400" cy="708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807" name=""/>
            <p:cNvCxnSpPr>
              <a:stCxn id="1798" idx="4"/>
              <a:endCxn id="1796" idx="0"/>
            </p:cNvCxnSpPr>
            <p:nvPr/>
          </p:nvCxnSpPr>
          <p:spPr>
            <a:xfrm flipH="1">
              <a:off x="6322680" y="4039560"/>
              <a:ext cx="18000" cy="139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1808" name=""/>
            <p:cNvSpPr/>
            <p:nvPr/>
          </p:nvSpPr>
          <p:spPr>
            <a:xfrm>
              <a:off x="5127120" y="396864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5226840" y="50497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7098480" y="39686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6954120" y="51559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6253920" y="4473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3" name=""/>
          <p:cNvSpPr/>
          <p:nvPr/>
        </p:nvSpPr>
        <p:spPr>
          <a:xfrm>
            <a:off x="4027320" y="4165560"/>
            <a:ext cx="555480" cy="398880"/>
          </a:xfrm>
          <a:prstGeom prst="rect">
            <a:avLst/>
          </a:prstGeom>
          <a:noFill/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Bookman Old Style"/>
              </a:rPr>
              <a:t>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5605200" y="3300480"/>
            <a:ext cx="619560" cy="398880"/>
          </a:xfrm>
          <a:prstGeom prst="rect">
            <a:avLst/>
          </a:prstGeom>
          <a:noFill/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Bookman Old Style"/>
              </a:rPr>
              <a:t>+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5671080" y="5676840"/>
            <a:ext cx="473400" cy="398880"/>
          </a:xfrm>
          <a:prstGeom prst="rect">
            <a:avLst/>
          </a:prstGeom>
          <a:noFill/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Bookman Old Style"/>
              </a:rPr>
              <a:t>+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7879320" y="4092480"/>
            <a:ext cx="326880" cy="398880"/>
          </a:xfrm>
          <a:prstGeom prst="rect">
            <a:avLst/>
          </a:prstGeom>
          <a:noFill/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Bookman Old Style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7" name=""/>
          <p:cNvGrpSpPr/>
          <p:nvPr/>
        </p:nvGrpSpPr>
        <p:grpSpPr>
          <a:xfrm>
            <a:off x="4625280" y="4881600"/>
            <a:ext cx="326880" cy="398880"/>
            <a:chOff x="4625280" y="4881600"/>
            <a:chExt cx="326880" cy="398880"/>
          </a:xfrm>
        </p:grpSpPr>
        <p:sp>
          <p:nvSpPr>
            <p:cNvPr id="1818" name=""/>
            <p:cNvSpPr/>
            <p:nvPr/>
          </p:nvSpPr>
          <p:spPr>
            <a:xfrm>
              <a:off x="4625280" y="48816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Bookman Old Style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4643280" y="4941720"/>
              <a:ext cx="287640" cy="2876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0" name=""/>
          <p:cNvGrpSpPr/>
          <p:nvPr/>
        </p:nvGrpSpPr>
        <p:grpSpPr>
          <a:xfrm>
            <a:off x="6450840" y="5661000"/>
            <a:ext cx="326880" cy="398880"/>
            <a:chOff x="6450840" y="5661000"/>
            <a:chExt cx="326880" cy="398880"/>
          </a:xfrm>
        </p:grpSpPr>
        <p:sp>
          <p:nvSpPr>
            <p:cNvPr id="1821" name=""/>
            <p:cNvSpPr/>
            <p:nvPr/>
          </p:nvSpPr>
          <p:spPr>
            <a:xfrm>
              <a:off x="6450840" y="5661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Bookman Old Style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6468840" y="5721120"/>
              <a:ext cx="287640" cy="2876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3" name=""/>
          <p:cNvGrpSpPr/>
          <p:nvPr/>
        </p:nvGrpSpPr>
        <p:grpSpPr>
          <a:xfrm>
            <a:off x="6595200" y="3429000"/>
            <a:ext cx="326880" cy="398880"/>
            <a:chOff x="6595200" y="3429000"/>
            <a:chExt cx="326880" cy="398880"/>
          </a:xfrm>
        </p:grpSpPr>
        <p:sp>
          <p:nvSpPr>
            <p:cNvPr id="1824" name=""/>
            <p:cNvSpPr/>
            <p:nvPr/>
          </p:nvSpPr>
          <p:spPr>
            <a:xfrm>
              <a:off x="6595200" y="3429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Bookman Old Style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6613200" y="3489120"/>
              <a:ext cx="287640" cy="2876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6" name=""/>
          <p:cNvGrpSpPr/>
          <p:nvPr/>
        </p:nvGrpSpPr>
        <p:grpSpPr>
          <a:xfrm>
            <a:off x="7819200" y="4869000"/>
            <a:ext cx="326880" cy="398880"/>
            <a:chOff x="7819200" y="4869000"/>
            <a:chExt cx="326880" cy="398880"/>
          </a:xfrm>
        </p:grpSpPr>
        <p:sp>
          <p:nvSpPr>
            <p:cNvPr id="1827" name=""/>
            <p:cNvSpPr/>
            <p:nvPr/>
          </p:nvSpPr>
          <p:spPr>
            <a:xfrm>
              <a:off x="7819200" y="4869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Bookman Old Style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7837200" y="4929120"/>
              <a:ext cx="287640" cy="2876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9" name=""/>
          <p:cNvSpPr/>
          <p:nvPr/>
        </p:nvSpPr>
        <p:spPr>
          <a:xfrm>
            <a:off x="646200" y="4653000"/>
            <a:ext cx="647640" cy="431640"/>
          </a:xfrm>
          <a:prstGeom prst="rect">
            <a:avLst/>
          </a:prstGeom>
          <a:noFill/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646200" y="5373720"/>
            <a:ext cx="503280" cy="504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68B6-A7D0-463F-8CCA-C992C1C5AC5A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Push-relab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uttavia, selezionando un nodo attivo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e ponendo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 = min {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j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 + 1}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per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j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arco di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,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ttengo una nuova etichettatura valida e almeno un arco ammissibile (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relabel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3" name=""/>
          <p:cNvGrpSpPr/>
          <p:nvPr/>
        </p:nvGrpSpPr>
        <p:grpSpPr>
          <a:xfrm>
            <a:off x="699480" y="3500280"/>
            <a:ext cx="3870000" cy="2153160"/>
            <a:chOff x="699480" y="3500280"/>
            <a:chExt cx="3870000" cy="2153160"/>
          </a:xfrm>
        </p:grpSpPr>
        <p:sp>
          <p:nvSpPr>
            <p:cNvPr id="1834" name=""/>
            <p:cNvSpPr/>
            <p:nvPr/>
          </p:nvSpPr>
          <p:spPr>
            <a:xfrm>
              <a:off x="2490840" y="3500280"/>
              <a:ext cx="32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2486880" y="5254560"/>
              <a:ext cx="32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1011240" y="4363920"/>
              <a:ext cx="287280" cy="28728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2524320" y="3571560"/>
              <a:ext cx="287280" cy="28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4037040" y="4363920"/>
              <a:ext cx="287280" cy="287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2522520" y="5300280"/>
              <a:ext cx="287280" cy="287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40" name=""/>
            <p:cNvCxnSpPr>
              <a:stCxn id="1836" idx="7"/>
              <a:endCxn id="1834" idx="1"/>
            </p:cNvCxnSpPr>
            <p:nvPr/>
          </p:nvCxnSpPr>
          <p:spPr>
            <a:xfrm flipV="1">
              <a:off x="1255320" y="3697920"/>
              <a:ext cx="1227960" cy="708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1841" name=""/>
            <p:cNvSpPr/>
            <p:nvPr/>
          </p:nvSpPr>
          <p:spPr>
            <a:xfrm>
              <a:off x="699480" y="45082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4304880" y="4292280"/>
              <a:ext cx="26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43" name=""/>
            <p:cNvCxnSpPr>
              <a:stCxn id="1835" idx="3"/>
              <a:endCxn id="1838" idx="3"/>
            </p:cNvCxnSpPr>
            <p:nvPr/>
          </p:nvCxnSpPr>
          <p:spPr>
            <a:xfrm flipV="1">
              <a:off x="2819160" y="4608000"/>
              <a:ext cx="1261080" cy="845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844" name=""/>
            <p:cNvCxnSpPr>
              <a:stCxn id="1836" idx="5"/>
              <a:endCxn id="1839" idx="2"/>
            </p:cNvCxnSpPr>
            <p:nvPr/>
          </p:nvCxnSpPr>
          <p:spPr>
            <a:xfrm>
              <a:off x="1255320" y="4608360"/>
              <a:ext cx="1267560" cy="837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845" name=""/>
            <p:cNvCxnSpPr>
              <a:stCxn id="1834" idx="3"/>
              <a:endCxn id="1838" idx="1"/>
            </p:cNvCxnSpPr>
            <p:nvPr/>
          </p:nvCxnSpPr>
          <p:spPr>
            <a:xfrm>
              <a:off x="2824200" y="3698280"/>
              <a:ext cx="1256400" cy="708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846" name=""/>
            <p:cNvCxnSpPr>
              <a:stCxn id="1837" idx="4"/>
              <a:endCxn id="1835" idx="0"/>
            </p:cNvCxnSpPr>
            <p:nvPr/>
          </p:nvCxnSpPr>
          <p:spPr>
            <a:xfrm flipH="1">
              <a:off x="2651040" y="3858480"/>
              <a:ext cx="18000" cy="139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1847" name=""/>
            <p:cNvSpPr/>
            <p:nvPr/>
          </p:nvSpPr>
          <p:spPr>
            <a:xfrm>
              <a:off x="1455480" y="378756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1555200" y="48686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3426840" y="37875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3282480" y="4974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2582280" y="4292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2" name=""/>
          <p:cNvGrpSpPr/>
          <p:nvPr/>
        </p:nvGrpSpPr>
        <p:grpSpPr>
          <a:xfrm>
            <a:off x="4803120" y="3500280"/>
            <a:ext cx="3870000" cy="2153160"/>
            <a:chOff x="4803120" y="3500280"/>
            <a:chExt cx="3870000" cy="2153160"/>
          </a:xfrm>
        </p:grpSpPr>
        <p:sp>
          <p:nvSpPr>
            <p:cNvPr id="1853" name=""/>
            <p:cNvSpPr/>
            <p:nvPr/>
          </p:nvSpPr>
          <p:spPr>
            <a:xfrm>
              <a:off x="6594480" y="3500280"/>
              <a:ext cx="32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6590520" y="5254560"/>
              <a:ext cx="32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5114880" y="4363920"/>
              <a:ext cx="287280" cy="28728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6627960" y="3571560"/>
              <a:ext cx="287280" cy="28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8140680" y="4363920"/>
              <a:ext cx="287280" cy="287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6626160" y="5300280"/>
              <a:ext cx="287280" cy="287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59" name=""/>
            <p:cNvCxnSpPr>
              <a:stCxn id="1855" idx="7"/>
              <a:endCxn id="1853" idx="1"/>
            </p:cNvCxnSpPr>
            <p:nvPr/>
          </p:nvCxnSpPr>
          <p:spPr>
            <a:xfrm flipV="1">
              <a:off x="5358960" y="3697920"/>
              <a:ext cx="1227960" cy="708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lg" type="triangle" w="lg"/>
            </a:ln>
          </p:spPr>
        </p:cxnSp>
        <p:sp>
          <p:nvSpPr>
            <p:cNvPr id="1860" name=""/>
            <p:cNvSpPr/>
            <p:nvPr/>
          </p:nvSpPr>
          <p:spPr>
            <a:xfrm>
              <a:off x="4803120" y="450828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8408520" y="4292280"/>
              <a:ext cx="26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62" name=""/>
            <p:cNvCxnSpPr>
              <a:stCxn id="1854" idx="3"/>
              <a:endCxn id="1857" idx="3"/>
            </p:cNvCxnSpPr>
            <p:nvPr/>
          </p:nvCxnSpPr>
          <p:spPr>
            <a:xfrm flipV="1">
              <a:off x="6922800" y="4608000"/>
              <a:ext cx="1261080" cy="845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863" name=""/>
            <p:cNvCxnSpPr>
              <a:stCxn id="1855" idx="5"/>
              <a:endCxn id="1858" idx="2"/>
            </p:cNvCxnSpPr>
            <p:nvPr/>
          </p:nvCxnSpPr>
          <p:spPr>
            <a:xfrm>
              <a:off x="5358960" y="4608360"/>
              <a:ext cx="1267560" cy="837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lg" type="triangle" w="lg"/>
            </a:ln>
          </p:spPr>
        </p:cxnSp>
        <p:cxnSp>
          <p:nvCxnSpPr>
            <p:cNvPr id="1864" name=""/>
            <p:cNvCxnSpPr>
              <a:stCxn id="1853" idx="3"/>
              <a:endCxn id="1857" idx="1"/>
            </p:cNvCxnSpPr>
            <p:nvPr/>
          </p:nvCxnSpPr>
          <p:spPr>
            <a:xfrm>
              <a:off x="6927840" y="3698280"/>
              <a:ext cx="1256400" cy="708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865" name=""/>
            <p:cNvCxnSpPr>
              <a:stCxn id="1856" idx="4"/>
              <a:endCxn id="1854" idx="0"/>
            </p:cNvCxnSpPr>
            <p:nvPr/>
          </p:nvCxnSpPr>
          <p:spPr>
            <a:xfrm flipH="1">
              <a:off x="6754680" y="3858480"/>
              <a:ext cx="18000" cy="139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1866" name=""/>
            <p:cNvSpPr/>
            <p:nvPr/>
          </p:nvSpPr>
          <p:spPr>
            <a:xfrm>
              <a:off x="5559120" y="378756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5658840" y="48686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7530480" y="37875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7386120" y="4974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6685920" y="4292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1" name=""/>
          <p:cNvSpPr/>
          <p:nvPr/>
        </p:nvSpPr>
        <p:spPr>
          <a:xfrm>
            <a:off x="4819680" y="3860640"/>
            <a:ext cx="555480" cy="398880"/>
          </a:xfrm>
          <a:prstGeom prst="rect">
            <a:avLst/>
          </a:prstGeom>
          <a:noFill/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Bookman Old Style"/>
              </a:rPr>
              <a:t>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>
            <a:off x="6951600" y="3157560"/>
            <a:ext cx="619560" cy="398880"/>
          </a:xfrm>
          <a:prstGeom prst="rect">
            <a:avLst/>
          </a:prstGeom>
          <a:noFill/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Bookman Old Style"/>
              </a:rPr>
              <a:t>+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6887160" y="5676840"/>
            <a:ext cx="473400" cy="398880"/>
          </a:xfrm>
          <a:prstGeom prst="rect">
            <a:avLst/>
          </a:prstGeom>
          <a:noFill/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Bookman Old Style"/>
              </a:rPr>
              <a:t>+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8260560" y="3860640"/>
            <a:ext cx="326880" cy="398880"/>
          </a:xfrm>
          <a:prstGeom prst="rect">
            <a:avLst/>
          </a:prstGeom>
          <a:noFill/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Bookman Old Style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5" name=""/>
          <p:cNvGrpSpPr/>
          <p:nvPr/>
        </p:nvGrpSpPr>
        <p:grpSpPr>
          <a:xfrm>
            <a:off x="5083920" y="4724280"/>
            <a:ext cx="326880" cy="398880"/>
            <a:chOff x="5083920" y="4724280"/>
            <a:chExt cx="326880" cy="398880"/>
          </a:xfrm>
        </p:grpSpPr>
        <p:sp>
          <p:nvSpPr>
            <p:cNvPr id="1876" name=""/>
            <p:cNvSpPr/>
            <p:nvPr/>
          </p:nvSpPr>
          <p:spPr>
            <a:xfrm>
              <a:off x="5083920" y="472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Bookman Old Style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5101920" y="4784400"/>
              <a:ext cx="287640" cy="2876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8" name=""/>
          <p:cNvGrpSpPr/>
          <p:nvPr/>
        </p:nvGrpSpPr>
        <p:grpSpPr>
          <a:xfrm>
            <a:off x="6404760" y="5516640"/>
            <a:ext cx="326880" cy="398880"/>
            <a:chOff x="6404760" y="5516640"/>
            <a:chExt cx="326880" cy="398880"/>
          </a:xfrm>
        </p:grpSpPr>
        <p:sp>
          <p:nvSpPr>
            <p:cNvPr id="1879" name=""/>
            <p:cNvSpPr/>
            <p:nvPr/>
          </p:nvSpPr>
          <p:spPr>
            <a:xfrm>
              <a:off x="6404760" y="55166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Bookman Old Style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6422760" y="5576760"/>
              <a:ext cx="287640" cy="2876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1" name=""/>
          <p:cNvGrpSpPr/>
          <p:nvPr/>
        </p:nvGrpSpPr>
        <p:grpSpPr>
          <a:xfrm>
            <a:off x="6307920" y="3284640"/>
            <a:ext cx="326880" cy="398880"/>
            <a:chOff x="6307920" y="3284640"/>
            <a:chExt cx="326880" cy="398880"/>
          </a:xfrm>
        </p:grpSpPr>
        <p:sp>
          <p:nvSpPr>
            <p:cNvPr id="1882" name=""/>
            <p:cNvSpPr/>
            <p:nvPr/>
          </p:nvSpPr>
          <p:spPr>
            <a:xfrm>
              <a:off x="6307920" y="32846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Bookman Old Style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6325920" y="3344760"/>
              <a:ext cx="287640" cy="2876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4" name=""/>
          <p:cNvGrpSpPr/>
          <p:nvPr/>
        </p:nvGrpSpPr>
        <p:grpSpPr>
          <a:xfrm>
            <a:off x="8198640" y="4724280"/>
            <a:ext cx="326880" cy="398880"/>
            <a:chOff x="8198640" y="4724280"/>
            <a:chExt cx="326880" cy="398880"/>
          </a:xfrm>
        </p:grpSpPr>
        <p:sp>
          <p:nvSpPr>
            <p:cNvPr id="1885" name=""/>
            <p:cNvSpPr/>
            <p:nvPr/>
          </p:nvSpPr>
          <p:spPr>
            <a:xfrm>
              <a:off x="8198640" y="472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Bookman Old Style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8216640" y="4784400"/>
              <a:ext cx="287640" cy="2876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ECF6-10F7-4EC9-A803-141588A0EEAF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Push-relab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 questo punto posso effettuare 2 push dal nodo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una di valore 3 sull’arco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e una di valore 2 sull’arco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.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è ancora attivo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re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9" name=""/>
          <p:cNvGrpSpPr/>
          <p:nvPr/>
        </p:nvGrpSpPr>
        <p:grpSpPr>
          <a:xfrm>
            <a:off x="554760" y="3411360"/>
            <a:ext cx="3870000" cy="2153160"/>
            <a:chOff x="554760" y="3411360"/>
            <a:chExt cx="3870000" cy="2153160"/>
          </a:xfrm>
        </p:grpSpPr>
        <p:sp>
          <p:nvSpPr>
            <p:cNvPr id="1890" name=""/>
            <p:cNvSpPr/>
            <p:nvPr/>
          </p:nvSpPr>
          <p:spPr>
            <a:xfrm>
              <a:off x="2346120" y="3411360"/>
              <a:ext cx="32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2342160" y="5165640"/>
              <a:ext cx="32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866520" y="4275000"/>
              <a:ext cx="287280" cy="28728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2379600" y="3482640"/>
              <a:ext cx="287280" cy="28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3892320" y="4275000"/>
              <a:ext cx="287280" cy="287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2377800" y="5211360"/>
              <a:ext cx="287280" cy="287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96" name=""/>
            <p:cNvCxnSpPr>
              <a:stCxn id="1892" idx="7"/>
              <a:endCxn id="1890" idx="1"/>
            </p:cNvCxnSpPr>
            <p:nvPr/>
          </p:nvCxnSpPr>
          <p:spPr>
            <a:xfrm flipV="1">
              <a:off x="1110600" y="3609000"/>
              <a:ext cx="1227960" cy="708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1897" name=""/>
            <p:cNvSpPr/>
            <p:nvPr/>
          </p:nvSpPr>
          <p:spPr>
            <a:xfrm>
              <a:off x="554760" y="441936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4160160" y="4203360"/>
              <a:ext cx="26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99" name=""/>
            <p:cNvCxnSpPr>
              <a:stCxn id="1891" idx="3"/>
              <a:endCxn id="1894" idx="3"/>
            </p:cNvCxnSpPr>
            <p:nvPr/>
          </p:nvCxnSpPr>
          <p:spPr>
            <a:xfrm flipV="1">
              <a:off x="2674440" y="4519080"/>
              <a:ext cx="1261080" cy="845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900" name=""/>
            <p:cNvCxnSpPr>
              <a:stCxn id="1892" idx="5"/>
              <a:endCxn id="1895" idx="2"/>
            </p:cNvCxnSpPr>
            <p:nvPr/>
          </p:nvCxnSpPr>
          <p:spPr>
            <a:xfrm>
              <a:off x="1110600" y="4519440"/>
              <a:ext cx="1267560" cy="837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901" name=""/>
            <p:cNvCxnSpPr>
              <a:stCxn id="1890" idx="3"/>
              <a:endCxn id="1894" idx="1"/>
            </p:cNvCxnSpPr>
            <p:nvPr/>
          </p:nvCxnSpPr>
          <p:spPr>
            <a:xfrm>
              <a:off x="2679480" y="3609360"/>
              <a:ext cx="1256400" cy="708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902" name=""/>
            <p:cNvCxnSpPr>
              <a:stCxn id="1893" idx="4"/>
              <a:endCxn id="1891" idx="0"/>
            </p:cNvCxnSpPr>
            <p:nvPr/>
          </p:nvCxnSpPr>
          <p:spPr>
            <a:xfrm flipH="1">
              <a:off x="2506320" y="3769560"/>
              <a:ext cx="18000" cy="139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1903" name=""/>
            <p:cNvSpPr/>
            <p:nvPr/>
          </p:nvSpPr>
          <p:spPr>
            <a:xfrm>
              <a:off x="1310760" y="369864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1410480" y="47797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3282120" y="36986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3137760" y="48859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437560" y="4203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8" name=""/>
          <p:cNvGrpSpPr/>
          <p:nvPr/>
        </p:nvGrpSpPr>
        <p:grpSpPr>
          <a:xfrm>
            <a:off x="4658400" y="3411360"/>
            <a:ext cx="3870000" cy="2153160"/>
            <a:chOff x="4658400" y="3411360"/>
            <a:chExt cx="3870000" cy="2153160"/>
          </a:xfrm>
        </p:grpSpPr>
        <p:sp>
          <p:nvSpPr>
            <p:cNvPr id="1909" name=""/>
            <p:cNvSpPr/>
            <p:nvPr/>
          </p:nvSpPr>
          <p:spPr>
            <a:xfrm>
              <a:off x="6449760" y="3411360"/>
              <a:ext cx="32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6445800" y="5165640"/>
              <a:ext cx="32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4970160" y="4275000"/>
              <a:ext cx="287280" cy="28728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6483240" y="3482640"/>
              <a:ext cx="287280" cy="28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7995960" y="4275000"/>
              <a:ext cx="287280" cy="287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481440" y="5211360"/>
              <a:ext cx="287280" cy="287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15" name=""/>
            <p:cNvCxnSpPr>
              <a:stCxn id="1911" idx="7"/>
              <a:endCxn id="1909" idx="1"/>
            </p:cNvCxnSpPr>
            <p:nvPr/>
          </p:nvCxnSpPr>
          <p:spPr>
            <a:xfrm flipV="1">
              <a:off x="5214240" y="3609000"/>
              <a:ext cx="1227960" cy="708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lg" type="triangle" w="lg"/>
            </a:ln>
          </p:spPr>
        </p:cxnSp>
        <p:sp>
          <p:nvSpPr>
            <p:cNvPr id="1916" name=""/>
            <p:cNvSpPr/>
            <p:nvPr/>
          </p:nvSpPr>
          <p:spPr>
            <a:xfrm>
              <a:off x="4658400" y="441936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8263800" y="4203360"/>
              <a:ext cx="26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18" name=""/>
            <p:cNvCxnSpPr>
              <a:stCxn id="1910" idx="3"/>
              <a:endCxn id="1913" idx="3"/>
            </p:cNvCxnSpPr>
            <p:nvPr/>
          </p:nvCxnSpPr>
          <p:spPr>
            <a:xfrm flipV="1">
              <a:off x="6778080" y="4519080"/>
              <a:ext cx="1261080" cy="845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919" name=""/>
            <p:cNvCxnSpPr>
              <a:stCxn id="1911" idx="5"/>
              <a:endCxn id="1914" idx="2"/>
            </p:cNvCxnSpPr>
            <p:nvPr/>
          </p:nvCxnSpPr>
          <p:spPr>
            <a:xfrm>
              <a:off x="5214240" y="4519440"/>
              <a:ext cx="1267560" cy="837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lg" type="triangle" w="lg"/>
            </a:ln>
          </p:spPr>
        </p:cxnSp>
        <p:cxnSp>
          <p:nvCxnSpPr>
            <p:cNvPr id="1920" name=""/>
            <p:cNvCxnSpPr>
              <a:stCxn id="1909" idx="3"/>
              <a:endCxn id="1913" idx="1"/>
            </p:cNvCxnSpPr>
            <p:nvPr/>
          </p:nvCxnSpPr>
          <p:spPr>
            <a:xfrm>
              <a:off x="6783120" y="3609360"/>
              <a:ext cx="1256400" cy="708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lg" type="triangle" w="lg"/>
            </a:ln>
          </p:spPr>
        </p:cxnSp>
        <p:cxnSp>
          <p:nvCxnSpPr>
            <p:cNvPr id="1921" name=""/>
            <p:cNvCxnSpPr>
              <a:stCxn id="1912" idx="4"/>
              <a:endCxn id="1910" idx="0"/>
            </p:cNvCxnSpPr>
            <p:nvPr/>
          </p:nvCxnSpPr>
          <p:spPr>
            <a:xfrm flipH="1">
              <a:off x="6609960" y="3768120"/>
              <a:ext cx="18000" cy="1397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lg" type="triangle" w="lg"/>
            </a:ln>
          </p:spPr>
        </p:cxnSp>
        <p:sp>
          <p:nvSpPr>
            <p:cNvPr id="1922" name=""/>
            <p:cNvSpPr/>
            <p:nvPr/>
          </p:nvSpPr>
          <p:spPr>
            <a:xfrm>
              <a:off x="5414400" y="369864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5514120" y="47797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7385760" y="36986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7241400" y="48859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6541200" y="4203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7" name=""/>
          <p:cNvSpPr/>
          <p:nvPr/>
        </p:nvSpPr>
        <p:spPr>
          <a:xfrm>
            <a:off x="4674960" y="3772080"/>
            <a:ext cx="555480" cy="398880"/>
          </a:xfrm>
          <a:prstGeom prst="rect">
            <a:avLst/>
          </a:prstGeom>
          <a:noFill/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Bookman Old Style"/>
              </a:rPr>
              <a:t>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6801480" y="3068640"/>
            <a:ext cx="473400" cy="398880"/>
          </a:xfrm>
          <a:prstGeom prst="rect">
            <a:avLst/>
          </a:prstGeom>
          <a:noFill/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Bookman Old Style"/>
              </a:rPr>
              <a:t>+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>
            <a:off x="6742800" y="5587920"/>
            <a:ext cx="473400" cy="398880"/>
          </a:xfrm>
          <a:prstGeom prst="rect">
            <a:avLst/>
          </a:prstGeom>
          <a:noFill/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Bookman Old Style"/>
              </a:rPr>
              <a:t>+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8119080" y="3772080"/>
            <a:ext cx="473400" cy="398880"/>
          </a:xfrm>
          <a:prstGeom prst="rect">
            <a:avLst/>
          </a:prstGeom>
          <a:noFill/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Bookman Old Style"/>
              </a:rPr>
              <a:t>+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1" name=""/>
          <p:cNvGrpSpPr/>
          <p:nvPr/>
        </p:nvGrpSpPr>
        <p:grpSpPr>
          <a:xfrm>
            <a:off x="4939560" y="4635360"/>
            <a:ext cx="326880" cy="398880"/>
            <a:chOff x="4939560" y="4635360"/>
            <a:chExt cx="326880" cy="398880"/>
          </a:xfrm>
        </p:grpSpPr>
        <p:sp>
          <p:nvSpPr>
            <p:cNvPr id="1932" name=""/>
            <p:cNvSpPr/>
            <p:nvPr/>
          </p:nvSpPr>
          <p:spPr>
            <a:xfrm>
              <a:off x="4939560" y="4635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Bookman Old Style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957560" y="4695480"/>
              <a:ext cx="287640" cy="2876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4" name=""/>
          <p:cNvGrpSpPr/>
          <p:nvPr/>
        </p:nvGrpSpPr>
        <p:grpSpPr>
          <a:xfrm>
            <a:off x="6260400" y="5427720"/>
            <a:ext cx="326880" cy="398880"/>
            <a:chOff x="6260400" y="5427720"/>
            <a:chExt cx="326880" cy="398880"/>
          </a:xfrm>
        </p:grpSpPr>
        <p:sp>
          <p:nvSpPr>
            <p:cNvPr id="1935" name=""/>
            <p:cNvSpPr/>
            <p:nvPr/>
          </p:nvSpPr>
          <p:spPr>
            <a:xfrm>
              <a:off x="6260400" y="54277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Bookman Old Style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6278400" y="5487840"/>
              <a:ext cx="287640" cy="2876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7" name=""/>
          <p:cNvGrpSpPr/>
          <p:nvPr/>
        </p:nvGrpSpPr>
        <p:grpSpPr>
          <a:xfrm>
            <a:off x="6163560" y="3195720"/>
            <a:ext cx="326880" cy="398880"/>
            <a:chOff x="6163560" y="3195720"/>
            <a:chExt cx="326880" cy="398880"/>
          </a:xfrm>
        </p:grpSpPr>
        <p:sp>
          <p:nvSpPr>
            <p:cNvPr id="1938" name=""/>
            <p:cNvSpPr/>
            <p:nvPr/>
          </p:nvSpPr>
          <p:spPr>
            <a:xfrm>
              <a:off x="6163560" y="31957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Bookman Old Style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6181560" y="3255840"/>
              <a:ext cx="287640" cy="2876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0" name=""/>
          <p:cNvGrpSpPr/>
          <p:nvPr/>
        </p:nvGrpSpPr>
        <p:grpSpPr>
          <a:xfrm>
            <a:off x="8054280" y="4635360"/>
            <a:ext cx="326880" cy="398880"/>
            <a:chOff x="8054280" y="4635360"/>
            <a:chExt cx="326880" cy="398880"/>
          </a:xfrm>
        </p:grpSpPr>
        <p:sp>
          <p:nvSpPr>
            <p:cNvPr id="1941" name=""/>
            <p:cNvSpPr/>
            <p:nvPr/>
          </p:nvSpPr>
          <p:spPr>
            <a:xfrm>
              <a:off x="8054280" y="4635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Bookman Old Style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8072280" y="4695480"/>
              <a:ext cx="287640" cy="2876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3" name=""/>
          <p:cNvGrpSpPr/>
          <p:nvPr/>
        </p:nvGrpSpPr>
        <p:grpSpPr>
          <a:xfrm>
            <a:off x="5658840" y="3068640"/>
            <a:ext cx="857880" cy="431280"/>
            <a:chOff x="5658840" y="3068640"/>
            <a:chExt cx="857880" cy="431280"/>
          </a:xfrm>
        </p:grpSpPr>
        <p:sp>
          <p:nvSpPr>
            <p:cNvPr id="1944" name=""/>
            <p:cNvSpPr/>
            <p:nvPr/>
          </p:nvSpPr>
          <p:spPr>
            <a:xfrm flipV="1">
              <a:off x="6084720" y="3284280"/>
              <a:ext cx="432000" cy="215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5" name=""/>
            <p:cNvGrpSpPr/>
            <p:nvPr/>
          </p:nvGrpSpPr>
          <p:grpSpPr>
            <a:xfrm>
              <a:off x="5658840" y="3068640"/>
              <a:ext cx="326880" cy="398880"/>
              <a:chOff x="5658840" y="3068640"/>
              <a:chExt cx="326880" cy="398880"/>
            </a:xfrm>
          </p:grpSpPr>
          <p:sp>
            <p:nvSpPr>
              <p:cNvPr id="1946" name=""/>
              <p:cNvSpPr/>
              <p:nvPr/>
            </p:nvSpPr>
            <p:spPr>
              <a:xfrm>
                <a:off x="5658840" y="306864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Bookman Old Style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5676840" y="3128760"/>
                <a:ext cx="287640" cy="28764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5F2D-9509-498D-B9B7-8CB2BFEC0046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Push-relab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opo una push di 5 sull’arco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si ottiene, con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unico nodo attivo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relabel. Dopo il relabel effettuo una push di 4 su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0" name=""/>
          <p:cNvGrpSpPr/>
          <p:nvPr/>
        </p:nvGrpSpPr>
        <p:grpSpPr>
          <a:xfrm>
            <a:off x="554760" y="3411360"/>
            <a:ext cx="3870000" cy="2153160"/>
            <a:chOff x="554760" y="3411360"/>
            <a:chExt cx="3870000" cy="2153160"/>
          </a:xfrm>
        </p:grpSpPr>
        <p:sp>
          <p:nvSpPr>
            <p:cNvPr id="1951" name=""/>
            <p:cNvSpPr/>
            <p:nvPr/>
          </p:nvSpPr>
          <p:spPr>
            <a:xfrm>
              <a:off x="2346120" y="3411360"/>
              <a:ext cx="32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2342160" y="5165640"/>
              <a:ext cx="32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866520" y="4275000"/>
              <a:ext cx="287280" cy="28728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2379600" y="3482640"/>
              <a:ext cx="287280" cy="28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3892320" y="4275000"/>
              <a:ext cx="287280" cy="287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2377800" y="5211360"/>
              <a:ext cx="287280" cy="287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57" name=""/>
            <p:cNvCxnSpPr>
              <a:stCxn id="1953" idx="7"/>
              <a:endCxn id="1951" idx="1"/>
            </p:cNvCxnSpPr>
            <p:nvPr/>
          </p:nvCxnSpPr>
          <p:spPr>
            <a:xfrm flipV="1">
              <a:off x="1110600" y="3609000"/>
              <a:ext cx="1227960" cy="708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1958" name=""/>
            <p:cNvSpPr/>
            <p:nvPr/>
          </p:nvSpPr>
          <p:spPr>
            <a:xfrm>
              <a:off x="554760" y="441936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4160160" y="4203360"/>
              <a:ext cx="26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0" name=""/>
            <p:cNvCxnSpPr>
              <a:stCxn id="1952" idx="3"/>
              <a:endCxn id="1955" idx="3"/>
            </p:cNvCxnSpPr>
            <p:nvPr/>
          </p:nvCxnSpPr>
          <p:spPr>
            <a:xfrm flipV="1">
              <a:off x="2674440" y="4519080"/>
              <a:ext cx="1261080" cy="845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961" name=""/>
            <p:cNvCxnSpPr>
              <a:stCxn id="1953" idx="5"/>
              <a:endCxn id="1956" idx="2"/>
            </p:cNvCxnSpPr>
            <p:nvPr/>
          </p:nvCxnSpPr>
          <p:spPr>
            <a:xfrm>
              <a:off x="1110600" y="4519440"/>
              <a:ext cx="1267560" cy="837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962" name=""/>
            <p:cNvCxnSpPr>
              <a:stCxn id="1951" idx="3"/>
              <a:endCxn id="1955" idx="1"/>
            </p:cNvCxnSpPr>
            <p:nvPr/>
          </p:nvCxnSpPr>
          <p:spPr>
            <a:xfrm>
              <a:off x="2679480" y="3609360"/>
              <a:ext cx="1256400" cy="708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1963" name=""/>
            <p:cNvCxnSpPr>
              <a:stCxn id="1954" idx="4"/>
              <a:endCxn id="1952" idx="0"/>
            </p:cNvCxnSpPr>
            <p:nvPr/>
          </p:nvCxnSpPr>
          <p:spPr>
            <a:xfrm flipH="1">
              <a:off x="2506320" y="3769560"/>
              <a:ext cx="18000" cy="139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1964" name=""/>
            <p:cNvSpPr/>
            <p:nvPr/>
          </p:nvSpPr>
          <p:spPr>
            <a:xfrm>
              <a:off x="1305720" y="36986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1410480" y="47797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3282120" y="36986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3137760" y="48859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2437560" y="4203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9" name=""/>
          <p:cNvSpPr/>
          <p:nvPr/>
        </p:nvSpPr>
        <p:spPr>
          <a:xfrm>
            <a:off x="6450120" y="341136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>
            <a:off x="6446160" y="516564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"/>
          <p:cNvSpPr/>
          <p:nvPr/>
        </p:nvSpPr>
        <p:spPr>
          <a:xfrm>
            <a:off x="4970520" y="4275000"/>
            <a:ext cx="287280" cy="28764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/>
          <p:nvPr/>
        </p:nvSpPr>
        <p:spPr>
          <a:xfrm>
            <a:off x="6483240" y="3483000"/>
            <a:ext cx="28728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>
            <a:off x="7996320" y="4275000"/>
            <a:ext cx="28728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>
            <a:off x="6481800" y="5211720"/>
            <a:ext cx="28728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>
            <a:off x="4658400" y="441972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>
            <a:off x="8263800" y="4203720"/>
            <a:ext cx="26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7" name=""/>
          <p:cNvCxnSpPr>
            <a:stCxn id="1970" idx="3"/>
            <a:endCxn id="1973" idx="3"/>
          </p:cNvCxnSpPr>
          <p:nvPr/>
        </p:nvCxnSpPr>
        <p:spPr>
          <a:xfrm flipV="1">
            <a:off x="6778440" y="4519080"/>
            <a:ext cx="1261080" cy="84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978" name=""/>
          <p:cNvCxnSpPr>
            <a:stCxn id="1971" idx="5"/>
            <a:endCxn id="1974" idx="2"/>
          </p:cNvCxnSpPr>
          <p:nvPr/>
        </p:nvCxnSpPr>
        <p:spPr>
          <a:xfrm>
            <a:off x="5214600" y="4519440"/>
            <a:ext cx="1267560" cy="83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</p:cxnSp>
      <p:cxnSp>
        <p:nvCxnSpPr>
          <p:cNvPr id="1979" name=""/>
          <p:cNvCxnSpPr>
            <a:stCxn id="1969" idx="3"/>
            <a:endCxn id="1973" idx="1"/>
          </p:cNvCxnSpPr>
          <p:nvPr/>
        </p:nvCxnSpPr>
        <p:spPr>
          <a:xfrm>
            <a:off x="6783480" y="3610080"/>
            <a:ext cx="1256400" cy="708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</p:cxnSp>
      <p:cxnSp>
        <p:nvCxnSpPr>
          <p:cNvPr id="1980" name=""/>
          <p:cNvCxnSpPr>
            <a:stCxn id="1972" idx="4"/>
            <a:endCxn id="1970" idx="0"/>
          </p:cNvCxnSpPr>
          <p:nvPr/>
        </p:nvCxnSpPr>
        <p:spPr>
          <a:xfrm flipH="1">
            <a:off x="6609600" y="3768840"/>
            <a:ext cx="18360" cy="1397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</p:cxnSp>
      <p:sp>
        <p:nvSpPr>
          <p:cNvPr id="1981" name=""/>
          <p:cNvSpPr/>
          <p:nvPr/>
        </p:nvSpPr>
        <p:spPr>
          <a:xfrm>
            <a:off x="5514120" y="47800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7385760" y="3699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>
            <a:off x="7241400" y="48862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>
            <a:off x="6541200" y="42037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"/>
          <p:cNvSpPr/>
          <p:nvPr/>
        </p:nvSpPr>
        <p:spPr>
          <a:xfrm>
            <a:off x="4459320" y="3772080"/>
            <a:ext cx="555480" cy="398880"/>
          </a:xfrm>
          <a:prstGeom prst="rect">
            <a:avLst/>
          </a:prstGeom>
          <a:noFill/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Bookman Old Style"/>
              </a:rPr>
              <a:t>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"/>
          <p:cNvSpPr/>
          <p:nvPr/>
        </p:nvSpPr>
        <p:spPr>
          <a:xfrm>
            <a:off x="6798240" y="3068640"/>
            <a:ext cx="326880" cy="398880"/>
          </a:xfrm>
          <a:prstGeom prst="rect">
            <a:avLst/>
          </a:prstGeom>
          <a:noFill/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Bookman Old Style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"/>
          <p:cNvSpPr/>
          <p:nvPr/>
        </p:nvSpPr>
        <p:spPr>
          <a:xfrm>
            <a:off x="6742800" y="5587920"/>
            <a:ext cx="473400" cy="398880"/>
          </a:xfrm>
          <a:prstGeom prst="rect">
            <a:avLst/>
          </a:prstGeom>
          <a:noFill/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Bookman Old Style"/>
              </a:rPr>
              <a:t>+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"/>
          <p:cNvSpPr/>
          <p:nvPr/>
        </p:nvSpPr>
        <p:spPr>
          <a:xfrm>
            <a:off x="8119080" y="3772080"/>
            <a:ext cx="473400" cy="398880"/>
          </a:xfrm>
          <a:prstGeom prst="rect">
            <a:avLst/>
          </a:prstGeom>
          <a:noFill/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Bookman Old Style"/>
              </a:rPr>
              <a:t>+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9" name=""/>
          <p:cNvGrpSpPr/>
          <p:nvPr/>
        </p:nvGrpSpPr>
        <p:grpSpPr>
          <a:xfrm>
            <a:off x="4939560" y="4635360"/>
            <a:ext cx="326880" cy="398880"/>
            <a:chOff x="4939560" y="4635360"/>
            <a:chExt cx="326880" cy="398880"/>
          </a:xfrm>
        </p:grpSpPr>
        <p:sp>
          <p:nvSpPr>
            <p:cNvPr id="1990" name=""/>
            <p:cNvSpPr/>
            <p:nvPr/>
          </p:nvSpPr>
          <p:spPr>
            <a:xfrm>
              <a:off x="4939560" y="4635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Bookman Old Style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4957560" y="4695480"/>
              <a:ext cx="287640" cy="2876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2" name=""/>
          <p:cNvGrpSpPr/>
          <p:nvPr/>
        </p:nvGrpSpPr>
        <p:grpSpPr>
          <a:xfrm>
            <a:off x="6260400" y="5427720"/>
            <a:ext cx="326880" cy="398880"/>
            <a:chOff x="6260400" y="5427720"/>
            <a:chExt cx="326880" cy="398880"/>
          </a:xfrm>
        </p:grpSpPr>
        <p:sp>
          <p:nvSpPr>
            <p:cNvPr id="1993" name=""/>
            <p:cNvSpPr/>
            <p:nvPr/>
          </p:nvSpPr>
          <p:spPr>
            <a:xfrm>
              <a:off x="6260400" y="54277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Bookman Old Style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6278400" y="5487840"/>
              <a:ext cx="287640" cy="2876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5" name=""/>
          <p:cNvGrpSpPr/>
          <p:nvPr/>
        </p:nvGrpSpPr>
        <p:grpSpPr>
          <a:xfrm>
            <a:off x="6398640" y="2997360"/>
            <a:ext cx="326880" cy="398880"/>
            <a:chOff x="6398640" y="2997360"/>
            <a:chExt cx="326880" cy="398880"/>
          </a:xfrm>
        </p:grpSpPr>
        <p:sp>
          <p:nvSpPr>
            <p:cNvPr id="1996" name=""/>
            <p:cNvSpPr/>
            <p:nvPr/>
          </p:nvSpPr>
          <p:spPr>
            <a:xfrm>
              <a:off x="6398640" y="2997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Bookman Old Style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6416640" y="3057480"/>
              <a:ext cx="287640" cy="2876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8" name=""/>
          <p:cNvGrpSpPr/>
          <p:nvPr/>
        </p:nvGrpSpPr>
        <p:grpSpPr>
          <a:xfrm>
            <a:off x="8054280" y="4635360"/>
            <a:ext cx="326880" cy="398880"/>
            <a:chOff x="8054280" y="4635360"/>
            <a:chExt cx="326880" cy="398880"/>
          </a:xfrm>
        </p:grpSpPr>
        <p:sp>
          <p:nvSpPr>
            <p:cNvPr id="1999" name=""/>
            <p:cNvSpPr/>
            <p:nvPr/>
          </p:nvSpPr>
          <p:spPr>
            <a:xfrm>
              <a:off x="8054280" y="4635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Bookman Old Style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8072280" y="4695480"/>
              <a:ext cx="287640" cy="2876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001" name=""/>
          <p:cNvCxnSpPr>
            <a:stCxn id="1971" idx="0"/>
            <a:endCxn id="1972" idx="2"/>
          </p:cNvCxnSpPr>
          <p:nvPr/>
        </p:nvCxnSpPr>
        <p:spPr>
          <a:xfrm flipH="1" flipV="1" rot="5400000">
            <a:off x="5474880" y="3266280"/>
            <a:ext cx="648360" cy="13690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</p:cxnSp>
      <p:cxnSp>
        <p:nvCxnSpPr>
          <p:cNvPr id="2002" name=""/>
          <p:cNvCxnSpPr>
            <a:stCxn id="1971" idx="6"/>
            <a:endCxn id="1972" idx="3"/>
          </p:cNvCxnSpPr>
          <p:nvPr/>
        </p:nvCxnSpPr>
        <p:spPr>
          <a:xfrm flipV="1">
            <a:off x="5257440" y="3726720"/>
            <a:ext cx="1269000" cy="6930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003" name=""/>
          <p:cNvSpPr/>
          <p:nvPr/>
        </p:nvSpPr>
        <p:spPr>
          <a:xfrm>
            <a:off x="5587200" y="33577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"/>
          <p:cNvSpPr/>
          <p:nvPr/>
        </p:nvSpPr>
        <p:spPr>
          <a:xfrm>
            <a:off x="5822280" y="42559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5" name=""/>
          <p:cNvGrpSpPr/>
          <p:nvPr/>
        </p:nvGrpSpPr>
        <p:grpSpPr>
          <a:xfrm>
            <a:off x="5801400" y="5300640"/>
            <a:ext cx="857880" cy="431280"/>
            <a:chOff x="5801400" y="5300640"/>
            <a:chExt cx="857880" cy="431280"/>
          </a:xfrm>
        </p:grpSpPr>
        <p:sp>
          <p:nvSpPr>
            <p:cNvPr id="2006" name=""/>
            <p:cNvSpPr/>
            <p:nvPr/>
          </p:nvSpPr>
          <p:spPr>
            <a:xfrm flipV="1">
              <a:off x="6227280" y="5516280"/>
              <a:ext cx="432000" cy="215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7" name=""/>
            <p:cNvGrpSpPr/>
            <p:nvPr/>
          </p:nvGrpSpPr>
          <p:grpSpPr>
            <a:xfrm>
              <a:off x="5801400" y="5300640"/>
              <a:ext cx="326880" cy="398880"/>
              <a:chOff x="5801400" y="5300640"/>
              <a:chExt cx="326880" cy="398880"/>
            </a:xfrm>
          </p:grpSpPr>
          <p:sp>
            <p:nvSpPr>
              <p:cNvPr id="2008" name=""/>
              <p:cNvSpPr/>
              <p:nvPr/>
            </p:nvSpPr>
            <p:spPr>
              <a:xfrm>
                <a:off x="5801400" y="530064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Bookman Old Style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5819400" y="5360760"/>
                <a:ext cx="287640" cy="28764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C690-CDD2-4696-A7A5-1AED54A7D4C0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Push-relab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desso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è ancora attivo ma non c’è un arco attivo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relabel. A questo punto si effettua una push di valore 5 su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2" name=""/>
          <p:cNvGrpSpPr/>
          <p:nvPr/>
        </p:nvGrpSpPr>
        <p:grpSpPr>
          <a:xfrm>
            <a:off x="554760" y="3411360"/>
            <a:ext cx="3870000" cy="2153160"/>
            <a:chOff x="554760" y="3411360"/>
            <a:chExt cx="3870000" cy="2153160"/>
          </a:xfrm>
        </p:grpSpPr>
        <p:sp>
          <p:nvSpPr>
            <p:cNvPr id="2013" name=""/>
            <p:cNvSpPr/>
            <p:nvPr/>
          </p:nvSpPr>
          <p:spPr>
            <a:xfrm>
              <a:off x="2346120" y="3411360"/>
              <a:ext cx="32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2342160" y="5165640"/>
              <a:ext cx="32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866520" y="4275000"/>
              <a:ext cx="287280" cy="28728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2379600" y="3482640"/>
              <a:ext cx="287280" cy="28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3892320" y="4275000"/>
              <a:ext cx="287280" cy="287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2377800" y="5211360"/>
              <a:ext cx="287280" cy="287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19" name=""/>
            <p:cNvCxnSpPr>
              <a:stCxn id="2015" idx="7"/>
              <a:endCxn id="2013" idx="1"/>
            </p:cNvCxnSpPr>
            <p:nvPr/>
          </p:nvCxnSpPr>
          <p:spPr>
            <a:xfrm flipV="1">
              <a:off x="1110600" y="3609000"/>
              <a:ext cx="1227960" cy="708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2020" name=""/>
            <p:cNvSpPr/>
            <p:nvPr/>
          </p:nvSpPr>
          <p:spPr>
            <a:xfrm>
              <a:off x="554760" y="441936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4160160" y="4203360"/>
              <a:ext cx="26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22" name=""/>
            <p:cNvCxnSpPr>
              <a:stCxn id="2014" idx="3"/>
              <a:endCxn id="2017" idx="3"/>
            </p:cNvCxnSpPr>
            <p:nvPr/>
          </p:nvCxnSpPr>
          <p:spPr>
            <a:xfrm flipV="1">
              <a:off x="2674440" y="4519080"/>
              <a:ext cx="1261080" cy="845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2023" name=""/>
            <p:cNvCxnSpPr>
              <a:stCxn id="2015" idx="5"/>
              <a:endCxn id="2018" idx="2"/>
            </p:cNvCxnSpPr>
            <p:nvPr/>
          </p:nvCxnSpPr>
          <p:spPr>
            <a:xfrm>
              <a:off x="1110600" y="4519440"/>
              <a:ext cx="1267560" cy="837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2024" name=""/>
            <p:cNvCxnSpPr>
              <a:stCxn id="2013" idx="3"/>
              <a:endCxn id="2017" idx="1"/>
            </p:cNvCxnSpPr>
            <p:nvPr/>
          </p:nvCxnSpPr>
          <p:spPr>
            <a:xfrm>
              <a:off x="2679480" y="3609360"/>
              <a:ext cx="1256400" cy="708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2025" name=""/>
            <p:cNvCxnSpPr>
              <a:stCxn id="2016" idx="4"/>
              <a:endCxn id="2014" idx="0"/>
            </p:cNvCxnSpPr>
            <p:nvPr/>
          </p:nvCxnSpPr>
          <p:spPr>
            <a:xfrm flipH="1">
              <a:off x="2506320" y="3769560"/>
              <a:ext cx="18000" cy="139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2026" name=""/>
            <p:cNvSpPr/>
            <p:nvPr/>
          </p:nvSpPr>
          <p:spPr>
            <a:xfrm>
              <a:off x="1305720" y="36986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1410480" y="47797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3282120" y="36986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3137760" y="48859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2437560" y="4203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1" name=""/>
          <p:cNvSpPr/>
          <p:nvPr/>
        </p:nvSpPr>
        <p:spPr>
          <a:xfrm>
            <a:off x="6450120" y="341136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"/>
          <p:cNvSpPr/>
          <p:nvPr/>
        </p:nvSpPr>
        <p:spPr>
          <a:xfrm>
            <a:off x="6446160" y="516564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"/>
          <p:cNvSpPr/>
          <p:nvPr/>
        </p:nvSpPr>
        <p:spPr>
          <a:xfrm>
            <a:off x="4970520" y="4275000"/>
            <a:ext cx="287280" cy="28764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"/>
          <p:cNvSpPr/>
          <p:nvPr/>
        </p:nvSpPr>
        <p:spPr>
          <a:xfrm>
            <a:off x="6483240" y="3483000"/>
            <a:ext cx="28728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"/>
          <p:cNvSpPr/>
          <p:nvPr/>
        </p:nvSpPr>
        <p:spPr>
          <a:xfrm>
            <a:off x="7996320" y="4275000"/>
            <a:ext cx="28728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"/>
          <p:cNvSpPr/>
          <p:nvPr/>
        </p:nvSpPr>
        <p:spPr>
          <a:xfrm>
            <a:off x="6481800" y="5211720"/>
            <a:ext cx="28728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>
            <a:off x="4658400" y="441972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>
            <a:off x="8263800" y="4203720"/>
            <a:ext cx="26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9" name=""/>
          <p:cNvCxnSpPr>
            <a:stCxn id="2032" idx="3"/>
            <a:endCxn id="2035" idx="3"/>
          </p:cNvCxnSpPr>
          <p:nvPr/>
        </p:nvCxnSpPr>
        <p:spPr>
          <a:xfrm flipV="1">
            <a:off x="6778440" y="4519080"/>
            <a:ext cx="1261080" cy="84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</p:cxnSp>
      <p:cxnSp>
        <p:nvCxnSpPr>
          <p:cNvPr id="2040" name=""/>
          <p:cNvCxnSpPr>
            <a:stCxn id="2033" idx="5"/>
            <a:endCxn id="2036" idx="2"/>
          </p:cNvCxnSpPr>
          <p:nvPr/>
        </p:nvCxnSpPr>
        <p:spPr>
          <a:xfrm>
            <a:off x="5214600" y="4519440"/>
            <a:ext cx="1267560" cy="83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</p:cxnSp>
      <p:cxnSp>
        <p:nvCxnSpPr>
          <p:cNvPr id="2041" name=""/>
          <p:cNvCxnSpPr>
            <a:stCxn id="2031" idx="3"/>
            <a:endCxn id="2035" idx="1"/>
          </p:cNvCxnSpPr>
          <p:nvPr/>
        </p:nvCxnSpPr>
        <p:spPr>
          <a:xfrm>
            <a:off x="6783480" y="3610080"/>
            <a:ext cx="1256400" cy="708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</p:cxnSp>
      <p:cxnSp>
        <p:nvCxnSpPr>
          <p:cNvPr id="2042" name=""/>
          <p:cNvCxnSpPr>
            <a:stCxn id="2034" idx="4"/>
            <a:endCxn id="2032" idx="0"/>
          </p:cNvCxnSpPr>
          <p:nvPr/>
        </p:nvCxnSpPr>
        <p:spPr>
          <a:xfrm flipH="1">
            <a:off x="6609600" y="3768840"/>
            <a:ext cx="18360" cy="1397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</p:cxnSp>
      <p:sp>
        <p:nvSpPr>
          <p:cNvPr id="2043" name=""/>
          <p:cNvSpPr/>
          <p:nvPr/>
        </p:nvSpPr>
        <p:spPr>
          <a:xfrm>
            <a:off x="5514120" y="47800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>
            <a:off x="7385760" y="3699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>
            <a:off x="7241400" y="48862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6541200" y="42037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4459320" y="3772080"/>
            <a:ext cx="555480" cy="398880"/>
          </a:xfrm>
          <a:prstGeom prst="rect">
            <a:avLst/>
          </a:prstGeom>
          <a:noFill/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Bookman Old Style"/>
              </a:rPr>
              <a:t>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6798240" y="3068640"/>
            <a:ext cx="326880" cy="398880"/>
          </a:xfrm>
          <a:prstGeom prst="rect">
            <a:avLst/>
          </a:prstGeom>
          <a:noFill/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Bookman Old Style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>
            <a:off x="6742800" y="5587920"/>
            <a:ext cx="473400" cy="398880"/>
          </a:xfrm>
          <a:prstGeom prst="rect">
            <a:avLst/>
          </a:prstGeom>
          <a:noFill/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Bookman Old Style"/>
              </a:rPr>
              <a:t>+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>
            <a:off x="8119080" y="3772080"/>
            <a:ext cx="473400" cy="398880"/>
          </a:xfrm>
          <a:prstGeom prst="rect">
            <a:avLst/>
          </a:prstGeom>
          <a:noFill/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Bookman Old Style"/>
              </a:rPr>
              <a:t>+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1" name=""/>
          <p:cNvGrpSpPr/>
          <p:nvPr/>
        </p:nvGrpSpPr>
        <p:grpSpPr>
          <a:xfrm>
            <a:off x="4939560" y="4635360"/>
            <a:ext cx="326880" cy="398880"/>
            <a:chOff x="4939560" y="4635360"/>
            <a:chExt cx="326880" cy="398880"/>
          </a:xfrm>
        </p:grpSpPr>
        <p:sp>
          <p:nvSpPr>
            <p:cNvPr id="2052" name=""/>
            <p:cNvSpPr/>
            <p:nvPr/>
          </p:nvSpPr>
          <p:spPr>
            <a:xfrm>
              <a:off x="4939560" y="4635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Bookman Old Style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4957560" y="4695480"/>
              <a:ext cx="287640" cy="2876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4" name=""/>
          <p:cNvGrpSpPr/>
          <p:nvPr/>
        </p:nvGrpSpPr>
        <p:grpSpPr>
          <a:xfrm>
            <a:off x="6260400" y="5427720"/>
            <a:ext cx="326880" cy="398880"/>
            <a:chOff x="6260400" y="5427720"/>
            <a:chExt cx="326880" cy="398880"/>
          </a:xfrm>
        </p:grpSpPr>
        <p:sp>
          <p:nvSpPr>
            <p:cNvPr id="2055" name=""/>
            <p:cNvSpPr/>
            <p:nvPr/>
          </p:nvSpPr>
          <p:spPr>
            <a:xfrm>
              <a:off x="6260400" y="54277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Bookman Old Style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6278400" y="5487840"/>
              <a:ext cx="287640" cy="2876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7" name=""/>
          <p:cNvGrpSpPr/>
          <p:nvPr/>
        </p:nvGrpSpPr>
        <p:grpSpPr>
          <a:xfrm>
            <a:off x="6398640" y="2997360"/>
            <a:ext cx="326880" cy="398880"/>
            <a:chOff x="6398640" y="2997360"/>
            <a:chExt cx="326880" cy="398880"/>
          </a:xfrm>
        </p:grpSpPr>
        <p:sp>
          <p:nvSpPr>
            <p:cNvPr id="2058" name=""/>
            <p:cNvSpPr/>
            <p:nvPr/>
          </p:nvSpPr>
          <p:spPr>
            <a:xfrm>
              <a:off x="6398640" y="2997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Bookman Old Style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6416640" y="3057480"/>
              <a:ext cx="287640" cy="2876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0" name=""/>
          <p:cNvGrpSpPr/>
          <p:nvPr/>
        </p:nvGrpSpPr>
        <p:grpSpPr>
          <a:xfrm>
            <a:off x="8054280" y="4635360"/>
            <a:ext cx="326880" cy="398880"/>
            <a:chOff x="8054280" y="4635360"/>
            <a:chExt cx="326880" cy="398880"/>
          </a:xfrm>
        </p:grpSpPr>
        <p:sp>
          <p:nvSpPr>
            <p:cNvPr id="2061" name=""/>
            <p:cNvSpPr/>
            <p:nvPr/>
          </p:nvSpPr>
          <p:spPr>
            <a:xfrm>
              <a:off x="8054280" y="4635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Bookman Old Style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8072280" y="4695480"/>
              <a:ext cx="287640" cy="2876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063" name=""/>
          <p:cNvCxnSpPr>
            <a:stCxn id="2033" idx="0"/>
            <a:endCxn id="2034" idx="2"/>
          </p:cNvCxnSpPr>
          <p:nvPr/>
        </p:nvCxnSpPr>
        <p:spPr>
          <a:xfrm flipH="1" flipV="1" rot="5400000">
            <a:off x="5474880" y="3266280"/>
            <a:ext cx="648360" cy="13690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</p:cxnSp>
      <p:cxnSp>
        <p:nvCxnSpPr>
          <p:cNvPr id="2064" name=""/>
          <p:cNvCxnSpPr>
            <a:stCxn id="2033" idx="6"/>
            <a:endCxn id="2034" idx="3"/>
          </p:cNvCxnSpPr>
          <p:nvPr/>
        </p:nvCxnSpPr>
        <p:spPr>
          <a:xfrm flipV="1">
            <a:off x="5257440" y="3726720"/>
            <a:ext cx="1269000" cy="6930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065" name=""/>
          <p:cNvSpPr/>
          <p:nvPr/>
        </p:nvSpPr>
        <p:spPr>
          <a:xfrm>
            <a:off x="5587200" y="33577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"/>
          <p:cNvSpPr/>
          <p:nvPr/>
        </p:nvSpPr>
        <p:spPr>
          <a:xfrm>
            <a:off x="5822280" y="42559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7" name=""/>
          <p:cNvGrpSpPr/>
          <p:nvPr/>
        </p:nvGrpSpPr>
        <p:grpSpPr>
          <a:xfrm>
            <a:off x="5801400" y="5300640"/>
            <a:ext cx="857880" cy="431280"/>
            <a:chOff x="5801400" y="5300640"/>
            <a:chExt cx="857880" cy="431280"/>
          </a:xfrm>
        </p:grpSpPr>
        <p:sp>
          <p:nvSpPr>
            <p:cNvPr id="2068" name=""/>
            <p:cNvSpPr/>
            <p:nvPr/>
          </p:nvSpPr>
          <p:spPr>
            <a:xfrm flipV="1">
              <a:off x="6227280" y="5516280"/>
              <a:ext cx="432000" cy="215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9" name=""/>
            <p:cNvGrpSpPr/>
            <p:nvPr/>
          </p:nvGrpSpPr>
          <p:grpSpPr>
            <a:xfrm>
              <a:off x="5801400" y="5300640"/>
              <a:ext cx="326880" cy="398880"/>
              <a:chOff x="5801400" y="5300640"/>
              <a:chExt cx="326880" cy="398880"/>
            </a:xfrm>
          </p:grpSpPr>
          <p:sp>
            <p:nvSpPr>
              <p:cNvPr id="2070" name=""/>
              <p:cNvSpPr/>
              <p:nvPr/>
            </p:nvSpPr>
            <p:spPr>
              <a:xfrm>
                <a:off x="5801400" y="530064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Bookman Old Style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5819400" y="5360760"/>
                <a:ext cx="287640" cy="28764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6A5A-2610-4A17-B39D-511D887E13D4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476360" y="456876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508720" y="4568760"/>
            <a:ext cx="215640" cy="21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56000" y="3705120"/>
            <a:ext cx="21564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211640" y="370512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557440" y="52894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213080" y="528948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5" name=""/>
          <p:cNvCxnSpPr>
            <a:stCxn id="199" idx="7"/>
            <a:endCxn id="201" idx="2"/>
          </p:cNvCxnSpPr>
          <p:nvPr/>
        </p:nvCxnSpPr>
        <p:spPr>
          <a:xfrm flipV="1">
            <a:off x="1660320" y="3812400"/>
            <a:ext cx="896040" cy="788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199" idx="5"/>
            <a:endCxn id="203" idx="2"/>
          </p:cNvCxnSpPr>
          <p:nvPr/>
        </p:nvCxnSpPr>
        <p:spPr>
          <a:xfrm>
            <a:off x="1660320" y="4753080"/>
            <a:ext cx="897480" cy="64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"/>
          <p:cNvCxnSpPr>
            <a:stCxn id="201" idx="6"/>
            <a:endCxn id="202" idx="2"/>
          </p:cNvCxnSpPr>
          <p:nvPr/>
        </p:nvCxnSpPr>
        <p:spPr>
          <a:xfrm>
            <a:off x="2771640" y="3812760"/>
            <a:ext cx="144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"/>
          <p:cNvCxnSpPr>
            <a:stCxn id="202" idx="6"/>
            <a:endCxn id="200" idx="1"/>
          </p:cNvCxnSpPr>
          <p:nvPr/>
        </p:nvCxnSpPr>
        <p:spPr>
          <a:xfrm>
            <a:off x="4427280" y="3812760"/>
            <a:ext cx="1113120" cy="788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"/>
          <p:cNvCxnSpPr>
            <a:stCxn id="203" idx="6"/>
            <a:endCxn id="204" idx="2"/>
          </p:cNvCxnSpPr>
          <p:nvPr/>
        </p:nvCxnSpPr>
        <p:spPr>
          <a:xfrm>
            <a:off x="2773080" y="5397120"/>
            <a:ext cx="144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4" idx="6"/>
            <a:endCxn id="200" idx="3"/>
          </p:cNvCxnSpPr>
          <p:nvPr/>
        </p:nvCxnSpPr>
        <p:spPr>
          <a:xfrm flipV="1">
            <a:off x="4428720" y="4752720"/>
            <a:ext cx="1112040" cy="64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"/>
          <p:cNvCxnSpPr>
            <a:stCxn id="201" idx="4"/>
            <a:endCxn id="203" idx="0"/>
          </p:cNvCxnSpPr>
          <p:nvPr/>
        </p:nvCxnSpPr>
        <p:spPr>
          <a:xfrm>
            <a:off x="2664000" y="3920760"/>
            <a:ext cx="2160" cy="136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"/>
          <p:cNvCxnSpPr>
            <a:stCxn id="204" idx="0"/>
            <a:endCxn id="202" idx="4"/>
          </p:cNvCxnSpPr>
          <p:nvPr/>
        </p:nvCxnSpPr>
        <p:spPr>
          <a:xfrm flipH="1" flipV="1">
            <a:off x="4319280" y="3920400"/>
            <a:ext cx="2160" cy="136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"/>
          <p:cNvSpPr/>
          <p:nvPr/>
        </p:nvSpPr>
        <p:spPr>
          <a:xfrm>
            <a:off x="1434960" y="3927600"/>
            <a:ext cx="6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01320" y="470700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706360" y="46404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346840" y="3429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24680" y="3424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635560" y="5432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312080" y="5438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341520" y="3416400"/>
            <a:ext cx="6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842120" y="51498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180600" y="54324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07440" y="5073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892760" y="3843360"/>
            <a:ext cx="6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291560" y="4417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701080" y="432432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ookman Old Style"/>
              </a:rPr>
              <a:t>+</a:t>
            </a:r>
            <a:r>
              <a:rPr b="0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semp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1660320" y="3812400"/>
            <a:ext cx="3879720" cy="788040"/>
            <a:chOff x="1660320" y="3812400"/>
            <a:chExt cx="3879720" cy="788040"/>
          </a:xfrm>
        </p:grpSpPr>
        <p:cxnSp>
          <p:nvCxnSpPr>
            <p:cNvPr id="229" name=""/>
            <p:cNvCxnSpPr/>
            <p:nvPr/>
          </p:nvCxnSpPr>
          <p:spPr>
            <a:xfrm flipV="1">
              <a:off x="1660320" y="3812400"/>
              <a:ext cx="896040" cy="788040"/>
            </a:xfrm>
            <a:prstGeom prst="straightConnector1">
              <a:avLst/>
            </a:prstGeom>
            <a:ln w="38160">
              <a:solidFill>
                <a:srgbClr val="00cc00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/>
            <p:nvPr/>
          </p:nvCxnSpPr>
          <p:spPr>
            <a:xfrm>
              <a:off x="2771640" y="3812760"/>
              <a:ext cx="1440360" cy="1080"/>
            </a:xfrm>
            <a:prstGeom prst="straightConnector1">
              <a:avLst/>
            </a:prstGeom>
            <a:ln w="38160">
              <a:solidFill>
                <a:srgbClr val="00cc00"/>
              </a:solidFill>
              <a:miter/>
              <a:tailEnd len="med" type="triangle" w="med"/>
            </a:ln>
          </p:spPr>
        </p:cxnSp>
        <p:cxnSp>
          <p:nvCxnSpPr>
            <p:cNvPr id="231" name=""/>
            <p:cNvCxnSpPr/>
            <p:nvPr/>
          </p:nvCxnSpPr>
          <p:spPr>
            <a:xfrm>
              <a:off x="4427280" y="3812760"/>
              <a:ext cx="1113120" cy="788040"/>
            </a:xfrm>
            <a:prstGeom prst="straightConnector1">
              <a:avLst/>
            </a:prstGeom>
            <a:ln w="38160">
              <a:solidFill>
                <a:srgbClr val="00cc00"/>
              </a:solidFill>
              <a:miter/>
              <a:tailEnd len="med" type="triangle" w="med"/>
            </a:ln>
          </p:spPr>
        </p:cxnSp>
      </p:grpSp>
      <p:sp>
        <p:nvSpPr>
          <p:cNvPr id="232" name=""/>
          <p:cNvSpPr/>
          <p:nvPr/>
        </p:nvSpPr>
        <p:spPr>
          <a:xfrm>
            <a:off x="611280" y="1660680"/>
            <a:ext cx="7345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 secondo cammino utilizza gli stessi archi di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Bookman Old Style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= {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, 1, 4,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5E3A-B9F4-4DED-B901-36CC5937299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Push-relab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ra: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1) non ci sono nodi atti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2) l’etichettatura è vali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quindi la soluzione è ottim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4" name=""/>
          <p:cNvGrpSpPr/>
          <p:nvPr/>
        </p:nvGrpSpPr>
        <p:grpSpPr>
          <a:xfrm>
            <a:off x="554760" y="3411360"/>
            <a:ext cx="3870000" cy="2153160"/>
            <a:chOff x="554760" y="3411360"/>
            <a:chExt cx="3870000" cy="2153160"/>
          </a:xfrm>
        </p:grpSpPr>
        <p:sp>
          <p:nvSpPr>
            <p:cNvPr id="2075" name=""/>
            <p:cNvSpPr/>
            <p:nvPr/>
          </p:nvSpPr>
          <p:spPr>
            <a:xfrm>
              <a:off x="2346120" y="3411360"/>
              <a:ext cx="32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2342160" y="5165640"/>
              <a:ext cx="32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866520" y="4275000"/>
              <a:ext cx="287280" cy="28728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2379600" y="3482640"/>
              <a:ext cx="287280" cy="28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3892320" y="4275000"/>
              <a:ext cx="287280" cy="287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2377800" y="5211360"/>
              <a:ext cx="287280" cy="287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81" name=""/>
            <p:cNvCxnSpPr>
              <a:stCxn id="2077" idx="7"/>
              <a:endCxn id="2075" idx="1"/>
            </p:cNvCxnSpPr>
            <p:nvPr/>
          </p:nvCxnSpPr>
          <p:spPr>
            <a:xfrm flipV="1">
              <a:off x="1110600" y="3609000"/>
              <a:ext cx="1227960" cy="708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2082" name=""/>
            <p:cNvSpPr/>
            <p:nvPr/>
          </p:nvSpPr>
          <p:spPr>
            <a:xfrm>
              <a:off x="554760" y="4419360"/>
              <a:ext cx="2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4160160" y="4203360"/>
              <a:ext cx="26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84" name=""/>
            <p:cNvCxnSpPr>
              <a:stCxn id="2076" idx="3"/>
              <a:endCxn id="2079" idx="3"/>
            </p:cNvCxnSpPr>
            <p:nvPr/>
          </p:nvCxnSpPr>
          <p:spPr>
            <a:xfrm flipV="1">
              <a:off x="2674440" y="4519080"/>
              <a:ext cx="1261080" cy="845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2085" name=""/>
            <p:cNvCxnSpPr>
              <a:stCxn id="2077" idx="5"/>
              <a:endCxn id="2080" idx="2"/>
            </p:cNvCxnSpPr>
            <p:nvPr/>
          </p:nvCxnSpPr>
          <p:spPr>
            <a:xfrm>
              <a:off x="1110600" y="4519440"/>
              <a:ext cx="1267560" cy="837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2086" name=""/>
            <p:cNvCxnSpPr>
              <a:stCxn id="2075" idx="3"/>
              <a:endCxn id="2079" idx="1"/>
            </p:cNvCxnSpPr>
            <p:nvPr/>
          </p:nvCxnSpPr>
          <p:spPr>
            <a:xfrm>
              <a:off x="2679480" y="3609360"/>
              <a:ext cx="1256400" cy="708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2087" name=""/>
            <p:cNvCxnSpPr>
              <a:stCxn id="2078" idx="4"/>
              <a:endCxn id="2076" idx="0"/>
            </p:cNvCxnSpPr>
            <p:nvPr/>
          </p:nvCxnSpPr>
          <p:spPr>
            <a:xfrm flipH="1">
              <a:off x="2506320" y="3769560"/>
              <a:ext cx="18000" cy="139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2088" name=""/>
            <p:cNvSpPr/>
            <p:nvPr/>
          </p:nvSpPr>
          <p:spPr>
            <a:xfrm>
              <a:off x="1305720" y="36986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1410480" y="47797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3282120" y="36986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3137760" y="48859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2437560" y="4203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cc"/>
                  </a:solidFill>
                  <a:latin typeface="Bookman Old Style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3" name=""/>
          <p:cNvSpPr/>
          <p:nvPr/>
        </p:nvSpPr>
        <p:spPr>
          <a:xfrm>
            <a:off x="6450120" y="341136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"/>
          <p:cNvSpPr/>
          <p:nvPr/>
        </p:nvSpPr>
        <p:spPr>
          <a:xfrm>
            <a:off x="6446160" y="516564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"/>
          <p:cNvSpPr/>
          <p:nvPr/>
        </p:nvSpPr>
        <p:spPr>
          <a:xfrm>
            <a:off x="4970520" y="4275000"/>
            <a:ext cx="287280" cy="28764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"/>
          <p:cNvSpPr/>
          <p:nvPr/>
        </p:nvSpPr>
        <p:spPr>
          <a:xfrm>
            <a:off x="6483240" y="3483000"/>
            <a:ext cx="28728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"/>
          <p:cNvSpPr/>
          <p:nvPr/>
        </p:nvSpPr>
        <p:spPr>
          <a:xfrm>
            <a:off x="7996320" y="4275000"/>
            <a:ext cx="28728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>
            <a:off x="6481800" y="5211720"/>
            <a:ext cx="28728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"/>
          <p:cNvSpPr/>
          <p:nvPr/>
        </p:nvSpPr>
        <p:spPr>
          <a:xfrm>
            <a:off x="4658400" y="441972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"/>
          <p:cNvSpPr/>
          <p:nvPr/>
        </p:nvSpPr>
        <p:spPr>
          <a:xfrm>
            <a:off x="8263800" y="4203720"/>
            <a:ext cx="26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01" name=""/>
          <p:cNvCxnSpPr>
            <a:stCxn id="2094" idx="3"/>
            <a:endCxn id="2097" idx="3"/>
          </p:cNvCxnSpPr>
          <p:nvPr/>
        </p:nvCxnSpPr>
        <p:spPr>
          <a:xfrm flipV="1">
            <a:off x="6778440" y="4519080"/>
            <a:ext cx="1261080" cy="84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</p:cxnSp>
      <p:cxnSp>
        <p:nvCxnSpPr>
          <p:cNvPr id="2102" name=""/>
          <p:cNvCxnSpPr>
            <a:stCxn id="2093" idx="3"/>
            <a:endCxn id="2097" idx="1"/>
          </p:cNvCxnSpPr>
          <p:nvPr/>
        </p:nvCxnSpPr>
        <p:spPr>
          <a:xfrm>
            <a:off x="6783480" y="3610080"/>
            <a:ext cx="1256400" cy="708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</p:cxnSp>
      <p:cxnSp>
        <p:nvCxnSpPr>
          <p:cNvPr id="2103" name=""/>
          <p:cNvCxnSpPr>
            <a:stCxn id="2096" idx="4"/>
            <a:endCxn id="2094" idx="0"/>
          </p:cNvCxnSpPr>
          <p:nvPr/>
        </p:nvCxnSpPr>
        <p:spPr>
          <a:xfrm flipH="1">
            <a:off x="6609600" y="3768840"/>
            <a:ext cx="18360" cy="1397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</p:cxnSp>
      <p:sp>
        <p:nvSpPr>
          <p:cNvPr id="2104" name=""/>
          <p:cNvSpPr/>
          <p:nvPr/>
        </p:nvSpPr>
        <p:spPr>
          <a:xfrm>
            <a:off x="7385760" y="3699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"/>
          <p:cNvSpPr/>
          <p:nvPr/>
        </p:nvSpPr>
        <p:spPr>
          <a:xfrm>
            <a:off x="7241400" y="48862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"/>
          <p:cNvSpPr/>
          <p:nvPr/>
        </p:nvSpPr>
        <p:spPr>
          <a:xfrm>
            <a:off x="6541200" y="42037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"/>
          <p:cNvSpPr/>
          <p:nvPr/>
        </p:nvSpPr>
        <p:spPr>
          <a:xfrm>
            <a:off x="4453920" y="3772080"/>
            <a:ext cx="409320" cy="398880"/>
          </a:xfrm>
          <a:prstGeom prst="rect">
            <a:avLst/>
          </a:prstGeom>
          <a:noFill/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Bookman Old Style"/>
              </a:rPr>
              <a:t>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"/>
          <p:cNvSpPr/>
          <p:nvPr/>
        </p:nvSpPr>
        <p:spPr>
          <a:xfrm>
            <a:off x="6798240" y="3068640"/>
            <a:ext cx="326880" cy="398880"/>
          </a:xfrm>
          <a:prstGeom prst="rect">
            <a:avLst/>
          </a:prstGeom>
          <a:noFill/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Bookman Old Style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"/>
          <p:cNvSpPr/>
          <p:nvPr/>
        </p:nvSpPr>
        <p:spPr>
          <a:xfrm>
            <a:off x="6739560" y="5587920"/>
            <a:ext cx="326880" cy="398880"/>
          </a:xfrm>
          <a:prstGeom prst="rect">
            <a:avLst/>
          </a:prstGeom>
          <a:noFill/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Bookman Old Style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"/>
          <p:cNvSpPr/>
          <p:nvPr/>
        </p:nvSpPr>
        <p:spPr>
          <a:xfrm>
            <a:off x="8119080" y="3772080"/>
            <a:ext cx="473400" cy="398880"/>
          </a:xfrm>
          <a:prstGeom prst="rect">
            <a:avLst/>
          </a:prstGeom>
          <a:noFill/>
          <a:ln w="1908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99"/>
                </a:solidFill>
                <a:latin typeface="Bookman Old Style"/>
              </a:rPr>
              <a:t>+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1" name=""/>
          <p:cNvGrpSpPr/>
          <p:nvPr/>
        </p:nvGrpSpPr>
        <p:grpSpPr>
          <a:xfrm>
            <a:off x="4939560" y="4635360"/>
            <a:ext cx="326880" cy="398880"/>
            <a:chOff x="4939560" y="4635360"/>
            <a:chExt cx="326880" cy="398880"/>
          </a:xfrm>
        </p:grpSpPr>
        <p:sp>
          <p:nvSpPr>
            <p:cNvPr id="2112" name=""/>
            <p:cNvSpPr/>
            <p:nvPr/>
          </p:nvSpPr>
          <p:spPr>
            <a:xfrm>
              <a:off x="4939560" y="4635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Bookman Old Style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4957560" y="4695480"/>
              <a:ext cx="287640" cy="2876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4" name=""/>
          <p:cNvGrpSpPr/>
          <p:nvPr/>
        </p:nvGrpSpPr>
        <p:grpSpPr>
          <a:xfrm>
            <a:off x="6398640" y="2997360"/>
            <a:ext cx="326880" cy="398880"/>
            <a:chOff x="6398640" y="2997360"/>
            <a:chExt cx="326880" cy="398880"/>
          </a:xfrm>
        </p:grpSpPr>
        <p:sp>
          <p:nvSpPr>
            <p:cNvPr id="2115" name=""/>
            <p:cNvSpPr/>
            <p:nvPr/>
          </p:nvSpPr>
          <p:spPr>
            <a:xfrm>
              <a:off x="6398640" y="2997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Bookman Old Style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6416640" y="3057480"/>
              <a:ext cx="287640" cy="2876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7" name=""/>
          <p:cNvGrpSpPr/>
          <p:nvPr/>
        </p:nvGrpSpPr>
        <p:grpSpPr>
          <a:xfrm>
            <a:off x="8054280" y="4635360"/>
            <a:ext cx="326880" cy="398880"/>
            <a:chOff x="8054280" y="4635360"/>
            <a:chExt cx="326880" cy="398880"/>
          </a:xfrm>
        </p:grpSpPr>
        <p:sp>
          <p:nvSpPr>
            <p:cNvPr id="2118" name=""/>
            <p:cNvSpPr/>
            <p:nvPr/>
          </p:nvSpPr>
          <p:spPr>
            <a:xfrm>
              <a:off x="8054280" y="4635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Bookman Old Style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8072280" y="4695480"/>
              <a:ext cx="287640" cy="2876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120" name=""/>
          <p:cNvCxnSpPr>
            <a:stCxn id="2095" idx="0"/>
            <a:endCxn id="2096" idx="2"/>
          </p:cNvCxnSpPr>
          <p:nvPr/>
        </p:nvCxnSpPr>
        <p:spPr>
          <a:xfrm flipH="1" flipV="1" rot="5400000">
            <a:off x="5474880" y="3266280"/>
            <a:ext cx="648360" cy="13690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</p:cxnSp>
      <p:cxnSp>
        <p:nvCxnSpPr>
          <p:cNvPr id="2121" name=""/>
          <p:cNvCxnSpPr>
            <a:stCxn id="2095" idx="6"/>
            <a:endCxn id="2096" idx="3"/>
          </p:cNvCxnSpPr>
          <p:nvPr/>
        </p:nvCxnSpPr>
        <p:spPr>
          <a:xfrm flipV="1">
            <a:off x="5257440" y="3726720"/>
            <a:ext cx="1269000" cy="6930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122" name=""/>
          <p:cNvSpPr/>
          <p:nvPr/>
        </p:nvSpPr>
        <p:spPr>
          <a:xfrm>
            <a:off x="5587200" y="33577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"/>
          <p:cNvSpPr/>
          <p:nvPr/>
        </p:nvSpPr>
        <p:spPr>
          <a:xfrm>
            <a:off x="6109560" y="40766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4" name=""/>
          <p:cNvCxnSpPr>
            <a:stCxn id="2098" idx="0"/>
            <a:endCxn id="2095" idx="6"/>
          </p:cNvCxnSpPr>
          <p:nvPr/>
        </p:nvCxnSpPr>
        <p:spPr>
          <a:xfrm flipV="1" rot="16200000">
            <a:off x="5545440" y="4131000"/>
            <a:ext cx="792720" cy="136908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</p:cxnSp>
      <p:cxnSp>
        <p:nvCxnSpPr>
          <p:cNvPr id="2125" name=""/>
          <p:cNvCxnSpPr>
            <a:stCxn id="2094" idx="1"/>
            <a:endCxn id="2095" idx="5"/>
          </p:cNvCxnSpPr>
          <p:nvPr/>
        </p:nvCxnSpPr>
        <p:spPr>
          <a:xfrm rot="10800000">
            <a:off x="5214240" y="4518720"/>
            <a:ext cx="1227960" cy="84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126" name=""/>
          <p:cNvSpPr/>
          <p:nvPr/>
        </p:nvSpPr>
        <p:spPr>
          <a:xfrm>
            <a:off x="6019200" y="46879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"/>
          <p:cNvSpPr/>
          <p:nvPr/>
        </p:nvSpPr>
        <p:spPr>
          <a:xfrm>
            <a:off x="5587200" y="5229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8" name=""/>
          <p:cNvGrpSpPr/>
          <p:nvPr/>
        </p:nvGrpSpPr>
        <p:grpSpPr>
          <a:xfrm>
            <a:off x="6163560" y="5479920"/>
            <a:ext cx="326880" cy="398880"/>
            <a:chOff x="6163560" y="5479920"/>
            <a:chExt cx="326880" cy="398880"/>
          </a:xfrm>
        </p:grpSpPr>
        <p:sp>
          <p:nvSpPr>
            <p:cNvPr id="2129" name=""/>
            <p:cNvSpPr/>
            <p:nvPr/>
          </p:nvSpPr>
          <p:spPr>
            <a:xfrm>
              <a:off x="6163560" y="54799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Bookman Old Style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6181560" y="5540040"/>
              <a:ext cx="287640" cy="2876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1E9F-8DAA-4A71-87A3-62AD626E2075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Push-relab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Algoritmo push-relab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quasi-flusso,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etichet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izializza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hile (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non è un flusso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cegli un nodo attivo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su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hile (esiste un arco 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ammissib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ush 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f (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è attiv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elabel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7564-3BC6-4F79-B5ED-CAA80BF60C09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blem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complesso programma di calcolo, costituito da 3 moduli, deve essere eseguito su un calcolatore con 2 processor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abella sono riportati i costi di assegnazione dei moduli ai processori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5" name=""/>
          <p:cNvGraphicFramePr/>
          <p:nvPr/>
        </p:nvGraphicFramePr>
        <p:xfrm>
          <a:off x="1187280" y="3933720"/>
          <a:ext cx="6096240" cy="155268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C</a:t>
                      </a:r>
                      <a:r>
                        <a:rPr b="0" i="1" lang="en-US" sz="2800" spc="-1" strike="noStrike" baseline="-25000">
                          <a:solidFill>
                            <a:srgbClr val="000000"/>
                          </a:solidFill>
                          <a:latin typeface="Bookman Old Style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C</a:t>
                      </a:r>
                      <a:r>
                        <a:rPr b="0" i="1" lang="en-US" sz="2800" spc="-1" strike="noStrike" baseline="-25000">
                          <a:solidFill>
                            <a:srgbClr val="000000"/>
                          </a:solidFill>
                          <a:latin typeface="Bookman Old Style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15FC-5EBB-4650-A35F-F46CFD9A6607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Problem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 tabella sono invece riportati i costi di intercomunicazione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ij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tra processori, qualora due moduli vengano assegnati a due  processori divers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8" name=""/>
          <p:cNvGraphicFramePr/>
          <p:nvPr/>
        </p:nvGraphicFramePr>
        <p:xfrm>
          <a:off x="1523880" y="3213000"/>
          <a:ext cx="6096240" cy="22478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M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EECF-42D3-4FD1-A60B-CEB4B6EB382C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Problem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394920" y="1269720"/>
            <a:ext cx="79246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sideriamo il seguente graf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t</a:t>
            </a:r>
            <a:r>
              <a:rPr b="0" lang="it-IT" sz="18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taglio su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corrisponde ad un assegn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 moduli a processori e il suo costo è pari al costo di assegnazione più il costo di intercomunicazione. Come si determina un (s,t)-taglio minimo se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è simmetrico? E il taglio “complessivamente” minimo di </a:t>
            </a:r>
            <a:r>
              <a:rPr b="0" i="1" lang="it-IT" sz="18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"/>
          <p:cNvSpPr/>
          <p:nvPr/>
        </p:nvSpPr>
        <p:spPr>
          <a:xfrm>
            <a:off x="3894480" y="3144960"/>
            <a:ext cx="5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"/>
          <p:cNvSpPr/>
          <p:nvPr/>
        </p:nvSpPr>
        <p:spPr>
          <a:xfrm>
            <a:off x="3894480" y="1916280"/>
            <a:ext cx="5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"/>
          <p:cNvSpPr/>
          <p:nvPr/>
        </p:nvSpPr>
        <p:spPr>
          <a:xfrm>
            <a:off x="3894480" y="4346640"/>
            <a:ext cx="5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"/>
          <p:cNvSpPr/>
          <p:nvPr/>
        </p:nvSpPr>
        <p:spPr>
          <a:xfrm>
            <a:off x="2422440" y="3144960"/>
            <a:ext cx="4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"/>
          <p:cNvSpPr/>
          <p:nvPr/>
        </p:nvSpPr>
        <p:spPr>
          <a:xfrm>
            <a:off x="5659200" y="3144960"/>
            <a:ext cx="4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"/>
          <p:cNvSpPr/>
          <p:nvPr/>
        </p:nvSpPr>
        <p:spPr>
          <a:xfrm>
            <a:off x="3066480" y="38988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Bookman Old Style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"/>
          <p:cNvSpPr/>
          <p:nvPr/>
        </p:nvSpPr>
        <p:spPr>
          <a:xfrm>
            <a:off x="4956120" y="223056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Bookman Old Style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"/>
          <p:cNvSpPr/>
          <p:nvPr/>
        </p:nvSpPr>
        <p:spPr>
          <a:xfrm>
            <a:off x="4878000" y="296856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Bookman Old Style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"/>
          <p:cNvSpPr/>
          <p:nvPr/>
        </p:nvSpPr>
        <p:spPr>
          <a:xfrm>
            <a:off x="3895560" y="1844640"/>
            <a:ext cx="516240" cy="5144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"/>
          <p:cNvSpPr/>
          <p:nvPr/>
        </p:nvSpPr>
        <p:spPr>
          <a:xfrm>
            <a:off x="3906720" y="4282920"/>
            <a:ext cx="515880" cy="5144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"/>
          <p:cNvSpPr/>
          <p:nvPr/>
        </p:nvSpPr>
        <p:spPr>
          <a:xfrm>
            <a:off x="2411280" y="3063960"/>
            <a:ext cx="516240" cy="5144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"/>
          <p:cNvSpPr/>
          <p:nvPr/>
        </p:nvSpPr>
        <p:spPr>
          <a:xfrm>
            <a:off x="5638680" y="3063960"/>
            <a:ext cx="515880" cy="5144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53" name=""/>
          <p:cNvCxnSpPr>
            <a:stCxn id="2149" idx="4"/>
            <a:endCxn id="2154" idx="0"/>
          </p:cNvCxnSpPr>
          <p:nvPr/>
        </p:nvCxnSpPr>
        <p:spPr>
          <a:xfrm>
            <a:off x="4154040" y="2373480"/>
            <a:ext cx="1080" cy="676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155" name=""/>
          <p:cNvCxnSpPr>
            <a:stCxn id="2154" idx="4"/>
            <a:endCxn id="2150" idx="0"/>
          </p:cNvCxnSpPr>
          <p:nvPr/>
        </p:nvCxnSpPr>
        <p:spPr>
          <a:xfrm>
            <a:off x="4154040" y="3592080"/>
            <a:ext cx="11880" cy="677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156" name=""/>
          <p:cNvCxnSpPr>
            <a:stCxn id="2152" idx="3"/>
            <a:endCxn id="2150" idx="6"/>
          </p:cNvCxnSpPr>
          <p:nvPr/>
        </p:nvCxnSpPr>
        <p:spPr>
          <a:xfrm flipH="1">
            <a:off x="4436640" y="3517920"/>
            <a:ext cx="1278720" cy="1023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157" name=""/>
          <p:cNvCxnSpPr>
            <a:stCxn id="2151" idx="5"/>
            <a:endCxn id="2150" idx="2"/>
          </p:cNvCxnSpPr>
          <p:nvPr/>
        </p:nvCxnSpPr>
        <p:spPr>
          <a:xfrm>
            <a:off x="2850840" y="3517920"/>
            <a:ext cx="1042200" cy="1023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158" name=""/>
          <p:cNvCxnSpPr>
            <a:stCxn id="2151" idx="7"/>
            <a:endCxn id="2149" idx="2"/>
          </p:cNvCxnSpPr>
          <p:nvPr/>
        </p:nvCxnSpPr>
        <p:spPr>
          <a:xfrm flipV="1">
            <a:off x="2851200" y="2101320"/>
            <a:ext cx="1031040" cy="1023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159" name=""/>
          <p:cNvCxnSpPr>
            <a:stCxn id="2152" idx="1"/>
            <a:endCxn id="2149" idx="6"/>
          </p:cNvCxnSpPr>
          <p:nvPr/>
        </p:nvCxnSpPr>
        <p:spPr>
          <a:xfrm flipH="1" flipV="1">
            <a:off x="4425120" y="2101320"/>
            <a:ext cx="1289880" cy="1023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160" name=""/>
          <p:cNvCxnSpPr>
            <a:stCxn id="2151" idx="6"/>
            <a:endCxn id="2154" idx="2"/>
          </p:cNvCxnSpPr>
          <p:nvPr/>
        </p:nvCxnSpPr>
        <p:spPr>
          <a:xfrm>
            <a:off x="2941200" y="3320640"/>
            <a:ext cx="9406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54" name=""/>
          <p:cNvSpPr/>
          <p:nvPr/>
        </p:nvSpPr>
        <p:spPr>
          <a:xfrm>
            <a:off x="3895560" y="3063960"/>
            <a:ext cx="516240" cy="5144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1" name=""/>
          <p:cNvCxnSpPr>
            <a:stCxn id="2154" idx="6"/>
            <a:endCxn id="2152" idx="2"/>
          </p:cNvCxnSpPr>
          <p:nvPr/>
        </p:nvCxnSpPr>
        <p:spPr>
          <a:xfrm>
            <a:off x="4425840" y="3320640"/>
            <a:ext cx="11995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162" name=""/>
          <p:cNvCxnSpPr>
            <a:stCxn id="2149" idx="6"/>
            <a:endCxn id="2150" idx="6"/>
          </p:cNvCxnSpPr>
          <p:nvPr/>
        </p:nvCxnSpPr>
        <p:spPr>
          <a:xfrm>
            <a:off x="4425480" y="2101680"/>
            <a:ext cx="11880" cy="2439000"/>
          </a:xfrm>
          <a:prstGeom prst="curvedConnector5">
            <a:avLst>
              <a:gd name="adj1" fmla="val 2012500"/>
              <a:gd name="adj2" fmla="val 50000"/>
              <a:gd name="adj3" fmla="val 20125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163" name=""/>
          <p:cNvSpPr/>
          <p:nvPr/>
        </p:nvSpPr>
        <p:spPr>
          <a:xfrm>
            <a:off x="3071520" y="22050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Bookman Old Style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"/>
          <p:cNvSpPr/>
          <p:nvPr/>
        </p:nvSpPr>
        <p:spPr>
          <a:xfrm>
            <a:off x="3214440" y="300204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Bookman Old Style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"/>
          <p:cNvSpPr/>
          <p:nvPr/>
        </p:nvSpPr>
        <p:spPr>
          <a:xfrm>
            <a:off x="5003640" y="39304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Bookman Old Style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"/>
          <p:cNvSpPr/>
          <p:nvPr/>
        </p:nvSpPr>
        <p:spPr>
          <a:xfrm>
            <a:off x="3772800" y="24541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"/>
          <p:cNvSpPr/>
          <p:nvPr/>
        </p:nvSpPr>
        <p:spPr>
          <a:xfrm>
            <a:off x="3772800" y="37368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"/>
          <p:cNvSpPr/>
          <p:nvPr/>
        </p:nvSpPr>
        <p:spPr>
          <a:xfrm>
            <a:off x="4547520" y="35798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Bookman Old Style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"/>
          <p:cNvSpPr/>
          <p:nvPr/>
        </p:nvSpPr>
        <p:spPr>
          <a:xfrm>
            <a:off x="2700360" y="2540160"/>
            <a:ext cx="493560" cy="1536480"/>
          </a:xfrm>
          <a:custGeom>
            <a:avLst/>
            <a:gdLst/>
            <a:ahLst/>
            <a:rect l="l" t="t" r="r" b="b"/>
            <a:pathLst>
              <a:path w="311" h="968">
                <a:moveTo>
                  <a:pt x="0" y="16"/>
                </a:moveTo>
                <a:cubicBezTo>
                  <a:pt x="0" y="8"/>
                  <a:pt x="1" y="0"/>
                  <a:pt x="46" y="61"/>
                </a:cubicBezTo>
                <a:cubicBezTo>
                  <a:pt x="91" y="122"/>
                  <a:pt x="235" y="281"/>
                  <a:pt x="273" y="379"/>
                </a:cubicBezTo>
                <a:cubicBezTo>
                  <a:pt x="311" y="477"/>
                  <a:pt x="303" y="568"/>
                  <a:pt x="273" y="651"/>
                </a:cubicBezTo>
                <a:cubicBezTo>
                  <a:pt x="243" y="734"/>
                  <a:pt x="137" y="825"/>
                  <a:pt x="91" y="878"/>
                </a:cubicBezTo>
                <a:cubicBezTo>
                  <a:pt x="45" y="931"/>
                  <a:pt x="22" y="949"/>
                  <a:pt x="0" y="968"/>
                </a:cubicBezTo>
              </a:path>
            </a:pathLst>
          </a:custGeom>
          <a:noFill/>
          <a:ln w="38160">
            <a:solidFill>
              <a:srgbClr val="cc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"/>
          <p:cNvSpPr/>
          <p:nvPr/>
        </p:nvSpPr>
        <p:spPr>
          <a:xfrm flipH="1">
            <a:off x="5302080" y="2637000"/>
            <a:ext cx="493920" cy="1536480"/>
          </a:xfrm>
          <a:custGeom>
            <a:avLst/>
            <a:gdLst/>
            <a:ahLst/>
            <a:rect l="l" t="t" r="r" b="b"/>
            <a:pathLst>
              <a:path w="311" h="968">
                <a:moveTo>
                  <a:pt x="0" y="16"/>
                </a:moveTo>
                <a:cubicBezTo>
                  <a:pt x="0" y="8"/>
                  <a:pt x="1" y="0"/>
                  <a:pt x="46" y="61"/>
                </a:cubicBezTo>
                <a:cubicBezTo>
                  <a:pt x="91" y="122"/>
                  <a:pt x="235" y="281"/>
                  <a:pt x="273" y="379"/>
                </a:cubicBezTo>
                <a:cubicBezTo>
                  <a:pt x="311" y="477"/>
                  <a:pt x="303" y="568"/>
                  <a:pt x="273" y="651"/>
                </a:cubicBezTo>
                <a:cubicBezTo>
                  <a:pt x="243" y="734"/>
                  <a:pt x="137" y="825"/>
                  <a:pt x="91" y="878"/>
                </a:cubicBezTo>
                <a:cubicBezTo>
                  <a:pt x="45" y="931"/>
                  <a:pt x="22" y="949"/>
                  <a:pt x="0" y="968"/>
                </a:cubicBezTo>
              </a:path>
            </a:pathLst>
          </a:custGeom>
          <a:noFill/>
          <a:ln w="38160">
            <a:solidFill>
              <a:srgbClr val="cc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"/>
          <p:cNvSpPr/>
          <p:nvPr/>
        </p:nvSpPr>
        <p:spPr>
          <a:xfrm>
            <a:off x="3421080" y="1989000"/>
            <a:ext cx="2303280" cy="2519640"/>
          </a:xfrm>
          <a:custGeom>
            <a:avLst/>
            <a:gdLst/>
            <a:ahLst/>
            <a:rect l="l" t="t" r="r" b="b"/>
            <a:pathLst>
              <a:path w="1451" h="1587">
                <a:moveTo>
                  <a:pt x="0" y="1587"/>
                </a:moveTo>
                <a:cubicBezTo>
                  <a:pt x="400" y="1289"/>
                  <a:pt x="801" y="991"/>
                  <a:pt x="1043" y="726"/>
                </a:cubicBezTo>
                <a:cubicBezTo>
                  <a:pt x="1285" y="461"/>
                  <a:pt x="1383" y="121"/>
                  <a:pt x="1451" y="0"/>
                </a:cubicBezTo>
              </a:path>
            </a:pathLst>
          </a:custGeom>
          <a:noFill/>
          <a:ln w="38160">
            <a:solidFill>
              <a:srgbClr val="cc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C72E-6DE5-4163-B8F5-4B483612ADC0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gli minimi su grafi simmetric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Arial"/>
              </a:rPr>
              <a:t>Problema del taglio minim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cc"/>
                </a:solidFill>
                <a:latin typeface="Arial"/>
              </a:rPr>
              <a:t>Dati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it-IT" sz="2800" spc="-1" strike="noStrike">
                <a:solidFill>
                  <a:srgbClr val="000000"/>
                </a:solidFill>
                <a:latin typeface="Bookman Old Style"/>
              </a:rPr>
              <a:t>=(</a:t>
            </a: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it-IT" sz="28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E</a:t>
            </a:r>
            <a:r>
              <a:rPr b="0" lang="it-IT" sz="28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grafo non orientato, connes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Vettore capacità</a:t>
            </a:r>
            <a:r>
              <a:rPr b="1" i="1" lang="it-IT" sz="2800" spc="-1" strike="noStrike">
                <a:solidFill>
                  <a:srgbClr val="000000"/>
                </a:solidFill>
                <a:latin typeface="Bookman Old Style"/>
              </a:rPr>
              <a:t> u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it-IT" sz="3200" spc="-1" strike="noStrike">
                <a:solidFill>
                  <a:srgbClr val="000000"/>
                </a:solidFill>
                <a:latin typeface="Monotype Corsiva"/>
              </a:rPr>
              <a:t>R 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r>
              <a:rPr b="0" lang="it-IT" sz="2400" spc="-1" strike="noStrike" baseline="30000">
                <a:solidFill>
                  <a:srgbClr val="000000"/>
                </a:solidFill>
                <a:latin typeface="Arial"/>
              </a:rPr>
              <a:t>|E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cc"/>
                </a:solidFill>
                <a:latin typeface="Arial"/>
              </a:rPr>
              <a:t>Determin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Un insieme di vertici 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it-IT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it-IT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 tale che </a:t>
            </a: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lang="it-IT" sz="28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it-IT" sz="28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8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Bookman Old Style"/>
              </a:rPr>
              <a:t>))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sia mini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48CB-0719-4D2F-8578-537947D4C6DF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semp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5" name="PlaceHolder 2"/>
          <p:cNvSpPr>
            <a:spLocks noGrp="1"/>
          </p:cNvSpPr>
          <p:nvPr>
            <p:ph/>
          </p:nvPr>
        </p:nvSpPr>
        <p:spPr>
          <a:xfrm>
            <a:off x="609480" y="4294080"/>
            <a:ext cx="792504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Osserv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appiamo risolvere il problema del taglio minimo utilizzando l’algoritmo di Ford e Fulkers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"/>
          <p:cNvSpPr/>
          <p:nvPr/>
        </p:nvSpPr>
        <p:spPr>
          <a:xfrm>
            <a:off x="1403280" y="1774800"/>
            <a:ext cx="287280" cy="287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"/>
          <p:cNvSpPr/>
          <p:nvPr/>
        </p:nvSpPr>
        <p:spPr>
          <a:xfrm>
            <a:off x="1403280" y="3286080"/>
            <a:ext cx="287280" cy="287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"/>
          <p:cNvSpPr/>
          <p:nvPr/>
        </p:nvSpPr>
        <p:spPr>
          <a:xfrm>
            <a:off x="2411280" y="2565360"/>
            <a:ext cx="287640" cy="287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"/>
          <p:cNvSpPr/>
          <p:nvPr/>
        </p:nvSpPr>
        <p:spPr>
          <a:xfrm>
            <a:off x="3564000" y="2565360"/>
            <a:ext cx="287280" cy="287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"/>
          <p:cNvSpPr/>
          <p:nvPr/>
        </p:nvSpPr>
        <p:spPr>
          <a:xfrm>
            <a:off x="4643280" y="1774800"/>
            <a:ext cx="287640" cy="287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"/>
          <p:cNvSpPr/>
          <p:nvPr/>
        </p:nvSpPr>
        <p:spPr>
          <a:xfrm>
            <a:off x="4643280" y="3286080"/>
            <a:ext cx="287640" cy="287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2" name=""/>
          <p:cNvCxnSpPr>
            <a:stCxn id="2176" idx="5"/>
            <a:endCxn id="2178" idx="1"/>
          </p:cNvCxnSpPr>
          <p:nvPr/>
        </p:nvCxnSpPr>
        <p:spPr>
          <a:xfrm>
            <a:off x="1647720" y="2019240"/>
            <a:ext cx="807120" cy="589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183" name=""/>
          <p:cNvCxnSpPr>
            <a:stCxn id="2177" idx="7"/>
            <a:endCxn id="2178" idx="3"/>
          </p:cNvCxnSpPr>
          <p:nvPr/>
        </p:nvCxnSpPr>
        <p:spPr>
          <a:xfrm flipV="1">
            <a:off x="1647720" y="2809440"/>
            <a:ext cx="807120" cy="5198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184" name=""/>
          <p:cNvCxnSpPr>
            <a:stCxn id="2177" idx="0"/>
            <a:endCxn id="2176" idx="4"/>
          </p:cNvCxnSpPr>
          <p:nvPr/>
        </p:nvCxnSpPr>
        <p:spPr>
          <a:xfrm flipV="1">
            <a:off x="1547280" y="2061720"/>
            <a:ext cx="1080" cy="1224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185" name=""/>
          <p:cNvCxnSpPr>
            <a:stCxn id="2178" idx="6"/>
            <a:endCxn id="2179" idx="2"/>
          </p:cNvCxnSpPr>
          <p:nvPr/>
        </p:nvCxnSpPr>
        <p:spPr>
          <a:xfrm>
            <a:off x="2698560" y="2709360"/>
            <a:ext cx="86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186" name=""/>
          <p:cNvCxnSpPr>
            <a:stCxn id="2179" idx="5"/>
            <a:endCxn id="2181" idx="2"/>
          </p:cNvCxnSpPr>
          <p:nvPr/>
        </p:nvCxnSpPr>
        <p:spPr>
          <a:xfrm>
            <a:off x="3808080" y="2809800"/>
            <a:ext cx="835560" cy="621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187" name=""/>
          <p:cNvCxnSpPr>
            <a:stCxn id="2179" idx="7"/>
            <a:endCxn id="2180" idx="3"/>
          </p:cNvCxnSpPr>
          <p:nvPr/>
        </p:nvCxnSpPr>
        <p:spPr>
          <a:xfrm flipV="1">
            <a:off x="3808080" y="2018880"/>
            <a:ext cx="878760" cy="5896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188" name=""/>
          <p:cNvCxnSpPr>
            <a:stCxn id="2181" idx="0"/>
            <a:endCxn id="2180" idx="4"/>
          </p:cNvCxnSpPr>
          <p:nvPr/>
        </p:nvCxnSpPr>
        <p:spPr>
          <a:xfrm flipV="1">
            <a:off x="4787640" y="2061720"/>
            <a:ext cx="1080" cy="1224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189" name=""/>
          <p:cNvSpPr/>
          <p:nvPr/>
        </p:nvSpPr>
        <p:spPr>
          <a:xfrm>
            <a:off x="2881080" y="28177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"/>
          <p:cNvSpPr/>
          <p:nvPr/>
        </p:nvSpPr>
        <p:spPr>
          <a:xfrm>
            <a:off x="3889080" y="19177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"/>
          <p:cNvSpPr/>
          <p:nvPr/>
        </p:nvSpPr>
        <p:spPr>
          <a:xfrm>
            <a:off x="3924000" y="3176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"/>
          <p:cNvSpPr/>
          <p:nvPr/>
        </p:nvSpPr>
        <p:spPr>
          <a:xfrm>
            <a:off x="4932000" y="24224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"/>
          <p:cNvSpPr/>
          <p:nvPr/>
        </p:nvSpPr>
        <p:spPr>
          <a:xfrm>
            <a:off x="1044360" y="24940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"/>
          <p:cNvSpPr/>
          <p:nvPr/>
        </p:nvSpPr>
        <p:spPr>
          <a:xfrm>
            <a:off x="1979280" y="19526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"/>
          <p:cNvSpPr/>
          <p:nvPr/>
        </p:nvSpPr>
        <p:spPr>
          <a:xfrm>
            <a:off x="1979280" y="30337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"/>
          <p:cNvSpPr/>
          <p:nvPr/>
        </p:nvSpPr>
        <p:spPr>
          <a:xfrm>
            <a:off x="4162320" y="1557360"/>
            <a:ext cx="408240" cy="2160720"/>
          </a:xfrm>
          <a:custGeom>
            <a:avLst/>
            <a:gdLst/>
            <a:ahLst/>
            <a:rect l="l" t="t" r="r" b="b"/>
            <a:pathLst>
              <a:path w="257" h="1724">
                <a:moveTo>
                  <a:pt x="61" y="0"/>
                </a:moveTo>
                <a:cubicBezTo>
                  <a:pt x="30" y="136"/>
                  <a:pt x="0" y="272"/>
                  <a:pt x="15" y="363"/>
                </a:cubicBezTo>
                <a:cubicBezTo>
                  <a:pt x="30" y="454"/>
                  <a:pt x="143" y="454"/>
                  <a:pt x="151" y="545"/>
                </a:cubicBezTo>
                <a:cubicBezTo>
                  <a:pt x="159" y="636"/>
                  <a:pt x="61" y="810"/>
                  <a:pt x="61" y="908"/>
                </a:cubicBezTo>
                <a:cubicBezTo>
                  <a:pt x="61" y="1006"/>
                  <a:pt x="121" y="1028"/>
                  <a:pt x="151" y="1134"/>
                </a:cubicBezTo>
                <a:cubicBezTo>
                  <a:pt x="181" y="1240"/>
                  <a:pt x="257" y="1445"/>
                  <a:pt x="242" y="1543"/>
                </a:cubicBezTo>
                <a:cubicBezTo>
                  <a:pt x="227" y="1641"/>
                  <a:pt x="144" y="1682"/>
                  <a:pt x="61" y="1724"/>
                </a:cubicBezTo>
              </a:path>
            </a:pathLst>
          </a:custGeom>
          <a:noFill/>
          <a:ln w="76320">
            <a:solidFill>
              <a:srgbClr val="cc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6EE3-EE79-44B2-B72B-A5C4BC2D58BA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semp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8" name="PlaceHolder 2"/>
          <p:cNvSpPr>
            <a:spLocks noGrp="1"/>
          </p:cNvSpPr>
          <p:nvPr>
            <p:ph/>
          </p:nvPr>
        </p:nvSpPr>
        <p:spPr>
          <a:xfrm>
            <a:off x="396720" y="3357720"/>
            <a:ext cx="85680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1. Sostituisco ogni arco non orientato con una coppia di archi orientati aventi la stessa capacità dell’arco origi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2. Scelgo un nodo di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sia esso il nodo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3. Risolvo 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n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-1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istanze del problema di massimo 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-flusso, ove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v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è un nodo di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4. Il taglio minimo tra gli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n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-1 tagli individuati è il taglio minim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[</a:t>
            </a:r>
            <a:r>
              <a:rPr b="0" lang="it-IT" sz="2000" spc="-1" strike="noStrike">
                <a:solidFill>
                  <a:srgbClr val="0033cc"/>
                </a:solidFill>
                <a:latin typeface="Arial"/>
                <a:ea typeface="Arial"/>
              </a:rPr>
              <a:t>Complessità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O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nk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, con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complessità di un algoritmo per il max-flo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Se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 = 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nm</a:t>
            </a:r>
            <a:r>
              <a:rPr b="0" lang="it-IT" sz="2000" spc="-1" strike="noStrike" baseline="30000">
                <a:solidFill>
                  <a:srgbClr val="000000"/>
                </a:solidFill>
                <a:latin typeface="Bookman Old Style"/>
                <a:ea typeface="Arial"/>
              </a:rPr>
              <a:t>2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, la complessità è 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O(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n</a:t>
            </a:r>
            <a:r>
              <a:rPr b="0" lang="it-IT" sz="2000" spc="-1" strike="noStrike" baseline="30000">
                <a:solidFill>
                  <a:srgbClr val="000000"/>
                </a:solidFill>
                <a:latin typeface="Bookman Old Style"/>
                <a:ea typeface="Arial"/>
              </a:rPr>
              <a:t>2</a:t>
            </a:r>
            <a:r>
              <a:rPr b="0" i="1" lang="it-IT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m</a:t>
            </a:r>
            <a:r>
              <a:rPr b="0" lang="it-IT" sz="2000" spc="-1" strike="noStrike" baseline="30000">
                <a:solidFill>
                  <a:srgbClr val="000000"/>
                </a:solidFill>
                <a:latin typeface="Bookman Old Style"/>
                <a:ea typeface="Arial"/>
              </a:rPr>
              <a:t>2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"/>
          <p:cNvSpPr/>
          <p:nvPr/>
        </p:nvSpPr>
        <p:spPr>
          <a:xfrm>
            <a:off x="1946160" y="1557360"/>
            <a:ext cx="287280" cy="2872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"/>
          <p:cNvSpPr/>
          <p:nvPr/>
        </p:nvSpPr>
        <p:spPr>
          <a:xfrm>
            <a:off x="1946160" y="3068640"/>
            <a:ext cx="287280" cy="287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"/>
          <p:cNvSpPr/>
          <p:nvPr/>
        </p:nvSpPr>
        <p:spPr>
          <a:xfrm>
            <a:off x="2954160" y="2347920"/>
            <a:ext cx="287640" cy="287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"/>
          <p:cNvSpPr/>
          <p:nvPr/>
        </p:nvSpPr>
        <p:spPr>
          <a:xfrm>
            <a:off x="4106880" y="2347920"/>
            <a:ext cx="287280" cy="287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"/>
          <p:cNvSpPr/>
          <p:nvPr/>
        </p:nvSpPr>
        <p:spPr>
          <a:xfrm>
            <a:off x="5186520" y="1557360"/>
            <a:ext cx="287280" cy="287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"/>
          <p:cNvSpPr/>
          <p:nvPr/>
        </p:nvSpPr>
        <p:spPr>
          <a:xfrm>
            <a:off x="5186520" y="3068640"/>
            <a:ext cx="287280" cy="287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05" name=""/>
          <p:cNvCxnSpPr>
            <a:stCxn id="2199" idx="5"/>
            <a:endCxn id="2201" idx="1"/>
          </p:cNvCxnSpPr>
          <p:nvPr/>
        </p:nvCxnSpPr>
        <p:spPr>
          <a:xfrm>
            <a:off x="2190240" y="1801800"/>
            <a:ext cx="807480" cy="589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06" name=""/>
          <p:cNvCxnSpPr>
            <a:stCxn id="2200" idx="7"/>
            <a:endCxn id="2201" idx="3"/>
          </p:cNvCxnSpPr>
          <p:nvPr/>
        </p:nvCxnSpPr>
        <p:spPr>
          <a:xfrm flipV="1">
            <a:off x="2190240" y="2592000"/>
            <a:ext cx="807480" cy="519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07" name=""/>
          <p:cNvCxnSpPr>
            <a:stCxn id="2200" idx="0"/>
            <a:endCxn id="2199" idx="4"/>
          </p:cNvCxnSpPr>
          <p:nvPr/>
        </p:nvCxnSpPr>
        <p:spPr>
          <a:xfrm flipV="1">
            <a:off x="2090520" y="1844280"/>
            <a:ext cx="1080" cy="1224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08" name=""/>
          <p:cNvCxnSpPr>
            <a:stCxn id="2201" idx="6"/>
            <a:endCxn id="2202" idx="2"/>
          </p:cNvCxnSpPr>
          <p:nvPr/>
        </p:nvCxnSpPr>
        <p:spPr>
          <a:xfrm>
            <a:off x="3241440" y="2491920"/>
            <a:ext cx="86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09" name=""/>
          <p:cNvCxnSpPr>
            <a:stCxn id="2202" idx="5"/>
            <a:endCxn id="2204" idx="2"/>
          </p:cNvCxnSpPr>
          <p:nvPr/>
        </p:nvCxnSpPr>
        <p:spPr>
          <a:xfrm>
            <a:off x="4351320" y="2592360"/>
            <a:ext cx="835920" cy="621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10" name=""/>
          <p:cNvCxnSpPr>
            <a:stCxn id="2202" idx="7"/>
            <a:endCxn id="2203" idx="3"/>
          </p:cNvCxnSpPr>
          <p:nvPr/>
        </p:nvCxnSpPr>
        <p:spPr>
          <a:xfrm flipV="1">
            <a:off x="4350960" y="1801440"/>
            <a:ext cx="878760" cy="589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11" name=""/>
          <p:cNvCxnSpPr>
            <a:stCxn id="2204" idx="0"/>
            <a:endCxn id="2203" idx="4"/>
          </p:cNvCxnSpPr>
          <p:nvPr/>
        </p:nvCxnSpPr>
        <p:spPr>
          <a:xfrm flipV="1">
            <a:off x="5330520" y="1844280"/>
            <a:ext cx="1080" cy="1224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212" name=""/>
          <p:cNvSpPr/>
          <p:nvPr/>
        </p:nvSpPr>
        <p:spPr>
          <a:xfrm>
            <a:off x="3423960" y="2600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"/>
          <p:cNvSpPr/>
          <p:nvPr/>
        </p:nvSpPr>
        <p:spPr>
          <a:xfrm>
            <a:off x="4432320" y="1700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>
            <a:off x="4467240" y="2959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>
            <a:off x="5474880" y="22050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>
            <a:off x="1587240" y="22766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"/>
          <p:cNvSpPr/>
          <p:nvPr/>
        </p:nvSpPr>
        <p:spPr>
          <a:xfrm>
            <a:off x="2522160" y="17352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"/>
          <p:cNvSpPr/>
          <p:nvPr/>
        </p:nvSpPr>
        <p:spPr>
          <a:xfrm>
            <a:off x="2522160" y="2816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"/>
          <p:cNvSpPr/>
          <p:nvPr/>
        </p:nvSpPr>
        <p:spPr>
          <a:xfrm>
            <a:off x="1491480" y="149076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1F0A-40FF-411D-AB33-24B60F0571C5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"/>
          <p:cNvSpPr/>
          <p:nvPr/>
        </p:nvSpPr>
        <p:spPr>
          <a:xfrm>
            <a:off x="1943280" y="3068640"/>
            <a:ext cx="287280" cy="287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semp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2" name=""/>
          <p:cNvSpPr/>
          <p:nvPr/>
        </p:nvSpPr>
        <p:spPr>
          <a:xfrm>
            <a:off x="1946160" y="1557360"/>
            <a:ext cx="287280" cy="2872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"/>
          <p:cNvSpPr/>
          <p:nvPr/>
        </p:nvSpPr>
        <p:spPr>
          <a:xfrm>
            <a:off x="2954160" y="2347920"/>
            <a:ext cx="287640" cy="287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"/>
          <p:cNvSpPr/>
          <p:nvPr/>
        </p:nvSpPr>
        <p:spPr>
          <a:xfrm>
            <a:off x="4106880" y="2347920"/>
            <a:ext cx="287280" cy="287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"/>
          <p:cNvSpPr/>
          <p:nvPr/>
        </p:nvSpPr>
        <p:spPr>
          <a:xfrm>
            <a:off x="5186520" y="1557360"/>
            <a:ext cx="287280" cy="287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"/>
          <p:cNvSpPr/>
          <p:nvPr/>
        </p:nvSpPr>
        <p:spPr>
          <a:xfrm>
            <a:off x="5186520" y="3068640"/>
            <a:ext cx="287280" cy="287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27" name=""/>
          <p:cNvCxnSpPr>
            <a:stCxn id="2222" idx="5"/>
            <a:endCxn id="2223" idx="1"/>
          </p:cNvCxnSpPr>
          <p:nvPr/>
        </p:nvCxnSpPr>
        <p:spPr>
          <a:xfrm>
            <a:off x="2190240" y="1801800"/>
            <a:ext cx="807480" cy="589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28" name=""/>
          <p:cNvCxnSpPr>
            <a:stCxn id="2229" idx="7"/>
            <a:endCxn id="2223" idx="3"/>
          </p:cNvCxnSpPr>
          <p:nvPr/>
        </p:nvCxnSpPr>
        <p:spPr>
          <a:xfrm flipV="1">
            <a:off x="2190240" y="2592000"/>
            <a:ext cx="807480" cy="519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30" name=""/>
          <p:cNvCxnSpPr>
            <a:stCxn id="2229" idx="0"/>
            <a:endCxn id="2222" idx="4"/>
          </p:cNvCxnSpPr>
          <p:nvPr/>
        </p:nvCxnSpPr>
        <p:spPr>
          <a:xfrm flipV="1">
            <a:off x="2090520" y="1844280"/>
            <a:ext cx="1080" cy="1224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31" name=""/>
          <p:cNvCxnSpPr>
            <a:stCxn id="2223" idx="6"/>
            <a:endCxn id="2224" idx="2"/>
          </p:cNvCxnSpPr>
          <p:nvPr/>
        </p:nvCxnSpPr>
        <p:spPr>
          <a:xfrm>
            <a:off x="3241440" y="2491920"/>
            <a:ext cx="86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32" name=""/>
          <p:cNvCxnSpPr>
            <a:stCxn id="2224" idx="5"/>
            <a:endCxn id="2226" idx="2"/>
          </p:cNvCxnSpPr>
          <p:nvPr/>
        </p:nvCxnSpPr>
        <p:spPr>
          <a:xfrm>
            <a:off x="4351320" y="2592360"/>
            <a:ext cx="835920" cy="621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33" name=""/>
          <p:cNvCxnSpPr>
            <a:stCxn id="2224" idx="7"/>
            <a:endCxn id="2225" idx="3"/>
          </p:cNvCxnSpPr>
          <p:nvPr/>
        </p:nvCxnSpPr>
        <p:spPr>
          <a:xfrm flipV="1">
            <a:off x="4350960" y="1801440"/>
            <a:ext cx="878760" cy="589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34" name=""/>
          <p:cNvCxnSpPr>
            <a:stCxn id="2226" idx="0"/>
            <a:endCxn id="2225" idx="4"/>
          </p:cNvCxnSpPr>
          <p:nvPr/>
        </p:nvCxnSpPr>
        <p:spPr>
          <a:xfrm flipV="1">
            <a:off x="5330520" y="1844280"/>
            <a:ext cx="1080" cy="1224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235" name=""/>
          <p:cNvSpPr/>
          <p:nvPr/>
        </p:nvSpPr>
        <p:spPr>
          <a:xfrm>
            <a:off x="3423960" y="2600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"/>
          <p:cNvSpPr/>
          <p:nvPr/>
        </p:nvSpPr>
        <p:spPr>
          <a:xfrm>
            <a:off x="4432320" y="1700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"/>
          <p:cNvSpPr/>
          <p:nvPr/>
        </p:nvSpPr>
        <p:spPr>
          <a:xfrm>
            <a:off x="4467240" y="2959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"/>
          <p:cNvSpPr/>
          <p:nvPr/>
        </p:nvSpPr>
        <p:spPr>
          <a:xfrm>
            <a:off x="5474880" y="22050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"/>
          <p:cNvSpPr/>
          <p:nvPr/>
        </p:nvSpPr>
        <p:spPr>
          <a:xfrm>
            <a:off x="1587240" y="22766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"/>
          <p:cNvSpPr/>
          <p:nvPr/>
        </p:nvSpPr>
        <p:spPr>
          <a:xfrm>
            <a:off x="2522160" y="17352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"/>
          <p:cNvSpPr/>
          <p:nvPr/>
        </p:nvSpPr>
        <p:spPr>
          <a:xfrm>
            <a:off x="2522160" y="2816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"/>
          <p:cNvSpPr/>
          <p:nvPr/>
        </p:nvSpPr>
        <p:spPr>
          <a:xfrm>
            <a:off x="1491480" y="149076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"/>
          <p:cNvSpPr/>
          <p:nvPr/>
        </p:nvSpPr>
        <p:spPr>
          <a:xfrm>
            <a:off x="1627200" y="310356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"/>
          <p:cNvSpPr/>
          <p:nvPr/>
        </p:nvSpPr>
        <p:spPr>
          <a:xfrm>
            <a:off x="3155040" y="198900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"/>
          <p:cNvSpPr/>
          <p:nvPr/>
        </p:nvSpPr>
        <p:spPr>
          <a:xfrm>
            <a:off x="4000320" y="198900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"/>
          <p:cNvSpPr/>
          <p:nvPr/>
        </p:nvSpPr>
        <p:spPr>
          <a:xfrm>
            <a:off x="5463360" y="148428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"/>
          <p:cNvSpPr/>
          <p:nvPr/>
        </p:nvSpPr>
        <p:spPr>
          <a:xfrm>
            <a:off x="5461560" y="3103560"/>
            <a:ext cx="30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8" name=""/>
          <p:cNvGrpSpPr/>
          <p:nvPr/>
        </p:nvGrpSpPr>
        <p:grpSpPr>
          <a:xfrm>
            <a:off x="611280" y="3068640"/>
            <a:ext cx="3529080" cy="1297080"/>
            <a:chOff x="611280" y="3068640"/>
            <a:chExt cx="3529080" cy="1297080"/>
          </a:xfrm>
        </p:grpSpPr>
        <p:sp>
          <p:nvSpPr>
            <p:cNvPr id="2229" name=""/>
            <p:cNvSpPr/>
            <p:nvPr/>
          </p:nvSpPr>
          <p:spPr>
            <a:xfrm>
              <a:off x="1946160" y="3068640"/>
              <a:ext cx="287280" cy="287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611280" y="3978360"/>
              <a:ext cx="352908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609480" indent="-60948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,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):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lusso di valore 4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0" name=""/>
          <p:cNvGrpSpPr/>
          <p:nvPr/>
        </p:nvGrpSpPr>
        <p:grpSpPr>
          <a:xfrm>
            <a:off x="611280" y="2344680"/>
            <a:ext cx="3529080" cy="2597040"/>
            <a:chOff x="611280" y="2344680"/>
            <a:chExt cx="3529080" cy="2597040"/>
          </a:xfrm>
        </p:grpSpPr>
        <p:sp>
          <p:nvSpPr>
            <p:cNvPr id="2251" name=""/>
            <p:cNvSpPr/>
            <p:nvPr/>
          </p:nvSpPr>
          <p:spPr>
            <a:xfrm>
              <a:off x="2962440" y="2344680"/>
              <a:ext cx="287280" cy="287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611280" y="4554360"/>
              <a:ext cx="352908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609480" indent="-60948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,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b</a:t>
              </a: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):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lusso di valore 4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3" name=""/>
          <p:cNvGrpSpPr/>
          <p:nvPr/>
        </p:nvGrpSpPr>
        <p:grpSpPr>
          <a:xfrm>
            <a:off x="611280" y="2349360"/>
            <a:ext cx="3790800" cy="3168720"/>
            <a:chOff x="611280" y="2349360"/>
            <a:chExt cx="3790800" cy="3168720"/>
          </a:xfrm>
        </p:grpSpPr>
        <p:sp>
          <p:nvSpPr>
            <p:cNvPr id="2254" name=""/>
            <p:cNvSpPr/>
            <p:nvPr/>
          </p:nvSpPr>
          <p:spPr>
            <a:xfrm>
              <a:off x="4114800" y="2349360"/>
              <a:ext cx="287280" cy="287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611280" y="5130720"/>
              <a:ext cx="352908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609480" indent="-60948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,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c</a:t>
              </a: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):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lusso di valore 1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6" name=""/>
          <p:cNvGrpSpPr/>
          <p:nvPr/>
        </p:nvGrpSpPr>
        <p:grpSpPr>
          <a:xfrm>
            <a:off x="4572000" y="1562040"/>
            <a:ext cx="3529080" cy="2759040"/>
            <a:chOff x="4572000" y="1562040"/>
            <a:chExt cx="3529080" cy="2759040"/>
          </a:xfrm>
        </p:grpSpPr>
        <p:sp>
          <p:nvSpPr>
            <p:cNvPr id="2257" name=""/>
            <p:cNvSpPr/>
            <p:nvPr/>
          </p:nvSpPr>
          <p:spPr>
            <a:xfrm>
              <a:off x="5191200" y="1562040"/>
              <a:ext cx="287280" cy="287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4572000" y="3933720"/>
              <a:ext cx="352908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609480" indent="-60948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,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d</a:t>
              </a: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):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lusso di valore 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9" name=""/>
          <p:cNvGrpSpPr/>
          <p:nvPr/>
        </p:nvGrpSpPr>
        <p:grpSpPr>
          <a:xfrm>
            <a:off x="4572000" y="3070080"/>
            <a:ext cx="3529080" cy="1825920"/>
            <a:chOff x="4572000" y="3070080"/>
            <a:chExt cx="3529080" cy="1825920"/>
          </a:xfrm>
        </p:grpSpPr>
        <p:sp>
          <p:nvSpPr>
            <p:cNvPr id="2260" name=""/>
            <p:cNvSpPr/>
            <p:nvPr/>
          </p:nvSpPr>
          <p:spPr>
            <a:xfrm>
              <a:off x="5186520" y="3070080"/>
              <a:ext cx="287280" cy="287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4572000" y="4508640"/>
              <a:ext cx="352908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609480" indent="-60948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,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e</a:t>
              </a: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):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lusso di valore 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2" name=""/>
          <p:cNvGrpSpPr/>
          <p:nvPr/>
        </p:nvGrpSpPr>
        <p:grpSpPr>
          <a:xfrm>
            <a:off x="4211640" y="1805760"/>
            <a:ext cx="4608360" cy="4144320"/>
            <a:chOff x="4211640" y="1805760"/>
            <a:chExt cx="4608360" cy="4144320"/>
          </a:xfrm>
        </p:grpSpPr>
        <p:sp>
          <p:nvSpPr>
            <p:cNvPr id="2263" name=""/>
            <p:cNvSpPr/>
            <p:nvPr/>
          </p:nvSpPr>
          <p:spPr>
            <a:xfrm>
              <a:off x="4211640" y="5300640"/>
              <a:ext cx="460836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609480" indent="-60948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aglio minimo in corrispondenza del flusso </a:t>
              </a: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,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e</a:t>
              </a: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)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 = {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,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a</a:t>
              </a: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,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b</a:t>
              </a: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,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c</a:t>
              </a:r>
              <a:r>
                <a:rPr b="0" lang="en-US" sz="2000" spc="-1" strike="noStrike">
                  <a:solidFill>
                    <a:srgbClr val="000000"/>
                  </a:solidFill>
                  <a:latin typeface="Bookman Old Style"/>
                  <a:ea typeface="Arial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64" name=""/>
            <p:cNvCxnSpPr>
              <a:stCxn id="2254" idx="7"/>
              <a:endCxn id="2257" idx="3"/>
            </p:cNvCxnSpPr>
            <p:nvPr/>
          </p:nvCxnSpPr>
          <p:spPr>
            <a:xfrm flipV="1">
              <a:off x="4359240" y="1805760"/>
              <a:ext cx="875520" cy="58644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265" name=""/>
            <p:cNvCxnSpPr>
              <a:stCxn id="2254" idx="5"/>
              <a:endCxn id="2260" idx="2"/>
            </p:cNvCxnSpPr>
            <p:nvPr/>
          </p:nvCxnSpPr>
          <p:spPr>
            <a:xfrm>
              <a:off x="4359240" y="2593440"/>
              <a:ext cx="828000" cy="6217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2443-EEC0-45EE-A6CC-03057EE44BDE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L’operazione di “node identification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7" name="PlaceHolder 2"/>
          <p:cNvSpPr>
            <a:spLocks noGrp="1"/>
          </p:cNvSpPr>
          <p:nvPr>
            <p:ph/>
          </p:nvPr>
        </p:nvSpPr>
        <p:spPr>
          <a:xfrm>
            <a:off x="609480" y="3357720"/>
            <a:ext cx="792504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sono due vertici distinti,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uv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è il grafo che si ottiene pone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uv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) =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V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\{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u, v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}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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{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2. Un arco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ij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di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rimane in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G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Bookman Old Style"/>
              </a:rPr>
              <a:t>uv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 sia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che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ono distinti da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e da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. Se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j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=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(ovvero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j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=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), l’arco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iu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(ovvero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iv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) diventa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ix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se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=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u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(ovvero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i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), l’arco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uj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(ovvero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vj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) diventa l’arco </a:t>
            </a:r>
            <a:r>
              <a:rPr b="0" i="1" lang="it-IT" sz="2400" spc="-1" strike="noStrike">
                <a:solidFill>
                  <a:srgbClr val="000000"/>
                </a:solidFill>
                <a:latin typeface="Bookman Old Style"/>
              </a:rPr>
              <a:t>xj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8" name=""/>
          <p:cNvGrpSpPr/>
          <p:nvPr/>
        </p:nvGrpSpPr>
        <p:grpSpPr>
          <a:xfrm>
            <a:off x="1987560" y="1413000"/>
            <a:ext cx="4383360" cy="2018160"/>
            <a:chOff x="1987560" y="1413000"/>
            <a:chExt cx="4383360" cy="2018160"/>
          </a:xfrm>
        </p:grpSpPr>
        <p:sp>
          <p:nvSpPr>
            <p:cNvPr id="2269" name=""/>
            <p:cNvSpPr/>
            <p:nvPr/>
          </p:nvSpPr>
          <p:spPr>
            <a:xfrm>
              <a:off x="2378160" y="1486080"/>
              <a:ext cx="287280" cy="2872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2378160" y="2997360"/>
              <a:ext cx="287280" cy="2872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3386160" y="2276640"/>
              <a:ext cx="287280" cy="2872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4538520" y="2276640"/>
              <a:ext cx="287640" cy="2872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5618160" y="1486080"/>
              <a:ext cx="287280" cy="2872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5618160" y="2997360"/>
              <a:ext cx="287280" cy="2872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75" name=""/>
            <p:cNvCxnSpPr>
              <a:stCxn id="2269" idx="5"/>
              <a:endCxn id="2271" idx="1"/>
            </p:cNvCxnSpPr>
            <p:nvPr/>
          </p:nvCxnSpPr>
          <p:spPr>
            <a:xfrm>
              <a:off x="2622600" y="1730520"/>
              <a:ext cx="807120" cy="589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6" name=""/>
            <p:cNvCxnSpPr>
              <a:stCxn id="2270" idx="7"/>
              <a:endCxn id="2271" idx="3"/>
            </p:cNvCxnSpPr>
            <p:nvPr/>
          </p:nvCxnSpPr>
          <p:spPr>
            <a:xfrm flipV="1">
              <a:off x="2622600" y="2520720"/>
              <a:ext cx="807120" cy="519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7" name=""/>
            <p:cNvCxnSpPr>
              <a:stCxn id="2270" idx="0"/>
              <a:endCxn id="2269" idx="4"/>
            </p:cNvCxnSpPr>
            <p:nvPr/>
          </p:nvCxnSpPr>
          <p:spPr>
            <a:xfrm flipV="1">
              <a:off x="2522160" y="1773000"/>
              <a:ext cx="1080" cy="1224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8" name=""/>
            <p:cNvCxnSpPr>
              <a:stCxn id="2271" idx="6"/>
              <a:endCxn id="2272" idx="2"/>
            </p:cNvCxnSpPr>
            <p:nvPr/>
          </p:nvCxnSpPr>
          <p:spPr>
            <a:xfrm>
              <a:off x="3673080" y="2420640"/>
              <a:ext cx="8658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9" name=""/>
            <p:cNvCxnSpPr>
              <a:stCxn id="2272" idx="5"/>
              <a:endCxn id="2274" idx="2"/>
            </p:cNvCxnSpPr>
            <p:nvPr/>
          </p:nvCxnSpPr>
          <p:spPr>
            <a:xfrm>
              <a:off x="4782960" y="2521080"/>
              <a:ext cx="835920" cy="621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80" name=""/>
            <p:cNvCxnSpPr>
              <a:stCxn id="2272" idx="7"/>
              <a:endCxn id="2273" idx="3"/>
            </p:cNvCxnSpPr>
            <p:nvPr/>
          </p:nvCxnSpPr>
          <p:spPr>
            <a:xfrm flipV="1">
              <a:off x="4782600" y="1730160"/>
              <a:ext cx="878760" cy="589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81" name=""/>
            <p:cNvCxnSpPr>
              <a:stCxn id="2274" idx="0"/>
              <a:endCxn id="2273" idx="4"/>
            </p:cNvCxnSpPr>
            <p:nvPr/>
          </p:nvCxnSpPr>
          <p:spPr>
            <a:xfrm flipV="1">
              <a:off x="5762160" y="1773000"/>
              <a:ext cx="1080" cy="1224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82" name=""/>
            <p:cNvSpPr/>
            <p:nvPr/>
          </p:nvSpPr>
          <p:spPr>
            <a:xfrm>
              <a:off x="3855600" y="25290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4863960" y="16286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4898880" y="28875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5906880" y="21337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2018880" y="220500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2954160" y="16635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2954160" y="27446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1987560" y="1484280"/>
              <a:ext cx="32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2054880" y="2997360"/>
              <a:ext cx="32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3497040" y="1916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4364640" y="1916280"/>
              <a:ext cx="32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5893200" y="3032280"/>
              <a:ext cx="30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5886000" y="1413000"/>
              <a:ext cx="26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Bookman Old Style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etto e Ottimizzazione di Reti 06-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5EDE-F14C-49B0-A18A-742F865489CA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9T16:55:04Z</dcterms:created>
  <dc:creator>/</dc:creator>
  <dc:description/>
  <dc:language>en-US</dc:language>
  <cp:lastModifiedBy> </cp:lastModifiedBy>
  <dcterms:modified xsi:type="dcterms:W3CDTF">2006-10-20T13:49:48Z</dcterms:modified>
  <cp:revision>190</cp:revision>
  <dc:subject/>
  <dc:title>Diapositiva 1</dc:title>
</cp:coreProperties>
</file>