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414-A25C-4F66-A553-17716144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3C6-9C24-426E-B01D-09290ECA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805-8230-407F-92DE-05FCEA98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5B0-18D0-4A68-869D-C6C20616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AF32-BB8D-4566-B5FC-BDD5B643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A56D-C472-4B8C-857D-1D9577D4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29D6-1FEE-4CDD-AFB1-74A22F3C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72DC-7C77-4944-AC22-887AD9CE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05CC-378C-475C-A519-DBB66CBE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F58D-2357-45F6-B01F-08D091D5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612F-4A32-480F-B05E-AC5A57B1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CB5-4732-4E18-A5B7-24B7E024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8508-96D9-441E-AF81-7629603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E62C-869B-4237-A7BE-B261CEA6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B096-E194-45C2-AB29-35AC8084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1D81-C755-41EA-87C0-F591C520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A622-38F2-49F5-8584-FAB1125E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422-9F2D-463F-859C-7343F67B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E5E-B8EF-460A-B06F-BCD1AD2B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BA4-EB81-4D65-A0B2-95013D6B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354-2BDA-4E93-AE21-55A92FD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D34-F0FD-43D1-ADA6-84E93281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CEA-BC4A-48D7-B833-1AD3D3E9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33E-11EE-4233-9567-9B829A7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4360" y="1104840"/>
            <a:ext cx="1784160" cy="2324160"/>
            <a:chOff x="414360" y="1104840"/>
            <a:chExt cx="1784160" cy="2324160"/>
          </a:xfrm>
        </p:grpSpPr>
        <p:sp>
          <p:nvSpPr>
            <p:cNvPr id="57" name=""/>
            <p:cNvSpPr/>
            <p:nvPr/>
          </p:nvSpPr>
          <p:spPr>
            <a:xfrm flipH="1">
              <a:off x="414360" y="1202400"/>
              <a:ext cx="17841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00" y="110808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11200" y="110484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1904760" y="624852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0CC3-3CE5-4443-8635-DAE43947E1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B254-901D-408D-B126-9078E897B2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239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arte III </a:t>
            </a:r>
            <a:br>
              <a:rPr sz="2800"/>
            </a:b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goritmo di branch-and-bound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ssuna pota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038480" y="2057400"/>
            <a:ext cx="1573560" cy="882000"/>
            <a:chOff x="4038480" y="2057400"/>
            <a:chExt cx="1573560" cy="882000"/>
          </a:xfrm>
        </p:grpSpPr>
        <p:grpSp>
          <p:nvGrpSpPr>
            <p:cNvPr id="392" name=""/>
            <p:cNvGrpSpPr/>
            <p:nvPr/>
          </p:nvGrpSpPr>
          <p:grpSpPr>
            <a:xfrm>
              <a:off x="4038480" y="2324160"/>
              <a:ext cx="533520" cy="533520"/>
              <a:chOff x="4038480" y="2324160"/>
              <a:chExt cx="533520" cy="533520"/>
            </a:xfrm>
          </p:grpSpPr>
          <p:sp>
            <p:nvSpPr>
              <p:cNvPr id="393" name=""/>
              <p:cNvSpPr/>
              <p:nvPr/>
            </p:nvSpPr>
            <p:spPr>
              <a:xfrm>
                <a:off x="4038480" y="232416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75200" y="23241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544640" y="2057400"/>
              <a:ext cx="106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 40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05480" y="2498760"/>
              <a:ext cx="75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073600" y="2819520"/>
            <a:ext cx="2117520" cy="2558160"/>
            <a:chOff x="2073600" y="2819520"/>
            <a:chExt cx="2117520" cy="2558160"/>
          </a:xfrm>
        </p:grpSpPr>
        <p:grpSp>
          <p:nvGrpSpPr>
            <p:cNvPr id="398" name=""/>
            <p:cNvGrpSpPr/>
            <p:nvPr/>
          </p:nvGrpSpPr>
          <p:grpSpPr>
            <a:xfrm>
              <a:off x="2073600" y="4495680"/>
              <a:ext cx="545760" cy="533520"/>
              <a:chOff x="2073600" y="4495680"/>
              <a:chExt cx="545760" cy="533520"/>
            </a:xfrm>
          </p:grpSpPr>
          <p:sp>
            <p:nvSpPr>
              <p:cNvPr id="399" name=""/>
              <p:cNvSpPr/>
              <p:nvPr/>
            </p:nvSpPr>
            <p:spPr>
              <a:xfrm>
                <a:off x="2085840" y="449568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73600" y="449568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 flipV="1">
              <a:off x="2514600" y="2819520"/>
              <a:ext cx="167652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59160" y="342900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19720" y="4495680"/>
              <a:ext cx="1216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 2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06760" y="4937040"/>
              <a:ext cx="1055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8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419720" y="2819520"/>
            <a:ext cx="3674880" cy="2526840"/>
            <a:chOff x="4419720" y="2819520"/>
            <a:chExt cx="3674880" cy="2526840"/>
          </a:xfrm>
        </p:grpSpPr>
        <p:grpSp>
          <p:nvGrpSpPr>
            <p:cNvPr id="406" name=""/>
            <p:cNvGrpSpPr/>
            <p:nvPr/>
          </p:nvGrpSpPr>
          <p:grpSpPr>
            <a:xfrm>
              <a:off x="6437520" y="4495680"/>
              <a:ext cx="572760" cy="533520"/>
              <a:chOff x="6437520" y="4495680"/>
              <a:chExt cx="572760" cy="533520"/>
            </a:xfrm>
          </p:grpSpPr>
          <p:sp>
            <p:nvSpPr>
              <p:cNvPr id="407" name=""/>
              <p:cNvSpPr/>
              <p:nvPr/>
            </p:nvSpPr>
            <p:spPr>
              <a:xfrm>
                <a:off x="6476760" y="449568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37520" y="449568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 flipV="1">
              <a:off x="4419720" y="2819520"/>
              <a:ext cx="220968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51440" y="34894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43320" y="4495680"/>
              <a:ext cx="115128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 37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 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32840" y="5024520"/>
              <a:ext cx="183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638680" y="2133720"/>
            <a:ext cx="1573560" cy="882000"/>
            <a:chOff x="5638680" y="2133720"/>
            <a:chExt cx="1573560" cy="882000"/>
          </a:xfrm>
        </p:grpSpPr>
        <p:sp>
          <p:nvSpPr>
            <p:cNvPr id="414" name=""/>
            <p:cNvSpPr/>
            <p:nvPr/>
          </p:nvSpPr>
          <p:spPr>
            <a:xfrm>
              <a:off x="5638680" y="2362320"/>
              <a:ext cx="38124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44840" y="2133720"/>
              <a:ext cx="106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 37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33320" y="2575080"/>
              <a:ext cx="90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8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Ricapitolando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umero un insieme di soluzioni “implicitamente” perché “poto” rami dell’albero p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ammissibilit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oun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ttimalit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chiamo co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a lista dei sottoproblemi e co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la formulazione del sottoproblem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lgoritmo ha il seguente diagramma di fluss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643280" y="3933720"/>
            <a:ext cx="44197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Caso 3: Ottimalit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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la soluzione ottim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 RL è intera, allora elimin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allor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,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ai a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Test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16360" y="5229360"/>
            <a:ext cx="388944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 una componente frazionari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UB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ramific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ggiungendo a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count+1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0}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count+2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1}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unt = count + 2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3280" y="2421000"/>
            <a:ext cx="44197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Caso 2: Bound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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 si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l valore della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luzione ottim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 RL. 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limin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 bound,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ai a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Tes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1666800"/>
            <a:ext cx="2590920" cy="8384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79560" y="1666800"/>
            <a:ext cx="236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izializzazi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, 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-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unt = 0;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43000" y="2790720"/>
            <a:ext cx="2133720" cy="914400"/>
          </a:xfrm>
          <a:prstGeom prst="diamond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30720" y="308448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est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933720"/>
            <a:ext cx="2590920" cy="8384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14400" y="5000760"/>
            <a:ext cx="2590920" cy="94932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4" idx="2"/>
            <a:endCxn id="426" idx="0"/>
          </p:cNvCxnSpPr>
          <p:nvPr/>
        </p:nvCxnSpPr>
        <p:spPr>
          <a:xfrm>
            <a:off x="2209320" y="3719520"/>
            <a:ext cx="1080" cy="200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6" idx="2"/>
            <a:endCxn id="427" idx="0"/>
          </p:cNvCxnSpPr>
          <p:nvPr/>
        </p:nvCxnSpPr>
        <p:spPr>
          <a:xfrm>
            <a:off x="2209320" y="4786200"/>
            <a:ext cx="1080" cy="200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1032480" y="4040280"/>
            <a:ext cx="2253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egli un problema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la list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96480" y="5091120"/>
            <a:ext cx="2326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solvi il Rilassamento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are su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1197000"/>
            <a:ext cx="3891240" cy="10080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3280" y="2421000"/>
            <a:ext cx="3891240" cy="1307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434" name=""/>
          <p:cNvCxnSpPr>
            <a:stCxn id="432" idx="2"/>
            <a:endCxn id="433" idx="0"/>
          </p:cNvCxnSpPr>
          <p:nvPr/>
        </p:nvCxnSpPr>
        <p:spPr>
          <a:xfrm>
            <a:off x="6589440" y="2219400"/>
            <a:ext cx="1080" cy="18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4643280" y="3971880"/>
            <a:ext cx="3889440" cy="10810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43280" y="5300640"/>
            <a:ext cx="3891240" cy="12970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437" name=""/>
          <p:cNvCxnSpPr>
            <a:stCxn id="436" idx="2"/>
            <a:endCxn id="424" idx="1"/>
          </p:cNvCxnSpPr>
          <p:nvPr/>
        </p:nvCxnSpPr>
        <p:spPr>
          <a:xfrm flipV="1" rot="16200000">
            <a:off x="2176920" y="2198520"/>
            <a:ext cx="3364560" cy="5461920"/>
          </a:xfrm>
          <a:prstGeom prst="bentConnector4">
            <a:avLst>
              <a:gd name="adj1" fmla="val -2397"/>
              <a:gd name="adj2" fmla="val 10877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27" idx="2"/>
            <a:endCxn id="432" idx="0"/>
          </p:cNvCxnSpPr>
          <p:nvPr/>
        </p:nvCxnSpPr>
        <p:spPr>
          <a:xfrm flipH="1" flipV="1" rot="5400000">
            <a:off x="2007720" y="1382760"/>
            <a:ext cx="4782240" cy="4380840"/>
          </a:xfrm>
          <a:prstGeom prst="bentConnector5">
            <a:avLst>
              <a:gd name="adj1" fmla="val -4479"/>
              <a:gd name="adj2" fmla="val 42587"/>
              <a:gd name="adj3" fmla="val 10447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22" idx="2"/>
          </p:cNvCxnSpPr>
          <p:nvPr/>
        </p:nvCxnSpPr>
        <p:spPr>
          <a:xfrm>
            <a:off x="2209320" y="2519280"/>
            <a:ext cx="2520" cy="262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3" idx="2"/>
            <a:endCxn id="435" idx="0"/>
          </p:cNvCxnSpPr>
          <p:nvPr/>
        </p:nvCxnSpPr>
        <p:spPr>
          <a:xfrm flipH="1">
            <a:off x="6587280" y="3742920"/>
            <a:ext cx="252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5060880" y="1197000"/>
            <a:ext cx="35816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so 1: Inammissibilit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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limina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inammissibilità, vai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es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Branch-and-Bound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35" idx="2"/>
            <a:endCxn id="436" idx="0"/>
          </p:cNvCxnSpPr>
          <p:nvPr/>
        </p:nvCxnSpPr>
        <p:spPr>
          <a:xfrm>
            <a:off x="6587640" y="5067360"/>
            <a:ext cx="2520" cy="219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7240" y="1196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nsideriamo il problema di knapsac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9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15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8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6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5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4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6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11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6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5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5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4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19      (1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{0,1}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soluzione ottima del rilassamento lineare è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 (1, 1, 1/3, 0, 0, 0, 0) di valore 26.666 (UB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ssiamo anche inizializzare il LB con la soluzion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mmissibile x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  (1, 1, 0, 0, 0, 0, 1) di valore 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Osserva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iché la f.o. ha coefficienti interi, possiamo scrivere la condi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potatura per bound (caso 2) com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UB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L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537320" y="49370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64880" y="4419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70040" y="541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6040" y="54799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41320" y="3641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71920" y="2770200"/>
            <a:ext cx="19810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.91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0.727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25960" y="152388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37160" y="1265400"/>
            <a:ext cx="28303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it-IT" sz="1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= 26.66 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it-IT" sz="1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(1, 1, 0.33, 0, 0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it-IT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it-IT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92240" y="1646280"/>
            <a:ext cx="205740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6.4 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.4, 0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638680" y="2179800"/>
            <a:ext cx="28306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6.654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0.636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, 0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22320" y="2716200"/>
            <a:ext cx="28306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6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.4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82960" y="251460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20840" y="35053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92640" y="251460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38360" y="358128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461" name=""/>
          <p:cNvCxnSpPr>
            <a:stCxn id="452" idx="3"/>
            <a:endCxn id="457" idx="7"/>
          </p:cNvCxnSpPr>
          <p:nvPr/>
        </p:nvCxnSpPr>
        <p:spPr>
          <a:xfrm flipH="1">
            <a:off x="3372840" y="1928520"/>
            <a:ext cx="819720" cy="639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57" idx="3"/>
            <a:endCxn id="458" idx="0"/>
          </p:cNvCxnSpPr>
          <p:nvPr/>
        </p:nvCxnSpPr>
        <p:spPr>
          <a:xfrm flipH="1">
            <a:off x="2448720" y="2919240"/>
            <a:ext cx="600840" cy="572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57" idx="5"/>
            <a:endCxn id="460" idx="0"/>
          </p:cNvCxnSpPr>
          <p:nvPr/>
        </p:nvCxnSpPr>
        <p:spPr>
          <a:xfrm>
            <a:off x="3373200" y="2919240"/>
            <a:ext cx="29412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52" idx="5"/>
            <a:endCxn id="459" idx="1"/>
          </p:cNvCxnSpPr>
          <p:nvPr/>
        </p:nvCxnSpPr>
        <p:spPr>
          <a:xfrm>
            <a:off x="4516200" y="1928520"/>
            <a:ext cx="743400" cy="639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5192640" y="35053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59680" y="342900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3962520"/>
            <a:ext cx="21337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, 1, 0.4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94560" y="2971800"/>
            <a:ext cx="28303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6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0.33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, 0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591000" y="35053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345280" y="335268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52280" y="3932280"/>
            <a:ext cx="28306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6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.5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41520" y="4541760"/>
            <a:ext cx="28306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4.91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0.727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91320" y="5486400"/>
            <a:ext cx="28303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.4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.4, 0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67480" y="4160880"/>
            <a:ext cx="183996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, 0, 0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63640" y="434340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441972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400800" y="495288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58200" y="493704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479" name=""/>
          <p:cNvCxnSpPr>
            <a:stCxn id="458" idx="3"/>
            <a:endCxn id="475" idx="0"/>
          </p:cNvCxnSpPr>
          <p:nvPr/>
        </p:nvCxnSpPr>
        <p:spPr>
          <a:xfrm flipH="1">
            <a:off x="1992240" y="3909960"/>
            <a:ext cx="295560" cy="419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58" idx="5"/>
            <a:endCxn id="476" idx="0"/>
          </p:cNvCxnSpPr>
          <p:nvPr/>
        </p:nvCxnSpPr>
        <p:spPr>
          <a:xfrm>
            <a:off x="2611080" y="3909960"/>
            <a:ext cx="43740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59" idx="5"/>
            <a:endCxn id="466" idx="0"/>
          </p:cNvCxnSpPr>
          <p:nvPr/>
        </p:nvCxnSpPr>
        <p:spPr>
          <a:xfrm>
            <a:off x="5583240" y="2919240"/>
            <a:ext cx="9057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59" idx="4"/>
            <a:endCxn id="465" idx="0"/>
          </p:cNvCxnSpPr>
          <p:nvPr/>
        </p:nvCxnSpPr>
        <p:spPr>
          <a:xfrm>
            <a:off x="5420880" y="2986200"/>
            <a:ext cx="1080" cy="505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7" idx="0"/>
            <a:endCxn id="466" idx="4"/>
          </p:cNvCxnSpPr>
          <p:nvPr/>
        </p:nvCxnSpPr>
        <p:spPr>
          <a:xfrm flipH="1" flipV="1">
            <a:off x="6487920" y="3900600"/>
            <a:ext cx="14184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8" idx="1"/>
            <a:endCxn id="466" idx="5"/>
          </p:cNvCxnSpPr>
          <p:nvPr/>
        </p:nvCxnSpPr>
        <p:spPr>
          <a:xfrm flipH="1" flipV="1">
            <a:off x="6649560" y="3832920"/>
            <a:ext cx="975600" cy="1156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7634160" y="493704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6553080" y="495288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2590920" y="541008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6560" y="5419800"/>
            <a:ext cx="45720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5913360"/>
            <a:ext cx="16876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44880" y="5913360"/>
            <a:ext cx="28303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.27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0.81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0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 25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1, 1, 0, 0, 0, 0, 1)</a:t>
            </a:r>
            <a:endParaRPr b="0" lang="en-US" sz="1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5"/>
          <a:stretch/>
        </p:blipFill>
        <p:spPr>
          <a:xfrm>
            <a:off x="609480" y="53341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6"/>
          <a:stretch/>
        </p:blipFill>
        <p:spPr>
          <a:xfrm>
            <a:off x="2743200" y="5334120"/>
            <a:ext cx="542880" cy="542880"/>
          </a:xfrm>
          <a:prstGeom prst="rect">
            <a:avLst/>
          </a:prstGeom>
          <a:ln w="0">
            <a:noFill/>
          </a:ln>
        </p:spPr>
      </p:pic>
      <p:cxnSp>
        <p:nvCxnSpPr>
          <p:cNvPr id="493" name=""/>
          <p:cNvCxnSpPr>
            <a:stCxn id="475" idx="3"/>
            <a:endCxn id="488" idx="0"/>
          </p:cNvCxnSpPr>
          <p:nvPr/>
        </p:nvCxnSpPr>
        <p:spPr>
          <a:xfrm flipH="1">
            <a:off x="694440" y="4748040"/>
            <a:ext cx="1135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7" idx="0"/>
            <a:endCxn id="475" idx="5"/>
          </p:cNvCxnSpPr>
          <p:nvPr/>
        </p:nvCxnSpPr>
        <p:spPr>
          <a:xfrm flipH="1" flipV="1">
            <a:off x="2154240" y="4748040"/>
            <a:ext cx="66564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4188960" y="158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2832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66200" y="3565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09000" y="4343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7"/>
          <a:stretch/>
        </p:blipFill>
        <p:spPr>
          <a:xfrm>
            <a:off x="2895480" y="434340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523800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55640" y="3505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46160" y="501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0504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790880" y="640080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.B. I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oss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variabili fissa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e IV: 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grammazione dinam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sideriamo il problema di knapsack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max</a:t>
            </a:r>
            <a:r>
              <a:rPr b="0" lang="it-IT" sz="1800" spc="-1" strike="noStrike">
                <a:solidFill>
                  <a:srgbClr val="40458c"/>
                </a:solidFill>
                <a:latin typeface="Bookman Old Style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6 </a:t>
            </a: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+ 10 </a:t>
            </a: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+ 12 </a:t>
            </a: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+ 2</a:t>
            </a: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+ 3 </a:t>
            </a: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5          (1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lang="it-IT" sz="1600" spc="-1" strike="noStrike" baseline="30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soluzione ottima è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(1)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(0, 1, 1),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i valore 22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sideriamo il problema che si ottiene eliminando l’oggetto 2: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max</a:t>
            </a:r>
            <a:r>
              <a:rPr b="0" lang="it-IT" sz="2000" spc="-1" strike="noStrike">
                <a:solidFill>
                  <a:srgbClr val="40458c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6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+ 12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+ 3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5 – 2 = 3   (2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soluzione ottima è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*(2)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=(0, 1),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di valore 12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Osser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soluzion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*(2)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= (0, 1)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è una “sottosoluzione” di </a:t>
            </a: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1600" spc="-1" strike="noStrike" baseline="30000">
                <a:solidFill>
                  <a:srgbClr val="000000"/>
                </a:solidFill>
                <a:latin typeface="Bookman Old Style"/>
              </a:rPr>
              <a:t>(1)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 = (0, 1, 1),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vvero si ottiene da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1800" spc="-1" strike="noStrike" baseline="30000">
                <a:solidFill>
                  <a:srgbClr val="000000"/>
                </a:solidFill>
                <a:latin typeface="Bookman Old Style"/>
              </a:rPr>
              <a:t>(1)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mplicemente eliminando la variabil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grammazione Dinam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1280" y="1292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Schema di princip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to un problema di OC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la Programmazione Dinamica (PD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olve un sottoproblema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all’ottim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terativamente “estende” la soluzione ad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Proprietà fondamentale (optimal substructur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a KP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un problema di knapsack con soluzione ottim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*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sideriamo il problema di knapsack KP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\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che si ottiene da KP eliminando un qualsiasi oggett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diminuendo la capacità dello zaino della quantità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soluzione ottima di KP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è costituita d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*\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r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t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n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ue interi tali che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Tahoma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Tahoma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0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Tahoma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Tahoma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KP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il problema di knapsack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KP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è un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ttoproblem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KP, avente soluzione ottima di valor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917800" y="2060640"/>
                <a:ext cx="237492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grammazione dinam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5960" y="141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 questo formalismo, il valore della soluzione ottima di KP va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alcolo di </a:t>
            </a:r>
            <a:r>
              <a:rPr b="0" i="1" lang="it-IT" sz="2800" spc="-1" strike="noStrike">
                <a:solidFill>
                  <a:srgbClr val="40458c"/>
                </a:solidFill>
                <a:latin typeface="Bookman Old Style"/>
              </a:rPr>
              <a:t>z</a:t>
            </a:r>
            <a:r>
              <a:rPr b="0" i="1" lang="it-IT" sz="2800" spc="-1" strike="noStrike" baseline="-25000">
                <a:solidFill>
                  <a:srgbClr val="40458c"/>
                </a:solidFill>
                <a:latin typeface="Bookman Old Style"/>
              </a:rPr>
              <a:t>n</a:t>
            </a:r>
            <a:r>
              <a:rPr b="0" lang="it-IT" sz="2800" spc="-1" strike="noStrike">
                <a:solidFill>
                  <a:srgbClr val="40458c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40458c"/>
                </a:solidFill>
                <a:latin typeface="Bookman Old Style"/>
              </a:rPr>
              <a:t>b</a:t>
            </a:r>
            <a:r>
              <a:rPr b="0" lang="it-IT" sz="2800" spc="-1" strike="noStrike">
                <a:solidFill>
                  <a:srgbClr val="40458c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. Calcol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{1, …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. Per ogn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calcol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{0, …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 calcola in modo ricorsivo se conosco i valor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{0, …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vide et Impe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max {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problema di OC difficile da risolve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oglio decomporre il problema (1) in una collezione di problemi tali ch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ni nuovo problema sia facile da risolve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informazioni che ottengo risolvendo la collezione di problemi mi indicano la sol. ottima di 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 ricorsi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481120" y="2031840"/>
                <a:ext cx="3461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er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r>
                                <m:t xml:space="preserve">≥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826920" y="1197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ondizione iniziale di ricorsion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1280" y="3789360"/>
            <a:ext cx="7848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sta condizione implica: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 = 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= 1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 ricorsi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1268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ormula di ricorsion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768240" y="2063880"/>
                <a:ext cx="731844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d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d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se   </m:t>
                              </m:r>
                              <m:r>
                                <m:t xml:space="preserve">d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  </m:t>
                              </m:r>
                              <m:r>
                                <m:t xml:space="preserve">d</m:t>
                              </m:r>
                              <m:r>
                                <m:t xml:space="preserve">≥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611280" y="3789360"/>
            <a:ext cx="784836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formula implica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0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[l’oggett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N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stato scelto]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-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[l’oggett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È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tato scelto]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13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max</a:t>
            </a:r>
            <a:r>
              <a:rPr b="0" lang="it-IT" sz="2800" spc="-1" strike="noStrike">
                <a:solidFill>
                  <a:srgbClr val="40458c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10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12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2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3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5          (K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lcoliamo la formula di ricorsione per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=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0) = 0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1) = 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2) = 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3) = 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4) = 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5) = 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187280" y="2662200"/>
          <a:ext cx="6697800" cy="3575160"/>
        </p:xfrm>
        <a:graphic>
          <a:graphicData uri="http://schemas.openxmlformats.org/drawingml/2006/table">
            <a:tbl>
              <a:tblPr/>
              <a:tblGrid>
                <a:gridCol w="957600"/>
                <a:gridCol w="965160"/>
                <a:gridCol w="947520"/>
                <a:gridCol w="957240"/>
                <a:gridCol w="957240"/>
                <a:gridCol w="955800"/>
                <a:gridCol w="957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</a:t>
                      </a:r>
                      <a:r>
                        <a:rPr b="0" i="1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0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1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2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3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4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5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0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1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2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3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4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5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684360" y="1268280"/>
            <a:ext cx="78483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appresentiamo questi valori in una tabella di dimension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in cui ogni elemento contien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simbolo * nella soluzione indica che la variabile non è stata ancora fissat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292040"/>
            <a:ext cx="8278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lcoliamo or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d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er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d </a:t>
            </a:r>
            <a:r>
              <a:rPr b="0" lang="it-IT" sz="2400" spc="-1" strike="noStrike">
                <a:solidFill>
                  <a:srgbClr val="ff0000"/>
                </a:solidFill>
                <a:latin typeface="Bookman Old Style"/>
              </a:rPr>
              <a:t>= {0, 1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0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0) = 0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1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1) = 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er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d </a:t>
            </a:r>
            <a:r>
              <a:rPr b="0" lang="it-IT" sz="2400" spc="-1" strike="noStrike">
                <a:solidFill>
                  <a:srgbClr val="ff0000"/>
                </a:solidFill>
                <a:latin typeface="Bookman Old Style"/>
              </a:rPr>
              <a:t>= {2, 3, 4, 5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2) = max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2)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0)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= max{6, 10} = 10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3) = max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3)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1)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= max{6, 16} = 1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4) = max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4)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2)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= max{6, 16} = 1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5) = max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5)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3)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= max{6, 16} = 1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portando questi valori in tabella si 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117440" y="1871640"/>
          <a:ext cx="7054920" cy="4078440"/>
        </p:xfrm>
        <a:graphic>
          <a:graphicData uri="http://schemas.openxmlformats.org/drawingml/2006/table">
            <a:tbl>
              <a:tblPr/>
              <a:tblGrid>
                <a:gridCol w="1008360"/>
                <a:gridCol w="1015920"/>
                <a:gridCol w="1000080"/>
                <a:gridCol w="1006560"/>
                <a:gridCol w="1008000"/>
                <a:gridCol w="1008000"/>
                <a:gridCol w="100800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</a:t>
                      </a:r>
                      <a:r>
                        <a:rPr b="0" i="1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0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0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1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1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1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1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0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1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2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3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4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(5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7680" y="1267920"/>
            <a:ext cx="860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lcoliamo or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d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er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d </a:t>
            </a:r>
            <a:r>
              <a:rPr b="0" lang="it-IT" sz="2400" spc="-1" strike="noStrike">
                <a:solidFill>
                  <a:srgbClr val="ff0000"/>
                </a:solidFill>
                <a:latin typeface="Bookman Old Style"/>
              </a:rPr>
              <a:t>= {0, 1, 2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0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0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0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1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1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0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2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2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er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d </a:t>
            </a:r>
            <a:r>
              <a:rPr b="0" lang="it-IT" sz="2400" spc="-1" strike="noStrike">
                <a:solidFill>
                  <a:srgbClr val="ff0000"/>
                </a:solidFill>
                <a:latin typeface="Bookman Old Style"/>
              </a:rPr>
              <a:t>= {3, 4, 5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3) = max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3)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0)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= max{16, 12} = 16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4) = max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4)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1)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= max{16, 18} = 18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5) = max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5)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2)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= max{16, 22} = 22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portando questi valori in tabella si 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55640" y="1341360"/>
          <a:ext cx="7054920" cy="4078440"/>
        </p:xfrm>
        <a:graphic>
          <a:graphicData uri="http://schemas.openxmlformats.org/drawingml/2006/table">
            <a:tbl>
              <a:tblPr/>
              <a:tblGrid>
                <a:gridCol w="1008000"/>
                <a:gridCol w="1015920"/>
                <a:gridCol w="1000440"/>
                <a:gridCol w="1006200"/>
                <a:gridCol w="1008000"/>
                <a:gridCol w="1008360"/>
                <a:gridCol w="100800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    </a:t>
                      </a:r>
                      <a:r>
                        <a:rPr b="0" i="1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*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0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0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1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1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1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1,*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62106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0,0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0,0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1,0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1,0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1,0,1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8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(0,1,1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6800760" y="4365720"/>
            <a:ext cx="1008000" cy="903240"/>
          </a:xfrm>
          <a:prstGeom prst="ellipse">
            <a:avLst/>
          </a:prstGeom>
          <a:noFill/>
          <a:ln w="38160">
            <a:solidFill>
              <a:srgbClr val="c62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4000" y="57340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Pertanto, la soluzione ottima è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* = (0, 1, 1)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di valor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oritmo e complessi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00000" y="1268280"/>
                <a:ext cx="3649680" cy="37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-K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, b, a, 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se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611280" y="50734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Osservazion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omplessità dell’algoritmo è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O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nb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vvero  dipende dall’intero b (dimensione dello zaino). In questo caso si dice che l’algoritmo ha complessità </a:t>
            </a:r>
            <a:r>
              <a:rPr b="0" lang="it-IT" sz="1800" spc="-1" strike="noStrike">
                <a:solidFill>
                  <a:srgbClr val="40458c"/>
                </a:solidFill>
                <a:latin typeface="Arial"/>
              </a:rPr>
              <a:t>pseudo polinomiale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26560" y="1095480"/>
            <a:ext cx="7402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e V: 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fforzamento di formulazioni e algoritmo del piano di tagl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semplice teoremino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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.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na decomposizione della regione ammissibil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siem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eor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max {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} allora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z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* = ma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ten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ho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richiest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he 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ovvero che la decomposizione sia una partizione, ma non ho escluso che possa essere una partizione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fforzamento di formul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problema di knapsac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max 5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 2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 4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6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914400" y="2438280"/>
            <a:ext cx="4800600" cy="3657600"/>
            <a:chOff x="914400" y="2438280"/>
            <a:chExt cx="4800600" cy="3657600"/>
          </a:xfrm>
        </p:grpSpPr>
        <p:sp>
          <p:nvSpPr>
            <p:cNvPr id="546" name=""/>
            <p:cNvSpPr/>
            <p:nvPr/>
          </p:nvSpPr>
          <p:spPr>
            <a:xfrm>
              <a:off x="914400" y="2438280"/>
              <a:ext cx="190512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09880" y="3962160"/>
              <a:ext cx="1905120" cy="2133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cxnSp>
          <p:nvCxnSpPr>
            <p:cNvPr id="548" name=""/>
            <p:cNvCxnSpPr>
              <a:stCxn id="546" idx="6"/>
              <a:endCxn id="547" idx="2"/>
            </p:cNvCxnSpPr>
            <p:nvPr/>
          </p:nvCxnSpPr>
          <p:spPr>
            <a:xfrm>
              <a:off x="2833200" y="2742840"/>
              <a:ext cx="963000" cy="2286720"/>
            </a:xfrm>
            <a:prstGeom prst="curvedConnector5">
              <a:avLst>
                <a:gd name="adj1" fmla="val 50000"/>
                <a:gd name="adj2" fmla="val 49992"/>
                <a:gd name="adj3" fmla="val 5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549" name=""/>
          <p:cNvSpPr/>
          <p:nvPr/>
        </p:nvSpPr>
        <p:spPr>
          <a:xfrm>
            <a:off x="4267080" y="2514600"/>
            <a:ext cx="59436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a come rilassamento linear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max 5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 2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 4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6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720" y="6033960"/>
            <a:ext cx="77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hiamo c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LP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soluzione ottima del rilassamento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ssiamo individuare una disequazione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valid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conv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che “separa”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L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 conv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2479680" y="4098960"/>
            <a:ext cx="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79680" y="592776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79680" y="402264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70400" y="4022280"/>
            <a:ext cx="91440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84800" y="486108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79680" y="28796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79680" y="592776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886000" y="5927760"/>
            <a:ext cx="38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99800" y="2803680"/>
            <a:ext cx="38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51320" y="3994200"/>
            <a:ext cx="75960" cy="76320"/>
          </a:xfrm>
          <a:prstGeom prst="ellipse">
            <a:avLst/>
          </a:prstGeom>
          <a:solidFill>
            <a:srgbClr val="4045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41520" y="40035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32160" y="58993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56000" y="58993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21080" y="361332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L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828800" y="3648240"/>
            <a:ext cx="3067200" cy="1685880"/>
            <a:chOff x="1828800" y="3648240"/>
            <a:chExt cx="3067200" cy="1685880"/>
          </a:xfrm>
        </p:grpSpPr>
        <p:sp>
          <p:nvSpPr>
            <p:cNvPr id="568" name=""/>
            <p:cNvSpPr/>
            <p:nvPr/>
          </p:nvSpPr>
          <p:spPr>
            <a:xfrm>
              <a:off x="2000160" y="3648240"/>
              <a:ext cx="2895840" cy="1447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828800" y="3657600"/>
              <a:ext cx="171360" cy="2286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4714920" y="5105520"/>
              <a:ext cx="171360" cy="2286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931760" y="3785040"/>
            <a:ext cx="3204720" cy="1255320"/>
            <a:chOff x="1931760" y="3785040"/>
            <a:chExt cx="3204720" cy="1255320"/>
          </a:xfrm>
        </p:grpSpPr>
        <p:sp>
          <p:nvSpPr>
            <p:cNvPr id="572" name=""/>
            <p:cNvSpPr/>
            <p:nvPr/>
          </p:nvSpPr>
          <p:spPr>
            <a:xfrm>
              <a:off x="2064600" y="3785040"/>
              <a:ext cx="3071880" cy="1021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931760" y="3789360"/>
              <a:ext cx="136800" cy="250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988880" y="4789440"/>
              <a:ext cx="137160" cy="250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476440" y="4076640"/>
            <a:ext cx="1876320" cy="18478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870560" y="3855600"/>
            <a:ext cx="2598480" cy="2550240"/>
            <a:chOff x="1870560" y="3855600"/>
            <a:chExt cx="2598480" cy="2550240"/>
          </a:xfrm>
        </p:grpSpPr>
        <p:sp>
          <p:nvSpPr>
            <p:cNvPr id="577" name=""/>
            <p:cNvSpPr/>
            <p:nvPr/>
          </p:nvSpPr>
          <p:spPr>
            <a:xfrm>
              <a:off x="2276280" y="3855600"/>
              <a:ext cx="2192760" cy="21916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870560" y="3889080"/>
              <a:ext cx="407880" cy="3531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4063320" y="6033600"/>
              <a:ext cx="388800" cy="3722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nimal co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ideriamo l’insiem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{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=1, …, 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insiem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cover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e solo s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&gt; 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cover è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inimal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e, comunque pre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,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nsiem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 \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è un cov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sservazion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cover ha associato un vettore caratteristico non ammissibile per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sequazioni co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eor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C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N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un cover, la disequazione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|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| -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1 (*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valida per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conv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imostra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mostriamo che 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{0,1}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non soddisfa il vincolo (*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lor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R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tale ch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&gt; |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| -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1, 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lor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|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|= |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|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ind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R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tant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Bookman Old Style"/>
              </a:rPr>
              <a:t>R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gt;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&gt; 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vvero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Bookman Old Style"/>
              </a:rPr>
              <a:t>R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.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85800" y="12952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sideriamo il problema di knapsack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max</a:t>
            </a:r>
            <a:r>
              <a:rPr b="0" lang="it-IT" sz="2400" spc="-1" strike="noStrike">
                <a:solidFill>
                  <a:srgbClr val="40458c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1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9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8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4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11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4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19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[0,1]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LP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(1, 1, 1/3, 0, 0, 0, 0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62120" y="4297320"/>
            <a:ext cx="77706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a disequazione cover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violata da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it-IT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Times New Roman"/>
              </a:rPr>
              <a:t>L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la disequazion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e si individua una disequazione di tipo cover violata d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L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a di sepa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to un poliedro P, formulazione di un problema d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L-{0,1}, esiste una disequazione di tipo cover ch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par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L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 conv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ispos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)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SI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disequazione esiste e fornisce anche il cover associat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non esis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algoritm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he risponde (correttamente) all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manda con una delle due risposte possibili a) o b), s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iama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ORACOLO DI SEPAR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acolo di separazion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criviamo la disequ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disequazione è violata se e solo 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amo il seguente problema di OC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algoritmo per questo problema è un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oracolo di separ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32040" y="4441680"/>
                <a:ext cx="7610400" cy="12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P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è un cover del vincolo di knapsack 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784680" y="3213000"/>
                <a:ext cx="19047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403280" y="1911240"/>
                <a:ext cx="18003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643280" y="1865160"/>
                <a:ext cx="18748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atti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SE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valore della soluzione ottim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SEP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SE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&lt; 1 esiste una disequazione cover violata associata 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SE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SE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N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siste una disequazione cover viol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1216080" y="1927080"/>
                <a:ext cx="70419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P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è un cover del vincolo di knapsack 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zione del problema di sepa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ariabili decisiona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e l’indic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nel cov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ltrimen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unzione obiet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inco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914400" y="3352680"/>
                <a:ext cx="24382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  <m:r>
                              <m:t xml:space="preserve">j</m:t>
                            </m:r>
                          </m:sub>
                          <m:sup/>
                        </m:sSubSup>
                      </m:e>
                    </m:nary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139760" y="4711680"/>
                <a:ext cx="19861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sformazione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nen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 –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problema di separazione diven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vvero 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1517760" y="2209680"/>
                <a:ext cx="427356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P</m:t>
                                </m:r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P</m:t>
                                </m:r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deriamo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{0,1}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038480" y="2324160"/>
            <a:ext cx="533520" cy="533520"/>
            <a:chOff x="4038480" y="2324160"/>
            <a:chExt cx="533520" cy="533520"/>
          </a:xfrm>
        </p:grpSpPr>
        <p:sp>
          <p:nvSpPr>
            <p:cNvPr id="215" name=""/>
            <p:cNvSpPr/>
            <p:nvPr/>
          </p:nvSpPr>
          <p:spPr>
            <a:xfrm>
              <a:off x="4038480" y="2324160"/>
              <a:ext cx="53352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75200" y="23241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073600" y="2400480"/>
            <a:ext cx="1964880" cy="1143000"/>
            <a:chOff x="2073600" y="2400480"/>
            <a:chExt cx="1964880" cy="1143000"/>
          </a:xfrm>
        </p:grpSpPr>
        <p:grpSp>
          <p:nvGrpSpPr>
            <p:cNvPr id="218" name=""/>
            <p:cNvGrpSpPr/>
            <p:nvPr/>
          </p:nvGrpSpPr>
          <p:grpSpPr>
            <a:xfrm>
              <a:off x="2073600" y="3009960"/>
              <a:ext cx="545760" cy="533520"/>
              <a:chOff x="2073600" y="3009960"/>
              <a:chExt cx="545760" cy="533520"/>
            </a:xfrm>
          </p:grpSpPr>
          <p:sp>
            <p:nvSpPr>
              <p:cNvPr id="219" name=""/>
              <p:cNvSpPr/>
              <p:nvPr/>
            </p:nvSpPr>
            <p:spPr>
              <a:xfrm>
                <a:off x="2085840" y="300996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73600" y="300996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V="1">
              <a:off x="2438280" y="2629080"/>
              <a:ext cx="1600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74960" y="24004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571640" y="2400480"/>
            <a:ext cx="2438640" cy="1143000"/>
            <a:chOff x="4571640" y="2400480"/>
            <a:chExt cx="2438640" cy="1143000"/>
          </a:xfrm>
        </p:grpSpPr>
        <p:grpSp>
          <p:nvGrpSpPr>
            <p:cNvPr id="224" name=""/>
            <p:cNvGrpSpPr/>
            <p:nvPr/>
          </p:nvGrpSpPr>
          <p:grpSpPr>
            <a:xfrm>
              <a:off x="6437520" y="3009960"/>
              <a:ext cx="572760" cy="533520"/>
              <a:chOff x="6437520" y="3009960"/>
              <a:chExt cx="572760" cy="533520"/>
            </a:xfrm>
          </p:grpSpPr>
          <p:sp>
            <p:nvSpPr>
              <p:cNvPr id="225" name=""/>
              <p:cNvSpPr/>
              <p:nvPr/>
            </p:nvSpPr>
            <p:spPr>
              <a:xfrm>
                <a:off x="6476760" y="300996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37520" y="300996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H="1" flipV="1">
              <a:off x="4571640" y="2629080"/>
              <a:ext cx="2057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07040" y="24004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44000" y="3467160"/>
            <a:ext cx="1165680" cy="1005480"/>
            <a:chOff x="1044000" y="3467160"/>
            <a:chExt cx="1165680" cy="1005480"/>
          </a:xfrm>
        </p:grpSpPr>
        <p:grpSp>
          <p:nvGrpSpPr>
            <p:cNvPr id="230" name=""/>
            <p:cNvGrpSpPr/>
            <p:nvPr/>
          </p:nvGrpSpPr>
          <p:grpSpPr>
            <a:xfrm>
              <a:off x="1044000" y="3924360"/>
              <a:ext cx="632520" cy="548280"/>
              <a:chOff x="1044000" y="3924360"/>
              <a:chExt cx="632520" cy="54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1143000" y="392436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44000" y="3962520"/>
                <a:ext cx="609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V="1">
              <a:off x="1600200" y="346716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22480" y="346716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514240" y="3467160"/>
            <a:ext cx="1143360" cy="1005480"/>
            <a:chOff x="2514240" y="3467160"/>
            <a:chExt cx="1143360" cy="1005480"/>
          </a:xfrm>
        </p:grpSpPr>
        <p:grpSp>
          <p:nvGrpSpPr>
            <p:cNvPr id="236" name=""/>
            <p:cNvGrpSpPr/>
            <p:nvPr/>
          </p:nvGrpSpPr>
          <p:grpSpPr>
            <a:xfrm>
              <a:off x="3064680" y="3924360"/>
              <a:ext cx="592920" cy="548280"/>
              <a:chOff x="3064680" y="3924360"/>
              <a:chExt cx="592920" cy="548280"/>
            </a:xfrm>
          </p:grpSpPr>
          <p:sp>
            <p:nvSpPr>
              <p:cNvPr id="237" name=""/>
              <p:cNvSpPr/>
              <p:nvPr/>
            </p:nvSpPr>
            <p:spPr>
              <a:xfrm>
                <a:off x="3124080" y="392436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64680" y="3962520"/>
                <a:ext cx="529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flipH="1" flipV="1">
              <a:off x="2514240" y="34671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74960" y="346716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50680" y="3390840"/>
            <a:ext cx="1202400" cy="1081800"/>
            <a:chOff x="5350680" y="3390840"/>
            <a:chExt cx="1202400" cy="1081800"/>
          </a:xfrm>
        </p:grpSpPr>
        <p:grpSp>
          <p:nvGrpSpPr>
            <p:cNvPr id="242" name=""/>
            <p:cNvGrpSpPr/>
            <p:nvPr/>
          </p:nvGrpSpPr>
          <p:grpSpPr>
            <a:xfrm>
              <a:off x="5350680" y="3924360"/>
              <a:ext cx="592920" cy="548280"/>
              <a:chOff x="5350680" y="3924360"/>
              <a:chExt cx="592920" cy="54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5410080" y="392436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50680" y="3962520"/>
                <a:ext cx="529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flipV="1">
              <a:off x="5715000" y="3467160"/>
              <a:ext cx="8380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89560" y="339084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009920" y="3314880"/>
            <a:ext cx="1219680" cy="1157760"/>
            <a:chOff x="7009920" y="3314880"/>
            <a:chExt cx="1219680" cy="1157760"/>
          </a:xfrm>
        </p:grpSpPr>
        <p:grpSp>
          <p:nvGrpSpPr>
            <p:cNvPr id="248" name=""/>
            <p:cNvGrpSpPr/>
            <p:nvPr/>
          </p:nvGrpSpPr>
          <p:grpSpPr>
            <a:xfrm>
              <a:off x="7636680" y="3924360"/>
              <a:ext cx="592920" cy="548280"/>
              <a:chOff x="7636680" y="3924360"/>
              <a:chExt cx="592920" cy="54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7696440" y="3924360"/>
                <a:ext cx="53316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6680" y="3962520"/>
                <a:ext cx="529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H="1" flipV="1">
              <a:off x="7009920" y="3390840"/>
              <a:ext cx="8384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23280" y="33148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33000" y="4457880"/>
            <a:ext cx="962280" cy="1409400"/>
            <a:chOff x="333000" y="4457880"/>
            <a:chExt cx="962280" cy="1409400"/>
          </a:xfrm>
        </p:grpSpPr>
        <p:grpSp>
          <p:nvGrpSpPr>
            <p:cNvPr id="254" name=""/>
            <p:cNvGrpSpPr/>
            <p:nvPr/>
          </p:nvGrpSpPr>
          <p:grpSpPr>
            <a:xfrm>
              <a:off x="333000" y="5219640"/>
              <a:ext cx="657720" cy="647640"/>
              <a:chOff x="333000" y="5219640"/>
              <a:chExt cx="657720" cy="647640"/>
            </a:xfrm>
          </p:grpSpPr>
          <p:sp>
            <p:nvSpPr>
              <p:cNvPr id="255" name=""/>
              <p:cNvSpPr/>
              <p:nvPr/>
            </p:nvSpPr>
            <p:spPr>
              <a:xfrm>
                <a:off x="380880" y="5219640"/>
                <a:ext cx="609840" cy="647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3000" y="5314680"/>
                <a:ext cx="627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 flipV="1">
              <a:off x="838080" y="4457880"/>
              <a:ext cx="4572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6680" y="453384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401480" y="4457880"/>
            <a:ext cx="858960" cy="1409400"/>
            <a:chOff x="1401480" y="4457880"/>
            <a:chExt cx="858960" cy="1409400"/>
          </a:xfrm>
        </p:grpSpPr>
        <p:grpSp>
          <p:nvGrpSpPr>
            <p:cNvPr id="260" name=""/>
            <p:cNvGrpSpPr/>
            <p:nvPr/>
          </p:nvGrpSpPr>
          <p:grpSpPr>
            <a:xfrm>
              <a:off x="1401480" y="5219640"/>
              <a:ext cx="655920" cy="647640"/>
              <a:chOff x="1401480" y="5219640"/>
              <a:chExt cx="655920" cy="647640"/>
            </a:xfrm>
          </p:grpSpPr>
          <p:sp>
            <p:nvSpPr>
              <p:cNvPr id="261" name=""/>
              <p:cNvSpPr/>
              <p:nvPr/>
            </p:nvSpPr>
            <p:spPr>
              <a:xfrm>
                <a:off x="1401480" y="5314680"/>
                <a:ext cx="627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47920" y="5219640"/>
                <a:ext cx="609480" cy="647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 flipV="1">
              <a:off x="1447560" y="4457880"/>
              <a:ext cx="2286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79680" y="46864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270160" y="4381560"/>
            <a:ext cx="930240" cy="1485720"/>
            <a:chOff x="2270160" y="4381560"/>
            <a:chExt cx="930240" cy="1485720"/>
          </a:xfrm>
        </p:grpSpPr>
        <p:grpSp>
          <p:nvGrpSpPr>
            <p:cNvPr id="266" name=""/>
            <p:cNvGrpSpPr/>
            <p:nvPr/>
          </p:nvGrpSpPr>
          <p:grpSpPr>
            <a:xfrm>
              <a:off x="2392200" y="5219640"/>
              <a:ext cx="655920" cy="647640"/>
              <a:chOff x="2392200" y="5219640"/>
              <a:chExt cx="655920" cy="647640"/>
            </a:xfrm>
          </p:grpSpPr>
          <p:sp>
            <p:nvSpPr>
              <p:cNvPr id="267" name=""/>
              <p:cNvSpPr/>
              <p:nvPr/>
            </p:nvSpPr>
            <p:spPr>
              <a:xfrm>
                <a:off x="2392200" y="5314680"/>
                <a:ext cx="627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438280" y="5219640"/>
                <a:ext cx="609840" cy="647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V="1">
              <a:off x="2743200" y="4381560"/>
              <a:ext cx="4572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70160" y="44578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382560" y="4457880"/>
            <a:ext cx="900360" cy="1409400"/>
            <a:chOff x="3382560" y="4457880"/>
            <a:chExt cx="900360" cy="1409400"/>
          </a:xfrm>
        </p:grpSpPr>
        <p:grpSp>
          <p:nvGrpSpPr>
            <p:cNvPr id="272" name=""/>
            <p:cNvGrpSpPr/>
            <p:nvPr/>
          </p:nvGrpSpPr>
          <p:grpSpPr>
            <a:xfrm>
              <a:off x="3382560" y="5219640"/>
              <a:ext cx="655920" cy="647640"/>
              <a:chOff x="3382560" y="5219640"/>
              <a:chExt cx="655920" cy="647640"/>
            </a:xfrm>
          </p:grpSpPr>
          <p:sp>
            <p:nvSpPr>
              <p:cNvPr id="273" name=""/>
              <p:cNvSpPr/>
              <p:nvPr/>
            </p:nvSpPr>
            <p:spPr>
              <a:xfrm>
                <a:off x="3382560" y="5314680"/>
                <a:ext cx="627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29000" y="5219640"/>
                <a:ext cx="609480" cy="647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H="1" flipV="1">
              <a:off x="3504960" y="4457880"/>
              <a:ext cx="2286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02160" y="459432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708440" y="4381560"/>
            <a:ext cx="777960" cy="1485720"/>
            <a:chOff x="4708440" y="4381560"/>
            <a:chExt cx="777960" cy="1485720"/>
          </a:xfrm>
        </p:grpSpPr>
        <p:grpSp>
          <p:nvGrpSpPr>
            <p:cNvPr id="278" name=""/>
            <p:cNvGrpSpPr/>
            <p:nvPr/>
          </p:nvGrpSpPr>
          <p:grpSpPr>
            <a:xfrm>
              <a:off x="4830480" y="5219640"/>
              <a:ext cx="654480" cy="647640"/>
              <a:chOff x="4830480" y="5219640"/>
              <a:chExt cx="654480" cy="647640"/>
            </a:xfrm>
          </p:grpSpPr>
          <p:sp>
            <p:nvSpPr>
              <p:cNvPr id="279" name=""/>
              <p:cNvSpPr/>
              <p:nvPr/>
            </p:nvSpPr>
            <p:spPr>
              <a:xfrm>
                <a:off x="4830480" y="5314680"/>
                <a:ext cx="627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75120" y="5219640"/>
                <a:ext cx="609840" cy="647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 flipV="1">
              <a:off x="5181480" y="4381560"/>
              <a:ext cx="3049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08440" y="44578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819400" y="4381560"/>
            <a:ext cx="865440" cy="1485720"/>
            <a:chOff x="5819400" y="4381560"/>
            <a:chExt cx="865440" cy="1485720"/>
          </a:xfrm>
        </p:grpSpPr>
        <p:grpSp>
          <p:nvGrpSpPr>
            <p:cNvPr id="284" name=""/>
            <p:cNvGrpSpPr/>
            <p:nvPr/>
          </p:nvGrpSpPr>
          <p:grpSpPr>
            <a:xfrm>
              <a:off x="5819400" y="5219640"/>
              <a:ext cx="655920" cy="647640"/>
              <a:chOff x="5819400" y="5219640"/>
              <a:chExt cx="655920" cy="647640"/>
            </a:xfrm>
          </p:grpSpPr>
          <p:sp>
            <p:nvSpPr>
              <p:cNvPr id="285" name=""/>
              <p:cNvSpPr/>
              <p:nvPr/>
            </p:nvSpPr>
            <p:spPr>
              <a:xfrm>
                <a:off x="5819400" y="5314680"/>
                <a:ext cx="627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5840" y="5219640"/>
                <a:ext cx="609480" cy="647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 flipH="1" flipV="1">
              <a:off x="5866920" y="4381560"/>
              <a:ext cx="2286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04080" y="474660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994440" y="4381560"/>
            <a:ext cx="777960" cy="1485720"/>
            <a:chOff x="6994440" y="4381560"/>
            <a:chExt cx="777960" cy="1485720"/>
          </a:xfrm>
        </p:grpSpPr>
        <p:grpSp>
          <p:nvGrpSpPr>
            <p:cNvPr id="290" name=""/>
            <p:cNvGrpSpPr/>
            <p:nvPr/>
          </p:nvGrpSpPr>
          <p:grpSpPr>
            <a:xfrm>
              <a:off x="7116480" y="5219640"/>
              <a:ext cx="654480" cy="647640"/>
              <a:chOff x="7116480" y="5219640"/>
              <a:chExt cx="654480" cy="647640"/>
            </a:xfrm>
          </p:grpSpPr>
          <p:sp>
            <p:nvSpPr>
              <p:cNvPr id="291" name=""/>
              <p:cNvSpPr/>
              <p:nvPr/>
            </p:nvSpPr>
            <p:spPr>
              <a:xfrm>
                <a:off x="7116480" y="5314680"/>
                <a:ext cx="627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61120" y="5219640"/>
                <a:ext cx="609840" cy="647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 flipV="1">
              <a:off x="7467480" y="4381560"/>
              <a:ext cx="3049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94440" y="44578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105400" y="4381560"/>
            <a:ext cx="941400" cy="1485720"/>
            <a:chOff x="8105400" y="4381560"/>
            <a:chExt cx="941400" cy="1485720"/>
          </a:xfrm>
        </p:grpSpPr>
        <p:grpSp>
          <p:nvGrpSpPr>
            <p:cNvPr id="296" name=""/>
            <p:cNvGrpSpPr/>
            <p:nvPr/>
          </p:nvGrpSpPr>
          <p:grpSpPr>
            <a:xfrm>
              <a:off x="8105400" y="4381560"/>
              <a:ext cx="655920" cy="1485720"/>
              <a:chOff x="8105400" y="4381560"/>
              <a:chExt cx="655920" cy="14857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8105400" y="5219640"/>
                <a:ext cx="655920" cy="647640"/>
                <a:chOff x="8105400" y="5219640"/>
                <a:chExt cx="655920" cy="6476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105400" y="5314680"/>
                  <a:ext cx="6274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151840" y="5219640"/>
                  <a:ext cx="609480" cy="6476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 flipH="1" flipV="1">
                <a:off x="8152920" y="4381560"/>
                <a:ext cx="2286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8366040" y="476244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n problema di knapsa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1828800" y="1647720"/>
                <a:ext cx="4054320" cy="30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P</m:t>
                                </m:r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</m:e>
                        </m:nary>
                        <m:r>
                          <m:t xml:space="preserve">)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max</a:t>
            </a:r>
            <a:r>
              <a:rPr b="0" lang="it-IT" sz="2400" spc="-1" strike="noStrike">
                <a:solidFill>
                  <a:srgbClr val="40458c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1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9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8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4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11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4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1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LP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(1, 1, 1/3, 0, 0, 0, 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 di separ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max (1 – 1)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(1 – 1)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(1 - 1/3)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11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4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38 – 19 – 1 = 1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blema di separ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max 2/3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11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6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5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4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1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{0,1}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luzione ott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* = (0, 0, 0, 1, 1, 1, 1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valore 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portiamola nello spazio del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*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(1, 1, 1, 0, 0, 0, 0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valore 2/3, ovvero &lt;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tanto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valore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SE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&lt; 1, ovvero esiste una disequazione cover viol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. La disequazione è scritta in corrispondenza agli indici che hanno valore 1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ovver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*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(1, 1, 1, 0, 0, 0, 0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corrisponde 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icapitolan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goritmo del piano di taglio (CU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to il rilassamento lineare di un problema di knapsack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lcola la soluzione ottim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L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LP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0, 1}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STOP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altrimenti vai a 3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sci il problema di separazion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olvo  il problema di separazion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esiste una disequazione cover violata la aggiungo alla formulazione corrente e torno al punto  1, altrimenti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STO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sserv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lgoritmo del piano di taglio può arrestarsi senza aver trovato la soluzione ottima intera. Che cosa si fa in questo cas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goritmo di Cut-and-bran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problema di separazione è un problema di knapsac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vente la stessa dimensione del problema origin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erché non risolvere all’ottimo direttamente il problema originari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sa succede se si risolve euristicamente il problema di separazion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Cut-and-bran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4643280" y="3933720"/>
            <a:ext cx="44197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Caso 3: Ottimalit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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la soluzione ottim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 RL è intera, allora elimin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allor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,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ai a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Test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6360" y="5229360"/>
            <a:ext cx="388944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 una componente frazionari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UB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ramific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ggiungendo ad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count+1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0}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count+2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1}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unt = count + 2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643280" y="2421000"/>
            <a:ext cx="44197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Caso 2: Bound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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 si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l valore della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luzione ottim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 RL. 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 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ahoma"/>
              </a:rPr>
              <a:t>UB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limina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 bound,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ai a 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Tes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1197000"/>
            <a:ext cx="2590920" cy="1308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79560" y="1197000"/>
            <a:ext cx="23619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izializzazion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16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-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count = 0;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Calcola </a:t>
            </a:r>
            <a:r>
              <a:rPr b="0" i="1" lang="it-IT" sz="16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, formulazione di </a:t>
            </a:r>
            <a:r>
              <a:rPr b="0" i="1" lang="it-IT" sz="16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, applicando CUT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143000" y="2790720"/>
            <a:ext cx="2133720" cy="914400"/>
          </a:xfrm>
          <a:prstGeom prst="diamond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30720" y="308448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est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3933720"/>
            <a:ext cx="2590920" cy="8384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14400" y="5000760"/>
            <a:ext cx="2590920" cy="94932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628" name=""/>
          <p:cNvCxnSpPr>
            <a:stCxn id="624" idx="2"/>
            <a:endCxn id="626" idx="0"/>
          </p:cNvCxnSpPr>
          <p:nvPr/>
        </p:nvCxnSpPr>
        <p:spPr>
          <a:xfrm>
            <a:off x="2209320" y="3719520"/>
            <a:ext cx="1080" cy="200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26" idx="2"/>
            <a:endCxn id="627" idx="0"/>
          </p:cNvCxnSpPr>
          <p:nvPr/>
        </p:nvCxnSpPr>
        <p:spPr>
          <a:xfrm>
            <a:off x="2209320" y="4786200"/>
            <a:ext cx="1080" cy="200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1032480" y="4040280"/>
            <a:ext cx="2253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egli un problema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la lista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996480" y="5091120"/>
            <a:ext cx="2326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solvi il Rilassamento 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are su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43280" y="1197000"/>
            <a:ext cx="3891240" cy="10080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43280" y="2421000"/>
            <a:ext cx="3891240" cy="1307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634" name=""/>
          <p:cNvCxnSpPr>
            <a:stCxn id="632" idx="2"/>
            <a:endCxn id="633" idx="0"/>
          </p:cNvCxnSpPr>
          <p:nvPr/>
        </p:nvCxnSpPr>
        <p:spPr>
          <a:xfrm>
            <a:off x="6589440" y="2219400"/>
            <a:ext cx="1080" cy="18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4643280" y="3971880"/>
            <a:ext cx="3889440" cy="10810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643280" y="5300640"/>
            <a:ext cx="3891240" cy="12970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6" idx="2"/>
            <a:endCxn id="624" idx="1"/>
          </p:cNvCxnSpPr>
          <p:nvPr/>
        </p:nvCxnSpPr>
        <p:spPr>
          <a:xfrm flipV="1" rot="16200000">
            <a:off x="2176920" y="2198520"/>
            <a:ext cx="3364560" cy="5461920"/>
          </a:xfrm>
          <a:prstGeom prst="bentConnector4">
            <a:avLst>
              <a:gd name="adj1" fmla="val -2397"/>
              <a:gd name="adj2" fmla="val 10877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27" idx="2"/>
            <a:endCxn id="632" idx="0"/>
          </p:cNvCxnSpPr>
          <p:nvPr/>
        </p:nvCxnSpPr>
        <p:spPr>
          <a:xfrm flipH="1" flipV="1" rot="5400000">
            <a:off x="2007720" y="1382760"/>
            <a:ext cx="4782240" cy="4380840"/>
          </a:xfrm>
          <a:prstGeom prst="bentConnector5">
            <a:avLst>
              <a:gd name="adj1" fmla="val -4479"/>
              <a:gd name="adj2" fmla="val 42587"/>
              <a:gd name="adj3" fmla="val 10447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22" idx="2"/>
          </p:cNvCxnSpPr>
          <p:nvPr/>
        </p:nvCxnSpPr>
        <p:spPr>
          <a:xfrm>
            <a:off x="2209320" y="2519280"/>
            <a:ext cx="2520" cy="262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33" idx="2"/>
            <a:endCxn id="635" idx="0"/>
          </p:cNvCxnSpPr>
          <p:nvPr/>
        </p:nvCxnSpPr>
        <p:spPr>
          <a:xfrm flipH="1">
            <a:off x="6587280" y="3742920"/>
            <a:ext cx="2520" cy="21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5060880" y="1197000"/>
            <a:ext cx="35816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aso 1: Inammissibilità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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limina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inammissibilità, vai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es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642" name=""/>
          <p:cNvCxnSpPr>
            <a:stCxn id="635" idx="2"/>
            <a:endCxn id="636" idx="0"/>
          </p:cNvCxnSpPr>
          <p:nvPr/>
        </p:nvCxnSpPr>
        <p:spPr>
          <a:xfrm>
            <a:off x="6587640" y="5067360"/>
            <a:ext cx="2520" cy="219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ianificazione degli investim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Da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40458c"/>
                </a:solidFill>
                <a:latin typeface="Bookman Old Style"/>
              </a:rPr>
              <a:t> = {1, 2, …, </a:t>
            </a:r>
            <a:r>
              <a:rPr b="0" i="1" lang="it-IT" sz="2000" spc="-1" strike="noStrike">
                <a:solidFill>
                  <a:srgbClr val="40458c"/>
                </a:solidFill>
                <a:latin typeface="Bookman Old Style"/>
              </a:rPr>
              <a:t>n</a:t>
            </a:r>
            <a:r>
              <a:rPr b="0" lang="it-IT" sz="2000" spc="-1" strike="noStrike">
                <a:solidFill>
                  <a:srgbClr val="40458c"/>
                </a:solidFill>
                <a:latin typeface="Bookman Old Style"/>
              </a:rPr>
              <a:t>}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sieme di investimenti attivabili su un orizzonte temporal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40458c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40458c"/>
                </a:solidFill>
                <a:latin typeface="Bookman Old Style"/>
              </a:rPr>
              <a:t> = {1, 2, …, </a:t>
            </a:r>
            <a:r>
              <a:rPr b="0" i="1" lang="it-IT" sz="2000" spc="-1" strike="noStrike">
                <a:solidFill>
                  <a:srgbClr val="40458c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40458c"/>
                </a:solidFill>
                <a:latin typeface="Bookman Old Style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iod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d ogni investimento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40458c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associato un indice di redditività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40458c"/>
                </a:solidFill>
                <a:latin typeface="Bookman Old Style"/>
              </a:rPr>
              <a:t>c</a:t>
            </a:r>
            <a:r>
              <a:rPr b="0" i="1" lang="it-IT" sz="2000" spc="-1" strike="noStrike" baseline="-25000">
                <a:solidFill>
                  <a:srgbClr val="40458c"/>
                </a:solidFill>
                <a:latin typeface="Bookman Old Style"/>
              </a:rPr>
              <a:t>i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Ogni investiment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genera un flusso di cass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=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, …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a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i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(&gt; 0 introit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,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  <a:ea typeface="Arial Unicode MS"/>
              </a:rPr>
              <a:t>&lt; 0 esbors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) per ogni period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∈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Per ogni period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∈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esiste un budget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j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che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imita gli esborsi (flussi di cassa negativ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Trovar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L’insieme di investiment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che massimizza la  redditività con il vincolo che la somma dei flussi di cassa degli investimenti attivati sia in ogni periodo non superiore al budget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  <a:ea typeface="Arial Unicode MS"/>
              </a:rPr>
              <a:t>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2413080" y="1052640"/>
            <a:ext cx="0" cy="11509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40000" y="2131920"/>
            <a:ext cx="46814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340000" y="3645000"/>
            <a:ext cx="46814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340000" y="5011560"/>
            <a:ext cx="46814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060720" y="1541160"/>
            <a:ext cx="0" cy="576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060720" y="3068280"/>
            <a:ext cx="0" cy="576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068720" y="4435560"/>
            <a:ext cx="0" cy="57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076720" y="2779560"/>
            <a:ext cx="0" cy="8654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60720" y="5025960"/>
            <a:ext cx="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068720" y="364500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068720" y="2131920"/>
            <a:ext cx="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09200" y="22194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imento 1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109200" y="38545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imento 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09200" y="5343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imento 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076720" y="5011560"/>
            <a:ext cx="0" cy="64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76720" y="2131920"/>
            <a:ext cx="0" cy="4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179080" y="6067440"/>
            <a:ext cx="1325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odo 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-4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03080" y="6067440"/>
            <a:ext cx="1325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odo 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-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55800" y="6067440"/>
            <a:ext cx="1325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odo 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= -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413080" y="2563920"/>
            <a:ext cx="0" cy="11509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413080" y="3932280"/>
            <a:ext cx="0" cy="11509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73080" y="2052720"/>
            <a:ext cx="72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Bookman Old Style"/>
              </a:rPr>
              <a:t>a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Bookman Old Style"/>
              </a:rPr>
              <a:t>11</a:t>
            </a:r>
            <a:r>
              <a:rPr b="0" lang="en-US" sz="1800" spc="-1" strike="noStrike">
                <a:solidFill>
                  <a:srgbClr val="40458c"/>
                </a:solidFill>
                <a:latin typeface="Bookman Old Style"/>
              </a:rPr>
              <a:t>=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734920" y="3571920"/>
            <a:ext cx="72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Bookman Old Style"/>
              </a:rPr>
              <a:t>a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Bookman Old Style"/>
              </a:rPr>
              <a:t>21</a:t>
            </a:r>
            <a:r>
              <a:rPr b="0" lang="en-US" sz="1800" spc="-1" strike="noStrike">
                <a:solidFill>
                  <a:srgbClr val="40458c"/>
                </a:solidFill>
                <a:latin typeface="Bookman Old Style"/>
              </a:rPr>
              <a:t>=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50680" y="4645080"/>
            <a:ext cx="79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Bookman Old Style"/>
              </a:rPr>
              <a:t>a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Bookman Old Style"/>
              </a:rPr>
              <a:t>31</a:t>
            </a:r>
            <a:r>
              <a:rPr b="0" lang="en-US" sz="1800" spc="-1" strike="noStrike">
                <a:solidFill>
                  <a:srgbClr val="40458c"/>
                </a:solidFill>
                <a:latin typeface="Bookman Old Style"/>
              </a:rPr>
              <a:t>=-6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686040" y="1700280"/>
            <a:ext cx="92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Bookman Old Style"/>
              </a:rPr>
              <a:t>a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Bookman Old Style"/>
              </a:rPr>
              <a:t>12</a:t>
            </a:r>
            <a:r>
              <a:rPr b="0" lang="en-US" sz="1800" spc="-1" strike="noStrike">
                <a:solidFill>
                  <a:srgbClr val="40458c"/>
                </a:solidFill>
                <a:latin typeface="Bookman Old Style"/>
              </a:rPr>
              <a:t>=-10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752280" y="3213000"/>
            <a:ext cx="79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Bookman Old Style"/>
              </a:rPr>
              <a:t>a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Bookman Old Style"/>
              </a:rPr>
              <a:t>22</a:t>
            </a:r>
            <a:r>
              <a:rPr b="0" lang="en-US" sz="1800" spc="-1" strike="noStrike">
                <a:solidFill>
                  <a:srgbClr val="40458c"/>
                </a:solidFill>
                <a:latin typeface="Bookman Old Style"/>
              </a:rPr>
              <a:t>=-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42920" y="5011560"/>
            <a:ext cx="72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Bookman Old Style"/>
              </a:rPr>
              <a:t>a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Bookman Old Style"/>
              </a:rPr>
              <a:t>32</a:t>
            </a:r>
            <a:r>
              <a:rPr b="0" lang="en-US" sz="1800" spc="-1" strike="noStrike">
                <a:solidFill>
                  <a:srgbClr val="40458c"/>
                </a:solidFill>
                <a:latin typeface="Bookman Old Style"/>
              </a:rPr>
              <a:t>=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833360" y="1700280"/>
            <a:ext cx="79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Bookman Old Style"/>
              </a:rPr>
              <a:t>a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Bookman Old Style"/>
              </a:rPr>
              <a:t>13</a:t>
            </a:r>
            <a:r>
              <a:rPr b="0" lang="en-US" sz="1800" spc="-1" strike="noStrike">
                <a:solidFill>
                  <a:srgbClr val="40458c"/>
                </a:solidFill>
                <a:latin typeface="Bookman Old Style"/>
              </a:rPr>
              <a:t>=-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750920" y="3571920"/>
            <a:ext cx="72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Bookman Old Style"/>
              </a:rPr>
              <a:t>a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Bookman Old Style"/>
              </a:rPr>
              <a:t>23</a:t>
            </a:r>
            <a:r>
              <a:rPr b="0" lang="en-US" sz="1800" spc="-1" strike="noStrike">
                <a:solidFill>
                  <a:srgbClr val="40458c"/>
                </a:solidFill>
                <a:latin typeface="Bookman Old Style"/>
              </a:rPr>
              <a:t>=5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60280" y="4578480"/>
            <a:ext cx="79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58c"/>
                </a:solidFill>
                <a:latin typeface="Bookman Old Style"/>
              </a:rPr>
              <a:t>a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Bookman Old Style"/>
              </a:rPr>
              <a:t>33</a:t>
            </a:r>
            <a:r>
              <a:rPr b="0" lang="en-US" sz="1800" spc="-1" strike="noStrike">
                <a:solidFill>
                  <a:srgbClr val="40458c"/>
                </a:solidFill>
                <a:latin typeface="Bookman Old Style"/>
              </a:rPr>
              <a:t>=-3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360" y="1195560"/>
            <a:ext cx="0" cy="5040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645080" y="1195560"/>
            <a:ext cx="0" cy="5040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724360" y="1195560"/>
            <a:ext cx="0" cy="5040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l’esempio precedente, se vengono attivati tutti e tre i progetti il vincolo di budget nel periodo 2 NON è rispetta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Variabili decisiona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e il progett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attivat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altrimen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1835280" y="4292640"/>
                <a:ext cx="424944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∈</m:t>
                              </m:r>
                              <m:r>
                                <m:t xml:space="preserve">I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∈</m:t>
                              </m:r>
                              <m:r>
                                <m:t xml:space="preserve">I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j</m:t>
                          </m:r>
                          <m:r>
                            <m:t xml:space="preserve">∈</m:t>
                          </m:r>
                          <m:r>
                            <m:t xml:space="preserve">T</m:t>
                          </m:r>
                        </m:e>
                      </m:mr>
                      <m:mr>
                        <m:e/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  <m:sSup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0,1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ttenzione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tiamo semplicemente enumerando TUTTI gli insiemi ammissibili!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un problema di OC conosciamo bound “primali” e “duali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Doma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ossiamo utilizzare questi bound per enumerare in modo più efficac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 vuole migliorare la formulazi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ideriamo un singolo vincolo di budget e il problema di Knapsack associato (att. al cambio di segn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ilassamento line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771640" y="2060640"/>
                <a:ext cx="270036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≥</m:t>
                          </m:r>
                          <m:r>
                            <m:t xml:space="preserve">b</m:t>
                          </m:r>
                        </m:e>
                      </m:mr>
                      <m:mr>
                        <m:e/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2843280" y="4992840"/>
                <a:ext cx="2881080" cy="22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1189080" y="558792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K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fforza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’insieme delle soluzioni del problema di pianificazione è costituito dall’intersezione degli insiemi delle soluzioni dei singoli problemi di knapsack (K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erta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è possibile allora rafforzare ciascun problema K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ad esempio con disequazioni cover, per ottenere un rafforzamento della formulazione di pianificazion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iamo il seguente problema di pianificazion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{1, 2, 3, 4, 5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{1, 2, 3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 (3, 7, 3, 5, 7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ditivit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(-2, 0, -5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(-4, 1, -2)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usso di Cass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(2, -4, 1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usso di Cass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(1, 3, -5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usso di Cass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(1, -3, -2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usso di Cass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(-3, 4, 1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usso di Cass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1979640" y="2133720"/>
                <a:ext cx="4537080" cy="22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5</m:t>
                          </m:r>
                        </m:e>
                      </m:mr>
                      <m:mr>
                        <m:e/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93" name=""/>
          <p:cNvSpPr/>
          <p:nvPr/>
        </p:nvSpPr>
        <p:spPr>
          <a:xfrm>
            <a:off x="611280" y="44118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luzione ottima di (PL) è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828720" y="2838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PL)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971640" y="5084640"/>
                <a:ext cx="6985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826920" y="126828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rilassamento lineare si scrive (att. al cambio di segno sul vincolo di budget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846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iamo a questo punto  il primo vincolo di budge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979640" y="1844640"/>
                <a:ext cx="53276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2</m:t>
                          </m:r>
                        </m:e>
                      </m:mr>
                      <m:mr>
                        <m:e/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755640" y="2333520"/>
            <a:ext cx="136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K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3716280"/>
            <a:ext cx="79930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ettuiamo un cambio di variabili per ottenere tutti coefficienti positivi nel vincolo di knapsack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800" spc="-1" strike="noStrike" baseline="30000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= {2, 3, 4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= 1 –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ogni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 J </a:t>
            </a:r>
            <a:r>
              <a:rPr b="0" lang="it-IT" sz="2800" spc="-1" strike="noStrike" baseline="30000">
                <a:solidFill>
                  <a:srgbClr val="000000"/>
                </a:solidFill>
                <a:latin typeface="Bookman Old Style"/>
              </a:rPr>
              <a:t>-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 ottiene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835280" y="5807160"/>
                <a:ext cx="47527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Dobbiamo vedere se esiste una cover violata rispetto alla soluzion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Risolvendo il problema di separazione (slide 40) si individua la cover violat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  <a:ea typeface="Arial Unicode MS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1,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che si può aggiungere direttamente alla formulazione, essendo già nelle variabil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x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  <a:ea typeface="Arial Unicode MS"/>
              </a:rPr>
              <a:t>Osserva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Se la cover contiene variabil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, bisogna effettuare il cambio di variabile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y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h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=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1-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h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prima di aggiungere la disequazione alla formula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La nuova soluzione ottima del RL (peraltro intera) è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403280" y="1916280"/>
                <a:ext cx="63374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1763640" y="5589720"/>
                <a:ext cx="41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26560" y="1095480"/>
            <a:ext cx="7402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e VI: 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zioni con un numero di vincoli non polinomia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etodo del Simplesso Dinamico Prima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metodo del simplesso può essere usato per risolvere  un problema di OC qualora sia nota una rappresentazione del tipo Ax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b (rappresentazione esterna) dell’involucro convesso dei suoi insiemi ammissibili conv (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Domand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bbiamo realmente bisogno di una rappresentazione esterna di conv (S)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a del cammino minim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n grafo non orienta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ppia di no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∈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V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l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u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∈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R+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∀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∈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lunghezza dell’arc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uv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Proble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Determinare un st-cammino di lunghezza totale minim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Variabili decisiona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= 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 se l’arco ij appartiene al cammino 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= 0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altrimen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684360" y="22766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39640" y="1197000"/>
            <a:ext cx="860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t-tagli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 tagli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-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ale ch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∈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∈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V-X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11280" y="1986120"/>
            <a:ext cx="5641920" cy="2379600"/>
            <a:chOff x="611280" y="1986120"/>
            <a:chExt cx="5641920" cy="2379600"/>
          </a:xfrm>
        </p:grpSpPr>
        <p:sp>
          <p:nvSpPr>
            <p:cNvPr id="716" name=""/>
            <p:cNvSpPr/>
            <p:nvPr/>
          </p:nvSpPr>
          <p:spPr>
            <a:xfrm>
              <a:off x="1962360" y="3213000"/>
              <a:ext cx="1152360" cy="360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098720" y="2420640"/>
              <a:ext cx="8636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62360" y="2420640"/>
              <a:ext cx="1152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98720" y="2925720"/>
              <a:ext cx="86364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11320" y="2938320"/>
              <a:ext cx="79200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1962360" y="3573360"/>
              <a:ext cx="1152360" cy="360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62360" y="3213000"/>
              <a:ext cx="0" cy="72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14720" y="242064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78360" y="2420640"/>
              <a:ext cx="129528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3114720" y="2997000"/>
              <a:ext cx="21589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962360" y="2420640"/>
              <a:ext cx="2016000" cy="792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25640" y="2854080"/>
              <a:ext cx="144360" cy="14400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90720" y="2349360"/>
              <a:ext cx="144720" cy="14400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46320" y="2361960"/>
              <a:ext cx="144720" cy="144000"/>
            </a:xfrm>
            <a:prstGeom prst="ellipse">
              <a:avLst/>
            </a:prstGeom>
            <a:solidFill>
              <a:srgbClr val="c6210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02360" y="2925720"/>
              <a:ext cx="144360" cy="144000"/>
            </a:xfrm>
            <a:prstGeom prst="ellipse">
              <a:avLst/>
            </a:prstGeom>
            <a:solidFill>
              <a:srgbClr val="c62106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90720" y="3862080"/>
              <a:ext cx="144720" cy="14436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90720" y="3141360"/>
              <a:ext cx="144720" cy="14436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041640" y="3501720"/>
              <a:ext cx="144720" cy="144360"/>
            </a:xfrm>
            <a:prstGeom prst="ellipse">
              <a:avLst/>
            </a:prstGeom>
            <a:solidFill>
              <a:srgbClr val="c6210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19680" y="2349360"/>
              <a:ext cx="144360" cy="144000"/>
            </a:xfrm>
            <a:prstGeom prst="ellipse">
              <a:avLst/>
            </a:prstGeom>
            <a:solidFill>
              <a:srgbClr val="c6210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1280" y="263340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89560" y="270504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84520" y="198612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957760" y="199368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8160" y="20016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84520" y="27939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76600" y="39668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82960" y="36208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4716360" y="1773360"/>
            <a:ext cx="42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X = {s, 1, 4, 5}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K = {12, 34, 46, 56} è un st-tagli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484360" y="4138560"/>
                <a:ext cx="5716800" cy="26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v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E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v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v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/>
                          </m:mr>
                          <m:mr>
                            <m:e/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v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K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v</m:t>
                                      </m:r>
                                    </m:sub>
                                  </m:sSub>
                                  <m:r>
                                    <m:t xml:space="preserve">≥</m:t>
                                  </m:r>
                                  <m:r>
                                    <m:t xml:space="preserve">1</m:t>
                                  </m:r>
                                </m:e>
                              </m:nary>
                            </m:e>
                            <m:e>
                              <m:r>
                                <m:t xml:space="preserve">∀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nsieme </m:t>
                              </m:r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he sia un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glio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971640" y="485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P)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tro teoremi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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.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una decomposizione della regione ammissibil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nsie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max {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L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no rispettivamente un lower e un upper bound per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All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= ma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UB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un upper bound per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LB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= ma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LB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è un lower bound per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*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sserv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611280" y="1413000"/>
            <a:ext cx="8208720" cy="76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ascun vincolo di P esprime la condizione che almeno un arco dell’ st-taglio K deve appartenere ad un st-cammino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numero dei vincoli è esponenziale rispetto alla cardinalità di E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bbene la matrice dei coefficienti non sia TUM, il rilassamento lineare (PL) di (P) fornisce la soluzione ottima del problema intero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omanda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ssiamo applicare il metodo del Simplesso al rilassamento lineare di P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pratica, il numero di vincoli rende non applicabile il metodo del simplesso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Simplesso Dinamico Prima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684360" y="1341360"/>
            <a:ext cx="792000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simplesso dinamico primale acquisisce le informazioni sulla struttura del poliedro attraverso un oracolo di separazione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Oracolo di separazion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at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*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∈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R</a:t>
            </a:r>
            <a:r>
              <a:rPr b="0" i="1" lang="it-IT" sz="2400" spc="-1" strike="noStrike" baseline="44000">
                <a:solidFill>
                  <a:srgbClr val="000000"/>
                </a:solidFill>
                <a:latin typeface="Bookman Old Style"/>
                <a:ea typeface="Arial Unicode MS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restituisce una disequazio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a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  <a:ea typeface="Arial Unicode MS"/>
              </a:rPr>
              <a:t>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≤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b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  <a:ea typeface="Arial Unicode MS"/>
              </a:rPr>
              <a:t>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del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istema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Ax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≤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violata da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*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oppure conclude che tutt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le disequazioni del sistema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Ax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≤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sono soddisfatte d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*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846920" y="4678200"/>
                <a:ext cx="312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oritm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12720" y="1316160"/>
            <a:ext cx="799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niamo di voler risolvere il problema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)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3363840" y="1773360"/>
                <a:ext cx="241164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mr>
                      <m:mr>
                        <m:e/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54" name=""/>
          <p:cNvSpPr/>
          <p:nvPr/>
        </p:nvSpPr>
        <p:spPr>
          <a:xfrm>
            <a:off x="755640" y="3565440"/>
            <a:ext cx="763272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v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una matrice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∈</a:t>
            </a:r>
            <a:r>
              <a:rPr b="0" lang="it-IT" sz="28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R</a:t>
            </a:r>
            <a:r>
              <a:rPr b="0" i="1" lang="it-IT" sz="2400" spc="-1" strike="noStrike" baseline="44000">
                <a:solidFill>
                  <a:srgbClr val="000000"/>
                </a:solidFill>
                <a:latin typeface="Bookman Old Style"/>
                <a:ea typeface="Arial Unicode MS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na sottomatrice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 &lt;&lt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ighe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lonne. Definiamo il sottoproblema iniziale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  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354480" y="5021280"/>
                <a:ext cx="24112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x</m:t>
                          </m:r>
                        </m:e>
                      </m:mr>
                      <m:mr>
                        <m:e/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556000" y="5013360"/>
                <a:ext cx="37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371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oritm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403280" y="1469880"/>
            <a:ext cx="7386840" cy="5150520"/>
            <a:chOff x="1403280" y="1469880"/>
            <a:chExt cx="7386840" cy="5150520"/>
          </a:xfrm>
        </p:grpSpPr>
        <p:sp>
          <p:nvSpPr>
            <p:cNvPr id="759" name=""/>
            <p:cNvSpPr/>
            <p:nvPr/>
          </p:nvSpPr>
          <p:spPr>
            <a:xfrm>
              <a:off x="6378480" y="2322360"/>
              <a:ext cx="2411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P) è 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ammissibile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685960" y="1469880"/>
              <a:ext cx="3384360" cy="792000"/>
              <a:chOff x="2685960" y="1469880"/>
              <a:chExt cx="3384360" cy="792000"/>
            </a:xfrm>
          </p:grpSpPr>
          <p:sp>
            <p:nvSpPr>
              <p:cNvPr id="761" name=""/>
              <p:cNvSpPr/>
              <p:nvPr/>
            </p:nvSpPr>
            <p:spPr>
              <a:xfrm>
                <a:off x="2685960" y="1469880"/>
                <a:ext cx="3384360" cy="466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738160" y="1549080"/>
                <a:ext cx="31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Risolvere il problema (  )</a:t>
                </a: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5394240" y="1614240"/>
                    <a:ext cx="201600" cy="26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4" name=""/>
              <p:cNvSpPr/>
              <p:nvPr/>
            </p:nvSpPr>
            <p:spPr>
              <a:xfrm flipH="1">
                <a:off x="4398480" y="1938240"/>
                <a:ext cx="4680" cy="3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6378480" y="2233440"/>
              <a:ext cx="1784520" cy="92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93920" y="2263680"/>
              <a:ext cx="2395800" cy="820800"/>
            </a:xfrm>
            <a:prstGeom prst="diamond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67160" y="2496960"/>
              <a:ext cx="25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È ammissibile?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29240" y="2668680"/>
              <a:ext cx="833400" cy="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13560" y="2349360"/>
              <a:ext cx="67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384800" y="3087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22640" y="309384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i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685960" y="3487680"/>
              <a:ext cx="3357720" cy="585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32120" y="3619440"/>
              <a:ext cx="33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= soluzione ottima di (  )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5594400" y="3625920"/>
                  <a:ext cx="19512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~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2790720" y="3674880"/>
                  <a:ext cx="22536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4367160" y="409248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425240" y="6222960"/>
              <a:ext cx="128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403280" y="1612800"/>
              <a:ext cx="14400" cy="46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17680" y="16272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2743200" y="4510080"/>
              <a:ext cx="5703480" cy="2110320"/>
              <a:chOff x="2743200" y="4510080"/>
              <a:chExt cx="5703480" cy="211032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3044880" y="4510080"/>
                <a:ext cx="2940120" cy="936720"/>
                <a:chOff x="3044880" y="4510080"/>
                <a:chExt cx="2940120" cy="9367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3044880" y="4510080"/>
                  <a:ext cx="2631960" cy="936720"/>
                </a:xfrm>
                <a:prstGeom prst="diamond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429000" y="4743360"/>
                  <a:ext cx="255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Esiste un vincolo violato?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5708880" y="4984560"/>
                <a:ext cx="571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5810400" y="4567320"/>
                <a:ext cx="2636280" cy="790560"/>
                <a:chOff x="5810400" y="4567320"/>
                <a:chExt cx="2636280" cy="79056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5810400" y="4648320"/>
                  <a:ext cx="514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no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291360" y="4583160"/>
                  <a:ext cx="2012400" cy="774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218280" y="4567320"/>
                  <a:ext cx="2228400" cy="67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   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soluzione ottima di (P)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89" name=""/>
                    <p:cNvSpPr txBox="1"/>
                    <p:nvPr/>
                  </p:nvSpPr>
                  <p:spPr>
                    <a:xfrm>
                      <a:off x="6342120" y="4618080"/>
                      <a:ext cx="248760" cy="279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0" name=""/>
              <p:cNvSpPr/>
              <p:nvPr/>
            </p:nvSpPr>
            <p:spPr>
              <a:xfrm>
                <a:off x="4370400" y="5467320"/>
                <a:ext cx="0" cy="38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2743200" y="5835600"/>
                <a:ext cx="3240000" cy="784800"/>
                <a:chOff x="2743200" y="5835600"/>
                <a:chExt cx="3240000" cy="78480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2743200" y="5835600"/>
                  <a:ext cx="3017880" cy="7621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743200" y="5940360"/>
                  <a:ext cx="324000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Si aggiunge il vincolo violato a</a:t>
                  </a:r>
                  <a:r>
                    <a:rPr b="1" lang="it-IT" sz="18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r>
                    <a:rPr b="1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x </a:t>
                  </a:r>
                  <a:r>
                    <a:rPr b="1" lang="it-IT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≤ b</a:t>
                  </a:r>
                  <a:r>
                    <a:rPr b="1" lang="it-IT" sz="1800" spc="-1" strike="noStrike" baseline="-25000">
                      <a:solidFill>
                        <a:srgbClr val="000000"/>
                      </a:solidFill>
                      <a:latin typeface="Tahoma"/>
                      <a:ea typeface="Tahoma"/>
                    </a:rPr>
                    <a:t>0</a:t>
                  </a:r>
                  <a:r>
                    <a:rPr b="1" lang="it-IT" sz="18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 a (  )</a:t>
                  </a:r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94" name=""/>
                    <p:cNvSpPr txBox="1"/>
                    <p:nvPr/>
                  </p:nvSpPr>
                  <p:spPr>
                    <a:xfrm>
                      <a:off x="5259240" y="6226200"/>
                      <a:ext cx="277920" cy="271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95" name=""/>
              <p:cNvSpPr/>
              <p:nvPr/>
            </p:nvSpPr>
            <p:spPr>
              <a:xfrm>
                <a:off x="4038840" y="5445000"/>
                <a:ext cx="37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si</a:t>
                </a:r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992240" y="907920"/>
            <a:ext cx="5000760" cy="2520360"/>
            <a:chOff x="1992240" y="907920"/>
            <a:chExt cx="5000760" cy="2520360"/>
          </a:xfrm>
        </p:grpSpPr>
        <p:sp>
          <p:nvSpPr>
            <p:cNvPr id="798" name=""/>
            <p:cNvSpPr/>
            <p:nvPr/>
          </p:nvSpPr>
          <p:spPr>
            <a:xfrm>
              <a:off x="3489480" y="138420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92360" y="296856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2360" y="1384200"/>
              <a:ext cx="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35640" y="1384200"/>
              <a:ext cx="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2411280" y="1384200"/>
              <a:ext cx="108108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97240" y="2119320"/>
              <a:ext cx="107928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35640" y="1384200"/>
              <a:ext cx="1152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435280" y="2103480"/>
              <a:ext cx="115236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25600" y="2047680"/>
              <a:ext cx="142920" cy="144360"/>
            </a:xfrm>
            <a:prstGeom prst="ellipse">
              <a:avLst/>
            </a:prstGeom>
            <a:solidFill>
              <a:srgbClr val="40458c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419640" y="1311120"/>
              <a:ext cx="142560" cy="144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64000" y="13111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19640" y="2895480"/>
              <a:ext cx="142560" cy="144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49960" y="28954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02320" y="2031840"/>
              <a:ext cx="142920" cy="144360"/>
            </a:xfrm>
            <a:prstGeom prst="ellipse">
              <a:avLst/>
            </a:prstGeom>
            <a:solidFill>
              <a:srgbClr val="40458c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92240" y="18158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32640" y="18158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48000" y="2968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307120" y="2954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17760" y="907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07120" y="938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27360" y="14414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25840" y="245088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59520" y="196056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11640" y="10382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282920" y="291312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19480" y="19605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40360" y="14270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69160" y="24206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11280" y="3429000"/>
            <a:ext cx="81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ovare l’st-cammino di lunghezza minima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artiamo dalla formulazione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965240" y="4365720"/>
                <a:ext cx="668196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  <m:r>
                                <m:t xml:space="preserve">t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/>
                        <m:e>
                          <m:eqAr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v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v</m:t>
                              </m:r>
                              <m:r>
                                <m:t xml:space="preserve">∈</m:t>
                              </m:r>
                              <m:r>
                                <m:t xml:space="preserve">E</m:t>
                              </m:r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28" name=""/>
          <p:cNvSpPr/>
          <p:nvPr/>
        </p:nvSpPr>
        <p:spPr>
          <a:xfrm>
            <a:off x="826920" y="5229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 )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928800" y="5186520"/>
                <a:ext cx="377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soluzione ottim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55640" y="1844640"/>
                <a:ext cx="557064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3" name=""/>
          <p:cNvSpPr/>
          <p:nvPr/>
        </p:nvSpPr>
        <p:spPr>
          <a:xfrm>
            <a:off x="611280" y="3284640"/>
            <a:ext cx="8281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acolo di separazion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ociamo il peso      ad ogni arc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∈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 cerchiamo l’st-tagli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di peso minimo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il peso di tale taglio è &lt; 1 allora il vincolo relativo è violato da   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 il pes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ahoma"/>
              </a:rPr>
              <a:t>≥ 1 allora non ci sono disequazioni violate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3132000" y="3789360"/>
                <a:ext cx="486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382840" y="5157720"/>
                <a:ext cx="314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042920" y="1271520"/>
            <a:ext cx="5000760" cy="2589120"/>
            <a:chOff x="1042920" y="1271520"/>
            <a:chExt cx="5000760" cy="2589120"/>
          </a:xfrm>
        </p:grpSpPr>
        <p:sp>
          <p:nvSpPr>
            <p:cNvPr id="838" name=""/>
            <p:cNvSpPr/>
            <p:nvPr/>
          </p:nvSpPr>
          <p:spPr>
            <a:xfrm>
              <a:off x="2540160" y="174780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43040" y="333216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543040" y="1747800"/>
              <a:ext cx="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86320" y="1747800"/>
              <a:ext cx="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1461960" y="1747440"/>
              <a:ext cx="108108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447920" y="2482920"/>
              <a:ext cx="1079280" cy="86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486320" y="1747800"/>
              <a:ext cx="115236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485960" y="2466720"/>
              <a:ext cx="1152360" cy="86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76280" y="2411280"/>
              <a:ext cx="142920" cy="14436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470320" y="1674720"/>
              <a:ext cx="142560" cy="144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14680" y="1674720"/>
              <a:ext cx="142920" cy="144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70320" y="3259080"/>
              <a:ext cx="142560" cy="14436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00640" y="3259080"/>
              <a:ext cx="142920" cy="144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53000" y="2395440"/>
              <a:ext cx="142920" cy="144360"/>
            </a:xfrm>
            <a:prstGeom prst="ellipse">
              <a:avLst/>
            </a:prstGeom>
            <a:solidFill>
              <a:srgbClr val="40458c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42920" y="21794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683320" y="21794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70240" y="3343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357800" y="3317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368440" y="1271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57800" y="1301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78040" y="18050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76520" y="281448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210200" y="232416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62320" y="14018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33600" y="32763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70160" y="23241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91040" y="17906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19840" y="27842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535040" y="1412640"/>
              <a:ext cx="2735280" cy="2448000"/>
            </a:xfrm>
            <a:prstGeom prst="line">
              <a:avLst/>
            </a:prstGeom>
            <a:ln w="28440">
              <a:solidFill>
                <a:srgbClr val="0dbf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6156360" y="1773360"/>
            <a:ext cx="266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X = {s, 2}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40458c"/>
                </a:solidFill>
                <a:latin typeface="Tahoma"/>
              </a:rPr>
              <a:t>*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= {s1, 12, 23}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11280" y="4221000"/>
            <a:ext cx="79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giungiamo al problema (  ) il vincolo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risolviamo di nuovo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3276720" y="4869000"/>
                <a:ext cx="24476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02120" y="4149720"/>
                <a:ext cx="378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2" name=""/>
          <p:cNvSpPr/>
          <p:nvPr/>
        </p:nvSpPr>
        <p:spPr>
          <a:xfrm>
            <a:off x="684360" y="1341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nuova soluzione ottima è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200240" y="1844640"/>
                <a:ext cx="468144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4" name=""/>
          <p:cNvGrpSpPr/>
          <p:nvPr/>
        </p:nvGrpSpPr>
        <p:grpSpPr>
          <a:xfrm>
            <a:off x="1042920" y="3429000"/>
            <a:ext cx="5000760" cy="2736720"/>
            <a:chOff x="1042920" y="3429000"/>
            <a:chExt cx="5000760" cy="2736720"/>
          </a:xfrm>
        </p:grpSpPr>
        <p:sp>
          <p:nvSpPr>
            <p:cNvPr id="875" name=""/>
            <p:cNvSpPr/>
            <p:nvPr/>
          </p:nvSpPr>
          <p:spPr>
            <a:xfrm>
              <a:off x="2540160" y="404964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543040" y="563400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43040" y="4049640"/>
              <a:ext cx="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86320" y="4049640"/>
              <a:ext cx="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1461960" y="4049640"/>
              <a:ext cx="108108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447920" y="4784760"/>
              <a:ext cx="107928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86320" y="4049640"/>
              <a:ext cx="1152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485960" y="4768920"/>
              <a:ext cx="115236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76280" y="4713120"/>
              <a:ext cx="142920" cy="1447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70320" y="3976560"/>
              <a:ext cx="142560" cy="1447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4680" y="3976560"/>
              <a:ext cx="14292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70320" y="5560920"/>
              <a:ext cx="142560" cy="1447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400640" y="5560920"/>
              <a:ext cx="14292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553000" y="4697280"/>
              <a:ext cx="142920" cy="144720"/>
            </a:xfrm>
            <a:prstGeom prst="ellipse">
              <a:avLst/>
            </a:prstGeom>
            <a:solidFill>
              <a:srgbClr val="40458c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42920" y="4481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83320" y="4481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70240" y="5645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57800" y="5619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82840" y="3548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57800" y="3603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78040" y="41068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76520" y="511668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10200" y="462600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62320" y="37036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333600" y="55785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270160" y="4626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991040" y="40924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19840" y="50864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80000" y="3429000"/>
              <a:ext cx="0" cy="2736720"/>
            </a:xfrm>
            <a:prstGeom prst="line">
              <a:avLst/>
            </a:prstGeom>
            <a:ln w="28440">
              <a:solidFill>
                <a:srgbClr val="0dbf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6300720" y="4368960"/>
            <a:ext cx="25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X = {s, 1, 2}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= {14, 23}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giungiamo il vincolo violato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3348000" y="1916280"/>
                <a:ext cx="1752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611280" y="3141720"/>
            <a:ext cx="547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11280" y="285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nuova soluzione ottima è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42920" y="3500280"/>
                <a:ext cx="4681440" cy="12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539640" y="1341360"/>
            <a:ext cx="5000760" cy="2531520"/>
            <a:chOff x="539640" y="1341360"/>
            <a:chExt cx="5000760" cy="2531520"/>
          </a:xfrm>
        </p:grpSpPr>
        <p:sp>
          <p:nvSpPr>
            <p:cNvPr id="913" name=""/>
            <p:cNvSpPr/>
            <p:nvPr/>
          </p:nvSpPr>
          <p:spPr>
            <a:xfrm>
              <a:off x="2036880" y="181764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40120" y="340200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40120" y="1817640"/>
              <a:ext cx="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83040" y="1817640"/>
              <a:ext cx="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959040" y="1817640"/>
              <a:ext cx="108108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944640" y="2552760"/>
              <a:ext cx="107964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83040" y="1817640"/>
              <a:ext cx="11527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983040" y="2536920"/>
              <a:ext cx="115272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73360" y="2481120"/>
              <a:ext cx="142560" cy="1447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67040" y="1744560"/>
              <a:ext cx="14292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911760" y="1744560"/>
              <a:ext cx="14292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67040" y="3328920"/>
              <a:ext cx="142920" cy="14436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97360" y="3328920"/>
              <a:ext cx="142920" cy="14436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049720" y="2465280"/>
              <a:ext cx="142920" cy="144720"/>
            </a:xfrm>
            <a:prstGeom prst="ellipse">
              <a:avLst/>
            </a:prstGeom>
            <a:solidFill>
              <a:srgbClr val="40458c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9640" y="2249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80040" y="2249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58c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866960" y="3413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24280" y="3386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65520" y="134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54520" y="1371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274760" y="18748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73240" y="288432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6920" y="2394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59040" y="14716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30680" y="334656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66880" y="2394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87760" y="18604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16560" y="285444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2106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44720" y="1628640"/>
              <a:ext cx="4174920" cy="1944720"/>
            </a:xfrm>
            <a:prstGeom prst="line">
              <a:avLst/>
            </a:prstGeom>
            <a:ln w="28440">
              <a:solidFill>
                <a:srgbClr val="0dbf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5796000" y="1916280"/>
            <a:ext cx="30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X = {s, 2, 3}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it-IT" sz="2400" spc="-1" strike="noStrike" baseline="30000">
                <a:solidFill>
                  <a:srgbClr val="40458c"/>
                </a:solidFill>
                <a:latin typeface="Tahoma"/>
              </a:rPr>
              <a:t>*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= {s1, 12, 34, 3t}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84360" y="42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giungiamo il vincolo violato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914560" y="4869000"/>
                <a:ext cx="3171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otatura per ottimali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038480" y="2057400"/>
            <a:ext cx="1573560" cy="882000"/>
            <a:chOff x="4038480" y="2057400"/>
            <a:chExt cx="1573560" cy="882000"/>
          </a:xfrm>
        </p:grpSpPr>
        <p:grpSp>
          <p:nvGrpSpPr>
            <p:cNvPr id="308" name=""/>
            <p:cNvGrpSpPr/>
            <p:nvPr/>
          </p:nvGrpSpPr>
          <p:grpSpPr>
            <a:xfrm>
              <a:off x="4038480" y="2324160"/>
              <a:ext cx="533520" cy="533520"/>
              <a:chOff x="4038480" y="2324160"/>
              <a:chExt cx="533520" cy="533520"/>
            </a:xfrm>
          </p:grpSpPr>
          <p:sp>
            <p:nvSpPr>
              <p:cNvPr id="309" name=""/>
              <p:cNvSpPr/>
              <p:nvPr/>
            </p:nvSpPr>
            <p:spPr>
              <a:xfrm>
                <a:off x="4038480" y="232416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75200" y="23241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4544640" y="2057400"/>
              <a:ext cx="106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 27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33120" y="2498760"/>
              <a:ext cx="90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3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073600" y="2819520"/>
            <a:ext cx="2117520" cy="2558160"/>
            <a:chOff x="2073600" y="2819520"/>
            <a:chExt cx="2117520" cy="2558160"/>
          </a:xfrm>
        </p:grpSpPr>
        <p:grpSp>
          <p:nvGrpSpPr>
            <p:cNvPr id="314" name=""/>
            <p:cNvGrpSpPr/>
            <p:nvPr/>
          </p:nvGrpSpPr>
          <p:grpSpPr>
            <a:xfrm>
              <a:off x="2073600" y="4495680"/>
              <a:ext cx="545760" cy="533520"/>
              <a:chOff x="2073600" y="4495680"/>
              <a:chExt cx="545760" cy="533520"/>
            </a:xfrm>
          </p:grpSpPr>
          <p:sp>
            <p:nvSpPr>
              <p:cNvPr id="315" name=""/>
              <p:cNvSpPr/>
              <p:nvPr/>
            </p:nvSpPr>
            <p:spPr>
              <a:xfrm>
                <a:off x="2085840" y="449568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73600" y="449568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V="1">
              <a:off x="2514600" y="2819520"/>
              <a:ext cx="167652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59160" y="342900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19720" y="4495680"/>
              <a:ext cx="1216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 2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08200" y="4937040"/>
              <a:ext cx="1055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2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419720" y="2819520"/>
            <a:ext cx="3673440" cy="2558160"/>
            <a:chOff x="4419720" y="2819520"/>
            <a:chExt cx="3673440" cy="2558160"/>
          </a:xfrm>
        </p:grpSpPr>
        <p:grpSp>
          <p:nvGrpSpPr>
            <p:cNvPr id="322" name=""/>
            <p:cNvGrpSpPr/>
            <p:nvPr/>
          </p:nvGrpSpPr>
          <p:grpSpPr>
            <a:xfrm>
              <a:off x="6437520" y="4495680"/>
              <a:ext cx="572760" cy="533520"/>
              <a:chOff x="6437520" y="4495680"/>
              <a:chExt cx="572760" cy="5335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76760" y="449568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37520" y="449568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 flipV="1">
              <a:off x="4419720" y="2819520"/>
              <a:ext cx="220968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51440" y="34894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41880" y="4495680"/>
              <a:ext cx="115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 25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97600" y="4937040"/>
              <a:ext cx="1055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5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28800" y="4267080"/>
            <a:ext cx="990720" cy="9907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38680" y="2133720"/>
            <a:ext cx="1573560" cy="882000"/>
            <a:chOff x="5638680" y="2133720"/>
            <a:chExt cx="1573560" cy="882000"/>
          </a:xfrm>
        </p:grpSpPr>
        <p:sp>
          <p:nvSpPr>
            <p:cNvPr id="331" name=""/>
            <p:cNvSpPr/>
            <p:nvPr/>
          </p:nvSpPr>
          <p:spPr>
            <a:xfrm>
              <a:off x="5638680" y="2362320"/>
              <a:ext cx="38124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44840" y="2133720"/>
              <a:ext cx="106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 25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33320" y="2575080"/>
              <a:ext cx="90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2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684360" y="1413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nuova soluzione ottima è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755640" y="2133720"/>
                <a:ext cx="468144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8" name=""/>
          <p:cNvSpPr/>
          <p:nvPr/>
        </p:nvSpPr>
        <p:spPr>
          <a:xfrm>
            <a:off x="2324160" y="426564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327400" y="585000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327400" y="426564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70320" y="426564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1246320" y="4265640"/>
            <a:ext cx="1081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231920" y="5000760"/>
            <a:ext cx="107964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270320" y="4265640"/>
            <a:ext cx="1152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4270320" y="4984920"/>
            <a:ext cx="115272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160640" y="4929120"/>
            <a:ext cx="142560" cy="144360"/>
          </a:xfrm>
          <a:prstGeom prst="ellipse">
            <a:avLst/>
          </a:prstGeom>
          <a:solidFill>
            <a:srgbClr val="b7c1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254320" y="4192560"/>
            <a:ext cx="14292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199040" y="4192560"/>
            <a:ext cx="142920" cy="14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254320" y="5776920"/>
            <a:ext cx="142920" cy="144360"/>
          </a:xfrm>
          <a:prstGeom prst="ellipse">
            <a:avLst/>
          </a:prstGeom>
          <a:solidFill>
            <a:srgbClr val="b7c1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184640" y="5776920"/>
            <a:ext cx="142920" cy="144360"/>
          </a:xfrm>
          <a:prstGeom prst="ellipse">
            <a:avLst/>
          </a:prstGeom>
          <a:solidFill>
            <a:srgbClr val="b7c1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37000" y="4913280"/>
            <a:ext cx="142920" cy="144360"/>
          </a:xfrm>
          <a:prstGeom prst="ellipse">
            <a:avLst/>
          </a:prstGeom>
          <a:solidFill>
            <a:srgbClr val="40458c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26920" y="4697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697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154240" y="5861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111560" y="5834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15280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141800" y="38196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562040" y="43228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210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460520" y="53323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210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4200" y="4842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210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046320" y="39196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210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17960" y="57942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210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054160" y="4842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210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775040" y="43084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2106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03840" y="5302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6210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6211800"/>
            <a:ext cx="58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Non esistono st-tagli di peso &lt;1, STO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l minimo albero ricopr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a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grafo connesso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0costo associato ad ogni spigol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ovare un albero ricoprente di costo minim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goritmi combinatori no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m e Krusk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1103400" y="1525680"/>
                <a:ext cx="7572240" cy="41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e lo spigolo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appartiene all'albero ric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 altrimenti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per ogni </m:t>
                        </m:r>
                        <m:r>
                          <m:t xml:space="preserve">S</m:t>
                        </m:r>
                        <m:r>
                          <m:t xml:space="preserve">⊆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sserv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bound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ono implicati dai vincoli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matrice dei vincoli non è TU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atti, consideriamo un grafo con 5 nodi e i seguenti vincoli di tipo (2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d essi corrisponde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matri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e ha determinante -2 e, quindi, non è TUM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ostante la matrice dei coefficienti non sia TUM, il rilassamento lineare fornisce una soluzione intera. Tuttavia,il numero dei vincoli cresce esponenzialmente con il numero dei nodi del graf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900000" y="2852640"/>
                <a:ext cx="230508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84" name=""/>
          <p:cNvGraphicFramePr/>
          <p:nvPr/>
        </p:nvGraphicFramePr>
        <p:xfrm>
          <a:off x="5937120" y="3141720"/>
          <a:ext cx="2522520" cy="1212840"/>
        </p:xfrm>
        <a:graphic>
          <a:graphicData uri="http://schemas.openxmlformats.org/drawingml/2006/table">
            <a:tbl>
              <a:tblPr/>
              <a:tblGrid>
                <a:gridCol w="840240"/>
                <a:gridCol w="841680"/>
                <a:gridCol w="84060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"/>
          <p:cNvSpPr/>
          <p:nvPr/>
        </p:nvSpPr>
        <p:spPr>
          <a:xfrm>
            <a:off x="2544840" y="1922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306600" y="13892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306600" y="2151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002040" y="3065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468520" y="3979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611520" y="3979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830840" y="1770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35400" y="27608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221000" y="2608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995" name=""/>
          <p:cNvCxnSpPr>
            <a:stCxn id="989" idx="3"/>
            <a:endCxn id="990" idx="7"/>
          </p:cNvCxnSpPr>
          <p:nvPr/>
        </p:nvCxnSpPr>
        <p:spPr>
          <a:xfrm flipH="1">
            <a:off x="2663280" y="3260880"/>
            <a:ext cx="371880" cy="75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89" idx="5"/>
            <a:endCxn id="991" idx="1"/>
          </p:cNvCxnSpPr>
          <p:nvPr/>
        </p:nvCxnSpPr>
        <p:spPr>
          <a:xfrm>
            <a:off x="3197160" y="3260880"/>
            <a:ext cx="448560" cy="75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7" name=""/>
          <p:cNvCxnSpPr>
            <a:stCxn id="990" idx="6"/>
            <a:endCxn id="991" idx="2"/>
          </p:cNvCxnSpPr>
          <p:nvPr/>
        </p:nvCxnSpPr>
        <p:spPr>
          <a:xfrm>
            <a:off x="2697120" y="40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8" name=""/>
          <p:cNvCxnSpPr>
            <a:stCxn id="988" idx="2"/>
            <a:endCxn id="986" idx="6"/>
          </p:cNvCxnSpPr>
          <p:nvPr/>
        </p:nvCxnSpPr>
        <p:spPr>
          <a:xfrm flipH="1" flipV="1">
            <a:off x="2772720" y="2036160"/>
            <a:ext cx="533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9" name=""/>
          <p:cNvCxnSpPr>
            <a:stCxn id="987" idx="2"/>
            <a:endCxn id="986" idx="7"/>
          </p:cNvCxnSpPr>
          <p:nvPr/>
        </p:nvCxnSpPr>
        <p:spPr>
          <a:xfrm flipH="1">
            <a:off x="2739600" y="1503000"/>
            <a:ext cx="5673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0" name=""/>
          <p:cNvCxnSpPr>
            <a:stCxn id="987" idx="4"/>
            <a:endCxn id="988" idx="0"/>
          </p:cNvCxnSpPr>
          <p:nvPr/>
        </p:nvCxnSpPr>
        <p:spPr>
          <a:xfrm>
            <a:off x="3420720" y="161748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1" name=""/>
          <p:cNvCxnSpPr>
            <a:stCxn id="992" idx="3"/>
            <a:endCxn id="994" idx="0"/>
          </p:cNvCxnSpPr>
          <p:nvPr/>
        </p:nvCxnSpPr>
        <p:spPr>
          <a:xfrm flipH="1">
            <a:off x="4335120" y="1965240"/>
            <a:ext cx="5292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2" name=""/>
          <p:cNvCxnSpPr>
            <a:stCxn id="993" idx="2"/>
            <a:endCxn id="994" idx="6"/>
          </p:cNvCxnSpPr>
          <p:nvPr/>
        </p:nvCxnSpPr>
        <p:spPr>
          <a:xfrm flipH="1" flipV="1">
            <a:off x="4448880" y="2721960"/>
            <a:ext cx="6865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3" name=""/>
          <p:cNvCxnSpPr>
            <a:stCxn id="993" idx="0"/>
            <a:endCxn id="992" idx="5"/>
          </p:cNvCxnSpPr>
          <p:nvPr/>
        </p:nvCxnSpPr>
        <p:spPr>
          <a:xfrm flipH="1" flipV="1">
            <a:off x="5025600" y="1964880"/>
            <a:ext cx="224640" cy="796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4" name=""/>
          <p:cNvCxnSpPr>
            <a:stCxn id="994" idx="3"/>
            <a:endCxn id="989" idx="6"/>
          </p:cNvCxnSpPr>
          <p:nvPr/>
        </p:nvCxnSpPr>
        <p:spPr>
          <a:xfrm flipH="1">
            <a:off x="3230280" y="2803320"/>
            <a:ext cx="102456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5" name=""/>
          <p:cNvCxnSpPr>
            <a:stCxn id="988" idx="3"/>
            <a:endCxn id="989" idx="7"/>
          </p:cNvCxnSpPr>
          <p:nvPr/>
        </p:nvCxnSpPr>
        <p:spPr>
          <a:xfrm flipH="1">
            <a:off x="3196440" y="2346480"/>
            <a:ext cx="143640" cy="75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6" name=""/>
          <p:cNvCxnSpPr>
            <a:stCxn id="988" idx="5"/>
            <a:endCxn id="994" idx="2"/>
          </p:cNvCxnSpPr>
          <p:nvPr/>
        </p:nvCxnSpPr>
        <p:spPr>
          <a:xfrm>
            <a:off x="3501720" y="2346120"/>
            <a:ext cx="71964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7" name=""/>
          <p:cNvSpPr/>
          <p:nvPr/>
        </p:nvSpPr>
        <p:spPr>
          <a:xfrm>
            <a:off x="2237760" y="3354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374280" y="3370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828520" y="4040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614320" y="2532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694960" y="1297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694960" y="2058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361680" y="1693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761640" y="221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666600" y="289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218840" y="1846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038200" y="2058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23760" y="282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826920" y="4437000"/>
                <a:ext cx="763272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luzione n.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"/>
          <p:cNvSpPr/>
          <p:nvPr/>
        </p:nvSpPr>
        <p:spPr>
          <a:xfrm>
            <a:off x="497880" y="1295280"/>
            <a:ext cx="7605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ore della soluzio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i archi verdi di maggiore spessore corrispondono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riabili poste a 1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789280" y="37227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551400" y="31892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551400" y="3951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246480" y="48657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712960" y="57801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855960" y="57801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075280" y="35701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380200" y="45608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465800" y="44085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1031" name=""/>
          <p:cNvCxnSpPr>
            <a:stCxn id="1025" idx="3"/>
            <a:endCxn id="1026" idx="7"/>
          </p:cNvCxnSpPr>
          <p:nvPr/>
        </p:nvCxnSpPr>
        <p:spPr>
          <a:xfrm flipH="1">
            <a:off x="2907720" y="5060880"/>
            <a:ext cx="371880" cy="7531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32" name=""/>
          <p:cNvCxnSpPr>
            <a:stCxn id="1025" idx="5"/>
            <a:endCxn id="1027" idx="1"/>
          </p:cNvCxnSpPr>
          <p:nvPr/>
        </p:nvCxnSpPr>
        <p:spPr>
          <a:xfrm>
            <a:off x="3441600" y="5060880"/>
            <a:ext cx="448560" cy="7531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33" name=""/>
          <p:cNvCxnSpPr>
            <a:stCxn id="1026" idx="6"/>
            <a:endCxn id="1027" idx="2"/>
          </p:cNvCxnSpPr>
          <p:nvPr/>
        </p:nvCxnSpPr>
        <p:spPr>
          <a:xfrm>
            <a:off x="2941560" y="5893920"/>
            <a:ext cx="915120" cy="108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34" name=""/>
          <p:cNvCxnSpPr>
            <a:stCxn id="1024" idx="2"/>
            <a:endCxn id="1022" idx="6"/>
          </p:cNvCxnSpPr>
          <p:nvPr/>
        </p:nvCxnSpPr>
        <p:spPr>
          <a:xfrm flipH="1" flipV="1">
            <a:off x="3017520" y="3836160"/>
            <a:ext cx="534240" cy="2293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35" name=""/>
          <p:cNvCxnSpPr>
            <a:stCxn id="1023" idx="2"/>
            <a:endCxn id="1022" idx="7"/>
          </p:cNvCxnSpPr>
          <p:nvPr/>
        </p:nvCxnSpPr>
        <p:spPr>
          <a:xfrm flipH="1">
            <a:off x="2983680" y="3303720"/>
            <a:ext cx="567720" cy="45288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36" name=""/>
          <p:cNvCxnSpPr>
            <a:stCxn id="1023" idx="4"/>
            <a:endCxn id="1024" idx="0"/>
          </p:cNvCxnSpPr>
          <p:nvPr/>
        </p:nvCxnSpPr>
        <p:spPr>
          <a:xfrm>
            <a:off x="3665160" y="3417840"/>
            <a:ext cx="1080" cy="53424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37" name=""/>
          <p:cNvCxnSpPr>
            <a:stCxn id="1028" idx="3"/>
            <a:endCxn id="1030" idx="0"/>
          </p:cNvCxnSpPr>
          <p:nvPr/>
        </p:nvCxnSpPr>
        <p:spPr>
          <a:xfrm flipH="1">
            <a:off x="4579560" y="3765600"/>
            <a:ext cx="529200" cy="6433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38" name=""/>
          <p:cNvCxnSpPr>
            <a:stCxn id="1029" idx="2"/>
            <a:endCxn id="1030" idx="6"/>
          </p:cNvCxnSpPr>
          <p:nvPr/>
        </p:nvCxnSpPr>
        <p:spPr>
          <a:xfrm flipH="1" flipV="1">
            <a:off x="4693680" y="4522320"/>
            <a:ext cx="686520" cy="15336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39" name=""/>
          <p:cNvCxnSpPr>
            <a:stCxn id="1029" idx="0"/>
            <a:endCxn id="1028" idx="5"/>
          </p:cNvCxnSpPr>
          <p:nvPr/>
        </p:nvCxnSpPr>
        <p:spPr>
          <a:xfrm flipH="1" flipV="1">
            <a:off x="5270040" y="3764880"/>
            <a:ext cx="22464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0" name=""/>
          <p:cNvCxnSpPr>
            <a:stCxn id="1030" idx="3"/>
            <a:endCxn id="1025" idx="6"/>
          </p:cNvCxnSpPr>
          <p:nvPr/>
        </p:nvCxnSpPr>
        <p:spPr>
          <a:xfrm flipH="1">
            <a:off x="3474720" y="4603320"/>
            <a:ext cx="102456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1" name=""/>
          <p:cNvCxnSpPr>
            <a:stCxn id="1024" idx="3"/>
            <a:endCxn id="1025" idx="7"/>
          </p:cNvCxnSpPr>
          <p:nvPr/>
        </p:nvCxnSpPr>
        <p:spPr>
          <a:xfrm flipH="1">
            <a:off x="3440880" y="4146480"/>
            <a:ext cx="143640" cy="75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24" idx="5"/>
            <a:endCxn id="1030" idx="2"/>
          </p:cNvCxnSpPr>
          <p:nvPr/>
        </p:nvCxnSpPr>
        <p:spPr>
          <a:xfrm>
            <a:off x="3746520" y="4146120"/>
            <a:ext cx="72000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3" name=""/>
          <p:cNvSpPr/>
          <p:nvPr/>
        </p:nvSpPr>
        <p:spPr>
          <a:xfrm>
            <a:off x="2482200" y="5154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619080" y="5170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201480" y="5840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859120" y="4332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939400" y="3097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939400" y="3859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815640" y="3494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006440" y="401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911040" y="469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463640" y="3646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282640" y="3859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768200" y="462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685800" y="112536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nd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iste un vincolo della famigli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o dalla soluzione ottima corrente?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esempio, 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48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49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89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 viene aggiunto alla formulazione corren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914400" y="2019240"/>
                <a:ext cx="70102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per ogni 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ale che 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755640" y="3860640"/>
                <a:ext cx="763272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luzione n.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0" name=""/>
          <p:cNvSpPr/>
          <p:nvPr/>
        </p:nvSpPr>
        <p:spPr>
          <a:xfrm>
            <a:off x="497880" y="1295280"/>
            <a:ext cx="7605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ore della soluzio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i archi verdi di maggiore spessore corrispondono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riabili poste a 1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689200" y="3435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51320" y="29019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51320" y="3664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146400" y="4578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612880" y="5492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755880" y="5492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975200" y="32828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280120" y="42735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365720" y="4121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1070" name=""/>
          <p:cNvCxnSpPr>
            <a:stCxn id="1064" idx="3"/>
            <a:endCxn id="1065" idx="7"/>
          </p:cNvCxnSpPr>
          <p:nvPr/>
        </p:nvCxnSpPr>
        <p:spPr>
          <a:xfrm flipH="1">
            <a:off x="2808000" y="4773600"/>
            <a:ext cx="372240" cy="7531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71" name=""/>
          <p:cNvCxnSpPr>
            <a:stCxn id="1064" idx="5"/>
            <a:endCxn id="1066" idx="1"/>
          </p:cNvCxnSpPr>
          <p:nvPr/>
        </p:nvCxnSpPr>
        <p:spPr>
          <a:xfrm>
            <a:off x="3341520" y="4773600"/>
            <a:ext cx="448560" cy="7531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72" name=""/>
          <p:cNvCxnSpPr>
            <a:stCxn id="1065" idx="6"/>
            <a:endCxn id="1066" idx="2"/>
          </p:cNvCxnSpPr>
          <p:nvPr/>
        </p:nvCxnSpPr>
        <p:spPr>
          <a:xfrm>
            <a:off x="2841480" y="5606640"/>
            <a:ext cx="915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63" idx="2"/>
            <a:endCxn id="1061" idx="6"/>
          </p:cNvCxnSpPr>
          <p:nvPr/>
        </p:nvCxnSpPr>
        <p:spPr>
          <a:xfrm flipH="1" flipV="1">
            <a:off x="2917440" y="3548880"/>
            <a:ext cx="534240" cy="2293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74" name=""/>
          <p:cNvCxnSpPr>
            <a:stCxn id="1062" idx="2"/>
            <a:endCxn id="1061" idx="7"/>
          </p:cNvCxnSpPr>
          <p:nvPr/>
        </p:nvCxnSpPr>
        <p:spPr>
          <a:xfrm flipH="1">
            <a:off x="2883600" y="3015720"/>
            <a:ext cx="567720" cy="45324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75" name=""/>
          <p:cNvCxnSpPr>
            <a:stCxn id="1062" idx="4"/>
            <a:endCxn id="1063" idx="0"/>
          </p:cNvCxnSpPr>
          <p:nvPr/>
        </p:nvCxnSpPr>
        <p:spPr>
          <a:xfrm>
            <a:off x="3565080" y="3130560"/>
            <a:ext cx="1080" cy="53424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76" name=""/>
          <p:cNvCxnSpPr>
            <a:stCxn id="1067" idx="3"/>
            <a:endCxn id="1069" idx="0"/>
          </p:cNvCxnSpPr>
          <p:nvPr/>
        </p:nvCxnSpPr>
        <p:spPr>
          <a:xfrm flipH="1">
            <a:off x="4479480" y="3478320"/>
            <a:ext cx="529200" cy="6433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77" name=""/>
          <p:cNvCxnSpPr>
            <a:stCxn id="1068" idx="2"/>
            <a:endCxn id="1069" idx="6"/>
          </p:cNvCxnSpPr>
          <p:nvPr/>
        </p:nvCxnSpPr>
        <p:spPr>
          <a:xfrm flipH="1" flipV="1">
            <a:off x="4593600" y="4234680"/>
            <a:ext cx="686520" cy="15300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78" name=""/>
          <p:cNvCxnSpPr>
            <a:stCxn id="1068" idx="0"/>
            <a:endCxn id="1067" idx="5"/>
          </p:cNvCxnSpPr>
          <p:nvPr/>
        </p:nvCxnSpPr>
        <p:spPr>
          <a:xfrm flipH="1" flipV="1">
            <a:off x="5169960" y="3477600"/>
            <a:ext cx="224640" cy="79596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079" name=""/>
          <p:cNvCxnSpPr>
            <a:stCxn id="1069" idx="3"/>
            <a:endCxn id="1064" idx="6"/>
          </p:cNvCxnSpPr>
          <p:nvPr/>
        </p:nvCxnSpPr>
        <p:spPr>
          <a:xfrm flipH="1">
            <a:off x="3374640" y="4316040"/>
            <a:ext cx="102456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63" idx="3"/>
            <a:endCxn id="1064" idx="7"/>
          </p:cNvCxnSpPr>
          <p:nvPr/>
        </p:nvCxnSpPr>
        <p:spPr>
          <a:xfrm flipH="1">
            <a:off x="3340800" y="3859200"/>
            <a:ext cx="143640" cy="75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63" idx="5"/>
            <a:endCxn id="1069" idx="2"/>
          </p:cNvCxnSpPr>
          <p:nvPr/>
        </p:nvCxnSpPr>
        <p:spPr>
          <a:xfrm>
            <a:off x="3646440" y="3858840"/>
            <a:ext cx="72000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2" name=""/>
          <p:cNvSpPr/>
          <p:nvPr/>
        </p:nvSpPr>
        <p:spPr>
          <a:xfrm>
            <a:off x="2382120" y="4867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519000" y="4883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101400" y="5553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759040" y="40449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839320" y="2809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839320" y="3571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715920" y="3206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906360" y="3724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10960" y="4410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363560" y="3359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255640" y="3571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668120" y="4334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zion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85800" y="1197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nd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iste un vincolo della famigli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o dalla soluzione ottima corrente?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esempio, 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56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57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67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 viene aggiunto alla formulazione corren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684360" y="3946680"/>
                <a:ext cx="7740360" cy="26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914400" y="2019240"/>
                <a:ext cx="70102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per ogni 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ale che 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luzione n.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9" name=""/>
          <p:cNvSpPr/>
          <p:nvPr/>
        </p:nvSpPr>
        <p:spPr>
          <a:xfrm>
            <a:off x="497880" y="1295280"/>
            <a:ext cx="7605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ore della soluzio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5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i archi verdi di maggiore spessore corrispondono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riabili poste a 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833560" y="3362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595680" y="2828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595680" y="3591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290760" y="4505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757600" y="5419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900600" y="5419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119560" y="32097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424480" y="4200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510080" y="4048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1109" name=""/>
          <p:cNvCxnSpPr>
            <a:stCxn id="1103" idx="3"/>
            <a:endCxn id="1104" idx="7"/>
          </p:cNvCxnSpPr>
          <p:nvPr/>
        </p:nvCxnSpPr>
        <p:spPr>
          <a:xfrm flipH="1">
            <a:off x="2952360" y="4700520"/>
            <a:ext cx="372240" cy="7531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10" name=""/>
          <p:cNvCxnSpPr>
            <a:stCxn id="1103" idx="5"/>
            <a:endCxn id="1105" idx="1"/>
          </p:cNvCxnSpPr>
          <p:nvPr/>
        </p:nvCxnSpPr>
        <p:spPr>
          <a:xfrm>
            <a:off x="3485880" y="4700520"/>
            <a:ext cx="448200" cy="7531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11" name=""/>
          <p:cNvCxnSpPr>
            <a:stCxn id="1104" idx="6"/>
            <a:endCxn id="1105" idx="2"/>
          </p:cNvCxnSpPr>
          <p:nvPr/>
        </p:nvCxnSpPr>
        <p:spPr>
          <a:xfrm>
            <a:off x="2986200" y="5533560"/>
            <a:ext cx="915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2" idx="2"/>
            <a:endCxn id="1100" idx="6"/>
          </p:cNvCxnSpPr>
          <p:nvPr/>
        </p:nvCxnSpPr>
        <p:spPr>
          <a:xfrm flipH="1" flipV="1">
            <a:off x="3061800" y="3475800"/>
            <a:ext cx="534240" cy="2293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13" name=""/>
          <p:cNvCxnSpPr>
            <a:stCxn id="1101" idx="2"/>
            <a:endCxn id="1100" idx="7"/>
          </p:cNvCxnSpPr>
          <p:nvPr/>
        </p:nvCxnSpPr>
        <p:spPr>
          <a:xfrm flipH="1">
            <a:off x="3028680" y="2943360"/>
            <a:ext cx="567360" cy="45288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14" name=""/>
          <p:cNvCxnSpPr>
            <a:stCxn id="1101" idx="4"/>
            <a:endCxn id="1102" idx="0"/>
          </p:cNvCxnSpPr>
          <p:nvPr/>
        </p:nvCxnSpPr>
        <p:spPr>
          <a:xfrm>
            <a:off x="3709800" y="3057480"/>
            <a:ext cx="1080" cy="53424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15" name=""/>
          <p:cNvCxnSpPr>
            <a:stCxn id="1106" idx="3"/>
            <a:endCxn id="1108" idx="0"/>
          </p:cNvCxnSpPr>
          <p:nvPr/>
        </p:nvCxnSpPr>
        <p:spPr>
          <a:xfrm flipH="1">
            <a:off x="4624200" y="3405240"/>
            <a:ext cx="529200" cy="6433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16" name=""/>
          <p:cNvCxnSpPr>
            <a:stCxn id="1107" idx="2"/>
            <a:endCxn id="1108" idx="6"/>
          </p:cNvCxnSpPr>
          <p:nvPr/>
        </p:nvCxnSpPr>
        <p:spPr>
          <a:xfrm flipH="1" flipV="1">
            <a:off x="4737960" y="4161960"/>
            <a:ext cx="686520" cy="15336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17" name=""/>
          <p:cNvCxnSpPr>
            <a:stCxn id="1107" idx="0"/>
            <a:endCxn id="1106" idx="5"/>
          </p:cNvCxnSpPr>
          <p:nvPr/>
        </p:nvCxnSpPr>
        <p:spPr>
          <a:xfrm flipH="1" flipV="1">
            <a:off x="5314680" y="3404520"/>
            <a:ext cx="224640" cy="795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108" idx="3"/>
            <a:endCxn id="1103" idx="6"/>
          </p:cNvCxnSpPr>
          <p:nvPr/>
        </p:nvCxnSpPr>
        <p:spPr>
          <a:xfrm flipH="1">
            <a:off x="3518640" y="4242960"/>
            <a:ext cx="102492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9" name=""/>
          <p:cNvCxnSpPr>
            <a:stCxn id="1102" idx="3"/>
            <a:endCxn id="1103" idx="7"/>
          </p:cNvCxnSpPr>
          <p:nvPr/>
        </p:nvCxnSpPr>
        <p:spPr>
          <a:xfrm flipH="1">
            <a:off x="3485520" y="3786120"/>
            <a:ext cx="143640" cy="75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102" idx="5"/>
            <a:endCxn id="1108" idx="2"/>
          </p:cNvCxnSpPr>
          <p:nvPr/>
        </p:nvCxnSpPr>
        <p:spPr>
          <a:xfrm>
            <a:off x="3790800" y="3785760"/>
            <a:ext cx="720000" cy="3769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sp>
        <p:nvSpPr>
          <p:cNvPr id="1121" name=""/>
          <p:cNvSpPr/>
          <p:nvPr/>
        </p:nvSpPr>
        <p:spPr>
          <a:xfrm>
            <a:off x="3663360" y="480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245760" y="5479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903400" y="3971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984040" y="273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984040" y="3498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860280" y="3133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050720" y="3651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955320" y="4336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507920" y="3286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400000" y="3498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12840" y="426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otatura per bou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038480" y="2057400"/>
            <a:ext cx="1573560" cy="882000"/>
            <a:chOff x="4038480" y="2057400"/>
            <a:chExt cx="1573560" cy="882000"/>
          </a:xfrm>
        </p:grpSpPr>
        <p:grpSp>
          <p:nvGrpSpPr>
            <p:cNvPr id="336" name=""/>
            <p:cNvGrpSpPr/>
            <p:nvPr/>
          </p:nvGrpSpPr>
          <p:grpSpPr>
            <a:xfrm>
              <a:off x="4038480" y="2324160"/>
              <a:ext cx="533520" cy="533520"/>
              <a:chOff x="4038480" y="2324160"/>
              <a:chExt cx="533520" cy="533520"/>
            </a:xfrm>
          </p:grpSpPr>
          <p:sp>
            <p:nvSpPr>
              <p:cNvPr id="337" name=""/>
              <p:cNvSpPr/>
              <p:nvPr/>
            </p:nvSpPr>
            <p:spPr>
              <a:xfrm>
                <a:off x="4038480" y="232416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75200" y="23241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4544640" y="2057400"/>
              <a:ext cx="106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 27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33120" y="2498760"/>
              <a:ext cx="90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3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073600" y="2819520"/>
            <a:ext cx="2117520" cy="2558160"/>
            <a:chOff x="2073600" y="2819520"/>
            <a:chExt cx="2117520" cy="2558160"/>
          </a:xfrm>
        </p:grpSpPr>
        <p:grpSp>
          <p:nvGrpSpPr>
            <p:cNvPr id="342" name=""/>
            <p:cNvGrpSpPr/>
            <p:nvPr/>
          </p:nvGrpSpPr>
          <p:grpSpPr>
            <a:xfrm>
              <a:off x="2073600" y="4495680"/>
              <a:ext cx="545760" cy="533520"/>
              <a:chOff x="2073600" y="4495680"/>
              <a:chExt cx="545760" cy="533520"/>
            </a:xfrm>
          </p:grpSpPr>
          <p:sp>
            <p:nvSpPr>
              <p:cNvPr id="343" name=""/>
              <p:cNvSpPr/>
              <p:nvPr/>
            </p:nvSpPr>
            <p:spPr>
              <a:xfrm>
                <a:off x="2085840" y="449568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0" y="449568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V="1">
              <a:off x="2514600" y="2819520"/>
              <a:ext cx="167652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59160" y="342900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19720" y="4495680"/>
              <a:ext cx="1216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 2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06760" y="4937040"/>
              <a:ext cx="1055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8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419720" y="2819520"/>
            <a:ext cx="3673440" cy="2558160"/>
            <a:chOff x="4419720" y="2819520"/>
            <a:chExt cx="3673440" cy="2558160"/>
          </a:xfrm>
        </p:grpSpPr>
        <p:grpSp>
          <p:nvGrpSpPr>
            <p:cNvPr id="350" name=""/>
            <p:cNvGrpSpPr/>
            <p:nvPr/>
          </p:nvGrpSpPr>
          <p:grpSpPr>
            <a:xfrm>
              <a:off x="6437520" y="4495680"/>
              <a:ext cx="572760" cy="533520"/>
              <a:chOff x="6437520" y="4495680"/>
              <a:chExt cx="572760" cy="533520"/>
            </a:xfrm>
          </p:grpSpPr>
          <p:sp>
            <p:nvSpPr>
              <p:cNvPr id="351" name=""/>
              <p:cNvSpPr/>
              <p:nvPr/>
            </p:nvSpPr>
            <p:spPr>
              <a:xfrm>
                <a:off x="6476760" y="449568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437520" y="449568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flipH="1" flipV="1">
              <a:off x="4419720" y="2819520"/>
              <a:ext cx="220968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51440" y="34894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41880" y="4495680"/>
              <a:ext cx="115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 26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97600" y="4937040"/>
              <a:ext cx="1055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2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828800" y="4267080"/>
            <a:ext cx="990720" cy="9907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638680" y="2133720"/>
            <a:ext cx="1573560" cy="882000"/>
            <a:chOff x="5638680" y="2133720"/>
            <a:chExt cx="1573560" cy="882000"/>
          </a:xfrm>
        </p:grpSpPr>
        <p:sp>
          <p:nvSpPr>
            <p:cNvPr id="359" name=""/>
            <p:cNvSpPr/>
            <p:nvPr/>
          </p:nvSpPr>
          <p:spPr>
            <a:xfrm>
              <a:off x="5638680" y="2362320"/>
              <a:ext cx="38124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44840" y="2133720"/>
              <a:ext cx="106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 26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33320" y="2575080"/>
              <a:ext cx="90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2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zion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84360" y="112536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nd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iste un vincolo della famiglia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o dalla soluzione ottima corrente?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esempio, 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Bookman Old Style"/>
              </a:rPr>
              <a:t>23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 viene aggiunto alla formulazione corren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684360" y="3741840"/>
                <a:ext cx="774036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914400" y="2019240"/>
                <a:ext cx="70102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per ogni 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ale che 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497880" y="1295280"/>
            <a:ext cx="7605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ore della soluzio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0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i archi verdi di maggiore spessore corrispondono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riabili poste a 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luzione n.4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631960" y="3362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394080" y="2828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394080" y="3591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089160" y="4505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556000" y="5419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99000" y="5419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917960" y="32097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222880" y="4200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308480" y="4048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cxnSp>
        <p:nvCxnSpPr>
          <p:cNvPr id="1147" name=""/>
          <p:cNvCxnSpPr>
            <a:stCxn id="1141" idx="3"/>
            <a:endCxn id="1142" idx="7"/>
          </p:cNvCxnSpPr>
          <p:nvPr/>
        </p:nvCxnSpPr>
        <p:spPr>
          <a:xfrm flipH="1">
            <a:off x="2750760" y="4700520"/>
            <a:ext cx="372240" cy="7531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48" name=""/>
          <p:cNvCxnSpPr>
            <a:stCxn id="1141" idx="5"/>
            <a:endCxn id="1143" idx="1"/>
          </p:cNvCxnSpPr>
          <p:nvPr/>
        </p:nvCxnSpPr>
        <p:spPr>
          <a:xfrm>
            <a:off x="3284280" y="4700520"/>
            <a:ext cx="448200" cy="7531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49" name=""/>
          <p:cNvCxnSpPr>
            <a:stCxn id="1142" idx="6"/>
            <a:endCxn id="1143" idx="2"/>
          </p:cNvCxnSpPr>
          <p:nvPr/>
        </p:nvCxnSpPr>
        <p:spPr>
          <a:xfrm>
            <a:off x="2784600" y="5533560"/>
            <a:ext cx="915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50" name=""/>
          <p:cNvCxnSpPr>
            <a:stCxn id="1140" idx="2"/>
            <a:endCxn id="1138" idx="6"/>
          </p:cNvCxnSpPr>
          <p:nvPr/>
        </p:nvCxnSpPr>
        <p:spPr>
          <a:xfrm flipH="1" flipV="1">
            <a:off x="2860200" y="3475800"/>
            <a:ext cx="534240" cy="2293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51" name=""/>
          <p:cNvCxnSpPr>
            <a:stCxn id="1139" idx="2"/>
            <a:endCxn id="1138" idx="7"/>
          </p:cNvCxnSpPr>
          <p:nvPr/>
        </p:nvCxnSpPr>
        <p:spPr>
          <a:xfrm flipH="1">
            <a:off x="2827080" y="2943360"/>
            <a:ext cx="567360" cy="452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52" name=""/>
          <p:cNvCxnSpPr>
            <a:stCxn id="1139" idx="4"/>
            <a:endCxn id="1140" idx="0"/>
          </p:cNvCxnSpPr>
          <p:nvPr/>
        </p:nvCxnSpPr>
        <p:spPr>
          <a:xfrm>
            <a:off x="3507840" y="3057480"/>
            <a:ext cx="1080" cy="53424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53" name=""/>
          <p:cNvCxnSpPr>
            <a:stCxn id="1144" idx="3"/>
            <a:endCxn id="1146" idx="0"/>
          </p:cNvCxnSpPr>
          <p:nvPr/>
        </p:nvCxnSpPr>
        <p:spPr>
          <a:xfrm flipH="1">
            <a:off x="4422240" y="3405240"/>
            <a:ext cx="529200" cy="6433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54" name=""/>
          <p:cNvCxnSpPr>
            <a:stCxn id="1145" idx="2"/>
            <a:endCxn id="1146" idx="6"/>
          </p:cNvCxnSpPr>
          <p:nvPr/>
        </p:nvCxnSpPr>
        <p:spPr>
          <a:xfrm flipH="1" flipV="1">
            <a:off x="4536360" y="4161960"/>
            <a:ext cx="686520" cy="15336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55" name=""/>
          <p:cNvCxnSpPr>
            <a:stCxn id="1145" idx="0"/>
            <a:endCxn id="1144" idx="5"/>
          </p:cNvCxnSpPr>
          <p:nvPr/>
        </p:nvCxnSpPr>
        <p:spPr>
          <a:xfrm flipH="1" flipV="1">
            <a:off x="5112720" y="3404520"/>
            <a:ext cx="224280" cy="795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46" idx="3"/>
            <a:endCxn id="1141" idx="6"/>
          </p:cNvCxnSpPr>
          <p:nvPr/>
        </p:nvCxnSpPr>
        <p:spPr>
          <a:xfrm flipH="1">
            <a:off x="3317040" y="4242960"/>
            <a:ext cx="1024920" cy="3769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cxnSp>
        <p:nvCxnSpPr>
          <p:cNvPr id="1157" name=""/>
          <p:cNvCxnSpPr>
            <a:stCxn id="1140" idx="3"/>
            <a:endCxn id="1141" idx="7"/>
          </p:cNvCxnSpPr>
          <p:nvPr/>
        </p:nvCxnSpPr>
        <p:spPr>
          <a:xfrm flipH="1">
            <a:off x="3283920" y="3786120"/>
            <a:ext cx="143640" cy="75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8" name=""/>
          <p:cNvCxnSpPr>
            <a:stCxn id="1140" idx="5"/>
            <a:endCxn id="1146" idx="2"/>
          </p:cNvCxnSpPr>
          <p:nvPr/>
        </p:nvCxnSpPr>
        <p:spPr>
          <a:xfrm>
            <a:off x="3589200" y="3785760"/>
            <a:ext cx="720000" cy="376920"/>
          </a:xfrm>
          <a:prstGeom prst="straightConnector1">
            <a:avLst/>
          </a:prstGeom>
          <a:ln w="57240">
            <a:solidFill>
              <a:srgbClr val="009900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3461760" y="480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044160" y="5479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701800" y="39718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782440" y="273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782440" y="3498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658680" y="3133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849120" y="3651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753720" y="4336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06320" y="3286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198400" y="3498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11240" y="426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zion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an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iste un vincolo della famigli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olato dalla soluzione ottima corrente?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luzione trovata è ottima per il rilassamento ed è anche INTERA, ovvero ottima per PL-{0,1}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914400" y="2451240"/>
                <a:ext cx="70102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per ogni 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ale che 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a di separazion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Qual è il problema che consente di separare i vincol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subtour elimination constraints”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Variabili decisiona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= 1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j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= 0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trim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914400" y="2308320"/>
                <a:ext cx="701028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per ogni 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ale che 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a di separ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 vincolo subtour è violato dalla soluzione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*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L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se e solo se esiste un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 tale ch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vvero s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3067200" y="2565360"/>
                <a:ext cx="2944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</m:sSubSup>
                      </m:e>
                    </m:nary>
                    <m:r>
                      <m:t xml:space="preserve">−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692360" y="3716280"/>
                <a:ext cx="6048360" cy="24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⊂</m:t>
                            </m:r>
                            <m:r>
                              <m:t xml:space="preserve">V</m:t>
                            </m:r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limLow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z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lim>
                            </m:limLow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/>
                                    </m:sSubSup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  <m:lim/>
                        </m:limLow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sservazio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. Il problem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a soluzione ottima di valore 0 co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ovviare a ciò si deve fissar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p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1,…,|V|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questo modo si risponde alla domanda se esiste u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incolo di tipo subtour violato che contiene il vertic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. Il problema non è un problema di PL-{0,1}. Si deve effettuare una linearizzazion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1547640" y="1413000"/>
                <a:ext cx="48247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limLow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z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lim>
                            </m:limLow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/>
                                    </m:sSubSup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  <m:lim/>
                        </m:limLow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inearizz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roduciamo la variabi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problema diven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1619280" y="2573280"/>
                <a:ext cx="5473800" cy="37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</m:sSubSup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eqAr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≥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{"/>
                                          <m:endChr m:val="}"/>
                                        </m:dPr>
                                        <m:e>
                                          <m:r>
                                            <m:t xml:space="preserve">0,1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|</m:t>
                                      </m:r>
                                      <m:r>
                                        <m:t xml:space="preserve">V</m:t>
                                      </m:r>
                                      <m:r>
                                        <m:t xml:space="preserve">|</m:t>
                                      </m:r>
                                    </m:sup>
                                  </m:sSup>
                                  <m:r>
                                    <m:t xml:space="preserve">,</m:t>
                                  </m:r>
                                  <m:r>
                                    <m:t xml:space="preserve">w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{"/>
                                          <m:endChr m:val="}"/>
                                        </m:dPr>
                                        <m:e>
                                          <m:r>
                                            <m:t xml:space="preserve">0,1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|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|</m:t>
                                      </m:r>
                                    </m:sup>
                                  </m:sSup>
                                </m:e>
                              </m:eqArr>
                            </m:e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per ogni 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Linearizz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vincoli                      possono essere eliminati in qua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coefficienti del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f.o. son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ovvero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e implica che il vincolo è sempre soddisfatto in qua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iminando questi vincoli osserviamo anche che la matric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i coefficienti è TUM. Pertanto, può essere rimossa anche la stipula di interezza.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conclusione è “facile” il problema di separazione dei subtour elimination constraint.                       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1908000" y="1311120"/>
                <a:ext cx="187200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826920" y="2276640"/>
                <a:ext cx="2899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5640" y="3670200"/>
                <a:ext cx="347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114560" y="1989000"/>
                <a:ext cx="6121440" cy="47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</m:e>
                          </m:mr>
                        </m:m>
                        <m:r>
                          <m:t xml:space="preserve">0</m:t>
                        </m: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8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9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9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9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9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8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9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9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7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7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7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8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w</m:t>
                        </m:r>
                        <m:r>
                          <m:t xml:space="preserve">≤</m:t>
                        </m:r>
                        <m:r>
                          <m:t xml:space="preserve">1,0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emp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89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sideriamo la sol. n. 3 del problema precedente e scriviamo il problema di separazion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soluzione ottima del problem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e 0 ed ha le seguenti variabili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verse da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sse descrivono il subtour constrai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12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13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23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&lt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2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1"/>
          <a:stretch/>
        </p:blipFill>
        <p:spPr>
          <a:xfrm>
            <a:off x="4647960" y="2425680"/>
            <a:ext cx="3809880" cy="254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4440240" y="3790800"/>
                <a:ext cx="3803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tatura per inammissibili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038480" y="2057400"/>
            <a:ext cx="1573560" cy="882000"/>
            <a:chOff x="4038480" y="2057400"/>
            <a:chExt cx="1573560" cy="882000"/>
          </a:xfrm>
        </p:grpSpPr>
        <p:grpSp>
          <p:nvGrpSpPr>
            <p:cNvPr id="364" name=""/>
            <p:cNvGrpSpPr/>
            <p:nvPr/>
          </p:nvGrpSpPr>
          <p:grpSpPr>
            <a:xfrm>
              <a:off x="4038480" y="2324160"/>
              <a:ext cx="533520" cy="533520"/>
              <a:chOff x="4038480" y="2324160"/>
              <a:chExt cx="533520" cy="533520"/>
            </a:xfrm>
          </p:grpSpPr>
          <p:sp>
            <p:nvSpPr>
              <p:cNvPr id="365" name=""/>
              <p:cNvSpPr/>
              <p:nvPr/>
            </p:nvSpPr>
            <p:spPr>
              <a:xfrm>
                <a:off x="4038480" y="232416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075200" y="23241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4544640" y="2057400"/>
              <a:ext cx="106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 27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33120" y="2498760"/>
              <a:ext cx="90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3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073600" y="2819520"/>
            <a:ext cx="2117520" cy="2558160"/>
            <a:chOff x="2073600" y="2819520"/>
            <a:chExt cx="2117520" cy="2558160"/>
          </a:xfrm>
        </p:grpSpPr>
        <p:grpSp>
          <p:nvGrpSpPr>
            <p:cNvPr id="370" name=""/>
            <p:cNvGrpSpPr/>
            <p:nvPr/>
          </p:nvGrpSpPr>
          <p:grpSpPr>
            <a:xfrm>
              <a:off x="2073600" y="4495680"/>
              <a:ext cx="545760" cy="533520"/>
              <a:chOff x="2073600" y="4495680"/>
              <a:chExt cx="545760" cy="533520"/>
            </a:xfrm>
          </p:grpSpPr>
          <p:sp>
            <p:nvSpPr>
              <p:cNvPr id="371" name=""/>
              <p:cNvSpPr/>
              <p:nvPr/>
            </p:nvSpPr>
            <p:spPr>
              <a:xfrm>
                <a:off x="2085840" y="449568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073600" y="449568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V="1">
              <a:off x="2514600" y="2819520"/>
              <a:ext cx="167652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59160" y="342900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0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9720" y="4495680"/>
              <a:ext cx="1216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 20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06760" y="4937040"/>
              <a:ext cx="1055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 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8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419720" y="2819520"/>
            <a:ext cx="3469320" cy="2495520"/>
            <a:chOff x="4419720" y="2819520"/>
            <a:chExt cx="3469320" cy="2495520"/>
          </a:xfrm>
        </p:grpSpPr>
        <p:grpSp>
          <p:nvGrpSpPr>
            <p:cNvPr id="378" name=""/>
            <p:cNvGrpSpPr/>
            <p:nvPr/>
          </p:nvGrpSpPr>
          <p:grpSpPr>
            <a:xfrm>
              <a:off x="6437520" y="4495680"/>
              <a:ext cx="572760" cy="533520"/>
              <a:chOff x="6437520" y="4495680"/>
              <a:chExt cx="572760" cy="533520"/>
            </a:xfrm>
          </p:grpSpPr>
          <p:sp>
            <p:nvSpPr>
              <p:cNvPr id="379" name=""/>
              <p:cNvSpPr/>
              <p:nvPr/>
            </p:nvSpPr>
            <p:spPr>
              <a:xfrm>
                <a:off x="6476760" y="4495680"/>
                <a:ext cx="533520" cy="5335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37520" y="4495680"/>
                <a:ext cx="432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flipH="1" flipV="1">
              <a:off x="4419720" y="2819520"/>
              <a:ext cx="220968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51440" y="3489480"/>
              <a:ext cx="68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47440" y="4497480"/>
              <a:ext cx="741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32840" y="5024520"/>
              <a:ext cx="183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248520" y="4267080"/>
            <a:ext cx="990360" cy="9907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638680" y="2133720"/>
            <a:ext cx="1573560" cy="882000"/>
            <a:chOff x="5638680" y="2133720"/>
            <a:chExt cx="1573560" cy="882000"/>
          </a:xfrm>
        </p:grpSpPr>
        <p:sp>
          <p:nvSpPr>
            <p:cNvPr id="387" name=""/>
            <p:cNvSpPr/>
            <p:nvPr/>
          </p:nvSpPr>
          <p:spPr>
            <a:xfrm>
              <a:off x="5638680" y="2362320"/>
              <a:ext cx="38124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44840" y="2133720"/>
              <a:ext cx="1067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ahoma"/>
                </a:rPr>
                <a:t>UB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= 27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33320" y="2575080"/>
              <a:ext cx="906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LB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=18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45:00Z</dcterms:created>
  <dc:creator>/</dc:creator>
  <dc:description/>
  <dc:language>en-US</dc:language>
  <cp:lastModifiedBy>/</cp:lastModifiedBy>
  <dcterms:modified xsi:type="dcterms:W3CDTF">2005-06-21T14:13:56Z</dcterms:modified>
  <cp:revision>59</cp:revision>
  <dc:subject/>
  <dc:title>Diapositiva 1</dc:title>
</cp:coreProperties>
</file>