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D14-8B50-4431-9ED6-0986167E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2AF-B04D-4048-8743-621B770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021-EB0F-4A2D-A6A3-ED8079B3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F54-8110-4CE1-982F-39D245D0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4DB1-7C64-435D-A582-2F5A39A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2EB-6FCE-4194-B868-858CEF56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2B76-839D-4D5E-BB10-6BA275B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37A5-DBFB-4939-8705-24B1A07C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67E-6123-4C8E-9947-3DC19FDA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4DD1-6FEF-49AA-9278-20AA6E3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E53-AC55-4A8F-971C-390EA0B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455-B2F2-4110-8D38-AC4CFCED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6969-AFC8-4C20-B432-53A0EE3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CBF-5A5E-436F-9994-E576ABC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078C-C4E5-4773-8CD2-A1846CF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7BF5-E047-4B46-8AEE-B4EFCC81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2312-F54D-4136-B806-772481F8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240-C31A-4759-B869-8EF3B96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709-0E45-4B15-B811-71961829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EF8-9B03-4340-A695-7112CF1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44A-B19D-43F1-AFC8-53061781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0FB-0E4F-473A-88F5-73B8E2F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D5C-9EAF-4ECF-8E1E-508ED26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EEB-7D46-4AD9-8523-92556D8B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1104840"/>
            <a:ext cx="1784160" cy="2324160"/>
            <a:chOff x="414360" y="110484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120240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110808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110484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1904760" y="624852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BF60-BB89-48AA-B6FD-FB76064C88B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EDA2-0328-4792-96E3-C9E9E95B0B7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vaq.it/~oi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ttimizzazione Combinatoria </a:t>
            </a:r>
            <a:br>
              <a:rPr sz="2800"/>
            </a:b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. A. 2004-200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143000"/>
            <a:ext cx="7467480" cy="57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ocente</a:t>
            </a:r>
            <a:br>
              <a:rPr sz="2000"/>
            </a:b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abrizio Ross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rario di riceviment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oledi 15-17 oppure su appuntamen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elefono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0862433139 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-mail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ossi@di.univaq.it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ito web</a:t>
            </a:r>
            <a:br>
              <a:rPr sz="2000"/>
            </a:b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www.di.univaq.it/~oi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rario delle lezio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rtedi ore 17.00 – 19.00 Aula 2.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oledi ore 17.00 – 19.00 Aula Mag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iovedi ore 9.30 – 11.30 aula 1.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esti di riferiment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B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. Sassano,</a:t>
            </a: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Modelli e Algoritmi della Ricerca Operativa, Franco Angel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Avanza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L. A. Wolsey, Integer Programming, John Wiley &amp; Sons, Inc.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W. J. Cook, W. H. Cunningham, W. R. Pulleyblank, A. Schrijver, Combinatorial Optimization, Wiley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teriale didattico sul sito http://www.di.univaq.it/~o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la bisac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vete a disposizione un budget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gli investimenti dell’anno 200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d ogni progetto è associat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 un cos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&gt; 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 un guadagno attes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&gt;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egliere l’insieme di progetti in modo che sia massimizzato il guadagno atteso senza eccedere il budget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952" name=""/>
          <p:cNvCxnSpPr>
            <a:stCxn id="1942" idx="4"/>
            <a:endCxn id="1943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19080">
            <a:solidFill>
              <a:srgbClr val="008000"/>
            </a:solidFill>
            <a:miter/>
          </a:ln>
        </p:spPr>
      </p:cxnSp>
      <p:cxnSp>
        <p:nvCxnSpPr>
          <p:cNvPr id="1953" name=""/>
          <p:cNvCxnSpPr>
            <a:stCxn id="1941" idx="4"/>
            <a:endCxn id="1950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19080">
            <a:solidFill>
              <a:srgbClr val="008000"/>
            </a:solidFill>
            <a:miter/>
          </a:ln>
        </p:spPr>
      </p:cxnSp>
      <p:cxnSp>
        <p:nvCxnSpPr>
          <p:cNvPr id="1954" name=""/>
          <p:cNvCxnSpPr>
            <a:stCxn id="1943" idx="5"/>
            <a:endCxn id="1944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944" idx="6"/>
            <a:endCxn id="1950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aphicFrame>
        <p:nvGraphicFramePr>
          <p:cNvPr id="1956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974" name=""/>
          <p:cNvCxnSpPr>
            <a:stCxn id="1964" idx="4"/>
            <a:endCxn id="1965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19080">
            <a:solidFill>
              <a:srgbClr val="008000"/>
            </a:solidFill>
            <a:miter/>
          </a:ln>
        </p:spPr>
      </p:cxnSp>
      <p:cxnSp>
        <p:nvCxnSpPr>
          <p:cNvPr id="1975" name=""/>
          <p:cNvCxnSpPr>
            <a:stCxn id="1963" idx="4"/>
            <a:endCxn id="1972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19080">
            <a:solidFill>
              <a:srgbClr val="008000"/>
            </a:solidFill>
            <a:miter/>
          </a:ln>
        </p:spPr>
      </p:cxnSp>
      <p:cxnSp>
        <p:nvCxnSpPr>
          <p:cNvPr id="1976" name=""/>
          <p:cNvCxnSpPr>
            <a:stCxn id="1965" idx="5"/>
            <a:endCxn id="1966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66" idx="6"/>
            <a:endCxn id="1972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1978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9" name=""/>
          <p:cNvSpPr/>
          <p:nvPr/>
        </p:nvSpPr>
        <p:spPr>
          <a:xfrm>
            <a:off x="3936960" y="1295280"/>
            <a:ext cx="499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2 abbinamento di peso minim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a valore 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997" name=""/>
          <p:cNvCxnSpPr>
            <a:stCxn id="1987" idx="4"/>
            <a:endCxn id="1988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1998" name=""/>
          <p:cNvCxnSpPr>
            <a:stCxn id="1986" idx="4"/>
            <a:endCxn id="1995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6480">
            <a:solidFill>
              <a:srgbClr val="008000"/>
            </a:solidFill>
            <a:miter/>
          </a:ln>
        </p:spPr>
      </p:cxnSp>
      <p:cxnSp>
        <p:nvCxnSpPr>
          <p:cNvPr id="1999" name=""/>
          <p:cNvCxnSpPr>
            <a:stCxn id="1988" idx="5"/>
            <a:endCxn id="1989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89" idx="6"/>
            <a:endCxn id="1995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graphicFrame>
        <p:nvGraphicFramePr>
          <p:cNvPr id="2001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2" name=""/>
          <p:cNvSpPr/>
          <p:nvPr/>
        </p:nvSpPr>
        <p:spPr>
          <a:xfrm>
            <a:off x="3966480" y="1295280"/>
            <a:ext cx="4400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1-albero di peso minimo h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15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020" name=""/>
          <p:cNvCxnSpPr>
            <a:stCxn id="2010" idx="4"/>
            <a:endCxn id="2011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2021" name=""/>
          <p:cNvCxnSpPr>
            <a:stCxn id="2009" idx="4"/>
            <a:endCxn id="2018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2022" name=""/>
          <p:cNvCxnSpPr>
            <a:stCxn id="2011" idx="5"/>
            <a:endCxn id="2012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23" name=""/>
          <p:cNvCxnSpPr>
            <a:stCxn id="2012" idx="6"/>
            <a:endCxn id="2018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2024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5" name=""/>
          <p:cNvSpPr/>
          <p:nvPr/>
        </p:nvSpPr>
        <p:spPr>
          <a:xfrm>
            <a:off x="3962520" y="1295280"/>
            <a:ext cx="426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ciclo hamiltoniano di pes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nimo ha valore 2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 (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043" name=""/>
          <p:cNvCxnSpPr>
            <a:stCxn id="2033" idx="4"/>
            <a:endCxn id="2034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2044" name=""/>
          <p:cNvCxnSpPr>
            <a:stCxn id="2032" idx="4"/>
            <a:endCxn id="2041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2045" name=""/>
          <p:cNvCxnSpPr>
            <a:stCxn id="2034" idx="5"/>
            <a:endCxn id="2035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2046" name=""/>
          <p:cNvCxnSpPr>
            <a:stCxn id="2035" idx="6"/>
            <a:endCxn id="2041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graphicFrame>
        <p:nvGraphicFramePr>
          <p:cNvPr id="2047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8" name=""/>
          <p:cNvSpPr/>
          <p:nvPr/>
        </p:nvSpPr>
        <p:spPr>
          <a:xfrm>
            <a:off x="3928680" y="1295280"/>
            <a:ext cx="4917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2 abbinamento di peso minim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a valore 2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 (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066" name=""/>
          <p:cNvCxnSpPr>
            <a:stCxn id="2056" idx="4"/>
            <a:endCxn id="2057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067" name=""/>
          <p:cNvCxnSpPr>
            <a:stCxn id="2055" idx="4"/>
            <a:endCxn id="2064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2068" name=""/>
          <p:cNvCxnSpPr>
            <a:stCxn id="2057" idx="5"/>
            <a:endCxn id="2058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2069" name=""/>
          <p:cNvCxnSpPr>
            <a:stCxn id="2058" idx="6"/>
            <a:endCxn id="2064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6480">
            <a:solidFill>
              <a:srgbClr val="008000"/>
            </a:solidFill>
            <a:miter/>
          </a:ln>
        </p:spPr>
      </p:cxnSp>
      <p:graphicFrame>
        <p:nvGraphicFramePr>
          <p:cNvPr id="2070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1" name=""/>
          <p:cNvSpPr/>
          <p:nvPr/>
        </p:nvSpPr>
        <p:spPr>
          <a:xfrm>
            <a:off x="3972960" y="1295280"/>
            <a:ext cx="396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1-albero di peso minim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a valore 1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 (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1141560" y="1879560"/>
            <a:ext cx="12189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360520" y="1879560"/>
            <a:ext cx="10670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1219320" y="3519360"/>
            <a:ext cx="2209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62080" y="2452680"/>
            <a:ext cx="2209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2208240" y="180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351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065240" y="23367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066680" y="3367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209680" y="39006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186280" y="12952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25680" y="226044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25680" y="335268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710160" y="2286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186280" y="42624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352680" y="3443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710160" y="3429000"/>
            <a:ext cx="3117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089" name=""/>
          <p:cNvCxnSpPr>
            <a:stCxn id="2079" idx="4"/>
            <a:endCxn id="2080" idx="0"/>
          </p:cNvCxnSpPr>
          <p:nvPr/>
        </p:nvCxnSpPr>
        <p:spPr>
          <a:xfrm>
            <a:off x="1179000" y="2575080"/>
            <a:ext cx="2520" cy="7833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090" name=""/>
          <p:cNvCxnSpPr>
            <a:stCxn id="2078" idx="4"/>
            <a:endCxn id="2087" idx="0"/>
          </p:cNvCxnSpPr>
          <p:nvPr/>
        </p:nvCxnSpPr>
        <p:spPr>
          <a:xfrm>
            <a:off x="3465000" y="2574720"/>
            <a:ext cx="252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091" name=""/>
          <p:cNvCxnSpPr>
            <a:stCxn id="2080" idx="5"/>
            <a:endCxn id="2081" idx="2"/>
          </p:cNvCxnSpPr>
          <p:nvPr/>
        </p:nvCxnSpPr>
        <p:spPr>
          <a:xfrm>
            <a:off x="1262160" y="3571920"/>
            <a:ext cx="938880" cy="4435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2092" name=""/>
          <p:cNvCxnSpPr>
            <a:stCxn id="2081" idx="6"/>
            <a:endCxn id="2087" idx="3"/>
          </p:cNvCxnSpPr>
          <p:nvPr/>
        </p:nvCxnSpPr>
        <p:spPr>
          <a:xfrm flipV="1">
            <a:off x="2448000" y="3647880"/>
            <a:ext cx="938880" cy="36720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graphicFrame>
        <p:nvGraphicFramePr>
          <p:cNvPr id="2093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4" name=""/>
          <p:cNvSpPr/>
          <p:nvPr/>
        </p:nvSpPr>
        <p:spPr>
          <a:xfrm>
            <a:off x="3962520" y="1295280"/>
            <a:ext cx="426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ciclo hamiltoniano di pes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nimo ha valore 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apitolando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bbiamo definito per il TSP due lower bound con le seguenti proprietà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. Sono lower bound “combinatori”, ovvero si ottengono tramite la soluzione di un problema di O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. Tutti e due i problemi la cui soluzione genera i lower bound sono “facili”, ovvero hanno complessità polinomi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a proprietà 2. è una proprietà chiave per ogni bound dual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fatti, se fosse il calcolo del bound fosse un problema NP-completo sappiamo che calcolare il bound diventa almeno tanto difficile quanto risolvere il problema stesso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omand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e si possono calcolare bound primali (ovvero soluzioni ammissibili di buona qualità) per il problema del TSP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0" dur="indefinite" restart="never" nodeType="tmRoot">
          <p:childTnLst>
            <p:seq>
              <p:cTn id="2621" dur="indefinite" nodeType="mainSeq">
                <p:childTnLst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6" dur="500"/>
                                        <p:tgtEl>
                                          <p:spTgt spid="2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1" dur="500"/>
                                        <p:tgtEl>
                                          <p:spTgt spid="2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6" dur="500"/>
                                        <p:tgtEl>
                                          <p:spTgt spid="2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500"/>
                                        <p:tgtEl>
                                          <p:spTgt spid="20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6" dur="500"/>
                                        <p:tgtEl>
                                          <p:spTgt spid="20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1" dur="500"/>
                                        <p:tgtEl>
                                          <p:spTgt spid="20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6" dur="500"/>
                                        <p:tgtEl>
                                          <p:spTgt spid="20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goritmi euristi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algoritmo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dic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euristic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un problema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restituisce una soluzione ammissibi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he non è garantito essere la soluzione otti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P problema di minimizzazione. Un algoritmo euristico si dice 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-approssima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a complessità polinomi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ogni istanz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 soluzione ottim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, si h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/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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P è problema di massim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1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 (1) vale con il segno d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he per il T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2193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grafo comple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sto dell’arc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v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uristiche costrutti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tentano di costruire un “buon” ciclo hamiltoniano a partire da un sottociclo eventualmente vuo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uristiche migliorati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a partire da una soluzione ammissibile, si tenta di migliorarla attraverso miglioramenti “locali”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7" dur="indefinite" restart="never" nodeType="tmRoot">
          <p:childTnLst>
            <p:seq>
              <p:cTn id="2658" dur="indefinite" nodeType="mainSeq">
                <p:childTnLst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3" dur="500"/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8" dur="500"/>
                                        <p:tgtEl>
                                          <p:spTgt spid="2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3" dur="500"/>
                                        <p:tgtEl>
                                          <p:spTgt spid="2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8" dur="500"/>
                                        <p:tgtEl>
                                          <p:spTgt spid="2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3" dur="500"/>
                                        <p:tgtEl>
                                          <p:spTgt spid="2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la bisac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-351000" y="2803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438280" y="1376280"/>
          <a:ext cx="1981080" cy="19764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1355760" y="3976560"/>
            <a:ext cx="2225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6920" y="3630600"/>
            <a:ext cx="78253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iemi ammissibi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{1}, {2}, {3}, {4}, {1, 2}, {1, 4}, {2, 4}, {3,4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luzione otti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{1, 2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valo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ti sono gli insiemi ammissibili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numero di possibili sottoinsiemi di un insieme 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ggetti è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li insiemi ammissibili sono almen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50800" y="1371600"/>
            <a:ext cx="8745480" cy="1812960"/>
            <a:chOff x="550800" y="1371600"/>
            <a:chExt cx="8745480" cy="1812960"/>
          </a:xfrm>
        </p:grpSpPr>
        <p:grpSp>
          <p:nvGrpSpPr>
            <p:cNvPr id="272" name=""/>
            <p:cNvGrpSpPr/>
            <p:nvPr/>
          </p:nvGrpSpPr>
          <p:grpSpPr>
            <a:xfrm>
              <a:off x="550800" y="1682640"/>
              <a:ext cx="1582920" cy="1501920"/>
              <a:chOff x="550800" y="1682640"/>
              <a:chExt cx="1582920" cy="1501920"/>
            </a:xfrm>
          </p:grpSpPr>
          <p:sp>
            <p:nvSpPr>
              <p:cNvPr id="273" name=""/>
              <p:cNvSpPr/>
              <p:nvPr/>
            </p:nvSpPr>
            <p:spPr>
              <a:xfrm>
                <a:off x="914400" y="1736640"/>
                <a:ext cx="609480" cy="30492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0800" y="168264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14400" y="2117880"/>
                <a:ext cx="914400" cy="304560"/>
              </a:xfrm>
              <a:prstGeom prst="rect">
                <a:avLst/>
              </a:prstGeom>
              <a:solidFill>
                <a:srgbClr val="b7c1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0800" y="204156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14400" y="2514600"/>
                <a:ext cx="1219320" cy="304920"/>
              </a:xfrm>
              <a:prstGeom prst="rect">
                <a:avLst/>
              </a:prstGeom>
              <a:solidFill>
                <a:srgbClr val="6f89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0800" y="2438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14400" y="2879640"/>
                <a:ext cx="30492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4597560" y="1371600"/>
              <a:ext cx="4698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mensione della bisacci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= 5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a </a:t>
            </a: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Nearest Neighb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G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=(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ciclo hamiltonian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ocedure nearest_neighbor 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cegli un vertice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qualsias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\ {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, aggiungi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u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lla lista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while |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| &gt; 0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cegli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tale che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Courier New"/>
              </a:rPr>
              <a:t>uv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 min {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Courier New"/>
              </a:rPr>
              <a:t>u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ggiungi {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 alla lista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\ {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0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5" dur="500"/>
                                        <p:tgtEl>
                                          <p:spTgt spid="2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2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5" dur="500"/>
                                        <p:tgtEl>
                                          <p:spTgt spid="2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0" dur="500"/>
                                        <p:tgtEl>
                                          <p:spTgt spid="2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500"/>
                                        <p:tgtEl>
                                          <p:spTgt spid="2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0" dur="500"/>
                                        <p:tgtEl>
                                          <p:spTgt spid="2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5" dur="500"/>
                                        <p:tgtEl>
                                          <p:spTgt spid="2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0" dur="500"/>
                                        <p:tgtEl>
                                          <p:spTgt spid="2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5" dur="500"/>
                                        <p:tgtEl>
                                          <p:spTgt spid="2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Nearest</a:t>
            </a: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Neighb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4" name=""/>
          <p:cNvSpPr/>
          <p:nvPr/>
        </p:nvSpPr>
        <p:spPr>
          <a:xfrm>
            <a:off x="2666880" y="1981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248520" y="19810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2590920" y="41148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2590920" y="1980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2590920" y="1980720"/>
            <a:ext cx="365760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590920" y="1981080"/>
            <a:ext cx="365760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438280" y="1828800"/>
            <a:ext cx="304920" cy="30492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708720" y="1522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189320" y="419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722480" y="342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646520" y="2284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207880" y="289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322680" y="28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95880" y="1828800"/>
            <a:ext cx="304920" cy="30492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095880" y="3962520"/>
            <a:ext cx="304920" cy="30456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438280" y="3962520"/>
            <a:ext cx="304920" cy="30456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2438280" y="3962520"/>
            <a:ext cx="3657240" cy="304560"/>
            <a:chOff x="2438280" y="3962520"/>
            <a:chExt cx="3657240" cy="304560"/>
          </a:xfrm>
        </p:grpSpPr>
        <p:sp>
          <p:nvSpPr>
            <p:cNvPr id="2121" name=""/>
            <p:cNvSpPr/>
            <p:nvPr/>
          </p:nvSpPr>
          <p:spPr>
            <a:xfrm flipH="1">
              <a:off x="2742840" y="4114800"/>
              <a:ext cx="3352680" cy="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438280" y="3962520"/>
              <a:ext cx="304920" cy="30456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 flipH="1">
            <a:off x="2742840" y="1981080"/>
            <a:ext cx="335268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438280" y="1828800"/>
            <a:ext cx="304920" cy="30492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2743200" y="1828800"/>
            <a:ext cx="3657600" cy="2209320"/>
            <a:chOff x="2743200" y="1828800"/>
            <a:chExt cx="3657600" cy="2209320"/>
          </a:xfrm>
        </p:grpSpPr>
        <p:sp>
          <p:nvSpPr>
            <p:cNvPr id="2126" name=""/>
            <p:cNvSpPr/>
            <p:nvPr/>
          </p:nvSpPr>
          <p:spPr>
            <a:xfrm flipV="1">
              <a:off x="2743200" y="2057040"/>
              <a:ext cx="3352680" cy="198108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95880" y="1828800"/>
              <a:ext cx="30492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2743200" y="2057400"/>
            <a:ext cx="3657600" cy="2209680"/>
            <a:chOff x="2743200" y="2057400"/>
            <a:chExt cx="3657600" cy="2209680"/>
          </a:xfrm>
        </p:grpSpPr>
        <p:sp>
          <p:nvSpPr>
            <p:cNvPr id="2129" name=""/>
            <p:cNvSpPr/>
            <p:nvPr/>
          </p:nvSpPr>
          <p:spPr>
            <a:xfrm>
              <a:off x="2743200" y="2057400"/>
              <a:ext cx="3352680" cy="198108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095880" y="3962520"/>
              <a:ext cx="304920" cy="30456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1006200" y="5333040"/>
            <a:ext cx="51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luzione di valore 1005, è ottim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6" dur="indefinite" restart="never" nodeType="tmRoot">
          <p:childTnLst>
            <p:seq>
              <p:cTn id="2737" dur="indefinite" nodeType="mainSeq">
                <p:childTnLst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1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1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 </a:t>
            </a: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Nearest Neighb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2207880" y="1522800"/>
            <a:ext cx="4469400" cy="3126960"/>
            <a:chOff x="2207880" y="1522800"/>
            <a:chExt cx="4469400" cy="3126960"/>
          </a:xfrm>
        </p:grpSpPr>
        <p:sp>
          <p:nvSpPr>
            <p:cNvPr id="2134" name=""/>
            <p:cNvSpPr/>
            <p:nvPr/>
          </p:nvSpPr>
          <p:spPr>
            <a:xfrm>
              <a:off x="2666880" y="1981080"/>
              <a:ext cx="358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248520" y="1981080"/>
              <a:ext cx="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2590920" y="411480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2590920" y="1980720"/>
              <a:ext cx="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2590920" y="1980720"/>
              <a:ext cx="365760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590920" y="1981080"/>
              <a:ext cx="365760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438280" y="182880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08720" y="15228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189320" y="419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722480" y="3427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646520" y="228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207880" y="2894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322680" y="281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95880" y="182880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095880" y="3962520"/>
              <a:ext cx="30492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438280" y="3962520"/>
              <a:ext cx="30492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2743200" y="2057400"/>
            <a:ext cx="3657600" cy="2209680"/>
            <a:chOff x="2743200" y="2057400"/>
            <a:chExt cx="3657600" cy="2209680"/>
          </a:xfrm>
        </p:grpSpPr>
        <p:sp>
          <p:nvSpPr>
            <p:cNvPr id="2151" name=""/>
            <p:cNvSpPr/>
            <p:nvPr/>
          </p:nvSpPr>
          <p:spPr>
            <a:xfrm>
              <a:off x="2743200" y="2057400"/>
              <a:ext cx="3352680" cy="198108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95880" y="3962520"/>
              <a:ext cx="304920" cy="30456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6095880" y="1828800"/>
            <a:ext cx="304920" cy="2133720"/>
            <a:chOff x="6095880" y="1828800"/>
            <a:chExt cx="304920" cy="2133720"/>
          </a:xfrm>
        </p:grpSpPr>
        <p:sp>
          <p:nvSpPr>
            <p:cNvPr id="2154" name=""/>
            <p:cNvSpPr/>
            <p:nvPr/>
          </p:nvSpPr>
          <p:spPr>
            <a:xfrm flipV="1">
              <a:off x="6248520" y="2133720"/>
              <a:ext cx="0" cy="18288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95880" y="1828800"/>
              <a:ext cx="30492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56" name=""/>
          <p:cNvSpPr/>
          <p:nvPr/>
        </p:nvSpPr>
        <p:spPr>
          <a:xfrm flipV="1">
            <a:off x="2590920" y="2133720"/>
            <a:ext cx="0" cy="1828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438280" y="1828800"/>
            <a:ext cx="304920" cy="30492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58" name=""/>
          <p:cNvGrpSpPr/>
          <p:nvPr/>
        </p:nvGrpSpPr>
        <p:grpSpPr>
          <a:xfrm>
            <a:off x="2438280" y="2057400"/>
            <a:ext cx="3657240" cy="2209680"/>
            <a:chOff x="2438280" y="2057400"/>
            <a:chExt cx="3657240" cy="2209680"/>
          </a:xfrm>
        </p:grpSpPr>
        <p:sp>
          <p:nvSpPr>
            <p:cNvPr id="2159" name=""/>
            <p:cNvSpPr/>
            <p:nvPr/>
          </p:nvSpPr>
          <p:spPr>
            <a:xfrm>
              <a:off x="2438280" y="3962520"/>
              <a:ext cx="304920" cy="30456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2742840" y="2057400"/>
              <a:ext cx="3352680" cy="198108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733320" y="47232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soluzione ottima vale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59800" y="5314320"/>
            <a:ext cx="753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il rappor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/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può essere res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rande a piacer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6" dur="indefinite" restart="never" nodeType="tmRoot">
          <p:childTnLst>
            <p:seq>
              <p:cTn id="2767" dur="indefinite" nodeType="mainSeq">
                <p:childTnLst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1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6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1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he di inseri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4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169" name=""/>
          <p:cNvCxnSpPr>
            <a:stCxn id="2165" idx="7"/>
            <a:endCxn id="2164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70" name=""/>
          <p:cNvCxnSpPr>
            <a:stCxn id="2165" idx="6"/>
            <a:endCxn id="2166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71" name=""/>
          <p:cNvCxnSpPr>
            <a:stCxn id="2166" idx="1"/>
            <a:endCxn id="2164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72" name=""/>
          <p:cNvCxnSpPr>
            <a:stCxn id="2165" idx="5"/>
            <a:endCxn id="2168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73" name=""/>
          <p:cNvCxnSpPr>
            <a:stCxn id="2168" idx="0"/>
            <a:endCxn id="2164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74" name=""/>
          <p:cNvCxnSpPr>
            <a:stCxn id="2168" idx="7"/>
            <a:endCxn id="2166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75" name=""/>
          <p:cNvCxnSpPr>
            <a:stCxn id="2166" idx="6"/>
            <a:endCxn id="2167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76" name=""/>
          <p:cNvCxnSpPr>
            <a:stCxn id="2168" idx="6"/>
            <a:endCxn id="2167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77" name=""/>
          <p:cNvCxnSpPr>
            <a:stCxn id="2164" idx="6"/>
            <a:endCxn id="2167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78" name=""/>
          <p:cNvCxnSpPr>
            <a:stCxn id="2165" idx="7"/>
            <a:endCxn id="2167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40458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he di inserimen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185" name=""/>
          <p:cNvCxnSpPr>
            <a:stCxn id="2181" idx="7"/>
            <a:endCxn id="2180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86" name=""/>
          <p:cNvCxnSpPr>
            <a:stCxn id="2181" idx="6"/>
            <a:endCxn id="2182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87" name=""/>
          <p:cNvCxnSpPr>
            <a:stCxn id="2182" idx="1"/>
            <a:endCxn id="2180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88" name=""/>
          <p:cNvCxnSpPr>
            <a:stCxn id="2181" idx="5"/>
            <a:endCxn id="2184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89" name=""/>
          <p:cNvCxnSpPr>
            <a:stCxn id="2184" idx="0"/>
            <a:endCxn id="2180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90" name=""/>
          <p:cNvCxnSpPr>
            <a:stCxn id="2184" idx="7"/>
            <a:endCxn id="2182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91" name=""/>
          <p:cNvCxnSpPr>
            <a:stCxn id="2182" idx="6"/>
            <a:endCxn id="2183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92" name=""/>
          <p:cNvCxnSpPr>
            <a:stCxn id="2184" idx="6"/>
            <a:endCxn id="2183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193" name=""/>
          <p:cNvCxnSpPr>
            <a:stCxn id="2180" idx="6"/>
            <a:endCxn id="2183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94" name=""/>
          <p:cNvCxnSpPr>
            <a:stCxn id="2181" idx="7"/>
            <a:endCxn id="2183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40458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he di inserimen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01" name=""/>
          <p:cNvCxnSpPr>
            <a:stCxn id="2197" idx="7"/>
            <a:endCxn id="2196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02" name=""/>
          <p:cNvCxnSpPr>
            <a:stCxn id="2197" idx="6"/>
            <a:endCxn id="2198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03" name=""/>
          <p:cNvCxnSpPr>
            <a:stCxn id="2198" idx="1"/>
            <a:endCxn id="2196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04" name=""/>
          <p:cNvCxnSpPr>
            <a:stCxn id="2197" idx="5"/>
            <a:endCxn id="2200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05" name=""/>
          <p:cNvCxnSpPr>
            <a:stCxn id="2200" idx="0"/>
            <a:endCxn id="2196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06" name=""/>
          <p:cNvCxnSpPr>
            <a:stCxn id="2200" idx="7"/>
            <a:endCxn id="2198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07" name=""/>
          <p:cNvCxnSpPr>
            <a:stCxn id="2198" idx="6"/>
            <a:endCxn id="2199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08" name=""/>
          <p:cNvCxnSpPr>
            <a:stCxn id="2200" idx="6"/>
            <a:endCxn id="2199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09" name=""/>
          <p:cNvCxnSpPr>
            <a:stCxn id="2196" idx="6"/>
            <a:endCxn id="2199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10" name=""/>
          <p:cNvCxnSpPr>
            <a:stCxn id="2197" idx="7"/>
            <a:endCxn id="2199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40458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he di inseri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2" name=""/>
          <p:cNvSpPr/>
          <p:nvPr/>
        </p:nvSpPr>
        <p:spPr>
          <a:xfrm>
            <a:off x="685800" y="1219320"/>
            <a:ext cx="807732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G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=(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ciclo hamiltonian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ocedure insertion_heuristic 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izializza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con un sottocicl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/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while (|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| &gt; 0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cegli un vertice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cegli la posizione in cui inserire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u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serisci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u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limina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u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a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W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elezione del vertice da inseri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4" name=""/>
          <p:cNvSpPr/>
          <p:nvPr/>
        </p:nvSpPr>
        <p:spPr>
          <a:xfrm>
            <a:off x="685800" y="12193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definisce distanza di un vertic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 un cicl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,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eso del più piccolo spigolo che collega il vertice ad un altro qualsiasi vertice del cic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= (1, 2, ..,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st  (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 = min {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40458c"/>
                </a:solidFill>
                <a:latin typeface="Tahoma"/>
              </a:rPr>
              <a:t>uv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arest Inser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isci il vertic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he minimizza dist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arthest Inser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isci il vertic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he massimizza dist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0" dur="indefinite" restart="never" nodeType="tmRoot">
          <p:childTnLst>
            <p:seq>
              <p:cTn id="2801" dur="indefinite" nodeType="mainSeq">
                <p:childTnLst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500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1" dur="500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6" dur="500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500"/>
                                        <p:tgtEl>
                                          <p:spTgt spid="2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2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1" dur="500"/>
                                        <p:tgtEl>
                                          <p:spTgt spid="2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6" dur="500"/>
                                        <p:tgtEl>
                                          <p:spTgt spid="2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1" dur="500"/>
                                        <p:tgtEl>
                                          <p:spTgt spid="2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elezione della posizione di inseri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6" name=""/>
          <p:cNvSpPr/>
          <p:nvPr/>
        </p:nvSpPr>
        <p:spPr>
          <a:xfrm>
            <a:off x="60948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egliere la posizione equivale a scegliere lo spigolo da eliminare nel cicl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vertice può essere inserito in ogni posizione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il suo costo e 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o spigolo da aggiungere al cic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) è il costo del ciclo ottenuto d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endo nella posizione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nodo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u, il costo di inserimen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pari a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) -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seleziona la posizione che minimizz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) -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78840" indent="-7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2" dur="indefinite" restart="never" nodeType="tmRoot">
          <p:childTnLst>
            <p:seq>
              <p:cTn id="2843" dur="indefinite" nodeType="mainSeq">
                <p:childTnLst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8" dur="500"/>
                                        <p:tgtEl>
                                          <p:spTgt spid="2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3" dur="500"/>
                                        <p:tgtEl>
                                          <p:spTgt spid="2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8" dur="500"/>
                                        <p:tgtEl>
                                          <p:spTgt spid="2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3" dur="500"/>
                                        <p:tgtEl>
                                          <p:spTgt spid="2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8" dur="500"/>
                                        <p:tgtEl>
                                          <p:spTgt spid="2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8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23" name=""/>
          <p:cNvCxnSpPr>
            <a:stCxn id="2219" idx="7"/>
            <a:endCxn id="2218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24" name=""/>
          <p:cNvCxnSpPr>
            <a:stCxn id="2219" idx="6"/>
            <a:endCxn id="2220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25" name=""/>
          <p:cNvCxnSpPr>
            <a:stCxn id="2220" idx="1"/>
            <a:endCxn id="2218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26" name=""/>
          <p:cNvCxnSpPr>
            <a:stCxn id="2219" idx="5"/>
            <a:endCxn id="2222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27" name=""/>
          <p:cNvCxnSpPr>
            <a:stCxn id="2222" idx="0"/>
            <a:endCxn id="2218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28" name=""/>
          <p:cNvCxnSpPr>
            <a:stCxn id="2222" idx="7"/>
            <a:endCxn id="2220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29" name=""/>
          <p:cNvCxnSpPr>
            <a:stCxn id="2220" idx="6"/>
            <a:endCxn id="2221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30" name=""/>
          <p:cNvCxnSpPr>
            <a:stCxn id="2222" idx="6"/>
            <a:endCxn id="2221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31" name=""/>
          <p:cNvCxnSpPr>
            <a:stCxn id="2218" idx="6"/>
            <a:endCxn id="2221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32" name=""/>
          <p:cNvCxnSpPr>
            <a:stCxn id="2219" idx="7"/>
            <a:endCxn id="2221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40458c"/>
            </a:solidFill>
            <a:miter/>
          </a:ln>
        </p:spPr>
      </p:cxnSp>
      <p:sp>
        <p:nvSpPr>
          <p:cNvPr id="2233" name=""/>
          <p:cNvSpPr/>
          <p:nvPr/>
        </p:nvSpPr>
        <p:spPr>
          <a:xfrm>
            <a:off x="3426480" y="147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807440" y="24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5394960" y="40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1560" y="351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794760" y="29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03264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054960" y="3672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58812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43808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57544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603840" y="3048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 = 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284280" y="5653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 =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124080" y="3276720"/>
            <a:ext cx="137160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581280"/>
            <a:ext cx="990720" cy="297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5105520" y="2895120"/>
            <a:ext cx="457200" cy="358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828800" y="2895480"/>
            <a:ext cx="327672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4191120"/>
            <a:ext cx="2590560" cy="1904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495680" y="3885840"/>
            <a:ext cx="1524240" cy="2133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14240" y="3276720"/>
            <a:ext cx="609480" cy="3200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3885840"/>
            <a:ext cx="3429000" cy="2514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200400"/>
            <a:ext cx="228600" cy="228600"/>
          </a:xfrm>
          <a:prstGeom prst="ellipse">
            <a:avLst/>
          </a:prstGeom>
          <a:solidFill>
            <a:srgbClr val="40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2819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4114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5943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3429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6477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733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38000" y="272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19040" y="6080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51800" y="4114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8988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152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0504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641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47440" y="3108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 commesso viaggiato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666880"/>
            <a:ext cx="109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66840"/>
            <a:ext cx="746748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unti nel pian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ogni coppia di punt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, 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efinisce un cos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obl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ovare il “tour” di costo min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51" name=""/>
          <p:cNvCxnSpPr>
            <a:stCxn id="2247" idx="7"/>
            <a:endCxn id="2246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52" name=""/>
          <p:cNvCxnSpPr>
            <a:stCxn id="2247" idx="6"/>
            <a:endCxn id="2248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53" name=""/>
          <p:cNvCxnSpPr>
            <a:stCxn id="2248" idx="1"/>
            <a:endCxn id="2246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54" name=""/>
          <p:cNvCxnSpPr>
            <a:stCxn id="2247" idx="5"/>
            <a:endCxn id="2250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55" name=""/>
          <p:cNvCxnSpPr>
            <a:stCxn id="2250" idx="0"/>
            <a:endCxn id="2246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56" name=""/>
          <p:cNvCxnSpPr>
            <a:stCxn id="2250" idx="7"/>
            <a:endCxn id="2248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57" name=""/>
          <p:cNvCxnSpPr>
            <a:stCxn id="2248" idx="6"/>
            <a:endCxn id="2249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58" name=""/>
          <p:cNvCxnSpPr>
            <a:stCxn id="2250" idx="6"/>
            <a:endCxn id="2249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59" name=""/>
          <p:cNvCxnSpPr>
            <a:stCxn id="2246" idx="6"/>
            <a:endCxn id="2249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60" name=""/>
          <p:cNvCxnSpPr>
            <a:stCxn id="2247" idx="7"/>
            <a:endCxn id="2249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40458c"/>
            </a:solidFill>
            <a:miter/>
          </a:ln>
        </p:spPr>
      </p:cxnSp>
      <p:sp>
        <p:nvSpPr>
          <p:cNvPr id="2261" name=""/>
          <p:cNvSpPr/>
          <p:nvPr/>
        </p:nvSpPr>
        <p:spPr>
          <a:xfrm>
            <a:off x="3426480" y="147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807440" y="24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94960" y="40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101560" y="351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794760" y="29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03264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054960" y="3672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58812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43808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57544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603840" y="3048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 = 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19480" y="56530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 = 1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566040" y="2995560"/>
            <a:ext cx="977760" cy="476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5046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807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79556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04880" y="13860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= {1, 2, 3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84" name=""/>
          <p:cNvCxnSpPr>
            <a:stCxn id="2280" idx="7"/>
            <a:endCxn id="2279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85" name=""/>
          <p:cNvCxnSpPr>
            <a:stCxn id="2280" idx="6"/>
            <a:endCxn id="2281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86" name=""/>
          <p:cNvCxnSpPr>
            <a:stCxn id="2281" idx="1"/>
            <a:endCxn id="2279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87" name=""/>
          <p:cNvCxnSpPr>
            <a:stCxn id="2280" idx="5"/>
            <a:endCxn id="2283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88" name=""/>
          <p:cNvCxnSpPr>
            <a:stCxn id="2283" idx="0"/>
            <a:endCxn id="2279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89" name=""/>
          <p:cNvCxnSpPr>
            <a:stCxn id="2283" idx="7"/>
            <a:endCxn id="2281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90" name=""/>
          <p:cNvCxnSpPr>
            <a:stCxn id="2281" idx="6"/>
            <a:endCxn id="2282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91" name=""/>
          <p:cNvCxnSpPr>
            <a:stCxn id="2283" idx="6"/>
            <a:endCxn id="2282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292" name=""/>
          <p:cNvCxnSpPr>
            <a:stCxn id="2279" idx="6"/>
            <a:endCxn id="2282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293" name=""/>
          <p:cNvCxnSpPr>
            <a:stCxn id="2280" idx="7"/>
            <a:endCxn id="2282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40458c"/>
            </a:solidFill>
            <a:miter/>
          </a:ln>
        </p:spPr>
      </p:cxnSp>
      <p:sp>
        <p:nvSpPr>
          <p:cNvPr id="2294" name=""/>
          <p:cNvSpPr/>
          <p:nvPr/>
        </p:nvSpPr>
        <p:spPr>
          <a:xfrm>
            <a:off x="3426480" y="147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807440" y="24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394960" y="40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101560" y="351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794760" y="29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03264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054960" y="3672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58812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3808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57544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5046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9807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79556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346080" y="42051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 = 2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4" name=""/>
          <p:cNvCxnSpPr>
            <a:stCxn id="2310" idx="7"/>
            <a:endCxn id="2309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15" name=""/>
          <p:cNvCxnSpPr>
            <a:stCxn id="2310" idx="6"/>
            <a:endCxn id="2311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16" name=""/>
          <p:cNvCxnSpPr>
            <a:stCxn id="2311" idx="1"/>
            <a:endCxn id="2309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17" name=""/>
          <p:cNvCxnSpPr>
            <a:stCxn id="2310" idx="5"/>
            <a:endCxn id="2313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18" name=""/>
          <p:cNvCxnSpPr>
            <a:stCxn id="2313" idx="0"/>
            <a:endCxn id="2309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19" name=""/>
          <p:cNvCxnSpPr>
            <a:stCxn id="2313" idx="7"/>
            <a:endCxn id="2311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20" name=""/>
          <p:cNvCxnSpPr>
            <a:stCxn id="2311" idx="6"/>
            <a:endCxn id="2312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21" name=""/>
          <p:cNvCxnSpPr>
            <a:stCxn id="2313" idx="6"/>
            <a:endCxn id="2312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22" name=""/>
          <p:cNvCxnSpPr>
            <a:stCxn id="2309" idx="6"/>
            <a:endCxn id="2312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23" name=""/>
          <p:cNvCxnSpPr>
            <a:stCxn id="2310" idx="7"/>
            <a:endCxn id="2312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2324" name=""/>
          <p:cNvSpPr/>
          <p:nvPr/>
        </p:nvSpPr>
        <p:spPr>
          <a:xfrm>
            <a:off x="3426480" y="147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807440" y="24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394960" y="40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101560" y="351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794760" y="29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03264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054960" y="3672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58812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43808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57544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5046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9807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79556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346080" y="42051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 = 1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429000" y="2438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429000" y="548640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44" name=""/>
          <p:cNvCxnSpPr>
            <a:stCxn id="2340" idx="7"/>
            <a:endCxn id="2339" idx="3"/>
          </p:cNvCxnSpPr>
          <p:nvPr/>
        </p:nvCxnSpPr>
        <p:spPr>
          <a:xfrm flipV="1">
            <a:off x="2481120" y="2647080"/>
            <a:ext cx="982080" cy="8773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45" name=""/>
          <p:cNvCxnSpPr>
            <a:stCxn id="2340" idx="6"/>
            <a:endCxn id="2341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46" name=""/>
          <p:cNvCxnSpPr>
            <a:stCxn id="2341" idx="1"/>
            <a:endCxn id="2339" idx="5"/>
          </p:cNvCxnSpPr>
          <p:nvPr/>
        </p:nvCxnSpPr>
        <p:spPr>
          <a:xfrm flipH="1" flipV="1">
            <a:off x="3623760" y="2647440"/>
            <a:ext cx="982080" cy="9532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47" name=""/>
          <p:cNvCxnSpPr>
            <a:stCxn id="2340" idx="5"/>
            <a:endCxn id="2343" idx="1"/>
          </p:cNvCxnSpPr>
          <p:nvPr/>
        </p:nvCxnSpPr>
        <p:spPr>
          <a:xfrm>
            <a:off x="2481120" y="3714840"/>
            <a:ext cx="982080" cy="179136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48" name=""/>
          <p:cNvCxnSpPr>
            <a:stCxn id="2343" idx="0"/>
            <a:endCxn id="2339" idx="4"/>
          </p:cNvCxnSpPr>
          <p:nvPr/>
        </p:nvCxnSpPr>
        <p:spPr>
          <a:xfrm flipV="1">
            <a:off x="3543120" y="2680920"/>
            <a:ext cx="1080" cy="279144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49" name=""/>
          <p:cNvCxnSpPr>
            <a:stCxn id="2343" idx="7"/>
            <a:endCxn id="2341" idx="4"/>
          </p:cNvCxnSpPr>
          <p:nvPr/>
        </p:nvCxnSpPr>
        <p:spPr>
          <a:xfrm flipV="1">
            <a:off x="3623760" y="3823920"/>
            <a:ext cx="1063080" cy="1681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50" name=""/>
          <p:cNvCxnSpPr>
            <a:stCxn id="2341" idx="6"/>
            <a:endCxn id="2342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51" name=""/>
          <p:cNvCxnSpPr>
            <a:stCxn id="2343" idx="6"/>
            <a:endCxn id="2342" idx="3"/>
          </p:cNvCxnSpPr>
          <p:nvPr/>
        </p:nvCxnSpPr>
        <p:spPr>
          <a:xfrm flipV="1">
            <a:off x="3671640" y="3333240"/>
            <a:ext cx="2610360" cy="2268000"/>
          </a:xfrm>
          <a:prstGeom prst="straightConnector1">
            <a:avLst/>
          </a:prstGeom>
          <a:ln w="28440">
            <a:solidFill>
              <a:srgbClr val="40458c"/>
            </a:solidFill>
            <a:miter/>
          </a:ln>
        </p:spPr>
      </p:cxnSp>
      <p:cxnSp>
        <p:nvCxnSpPr>
          <p:cNvPr id="2352" name=""/>
          <p:cNvCxnSpPr>
            <a:stCxn id="2339" idx="6"/>
            <a:endCxn id="2342" idx="1"/>
          </p:cNvCxnSpPr>
          <p:nvPr/>
        </p:nvCxnSpPr>
        <p:spPr>
          <a:xfrm>
            <a:off x="3671640" y="2552760"/>
            <a:ext cx="2610360" cy="591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53" name=""/>
          <p:cNvCxnSpPr>
            <a:stCxn id="2340" idx="7"/>
            <a:endCxn id="2342" idx="0"/>
          </p:cNvCxnSpPr>
          <p:nvPr/>
        </p:nvCxnSpPr>
        <p:spPr>
          <a:xfrm flipH="1" flipV="1" rot="5400000">
            <a:off x="4214520" y="1375920"/>
            <a:ext cx="415080" cy="3882240"/>
          </a:xfrm>
          <a:prstGeom prst="curvedConnector5">
            <a:avLst>
              <a:gd name="adj1" fmla="val 415277"/>
              <a:gd name="adj2" fmla="val 49995"/>
              <a:gd name="adj3" fmla="val 415277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2354" name=""/>
          <p:cNvSpPr/>
          <p:nvPr/>
        </p:nvSpPr>
        <p:spPr>
          <a:xfrm>
            <a:off x="3426480" y="147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807440" y="24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394960" y="40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101560" y="351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794760" y="29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03264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054960" y="3672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58812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43808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57544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5046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9807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79556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410880" y="420516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 = 7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409800" y="32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tre regole di selezione del vert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0" name=""/>
          <p:cNvSpPr/>
          <p:nvPr/>
        </p:nvSpPr>
        <p:spPr>
          <a:xfrm>
            <a:off x="609480" y="12193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andom Insertion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sceglie un vertice a caso fra quelli non ancora inseriti nel cic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heapest Insertion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sceglie il vertice che può essere aggiunto al ciclo con il minimo aumento di co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5" dur="500"/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0" dur="500"/>
                                        <p:tgtEl>
                                          <p:spTgt spid="2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a proprietà struttur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2" name=""/>
          <p:cNvSpPr/>
          <p:nvPr/>
        </p:nvSpPr>
        <p:spPr>
          <a:xfrm>
            <a:off x="685800" y="1295280"/>
            <a:ext cx="7010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dice che la matrice delle distanze di un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ddisfa l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disuguaglianza triangolar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e comunque prendo un triangol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h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{1, 2, 3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1903320" y="3198960"/>
            <a:ext cx="4469040" cy="3126600"/>
            <a:chOff x="1903320" y="3198960"/>
            <a:chExt cx="4469040" cy="3126600"/>
          </a:xfrm>
        </p:grpSpPr>
        <p:sp>
          <p:nvSpPr>
            <p:cNvPr id="2374" name=""/>
            <p:cNvSpPr/>
            <p:nvPr/>
          </p:nvSpPr>
          <p:spPr>
            <a:xfrm>
              <a:off x="2361960" y="365724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943600" y="365724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2285640" y="5790960"/>
              <a:ext cx="365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2286000" y="365724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2286000" y="3657240"/>
              <a:ext cx="365724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86000" y="3657240"/>
              <a:ext cx="365724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33360" y="3504960"/>
              <a:ext cx="30456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663360" y="3198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884040" y="5865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17560" y="510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41240" y="3960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903320" y="4570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017760" y="449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790960" y="3504960"/>
              <a:ext cx="30456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790960" y="5638680"/>
              <a:ext cx="304560" cy="30420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33360" y="5638680"/>
              <a:ext cx="304560" cy="30420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hia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1" name=""/>
          <p:cNvSpPr/>
          <p:nvPr/>
        </p:nvSpPr>
        <p:spPr>
          <a:xfrm>
            <a:off x="685800" y="1295280"/>
            <a:ext cx="7010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è un grafo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ulerian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e solo se il grado di ogni nodo è par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85800" y="1905120"/>
            <a:ext cx="792468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è un grafo euleriano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vertice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lora è possibile costruire un percorso che inizia e finisce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che attraversa ogni spigolo esattamente una vol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ore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un grafo completo con la matrice dei costi che soddisfa la disuguaglianza triangolare. 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un sottografo euleriano connesso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tiene un ciclo hamiltoniano di lunghezza al più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de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4" name=""/>
          <p:cNvSpPr/>
          <p:nvPr/>
        </p:nvSpPr>
        <p:spPr>
          <a:xfrm>
            <a:off x="3657600" y="21337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99" name=""/>
          <p:cNvCxnSpPr>
            <a:stCxn id="2395" idx="7"/>
            <a:endCxn id="2394" idx="3"/>
          </p:cNvCxnSpPr>
          <p:nvPr/>
        </p:nvCxnSpPr>
        <p:spPr>
          <a:xfrm flipV="1">
            <a:off x="2480760" y="2342520"/>
            <a:ext cx="1210680" cy="118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0" name=""/>
          <p:cNvCxnSpPr>
            <a:stCxn id="2395" idx="6"/>
            <a:endCxn id="2396" idx="2"/>
          </p:cNvCxnSpPr>
          <p:nvPr/>
        </p:nvCxnSpPr>
        <p:spPr>
          <a:xfrm>
            <a:off x="2528640" y="3619440"/>
            <a:ext cx="20293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1" name=""/>
          <p:cNvCxnSpPr>
            <a:stCxn id="2396" idx="1"/>
            <a:endCxn id="2394" idx="5"/>
          </p:cNvCxnSpPr>
          <p:nvPr/>
        </p:nvCxnSpPr>
        <p:spPr>
          <a:xfrm flipH="1" flipV="1">
            <a:off x="3852000" y="2342880"/>
            <a:ext cx="753480" cy="1257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2" name=""/>
          <p:cNvCxnSpPr>
            <a:stCxn id="2398" idx="7"/>
            <a:endCxn id="2396" idx="4"/>
          </p:cNvCxnSpPr>
          <p:nvPr/>
        </p:nvCxnSpPr>
        <p:spPr>
          <a:xfrm flipH="1" flipV="1">
            <a:off x="4685760" y="3823560"/>
            <a:ext cx="5400" cy="107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3" name=""/>
          <p:cNvCxnSpPr>
            <a:stCxn id="2396" idx="6"/>
            <a:endCxn id="2397" idx="2"/>
          </p:cNvCxnSpPr>
          <p:nvPr/>
        </p:nvCxnSpPr>
        <p:spPr>
          <a:xfrm flipV="1">
            <a:off x="4815000" y="3238200"/>
            <a:ext cx="14198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4" name=""/>
          <p:cNvCxnSpPr>
            <a:stCxn id="2398" idx="6"/>
            <a:endCxn id="2397" idx="3"/>
          </p:cNvCxnSpPr>
          <p:nvPr/>
        </p:nvCxnSpPr>
        <p:spPr>
          <a:xfrm flipV="1">
            <a:off x="4738680" y="3333240"/>
            <a:ext cx="1543680" cy="165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05" name=""/>
          <p:cNvSpPr/>
          <p:nvPr/>
        </p:nvSpPr>
        <p:spPr>
          <a:xfrm>
            <a:off x="1902960" y="346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2601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617720" y="31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200120" y="4662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23196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10" name=""/>
          <p:cNvCxnSpPr>
            <a:stCxn id="2394" idx="6"/>
            <a:endCxn id="2397" idx="1"/>
          </p:cNvCxnSpPr>
          <p:nvPr/>
        </p:nvCxnSpPr>
        <p:spPr>
          <a:xfrm>
            <a:off x="3900600" y="2247480"/>
            <a:ext cx="2381760" cy="8960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a </a:t>
            </a: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Double Tr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2" name=""/>
          <p:cNvSpPr/>
          <p:nvPr/>
        </p:nvSpPr>
        <p:spPr>
          <a:xfrm>
            <a:off x="609480" y="15238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Calcola un minimo albero ricoprent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Raddoppia gli spigoli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ndo un percorso euleri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. Ricava un ciclo hamiltoniano dal percorso euleri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6680" indent="-3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DT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della soluzione che si ottiene applicando l’euristica Double Tre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1" dur="indefinite" restart="never" nodeType="tmRoot">
          <p:childTnLst>
            <p:seq>
              <p:cTn id="2882" dur="indefinite" nodeType="mainSeq">
                <p:childTnLst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7" dur="500"/>
                                        <p:tgtEl>
                                          <p:spTgt spid="2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2" dur="500"/>
                                        <p:tgtEl>
                                          <p:spTgt spid="2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7" dur="500"/>
                                        <p:tgtEl>
                                          <p:spTgt spid="2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2" dur="500"/>
                                        <p:tgtEl>
                                          <p:spTgt spid="2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a un percorso euleriano ad un ciclo hamiltonia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4" name=""/>
          <p:cNvSpPr/>
          <p:nvPr/>
        </p:nvSpPr>
        <p:spPr>
          <a:xfrm>
            <a:off x="609480" y="114300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un percorso euleriano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ocedure obtain_hamiltonian 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{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,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2,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while |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| &lt;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llega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a 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llega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ciclo hamiltoni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9" dur="500"/>
                                        <p:tgtEl>
                                          <p:spTgt spid="2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4" dur="500"/>
                                        <p:tgtEl>
                                          <p:spTgt spid="2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4" dur="500"/>
                                        <p:tgtEl>
                                          <p:spTgt spid="2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9" dur="500"/>
                                        <p:tgtEl>
                                          <p:spTgt spid="2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500"/>
                                        <p:tgtEl>
                                          <p:spTgt spid="2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9" dur="500"/>
                                        <p:tgtEl>
                                          <p:spTgt spid="2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4" dur="500"/>
                                        <p:tgtEl>
                                          <p:spTgt spid="2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9" dur="500"/>
                                        <p:tgtEl>
                                          <p:spTgt spid="2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4" dur="500"/>
                                        <p:tgtEl>
                                          <p:spTgt spid="2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9" dur="500"/>
                                        <p:tgtEl>
                                          <p:spTgt spid="2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4" dur="500"/>
                                        <p:tgtEl>
                                          <p:spTgt spid="2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 commesso viaggiato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3276720"/>
            <a:ext cx="137160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2971800"/>
            <a:ext cx="914400" cy="838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562720" y="3885840"/>
            <a:ext cx="45720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95680" y="2895480"/>
            <a:ext cx="609840" cy="609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4191120"/>
            <a:ext cx="685800" cy="228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6095880"/>
            <a:ext cx="114300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905120" y="3276720"/>
            <a:ext cx="1218960" cy="914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590920" y="6095520"/>
            <a:ext cx="1752480" cy="304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200400"/>
            <a:ext cx="228600" cy="228600"/>
          </a:xfrm>
          <a:prstGeom prst="ellipse">
            <a:avLst/>
          </a:prstGeom>
          <a:solidFill>
            <a:srgbClr val="40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2819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4114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5943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429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6477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3733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52200" y="2651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2640" y="6156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902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152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636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35654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112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518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880" y="1355760"/>
            <a:ext cx="55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iemi ammissibili: gli (n-1)!/2 possibili tour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1371600" y="2057400"/>
            <a:ext cx="6248160" cy="2362320"/>
            <a:chOff x="1371600" y="2057400"/>
            <a:chExt cx="6248160" cy="2362320"/>
          </a:xfrm>
        </p:grpSpPr>
        <p:sp>
          <p:nvSpPr>
            <p:cNvPr id="2417" name=""/>
            <p:cNvSpPr/>
            <p:nvPr/>
          </p:nvSpPr>
          <p:spPr>
            <a:xfrm>
              <a:off x="5333760" y="2057400"/>
              <a:ext cx="381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962160" y="3124080"/>
              <a:ext cx="381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5714640" y="2209680"/>
              <a:ext cx="152388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962160" y="3200400"/>
              <a:ext cx="1828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2133360" y="3200400"/>
              <a:ext cx="1828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flipV="1">
              <a:off x="3657240" y="2133360"/>
              <a:ext cx="2286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6400800" y="3962520"/>
              <a:ext cx="12189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790960" y="3276720"/>
              <a:ext cx="5335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 flipV="1">
              <a:off x="1447560" y="3428640"/>
              <a:ext cx="609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V="1">
              <a:off x="1371600" y="396252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1371600" y="2133360"/>
            <a:ext cx="6172200" cy="2361960"/>
            <a:chOff x="1371600" y="2133360"/>
            <a:chExt cx="6172200" cy="2361960"/>
          </a:xfrm>
        </p:grpSpPr>
        <p:sp>
          <p:nvSpPr>
            <p:cNvPr id="2428" name=""/>
            <p:cNvSpPr/>
            <p:nvPr/>
          </p:nvSpPr>
          <p:spPr>
            <a:xfrm>
              <a:off x="3809880" y="2133720"/>
              <a:ext cx="152640" cy="914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81280" y="2285640"/>
              <a:ext cx="152640" cy="914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038480" y="3276360"/>
              <a:ext cx="304920" cy="914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809880" y="3352680"/>
              <a:ext cx="381240" cy="9900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2209680" y="3352320"/>
              <a:ext cx="1600200" cy="7614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2133720" y="3123720"/>
              <a:ext cx="1600200" cy="7614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600200" y="3428640"/>
              <a:ext cx="457200" cy="4568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447920" y="3581280"/>
              <a:ext cx="457200" cy="4568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1523880" y="4190760"/>
              <a:ext cx="533520" cy="3045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1371600" y="3962160"/>
              <a:ext cx="533520" cy="3045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257800" y="2285640"/>
              <a:ext cx="304920" cy="914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86400" y="2209680"/>
              <a:ext cx="304920" cy="914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867280" y="3352680"/>
              <a:ext cx="457200" cy="7614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638680" y="3428640"/>
              <a:ext cx="533520" cy="838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6400800" y="3885840"/>
              <a:ext cx="1066680" cy="2282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6477120" y="4114440"/>
              <a:ext cx="1066680" cy="2282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962520" y="3047760"/>
              <a:ext cx="1600200" cy="1519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038480" y="3276360"/>
              <a:ext cx="1600200" cy="1519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5791320" y="2133360"/>
              <a:ext cx="1295280" cy="990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5867280" y="2361600"/>
              <a:ext cx="1295640" cy="990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>
            <a:off x="814320" y="403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064880" y="28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284200" y="396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122280" y="1904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503520" y="342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417920" y="434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018120" y="434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684560" y="396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303680" y="2208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179680" y="159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332320" y="350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 flipV="1">
            <a:off x="3655800" y="2133360"/>
            <a:ext cx="228600" cy="1066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2057040" y="2133720"/>
            <a:ext cx="1523880" cy="1904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H="1" flipV="1">
            <a:off x="1371240" y="342864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1371600" y="3429000"/>
            <a:ext cx="7632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1371600" y="4343400"/>
            <a:ext cx="2971800" cy="76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4343400" y="3276360"/>
            <a:ext cx="1371600" cy="1066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 flipV="1">
            <a:off x="5334120" y="2133360"/>
            <a:ext cx="3808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334120" y="2133720"/>
            <a:ext cx="1981080" cy="75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6324480" y="2209680"/>
            <a:ext cx="990720" cy="205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6324480" y="3962520"/>
            <a:ext cx="1295640" cy="304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 flipV="1">
            <a:off x="3886200" y="3200040"/>
            <a:ext cx="37339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0" name=""/>
          <p:cNvGrpSpPr/>
          <p:nvPr/>
        </p:nvGrpSpPr>
        <p:grpSpPr>
          <a:xfrm>
            <a:off x="1219320" y="1981080"/>
            <a:ext cx="6553080" cy="2590920"/>
            <a:chOff x="1219320" y="1981080"/>
            <a:chExt cx="6553080" cy="2590920"/>
          </a:xfrm>
        </p:grpSpPr>
        <p:sp>
          <p:nvSpPr>
            <p:cNvPr id="2471" name=""/>
            <p:cNvSpPr/>
            <p:nvPr/>
          </p:nvSpPr>
          <p:spPr>
            <a:xfrm>
              <a:off x="3733920" y="3048120"/>
              <a:ext cx="30456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905120" y="388620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219320" y="426708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295280" y="3276720"/>
              <a:ext cx="30492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562720" y="312408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191120" y="4191120"/>
              <a:ext cx="30456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172200" y="411480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181480" y="198108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086600" y="205740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467480" y="380988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505320" y="198108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82" name=""/>
          <p:cNvSpPr/>
          <p:nvPr/>
        </p:nvSpPr>
        <p:spPr>
          <a:xfrm>
            <a:off x="791280" y="487584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our (5,4,5,3,2,3,1,3,5,6,5,8,9,8,10,8,7,11,7,8,5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5" dur="indefinite" restart="never" nodeType="tmRoot">
          <p:childTnLst>
            <p:seq>
              <p:cTn id="2966" dur="indefinite" nodeType="mainSeq">
                <p:childTnLst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4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4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9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9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4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9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prie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uble tree è un algoritmo 2-approssimato per il TS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RE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1-albero è un rilassamento per TSP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Per costruzione, la lunghezza del “doppio albero” è 2 *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RE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D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2 *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RE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tant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DT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/ z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 *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RE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RE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uristica di Christofi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6" name=""/>
          <p:cNvSpPr/>
          <p:nvPr/>
        </p:nvSpPr>
        <p:spPr>
          <a:xfrm>
            <a:off x="609480" y="1219320"/>
            <a:ext cx="78487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Calcola un minimo albero ricoprent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’insieme dei vertici che hanno grado dispari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. Trova il matching perfet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 peso minimo sui no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un percorso euleri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. Ricava un ciclo hamiltoniano dal percorso euleri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CH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della soluzione che si ottiene applicando l’euristica di Christofi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1371600" y="2057400"/>
            <a:ext cx="6248160" cy="2362320"/>
            <a:chOff x="1371600" y="2057400"/>
            <a:chExt cx="6248160" cy="2362320"/>
          </a:xfrm>
        </p:grpSpPr>
        <p:sp>
          <p:nvSpPr>
            <p:cNvPr id="2489" name=""/>
            <p:cNvSpPr/>
            <p:nvPr/>
          </p:nvSpPr>
          <p:spPr>
            <a:xfrm>
              <a:off x="5333760" y="2057400"/>
              <a:ext cx="381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962160" y="3124080"/>
              <a:ext cx="381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H="1">
              <a:off x="5714640" y="2209680"/>
              <a:ext cx="152388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962160" y="3200400"/>
              <a:ext cx="1828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2133360" y="3200400"/>
              <a:ext cx="1828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 flipV="1">
              <a:off x="3657240" y="2133360"/>
              <a:ext cx="2286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6400800" y="3962520"/>
              <a:ext cx="12189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790960" y="3276720"/>
              <a:ext cx="5335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 flipV="1">
              <a:off x="1447560" y="3428640"/>
              <a:ext cx="609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1371600" y="396252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99" name=""/>
          <p:cNvSpPr/>
          <p:nvPr/>
        </p:nvSpPr>
        <p:spPr>
          <a:xfrm>
            <a:off x="814320" y="403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064880" y="28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131920" y="419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122280" y="1904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503520" y="342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417920" y="434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018120" y="434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7684560" y="396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303680" y="2208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179680" y="159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332320" y="350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1369800" y="2133720"/>
            <a:ext cx="6250320" cy="2209680"/>
            <a:chOff x="1369800" y="2133720"/>
            <a:chExt cx="6250320" cy="2209680"/>
          </a:xfrm>
        </p:grpSpPr>
        <p:sp>
          <p:nvSpPr>
            <p:cNvPr id="2511" name=""/>
            <p:cNvSpPr/>
            <p:nvPr/>
          </p:nvSpPr>
          <p:spPr>
            <a:xfrm flipH="1">
              <a:off x="1369800" y="3429000"/>
              <a:ext cx="759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57600" y="21337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238880" y="2209680"/>
              <a:ext cx="38124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057400" y="4038480"/>
              <a:ext cx="22860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15" name=""/>
          <p:cNvSpPr/>
          <p:nvPr/>
        </p:nvSpPr>
        <p:spPr>
          <a:xfrm>
            <a:off x="3449880" y="510444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our (1,2,3,6,5,4,9,8,10,11,7,8,5,3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1370160" y="3429000"/>
            <a:ext cx="7596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447920" y="3429000"/>
            <a:ext cx="60948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057400" y="4038480"/>
            <a:ext cx="22860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 flipV="1">
            <a:off x="3962520" y="3200040"/>
            <a:ext cx="3808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 flipV="1">
            <a:off x="3657240" y="2209680"/>
            <a:ext cx="2286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657600" y="2133720"/>
            <a:ext cx="1600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334120" y="2133720"/>
            <a:ext cx="380880" cy="1066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5715000" y="2209680"/>
            <a:ext cx="1523880" cy="1067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238880" y="2209680"/>
            <a:ext cx="381240" cy="1752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6400440" y="3962520"/>
            <a:ext cx="1219320" cy="304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371600" y="4267080"/>
            <a:ext cx="4952880" cy="711360"/>
          </a:xfrm>
          <a:custGeom>
            <a:avLst/>
            <a:gdLst/>
            <a:ahLst/>
            <a:rect l="l" t="t" r="r" b="b"/>
            <a:pathLst>
              <a:path w="3120" h="448">
                <a:moveTo>
                  <a:pt x="3120" y="0"/>
                </a:moveTo>
                <a:cubicBezTo>
                  <a:pt x="2564" y="208"/>
                  <a:pt x="2008" y="416"/>
                  <a:pt x="1488" y="432"/>
                </a:cubicBezTo>
                <a:cubicBezTo>
                  <a:pt x="968" y="448"/>
                  <a:pt x="248" y="152"/>
                  <a:pt x="0" y="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27" name=""/>
          <p:cNvGrpSpPr/>
          <p:nvPr/>
        </p:nvGrpSpPr>
        <p:grpSpPr>
          <a:xfrm>
            <a:off x="1219320" y="1981080"/>
            <a:ext cx="6553080" cy="2590920"/>
            <a:chOff x="1219320" y="1981080"/>
            <a:chExt cx="6553080" cy="2590920"/>
          </a:xfrm>
        </p:grpSpPr>
        <p:sp>
          <p:nvSpPr>
            <p:cNvPr id="2528" name=""/>
            <p:cNvSpPr/>
            <p:nvPr/>
          </p:nvSpPr>
          <p:spPr>
            <a:xfrm>
              <a:off x="3733920" y="3048120"/>
              <a:ext cx="30456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905120" y="388620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219320" y="426708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295280" y="3276720"/>
              <a:ext cx="30492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562720" y="312408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191120" y="4191120"/>
              <a:ext cx="304560" cy="30456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172200" y="411480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181480" y="198108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086600" y="205740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467480" y="3809880"/>
              <a:ext cx="30492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505320" y="1981080"/>
              <a:ext cx="304560" cy="304920"/>
            </a:xfrm>
            <a:prstGeom prst="flowChartConnec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39" name=""/>
          <p:cNvGrpSpPr/>
          <p:nvPr/>
        </p:nvGrpSpPr>
        <p:grpSpPr>
          <a:xfrm>
            <a:off x="493560" y="1981080"/>
            <a:ext cx="7278840" cy="4116240"/>
            <a:chOff x="493560" y="1981080"/>
            <a:chExt cx="7278840" cy="4116240"/>
          </a:xfrm>
        </p:grpSpPr>
        <p:sp>
          <p:nvSpPr>
            <p:cNvPr id="2540" name=""/>
            <p:cNvSpPr/>
            <p:nvPr/>
          </p:nvSpPr>
          <p:spPr>
            <a:xfrm>
              <a:off x="1295280" y="3276720"/>
              <a:ext cx="304920" cy="30456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191120" y="4191120"/>
              <a:ext cx="304560" cy="30456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219320" y="4267080"/>
              <a:ext cx="30456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05320" y="1981080"/>
              <a:ext cx="30456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467480" y="3809880"/>
              <a:ext cx="30492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181480" y="1981080"/>
              <a:ext cx="30492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086600" y="2057400"/>
              <a:ext cx="30492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905120" y="3886200"/>
              <a:ext cx="304560" cy="304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93560" y="5637600"/>
              <a:ext cx="320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Tahoma"/>
                </a:rPr>
                <a:t>Nodi di grado dispar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3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8" dur="5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3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8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3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8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8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3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8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prie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0" name="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ristofides è un algoritmo 3/2-approssimato per il T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RE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1-albero è un rilassamento per TSP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il seguente ciclo hamiltoniano (ottimo) di peso z*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997360" y="373392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438280" y="571500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257800" y="4724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724280" y="571500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56" name=""/>
          <p:cNvCxnSpPr>
            <a:stCxn id="2552" idx="7"/>
            <a:endCxn id="2551" idx="3"/>
          </p:cNvCxnSpPr>
          <p:nvPr/>
        </p:nvCxnSpPr>
        <p:spPr>
          <a:xfrm flipV="1">
            <a:off x="2176560" y="3942720"/>
            <a:ext cx="85464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57" name=""/>
          <p:cNvCxnSpPr>
            <a:stCxn id="2552" idx="4"/>
            <a:endCxn id="2553" idx="1"/>
          </p:cNvCxnSpPr>
          <p:nvPr/>
        </p:nvCxnSpPr>
        <p:spPr>
          <a:xfrm>
            <a:off x="2095200" y="4738320"/>
            <a:ext cx="376920" cy="99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58" name=""/>
          <p:cNvCxnSpPr>
            <a:stCxn id="2555" idx="2"/>
            <a:endCxn id="2553" idx="6"/>
          </p:cNvCxnSpPr>
          <p:nvPr/>
        </p:nvCxnSpPr>
        <p:spPr>
          <a:xfrm flipH="1">
            <a:off x="2680920" y="5829120"/>
            <a:ext cx="2029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59" name=""/>
          <p:cNvCxnSpPr>
            <a:stCxn id="2555" idx="6"/>
            <a:endCxn id="2554" idx="3"/>
          </p:cNvCxnSpPr>
          <p:nvPr/>
        </p:nvCxnSpPr>
        <p:spPr>
          <a:xfrm flipV="1">
            <a:off x="4967280" y="4933440"/>
            <a:ext cx="324720" cy="896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60" name=""/>
          <p:cNvSpPr/>
          <p:nvPr/>
        </p:nvSpPr>
        <p:spPr>
          <a:xfrm>
            <a:off x="160920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5999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708080" y="35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571720" y="4662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733640" y="5958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65" name=""/>
          <p:cNvCxnSpPr>
            <a:stCxn id="2551" idx="6"/>
            <a:endCxn id="2566" idx="2"/>
          </p:cNvCxnSpPr>
          <p:nvPr/>
        </p:nvCxnSpPr>
        <p:spPr>
          <a:xfrm>
            <a:off x="3240000" y="3847680"/>
            <a:ext cx="119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66" name=""/>
          <p:cNvSpPr/>
          <p:nvPr/>
        </p:nvSpPr>
        <p:spPr>
          <a:xfrm>
            <a:off x="4444920" y="373392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67" name=""/>
          <p:cNvCxnSpPr>
            <a:stCxn id="2566" idx="6"/>
            <a:endCxn id="2554" idx="1"/>
          </p:cNvCxnSpPr>
          <p:nvPr/>
        </p:nvCxnSpPr>
        <p:spPr>
          <a:xfrm>
            <a:off x="4687920" y="3847680"/>
            <a:ext cx="60372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68" name=""/>
          <p:cNvSpPr/>
          <p:nvPr/>
        </p:nvSpPr>
        <p:spPr>
          <a:xfrm>
            <a:off x="214272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69" name=""/>
          <p:cNvCxnSpPr>
            <a:stCxn id="2551" idx="5"/>
            <a:endCxn id="2555" idx="1"/>
          </p:cNvCxnSpPr>
          <p:nvPr/>
        </p:nvCxnSpPr>
        <p:spPr>
          <a:xfrm>
            <a:off x="3192480" y="3943440"/>
            <a:ext cx="1566000" cy="1791360"/>
          </a:xfrm>
          <a:prstGeom prst="straightConnector1">
            <a:avLst/>
          </a:prstGeom>
          <a:ln w="76320">
            <a:solidFill>
              <a:srgbClr val="40458c"/>
            </a:solidFill>
            <a:miter/>
          </a:ln>
        </p:spPr>
      </p:cxnSp>
      <p:cxnSp>
        <p:nvCxnSpPr>
          <p:cNvPr id="2570" name=""/>
          <p:cNvCxnSpPr>
            <a:stCxn id="2553" idx="7"/>
            <a:endCxn id="2566" idx="3"/>
          </p:cNvCxnSpPr>
          <p:nvPr/>
        </p:nvCxnSpPr>
        <p:spPr>
          <a:xfrm flipV="1">
            <a:off x="2633760" y="3943080"/>
            <a:ext cx="1845360" cy="1791360"/>
          </a:xfrm>
          <a:prstGeom prst="straightConnector1">
            <a:avLst/>
          </a:prstGeom>
          <a:ln w="76320">
            <a:solidFill>
              <a:srgbClr val="40458c"/>
            </a:solidFill>
            <a:miter/>
          </a:ln>
        </p:spPr>
      </p:cxnSp>
      <p:cxnSp>
        <p:nvCxnSpPr>
          <p:cNvPr id="2571" name=""/>
          <p:cNvCxnSpPr>
            <a:stCxn id="2553" idx="0"/>
            <a:endCxn id="2551" idx="4"/>
          </p:cNvCxnSpPr>
          <p:nvPr/>
        </p:nvCxnSpPr>
        <p:spPr>
          <a:xfrm flipV="1">
            <a:off x="2552760" y="3975840"/>
            <a:ext cx="559080" cy="1724760"/>
          </a:xfrm>
          <a:prstGeom prst="straightConnector1">
            <a:avLst/>
          </a:prstGeom>
          <a:ln w="76320">
            <a:solidFill>
              <a:srgbClr val="008000"/>
            </a:solidFill>
            <a:miter/>
          </a:ln>
        </p:spPr>
      </p:cxnSp>
      <p:cxnSp>
        <p:nvCxnSpPr>
          <p:cNvPr id="2572" name=""/>
          <p:cNvCxnSpPr>
            <a:stCxn id="2555" idx="0"/>
            <a:endCxn id="2566" idx="4"/>
          </p:cNvCxnSpPr>
          <p:nvPr/>
        </p:nvCxnSpPr>
        <p:spPr>
          <a:xfrm flipH="1" flipV="1">
            <a:off x="4559040" y="3975840"/>
            <a:ext cx="280080" cy="1724760"/>
          </a:xfrm>
          <a:prstGeom prst="straightConnector1">
            <a:avLst/>
          </a:prstGeom>
          <a:ln w="76320">
            <a:solidFill>
              <a:srgbClr val="008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"/>
          <p:cNvSpPr/>
          <p:nvPr/>
        </p:nvSpPr>
        <p:spPr>
          <a:xfrm>
            <a:off x="2997360" y="373392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438280" y="571500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257800" y="472428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724280" y="571500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78" name=""/>
          <p:cNvCxnSpPr>
            <a:stCxn id="2574" idx="7"/>
            <a:endCxn id="2573" idx="3"/>
          </p:cNvCxnSpPr>
          <p:nvPr/>
        </p:nvCxnSpPr>
        <p:spPr>
          <a:xfrm flipV="1">
            <a:off x="2176560" y="3942720"/>
            <a:ext cx="85464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79" name=""/>
          <p:cNvCxnSpPr>
            <a:stCxn id="2574" idx="4"/>
            <a:endCxn id="2575" idx="1"/>
          </p:cNvCxnSpPr>
          <p:nvPr/>
        </p:nvCxnSpPr>
        <p:spPr>
          <a:xfrm>
            <a:off x="2095200" y="4738320"/>
            <a:ext cx="376920" cy="99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0" name=""/>
          <p:cNvCxnSpPr>
            <a:stCxn id="2577" idx="2"/>
            <a:endCxn id="2575" idx="6"/>
          </p:cNvCxnSpPr>
          <p:nvPr/>
        </p:nvCxnSpPr>
        <p:spPr>
          <a:xfrm flipH="1">
            <a:off x="2680920" y="5829120"/>
            <a:ext cx="2029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stCxn id="2577" idx="6"/>
            <a:endCxn id="2576" idx="3"/>
          </p:cNvCxnSpPr>
          <p:nvPr/>
        </p:nvCxnSpPr>
        <p:spPr>
          <a:xfrm flipV="1">
            <a:off x="4967280" y="4933440"/>
            <a:ext cx="324720" cy="896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2" name=""/>
          <p:cNvSpPr/>
          <p:nvPr/>
        </p:nvSpPr>
        <p:spPr>
          <a:xfrm>
            <a:off x="160920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5999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708080" y="35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571720" y="4662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86" name=""/>
          <p:cNvCxnSpPr>
            <a:stCxn id="2573" idx="6"/>
            <a:endCxn id="2587" idx="2"/>
          </p:cNvCxnSpPr>
          <p:nvPr/>
        </p:nvCxnSpPr>
        <p:spPr>
          <a:xfrm>
            <a:off x="3240000" y="3847680"/>
            <a:ext cx="119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7" name=""/>
          <p:cNvSpPr/>
          <p:nvPr/>
        </p:nvSpPr>
        <p:spPr>
          <a:xfrm>
            <a:off x="4444920" y="373392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88" name=""/>
          <p:cNvCxnSpPr>
            <a:stCxn id="2587" idx="6"/>
            <a:endCxn id="2576" idx="1"/>
          </p:cNvCxnSpPr>
          <p:nvPr/>
        </p:nvCxnSpPr>
        <p:spPr>
          <a:xfrm>
            <a:off x="4687920" y="3847680"/>
            <a:ext cx="60372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9" name=""/>
          <p:cNvSpPr/>
          <p:nvPr/>
        </p:nvSpPr>
        <p:spPr>
          <a:xfrm>
            <a:off x="214272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90" name=""/>
          <p:cNvCxnSpPr>
            <a:stCxn id="2573" idx="5"/>
            <a:endCxn id="2577" idx="1"/>
          </p:cNvCxnSpPr>
          <p:nvPr/>
        </p:nvCxnSpPr>
        <p:spPr>
          <a:xfrm>
            <a:off x="3192480" y="3943440"/>
            <a:ext cx="1566000" cy="1791360"/>
          </a:xfrm>
          <a:prstGeom prst="straightConnector1">
            <a:avLst/>
          </a:prstGeom>
          <a:ln w="76320">
            <a:solidFill>
              <a:srgbClr val="40458c"/>
            </a:solidFill>
            <a:miter/>
          </a:ln>
        </p:spPr>
      </p:cxnSp>
      <p:cxnSp>
        <p:nvCxnSpPr>
          <p:cNvPr id="2591" name=""/>
          <p:cNvCxnSpPr>
            <a:stCxn id="2575" idx="7"/>
            <a:endCxn id="2587" idx="3"/>
          </p:cNvCxnSpPr>
          <p:nvPr/>
        </p:nvCxnSpPr>
        <p:spPr>
          <a:xfrm flipV="1">
            <a:off x="2633760" y="3943080"/>
            <a:ext cx="1845360" cy="1791360"/>
          </a:xfrm>
          <a:prstGeom prst="straightConnector1">
            <a:avLst/>
          </a:prstGeom>
          <a:ln w="76320">
            <a:solidFill>
              <a:srgbClr val="40458c"/>
            </a:solidFill>
            <a:miter/>
          </a:ln>
        </p:spPr>
      </p:cxnSp>
      <p:cxnSp>
        <p:nvCxnSpPr>
          <p:cNvPr id="2592" name=""/>
          <p:cNvCxnSpPr>
            <a:stCxn id="2575" idx="0"/>
            <a:endCxn id="2573" idx="4"/>
          </p:cNvCxnSpPr>
          <p:nvPr/>
        </p:nvCxnSpPr>
        <p:spPr>
          <a:xfrm flipV="1">
            <a:off x="2552760" y="3975840"/>
            <a:ext cx="559080" cy="1724760"/>
          </a:xfrm>
          <a:prstGeom prst="straightConnector1">
            <a:avLst/>
          </a:prstGeom>
          <a:ln w="76320">
            <a:solidFill>
              <a:srgbClr val="008000"/>
            </a:solidFill>
            <a:miter/>
          </a:ln>
        </p:spPr>
      </p:cxnSp>
      <p:cxnSp>
        <p:nvCxnSpPr>
          <p:cNvPr id="2593" name=""/>
          <p:cNvCxnSpPr>
            <a:stCxn id="2577" idx="0"/>
            <a:endCxn id="2587" idx="4"/>
          </p:cNvCxnSpPr>
          <p:nvPr/>
        </p:nvCxnSpPr>
        <p:spPr>
          <a:xfrm flipH="1" flipV="1">
            <a:off x="4559040" y="3975840"/>
            <a:ext cx="280080" cy="1724760"/>
          </a:xfrm>
          <a:prstGeom prst="straightConnector1">
            <a:avLst/>
          </a:prstGeom>
          <a:ln w="76320">
            <a:solidFill>
              <a:srgbClr val="008000"/>
            </a:solidFill>
            <a:miter/>
          </a:ln>
        </p:spPr>
      </p:cxnSp>
      <p:sp>
        <p:nvSpPr>
          <p:cNvPr id="2594" name="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upponiamo che i nodi rossi appartengano 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’. Dalla disuguaglianza triangolare si ha ch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verde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bl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z*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vvero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2*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or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CH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RE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+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/2 &lt; 3/2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962240" y="5729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la bisac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8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vete a disposizione un budget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gli investimenti dell’anno 200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d ogni progetto è associat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un cos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&gt; 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un guadagno attes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&gt;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obl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egliere l’insieme di progetti in modo che sia massimizzato il guadagno atteso senza eccedere il budget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ogni progetto può essere attivato non solo per intero ma anche in parte si parla di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knapsack continu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9" dur="indefinite" restart="never" nodeType="tmRoot">
          <p:childTnLst>
            <p:seq>
              <p:cTn id="3110" dur="indefinite" nodeType="mainSeq">
                <p:childTnLst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5" dur="500"/>
                                        <p:tgtEl>
                                          <p:spTgt spid="2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0" dur="500"/>
                                        <p:tgtEl>
                                          <p:spTgt spid="2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5" dur="500"/>
                                        <p:tgtEl>
                                          <p:spTgt spid="2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0" dur="500"/>
                                        <p:tgtEl>
                                          <p:spTgt spid="2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5" dur="500"/>
                                        <p:tgtEl>
                                          <p:spTgt spid="2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0" dur="500"/>
                                        <p:tgtEl>
                                          <p:spTgt spid="2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5" dur="500"/>
                                        <p:tgtEl>
                                          <p:spTgt spid="2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knapsack continu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problem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793800" y="1981080"/>
                <a:ext cx="374184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R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pe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85800" y="41911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 rilassamento del problema di knapsack 0-1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fatti, la collezione degli insiemi ammissibili del problema di knapsack 0-1 è contenuta nella regione ammissibile del problema di knapsack continu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6" dur="indefinite" restart="never" nodeType="tmRoot">
          <p:childTnLst>
            <p:seq>
              <p:cTn id="3147" dur="indefinite" nodeType="mainSeq">
                <p:childTnLst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2" dur="500"/>
                                        <p:tgtEl>
                                          <p:spTgt spid="2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1" dur="500"/>
                                        <p:tgtEl>
                                          <p:spTgt spid="2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fill="hold">
                      <p:stCondLst>
                        <p:cond delay="indefinite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6" dur="500"/>
                                        <p:tgtEl>
                                          <p:spTgt spid="2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knapsack continu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me si risolve knapsack continu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sendo formulato come problema di Programmazione Lineare, si può risolvere utilizzando il metodo del simplesso [ricordate che la complessità del metodo del simplesso non è provato essere polinomiale!]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In altern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upponiamo di riordinare gli elementi della bisaccia in modo che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05" name=""/>
          <p:cNvGrpSpPr/>
          <p:nvPr/>
        </p:nvGrpSpPr>
        <p:grpSpPr>
          <a:xfrm>
            <a:off x="706680" y="3733920"/>
            <a:ext cx="7138800" cy="2600280"/>
            <a:chOff x="706680" y="3733920"/>
            <a:chExt cx="7138800" cy="2600280"/>
          </a:xfrm>
        </p:grpSpPr>
        <mc:AlternateContent>
          <mc:Choice xmlns:a14="http://schemas.microsoft.com/office/drawing/2010/main" Requires="a14">
            <p:sp>
              <p:nvSpPr>
                <p:cNvPr id="2606" name=""/>
                <p:cNvSpPr txBox="1"/>
                <p:nvPr/>
              </p:nvSpPr>
              <p:spPr>
                <a:xfrm>
                  <a:off x="1066680" y="3745080"/>
                  <a:ext cx="19814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≥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7" name=""/>
                <p:cNvSpPr txBox="1"/>
                <p:nvPr/>
              </p:nvSpPr>
              <p:spPr>
                <a:xfrm>
                  <a:off x="6477120" y="3733920"/>
                  <a:ext cx="1095120" cy="8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h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b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608" name=""/>
            <p:cNvSpPr/>
            <p:nvPr/>
          </p:nvSpPr>
          <p:spPr>
            <a:xfrm>
              <a:off x="3058920" y="3943440"/>
              <a:ext cx="340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e sia 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h 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l’indice minimo per cu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06680" y="4597560"/>
              <a:ext cx="151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La soluzio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373280" y="566424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è ottima per (KLR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1" name=""/>
                <p:cNvSpPr txBox="1"/>
                <p:nvPr/>
              </p:nvSpPr>
              <p:spPr>
                <a:xfrm>
                  <a:off x="2438280" y="4603680"/>
                  <a:ext cx="5407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h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h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2" name=""/>
                <p:cNvSpPr txBox="1"/>
                <p:nvPr/>
              </p:nvSpPr>
              <p:spPr>
                <a:xfrm>
                  <a:off x="2209680" y="5029200"/>
                  <a:ext cx="1863720" cy="13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h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3" name=""/>
            <p:cNvSpPr/>
            <p:nvPr/>
          </p:nvSpPr>
          <p:spPr>
            <a:xfrm>
              <a:off x="1151280" y="566424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7" dur="indefinite" restart="never" nodeType="tmRoot">
          <p:childTnLst>
            <p:seq>
              <p:cTn id="3168" dur="indefinite" nodeType="mainSeq">
                <p:childTnLst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3" dur="500"/>
                                        <p:tgtEl>
                                          <p:spTgt spid="2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8" dur="500"/>
                                        <p:tgtEl>
                                          <p:spTgt spid="2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3" dur="500"/>
                                        <p:tgtEl>
                                          <p:spTgt spid="2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8" dur="500"/>
                                        <p:tgtEl>
                                          <p:spTgt spid="2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3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upponiamo, senza perdita di generalità, che gli elementi del problema soddisfi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si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la soluzione ottenuta con la formu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cedente. Consideriamo una soluzion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ottima, diversa d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ra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differisce d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almeno un elemen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&gt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atti, 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fosse diversa d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ltanto perché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 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llor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sarebbe ottima. Ciò significa che esiste un indic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lt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ale ch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lt;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 un indic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gt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&gt; 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costruzione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gt; 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Consideriamo la soluzione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3276720" y="1916280"/>
                <a:ext cx="1981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gt;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2832120" y="5315040"/>
                <a:ext cx="2819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fferenze e similar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prietà fondamentali dei problemi di OC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tutti i problemi di OC sono definiti su insiemi ammissibili finiti e numerab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la funzione obiettivo è calcolabile in corrispondenza ad ogni insieme ammissi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Quind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iste un algoritmo “universale” per i problemi di OC che si chiama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NUMERAZIONE TOTA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È inutile seguire questo cor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si ottiene d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sostituen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ammissibile. Infatt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oltre,             . Infatt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, allora, la soluzion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non è ottima (contraddizion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2800440" y="1341360"/>
                <a:ext cx="33559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2556000" y="2278080"/>
                <a:ext cx="14446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4792680" y="2278080"/>
                <a:ext cx="1326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826920" y="3314880"/>
                <a:ext cx="25740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2108160" y="3573360"/>
                <a:ext cx="4264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1692360" y="4365720"/>
                <a:ext cx="9349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1779480" y="4724280"/>
                <a:ext cx="5313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&g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ound primale per il knaps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80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seguente algoritmo, applicato agli elementi della bisaccia riordinati secondo il criteri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stituisce, invece una soluzione ammissibile per il problema di knapsack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9" name=""/>
          <p:cNvSpPr/>
          <p:nvPr/>
        </p:nvSpPr>
        <p:spPr>
          <a:xfrm>
            <a:off x="1547640" y="3164040"/>
            <a:ext cx="63723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lgorithm Greedy_knapsack 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 0; z = 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 (j = 1; j &lt; n; j ++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 (d + a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urier New"/>
              </a:rPr>
              <a:t>&lt;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b) th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1;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 = d + a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z = z + 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lse x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348000" y="1844640"/>
                <a:ext cx="198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greedy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algoritmo approssimato per il knapsac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fatti, consideriamo la seguente istanz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1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2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greedy restituisce la soluzione di valore 2, scegliendo soltanto il primo oggetto dell’ordinamento, mentre la soluzione ottima va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apitolan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bbiamo definito per il knapsack 0-1 un upper bound con le seguenti proprietà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L’upper bound è “continuo”, nel senso che si ottiene dalla soluzione di un problema di Programmazione Lineare e non da un problema di 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L’upper bound può essere calcolato con un algoritmo più efficiente rispetto al metodo del simplesso, ma in ogni caso è polinom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uò essere generalizzata questa tecnica di rilassamento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stituendo la “stipula”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{0, 1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 il vincol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0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1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una formulazione di un problema di PL-{0,1}, si ottiene sempre un rilassamento denominato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Rilassamento Line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4" dur="indefinite" restart="never" nodeType="tmRoot">
          <p:childTnLst>
            <p:seq>
              <p:cTn id="3195" dur="indefinite" nodeType="mainSeq">
                <p:childTnLst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0" dur="500"/>
                                        <p:tgtEl>
                                          <p:spTgt spid="2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5" dur="500"/>
                                        <p:tgtEl>
                                          <p:spTgt spid="2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0" dur="500"/>
                                        <p:tgtEl>
                                          <p:spTgt spid="2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5" dur="500"/>
                                        <p:tgtEl>
                                          <p:spTgt spid="2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0" dur="500"/>
                                        <p:tgtEl>
                                          <p:spTgt spid="2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5" dur="500"/>
                                        <p:tgtEl>
                                          <p:spTgt spid="2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ua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ue problemi di ottimizz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max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min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ormano una coppia duale “debole” s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per ogn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e y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=w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dice che formano una coppia duale “forte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Vantaggio fondamentale rispetto al rilassa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ottenere un bound attraverso il rilassamento, il problema rilassato va risolto all’ottimo. Invece, per una coppia du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ogn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luzione ammissibil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 upper (lower) bound per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z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6" dur="indefinite" restart="never" nodeType="tmRoot">
          <p:childTnLst>
            <p:seq>
              <p:cTn id="3227" dur="indefinite" nodeType="mainSeq">
                <p:childTnLst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2" dur="500"/>
                                        <p:tgtEl>
                                          <p:spTgt spid="2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7" dur="500"/>
                                        <p:tgtEl>
                                          <p:spTgt spid="2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2" dur="500"/>
                                        <p:tgtEl>
                                          <p:spTgt spid="2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7" dur="500"/>
                                        <p:tgtEl>
                                          <p:spTgt spid="2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2" dur="500"/>
                                        <p:tgtEl>
                                          <p:spTgt spid="2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7" dur="500"/>
                                        <p:tgtEl>
                                          <p:spTgt spid="2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2" dur="500"/>
                                        <p:tgtEl>
                                          <p:spTgt spid="2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7" dur="500"/>
                                        <p:tgtEl>
                                          <p:spTgt spid="2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2" dur="500"/>
                                        <p:tgtEl>
                                          <p:spTgt spid="2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Il problema di trovare un matching di massima cardinalità e quello di trovare un node cover di minima cardinalità formano una coppia duale debole per ogni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Il problema di trovare un insieme stabile di massima cardinalità e quello di trovare un edge cover di minima cardinalità formano una coppia duale debole per ogni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ntrambe queste coppie di problemi godono del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ualità forte se G è bipartito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(Teorema di Konig 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orema di Galla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3" dur="indefinite" restart="never" nodeType="tmRoot">
          <p:childTnLst>
            <p:seq>
              <p:cTn id="3274" dur="indefinite" nodeType="mainSeq">
                <p:childTnLst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9" dur="500"/>
                                        <p:tgtEl>
                                          <p:spTgt spid="2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4" dur="500"/>
                                        <p:tgtEl>
                                          <p:spTgt spid="2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9" dur="500"/>
                                        <p:tgtEl>
                                          <p:spTgt spid="2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4" dur="500"/>
                                        <p:tgtEl>
                                          <p:spTgt spid="2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9" dur="500"/>
                                        <p:tgtEl>
                                          <p:spTgt spid="2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sideriamo il seguente problema di Knapsack 0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 5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4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6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siemi ammissibi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{(0, 0), (0, 1), (1, 0)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appresentazione sul piano degli insiemi ammissibi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0" dur="indefinite" restart="never" nodeType="tmRoot">
          <p:childTnLst>
            <p:seq>
              <p:cTn id="3301" dur="indefinite" nodeType="mainSeq">
                <p:childTnLst>
                  <p:par>
                    <p:cTn id="3302" fill="hold">
                      <p:stCondLst>
                        <p:cond delay="indefinite"/>
                      </p:stCondLst>
                      <p:childTnLst>
                        <p:par>
                          <p:cTn id="3303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6" dur="500"/>
                                        <p:tgtEl>
                                          <p:spTgt spid="2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1" dur="500"/>
                                        <p:tgtEl>
                                          <p:spTgt spid="2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6" dur="500"/>
                                        <p:tgtEl>
                                          <p:spTgt spid="2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1" dur="500"/>
                                        <p:tgtEl>
                                          <p:spTgt spid="2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6" dur="500"/>
                                        <p:tgtEl>
                                          <p:spTgt spid="2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1" dur="500"/>
                                        <p:tgtEl>
                                          <p:spTgt spid="2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2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1" dur="500"/>
                                        <p:tgtEl>
                                          <p:spTgt spid="26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nsiemi ammissibi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2" name=""/>
          <p:cNvSpPr/>
          <p:nvPr/>
        </p:nvSpPr>
        <p:spPr>
          <a:xfrm>
            <a:off x="1828800" y="15238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1828800" y="4572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235120" y="4572000"/>
            <a:ext cx="38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272960" y="1523880"/>
            <a:ext cx="38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46" name=""/>
          <p:cNvGrpSpPr/>
          <p:nvPr/>
        </p:nvGrpSpPr>
        <p:grpSpPr>
          <a:xfrm>
            <a:off x="900360" y="4524480"/>
            <a:ext cx="956880" cy="594720"/>
            <a:chOff x="900360" y="4524480"/>
            <a:chExt cx="956880" cy="594720"/>
          </a:xfrm>
        </p:grpSpPr>
        <p:sp>
          <p:nvSpPr>
            <p:cNvPr id="2647" name=""/>
            <p:cNvSpPr/>
            <p:nvPr/>
          </p:nvSpPr>
          <p:spPr>
            <a:xfrm>
              <a:off x="1781280" y="452448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900360" y="465948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(0, 0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824040" y="2525760"/>
            <a:ext cx="1033200" cy="459720"/>
            <a:chOff x="824040" y="2525760"/>
            <a:chExt cx="1033200" cy="459720"/>
          </a:xfrm>
        </p:grpSpPr>
        <p:sp>
          <p:nvSpPr>
            <p:cNvPr id="2650" name=""/>
            <p:cNvSpPr/>
            <p:nvPr/>
          </p:nvSpPr>
          <p:spPr>
            <a:xfrm>
              <a:off x="1781280" y="2666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24040" y="25257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(0, 1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3256200" y="4524480"/>
            <a:ext cx="872640" cy="594720"/>
            <a:chOff x="3256200" y="4524480"/>
            <a:chExt cx="872640" cy="594720"/>
          </a:xfrm>
        </p:grpSpPr>
        <p:sp>
          <p:nvSpPr>
            <p:cNvPr id="2653" name=""/>
            <p:cNvSpPr/>
            <p:nvPr/>
          </p:nvSpPr>
          <p:spPr>
            <a:xfrm>
              <a:off x="3695760" y="4524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256200" y="465948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(1, 0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3695760" y="2525760"/>
            <a:ext cx="1042560" cy="459720"/>
            <a:chOff x="3695760" y="2525760"/>
            <a:chExt cx="1042560" cy="459720"/>
          </a:xfrm>
        </p:grpSpPr>
        <p:sp>
          <p:nvSpPr>
            <p:cNvPr id="2656" name=""/>
            <p:cNvSpPr/>
            <p:nvPr/>
          </p:nvSpPr>
          <p:spPr>
            <a:xfrm>
              <a:off x="3695760" y="26668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865680" y="25257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(1, 1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2" dur="indefinite" restart="never" nodeType="tmRoot">
          <p:childTnLst>
            <p:seq>
              <p:cTn id="3343" dur="indefinite" nodeType="mainSeq">
                <p:childTnLst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fill="hold">
                      <p:stCondLst>
                        <p:cond delay="indefinite"/>
                      </p:stCondLst>
                      <p:childTnLst>
                        <p:par>
                          <p:cTn id="3357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 poliedr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è una formulazione di un problema di OC se e solo 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 = 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2568240" y="2514600"/>
            <a:ext cx="4366080" cy="3488760"/>
            <a:chOff x="2568240" y="2514600"/>
            <a:chExt cx="4366080" cy="3488760"/>
          </a:xfrm>
        </p:grpSpPr>
        <p:sp>
          <p:nvSpPr>
            <p:cNvPr id="2661" name=""/>
            <p:cNvSpPr/>
            <p:nvPr/>
          </p:nvSpPr>
          <p:spPr>
            <a:xfrm>
              <a:off x="3124080" y="251460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124080" y="55627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530760" y="55627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68240" y="251460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076560" y="5514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7656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991040" y="5514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991040" y="36576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2590920" y="3276720"/>
            <a:ext cx="3124080" cy="2971800"/>
            <a:chOff x="2590920" y="3276720"/>
            <a:chExt cx="3124080" cy="2971800"/>
          </a:xfrm>
        </p:grpSpPr>
        <p:sp>
          <p:nvSpPr>
            <p:cNvPr id="2670" name=""/>
            <p:cNvSpPr/>
            <p:nvPr/>
          </p:nvSpPr>
          <p:spPr>
            <a:xfrm>
              <a:off x="2590920" y="3276720"/>
              <a:ext cx="1752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343400" y="3809880"/>
              <a:ext cx="137160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90920" y="3276720"/>
              <a:ext cx="53316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3124080" y="5791320"/>
              <a:ext cx="2590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2286000" y="3429000"/>
            <a:ext cx="3352680" cy="2286000"/>
            <a:chOff x="2286000" y="3429000"/>
            <a:chExt cx="3352680" cy="2286000"/>
          </a:xfrm>
        </p:grpSpPr>
        <p:sp>
          <p:nvSpPr>
            <p:cNvPr id="2675" name=""/>
            <p:cNvSpPr/>
            <p:nvPr/>
          </p:nvSpPr>
          <p:spPr>
            <a:xfrm>
              <a:off x="2286000" y="34290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886200" y="3429000"/>
              <a:ext cx="17524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286000" y="342900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286000" y="57150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5257800" y="4343400"/>
              <a:ext cx="380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1828800" y="4876920"/>
            <a:ext cx="4572000" cy="1523880"/>
            <a:chOff x="1828800" y="4876920"/>
            <a:chExt cx="4572000" cy="1523880"/>
          </a:xfrm>
        </p:grpSpPr>
        <p:sp>
          <p:nvSpPr>
            <p:cNvPr id="2681" name=""/>
            <p:cNvSpPr/>
            <p:nvPr/>
          </p:nvSpPr>
          <p:spPr>
            <a:xfrm>
              <a:off x="1828800" y="4876920"/>
              <a:ext cx="45720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828800" y="4876920"/>
              <a:ext cx="251460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4343400" y="5638320"/>
              <a:ext cx="205740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2895480" y="3048120"/>
            <a:ext cx="2895840" cy="2971800"/>
            <a:chOff x="2895480" y="3048120"/>
            <a:chExt cx="2895840" cy="2971800"/>
          </a:xfrm>
        </p:grpSpPr>
        <p:sp>
          <p:nvSpPr>
            <p:cNvPr id="2685" name=""/>
            <p:cNvSpPr/>
            <p:nvPr/>
          </p:nvSpPr>
          <p:spPr>
            <a:xfrm>
              <a:off x="2895480" y="3048120"/>
              <a:ext cx="0" cy="297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895480" y="3048120"/>
              <a:ext cx="274320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2895480" y="5486400"/>
              <a:ext cx="289584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38680" y="3657600"/>
              <a:ext cx="15264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0" dur="indefinite" restart="never" nodeType="tmRoot">
          <p:childTnLst>
            <p:seq>
              <p:cTn id="3361" dur="indefinite" nodeType="mainSeq">
                <p:childTnLst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6" dur="500"/>
                                        <p:tgtEl>
                                          <p:spTgt spid="2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1" dur="500"/>
                                        <p:tgtEl>
                                          <p:spTgt spid="2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97" dur="1" fill="hold"/>
                                  <p:tgtEl>
                                    <p:spTgt spid="2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rilassamento lineare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problema di knapsack 0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max 5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+ 2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+ 4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6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a come rilassamento line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max 5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+ 2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+ 4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6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8" dur="indefinite" restart="never" nodeType="tmRoot">
          <p:childTnLst>
            <p:seq>
              <p:cTn id="3399" dur="indefinite" nodeType="mainSeq">
                <p:childTnLst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fill="hold">
                      <p:stCondLst>
                        <p:cond delay="indefinite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È vera questa affermazion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838080" y="1447920"/>
          <a:ext cx="7543800" cy="160020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219320"/>
                <a:gridCol w="1295280"/>
                <a:gridCol w="1524240"/>
                <a:gridCol w="14475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3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5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6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7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56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609480" y="2994120"/>
            <a:ext cx="830592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operazioni eseguite da un moderno calcolatore (1 Ghz) in u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nno sono pari 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.15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tanto, per risolvere un problema di TSP con 20 città attraverso l’enumerazione totale si impiegano circa 2 ann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1" name=""/>
          <p:cNvGrpSpPr/>
          <p:nvPr/>
        </p:nvGrpSpPr>
        <p:grpSpPr>
          <a:xfrm>
            <a:off x="4419720" y="2819520"/>
            <a:ext cx="1015200" cy="2666880"/>
            <a:chOff x="4419720" y="2819520"/>
            <a:chExt cx="1015200" cy="2666880"/>
          </a:xfrm>
        </p:grpSpPr>
        <p:grpSp>
          <p:nvGrpSpPr>
            <p:cNvPr id="2692" name=""/>
            <p:cNvGrpSpPr/>
            <p:nvPr/>
          </p:nvGrpSpPr>
          <p:grpSpPr>
            <a:xfrm>
              <a:off x="4419720" y="2819520"/>
              <a:ext cx="457200" cy="2666880"/>
              <a:chOff x="4419720" y="2819520"/>
              <a:chExt cx="457200" cy="2666880"/>
            </a:xfrm>
          </p:grpSpPr>
          <p:sp>
            <p:nvSpPr>
              <p:cNvPr id="2693" name=""/>
              <p:cNvSpPr/>
              <p:nvPr/>
            </p:nvSpPr>
            <p:spPr>
              <a:xfrm>
                <a:off x="4876920" y="2819520"/>
                <a:ext cx="0" cy="266688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4419720" y="5486400"/>
                <a:ext cx="45720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H="1">
                <a:off x="4419720" y="2819520"/>
                <a:ext cx="45720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96" name=""/>
            <p:cNvSpPr/>
            <p:nvPr/>
          </p:nvSpPr>
          <p:spPr>
            <a:xfrm>
              <a:off x="4502520" y="3657600"/>
              <a:ext cx="93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&lt;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7" name=""/>
          <p:cNvGrpSpPr/>
          <p:nvPr/>
        </p:nvGrpSpPr>
        <p:grpSpPr>
          <a:xfrm>
            <a:off x="2743200" y="2666880"/>
            <a:ext cx="2706840" cy="914400"/>
            <a:chOff x="2743200" y="2666880"/>
            <a:chExt cx="2706840" cy="914400"/>
          </a:xfrm>
        </p:grpSpPr>
        <p:grpSp>
          <p:nvGrpSpPr>
            <p:cNvPr id="2698" name=""/>
            <p:cNvGrpSpPr/>
            <p:nvPr/>
          </p:nvGrpSpPr>
          <p:grpSpPr>
            <a:xfrm>
              <a:off x="2743200" y="3124080"/>
              <a:ext cx="2706840" cy="457200"/>
              <a:chOff x="2743200" y="3124080"/>
              <a:chExt cx="2706840" cy="457200"/>
            </a:xfrm>
          </p:grpSpPr>
          <p:sp>
            <p:nvSpPr>
              <p:cNvPr id="2699" name=""/>
              <p:cNvSpPr/>
              <p:nvPr/>
            </p:nvSpPr>
            <p:spPr>
              <a:xfrm flipV="1">
                <a:off x="5373720" y="340812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743200" y="3124080"/>
                <a:ext cx="266724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410440" y="3124080"/>
                <a:ext cx="0" cy="45720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743200" y="3124080"/>
                <a:ext cx="0" cy="45720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703" name=""/>
            <p:cNvSpPr/>
            <p:nvPr/>
          </p:nvSpPr>
          <p:spPr>
            <a:xfrm>
              <a:off x="3435840" y="2666880"/>
              <a:ext cx="9324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&lt;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1715760" y="2819520"/>
            <a:ext cx="1712880" cy="2666880"/>
            <a:chOff x="1715760" y="2819520"/>
            <a:chExt cx="1712880" cy="2666880"/>
          </a:xfrm>
        </p:grpSpPr>
        <p:grpSp>
          <p:nvGrpSpPr>
            <p:cNvPr id="2705" name=""/>
            <p:cNvGrpSpPr/>
            <p:nvPr/>
          </p:nvGrpSpPr>
          <p:grpSpPr>
            <a:xfrm>
              <a:off x="2971440" y="2819520"/>
              <a:ext cx="457200" cy="2666880"/>
              <a:chOff x="2971440" y="2819520"/>
              <a:chExt cx="457200" cy="2666880"/>
            </a:xfrm>
          </p:grpSpPr>
          <p:sp>
            <p:nvSpPr>
              <p:cNvPr id="2706" name=""/>
              <p:cNvSpPr/>
              <p:nvPr/>
            </p:nvSpPr>
            <p:spPr>
              <a:xfrm>
                <a:off x="2971440" y="2819520"/>
                <a:ext cx="0" cy="2666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971440" y="5486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971440" y="281952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709" name=""/>
            <p:cNvSpPr/>
            <p:nvPr/>
          </p:nvSpPr>
          <p:spPr>
            <a:xfrm>
              <a:off x="1715760" y="3962160"/>
              <a:ext cx="8989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1 </a:t>
              </a: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&gt;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2779560" y="4572000"/>
            <a:ext cx="2706120" cy="967320"/>
            <a:chOff x="2779560" y="4572000"/>
            <a:chExt cx="2706120" cy="967320"/>
          </a:xfrm>
        </p:grpSpPr>
        <p:grpSp>
          <p:nvGrpSpPr>
            <p:cNvPr id="2711" name=""/>
            <p:cNvGrpSpPr/>
            <p:nvPr/>
          </p:nvGrpSpPr>
          <p:grpSpPr>
            <a:xfrm>
              <a:off x="2779560" y="4572000"/>
              <a:ext cx="2706120" cy="457200"/>
              <a:chOff x="2779560" y="4572000"/>
              <a:chExt cx="2706120" cy="457200"/>
            </a:xfrm>
          </p:grpSpPr>
          <p:sp>
            <p:nvSpPr>
              <p:cNvPr id="2712" name=""/>
              <p:cNvSpPr/>
              <p:nvPr/>
            </p:nvSpPr>
            <p:spPr>
              <a:xfrm>
                <a:off x="5409720" y="466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79560" y="5029200"/>
                <a:ext cx="26668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V="1">
                <a:off x="5446440" y="4572000"/>
                <a:ext cx="0" cy="457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2779560" y="4572000"/>
                <a:ext cx="0" cy="457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716" name=""/>
            <p:cNvSpPr/>
            <p:nvPr/>
          </p:nvSpPr>
          <p:spPr>
            <a:xfrm>
              <a:off x="3054600" y="5029200"/>
              <a:ext cx="93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&gt;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è un poliedro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2590920" y="2057400"/>
            <a:ext cx="5029200" cy="3429000"/>
            <a:chOff x="2590920" y="2057400"/>
            <a:chExt cx="5029200" cy="3429000"/>
          </a:xfrm>
        </p:grpSpPr>
        <p:sp>
          <p:nvSpPr>
            <p:cNvPr id="2719" name=""/>
            <p:cNvSpPr/>
            <p:nvPr/>
          </p:nvSpPr>
          <p:spPr>
            <a:xfrm>
              <a:off x="3048120" y="2057400"/>
              <a:ext cx="45720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1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+ 4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2 </a:t>
              </a: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&lt;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6 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20" name=""/>
            <p:cNvGrpSpPr/>
            <p:nvPr/>
          </p:nvGrpSpPr>
          <p:grpSpPr>
            <a:xfrm>
              <a:off x="2590920" y="2209680"/>
              <a:ext cx="3733560" cy="3276720"/>
              <a:chOff x="2590920" y="2209680"/>
              <a:chExt cx="3733560" cy="3276720"/>
            </a:xfrm>
          </p:grpSpPr>
          <p:sp>
            <p:nvSpPr>
              <p:cNvPr id="2721" name=""/>
              <p:cNvSpPr/>
              <p:nvPr/>
            </p:nvSpPr>
            <p:spPr>
              <a:xfrm>
                <a:off x="2895480" y="2209680"/>
                <a:ext cx="3429000" cy="2971800"/>
              </a:xfrm>
              <a:prstGeom prst="line">
                <a:avLst/>
              </a:prstGeom>
              <a:ln w="28440">
                <a:solidFill>
                  <a:srgbClr val="ff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>
                <a:off x="2590920" y="2209680"/>
                <a:ext cx="304560" cy="304920"/>
              </a:xfrm>
              <a:prstGeom prst="line">
                <a:avLst/>
              </a:prstGeom>
              <a:ln w="28440">
                <a:solidFill>
                  <a:srgbClr val="ff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6019920" y="5181480"/>
                <a:ext cx="304560" cy="304920"/>
              </a:xfrm>
              <a:prstGeom prst="line">
                <a:avLst/>
              </a:prstGeom>
              <a:ln w="28440">
                <a:solidFill>
                  <a:srgbClr val="ff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4" name=""/>
          <p:cNvGrpSpPr/>
          <p:nvPr/>
        </p:nvGrpSpPr>
        <p:grpSpPr>
          <a:xfrm>
            <a:off x="2425320" y="1981080"/>
            <a:ext cx="4366080" cy="3488760"/>
            <a:chOff x="2425320" y="1981080"/>
            <a:chExt cx="4366080" cy="3488760"/>
          </a:xfrm>
        </p:grpSpPr>
        <p:sp>
          <p:nvSpPr>
            <p:cNvPr id="2725" name=""/>
            <p:cNvSpPr/>
            <p:nvPr/>
          </p:nvSpPr>
          <p:spPr>
            <a:xfrm>
              <a:off x="2981160" y="19810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981160" y="502920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387840" y="502920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425320" y="198108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933640" y="49813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93364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848120" y="49813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848120" y="31240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4" dur="indefinite" restart="never" nodeType="tmRoot">
          <p:childTnLst>
            <p:seq>
              <p:cTn id="3445" dur="indefinite" nodeType="mainSeq">
                <p:childTnLst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fill="hold">
                      <p:stCondLst>
                        <p:cond delay="indefinite"/>
                      </p:stCondLst>
                      <p:childTnLst>
                        <p:par>
                          <p:cTn id="3455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6" fill="hold">
                      <p:stCondLst>
                        <p:cond delay="indefinite"/>
                      </p:stCondLst>
                      <p:childTnLst>
                        <p:par>
                          <p:cTn id="3467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3" name=""/>
          <p:cNvGrpSpPr/>
          <p:nvPr/>
        </p:nvGrpSpPr>
        <p:grpSpPr>
          <a:xfrm>
            <a:off x="2990880" y="3143160"/>
            <a:ext cx="1866960" cy="1886040"/>
            <a:chOff x="2990880" y="3143160"/>
            <a:chExt cx="1866960" cy="1886040"/>
          </a:xfrm>
        </p:grpSpPr>
        <p:sp>
          <p:nvSpPr>
            <p:cNvPr id="2734" name=""/>
            <p:cNvSpPr/>
            <p:nvPr/>
          </p:nvSpPr>
          <p:spPr>
            <a:xfrm>
              <a:off x="2990880" y="3143160"/>
              <a:ext cx="990720" cy="1886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981600" y="3943440"/>
              <a:ext cx="876240" cy="1085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962520" y="3162240"/>
              <a:ext cx="847440" cy="7812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37" name=""/>
          <p:cNvSpPr/>
          <p:nvPr/>
        </p:nvSpPr>
        <p:spPr>
          <a:xfrm>
            <a:off x="2971800" y="3200400"/>
            <a:ext cx="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971800" y="50292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 flipV="1">
            <a:off x="3962520" y="3123720"/>
            <a:ext cx="91440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876920" y="396252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vvero, è una 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3" name=""/>
          <p:cNvSpPr/>
          <p:nvPr/>
        </p:nvSpPr>
        <p:spPr>
          <a:xfrm>
            <a:off x="2971800" y="19810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2971800" y="5029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6378120" y="5029200"/>
            <a:ext cx="38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491920" y="1905120"/>
            <a:ext cx="38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4838760" y="3124080"/>
            <a:ext cx="76320" cy="76320"/>
          </a:xfrm>
          <a:prstGeom prst="ellipse">
            <a:avLst/>
          </a:prstGeom>
          <a:solidFill>
            <a:srgbClr val="40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933640" y="3105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2924280" y="50007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848120" y="50007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Gerarchia di formul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Quando una formulazione è “migliore” di un’altr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un poliedr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formulazione di </a:t>
            </a:r>
            <a:r>
              <a:rPr b="0" i="1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è contenuto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formulazione di </a:t>
            </a:r>
            <a:r>
              <a:rPr b="0" i="1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diciamo ch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migliore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gener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…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siste una formulazione “ideale”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0" dur="indefinite" restart="never" nodeType="tmRoot">
          <p:childTnLst>
            <p:seq>
              <p:cTn id="3471" dur="indefinite" nodeType="mainSeq">
                <p:childTnLst>
                  <p:par>
                    <p:cTn id="3472" fill="hold">
                      <p:stCondLst>
                        <p:cond delay="indefinite"/>
                      </p:stCondLst>
                      <p:childTnLst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6" dur="500"/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1" dur="500"/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6" dur="500"/>
                                        <p:tgtEl>
                                          <p:spTgt spid="2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fill="hold">
                      <p:stCondLst>
                        <p:cond delay="indefinite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1" dur="500"/>
                                        <p:tgtEl>
                                          <p:spTgt spid="2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6" dur="500"/>
                                        <p:tgtEl>
                                          <p:spTgt spid="2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1" dur="500"/>
                                        <p:tgtEl>
                                          <p:spTgt spid="27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 ide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576000" y="13330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ometricamente” è il più piccolo poliedro contenente </a:t>
            </a:r>
            <a:r>
              <a:rPr b="0" i="1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5" name=""/>
          <p:cNvSpPr/>
          <p:nvPr/>
        </p:nvSpPr>
        <p:spPr>
          <a:xfrm>
            <a:off x="576360" y="5477040"/>
            <a:ext cx="816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e si ottiene la formulazione ideal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56" name=""/>
          <p:cNvGrpSpPr/>
          <p:nvPr/>
        </p:nvGrpSpPr>
        <p:grpSpPr>
          <a:xfrm>
            <a:off x="2463480" y="1905120"/>
            <a:ext cx="4289760" cy="3564720"/>
            <a:chOff x="2463480" y="1905120"/>
            <a:chExt cx="4289760" cy="3564720"/>
          </a:xfrm>
        </p:grpSpPr>
        <p:sp>
          <p:nvSpPr>
            <p:cNvPr id="2757" name=""/>
            <p:cNvSpPr/>
            <p:nvPr/>
          </p:nvSpPr>
          <p:spPr>
            <a:xfrm>
              <a:off x="2943360" y="50292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943360" y="19810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349680" y="502920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463480" y="19051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809960" y="31240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905200" y="3105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95480" y="50007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819680" y="50007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952720" y="3171960"/>
              <a:ext cx="1876320" cy="18478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2" dur="indefinite" restart="never" nodeType="tmRoot">
          <p:childTnLst>
            <p:seq>
              <p:cTn id="3503" dur="indefinite" nodeType="mainSeq">
                <p:childTnLst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8" dur="500"/>
                                        <p:tgtEl>
                                          <p:spTgt spid="2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3" dur="5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prie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ni vertice del poliedro “formulazione ideale” è in corrispondenza biunivoca di un insieme ammissibi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ti due vettori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definisce combinazione convessa il vett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+ (1 –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0, 1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sempi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68" name=""/>
          <p:cNvGrpSpPr/>
          <p:nvPr/>
        </p:nvGrpSpPr>
        <p:grpSpPr>
          <a:xfrm>
            <a:off x="1543320" y="5410080"/>
            <a:ext cx="2370600" cy="691200"/>
            <a:chOff x="1543320" y="5410080"/>
            <a:chExt cx="2370600" cy="691200"/>
          </a:xfrm>
        </p:grpSpPr>
        <p:sp>
          <p:nvSpPr>
            <p:cNvPr id="2769" name=""/>
            <p:cNvSpPr/>
            <p:nvPr/>
          </p:nvSpPr>
          <p:spPr>
            <a:xfrm>
              <a:off x="1828800" y="54388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629160" y="56196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905120" y="5477040"/>
              <a:ext cx="1724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543320" y="5410080"/>
              <a:ext cx="42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84800" y="5591160"/>
              <a:ext cx="42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407320" y="553392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638440" y="5514840"/>
              <a:ext cx="88920" cy="889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0" dur="indefinite" restart="never" nodeType="tmRoot">
          <p:childTnLst>
            <p:seq>
              <p:cTn id="3521" dur="indefinite" nodeType="mainSeq">
                <p:childTnLst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6" dur="500"/>
                                        <p:tgtEl>
                                          <p:spTgt spid="2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1" dur="500"/>
                                        <p:tgtEl>
                                          <p:spTgt spid="2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6" dur="500"/>
                                        <p:tgtEl>
                                          <p:spTgt spid="2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1" dur="500"/>
                                        <p:tgtEl>
                                          <p:spTgt spid="2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6" dur="500"/>
                                        <p:tgtEl>
                                          <p:spTgt spid="2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fill="hold">
                      <p:stCondLst>
                        <p:cond delay="indefinite"/>
                      </p:stCondLst>
                      <p:childTnLst>
                        <p:par>
                          <p:cTn id="3548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1" dur="500"/>
                                        <p:tgtEl>
                                          <p:spTgt spid="27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6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nvolucro conves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nsieme di tutti le possibili combinazioni convesse di un insieme di vettor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rende il nome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nvolucro convess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si indica con conv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è un polied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ertanto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la formulazione ideale di </a:t>
            </a:r>
            <a:r>
              <a:rPr b="0" i="1" lang="it-IT" sz="2800" spc="-1" strike="noStrike">
                <a:solidFill>
                  <a:srgbClr val="ff0000"/>
                </a:solidFill>
                <a:latin typeface="Monotype Corsiva"/>
              </a:rPr>
              <a:t>F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è conv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it-IT" sz="2800" spc="-1" strike="noStrike">
                <a:solidFill>
                  <a:srgbClr val="ff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7" dur="indefinite" restart="never" nodeType="tmRoot">
          <p:childTnLst>
            <p:seq>
              <p:cTn id="3558" dur="indefinite" nodeType="mainSeq">
                <p:childTnLst>
                  <p:par>
                    <p:cTn id="3559" fill="hold">
                      <p:stCondLst>
                        <p:cond delay="indefinite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3" dur="500"/>
                                        <p:tgtEl>
                                          <p:spTgt spid="2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8" dur="500"/>
                                        <p:tgtEl>
                                          <p:spTgt spid="2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3" dur="500"/>
                                        <p:tgtEl>
                                          <p:spTgt spid="2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8" dur="500"/>
                                        <p:tgtEl>
                                          <p:spTgt spid="2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9" fill="hold">
                      <p:stCondLst>
                        <p:cond delay="indefinite"/>
                      </p:stCondLst>
                      <p:childTnLst>
                        <p:par>
                          <p:cTn id="3580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3" dur="500"/>
                                        <p:tgtEl>
                                          <p:spTgt spid="2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4" fill="hold">
                      <p:stCondLst>
                        <p:cond delay="indefinite"/>
                      </p:stCondLst>
                      <p:childTnLst>
                        <p:par>
                          <p:cTn id="3585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8" dur="500"/>
                                        <p:tgtEl>
                                          <p:spTgt spid="2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alcolo di conv (</a:t>
            </a:r>
            <a:r>
              <a:rPr b="0" lang="it-IT" sz="3200" spc="-1" strike="noStrike">
                <a:solidFill>
                  <a:srgbClr val="40458c"/>
                </a:solidFill>
                <a:latin typeface="Monotype Corsiva"/>
              </a:rPr>
              <a:t>F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linea di principio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ti gli insiemi ammissibi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 {(0, 0), (0, 1), (1, 0)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 (</a:t>
            </a:r>
            <a:r>
              <a:rPr b="0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se e solo se si può esprimere com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0" name=""/>
              <p:cNvSpPr txBox="1"/>
              <p:nvPr/>
            </p:nvSpPr>
            <p:spPr>
              <a:xfrm>
                <a:off x="1600200" y="3429000"/>
                <a:ext cx="457200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9" dur="indefinite" restart="never" nodeType="tmRoot">
          <p:childTnLst>
            <p:seq>
              <p:cTn id="3590" dur="indefinite" nodeType="mainSeq">
                <p:childTnLst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5" dur="500"/>
                                        <p:tgtEl>
                                          <p:spTgt spid="2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0" dur="500"/>
                                        <p:tgtEl>
                                          <p:spTgt spid="2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5" dur="500"/>
                                        <p:tgtEl>
                                          <p:spTgt spid="2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0" dur="500"/>
                                        <p:tgtEl>
                                          <p:spTgt spid="2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 questo pu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Atten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esto sistema è nello spazi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ono gli insiemi ammissibil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Quind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ottenere la formulazione ideale devo “proiettare” il sistema nello spazio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questo scopo utilizzo l’algoritmo di Fourier-Motzkin (…) che mi consente di “eliminare” le variabil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6" dur="indefinite" restart="never" nodeType="tmRoot">
          <p:childTnLst>
            <p:seq>
              <p:cTn id="3617" dur="indefinite" nodeType="mainSeq">
                <p:childTnLst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2" dur="500"/>
                                        <p:tgtEl>
                                          <p:spTgt spid="2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3" fill="hold">
                      <p:stCondLst>
                        <p:cond delay="indefinite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7" dur="500"/>
                                        <p:tgtEl>
                                          <p:spTgt spid="2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2" dur="500"/>
                                        <p:tgtEl>
                                          <p:spTgt spid="2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7" dur="500"/>
                                        <p:tgtEl>
                                          <p:spTgt spid="2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2" dur="500"/>
                                        <p:tgtEl>
                                          <p:spTgt spid="2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unto della sit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Dato un problema di OC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Elenco tutti gli insiemi ammissibi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Rappresento gli insiemi ammissibili come vettori a componenti in {0,1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. Scrivo l’involucro convesso applicando la 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. Con l’algoritmo di Fourier-Motzkin elimino i coefficienti della combinazione convessa e ottengo una formulazione ideale nello spazi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. Applico il metodo del simplesso e trovo la soluzione ott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È efficiente questo algoritm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9" dur="500"/>
                                        <p:tgtEl>
                                          <p:spTgt spid="2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4" dur="500"/>
                                        <p:tgtEl>
                                          <p:spTgt spid="2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9" dur="500"/>
                                        <p:tgtEl>
                                          <p:spTgt spid="2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4" dur="500"/>
                                        <p:tgtEl>
                                          <p:spTgt spid="2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9" dur="500"/>
                                        <p:tgtEl>
                                          <p:spTgt spid="2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4" dur="500"/>
                                        <p:tgtEl>
                                          <p:spTgt spid="2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9" dur="500"/>
                                        <p:tgtEl>
                                          <p:spTgt spid="2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fficienza del calcolo di conv(</a:t>
            </a:r>
            <a:r>
              <a:rPr b="0" lang="it-IT" sz="3200" spc="-1" strike="noStrike">
                <a:solidFill>
                  <a:srgbClr val="40458c"/>
                </a:solidFill>
                <a:latin typeface="Monotype Corsiva"/>
              </a:rPr>
              <a:t>F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Gli insiemi ammissibili sono tipicamente in numero esponenz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L’algoritmo di Fourier-Motzkin non ha complessità polinom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erò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appiamo che una formulazione ideale esiste sempr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Quind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1. Caso MOLTO fortunato: ho una formulazione che è proprio la formulazione ide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2. Tento di  approssimare la formulazione ideale costruendo una gerarchia di formulazioni a partire da una formulazione inizia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0" dur="indefinite" restart="never" nodeType="tmRoot">
          <p:childTnLst>
            <p:seq>
              <p:cTn id="3681" dur="indefinite" nodeType="mainSeq">
                <p:childTnLst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2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1" dur="500"/>
                                        <p:tgtEl>
                                          <p:spTgt spid="2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6" dur="500"/>
                                        <p:tgtEl>
                                          <p:spTgt spid="2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1" dur="500"/>
                                        <p:tgtEl>
                                          <p:spTgt spid="2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6" dur="500"/>
                                        <p:tgtEl>
                                          <p:spTgt spid="2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1" dur="500"/>
                                        <p:tgtEl>
                                          <p:spTgt spid="2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fill="hold">
                      <p:stCondLst>
                        <p:cond delay="indefinite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6" dur="500"/>
                                        <p:tgtEl>
                                          <p:spTgt spid="2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1" dur="500"/>
                                        <p:tgtEl>
                                          <p:spTgt spid="2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14400" y="4724280"/>
            <a:ext cx="6324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5638680"/>
            <a:ext cx="6324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3184560"/>
            <a:ext cx="7848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Algoritmi ammissibili a complessità polinomiale [Assegnamento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Algoritmi ammissibili a complessità pseudo polinomiali [Knapsack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. Algoritmi ammissibili a complessità non polinomiale [TSP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. Algoritmi approssimati a complessità polinomiale [Knapsack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. Algoritmi euristici [Knapsack, TSP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biettivo del co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udiare tecniche matematiche che consentono di progettare algoritmi “efficienti” per i problemi di O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he cosa si intende per algoritmo effic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0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Gerarchia di formul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Quando una formulazione è “migliore” di un’altr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un poliedr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formulazione di </a:t>
            </a:r>
            <a:r>
              <a:rPr b="0" i="1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è contenuto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formulazione di </a:t>
            </a:r>
            <a:r>
              <a:rPr b="0" i="1" lang="it-IT" sz="28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diciamo ch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migliore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generale, una gerarchia di formulazioni è costituita da un insieme di poliedr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2" dur="indefinite" restart="never" nodeType="tmRoot">
          <p:childTnLst>
            <p:seq>
              <p:cTn id="3723" dur="indefinite" nodeType="mainSeq">
                <p:childTnLst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8" dur="500"/>
                                        <p:tgtEl>
                                          <p:spTgt spid="2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3" dur="500"/>
                                        <p:tgtEl>
                                          <p:spTgt spid="2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8" dur="500"/>
                                        <p:tgtEl>
                                          <p:spTgt spid="2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fill="hold">
                      <p:stCondLst>
                        <p:cond delay="indefinite"/>
                      </p:stCondLst>
                      <p:childTnLst>
                        <p:par>
                          <p:cTn id="3740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3" dur="500"/>
                                        <p:tgtEl>
                                          <p:spTgt spid="2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8" dur="500"/>
                                        <p:tgtEl>
                                          <p:spTgt spid="2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un problema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knapsac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 il vincolo che l’ogget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uò essere scelto se e solo se nella bisaccia sono stati scelti gli oggett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mulazione 1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mulazione 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1" name=""/>
              <p:cNvSpPr txBox="1"/>
              <p:nvPr/>
            </p:nvSpPr>
            <p:spPr>
              <a:xfrm>
                <a:off x="838080" y="3200400"/>
                <a:ext cx="200196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2" name=""/>
              <p:cNvSpPr txBox="1"/>
              <p:nvPr/>
            </p:nvSpPr>
            <p:spPr>
              <a:xfrm>
                <a:off x="4416480" y="3200400"/>
                <a:ext cx="279252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rilassamento lineare della formulazione 1 è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iglior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la formulazione 2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fatti, il vinco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implicato dai vinco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762120" y="3809880"/>
                <a:ext cx="15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762120" y="2590920"/>
                <a:ext cx="2747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97" name=""/>
          <p:cNvSpPr/>
          <p:nvPr/>
        </p:nvSpPr>
        <p:spPr>
          <a:xfrm>
            <a:off x="669960" y="5029200"/>
            <a:ext cx="2328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indi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 ide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formulazione del problema di knapsack NON è una formulazione idea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istono casi “fortunati” in cui la formulazione coincide con la formulazione ideal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no in grado di “caratterizzare” le formulazioni ideali in modo da riconoscerle in tempo polinomiale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9" dur="indefinite" restart="never" nodeType="tmRoot">
          <p:childTnLst>
            <p:seq>
              <p:cTn id="3750" dur="indefinite" nodeType="mainSeq">
                <p:childTnLst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5" dur="500"/>
                                        <p:tgtEl>
                                          <p:spTgt spid="2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0" dur="500"/>
                                        <p:tgtEl>
                                          <p:spTgt spid="2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5" dur="500"/>
                                        <p:tgtEl>
                                          <p:spTgt spid="2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500"/>
                                        <p:tgtEl>
                                          <p:spTgt spid="2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aso “fortuna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1" name=""/>
          <p:cNvSpPr/>
          <p:nvPr/>
        </p:nvSpPr>
        <p:spPr>
          <a:xfrm>
            <a:off x="685800" y="1197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il seguente problema di PL in forma standard, in cu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a matrice inter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vettore inter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 rg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l problema ammette soluzione ottima finita, allora il metodo del simplesso restituisce la soluzione ottima  in corrispondenza di una SBA del tip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2" name=""/>
              <p:cNvSpPr txBox="1"/>
              <p:nvPr/>
            </p:nvSpPr>
            <p:spPr>
              <a:xfrm>
                <a:off x="2919240" y="5445000"/>
                <a:ext cx="23734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1" dur="indefinite" restart="never" nodeType="tmRoot">
          <p:childTnLst>
            <p:seq>
              <p:cTn id="3772" dur="indefinite" nodeType="mainSeq">
                <p:childTnLst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7" dur="500"/>
                                        <p:tgtEl>
                                          <p:spTgt spid="2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fill="hold">
                      <p:stCondLst>
                        <p:cond delay="indefinite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2" dur="500"/>
                                        <p:tgtEl>
                                          <p:spTgt spid="2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7" dur="500"/>
                                        <p:tgtEl>
                                          <p:spTgt spid="2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2" dur="500"/>
                                        <p:tgtEl>
                                          <p:spTgt spid="2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7" dur="500"/>
                                        <p:tgtEl>
                                          <p:spTgt spid="2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2" dur="500"/>
                                        <p:tgtEl>
                                          <p:spTgt spid="2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7" dur="500"/>
                                        <p:tgtEl>
                                          <p:spTgt spid="2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fill="hold">
                      <p:stCondLst>
                        <p:cond delay="indefinite"/>
                      </p:stCondLst>
                      <p:childTnLst>
                        <p:par>
                          <p:cTn id="3809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aso “fortunato”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la base ottim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ha determinante det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=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, allora  RL ha una soluzione inter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fatti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042920" y="3262320"/>
                <a:ext cx="41846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  <m:e>
                                      <m:r>
                                        <m:t xml:space="preserve">⋱</m:t>
                                      </m:r>
                                    </m:e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m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3933720" y="3645000"/>
            <a:ext cx="4806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una matrice 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onenti intere c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740680" y="544500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i della matrice aggiun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2" dur="indefinite" restart="never" nodeType="tmRoot">
          <p:childTnLst>
            <p:seq>
              <p:cTn id="3813" dur="indefinite" nodeType="mainSeq">
                <p:childTnLst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8" dur="500"/>
                                        <p:tgtEl>
                                          <p:spTgt spid="2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3" dur="500"/>
                                        <p:tgtEl>
                                          <p:spTgt spid="2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8" dur="500"/>
                                        <p:tgtEl>
                                          <p:spTgt spid="2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3" dur="500"/>
                                        <p:tgtEl>
                                          <p:spTgt spid="2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atrici unimodula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a matric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ter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si dice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unimodular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ogni sua sottomatric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di dimension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ha det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= {-1, 0, +1}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ll’osservazione precedente si ha ch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or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a matrice unimodulare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vettore intero, il poliedr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0} è intero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ora il rilassamento lineare di una formulazione di PL-{0,1}.  In generale, sarà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atrici totalmente unimodula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2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0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[la matric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ntiene i vincol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≥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portare questo problema in forma standard bisogna inserire le variabili di slack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’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, 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a  matrice di base d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). Essa può essere sempre scritta (attraverso opportune permutazioni di righe e colonne) nella forma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2" name=""/>
              <p:cNvSpPr txBox="1"/>
              <p:nvPr/>
            </p:nvSpPr>
            <p:spPr>
              <a:xfrm>
                <a:off x="2581200" y="5300640"/>
                <a:ext cx="1270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atrici totalmente unimodula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generale, la matric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arà  di ordin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0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≤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h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≤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e la matric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arà di ordine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ra, det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= (+/-) det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Pertanto, [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] è unimodulare solo se det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= {-1, 0, +1} per ogni sottomatric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ordine qualunque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matrice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dic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TOTALMENTE UNIMODULARE (TU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ogni sottomatrice quadrata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ha determinante {0, +1, -1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oprietà delle matrici 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matric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TU se e solo 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matrice traspost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T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matrice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è 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92280" y="134100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offman-Kruskal [1956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a matrice intera. Il poliedr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to d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0 è inter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 ogni vettore int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e e solo 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T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Atten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teorema non vale 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{x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x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}. Difatt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ò essere intero m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n è TU. Esempi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17" name=""/>
          <p:cNvGraphicFramePr/>
          <p:nvPr/>
        </p:nvGraphicFramePr>
        <p:xfrm>
          <a:off x="3124080" y="4876920"/>
          <a:ext cx="2362320" cy="136656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biettivo del co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odellare problemi decisionali derivanti da applicazioni del mondo industriale come problemi di ottimizz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ndizioni per la 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9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85800" y="12193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A è TU, allor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-1, 0, 1}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ore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è TU 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-1, 0, 1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ni colonna ha al più due coefficienti non nul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iste una partizione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dell’insieme delle righ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le che ogni colonna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tenente due coefficienti non nulli soddisf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1" name=""/>
              <p:cNvSpPr txBox="1"/>
              <p:nvPr/>
            </p:nvSpPr>
            <p:spPr>
              <a:xfrm>
                <a:off x="2743200" y="5410080"/>
                <a:ext cx="312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fill="hold">
                      <p:stCondLst>
                        <p:cond delay="indefinite"/>
                      </p:stCondLst>
                      <p:childTnLst>
                        <p:par>
                          <p:cTn id="3841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4" dur="500"/>
                                        <p:tgtEl>
                                          <p:spTgt spid="2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9" dur="500"/>
                                        <p:tgtEl>
                                          <p:spTgt spid="2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4" dur="500"/>
                                        <p:tgtEl>
                                          <p:spTgt spid="2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9" dur="500"/>
                                        <p:tgtEl>
                                          <p:spTgt spid="2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4" dur="500"/>
                                        <p:tgtEl>
                                          <p:spTgt spid="2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9" dur="500"/>
                                        <p:tgtEl>
                                          <p:spTgt spid="2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4" dur="500"/>
                                        <p:tgtEl>
                                          <p:spTgt spid="2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9" dur="500"/>
                                        <p:tgtEl>
                                          <p:spTgt spid="2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fill="hold">
                      <p:stCondLst>
                        <p:cond delay="indefinite"/>
                      </p:stCondLst>
                      <p:childTnLst>
                        <p:par>
                          <p:cTn id="3881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4" dur="500"/>
                                        <p:tgtEl>
                                          <p:spTgt spid="2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9" dur="500"/>
                                        <p:tgtEl>
                                          <p:spTgt spid="28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4" dur="500"/>
                                        <p:tgtEl>
                                          <p:spTgt spid="28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3" name=""/>
          <p:cNvSpPr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upponiamo ch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n sia TU e 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a più piccola sottomatrice quadrata per cui det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{-1, 0, 1}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ra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ha almeno 2 elementi non nulli per colonna (altrimenti non sarebbe minimal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indi, data la partizione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, posso sommare le righe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 sottrarre le righe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ottenendo il vettore nu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ò implica ch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singolare, i.e. det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=0, contraddizion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9" dur="indefinite" restart="never" nodeType="tmRoot">
          <p:childTnLst>
            <p:seq>
              <p:cTn id="3900" dur="indefinite" nodeType="mainSeq">
                <p:childTnLst>
                  <p:par>
                    <p:cTn id="3901" fill="hold">
                      <p:stCondLst>
                        <p:cond delay="indefinite"/>
                      </p:stCondLst>
                      <p:childTnLst>
                        <p:par>
                          <p:cTn id="3902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5" dur="500"/>
                                        <p:tgtEl>
                                          <p:spTgt spid="2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0" dur="500"/>
                                        <p:tgtEl>
                                          <p:spTgt spid="2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5" dur="500"/>
                                        <p:tgtEl>
                                          <p:spTgt spid="2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0" dur="500"/>
                                        <p:tgtEl>
                                          <p:spTgt spid="2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5" dur="500"/>
                                        <p:tgtEl>
                                          <p:spTgt spid="2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 di matrici 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5" name=""/>
          <p:cNvSpPr/>
          <p:nvPr/>
        </p:nvSpPr>
        <p:spPr>
          <a:xfrm>
            <a:off x="663120" y="12682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G (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) grafo diret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14300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0574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3526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35268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32" name=""/>
          <p:cNvCxnSpPr>
            <a:stCxn id="2826" idx="5"/>
            <a:endCxn id="2828" idx="1"/>
          </p:cNvCxnSpPr>
          <p:nvPr/>
        </p:nvCxnSpPr>
        <p:spPr>
          <a:xfrm>
            <a:off x="1337760" y="2937960"/>
            <a:ext cx="75348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3" name=""/>
          <p:cNvCxnSpPr>
            <a:stCxn id="2826" idx="7"/>
            <a:endCxn id="2827" idx="2"/>
          </p:cNvCxnSpPr>
          <p:nvPr/>
        </p:nvCxnSpPr>
        <p:spPr>
          <a:xfrm flipV="1">
            <a:off x="1338120" y="2095200"/>
            <a:ext cx="720000" cy="681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4" name=""/>
          <p:cNvCxnSpPr>
            <a:stCxn id="2827" idx="6"/>
            <a:endCxn id="2829" idx="2"/>
          </p:cNvCxnSpPr>
          <p:nvPr/>
        </p:nvCxnSpPr>
        <p:spPr>
          <a:xfrm>
            <a:off x="2285640" y="2095200"/>
            <a:ext cx="1067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5" name=""/>
          <p:cNvCxnSpPr>
            <a:stCxn id="2829" idx="6"/>
            <a:endCxn id="2831" idx="1"/>
          </p:cNvCxnSpPr>
          <p:nvPr/>
        </p:nvCxnSpPr>
        <p:spPr>
          <a:xfrm>
            <a:off x="3581280" y="2095560"/>
            <a:ext cx="796320" cy="681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6" name=""/>
          <p:cNvCxnSpPr>
            <a:stCxn id="2827" idx="5"/>
            <a:endCxn id="2830" idx="1"/>
          </p:cNvCxnSpPr>
          <p:nvPr/>
        </p:nvCxnSpPr>
        <p:spPr>
          <a:xfrm>
            <a:off x="2252160" y="2176200"/>
            <a:ext cx="1134360" cy="15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7" name=""/>
          <p:cNvCxnSpPr>
            <a:stCxn id="2828" idx="7"/>
            <a:endCxn id="2829" idx="3"/>
          </p:cNvCxnSpPr>
          <p:nvPr/>
        </p:nvCxnSpPr>
        <p:spPr>
          <a:xfrm flipV="1">
            <a:off x="2252160" y="2175840"/>
            <a:ext cx="1134360" cy="15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8" name=""/>
          <p:cNvCxnSpPr>
            <a:stCxn id="2828" idx="6"/>
            <a:endCxn id="2830" idx="2"/>
          </p:cNvCxnSpPr>
          <p:nvPr/>
        </p:nvCxnSpPr>
        <p:spPr>
          <a:xfrm>
            <a:off x="2285640" y="3771720"/>
            <a:ext cx="1067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39" name=""/>
          <p:cNvCxnSpPr>
            <a:stCxn id="2830" idx="7"/>
            <a:endCxn id="2831" idx="3"/>
          </p:cNvCxnSpPr>
          <p:nvPr/>
        </p:nvCxnSpPr>
        <p:spPr>
          <a:xfrm flipV="1">
            <a:off x="3548160" y="2937600"/>
            <a:ext cx="82944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40" name=""/>
          <p:cNvCxnSpPr>
            <a:stCxn id="2829" idx="4"/>
            <a:endCxn id="2830" idx="0"/>
          </p:cNvCxnSpPr>
          <p:nvPr/>
        </p:nvCxnSpPr>
        <p:spPr>
          <a:xfrm>
            <a:off x="3466800" y="2209680"/>
            <a:ext cx="108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cxnSp>
        <p:nvCxnSpPr>
          <p:cNvPr id="2841" name=""/>
          <p:cNvCxnSpPr>
            <a:stCxn id="2828" idx="0"/>
            <a:endCxn id="2827" idx="4"/>
          </p:cNvCxnSpPr>
          <p:nvPr/>
        </p:nvCxnSpPr>
        <p:spPr>
          <a:xfrm flipV="1">
            <a:off x="2171520" y="2209320"/>
            <a:ext cx="108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arrow" w="lg"/>
          </a:ln>
        </p:spPr>
      </p:cxnSp>
      <p:sp>
        <p:nvSpPr>
          <p:cNvPr id="2842" name=""/>
          <p:cNvSpPr/>
          <p:nvPr/>
        </p:nvSpPr>
        <p:spPr>
          <a:xfrm>
            <a:off x="1368360" y="2117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441080" y="3184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89180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574720" y="17524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795840" y="20415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495160" y="37180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418840" y="2209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424600" y="326088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410280" y="26668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948120" y="31845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835920" y="2651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037600" y="1600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3333240" y="1600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978920" y="387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274560" y="387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4552200" y="2666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58" name=""/>
          <p:cNvGraphicFramePr/>
          <p:nvPr/>
        </p:nvGraphicFramePr>
        <p:xfrm>
          <a:off x="4495680" y="3481560"/>
          <a:ext cx="4267440" cy="2766960"/>
        </p:xfrm>
        <a:graphic>
          <a:graphicData uri="http://schemas.openxmlformats.org/drawingml/2006/table">
            <a:tbl>
              <a:tblPr/>
              <a:tblGrid>
                <a:gridCol w="387360"/>
                <a:gridCol w="389160"/>
                <a:gridCol w="387360"/>
                <a:gridCol w="385560"/>
                <a:gridCol w="390600"/>
                <a:gridCol w="387360"/>
                <a:gridCol w="390600"/>
                <a:gridCol w="385560"/>
                <a:gridCol w="387360"/>
                <a:gridCol w="389160"/>
                <a:gridCol w="38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9" name=""/>
          <p:cNvSpPr/>
          <p:nvPr/>
        </p:nvSpPr>
        <p:spPr>
          <a:xfrm>
            <a:off x="582480" y="4729320"/>
            <a:ext cx="307512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Monotype Corsiva"/>
              </a:rPr>
              <a:t>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Matrice di incidenz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nodi-arch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 del problema di cammino mini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1" name=""/>
          <p:cNvSpPr/>
          <p:nvPr/>
        </p:nvSpPr>
        <p:spPr>
          <a:xfrm>
            <a:off x="671040" y="1243080"/>
            <a:ext cx="64159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at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grafo diretto, due nod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, vettor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|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|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1447920" y="2233440"/>
                <a:ext cx="6476760" cy="355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per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per ogni 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</m:nary>
                        <m:r>
                          <m:t xml:space="preserve">{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eqAr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ammino mini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914400" y="1795320"/>
                <a:ext cx="2668680" cy="422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5" name=""/>
          <p:cNvSpPr/>
          <p:nvPr/>
        </p:nvSpPr>
        <p:spPr>
          <a:xfrm rot="20694600">
            <a:off x="609120" y="5715000"/>
            <a:ext cx="2133720" cy="152280"/>
          </a:xfrm>
          <a:prstGeom prst="parallelogram">
            <a:avLst>
              <a:gd name="adj" fmla="val 1375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581280" y="3216240"/>
            <a:ext cx="4953240" cy="901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stipula di interezza può ess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mossa in quanto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TU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atrice di incidenza di grafi biparti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8" name=""/>
          <p:cNvSpPr/>
          <p:nvPr/>
        </p:nvSpPr>
        <p:spPr>
          <a:xfrm>
            <a:off x="106668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066680" y="2590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06668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438280" y="175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73" name=""/>
          <p:cNvCxnSpPr>
            <a:stCxn id="2868" idx="6"/>
            <a:endCxn id="2871" idx="2"/>
          </p:cNvCxnSpPr>
          <p:nvPr/>
        </p:nvCxnSpPr>
        <p:spPr>
          <a:xfrm>
            <a:off x="1294920" y="1561680"/>
            <a:ext cx="1143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4" name=""/>
          <p:cNvCxnSpPr>
            <a:stCxn id="2869" idx="6"/>
            <a:endCxn id="2871" idx="2"/>
          </p:cNvCxnSpPr>
          <p:nvPr/>
        </p:nvCxnSpPr>
        <p:spPr>
          <a:xfrm flipV="1">
            <a:off x="1294920" y="1866600"/>
            <a:ext cx="11437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5" name=""/>
          <p:cNvCxnSpPr>
            <a:stCxn id="2869" idx="6"/>
            <a:endCxn id="2872" idx="2"/>
          </p:cNvCxnSpPr>
          <p:nvPr/>
        </p:nvCxnSpPr>
        <p:spPr>
          <a:xfrm>
            <a:off x="1294920" y="2704680"/>
            <a:ext cx="1143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6" name=""/>
          <p:cNvCxnSpPr>
            <a:stCxn id="2870" idx="6"/>
            <a:endCxn id="2872" idx="3"/>
          </p:cNvCxnSpPr>
          <p:nvPr/>
        </p:nvCxnSpPr>
        <p:spPr>
          <a:xfrm flipV="1">
            <a:off x="1295280" y="3014280"/>
            <a:ext cx="1177200" cy="75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7" name=""/>
          <p:cNvCxnSpPr>
            <a:stCxn id="2870" idx="6"/>
            <a:endCxn id="2871" idx="2"/>
          </p:cNvCxnSpPr>
          <p:nvPr/>
        </p:nvCxnSpPr>
        <p:spPr>
          <a:xfrm flipV="1">
            <a:off x="1294920" y="1866600"/>
            <a:ext cx="114372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2878" name=""/>
          <p:cNvGraphicFramePr/>
          <p:nvPr/>
        </p:nvGraphicFramePr>
        <p:xfrm>
          <a:off x="4208400" y="1600200"/>
          <a:ext cx="3124440" cy="2733480"/>
        </p:xfrm>
        <a:graphic>
          <a:graphicData uri="http://schemas.openxmlformats.org/drawingml/2006/table">
            <a:tbl>
              <a:tblPr/>
              <a:tblGrid>
                <a:gridCol w="520920"/>
                <a:gridCol w="520560"/>
                <a:gridCol w="520920"/>
                <a:gridCol w="520560"/>
                <a:gridCol w="520560"/>
                <a:gridCol w="52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9" name=""/>
          <p:cNvSpPr/>
          <p:nvPr/>
        </p:nvSpPr>
        <p:spPr>
          <a:xfrm>
            <a:off x="3751200" y="2048040"/>
            <a:ext cx="39625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598920" y="3419640"/>
            <a:ext cx="3962520" cy="9144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59960" y="1371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59960" y="2498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759960" y="3625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593440" y="1660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593440" y="272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120120" y="3733920"/>
            <a:ext cx="47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7768440" y="2581200"/>
            <a:ext cx="47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749240" y="1371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575000" y="19810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371240" y="272736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153080" y="3200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1807920" y="3276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639720" y="4937040"/>
            <a:ext cx="8520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serciz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li problemi di OC noti ammettono una formulazione avente com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trice dei coefficienti la matrice di incidenza di un grafo bipartito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atrici di inciden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utte le matrici di incidenza sono TU 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NO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6" name=""/>
          <p:cNvSpPr/>
          <p:nvPr/>
        </p:nvSpPr>
        <p:spPr>
          <a:xfrm>
            <a:off x="1219320" y="3429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266688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4382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99" name=""/>
          <p:cNvCxnSpPr>
            <a:stCxn id="2896" idx="6"/>
            <a:endCxn id="2898" idx="2"/>
          </p:cNvCxnSpPr>
          <p:nvPr/>
        </p:nvCxnSpPr>
        <p:spPr>
          <a:xfrm>
            <a:off x="1447560" y="3543480"/>
            <a:ext cx="99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0" name=""/>
          <p:cNvCxnSpPr>
            <a:stCxn id="2896" idx="6"/>
            <a:endCxn id="2897" idx="2"/>
          </p:cNvCxnSpPr>
          <p:nvPr/>
        </p:nvCxnSpPr>
        <p:spPr>
          <a:xfrm flipV="1">
            <a:off x="1447920" y="3314160"/>
            <a:ext cx="1219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1" name=""/>
          <p:cNvCxnSpPr>
            <a:stCxn id="2897" idx="4"/>
            <a:endCxn id="2898" idx="0"/>
          </p:cNvCxnSpPr>
          <p:nvPr/>
        </p:nvCxnSpPr>
        <p:spPr>
          <a:xfrm flipH="1">
            <a:off x="2552040" y="342900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2" name=""/>
          <p:cNvSpPr/>
          <p:nvPr/>
        </p:nvSpPr>
        <p:spPr>
          <a:xfrm>
            <a:off x="818640" y="350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283840" y="4556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95200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05" name=""/>
          <p:cNvGraphicFramePr/>
          <p:nvPr/>
        </p:nvGraphicFramePr>
        <p:xfrm>
          <a:off x="4114800" y="3606840"/>
          <a:ext cx="2590920" cy="203184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7640"/>
                <a:gridCol w="648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6" name=""/>
          <p:cNvSpPr/>
          <p:nvPr/>
        </p:nvSpPr>
        <p:spPr>
          <a:xfrm>
            <a:off x="1812960" y="3032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669680" y="38703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571480" y="3886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arte I: </a:t>
            </a:r>
            <a:br>
              <a:rPr sz="2800"/>
            </a:b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nsiemi indipendenti </a:t>
            </a:r>
            <a:br>
              <a:rPr sz="2800"/>
            </a:b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 coperture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(I Teoremi di Berge, K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önig e Galla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omm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mulazioni ed esemp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siemi indipendenti in un graf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ieme sta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bbin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perture in un graf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ieme trasvers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dge-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suguaglianze duali debo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Teorema di K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ö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i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Teorema di Ber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Teorema di Gall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goritmo per il mat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3812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pplic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getto di servizi logisti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getto di una rete di trasmissione radiotelevisi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Gestione del servizio di trasporto urbano per handicappa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ianificazione della produ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Gestione delle partenze e degli arrivi in un aeropor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ba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1. Il ballo (Berg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una festa sono present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gazzi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gazz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ni ragazzo scopre che sono present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e fidanzate, ogni ragazza scopre che sono present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oi fidanzati (k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, k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possibile far ballare ciascun ragazzo con una delle sue fidanzate e ciascuna ragazza con uno dei suoi fidanzati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438280" y="2514600"/>
            <a:ext cx="4038840" cy="3352320"/>
            <a:chOff x="2438280" y="2514600"/>
            <a:chExt cx="4038840" cy="3352320"/>
          </a:xfrm>
        </p:grpSpPr>
        <p:grpSp>
          <p:nvGrpSpPr>
            <p:cNvPr id="354" name=""/>
            <p:cNvGrpSpPr/>
            <p:nvPr/>
          </p:nvGrpSpPr>
          <p:grpSpPr>
            <a:xfrm>
              <a:off x="2438280" y="2514600"/>
              <a:ext cx="1143000" cy="3352320"/>
              <a:chOff x="2438280" y="2514600"/>
              <a:chExt cx="1143000" cy="3352320"/>
            </a:xfrm>
          </p:grpSpPr>
          <p:sp>
            <p:nvSpPr>
              <p:cNvPr id="355" name=""/>
              <p:cNvSpPr/>
              <p:nvPr/>
            </p:nvSpPr>
            <p:spPr>
              <a:xfrm>
                <a:off x="2438280" y="2514600"/>
                <a:ext cx="114300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40458c"/>
                    </a:solidFill>
                    <a:latin typeface="Tahoma"/>
                  </a:rPr>
                  <a:t>Alberto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8280" y="3504960"/>
                <a:ext cx="1143000" cy="38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40458c"/>
                    </a:solidFill>
                    <a:latin typeface="Tahoma"/>
                  </a:rPr>
                  <a:t>Bruno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38280" y="4495680"/>
                <a:ext cx="1143000" cy="38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40458c"/>
                    </a:solidFill>
                    <a:latin typeface="Tahoma"/>
                  </a:rPr>
                  <a:t>Claudio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38280" y="5486040"/>
                <a:ext cx="114300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40458c"/>
                    </a:solidFill>
                    <a:latin typeface="Tahoma"/>
                  </a:rPr>
                  <a:t>David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34120" y="2514600"/>
              <a:ext cx="1143000" cy="3352320"/>
              <a:chOff x="5334120" y="2514600"/>
              <a:chExt cx="1143000" cy="33523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34120" y="2514600"/>
                <a:ext cx="114300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3399"/>
                    </a:solidFill>
                    <a:latin typeface="Tahoma"/>
                  </a:rPr>
                  <a:t>Ann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34120" y="3504960"/>
                <a:ext cx="1143000" cy="38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3399"/>
                    </a:solidFill>
                    <a:latin typeface="Tahoma"/>
                  </a:rPr>
                  <a:t>Bic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4120" y="4495680"/>
                <a:ext cx="1143000" cy="38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3399"/>
                    </a:solidFill>
                    <a:latin typeface="Tahoma"/>
                  </a:rPr>
                  <a:t>Carl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4120" y="5486040"/>
                <a:ext cx="114300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3399"/>
                    </a:solidFill>
                    <a:latin typeface="Tahoma"/>
                  </a:rPr>
                  <a:t>Daniel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3580920" y="2704680"/>
            <a:ext cx="1753200" cy="1981440"/>
            <a:chOff x="3580920" y="2704680"/>
            <a:chExt cx="1753200" cy="1981440"/>
          </a:xfrm>
        </p:grpSpPr>
        <p:cxnSp>
          <p:nvCxnSpPr>
            <p:cNvPr id="365" name=""/>
            <p:cNvCxnSpPr>
              <a:stCxn id="355" idx="6"/>
              <a:endCxn id="361" idx="2"/>
            </p:cNvCxnSpPr>
            <p:nvPr/>
          </p:nvCxnSpPr>
          <p:spPr>
            <a:xfrm>
              <a:off x="3580920" y="2704680"/>
              <a:ext cx="1753560" cy="99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66" name=""/>
            <p:cNvCxnSpPr>
              <a:stCxn id="355" idx="6"/>
              <a:endCxn id="360" idx="2"/>
            </p:cNvCxnSpPr>
            <p:nvPr/>
          </p:nvCxnSpPr>
          <p:spPr>
            <a:xfrm>
              <a:off x="3580920" y="2704680"/>
              <a:ext cx="175356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67" name=""/>
            <p:cNvCxnSpPr>
              <a:stCxn id="355" idx="6"/>
              <a:endCxn id="362" idx="2"/>
            </p:cNvCxnSpPr>
            <p:nvPr/>
          </p:nvCxnSpPr>
          <p:spPr>
            <a:xfrm>
              <a:off x="3580920" y="2704680"/>
              <a:ext cx="1753560" cy="1981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368" name=""/>
          <p:cNvGrpSpPr/>
          <p:nvPr/>
        </p:nvGrpSpPr>
        <p:grpSpPr>
          <a:xfrm>
            <a:off x="3580920" y="2704320"/>
            <a:ext cx="1753200" cy="2972880"/>
            <a:chOff x="3580920" y="2704320"/>
            <a:chExt cx="1753200" cy="2972880"/>
          </a:xfrm>
        </p:grpSpPr>
        <p:cxnSp>
          <p:nvCxnSpPr>
            <p:cNvPr id="369" name=""/>
            <p:cNvCxnSpPr>
              <a:stCxn id="357" idx="6"/>
              <a:endCxn id="362" idx="2"/>
            </p:cNvCxnSpPr>
            <p:nvPr/>
          </p:nvCxnSpPr>
          <p:spPr>
            <a:xfrm>
              <a:off x="3580920" y="4685760"/>
              <a:ext cx="175356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70" name=""/>
            <p:cNvCxnSpPr>
              <a:stCxn id="357" idx="6"/>
              <a:endCxn id="360" idx="2"/>
            </p:cNvCxnSpPr>
            <p:nvPr/>
          </p:nvCxnSpPr>
          <p:spPr>
            <a:xfrm flipV="1">
              <a:off x="3580920" y="2704320"/>
              <a:ext cx="1753560" cy="1981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71" name=""/>
            <p:cNvCxnSpPr>
              <a:stCxn id="357" idx="6"/>
              <a:endCxn id="363" idx="2"/>
            </p:cNvCxnSpPr>
            <p:nvPr/>
          </p:nvCxnSpPr>
          <p:spPr>
            <a:xfrm>
              <a:off x="3580920" y="4686120"/>
              <a:ext cx="1753560" cy="99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372" name=""/>
          <p:cNvGrpSpPr/>
          <p:nvPr/>
        </p:nvGrpSpPr>
        <p:grpSpPr>
          <a:xfrm>
            <a:off x="3580920" y="3695040"/>
            <a:ext cx="1753200" cy="1982160"/>
            <a:chOff x="3580920" y="3695040"/>
            <a:chExt cx="1753200" cy="1982160"/>
          </a:xfrm>
        </p:grpSpPr>
        <p:cxnSp>
          <p:nvCxnSpPr>
            <p:cNvPr id="373" name=""/>
            <p:cNvCxnSpPr>
              <a:stCxn id="358" idx="6"/>
              <a:endCxn id="362" idx="2"/>
            </p:cNvCxnSpPr>
            <p:nvPr/>
          </p:nvCxnSpPr>
          <p:spPr>
            <a:xfrm flipV="1">
              <a:off x="3580920" y="4685400"/>
              <a:ext cx="1753560" cy="99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74" name=""/>
            <p:cNvCxnSpPr>
              <a:stCxn id="358" idx="6"/>
              <a:endCxn id="361" idx="2"/>
            </p:cNvCxnSpPr>
            <p:nvPr/>
          </p:nvCxnSpPr>
          <p:spPr>
            <a:xfrm flipV="1">
              <a:off x="3580920" y="3695040"/>
              <a:ext cx="1753560" cy="1981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75" name=""/>
            <p:cNvCxnSpPr>
              <a:stCxn id="358" idx="6"/>
              <a:endCxn id="363" idx="2"/>
            </p:cNvCxnSpPr>
            <p:nvPr/>
          </p:nvCxnSpPr>
          <p:spPr>
            <a:xfrm>
              <a:off x="3580920" y="5676480"/>
              <a:ext cx="175356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376" name=""/>
          <p:cNvSpPr/>
          <p:nvPr/>
        </p:nvSpPr>
        <p:spPr>
          <a:xfrm>
            <a:off x="662040" y="144792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ballo.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 ragazzi/e con  3 fidanzati/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80920" y="2714400"/>
            <a:ext cx="1753200" cy="2972160"/>
            <a:chOff x="3580920" y="2714400"/>
            <a:chExt cx="1753200" cy="2972160"/>
          </a:xfrm>
        </p:grpSpPr>
        <p:cxnSp>
          <p:nvCxnSpPr>
            <p:cNvPr id="378" name=""/>
            <p:cNvCxnSpPr/>
            <p:nvPr/>
          </p:nvCxnSpPr>
          <p:spPr>
            <a:xfrm>
              <a:off x="3580920" y="2714760"/>
              <a:ext cx="1753560" cy="99144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379" name=""/>
            <p:cNvCxnSpPr/>
            <p:nvPr/>
          </p:nvCxnSpPr>
          <p:spPr>
            <a:xfrm flipV="1">
              <a:off x="3580920" y="4695480"/>
              <a:ext cx="1753560" cy="99108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380" name=""/>
            <p:cNvCxnSpPr/>
            <p:nvPr/>
          </p:nvCxnSpPr>
          <p:spPr>
            <a:xfrm flipV="1">
              <a:off x="3580920" y="2714400"/>
              <a:ext cx="1753560" cy="198216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381" name=""/>
            <p:cNvCxnSpPr/>
            <p:nvPr/>
          </p:nvCxnSpPr>
          <p:spPr>
            <a:xfrm>
              <a:off x="3580920" y="3705120"/>
              <a:ext cx="1753560" cy="19818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grpSp>
        <p:nvGrpSpPr>
          <p:cNvPr id="382" name=""/>
          <p:cNvGrpSpPr/>
          <p:nvPr/>
        </p:nvGrpSpPr>
        <p:grpSpPr>
          <a:xfrm>
            <a:off x="3580920" y="2704320"/>
            <a:ext cx="1753200" cy="2972880"/>
            <a:chOff x="3580920" y="2704320"/>
            <a:chExt cx="1753200" cy="2972880"/>
          </a:xfrm>
        </p:grpSpPr>
        <p:cxnSp>
          <p:nvCxnSpPr>
            <p:cNvPr id="383" name=""/>
            <p:cNvCxnSpPr>
              <a:stCxn id="356" idx="6"/>
              <a:endCxn id="361" idx="2"/>
            </p:cNvCxnSpPr>
            <p:nvPr/>
          </p:nvCxnSpPr>
          <p:spPr>
            <a:xfrm>
              <a:off x="3580920" y="3695040"/>
              <a:ext cx="175356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84" name=""/>
            <p:cNvCxnSpPr>
              <a:stCxn id="356" idx="6"/>
              <a:endCxn id="363" idx="2"/>
            </p:cNvCxnSpPr>
            <p:nvPr/>
          </p:nvCxnSpPr>
          <p:spPr>
            <a:xfrm>
              <a:off x="3580920" y="3695400"/>
              <a:ext cx="1753560" cy="198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385" name=""/>
            <p:cNvCxnSpPr>
              <a:stCxn id="356" idx="6"/>
              <a:endCxn id="360" idx="2"/>
            </p:cNvCxnSpPr>
            <p:nvPr/>
          </p:nvCxnSpPr>
          <p:spPr>
            <a:xfrm flipV="1">
              <a:off x="3580920" y="2704320"/>
              <a:ext cx="1753560" cy="99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e tor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2. Le torr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una scacchier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ue torri si “danno scacco” se giacciono sulla stessa riga (colonna) della scacchiera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 è il massimo numero di torri che è possibile disporre sulla scacchiera senza esse si diano scacco reciproco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727560" y="3041640"/>
            <a:ext cx="1911240" cy="2058840"/>
            <a:chOff x="727560" y="3041640"/>
            <a:chExt cx="1911240" cy="2058840"/>
          </a:xfrm>
        </p:grpSpPr>
        <p:sp>
          <p:nvSpPr>
            <p:cNvPr id="389" name=""/>
            <p:cNvSpPr/>
            <p:nvPr/>
          </p:nvSpPr>
          <p:spPr>
            <a:xfrm>
              <a:off x="1064880" y="3519360"/>
              <a:ext cx="380880" cy="3812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46120" y="3519360"/>
              <a:ext cx="3805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7000" y="3519360"/>
              <a:ext cx="380520" cy="3812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07880" y="35193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64880" y="31384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6120" y="3138480"/>
              <a:ext cx="380520" cy="3808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7000" y="3138480"/>
              <a:ext cx="380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07880" y="3138480"/>
              <a:ext cx="380880" cy="3808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4880" y="4281480"/>
              <a:ext cx="380880" cy="3808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6120" y="4281480"/>
              <a:ext cx="380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7000" y="4281480"/>
              <a:ext cx="380520" cy="3808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07880" y="42814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64880" y="39006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46120" y="3900600"/>
              <a:ext cx="380520" cy="3808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27000" y="3900600"/>
              <a:ext cx="380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07880" y="3900600"/>
              <a:ext cx="380880" cy="3808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36880" y="473220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40458c"/>
                  </a:solidFill>
                  <a:latin typeface="Tahoma"/>
                </a:rPr>
                <a:t>A    B    C    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560" y="3041640"/>
              <a:ext cx="31176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69960" y="1474920"/>
            <a:ext cx="80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ue torri si danno scacco se si trovano sulla medesim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ga o colonn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62000" y="3138480"/>
            <a:ext cx="1523880" cy="1523880"/>
            <a:chOff x="1062000" y="3138480"/>
            <a:chExt cx="1523880" cy="1523880"/>
          </a:xfrm>
        </p:grpSpPr>
        <p:sp>
          <p:nvSpPr>
            <p:cNvPr id="410" name=""/>
            <p:cNvSpPr/>
            <p:nvPr/>
          </p:nvSpPr>
          <p:spPr>
            <a:xfrm>
              <a:off x="1281240" y="3138480"/>
              <a:ext cx="0" cy="1523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062000" y="3720600"/>
              <a:ext cx="152388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085760" y="3147840"/>
            <a:ext cx="1524240" cy="1524240"/>
            <a:chOff x="1085760" y="3147840"/>
            <a:chExt cx="1524240" cy="1524240"/>
          </a:xfrm>
        </p:grpSpPr>
        <p:sp>
          <p:nvSpPr>
            <p:cNvPr id="413" name=""/>
            <p:cNvSpPr/>
            <p:nvPr/>
          </p:nvSpPr>
          <p:spPr>
            <a:xfrm>
              <a:off x="1647720" y="3147840"/>
              <a:ext cx="0" cy="1524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085760" y="4459320"/>
              <a:ext cx="1524240" cy="1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066680" y="3138480"/>
            <a:ext cx="1524240" cy="1523880"/>
            <a:chOff x="1066680" y="3138480"/>
            <a:chExt cx="1524240" cy="1523880"/>
          </a:xfrm>
        </p:grpSpPr>
        <p:sp>
          <p:nvSpPr>
            <p:cNvPr id="416" name=""/>
            <p:cNvSpPr/>
            <p:nvPr/>
          </p:nvSpPr>
          <p:spPr>
            <a:xfrm>
              <a:off x="2409840" y="3138480"/>
              <a:ext cx="0" cy="1523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066680" y="4096800"/>
              <a:ext cx="152424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076400" y="3143160"/>
            <a:ext cx="1523880" cy="1524240"/>
            <a:chOff x="1076400" y="3143160"/>
            <a:chExt cx="1523880" cy="1524240"/>
          </a:xfrm>
        </p:grpSpPr>
        <p:sp>
          <p:nvSpPr>
            <p:cNvPr id="419" name=""/>
            <p:cNvSpPr/>
            <p:nvPr/>
          </p:nvSpPr>
          <p:spPr>
            <a:xfrm>
              <a:off x="2028960" y="3143160"/>
              <a:ext cx="0" cy="1524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076400" y="3335400"/>
              <a:ext cx="1523880" cy="1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114800" y="2514600"/>
            <a:ext cx="4038120" cy="3352320"/>
            <a:chOff x="4114800" y="2514600"/>
            <a:chExt cx="4038120" cy="3352320"/>
          </a:xfrm>
        </p:grpSpPr>
        <p:grpSp>
          <p:nvGrpSpPr>
            <p:cNvPr id="422" name=""/>
            <p:cNvGrpSpPr/>
            <p:nvPr/>
          </p:nvGrpSpPr>
          <p:grpSpPr>
            <a:xfrm>
              <a:off x="4114800" y="2514600"/>
              <a:ext cx="4038120" cy="3352320"/>
              <a:chOff x="4114800" y="2514600"/>
              <a:chExt cx="4038120" cy="33523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4114800" y="2514600"/>
                <a:ext cx="1142640" cy="3352320"/>
                <a:chOff x="4114800" y="2514600"/>
                <a:chExt cx="1142640" cy="33523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114800" y="2514600"/>
                  <a:ext cx="114264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A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114800" y="3504960"/>
                  <a:ext cx="114264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B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114800" y="4495680"/>
                  <a:ext cx="114264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C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114800" y="5486040"/>
                  <a:ext cx="114264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D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010280" y="2514600"/>
                <a:ext cx="1142640" cy="3352320"/>
                <a:chOff x="7010280" y="2514600"/>
                <a:chExt cx="1142640" cy="3352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7010280" y="2514600"/>
                  <a:ext cx="114264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010280" y="3504960"/>
                  <a:ext cx="114264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10280" y="4495680"/>
                  <a:ext cx="114264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10280" y="5486040"/>
                  <a:ext cx="114264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40458c"/>
                      </a:solidFill>
                      <a:latin typeface="Tahoma"/>
                    </a:rPr>
                    <a:t>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33" name=""/>
            <p:cNvCxnSpPr/>
            <p:nvPr/>
          </p:nvCxnSpPr>
          <p:spPr>
            <a:xfrm>
              <a:off x="5257800" y="2705040"/>
              <a:ext cx="1753200" cy="99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34" name=""/>
            <p:cNvCxnSpPr/>
            <p:nvPr/>
          </p:nvCxnSpPr>
          <p:spPr>
            <a:xfrm>
              <a:off x="5257800" y="2704680"/>
              <a:ext cx="175320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35" name=""/>
            <p:cNvCxnSpPr/>
            <p:nvPr/>
          </p:nvCxnSpPr>
          <p:spPr>
            <a:xfrm>
              <a:off x="5257800" y="2705040"/>
              <a:ext cx="1753200" cy="198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grpSp>
          <p:nvGrpSpPr>
            <p:cNvPr id="436" name=""/>
            <p:cNvGrpSpPr/>
            <p:nvPr/>
          </p:nvGrpSpPr>
          <p:grpSpPr>
            <a:xfrm>
              <a:off x="5257800" y="2704320"/>
              <a:ext cx="1752840" cy="2972880"/>
              <a:chOff x="5257800" y="2704320"/>
              <a:chExt cx="1752840" cy="2972880"/>
            </a:xfrm>
          </p:grpSpPr>
          <p:cxnSp>
            <p:nvCxnSpPr>
              <p:cNvPr id="437" name=""/>
              <p:cNvCxnSpPr>
                <a:stCxn id="426" idx="6"/>
                <a:endCxn id="431" idx="2"/>
              </p:cNvCxnSpPr>
              <p:nvPr/>
            </p:nvCxnSpPr>
            <p:spPr>
              <a:xfrm>
                <a:off x="5257800" y="4685760"/>
                <a:ext cx="1753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438" name=""/>
              <p:cNvCxnSpPr>
                <a:stCxn id="426" idx="6"/>
                <a:endCxn id="429" idx="2"/>
              </p:cNvCxnSpPr>
              <p:nvPr/>
            </p:nvCxnSpPr>
            <p:spPr>
              <a:xfrm flipV="1">
                <a:off x="5257800" y="2704320"/>
                <a:ext cx="1753200" cy="19818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439" name=""/>
              <p:cNvCxnSpPr>
                <a:stCxn id="426" idx="6"/>
                <a:endCxn id="432" idx="2"/>
              </p:cNvCxnSpPr>
              <p:nvPr/>
            </p:nvCxnSpPr>
            <p:spPr>
              <a:xfrm>
                <a:off x="5257800" y="4686120"/>
                <a:ext cx="1753200" cy="9914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440" name=""/>
            <p:cNvGrpSpPr/>
            <p:nvPr/>
          </p:nvGrpSpPr>
          <p:grpSpPr>
            <a:xfrm>
              <a:off x="5257800" y="3695040"/>
              <a:ext cx="1752840" cy="1982160"/>
              <a:chOff x="5257800" y="3695040"/>
              <a:chExt cx="1752840" cy="1982160"/>
            </a:xfrm>
          </p:grpSpPr>
          <p:cxnSp>
            <p:nvCxnSpPr>
              <p:cNvPr id="441" name=""/>
              <p:cNvCxnSpPr>
                <a:stCxn id="427" idx="6"/>
                <a:endCxn id="431" idx="2"/>
              </p:cNvCxnSpPr>
              <p:nvPr/>
            </p:nvCxnSpPr>
            <p:spPr>
              <a:xfrm flipV="1">
                <a:off x="5257800" y="4685400"/>
                <a:ext cx="1753200" cy="99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442" name=""/>
              <p:cNvCxnSpPr>
                <a:stCxn id="427" idx="6"/>
                <a:endCxn id="430" idx="2"/>
              </p:cNvCxnSpPr>
              <p:nvPr/>
            </p:nvCxnSpPr>
            <p:spPr>
              <a:xfrm flipV="1">
                <a:off x="5257800" y="3695040"/>
                <a:ext cx="1753200" cy="19818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443" name=""/>
              <p:cNvCxnSpPr>
                <a:stCxn id="427" idx="6"/>
                <a:endCxn id="432" idx="2"/>
              </p:cNvCxnSpPr>
              <p:nvPr/>
            </p:nvCxnSpPr>
            <p:spPr>
              <a:xfrm>
                <a:off x="5257800" y="5676480"/>
                <a:ext cx="1753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cxnSp>
          <p:nvCxnSpPr>
            <p:cNvPr id="444" name=""/>
            <p:cNvCxnSpPr/>
            <p:nvPr/>
          </p:nvCxnSpPr>
          <p:spPr>
            <a:xfrm>
              <a:off x="5257800" y="3695400"/>
              <a:ext cx="175320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45" name=""/>
            <p:cNvCxnSpPr/>
            <p:nvPr/>
          </p:nvCxnSpPr>
          <p:spPr>
            <a:xfrm>
              <a:off x="5257800" y="3695400"/>
              <a:ext cx="1753200" cy="1981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46" name=""/>
            <p:cNvCxnSpPr/>
            <p:nvPr/>
          </p:nvCxnSpPr>
          <p:spPr>
            <a:xfrm flipV="1">
              <a:off x="5257800" y="2704680"/>
              <a:ext cx="1753200" cy="99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47" name=""/>
            <p:cNvCxnSpPr>
              <a:stCxn id="426" idx="6"/>
              <a:endCxn id="430" idx="2"/>
            </p:cNvCxnSpPr>
            <p:nvPr/>
          </p:nvCxnSpPr>
          <p:spPr>
            <a:xfrm flipV="1">
              <a:off x="5257800" y="3695400"/>
              <a:ext cx="1753200" cy="99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48" name=""/>
            <p:cNvCxnSpPr>
              <a:stCxn id="425" idx="6"/>
              <a:endCxn id="431" idx="2"/>
            </p:cNvCxnSpPr>
            <p:nvPr/>
          </p:nvCxnSpPr>
          <p:spPr>
            <a:xfrm>
              <a:off x="5257800" y="3695760"/>
              <a:ext cx="1753200" cy="99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49" name=""/>
            <p:cNvCxnSpPr>
              <a:stCxn id="424" idx="6"/>
              <a:endCxn id="432" idx="2"/>
            </p:cNvCxnSpPr>
            <p:nvPr/>
          </p:nvCxnSpPr>
          <p:spPr>
            <a:xfrm>
              <a:off x="5257800" y="2704680"/>
              <a:ext cx="1753200" cy="297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50" name=""/>
            <p:cNvCxnSpPr>
              <a:stCxn id="427" idx="6"/>
              <a:endCxn id="429" idx="2"/>
            </p:cNvCxnSpPr>
            <p:nvPr/>
          </p:nvCxnSpPr>
          <p:spPr>
            <a:xfrm flipV="1">
              <a:off x="5257800" y="2704320"/>
              <a:ext cx="1753200" cy="297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451" name=""/>
          <p:cNvGrpSpPr/>
          <p:nvPr/>
        </p:nvGrpSpPr>
        <p:grpSpPr>
          <a:xfrm>
            <a:off x="1143000" y="2705040"/>
            <a:ext cx="5867640" cy="1104840"/>
            <a:chOff x="1143000" y="2705040"/>
            <a:chExt cx="5867640" cy="1104840"/>
          </a:xfrm>
        </p:grpSpPr>
        <p:sp>
          <p:nvSpPr>
            <p:cNvPr id="452" name=""/>
            <p:cNvSpPr/>
            <p:nvPr/>
          </p:nvSpPr>
          <p:spPr>
            <a:xfrm>
              <a:off x="1143000" y="358128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53" name=""/>
            <p:cNvCxnSpPr>
              <a:stCxn id="424" idx="6"/>
              <a:endCxn id="430" idx="2"/>
            </p:cNvCxnSpPr>
            <p:nvPr/>
          </p:nvCxnSpPr>
          <p:spPr>
            <a:xfrm>
              <a:off x="5257800" y="2705040"/>
              <a:ext cx="1753200" cy="99144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grpSp>
        <p:nvGrpSpPr>
          <p:cNvPr id="454" name=""/>
          <p:cNvGrpSpPr/>
          <p:nvPr/>
        </p:nvGrpSpPr>
        <p:grpSpPr>
          <a:xfrm>
            <a:off x="2286000" y="3962520"/>
            <a:ext cx="4724640" cy="1713960"/>
            <a:chOff x="2286000" y="3962520"/>
            <a:chExt cx="4724640" cy="1713960"/>
          </a:xfrm>
        </p:grpSpPr>
        <p:sp>
          <p:nvSpPr>
            <p:cNvPr id="455" name=""/>
            <p:cNvSpPr/>
            <p:nvPr/>
          </p:nvSpPr>
          <p:spPr>
            <a:xfrm>
              <a:off x="2286000" y="396252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56" name=""/>
            <p:cNvCxnSpPr>
              <a:stCxn id="427" idx="6"/>
              <a:endCxn id="431" idx="2"/>
            </p:cNvCxnSpPr>
            <p:nvPr/>
          </p:nvCxnSpPr>
          <p:spPr>
            <a:xfrm flipV="1">
              <a:off x="5257800" y="4685760"/>
              <a:ext cx="1753200" cy="99108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grpSp>
        <p:nvGrpSpPr>
          <p:cNvPr id="457" name=""/>
          <p:cNvGrpSpPr/>
          <p:nvPr/>
        </p:nvGrpSpPr>
        <p:grpSpPr>
          <a:xfrm>
            <a:off x="1905120" y="2704680"/>
            <a:ext cx="5105520" cy="1981800"/>
            <a:chOff x="1905120" y="2704680"/>
            <a:chExt cx="5105520" cy="1981800"/>
          </a:xfrm>
        </p:grpSpPr>
        <p:sp>
          <p:nvSpPr>
            <p:cNvPr id="458" name=""/>
            <p:cNvSpPr/>
            <p:nvPr/>
          </p:nvSpPr>
          <p:spPr>
            <a:xfrm>
              <a:off x="1905120" y="32004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59" name=""/>
            <p:cNvCxnSpPr>
              <a:stCxn id="426" idx="6"/>
              <a:endCxn id="429" idx="2"/>
            </p:cNvCxnSpPr>
            <p:nvPr/>
          </p:nvCxnSpPr>
          <p:spPr>
            <a:xfrm flipV="1">
              <a:off x="5257800" y="2704680"/>
              <a:ext cx="1753200" cy="198216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grpSp>
        <p:nvGrpSpPr>
          <p:cNvPr id="460" name=""/>
          <p:cNvGrpSpPr/>
          <p:nvPr/>
        </p:nvGrpSpPr>
        <p:grpSpPr>
          <a:xfrm>
            <a:off x="1523880" y="3695400"/>
            <a:ext cx="5486760" cy="1981440"/>
            <a:chOff x="1523880" y="3695400"/>
            <a:chExt cx="5486760" cy="1981440"/>
          </a:xfrm>
        </p:grpSpPr>
        <p:sp>
          <p:nvSpPr>
            <p:cNvPr id="461" name=""/>
            <p:cNvSpPr/>
            <p:nvPr/>
          </p:nvSpPr>
          <p:spPr>
            <a:xfrm>
              <a:off x="1523880" y="43434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25" idx="6"/>
              <a:endCxn id="432" idx="2"/>
            </p:cNvCxnSpPr>
            <p:nvPr/>
          </p:nvCxnSpPr>
          <p:spPr>
            <a:xfrm>
              <a:off x="5257800" y="3695400"/>
              <a:ext cx="1753200" cy="19818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sp>
        <p:nvSpPr>
          <p:cNvPr id="463" name=""/>
          <p:cNvSpPr/>
          <p:nvPr/>
        </p:nvSpPr>
        <p:spPr>
          <a:xfrm>
            <a:off x="903600" y="534024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Grafo intersezion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ighe-colon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a battaglia d’Inghilterra (194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3. La battaglia d’Inghilterra (Berg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1941 le squadriglie inglesi erano composte da aerei biposto, ma certi piloti non potevano formare una coppia per problemi di lingua o di abitudin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ti i vincoli di incompatibilità tra coppie di piloti, qual è il massimo numero di aerei che è possibile far volare simultaneam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523880" y="2666880"/>
            <a:ext cx="5105160" cy="3048120"/>
            <a:chOff x="1523880" y="2666880"/>
            <a:chExt cx="5105160" cy="3048120"/>
          </a:xfrm>
        </p:grpSpPr>
        <p:sp>
          <p:nvSpPr>
            <p:cNvPr id="467" name=""/>
            <p:cNvSpPr/>
            <p:nvPr/>
          </p:nvSpPr>
          <p:spPr>
            <a:xfrm>
              <a:off x="1523880" y="4038480"/>
              <a:ext cx="114300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Alì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66880" y="3048120"/>
              <a:ext cx="114300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3733920"/>
              <a:ext cx="114300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Charli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4960" y="5029200"/>
              <a:ext cx="114300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avi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8" idx="5"/>
              <a:endCxn id="469" idx="1"/>
            </p:cNvCxnSpPr>
            <p:nvPr/>
          </p:nvCxnSpPr>
          <p:spPr>
            <a:xfrm>
              <a:off x="3642840" y="3373200"/>
              <a:ext cx="562680" cy="41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72" name=""/>
            <p:cNvCxnSpPr>
              <a:stCxn id="467" idx="0"/>
              <a:endCxn id="468" idx="3"/>
            </p:cNvCxnSpPr>
            <p:nvPr/>
          </p:nvCxnSpPr>
          <p:spPr>
            <a:xfrm flipV="1">
              <a:off x="2094840" y="3372840"/>
              <a:ext cx="739080" cy="665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sp>
          <p:nvSpPr>
            <p:cNvPr id="473" name=""/>
            <p:cNvSpPr/>
            <p:nvPr/>
          </p:nvSpPr>
          <p:spPr>
            <a:xfrm>
              <a:off x="5486040" y="2666880"/>
              <a:ext cx="114300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vgenij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5160" y="5334120"/>
              <a:ext cx="114300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ëdo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68" idx="6"/>
              <a:endCxn id="473" idx="2"/>
            </p:cNvCxnSpPr>
            <p:nvPr/>
          </p:nvCxnSpPr>
          <p:spPr>
            <a:xfrm flipV="1">
              <a:off x="3809880" y="2857320"/>
              <a:ext cx="1676880" cy="381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76" name=""/>
            <p:cNvCxnSpPr>
              <a:stCxn id="474" idx="0"/>
              <a:endCxn id="473" idx="4"/>
            </p:cNvCxnSpPr>
            <p:nvPr/>
          </p:nvCxnSpPr>
          <p:spPr>
            <a:xfrm flipV="1">
              <a:off x="5676840" y="3047760"/>
              <a:ext cx="381600" cy="22867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77" name=""/>
            <p:cNvCxnSpPr>
              <a:stCxn id="470" idx="0"/>
              <a:endCxn id="469" idx="4"/>
            </p:cNvCxnSpPr>
            <p:nvPr/>
          </p:nvCxnSpPr>
          <p:spPr>
            <a:xfrm flipV="1">
              <a:off x="4076280" y="4114440"/>
              <a:ext cx="533880" cy="915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78" name=""/>
            <p:cNvCxnSpPr>
              <a:stCxn id="473" idx="3"/>
              <a:endCxn id="469" idx="7"/>
            </p:cNvCxnSpPr>
            <p:nvPr/>
          </p:nvCxnSpPr>
          <p:spPr>
            <a:xfrm flipH="1">
              <a:off x="5014800" y="2992320"/>
              <a:ext cx="638280" cy="797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79" name=""/>
            <p:cNvCxnSpPr>
              <a:stCxn id="474" idx="1"/>
              <a:endCxn id="469" idx="5"/>
            </p:cNvCxnSpPr>
            <p:nvPr/>
          </p:nvCxnSpPr>
          <p:spPr>
            <a:xfrm flipH="1" flipV="1">
              <a:off x="5014440" y="4058640"/>
              <a:ext cx="257760" cy="1330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80" name=""/>
            <p:cNvCxnSpPr>
              <a:stCxn id="467" idx="6"/>
              <a:endCxn id="469" idx="2"/>
            </p:cNvCxnSpPr>
            <p:nvPr/>
          </p:nvCxnSpPr>
          <p:spPr>
            <a:xfrm flipV="1">
              <a:off x="2666880" y="3923640"/>
              <a:ext cx="1372320" cy="305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481" name=""/>
            <p:cNvCxnSpPr>
              <a:stCxn id="470" idx="1"/>
              <a:endCxn id="468" idx="4"/>
            </p:cNvCxnSpPr>
            <p:nvPr/>
          </p:nvCxnSpPr>
          <p:spPr>
            <a:xfrm flipH="1" flipV="1">
              <a:off x="3237840" y="3428280"/>
              <a:ext cx="434160" cy="16563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671400" y="1440000"/>
            <a:ext cx="65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egniamo il </a:t>
            </a:r>
            <a:r>
              <a:rPr b="0" i="1" lang="it-IT" sz="2400" spc="-1" strike="noStrike">
                <a:solidFill>
                  <a:srgbClr val="008000"/>
                </a:solidFill>
                <a:latin typeface="Tahoma"/>
              </a:rPr>
              <a:t>grafo di compatibil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ei piloti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523880" y="3733920"/>
            <a:ext cx="3657600" cy="685800"/>
            <a:chOff x="1523880" y="3733920"/>
            <a:chExt cx="3657600" cy="685800"/>
          </a:xfrm>
        </p:grpSpPr>
        <p:cxnSp>
          <p:nvCxnSpPr>
            <p:cNvPr id="485" name=""/>
            <p:cNvCxnSpPr>
              <a:stCxn id="467" idx="6"/>
              <a:endCxn id="469" idx="2"/>
            </p:cNvCxnSpPr>
            <p:nvPr/>
          </p:nvCxnSpPr>
          <p:spPr>
            <a:xfrm flipV="1">
              <a:off x="2666880" y="3923640"/>
              <a:ext cx="1372320" cy="30564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sp>
          <p:nvSpPr>
            <p:cNvPr id="486" name=""/>
            <p:cNvSpPr/>
            <p:nvPr/>
          </p:nvSpPr>
          <p:spPr>
            <a:xfrm>
              <a:off x="1523880" y="4038480"/>
              <a:ext cx="1143000" cy="3812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Alì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8480" y="3733920"/>
              <a:ext cx="1143000" cy="380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Charli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666880" y="2666880"/>
            <a:ext cx="3962520" cy="762120"/>
            <a:chOff x="2666880" y="2666880"/>
            <a:chExt cx="3962520" cy="762120"/>
          </a:xfrm>
        </p:grpSpPr>
        <p:cxnSp>
          <p:nvCxnSpPr>
            <p:cNvPr id="489" name=""/>
            <p:cNvCxnSpPr>
              <a:stCxn id="468" idx="6"/>
              <a:endCxn id="473" idx="2"/>
            </p:cNvCxnSpPr>
            <p:nvPr/>
          </p:nvCxnSpPr>
          <p:spPr>
            <a:xfrm flipV="1">
              <a:off x="3809520" y="2857320"/>
              <a:ext cx="1677240" cy="3816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sp>
          <p:nvSpPr>
            <p:cNvPr id="490" name=""/>
            <p:cNvSpPr/>
            <p:nvPr/>
          </p:nvSpPr>
          <p:spPr>
            <a:xfrm>
              <a:off x="2666880" y="3048120"/>
              <a:ext cx="1143000" cy="380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86400" y="2666880"/>
              <a:ext cx="1143000" cy="3812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vgenij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bbin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ognuno dei casi esaminati, la soluzione può rappresentarsi come un insiem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spigoli di un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 due a due non adiacen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le insieme è dett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abbinament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match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85800" y="3830760"/>
            <a:ext cx="2209680" cy="2150640"/>
            <a:chOff x="685800" y="3830760"/>
            <a:chExt cx="2209680" cy="2150640"/>
          </a:xfrm>
        </p:grpSpPr>
        <p:grpSp>
          <p:nvGrpSpPr>
            <p:cNvPr id="495" name=""/>
            <p:cNvGrpSpPr/>
            <p:nvPr/>
          </p:nvGrpSpPr>
          <p:grpSpPr>
            <a:xfrm>
              <a:off x="685800" y="3830760"/>
              <a:ext cx="2209680" cy="2150640"/>
              <a:chOff x="685800" y="3830760"/>
              <a:chExt cx="2209680" cy="21506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685800" y="3830760"/>
                <a:ext cx="625320" cy="2150640"/>
                <a:chOff x="685800" y="3830760"/>
                <a:chExt cx="625320" cy="21506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85800" y="38307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Alberto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85800" y="446616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Bruno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85800" y="510192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Claudio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85800" y="57369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Davi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270160" y="3830760"/>
                <a:ext cx="625320" cy="2150640"/>
                <a:chOff x="2270160" y="3830760"/>
                <a:chExt cx="625320" cy="21506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270160" y="38307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Ann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70160" y="446616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Bic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270160" y="510192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Carl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270160" y="57369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Daniel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"/>
            <p:cNvGrpSpPr/>
            <p:nvPr/>
          </p:nvGrpSpPr>
          <p:grpSpPr>
            <a:xfrm>
              <a:off x="1311120" y="3952440"/>
              <a:ext cx="959400" cy="1271160"/>
              <a:chOff x="1311120" y="3952440"/>
              <a:chExt cx="959400" cy="1271160"/>
            </a:xfrm>
          </p:grpSpPr>
          <p:cxnSp>
            <p:nvCxnSpPr>
              <p:cNvPr id="507" name=""/>
              <p:cNvCxnSpPr>
                <a:stCxn id="497" idx="6"/>
                <a:endCxn id="503" idx="2"/>
              </p:cNvCxnSpPr>
              <p:nvPr/>
            </p:nvCxnSpPr>
            <p:spPr>
              <a:xfrm>
                <a:off x="1311120" y="395244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08" name=""/>
              <p:cNvCxnSpPr>
                <a:stCxn id="497" idx="6"/>
                <a:endCxn id="502" idx="2"/>
              </p:cNvCxnSpPr>
              <p:nvPr/>
            </p:nvCxnSpPr>
            <p:spPr>
              <a:xfrm>
                <a:off x="1311120" y="395244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09" name=""/>
              <p:cNvCxnSpPr>
                <a:stCxn id="497" idx="6"/>
                <a:endCxn id="504" idx="2"/>
              </p:cNvCxnSpPr>
              <p:nvPr/>
            </p:nvCxnSpPr>
            <p:spPr>
              <a:xfrm>
                <a:off x="1311120" y="395244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510" name=""/>
            <p:cNvGrpSpPr/>
            <p:nvPr/>
          </p:nvGrpSpPr>
          <p:grpSpPr>
            <a:xfrm>
              <a:off x="1311120" y="3952440"/>
              <a:ext cx="959400" cy="1906200"/>
              <a:chOff x="1311120" y="3952440"/>
              <a:chExt cx="959400" cy="1906200"/>
            </a:xfrm>
          </p:grpSpPr>
          <p:cxnSp>
            <p:nvCxnSpPr>
              <p:cNvPr id="511" name=""/>
              <p:cNvCxnSpPr>
                <a:stCxn id="499" idx="6"/>
                <a:endCxn id="504" idx="2"/>
              </p:cNvCxnSpPr>
              <p:nvPr/>
            </p:nvCxnSpPr>
            <p:spPr>
              <a:xfrm>
                <a:off x="1311120" y="522324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12" name=""/>
              <p:cNvCxnSpPr>
                <a:stCxn id="499" idx="6"/>
                <a:endCxn id="502" idx="2"/>
              </p:cNvCxnSpPr>
              <p:nvPr/>
            </p:nvCxnSpPr>
            <p:spPr>
              <a:xfrm flipV="1">
                <a:off x="1311120" y="395244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13" name=""/>
              <p:cNvCxnSpPr>
                <a:stCxn id="499" idx="6"/>
                <a:endCxn id="505" idx="2"/>
              </p:cNvCxnSpPr>
              <p:nvPr/>
            </p:nvCxnSpPr>
            <p:spPr>
              <a:xfrm>
                <a:off x="1311120" y="522324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514" name=""/>
            <p:cNvGrpSpPr/>
            <p:nvPr/>
          </p:nvGrpSpPr>
          <p:grpSpPr>
            <a:xfrm>
              <a:off x="1311120" y="4588200"/>
              <a:ext cx="959400" cy="1271520"/>
              <a:chOff x="1311120" y="4588200"/>
              <a:chExt cx="959400" cy="1271520"/>
            </a:xfrm>
          </p:grpSpPr>
          <p:cxnSp>
            <p:nvCxnSpPr>
              <p:cNvPr id="515" name=""/>
              <p:cNvCxnSpPr>
                <a:stCxn id="500" idx="6"/>
                <a:endCxn id="504" idx="2"/>
              </p:cNvCxnSpPr>
              <p:nvPr/>
            </p:nvCxnSpPr>
            <p:spPr>
              <a:xfrm flipV="1">
                <a:off x="1311120" y="522360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16" name=""/>
              <p:cNvCxnSpPr>
                <a:stCxn id="500" idx="6"/>
                <a:endCxn id="503" idx="2"/>
              </p:cNvCxnSpPr>
              <p:nvPr/>
            </p:nvCxnSpPr>
            <p:spPr>
              <a:xfrm flipV="1">
                <a:off x="1311120" y="458820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17" name=""/>
              <p:cNvCxnSpPr>
                <a:stCxn id="500" idx="6"/>
                <a:endCxn id="505" idx="2"/>
              </p:cNvCxnSpPr>
              <p:nvPr/>
            </p:nvCxnSpPr>
            <p:spPr>
              <a:xfrm>
                <a:off x="1311120" y="585900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518" name=""/>
            <p:cNvGrpSpPr/>
            <p:nvPr/>
          </p:nvGrpSpPr>
          <p:grpSpPr>
            <a:xfrm>
              <a:off x="1311120" y="3958560"/>
              <a:ext cx="959400" cy="1906920"/>
              <a:chOff x="1311120" y="3958560"/>
              <a:chExt cx="959400" cy="1906920"/>
            </a:xfrm>
          </p:grpSpPr>
          <p:cxnSp>
            <p:nvCxnSpPr>
              <p:cNvPr id="519" name=""/>
              <p:cNvCxnSpPr/>
              <p:nvPr/>
            </p:nvCxnSpPr>
            <p:spPr>
              <a:xfrm>
                <a:off x="1311120" y="3958560"/>
                <a:ext cx="959760" cy="63576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520" name=""/>
              <p:cNvCxnSpPr/>
              <p:nvPr/>
            </p:nvCxnSpPr>
            <p:spPr>
              <a:xfrm flipV="1">
                <a:off x="1311120" y="5229720"/>
                <a:ext cx="959760" cy="63576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521" name=""/>
              <p:cNvCxnSpPr/>
              <p:nvPr/>
            </p:nvCxnSpPr>
            <p:spPr>
              <a:xfrm flipV="1">
                <a:off x="1311120" y="3958560"/>
                <a:ext cx="959760" cy="127152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522" name=""/>
              <p:cNvCxnSpPr/>
              <p:nvPr/>
            </p:nvCxnSpPr>
            <p:spPr>
              <a:xfrm>
                <a:off x="1311120" y="4594320"/>
                <a:ext cx="959760" cy="127152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</p:grpSp>
        <p:grpSp>
          <p:nvGrpSpPr>
            <p:cNvPr id="523" name=""/>
            <p:cNvGrpSpPr/>
            <p:nvPr/>
          </p:nvGrpSpPr>
          <p:grpSpPr>
            <a:xfrm>
              <a:off x="1311120" y="3952440"/>
              <a:ext cx="959400" cy="1906560"/>
              <a:chOff x="1311120" y="3952440"/>
              <a:chExt cx="959400" cy="1906560"/>
            </a:xfrm>
          </p:grpSpPr>
          <p:cxnSp>
            <p:nvCxnSpPr>
              <p:cNvPr id="524" name=""/>
              <p:cNvCxnSpPr>
                <a:stCxn id="498" idx="6"/>
                <a:endCxn id="503" idx="2"/>
              </p:cNvCxnSpPr>
              <p:nvPr/>
            </p:nvCxnSpPr>
            <p:spPr>
              <a:xfrm>
                <a:off x="1311120" y="458784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25" name=""/>
              <p:cNvCxnSpPr>
                <a:stCxn id="498" idx="6"/>
                <a:endCxn id="505" idx="2"/>
              </p:cNvCxnSpPr>
              <p:nvPr/>
            </p:nvCxnSpPr>
            <p:spPr>
              <a:xfrm>
                <a:off x="1311120" y="458784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26" name=""/>
              <p:cNvCxnSpPr>
                <a:stCxn id="498" idx="6"/>
                <a:endCxn id="502" idx="2"/>
              </p:cNvCxnSpPr>
              <p:nvPr/>
            </p:nvCxnSpPr>
            <p:spPr>
              <a:xfrm flipV="1">
                <a:off x="1311120" y="395244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</p:grpSp>
      <p:grpSp>
        <p:nvGrpSpPr>
          <p:cNvPr id="527" name=""/>
          <p:cNvGrpSpPr/>
          <p:nvPr/>
        </p:nvGrpSpPr>
        <p:grpSpPr>
          <a:xfrm>
            <a:off x="3352680" y="3809880"/>
            <a:ext cx="2133360" cy="2171520"/>
            <a:chOff x="3352680" y="3809880"/>
            <a:chExt cx="2133360" cy="2171520"/>
          </a:xfrm>
        </p:grpSpPr>
        <p:grpSp>
          <p:nvGrpSpPr>
            <p:cNvPr id="528" name=""/>
            <p:cNvGrpSpPr/>
            <p:nvPr/>
          </p:nvGrpSpPr>
          <p:grpSpPr>
            <a:xfrm>
              <a:off x="3352680" y="3809880"/>
              <a:ext cx="2133360" cy="2171520"/>
              <a:chOff x="3352680" y="3809880"/>
              <a:chExt cx="2133360" cy="21715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3352680" y="3809880"/>
                <a:ext cx="603720" cy="2171520"/>
                <a:chOff x="3352680" y="3809880"/>
                <a:chExt cx="603720" cy="21715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352680" y="38098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52680" y="44514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52680" y="50932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52680" y="57348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882320" y="3809880"/>
                <a:ext cx="603720" cy="2171520"/>
                <a:chOff x="4882320" y="3809880"/>
                <a:chExt cx="603720" cy="21715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4882320" y="38098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882320" y="44514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882320" y="50932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882320" y="57348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4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539" name=""/>
            <p:cNvCxnSpPr/>
            <p:nvPr/>
          </p:nvCxnSpPr>
          <p:spPr>
            <a:xfrm>
              <a:off x="3955680" y="3933720"/>
              <a:ext cx="927720" cy="642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540" name=""/>
            <p:cNvCxnSpPr/>
            <p:nvPr/>
          </p:nvCxnSpPr>
          <p:spPr>
            <a:xfrm>
              <a:off x="3955680" y="393336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41" name=""/>
            <p:cNvCxnSpPr/>
            <p:nvPr/>
          </p:nvCxnSpPr>
          <p:spPr>
            <a:xfrm>
              <a:off x="3955680" y="3933360"/>
              <a:ext cx="927720" cy="128340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</a:ln>
          </p:spPr>
        </p:cxnSp>
        <p:cxnSp>
          <p:nvCxnSpPr>
            <p:cNvPr id="542" name=""/>
            <p:cNvCxnSpPr/>
            <p:nvPr/>
          </p:nvCxnSpPr>
          <p:spPr>
            <a:xfrm>
              <a:off x="3955680" y="521604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43" name=""/>
            <p:cNvCxnSpPr/>
            <p:nvPr/>
          </p:nvCxnSpPr>
          <p:spPr>
            <a:xfrm flipV="1">
              <a:off x="3955680" y="3933000"/>
              <a:ext cx="927720" cy="12834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544" name=""/>
            <p:cNvCxnSpPr/>
            <p:nvPr/>
          </p:nvCxnSpPr>
          <p:spPr>
            <a:xfrm>
              <a:off x="3955680" y="5216400"/>
              <a:ext cx="927720" cy="642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45" name=""/>
            <p:cNvCxnSpPr/>
            <p:nvPr/>
          </p:nvCxnSpPr>
          <p:spPr>
            <a:xfrm flipV="1">
              <a:off x="3955680" y="5216040"/>
              <a:ext cx="927720" cy="642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546" name=""/>
            <p:cNvCxnSpPr/>
            <p:nvPr/>
          </p:nvCxnSpPr>
          <p:spPr>
            <a:xfrm flipV="1">
              <a:off x="3955680" y="4574520"/>
              <a:ext cx="927720" cy="1283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47" name=""/>
            <p:cNvCxnSpPr/>
            <p:nvPr/>
          </p:nvCxnSpPr>
          <p:spPr>
            <a:xfrm>
              <a:off x="3955680" y="585756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>
              <a:off x="3955680" y="457488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49" name=""/>
            <p:cNvCxnSpPr/>
            <p:nvPr/>
          </p:nvCxnSpPr>
          <p:spPr>
            <a:xfrm>
              <a:off x="3955680" y="4574880"/>
              <a:ext cx="927720" cy="12834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550" name=""/>
            <p:cNvCxnSpPr/>
            <p:nvPr/>
          </p:nvCxnSpPr>
          <p:spPr>
            <a:xfrm flipV="1">
              <a:off x="3955680" y="3933360"/>
              <a:ext cx="927720" cy="642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51" name=""/>
            <p:cNvCxnSpPr>
              <a:stCxn id="532" idx="6"/>
              <a:endCxn id="536" idx="2"/>
            </p:cNvCxnSpPr>
            <p:nvPr/>
          </p:nvCxnSpPr>
          <p:spPr>
            <a:xfrm flipV="1">
              <a:off x="3955680" y="4574520"/>
              <a:ext cx="927720" cy="641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52" name=""/>
            <p:cNvCxnSpPr>
              <a:stCxn id="531" idx="6"/>
              <a:endCxn id="537" idx="2"/>
            </p:cNvCxnSpPr>
            <p:nvPr/>
          </p:nvCxnSpPr>
          <p:spPr>
            <a:xfrm>
              <a:off x="3955680" y="4574880"/>
              <a:ext cx="927720" cy="641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53" name=""/>
            <p:cNvCxnSpPr>
              <a:stCxn id="530" idx="6"/>
              <a:endCxn id="538" idx="2"/>
            </p:cNvCxnSpPr>
            <p:nvPr/>
          </p:nvCxnSpPr>
          <p:spPr>
            <a:xfrm>
              <a:off x="3955680" y="3933360"/>
              <a:ext cx="927720" cy="1924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54" name=""/>
            <p:cNvCxnSpPr>
              <a:stCxn id="533" idx="6"/>
              <a:endCxn id="535" idx="2"/>
            </p:cNvCxnSpPr>
            <p:nvPr/>
          </p:nvCxnSpPr>
          <p:spPr>
            <a:xfrm flipV="1">
              <a:off x="3955680" y="3933000"/>
              <a:ext cx="927720" cy="1924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555" name=""/>
          <p:cNvGrpSpPr/>
          <p:nvPr/>
        </p:nvGrpSpPr>
        <p:grpSpPr>
          <a:xfrm>
            <a:off x="5791320" y="3962520"/>
            <a:ext cx="2743200" cy="1828800"/>
            <a:chOff x="5791320" y="3962520"/>
            <a:chExt cx="2743200" cy="1828800"/>
          </a:xfrm>
        </p:grpSpPr>
        <p:sp>
          <p:nvSpPr>
            <p:cNvPr id="556" name=""/>
            <p:cNvSpPr/>
            <p:nvPr/>
          </p:nvSpPr>
          <p:spPr>
            <a:xfrm>
              <a:off x="5791320" y="4784760"/>
              <a:ext cx="61416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Alì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05480" y="4191120"/>
              <a:ext cx="6145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42040" y="4602240"/>
              <a:ext cx="6145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6560" y="5380200"/>
              <a:ext cx="6127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Davi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60" name=""/>
            <p:cNvCxnSpPr>
              <a:stCxn id="557" idx="5"/>
              <a:endCxn id="558" idx="1"/>
            </p:cNvCxnSpPr>
            <p:nvPr/>
          </p:nvCxnSpPr>
          <p:spPr>
            <a:xfrm>
              <a:off x="6928920" y="4386240"/>
              <a:ext cx="304200" cy="249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61" name=""/>
            <p:cNvCxnSpPr>
              <a:stCxn id="556" idx="0"/>
              <a:endCxn id="557" idx="3"/>
            </p:cNvCxnSpPr>
            <p:nvPr/>
          </p:nvCxnSpPr>
          <p:spPr>
            <a:xfrm flipV="1">
              <a:off x="6098760" y="4385520"/>
              <a:ext cx="397800" cy="399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sp>
          <p:nvSpPr>
            <p:cNvPr id="562" name=""/>
            <p:cNvSpPr/>
            <p:nvPr/>
          </p:nvSpPr>
          <p:spPr>
            <a:xfrm>
              <a:off x="7920000" y="3962520"/>
              <a:ext cx="6145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5160" y="5562720"/>
              <a:ext cx="6145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ëd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64" name=""/>
            <p:cNvCxnSpPr>
              <a:stCxn id="557" idx="6"/>
              <a:endCxn id="562" idx="2"/>
            </p:cNvCxnSpPr>
            <p:nvPr/>
          </p:nvCxnSpPr>
          <p:spPr>
            <a:xfrm flipV="1">
              <a:off x="7020000" y="4075920"/>
              <a:ext cx="900720" cy="229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65" name=""/>
            <p:cNvCxnSpPr>
              <a:stCxn id="563" idx="0"/>
              <a:endCxn id="562" idx="4"/>
            </p:cNvCxnSpPr>
            <p:nvPr/>
          </p:nvCxnSpPr>
          <p:spPr>
            <a:xfrm flipV="1">
              <a:off x="8022960" y="4190760"/>
              <a:ext cx="205560" cy="1372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66" name=""/>
            <p:cNvCxnSpPr>
              <a:stCxn id="559" idx="0"/>
              <a:endCxn id="558" idx="4"/>
            </p:cNvCxnSpPr>
            <p:nvPr/>
          </p:nvCxnSpPr>
          <p:spPr>
            <a:xfrm flipV="1">
              <a:off x="7162920" y="4830480"/>
              <a:ext cx="288000" cy="550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67" name=""/>
            <p:cNvCxnSpPr>
              <a:stCxn id="562" idx="3"/>
              <a:endCxn id="558" idx="7"/>
            </p:cNvCxnSpPr>
            <p:nvPr/>
          </p:nvCxnSpPr>
          <p:spPr>
            <a:xfrm flipH="1">
              <a:off x="7665840" y="4157280"/>
              <a:ext cx="344880" cy="478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68" name=""/>
            <p:cNvCxnSpPr>
              <a:stCxn id="563" idx="1"/>
              <a:endCxn id="558" idx="5"/>
            </p:cNvCxnSpPr>
            <p:nvPr/>
          </p:nvCxnSpPr>
          <p:spPr>
            <a:xfrm flipH="1" flipV="1">
              <a:off x="7665840" y="4797000"/>
              <a:ext cx="140400" cy="7992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69" name=""/>
            <p:cNvCxnSpPr>
              <a:stCxn id="556" idx="6"/>
              <a:endCxn id="558" idx="2"/>
            </p:cNvCxnSpPr>
            <p:nvPr/>
          </p:nvCxnSpPr>
          <p:spPr>
            <a:xfrm flipV="1">
              <a:off x="6405480" y="4715640"/>
              <a:ext cx="737280" cy="18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570" name=""/>
            <p:cNvCxnSpPr>
              <a:stCxn id="559" idx="1"/>
              <a:endCxn id="557" idx="4"/>
            </p:cNvCxnSpPr>
            <p:nvPr/>
          </p:nvCxnSpPr>
          <p:spPr>
            <a:xfrm flipH="1" flipV="1">
              <a:off x="6713280" y="4419720"/>
              <a:ext cx="234000" cy="9939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grpSp>
          <p:nvGrpSpPr>
            <p:cNvPr id="571" name=""/>
            <p:cNvGrpSpPr/>
            <p:nvPr/>
          </p:nvGrpSpPr>
          <p:grpSpPr>
            <a:xfrm>
              <a:off x="5791320" y="4602240"/>
              <a:ext cx="1965240" cy="411120"/>
              <a:chOff x="5791320" y="4602240"/>
              <a:chExt cx="1965240" cy="411120"/>
            </a:xfrm>
          </p:grpSpPr>
          <p:cxnSp>
            <p:nvCxnSpPr>
              <p:cNvPr id="572" name=""/>
              <p:cNvCxnSpPr>
                <a:stCxn id="556" idx="6"/>
                <a:endCxn id="558" idx="2"/>
              </p:cNvCxnSpPr>
              <p:nvPr/>
            </p:nvCxnSpPr>
            <p:spPr>
              <a:xfrm flipV="1">
                <a:off x="6405120" y="4715640"/>
                <a:ext cx="737640" cy="18324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sp>
            <p:nvSpPr>
              <p:cNvPr id="573" name=""/>
              <p:cNvSpPr/>
              <p:nvPr/>
            </p:nvSpPr>
            <p:spPr>
              <a:xfrm>
                <a:off x="5791320" y="4784760"/>
                <a:ext cx="614160" cy="228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Alì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42400" y="4602240"/>
                <a:ext cx="614160" cy="2282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Charlie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405480" y="3962520"/>
              <a:ext cx="2129040" cy="456840"/>
              <a:chOff x="6405480" y="3962520"/>
              <a:chExt cx="2129040" cy="456840"/>
            </a:xfrm>
          </p:grpSpPr>
          <p:cxnSp>
            <p:nvCxnSpPr>
              <p:cNvPr id="576" name=""/>
              <p:cNvCxnSpPr>
                <a:stCxn id="557" idx="6"/>
                <a:endCxn id="562" idx="2"/>
              </p:cNvCxnSpPr>
              <p:nvPr/>
            </p:nvCxnSpPr>
            <p:spPr>
              <a:xfrm flipV="1">
                <a:off x="7019640" y="4076640"/>
                <a:ext cx="901440" cy="22896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sp>
            <p:nvSpPr>
              <p:cNvPr id="577" name=""/>
              <p:cNvSpPr/>
              <p:nvPr/>
            </p:nvSpPr>
            <p:spPr>
              <a:xfrm>
                <a:off x="6405480" y="4191120"/>
                <a:ext cx="614160" cy="2282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Bob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920360" y="3962520"/>
                <a:ext cx="614160" cy="228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Evgenij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ipi di abbin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|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|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 per ogni abbinamen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allor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di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massimo.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sua cardinalità si indica con </a:t>
            </a:r>
            <a:r>
              <a:rPr b="0" lang="it-IT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85800" y="3830760"/>
            <a:ext cx="2209680" cy="2150640"/>
            <a:chOff x="685800" y="3830760"/>
            <a:chExt cx="2209680" cy="2150640"/>
          </a:xfrm>
        </p:grpSpPr>
        <p:grpSp>
          <p:nvGrpSpPr>
            <p:cNvPr id="582" name=""/>
            <p:cNvGrpSpPr/>
            <p:nvPr/>
          </p:nvGrpSpPr>
          <p:grpSpPr>
            <a:xfrm>
              <a:off x="685800" y="3830760"/>
              <a:ext cx="2209680" cy="2150640"/>
              <a:chOff x="685800" y="3830760"/>
              <a:chExt cx="2209680" cy="215064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685800" y="3830760"/>
                <a:ext cx="625320" cy="2150640"/>
                <a:chOff x="685800" y="3830760"/>
                <a:chExt cx="625320" cy="2150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685800" y="38307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Alberto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85800" y="446616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Bruno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85800" y="510192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Claudio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85800" y="57369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40458c"/>
                      </a:solidFill>
                      <a:latin typeface="Tahoma"/>
                    </a:rPr>
                    <a:t>Davi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2270160" y="3830760"/>
                <a:ext cx="625320" cy="2150640"/>
                <a:chOff x="2270160" y="3830760"/>
                <a:chExt cx="625320" cy="21506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2270160" y="38307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Ann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270160" y="446616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Bic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270160" y="5101920"/>
                  <a:ext cx="625320" cy="24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Carl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70160" y="5736960"/>
                  <a:ext cx="625320" cy="244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ff3399"/>
                      </a:solidFill>
                      <a:latin typeface="Tahoma"/>
                    </a:rPr>
                    <a:t>Daniel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3" name=""/>
            <p:cNvGrpSpPr/>
            <p:nvPr/>
          </p:nvGrpSpPr>
          <p:grpSpPr>
            <a:xfrm>
              <a:off x="1311120" y="3952440"/>
              <a:ext cx="959400" cy="1271160"/>
              <a:chOff x="1311120" y="3952440"/>
              <a:chExt cx="959400" cy="1271160"/>
            </a:xfrm>
          </p:grpSpPr>
          <p:cxnSp>
            <p:nvCxnSpPr>
              <p:cNvPr id="594" name=""/>
              <p:cNvCxnSpPr>
                <a:stCxn id="584" idx="6"/>
                <a:endCxn id="590" idx="2"/>
              </p:cNvCxnSpPr>
              <p:nvPr/>
            </p:nvCxnSpPr>
            <p:spPr>
              <a:xfrm>
                <a:off x="1311120" y="395244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95" name=""/>
              <p:cNvCxnSpPr>
                <a:stCxn id="584" idx="6"/>
                <a:endCxn id="589" idx="2"/>
              </p:cNvCxnSpPr>
              <p:nvPr/>
            </p:nvCxnSpPr>
            <p:spPr>
              <a:xfrm>
                <a:off x="1311120" y="395244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96" name=""/>
              <p:cNvCxnSpPr>
                <a:stCxn id="584" idx="6"/>
                <a:endCxn id="591" idx="2"/>
              </p:cNvCxnSpPr>
              <p:nvPr/>
            </p:nvCxnSpPr>
            <p:spPr>
              <a:xfrm>
                <a:off x="1311120" y="395244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597" name=""/>
            <p:cNvGrpSpPr/>
            <p:nvPr/>
          </p:nvGrpSpPr>
          <p:grpSpPr>
            <a:xfrm>
              <a:off x="1311120" y="3952440"/>
              <a:ext cx="959400" cy="1906200"/>
              <a:chOff x="1311120" y="3952440"/>
              <a:chExt cx="959400" cy="1906200"/>
            </a:xfrm>
          </p:grpSpPr>
          <p:cxnSp>
            <p:nvCxnSpPr>
              <p:cNvPr id="598" name=""/>
              <p:cNvCxnSpPr>
                <a:stCxn id="586" idx="6"/>
                <a:endCxn id="591" idx="2"/>
              </p:cNvCxnSpPr>
              <p:nvPr/>
            </p:nvCxnSpPr>
            <p:spPr>
              <a:xfrm>
                <a:off x="1311120" y="522324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599" name=""/>
              <p:cNvCxnSpPr>
                <a:stCxn id="586" idx="6"/>
                <a:endCxn id="589" idx="2"/>
              </p:cNvCxnSpPr>
              <p:nvPr/>
            </p:nvCxnSpPr>
            <p:spPr>
              <a:xfrm flipV="1">
                <a:off x="1311120" y="395244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00" name=""/>
              <p:cNvCxnSpPr>
                <a:stCxn id="586" idx="6"/>
                <a:endCxn id="592" idx="2"/>
              </p:cNvCxnSpPr>
              <p:nvPr/>
            </p:nvCxnSpPr>
            <p:spPr>
              <a:xfrm>
                <a:off x="1311120" y="522324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601" name=""/>
            <p:cNvGrpSpPr/>
            <p:nvPr/>
          </p:nvGrpSpPr>
          <p:grpSpPr>
            <a:xfrm>
              <a:off x="1311120" y="4588200"/>
              <a:ext cx="959400" cy="1271520"/>
              <a:chOff x="1311120" y="4588200"/>
              <a:chExt cx="959400" cy="1271520"/>
            </a:xfrm>
          </p:grpSpPr>
          <p:cxnSp>
            <p:nvCxnSpPr>
              <p:cNvPr id="602" name=""/>
              <p:cNvCxnSpPr>
                <a:stCxn id="587" idx="6"/>
                <a:endCxn id="591" idx="2"/>
              </p:cNvCxnSpPr>
              <p:nvPr/>
            </p:nvCxnSpPr>
            <p:spPr>
              <a:xfrm flipV="1">
                <a:off x="1311120" y="522360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03" name=""/>
              <p:cNvCxnSpPr>
                <a:stCxn id="587" idx="6"/>
                <a:endCxn id="590" idx="2"/>
              </p:cNvCxnSpPr>
              <p:nvPr/>
            </p:nvCxnSpPr>
            <p:spPr>
              <a:xfrm flipV="1">
                <a:off x="1311120" y="458820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04" name=""/>
              <p:cNvCxnSpPr>
                <a:stCxn id="587" idx="6"/>
                <a:endCxn id="592" idx="2"/>
              </p:cNvCxnSpPr>
              <p:nvPr/>
            </p:nvCxnSpPr>
            <p:spPr>
              <a:xfrm>
                <a:off x="1311120" y="585900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605" name=""/>
            <p:cNvGrpSpPr/>
            <p:nvPr/>
          </p:nvGrpSpPr>
          <p:grpSpPr>
            <a:xfrm>
              <a:off x="1311120" y="3958560"/>
              <a:ext cx="959400" cy="1906920"/>
              <a:chOff x="1311120" y="3958560"/>
              <a:chExt cx="959400" cy="1906920"/>
            </a:xfrm>
          </p:grpSpPr>
          <p:cxnSp>
            <p:nvCxnSpPr>
              <p:cNvPr id="606" name=""/>
              <p:cNvCxnSpPr/>
              <p:nvPr/>
            </p:nvCxnSpPr>
            <p:spPr>
              <a:xfrm>
                <a:off x="1311120" y="3958560"/>
                <a:ext cx="959760" cy="63576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607" name=""/>
              <p:cNvCxnSpPr/>
              <p:nvPr/>
            </p:nvCxnSpPr>
            <p:spPr>
              <a:xfrm flipV="1">
                <a:off x="1311120" y="5229720"/>
                <a:ext cx="959760" cy="63576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608" name=""/>
              <p:cNvCxnSpPr/>
              <p:nvPr/>
            </p:nvCxnSpPr>
            <p:spPr>
              <a:xfrm flipV="1">
                <a:off x="1311120" y="3958560"/>
                <a:ext cx="959760" cy="127152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609" name=""/>
              <p:cNvCxnSpPr/>
              <p:nvPr/>
            </p:nvCxnSpPr>
            <p:spPr>
              <a:xfrm>
                <a:off x="1311120" y="4594320"/>
                <a:ext cx="959760" cy="127152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</p:grpSp>
        <p:grpSp>
          <p:nvGrpSpPr>
            <p:cNvPr id="610" name=""/>
            <p:cNvGrpSpPr/>
            <p:nvPr/>
          </p:nvGrpSpPr>
          <p:grpSpPr>
            <a:xfrm>
              <a:off x="1311120" y="3952440"/>
              <a:ext cx="959400" cy="1906560"/>
              <a:chOff x="1311120" y="3952440"/>
              <a:chExt cx="959400" cy="1906560"/>
            </a:xfrm>
          </p:grpSpPr>
          <p:cxnSp>
            <p:nvCxnSpPr>
              <p:cNvPr id="611" name=""/>
              <p:cNvCxnSpPr>
                <a:stCxn id="585" idx="6"/>
                <a:endCxn id="590" idx="2"/>
              </p:cNvCxnSpPr>
              <p:nvPr/>
            </p:nvCxnSpPr>
            <p:spPr>
              <a:xfrm>
                <a:off x="1311120" y="4587840"/>
                <a:ext cx="959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12" name=""/>
              <p:cNvCxnSpPr>
                <a:stCxn id="585" idx="6"/>
                <a:endCxn id="592" idx="2"/>
              </p:cNvCxnSpPr>
              <p:nvPr/>
            </p:nvCxnSpPr>
            <p:spPr>
              <a:xfrm>
                <a:off x="1311120" y="4587840"/>
                <a:ext cx="959760" cy="12715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13" name=""/>
              <p:cNvCxnSpPr>
                <a:stCxn id="585" idx="6"/>
                <a:endCxn id="589" idx="2"/>
              </p:cNvCxnSpPr>
              <p:nvPr/>
            </p:nvCxnSpPr>
            <p:spPr>
              <a:xfrm flipV="1">
                <a:off x="1311120" y="3952440"/>
                <a:ext cx="959760" cy="6357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</p:grpSp>
      <p:grpSp>
        <p:nvGrpSpPr>
          <p:cNvPr id="614" name=""/>
          <p:cNvGrpSpPr/>
          <p:nvPr/>
        </p:nvGrpSpPr>
        <p:grpSpPr>
          <a:xfrm>
            <a:off x="3352680" y="3809880"/>
            <a:ext cx="2133360" cy="2171520"/>
            <a:chOff x="3352680" y="3809880"/>
            <a:chExt cx="2133360" cy="2171520"/>
          </a:xfrm>
        </p:grpSpPr>
        <p:grpSp>
          <p:nvGrpSpPr>
            <p:cNvPr id="615" name=""/>
            <p:cNvGrpSpPr/>
            <p:nvPr/>
          </p:nvGrpSpPr>
          <p:grpSpPr>
            <a:xfrm>
              <a:off x="3352680" y="3809880"/>
              <a:ext cx="2133360" cy="2171520"/>
              <a:chOff x="3352680" y="3809880"/>
              <a:chExt cx="2133360" cy="217152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352680" y="3809880"/>
                <a:ext cx="603720" cy="2171520"/>
                <a:chOff x="3352680" y="3809880"/>
                <a:chExt cx="603720" cy="21715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352680" y="38098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352680" y="44514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352680" y="50932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52680" y="57348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882320" y="3809880"/>
                <a:ext cx="603720" cy="2171520"/>
                <a:chOff x="4882320" y="3809880"/>
                <a:chExt cx="603720" cy="21715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882320" y="38098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882320" y="44514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882320" y="509328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882320" y="5734800"/>
                  <a:ext cx="603720" cy="24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40458c"/>
                      </a:solidFill>
                      <a:latin typeface="Tahoma"/>
                    </a:rPr>
                    <a:t>4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26" name=""/>
            <p:cNvCxnSpPr/>
            <p:nvPr/>
          </p:nvCxnSpPr>
          <p:spPr>
            <a:xfrm>
              <a:off x="3955680" y="3933720"/>
              <a:ext cx="927720" cy="642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627" name=""/>
            <p:cNvCxnSpPr/>
            <p:nvPr/>
          </p:nvCxnSpPr>
          <p:spPr>
            <a:xfrm>
              <a:off x="3955680" y="393336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28" name=""/>
            <p:cNvCxnSpPr/>
            <p:nvPr/>
          </p:nvCxnSpPr>
          <p:spPr>
            <a:xfrm>
              <a:off x="3955680" y="3933360"/>
              <a:ext cx="927720" cy="128340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</a:ln>
          </p:spPr>
        </p:cxnSp>
        <p:cxnSp>
          <p:nvCxnSpPr>
            <p:cNvPr id="629" name=""/>
            <p:cNvCxnSpPr/>
            <p:nvPr/>
          </p:nvCxnSpPr>
          <p:spPr>
            <a:xfrm>
              <a:off x="3955680" y="521604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0" name=""/>
            <p:cNvCxnSpPr/>
            <p:nvPr/>
          </p:nvCxnSpPr>
          <p:spPr>
            <a:xfrm flipV="1">
              <a:off x="3955680" y="3933000"/>
              <a:ext cx="927720" cy="12834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631" name=""/>
            <p:cNvCxnSpPr/>
            <p:nvPr/>
          </p:nvCxnSpPr>
          <p:spPr>
            <a:xfrm>
              <a:off x="3955680" y="5216400"/>
              <a:ext cx="927720" cy="642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2" name=""/>
            <p:cNvCxnSpPr/>
            <p:nvPr/>
          </p:nvCxnSpPr>
          <p:spPr>
            <a:xfrm flipV="1">
              <a:off x="3955680" y="5216040"/>
              <a:ext cx="927720" cy="642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633" name=""/>
            <p:cNvCxnSpPr/>
            <p:nvPr/>
          </p:nvCxnSpPr>
          <p:spPr>
            <a:xfrm flipV="1">
              <a:off x="3955680" y="4574520"/>
              <a:ext cx="927720" cy="1283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4" name=""/>
            <p:cNvCxnSpPr/>
            <p:nvPr/>
          </p:nvCxnSpPr>
          <p:spPr>
            <a:xfrm>
              <a:off x="3955680" y="585756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5" name=""/>
            <p:cNvCxnSpPr/>
            <p:nvPr/>
          </p:nvCxnSpPr>
          <p:spPr>
            <a:xfrm>
              <a:off x="3955680" y="4574880"/>
              <a:ext cx="9277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6" name=""/>
            <p:cNvCxnSpPr/>
            <p:nvPr/>
          </p:nvCxnSpPr>
          <p:spPr>
            <a:xfrm>
              <a:off x="3955680" y="4574880"/>
              <a:ext cx="927720" cy="12834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637" name=""/>
            <p:cNvCxnSpPr/>
            <p:nvPr/>
          </p:nvCxnSpPr>
          <p:spPr>
            <a:xfrm flipV="1">
              <a:off x="3955680" y="3933360"/>
              <a:ext cx="927720" cy="642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8" name=""/>
            <p:cNvCxnSpPr>
              <a:stCxn id="619" idx="6"/>
              <a:endCxn id="623" idx="2"/>
            </p:cNvCxnSpPr>
            <p:nvPr/>
          </p:nvCxnSpPr>
          <p:spPr>
            <a:xfrm flipV="1">
              <a:off x="3955680" y="4574520"/>
              <a:ext cx="927720" cy="641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39" name=""/>
            <p:cNvCxnSpPr>
              <a:stCxn id="618" idx="6"/>
              <a:endCxn id="624" idx="2"/>
            </p:cNvCxnSpPr>
            <p:nvPr/>
          </p:nvCxnSpPr>
          <p:spPr>
            <a:xfrm>
              <a:off x="3955680" y="4574880"/>
              <a:ext cx="927720" cy="641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40" name=""/>
            <p:cNvCxnSpPr>
              <a:stCxn id="617" idx="6"/>
              <a:endCxn id="625" idx="2"/>
            </p:cNvCxnSpPr>
            <p:nvPr/>
          </p:nvCxnSpPr>
          <p:spPr>
            <a:xfrm>
              <a:off x="3955680" y="3933360"/>
              <a:ext cx="927720" cy="1924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41" name=""/>
            <p:cNvCxnSpPr>
              <a:stCxn id="620" idx="6"/>
              <a:endCxn id="622" idx="2"/>
            </p:cNvCxnSpPr>
            <p:nvPr/>
          </p:nvCxnSpPr>
          <p:spPr>
            <a:xfrm flipV="1">
              <a:off x="3955680" y="3933000"/>
              <a:ext cx="927720" cy="1924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5791320" y="3962520"/>
            <a:ext cx="2743200" cy="1828440"/>
            <a:chOff x="5791320" y="3962520"/>
            <a:chExt cx="2743200" cy="1828440"/>
          </a:xfrm>
        </p:grpSpPr>
        <p:grpSp>
          <p:nvGrpSpPr>
            <p:cNvPr id="643" name=""/>
            <p:cNvGrpSpPr/>
            <p:nvPr/>
          </p:nvGrpSpPr>
          <p:grpSpPr>
            <a:xfrm>
              <a:off x="5791320" y="3962520"/>
              <a:ext cx="2743200" cy="1828440"/>
              <a:chOff x="5791320" y="3962520"/>
              <a:chExt cx="2743200" cy="1828440"/>
            </a:xfrm>
          </p:grpSpPr>
          <p:sp>
            <p:nvSpPr>
              <p:cNvPr id="644" name=""/>
              <p:cNvSpPr/>
              <p:nvPr/>
            </p:nvSpPr>
            <p:spPr>
              <a:xfrm>
                <a:off x="5791320" y="4785480"/>
                <a:ext cx="61416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Alì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05480" y="4191120"/>
                <a:ext cx="61416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Bob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42400" y="4602600"/>
                <a:ext cx="61416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55840" y="5379840"/>
                <a:ext cx="61416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David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648" name=""/>
              <p:cNvCxnSpPr>
                <a:stCxn id="645" idx="5"/>
                <a:endCxn id="646" idx="1"/>
              </p:cNvCxnSpPr>
              <p:nvPr/>
            </p:nvCxnSpPr>
            <p:spPr>
              <a:xfrm>
                <a:off x="6930000" y="4385880"/>
                <a:ext cx="302400" cy="2502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49" name=""/>
              <p:cNvCxnSpPr>
                <a:stCxn id="644" idx="0"/>
                <a:endCxn id="645" idx="3"/>
              </p:cNvCxnSpPr>
              <p:nvPr/>
            </p:nvCxnSpPr>
            <p:spPr>
              <a:xfrm flipV="1">
                <a:off x="6098040" y="4385880"/>
                <a:ext cx="397440" cy="3996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sp>
            <p:nvSpPr>
              <p:cNvPr id="650" name=""/>
              <p:cNvSpPr/>
              <p:nvPr/>
            </p:nvSpPr>
            <p:spPr>
              <a:xfrm>
                <a:off x="7920360" y="3962520"/>
                <a:ext cx="61416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715520" y="5562720"/>
                <a:ext cx="61416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ëdo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652" name=""/>
              <p:cNvCxnSpPr>
                <a:stCxn id="645" idx="6"/>
                <a:endCxn id="650" idx="2"/>
              </p:cNvCxnSpPr>
              <p:nvPr/>
            </p:nvCxnSpPr>
            <p:spPr>
              <a:xfrm flipV="1">
                <a:off x="7019640" y="4076640"/>
                <a:ext cx="901440" cy="228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53" name=""/>
              <p:cNvCxnSpPr>
                <a:stCxn id="651" idx="0"/>
                <a:endCxn id="650" idx="4"/>
              </p:cNvCxnSpPr>
              <p:nvPr/>
            </p:nvCxnSpPr>
            <p:spPr>
              <a:xfrm flipV="1">
                <a:off x="8022960" y="4190760"/>
                <a:ext cx="205200" cy="13723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54" name=""/>
              <p:cNvCxnSpPr>
                <a:stCxn id="647" idx="0"/>
                <a:endCxn id="646" idx="4"/>
              </p:cNvCxnSpPr>
              <p:nvPr/>
            </p:nvCxnSpPr>
            <p:spPr>
              <a:xfrm flipV="1">
                <a:off x="7162560" y="4831200"/>
                <a:ext cx="286920" cy="5490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55" name=""/>
              <p:cNvCxnSpPr>
                <a:stCxn id="650" idx="3"/>
                <a:endCxn id="646" idx="7"/>
              </p:cNvCxnSpPr>
              <p:nvPr/>
            </p:nvCxnSpPr>
            <p:spPr>
              <a:xfrm flipH="1">
                <a:off x="7666560" y="4157640"/>
                <a:ext cx="343440" cy="4788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56" name=""/>
              <p:cNvCxnSpPr>
                <a:stCxn id="651" idx="1"/>
                <a:endCxn id="646" idx="5"/>
              </p:cNvCxnSpPr>
              <p:nvPr/>
            </p:nvCxnSpPr>
            <p:spPr>
              <a:xfrm flipH="1" flipV="1">
                <a:off x="7666200" y="4797000"/>
                <a:ext cx="138600" cy="7988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57" name=""/>
              <p:cNvCxnSpPr>
                <a:stCxn id="644" idx="6"/>
                <a:endCxn id="646" idx="2"/>
              </p:cNvCxnSpPr>
              <p:nvPr/>
            </p:nvCxnSpPr>
            <p:spPr>
              <a:xfrm flipV="1">
                <a:off x="6405120" y="4716360"/>
                <a:ext cx="737640" cy="1836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658" name=""/>
              <p:cNvCxnSpPr>
                <a:stCxn id="647" idx="1"/>
                <a:endCxn id="645" idx="4"/>
              </p:cNvCxnSpPr>
              <p:nvPr/>
            </p:nvCxnSpPr>
            <p:spPr>
              <a:xfrm flipH="1" flipV="1">
                <a:off x="6711840" y="4419000"/>
                <a:ext cx="233280" cy="99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grpSp>
          <p:nvGrpSpPr>
            <p:cNvPr id="659" name=""/>
            <p:cNvGrpSpPr/>
            <p:nvPr/>
          </p:nvGrpSpPr>
          <p:grpSpPr>
            <a:xfrm>
              <a:off x="5791320" y="4602600"/>
              <a:ext cx="1965240" cy="411120"/>
              <a:chOff x="5791320" y="4602600"/>
              <a:chExt cx="1965240" cy="411120"/>
            </a:xfrm>
          </p:grpSpPr>
          <p:cxnSp>
            <p:nvCxnSpPr>
              <p:cNvPr id="660" name=""/>
              <p:cNvCxnSpPr>
                <a:stCxn id="644" idx="6"/>
                <a:endCxn id="646" idx="2"/>
              </p:cNvCxnSpPr>
              <p:nvPr/>
            </p:nvCxnSpPr>
            <p:spPr>
              <a:xfrm flipV="1">
                <a:off x="6405120" y="4716360"/>
                <a:ext cx="737640" cy="18360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sp>
            <p:nvSpPr>
              <p:cNvPr id="661" name=""/>
              <p:cNvSpPr/>
              <p:nvPr/>
            </p:nvSpPr>
            <p:spPr>
              <a:xfrm>
                <a:off x="5791320" y="4785120"/>
                <a:ext cx="614160" cy="228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Alì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142400" y="4602600"/>
                <a:ext cx="614160" cy="2286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Charlie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405480" y="3962520"/>
              <a:ext cx="2129040" cy="456840"/>
              <a:chOff x="6405480" y="3962520"/>
              <a:chExt cx="2129040" cy="456840"/>
            </a:xfrm>
          </p:grpSpPr>
          <p:cxnSp>
            <p:nvCxnSpPr>
              <p:cNvPr id="664" name=""/>
              <p:cNvCxnSpPr>
                <a:stCxn id="645" idx="6"/>
                <a:endCxn id="650" idx="2"/>
              </p:cNvCxnSpPr>
              <p:nvPr/>
            </p:nvCxnSpPr>
            <p:spPr>
              <a:xfrm flipV="1">
                <a:off x="7019640" y="4076640"/>
                <a:ext cx="901440" cy="22896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sp>
            <p:nvSpPr>
              <p:cNvPr id="665" name=""/>
              <p:cNvSpPr/>
              <p:nvPr/>
            </p:nvSpPr>
            <p:spPr>
              <a:xfrm>
                <a:off x="6405480" y="4191120"/>
                <a:ext cx="614160" cy="2282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Bob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20360" y="3962520"/>
                <a:ext cx="614160" cy="228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Evgenij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6098760" y="4190760"/>
            <a:ext cx="2129400" cy="1371960"/>
            <a:chOff x="6098760" y="4190760"/>
            <a:chExt cx="2129400" cy="1371960"/>
          </a:xfrm>
        </p:grpSpPr>
        <p:cxnSp>
          <p:nvCxnSpPr>
            <p:cNvPr id="668" name=""/>
            <p:cNvCxnSpPr/>
            <p:nvPr/>
          </p:nvCxnSpPr>
          <p:spPr>
            <a:xfrm flipV="1">
              <a:off x="6098760" y="4385520"/>
              <a:ext cx="397800" cy="399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669" name=""/>
            <p:cNvCxnSpPr/>
            <p:nvPr/>
          </p:nvCxnSpPr>
          <p:spPr>
            <a:xfrm flipV="1">
              <a:off x="7162920" y="4830480"/>
              <a:ext cx="288000" cy="550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670" name=""/>
            <p:cNvCxnSpPr/>
            <p:nvPr/>
          </p:nvCxnSpPr>
          <p:spPr>
            <a:xfrm flipV="1">
              <a:off x="8022960" y="4190760"/>
              <a:ext cx="205560" cy="1372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  <p:sp>
        <p:nvSpPr>
          <p:cNvPr id="671" name=""/>
          <p:cNvSpPr/>
          <p:nvPr/>
        </p:nvSpPr>
        <p:spPr>
          <a:xfrm>
            <a:off x="685800" y="2133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bipartito, anch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di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biparti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|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 = |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/2, allor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i di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perfet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nsieme indipend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Definizion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to un grafo simmetric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, si dice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ndipendent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 qualunque sottoinsiem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vertic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spigoli) costituito da elementi a due a due non adiacenti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nsiem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detto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stabil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stable set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nsiem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detto 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abbinamen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matching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Definizion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insieme indipendent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massimal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 ogni elemento d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risulta adiacente ad almeno un element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insieme indipendent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massim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 per og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insieme indipendente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sservazione: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Ø è indipend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362320" y="2057400"/>
            <a:ext cx="3961800" cy="1980720"/>
            <a:chOff x="2362320" y="2057400"/>
            <a:chExt cx="3961800" cy="1980720"/>
          </a:xfrm>
        </p:grpSpPr>
        <p:sp>
          <p:nvSpPr>
            <p:cNvPr id="677" name=""/>
            <p:cNvSpPr/>
            <p:nvPr/>
          </p:nvSpPr>
          <p:spPr>
            <a:xfrm>
              <a:off x="3504960" y="21333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62320" y="28954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28640" y="34286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52880" y="38098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95880" y="28954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2880" y="2057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683" name=""/>
            <p:cNvCxnSpPr>
              <a:stCxn id="678" idx="5"/>
              <a:endCxn id="679" idx="2"/>
            </p:cNvCxnSpPr>
            <p:nvPr/>
          </p:nvCxnSpPr>
          <p:spPr>
            <a:xfrm>
              <a:off x="2557080" y="309060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84" name=""/>
            <p:cNvCxnSpPr>
              <a:stCxn id="678" idx="7"/>
              <a:endCxn id="677" idx="3"/>
            </p:cNvCxnSpPr>
            <p:nvPr/>
          </p:nvCxnSpPr>
          <p:spPr>
            <a:xfrm flipV="1">
              <a:off x="2556720" y="232812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85" name=""/>
            <p:cNvCxnSpPr>
              <a:stCxn id="679" idx="0"/>
              <a:endCxn id="677" idx="4"/>
            </p:cNvCxnSpPr>
            <p:nvPr/>
          </p:nvCxnSpPr>
          <p:spPr>
            <a:xfrm flipV="1">
              <a:off x="3542760" y="236160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86" name=""/>
            <p:cNvCxnSpPr>
              <a:stCxn id="682" idx="2"/>
              <a:endCxn id="677" idx="6"/>
            </p:cNvCxnSpPr>
            <p:nvPr/>
          </p:nvCxnSpPr>
          <p:spPr>
            <a:xfrm flipH="1">
              <a:off x="3733200" y="217116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87" name=""/>
            <p:cNvCxnSpPr>
              <a:stCxn id="679" idx="5"/>
              <a:endCxn id="680" idx="2"/>
            </p:cNvCxnSpPr>
            <p:nvPr/>
          </p:nvCxnSpPr>
          <p:spPr>
            <a:xfrm>
              <a:off x="3624120" y="362412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88" name=""/>
            <p:cNvCxnSpPr>
              <a:stCxn id="677" idx="5"/>
              <a:endCxn id="680" idx="1"/>
            </p:cNvCxnSpPr>
            <p:nvPr/>
          </p:nvCxnSpPr>
          <p:spPr>
            <a:xfrm>
              <a:off x="3699720" y="232848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89" name=""/>
            <p:cNvCxnSpPr>
              <a:stCxn id="681" idx="3"/>
              <a:endCxn id="680" idx="7"/>
            </p:cNvCxnSpPr>
            <p:nvPr/>
          </p:nvCxnSpPr>
          <p:spPr>
            <a:xfrm flipH="1">
              <a:off x="5147640" y="309024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690" name=""/>
            <p:cNvCxnSpPr>
              <a:stCxn id="681" idx="2"/>
              <a:endCxn id="679" idx="6"/>
            </p:cNvCxnSpPr>
            <p:nvPr/>
          </p:nvCxnSpPr>
          <p:spPr>
            <a:xfrm flipH="1">
              <a:off x="3656520" y="300924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3429000" y="2057400"/>
            <a:ext cx="1752480" cy="1600200"/>
            <a:chOff x="3429000" y="2057400"/>
            <a:chExt cx="1752480" cy="1600200"/>
          </a:xfrm>
        </p:grpSpPr>
        <p:sp>
          <p:nvSpPr>
            <p:cNvPr id="692" name=""/>
            <p:cNvSpPr/>
            <p:nvPr/>
          </p:nvSpPr>
          <p:spPr>
            <a:xfrm>
              <a:off x="3429000" y="34290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52880" y="20574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437760" y="39276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stabi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massim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getto di servizi logisti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zienda di spedizioni Ex-press, proprietaria di alcuni treni merci, intende realizzare un servizio di spedizioni tra L’Aquila e Pescara via ferrov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tan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iede gli orari disponibili alla società che gestisce la rete ferroviaria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ete Ferroviaria Italian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e i costi relativ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figura il servizio che massimizza il guadagn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gestore della ret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udia la fattibilità delle richieste della società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anifica alcuni orari alternativ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sce i prezzi di ogni alternat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7" idx="5"/>
            <a:endCxn id="698" idx="2"/>
          </p:cNvCxnSpPr>
          <p:nvPr/>
        </p:nvCxnSpPr>
        <p:spPr>
          <a:xfrm>
            <a:off x="2557080" y="3090600"/>
            <a:ext cx="872280" cy="453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3" name=""/>
          <p:cNvCxnSpPr>
            <a:stCxn id="697" idx="7"/>
            <a:endCxn id="696" idx="3"/>
          </p:cNvCxnSpPr>
          <p:nvPr/>
        </p:nvCxnSpPr>
        <p:spPr>
          <a:xfrm flipV="1">
            <a:off x="2557080" y="2328120"/>
            <a:ext cx="981720" cy="600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4" name=""/>
          <p:cNvCxnSpPr>
            <a:stCxn id="698" idx="0"/>
            <a:endCxn id="696" idx="4"/>
          </p:cNvCxnSpPr>
          <p:nvPr/>
        </p:nvCxnSpPr>
        <p:spPr>
          <a:xfrm flipV="1">
            <a:off x="3543120" y="2361600"/>
            <a:ext cx="76680" cy="1067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5" name=""/>
          <p:cNvCxnSpPr>
            <a:stCxn id="701" idx="2"/>
            <a:endCxn id="696" idx="6"/>
          </p:cNvCxnSpPr>
          <p:nvPr/>
        </p:nvCxnSpPr>
        <p:spPr>
          <a:xfrm flipH="1">
            <a:off x="3733560" y="2171520"/>
            <a:ext cx="1219680" cy="76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6" name=""/>
          <p:cNvCxnSpPr>
            <a:stCxn id="698" idx="5"/>
            <a:endCxn id="699" idx="2"/>
          </p:cNvCxnSpPr>
          <p:nvPr/>
        </p:nvCxnSpPr>
        <p:spPr>
          <a:xfrm>
            <a:off x="3623760" y="3624120"/>
            <a:ext cx="1329480" cy="300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7" name=""/>
          <p:cNvCxnSpPr>
            <a:stCxn id="696" idx="5"/>
            <a:endCxn id="699" idx="1"/>
          </p:cNvCxnSpPr>
          <p:nvPr/>
        </p:nvCxnSpPr>
        <p:spPr>
          <a:xfrm>
            <a:off x="3700440" y="2328480"/>
            <a:ext cx="1286640" cy="1515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8" name=""/>
          <p:cNvCxnSpPr>
            <a:stCxn id="700" idx="3"/>
            <a:endCxn id="699" idx="7"/>
          </p:cNvCxnSpPr>
          <p:nvPr/>
        </p:nvCxnSpPr>
        <p:spPr>
          <a:xfrm flipH="1">
            <a:off x="5147640" y="3090960"/>
            <a:ext cx="981720" cy="75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09" name=""/>
          <p:cNvCxnSpPr>
            <a:stCxn id="700" idx="2"/>
            <a:endCxn id="698" idx="6"/>
          </p:cNvCxnSpPr>
          <p:nvPr/>
        </p:nvCxnSpPr>
        <p:spPr>
          <a:xfrm flipH="1">
            <a:off x="3656880" y="3009960"/>
            <a:ext cx="24390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710" name=""/>
          <p:cNvGrpSpPr/>
          <p:nvPr/>
        </p:nvGrpSpPr>
        <p:grpSpPr>
          <a:xfrm>
            <a:off x="2362320" y="2057400"/>
            <a:ext cx="3962160" cy="1066320"/>
            <a:chOff x="2362320" y="2057400"/>
            <a:chExt cx="3962160" cy="1066320"/>
          </a:xfrm>
        </p:grpSpPr>
        <p:sp>
          <p:nvSpPr>
            <p:cNvPr id="711" name=""/>
            <p:cNvSpPr/>
            <p:nvPr/>
          </p:nvSpPr>
          <p:spPr>
            <a:xfrm>
              <a:off x="6095880" y="28954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20574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2320" y="28954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62320" y="4267080"/>
            <a:ext cx="3962160" cy="1981440"/>
            <a:chOff x="2362320" y="4267080"/>
            <a:chExt cx="3962160" cy="1981440"/>
          </a:xfrm>
        </p:grpSpPr>
        <p:sp>
          <p:nvSpPr>
            <p:cNvPr id="715" name=""/>
            <p:cNvSpPr/>
            <p:nvPr/>
          </p:nvSpPr>
          <p:spPr>
            <a:xfrm>
              <a:off x="3505320" y="4343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62320" y="5105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29000" y="5638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52880" y="6019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5880" y="5105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52880" y="4267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21" name=""/>
            <p:cNvCxnSpPr>
              <a:stCxn id="716" idx="5"/>
              <a:endCxn id="717" idx="2"/>
            </p:cNvCxnSpPr>
            <p:nvPr/>
          </p:nvCxnSpPr>
          <p:spPr>
            <a:xfrm>
              <a:off x="2557080" y="530028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2" name=""/>
            <p:cNvCxnSpPr>
              <a:stCxn id="716" idx="7"/>
              <a:endCxn id="715" idx="3"/>
            </p:cNvCxnSpPr>
            <p:nvPr/>
          </p:nvCxnSpPr>
          <p:spPr>
            <a:xfrm flipV="1">
              <a:off x="2557080" y="453780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3" name=""/>
            <p:cNvCxnSpPr>
              <a:stCxn id="717" idx="0"/>
              <a:endCxn id="715" idx="4"/>
            </p:cNvCxnSpPr>
            <p:nvPr/>
          </p:nvCxnSpPr>
          <p:spPr>
            <a:xfrm flipV="1">
              <a:off x="3543120" y="4571280"/>
              <a:ext cx="76680" cy="1067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4" name=""/>
            <p:cNvCxnSpPr>
              <a:stCxn id="720" idx="2"/>
              <a:endCxn id="715" idx="6"/>
            </p:cNvCxnSpPr>
            <p:nvPr/>
          </p:nvCxnSpPr>
          <p:spPr>
            <a:xfrm flipH="1">
              <a:off x="3733560" y="438156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5" name=""/>
            <p:cNvCxnSpPr>
              <a:stCxn id="717" idx="5"/>
              <a:endCxn id="718" idx="2"/>
            </p:cNvCxnSpPr>
            <p:nvPr/>
          </p:nvCxnSpPr>
          <p:spPr>
            <a:xfrm>
              <a:off x="3623760" y="583380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6" name=""/>
            <p:cNvCxnSpPr>
              <a:stCxn id="715" idx="5"/>
              <a:endCxn id="718" idx="1"/>
            </p:cNvCxnSpPr>
            <p:nvPr/>
          </p:nvCxnSpPr>
          <p:spPr>
            <a:xfrm>
              <a:off x="3700440" y="453816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7" name=""/>
            <p:cNvCxnSpPr>
              <a:stCxn id="719" idx="3"/>
              <a:endCxn id="718" idx="7"/>
            </p:cNvCxnSpPr>
            <p:nvPr/>
          </p:nvCxnSpPr>
          <p:spPr>
            <a:xfrm flipH="1">
              <a:off x="5147640" y="5300640"/>
              <a:ext cx="98172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28" name=""/>
            <p:cNvCxnSpPr>
              <a:stCxn id="719" idx="2"/>
              <a:endCxn id="717" idx="6"/>
            </p:cNvCxnSpPr>
            <p:nvPr/>
          </p:nvCxnSpPr>
          <p:spPr>
            <a:xfrm flipH="1">
              <a:off x="3656880" y="5219640"/>
              <a:ext cx="2439000" cy="534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729" name=""/>
          <p:cNvGrpSpPr/>
          <p:nvPr/>
        </p:nvGrpSpPr>
        <p:grpSpPr>
          <a:xfrm>
            <a:off x="3623760" y="4381560"/>
            <a:ext cx="1329120" cy="1752480"/>
            <a:chOff x="3623760" y="4381560"/>
            <a:chExt cx="1329120" cy="1752480"/>
          </a:xfrm>
        </p:grpSpPr>
        <p:cxnSp>
          <p:nvCxnSpPr>
            <p:cNvPr id="730" name=""/>
            <p:cNvCxnSpPr>
              <a:stCxn id="720" idx="2"/>
              <a:endCxn id="715" idx="6"/>
            </p:cNvCxnSpPr>
            <p:nvPr/>
          </p:nvCxnSpPr>
          <p:spPr>
            <a:xfrm flipH="1">
              <a:off x="3733560" y="4381560"/>
              <a:ext cx="1219680" cy="7668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731" name=""/>
            <p:cNvCxnSpPr>
              <a:stCxn id="717" idx="5"/>
              <a:endCxn id="718" idx="2"/>
            </p:cNvCxnSpPr>
            <p:nvPr/>
          </p:nvCxnSpPr>
          <p:spPr>
            <a:xfrm>
              <a:off x="3623760" y="5833800"/>
              <a:ext cx="1329480" cy="3006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sp>
        <p:nvSpPr>
          <p:cNvPr id="732" name=""/>
          <p:cNvSpPr/>
          <p:nvPr/>
        </p:nvSpPr>
        <p:spPr>
          <a:xfrm>
            <a:off x="370440" y="3927600"/>
            <a:ext cx="45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stabile mass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ma no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mass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1840" y="614844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abbinamento massim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58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6" idx="5"/>
            <a:endCxn id="737" idx="2"/>
          </p:cNvCxnSpPr>
          <p:nvPr/>
        </p:nvCxnSpPr>
        <p:spPr>
          <a:xfrm>
            <a:off x="2557080" y="3090600"/>
            <a:ext cx="872280" cy="453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2" name=""/>
          <p:cNvCxnSpPr>
            <a:stCxn id="736" idx="7"/>
            <a:endCxn id="735" idx="3"/>
          </p:cNvCxnSpPr>
          <p:nvPr/>
        </p:nvCxnSpPr>
        <p:spPr>
          <a:xfrm flipV="1">
            <a:off x="2557080" y="2328120"/>
            <a:ext cx="981720" cy="600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3" name=""/>
          <p:cNvCxnSpPr>
            <a:stCxn id="737" idx="0"/>
            <a:endCxn id="735" idx="4"/>
          </p:cNvCxnSpPr>
          <p:nvPr/>
        </p:nvCxnSpPr>
        <p:spPr>
          <a:xfrm flipV="1">
            <a:off x="3543120" y="2361600"/>
            <a:ext cx="76680" cy="1067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4" name=""/>
          <p:cNvCxnSpPr>
            <a:stCxn id="740" idx="2"/>
            <a:endCxn id="735" idx="6"/>
          </p:cNvCxnSpPr>
          <p:nvPr/>
        </p:nvCxnSpPr>
        <p:spPr>
          <a:xfrm flipH="1">
            <a:off x="3733560" y="2171520"/>
            <a:ext cx="1219680" cy="76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5" name=""/>
          <p:cNvCxnSpPr>
            <a:stCxn id="737" idx="5"/>
            <a:endCxn id="738" idx="2"/>
          </p:cNvCxnSpPr>
          <p:nvPr/>
        </p:nvCxnSpPr>
        <p:spPr>
          <a:xfrm>
            <a:off x="3623760" y="3624120"/>
            <a:ext cx="1329480" cy="300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6" name=""/>
          <p:cNvCxnSpPr>
            <a:stCxn id="735" idx="5"/>
            <a:endCxn id="738" idx="1"/>
          </p:cNvCxnSpPr>
          <p:nvPr/>
        </p:nvCxnSpPr>
        <p:spPr>
          <a:xfrm>
            <a:off x="3700440" y="2328480"/>
            <a:ext cx="1286640" cy="1515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7" name=""/>
          <p:cNvCxnSpPr>
            <a:stCxn id="739" idx="3"/>
            <a:endCxn id="738" idx="7"/>
          </p:cNvCxnSpPr>
          <p:nvPr/>
        </p:nvCxnSpPr>
        <p:spPr>
          <a:xfrm flipH="1">
            <a:off x="5147640" y="3090960"/>
            <a:ext cx="981720" cy="75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48" name=""/>
          <p:cNvCxnSpPr>
            <a:stCxn id="739" idx="2"/>
            <a:endCxn id="737" idx="6"/>
          </p:cNvCxnSpPr>
          <p:nvPr/>
        </p:nvCxnSpPr>
        <p:spPr>
          <a:xfrm flipH="1">
            <a:off x="3656880" y="3009960"/>
            <a:ext cx="24390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60958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3623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6232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290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952880" y="6019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958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58" name=""/>
          <p:cNvCxnSpPr>
            <a:stCxn id="753" idx="5"/>
            <a:endCxn id="754" idx="2"/>
          </p:cNvCxnSpPr>
          <p:nvPr/>
        </p:nvCxnSpPr>
        <p:spPr>
          <a:xfrm>
            <a:off x="2557080" y="5300280"/>
            <a:ext cx="872280" cy="453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59" name=""/>
          <p:cNvCxnSpPr>
            <a:stCxn id="753" idx="7"/>
            <a:endCxn id="752" idx="3"/>
          </p:cNvCxnSpPr>
          <p:nvPr/>
        </p:nvCxnSpPr>
        <p:spPr>
          <a:xfrm flipV="1">
            <a:off x="2557080" y="4537800"/>
            <a:ext cx="981720" cy="600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60" name=""/>
          <p:cNvCxnSpPr>
            <a:stCxn id="754" idx="0"/>
            <a:endCxn id="752" idx="4"/>
          </p:cNvCxnSpPr>
          <p:nvPr/>
        </p:nvCxnSpPr>
        <p:spPr>
          <a:xfrm flipV="1">
            <a:off x="3543120" y="4571280"/>
            <a:ext cx="76680" cy="1067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61" name=""/>
          <p:cNvCxnSpPr>
            <a:stCxn id="757" idx="2"/>
            <a:endCxn id="752" idx="6"/>
          </p:cNvCxnSpPr>
          <p:nvPr/>
        </p:nvCxnSpPr>
        <p:spPr>
          <a:xfrm flipH="1">
            <a:off x="3733560" y="4381560"/>
            <a:ext cx="1219680" cy="76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62" name=""/>
          <p:cNvCxnSpPr>
            <a:stCxn id="754" idx="5"/>
            <a:endCxn id="755" idx="2"/>
          </p:cNvCxnSpPr>
          <p:nvPr/>
        </p:nvCxnSpPr>
        <p:spPr>
          <a:xfrm>
            <a:off x="3623760" y="5833800"/>
            <a:ext cx="1329480" cy="300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63" name=""/>
          <p:cNvCxnSpPr>
            <a:stCxn id="752" idx="5"/>
            <a:endCxn id="755" idx="1"/>
          </p:cNvCxnSpPr>
          <p:nvPr/>
        </p:nvCxnSpPr>
        <p:spPr>
          <a:xfrm>
            <a:off x="3700440" y="4538160"/>
            <a:ext cx="1286640" cy="1515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64" name=""/>
          <p:cNvCxnSpPr>
            <a:stCxn id="756" idx="3"/>
            <a:endCxn id="755" idx="7"/>
          </p:cNvCxnSpPr>
          <p:nvPr/>
        </p:nvCxnSpPr>
        <p:spPr>
          <a:xfrm flipH="1">
            <a:off x="5147640" y="5300640"/>
            <a:ext cx="981720" cy="75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765" name=""/>
          <p:cNvCxnSpPr>
            <a:stCxn id="756" idx="2"/>
            <a:endCxn id="754" idx="6"/>
          </p:cNvCxnSpPr>
          <p:nvPr/>
        </p:nvCxnSpPr>
        <p:spPr>
          <a:xfrm flipH="1">
            <a:off x="3656880" y="5219640"/>
            <a:ext cx="24390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766" name=""/>
          <p:cNvGrpSpPr/>
          <p:nvPr/>
        </p:nvGrpSpPr>
        <p:grpSpPr>
          <a:xfrm>
            <a:off x="2556720" y="4381560"/>
            <a:ext cx="3572640" cy="1671480"/>
            <a:chOff x="2556720" y="4381560"/>
            <a:chExt cx="3572640" cy="1671480"/>
          </a:xfrm>
        </p:grpSpPr>
        <p:cxnSp>
          <p:nvCxnSpPr>
            <p:cNvPr id="767" name=""/>
            <p:cNvCxnSpPr/>
            <p:nvPr/>
          </p:nvCxnSpPr>
          <p:spPr>
            <a:xfrm flipH="1" flipV="1">
              <a:off x="2556720" y="5299920"/>
              <a:ext cx="872280" cy="45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768" name=""/>
            <p:cNvCxnSpPr/>
            <p:nvPr/>
          </p:nvCxnSpPr>
          <p:spPr>
            <a:xfrm flipV="1">
              <a:off x="3733920" y="4381560"/>
              <a:ext cx="1219680" cy="7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769" name=""/>
            <p:cNvCxnSpPr/>
            <p:nvPr/>
          </p:nvCxnSpPr>
          <p:spPr>
            <a:xfrm flipV="1">
              <a:off x="5148000" y="5300280"/>
              <a:ext cx="981720" cy="753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770" name=""/>
          <p:cNvSpPr/>
          <p:nvPr/>
        </p:nvSpPr>
        <p:spPr>
          <a:xfrm>
            <a:off x="370440" y="3927600"/>
            <a:ext cx="45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stabile mass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ma no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mass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44880" y="614844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abbinamento mass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ma no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mass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per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Definizion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to un grafo simmetric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, diremo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pertur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 qualunque sottoinsiem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vertic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spigoli) tale che ogni spigol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vertice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incide su almeno un element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nsiem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dett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trasversal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vertex-cov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nsiem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dett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edge-cover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Definizion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copertur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minimal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{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} non è una copertur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per ogn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copertur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minim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 per ogni copertura d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7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sservazione: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V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e 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E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sono rispettivamente trasversale e edge-cov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362320" y="1905120"/>
            <a:ext cx="3961800" cy="1980720"/>
            <a:chOff x="2362320" y="1905120"/>
            <a:chExt cx="3961800" cy="1980720"/>
          </a:xfrm>
        </p:grpSpPr>
        <p:sp>
          <p:nvSpPr>
            <p:cNvPr id="777" name=""/>
            <p:cNvSpPr/>
            <p:nvPr/>
          </p:nvSpPr>
          <p:spPr>
            <a:xfrm>
              <a:off x="3504960" y="19810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62320" y="27432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8640" y="32763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52880" y="36576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95880" y="27432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880" y="190512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83" name=""/>
            <p:cNvCxnSpPr>
              <a:stCxn id="778" idx="5"/>
              <a:endCxn id="779" idx="2"/>
            </p:cNvCxnSpPr>
            <p:nvPr/>
          </p:nvCxnSpPr>
          <p:spPr>
            <a:xfrm>
              <a:off x="2557080" y="293832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84" name=""/>
            <p:cNvCxnSpPr>
              <a:stCxn id="778" idx="7"/>
              <a:endCxn id="777" idx="3"/>
            </p:cNvCxnSpPr>
            <p:nvPr/>
          </p:nvCxnSpPr>
          <p:spPr>
            <a:xfrm flipV="1">
              <a:off x="2556720" y="217584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85" name=""/>
            <p:cNvCxnSpPr>
              <a:stCxn id="779" idx="0"/>
              <a:endCxn id="777" idx="4"/>
            </p:cNvCxnSpPr>
            <p:nvPr/>
          </p:nvCxnSpPr>
          <p:spPr>
            <a:xfrm flipV="1">
              <a:off x="3542760" y="220932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86" name=""/>
            <p:cNvCxnSpPr>
              <a:stCxn id="782" idx="2"/>
              <a:endCxn id="777" idx="6"/>
            </p:cNvCxnSpPr>
            <p:nvPr/>
          </p:nvCxnSpPr>
          <p:spPr>
            <a:xfrm flipH="1">
              <a:off x="3733200" y="201888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87" name=""/>
            <p:cNvCxnSpPr>
              <a:stCxn id="779" idx="5"/>
              <a:endCxn id="780" idx="2"/>
            </p:cNvCxnSpPr>
            <p:nvPr/>
          </p:nvCxnSpPr>
          <p:spPr>
            <a:xfrm>
              <a:off x="3624120" y="347184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88" name=""/>
            <p:cNvCxnSpPr>
              <a:stCxn id="777" idx="5"/>
              <a:endCxn id="780" idx="1"/>
            </p:cNvCxnSpPr>
            <p:nvPr/>
          </p:nvCxnSpPr>
          <p:spPr>
            <a:xfrm>
              <a:off x="3699720" y="217620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89" name=""/>
            <p:cNvCxnSpPr>
              <a:stCxn id="781" idx="3"/>
              <a:endCxn id="780" idx="7"/>
            </p:cNvCxnSpPr>
            <p:nvPr/>
          </p:nvCxnSpPr>
          <p:spPr>
            <a:xfrm flipH="1">
              <a:off x="5147640" y="293796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90" name=""/>
            <p:cNvCxnSpPr>
              <a:stCxn id="781" idx="2"/>
              <a:endCxn id="779" idx="6"/>
            </p:cNvCxnSpPr>
            <p:nvPr/>
          </p:nvCxnSpPr>
          <p:spPr>
            <a:xfrm flipH="1">
              <a:off x="3656520" y="285696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791" name=""/>
          <p:cNvGrpSpPr/>
          <p:nvPr/>
        </p:nvGrpSpPr>
        <p:grpSpPr>
          <a:xfrm>
            <a:off x="3733560" y="1905120"/>
            <a:ext cx="1447920" cy="228600"/>
            <a:chOff x="3733560" y="1905120"/>
            <a:chExt cx="1447920" cy="228600"/>
          </a:xfrm>
        </p:grpSpPr>
        <p:sp>
          <p:nvSpPr>
            <p:cNvPr id="792" name=""/>
            <p:cNvSpPr/>
            <p:nvPr/>
          </p:nvSpPr>
          <p:spPr>
            <a:xfrm>
              <a:off x="4952880" y="190512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93" name=""/>
            <p:cNvCxnSpPr>
              <a:stCxn id="792" idx="2"/>
            </p:cNvCxnSpPr>
            <p:nvPr/>
          </p:nvCxnSpPr>
          <p:spPr>
            <a:xfrm flipH="1">
              <a:off x="3733560" y="2019240"/>
              <a:ext cx="1219680" cy="76680"/>
            </a:xfrm>
            <a:prstGeom prst="straightConnector1">
              <a:avLst/>
            </a:prstGeom>
            <a:ln w="28440">
              <a:solidFill>
                <a:srgbClr val="cfdbfd"/>
              </a:solidFill>
              <a:miter/>
            </a:ln>
          </p:spPr>
        </p:cxnSp>
      </p:grpSp>
      <p:grpSp>
        <p:nvGrpSpPr>
          <p:cNvPr id="794" name=""/>
          <p:cNvGrpSpPr/>
          <p:nvPr/>
        </p:nvGrpSpPr>
        <p:grpSpPr>
          <a:xfrm>
            <a:off x="3700440" y="2176200"/>
            <a:ext cx="2428560" cy="1710000"/>
            <a:chOff x="3700440" y="2176200"/>
            <a:chExt cx="2428560" cy="1710000"/>
          </a:xfrm>
        </p:grpSpPr>
        <p:sp>
          <p:nvSpPr>
            <p:cNvPr id="795" name=""/>
            <p:cNvSpPr/>
            <p:nvPr/>
          </p:nvSpPr>
          <p:spPr>
            <a:xfrm>
              <a:off x="4952880" y="3657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96" name=""/>
            <p:cNvCxnSpPr/>
            <p:nvPr/>
          </p:nvCxnSpPr>
          <p:spPr>
            <a:xfrm>
              <a:off x="3700440" y="2176200"/>
              <a:ext cx="1286640" cy="1515240"/>
            </a:xfrm>
            <a:prstGeom prst="straightConnector1">
              <a:avLst/>
            </a:prstGeom>
            <a:ln w="28440">
              <a:solidFill>
                <a:srgbClr val="cfdbfd"/>
              </a:solidFill>
              <a:miter/>
            </a:ln>
          </p:spPr>
        </p:cxnSp>
        <p:cxnSp>
          <p:nvCxnSpPr>
            <p:cNvPr id="797" name=""/>
            <p:cNvCxnSpPr/>
            <p:nvPr/>
          </p:nvCxnSpPr>
          <p:spPr>
            <a:xfrm flipH="1">
              <a:off x="5147640" y="2938680"/>
              <a:ext cx="981720" cy="753120"/>
            </a:xfrm>
            <a:prstGeom prst="straightConnector1">
              <a:avLst/>
            </a:prstGeom>
            <a:ln w="28440">
              <a:solidFill>
                <a:srgbClr val="cfdbfd"/>
              </a:solidFill>
              <a:miter/>
            </a:ln>
          </p:spPr>
        </p:cxnSp>
      </p:grpSp>
      <p:grpSp>
        <p:nvGrpSpPr>
          <p:cNvPr id="798" name=""/>
          <p:cNvGrpSpPr/>
          <p:nvPr/>
        </p:nvGrpSpPr>
        <p:grpSpPr>
          <a:xfrm>
            <a:off x="2557080" y="2208960"/>
            <a:ext cx="3538440" cy="1562400"/>
            <a:chOff x="2557080" y="2208960"/>
            <a:chExt cx="3538440" cy="1562400"/>
          </a:xfrm>
        </p:grpSpPr>
        <p:sp>
          <p:nvSpPr>
            <p:cNvPr id="799" name=""/>
            <p:cNvSpPr/>
            <p:nvPr/>
          </p:nvSpPr>
          <p:spPr>
            <a:xfrm>
              <a:off x="3429000" y="327636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2557080" y="2208960"/>
              <a:ext cx="3538440" cy="1562400"/>
              <a:chOff x="2557080" y="2208960"/>
              <a:chExt cx="3538440" cy="1562400"/>
            </a:xfrm>
          </p:grpSpPr>
          <p:cxnSp>
            <p:nvCxnSpPr>
              <p:cNvPr id="801" name=""/>
              <p:cNvCxnSpPr>
                <a:endCxn id="799" idx="2"/>
              </p:cNvCxnSpPr>
              <p:nvPr/>
            </p:nvCxnSpPr>
            <p:spPr>
              <a:xfrm>
                <a:off x="2557080" y="2937960"/>
                <a:ext cx="872280" cy="45288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02" name=""/>
              <p:cNvCxnSpPr>
                <a:stCxn id="799" idx="0"/>
              </p:cNvCxnSpPr>
              <p:nvPr/>
            </p:nvCxnSpPr>
            <p:spPr>
              <a:xfrm flipV="1">
                <a:off x="3543120" y="2208960"/>
                <a:ext cx="76680" cy="106740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03" name=""/>
              <p:cNvCxnSpPr>
                <a:stCxn id="799" idx="5"/>
                <a:endCxn id="795" idx="2"/>
              </p:cNvCxnSpPr>
              <p:nvPr/>
            </p:nvCxnSpPr>
            <p:spPr>
              <a:xfrm>
                <a:off x="3623760" y="3471120"/>
                <a:ext cx="1329480" cy="30060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04" name=""/>
              <p:cNvCxnSpPr>
                <a:endCxn id="799" idx="6"/>
              </p:cNvCxnSpPr>
              <p:nvPr/>
            </p:nvCxnSpPr>
            <p:spPr>
              <a:xfrm flipH="1">
                <a:off x="3656880" y="2857320"/>
                <a:ext cx="2439000" cy="53352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</p:grpSp>
      </p:grpSp>
      <p:grpSp>
        <p:nvGrpSpPr>
          <p:cNvPr id="805" name=""/>
          <p:cNvGrpSpPr/>
          <p:nvPr/>
        </p:nvGrpSpPr>
        <p:grpSpPr>
          <a:xfrm>
            <a:off x="2362320" y="2175840"/>
            <a:ext cx="1176120" cy="795960"/>
            <a:chOff x="2362320" y="2175840"/>
            <a:chExt cx="1176120" cy="795960"/>
          </a:xfrm>
        </p:grpSpPr>
        <p:cxnSp>
          <p:nvCxnSpPr>
            <p:cNvPr id="806" name=""/>
            <p:cNvCxnSpPr/>
            <p:nvPr/>
          </p:nvCxnSpPr>
          <p:spPr>
            <a:xfrm flipV="1">
              <a:off x="2557080" y="2175840"/>
              <a:ext cx="981720" cy="600840"/>
            </a:xfrm>
            <a:prstGeom prst="straightConnector1">
              <a:avLst/>
            </a:prstGeom>
            <a:ln w="28440">
              <a:solidFill>
                <a:srgbClr val="cfdbfd"/>
              </a:solidFill>
              <a:miter/>
            </a:ln>
          </p:spPr>
        </p:cxnSp>
        <p:sp>
          <p:nvSpPr>
            <p:cNvPr id="807" name=""/>
            <p:cNvSpPr/>
            <p:nvPr/>
          </p:nvSpPr>
          <p:spPr>
            <a:xfrm>
              <a:off x="2362320" y="27432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23720" y="3878280"/>
            <a:ext cx="26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trasversale minim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362320" y="1905120"/>
            <a:ext cx="3961800" cy="1980720"/>
            <a:chOff x="2362320" y="1905120"/>
            <a:chExt cx="3961800" cy="1980720"/>
          </a:xfrm>
        </p:grpSpPr>
        <p:sp>
          <p:nvSpPr>
            <p:cNvPr id="811" name=""/>
            <p:cNvSpPr/>
            <p:nvPr/>
          </p:nvSpPr>
          <p:spPr>
            <a:xfrm>
              <a:off x="3504960" y="19810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62320" y="27432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28640" y="32763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52880" y="36576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95880" y="27432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52880" y="190512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817" name=""/>
            <p:cNvCxnSpPr>
              <a:stCxn id="812" idx="5"/>
              <a:endCxn id="813" idx="2"/>
            </p:cNvCxnSpPr>
            <p:nvPr/>
          </p:nvCxnSpPr>
          <p:spPr>
            <a:xfrm>
              <a:off x="2557080" y="293832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18" name=""/>
            <p:cNvCxnSpPr>
              <a:stCxn id="812" idx="7"/>
              <a:endCxn id="811" idx="3"/>
            </p:cNvCxnSpPr>
            <p:nvPr/>
          </p:nvCxnSpPr>
          <p:spPr>
            <a:xfrm flipV="1">
              <a:off x="2556720" y="217584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19" name=""/>
            <p:cNvCxnSpPr>
              <a:stCxn id="813" idx="0"/>
              <a:endCxn id="811" idx="4"/>
            </p:cNvCxnSpPr>
            <p:nvPr/>
          </p:nvCxnSpPr>
          <p:spPr>
            <a:xfrm flipV="1">
              <a:off x="3542760" y="220932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20" name=""/>
            <p:cNvCxnSpPr>
              <a:stCxn id="816" idx="2"/>
              <a:endCxn id="811" idx="6"/>
            </p:cNvCxnSpPr>
            <p:nvPr/>
          </p:nvCxnSpPr>
          <p:spPr>
            <a:xfrm flipH="1">
              <a:off x="3733200" y="201888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21" name=""/>
            <p:cNvCxnSpPr>
              <a:stCxn id="813" idx="5"/>
              <a:endCxn id="814" idx="2"/>
            </p:cNvCxnSpPr>
            <p:nvPr/>
          </p:nvCxnSpPr>
          <p:spPr>
            <a:xfrm>
              <a:off x="3624120" y="347184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22" name=""/>
            <p:cNvCxnSpPr>
              <a:stCxn id="811" idx="5"/>
              <a:endCxn id="814" idx="1"/>
            </p:cNvCxnSpPr>
            <p:nvPr/>
          </p:nvCxnSpPr>
          <p:spPr>
            <a:xfrm>
              <a:off x="3699720" y="217620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23" name=""/>
            <p:cNvCxnSpPr>
              <a:stCxn id="815" idx="3"/>
              <a:endCxn id="814" idx="7"/>
            </p:cNvCxnSpPr>
            <p:nvPr/>
          </p:nvCxnSpPr>
          <p:spPr>
            <a:xfrm flipH="1">
              <a:off x="5147640" y="293796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24" name=""/>
            <p:cNvCxnSpPr>
              <a:stCxn id="815" idx="2"/>
              <a:endCxn id="813" idx="6"/>
            </p:cNvCxnSpPr>
            <p:nvPr/>
          </p:nvCxnSpPr>
          <p:spPr>
            <a:xfrm flipH="1">
              <a:off x="3656520" y="285696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825" name=""/>
          <p:cNvGrpSpPr/>
          <p:nvPr/>
        </p:nvGrpSpPr>
        <p:grpSpPr>
          <a:xfrm>
            <a:off x="2557080" y="1981080"/>
            <a:ext cx="3571920" cy="1904760"/>
            <a:chOff x="2557080" y="1981080"/>
            <a:chExt cx="3571920" cy="1904760"/>
          </a:xfrm>
        </p:grpSpPr>
        <p:grpSp>
          <p:nvGrpSpPr>
            <p:cNvPr id="826" name=""/>
            <p:cNvGrpSpPr/>
            <p:nvPr/>
          </p:nvGrpSpPr>
          <p:grpSpPr>
            <a:xfrm>
              <a:off x="3700440" y="2175840"/>
              <a:ext cx="2428560" cy="1710000"/>
              <a:chOff x="3700440" y="2175840"/>
              <a:chExt cx="2428560" cy="1710000"/>
            </a:xfrm>
          </p:grpSpPr>
          <p:sp>
            <p:nvSpPr>
              <p:cNvPr id="827" name=""/>
              <p:cNvSpPr/>
              <p:nvPr/>
            </p:nvSpPr>
            <p:spPr>
              <a:xfrm>
                <a:off x="4952880" y="36572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828" name=""/>
              <p:cNvGrpSpPr/>
              <p:nvPr/>
            </p:nvGrpSpPr>
            <p:grpSpPr>
              <a:xfrm>
                <a:off x="3700440" y="2175840"/>
                <a:ext cx="2428560" cy="1515240"/>
                <a:chOff x="3700440" y="2175840"/>
                <a:chExt cx="2428560" cy="1515240"/>
              </a:xfrm>
            </p:grpSpPr>
            <p:cxnSp>
              <p:nvCxnSpPr>
                <p:cNvPr id="829" name=""/>
                <p:cNvCxnSpPr/>
                <p:nvPr/>
              </p:nvCxnSpPr>
              <p:spPr>
                <a:xfrm>
                  <a:off x="3700440" y="2175840"/>
                  <a:ext cx="1286640" cy="1515240"/>
                </a:xfrm>
                <a:prstGeom prst="straightConnector1">
                  <a:avLst/>
                </a:prstGeom>
                <a:ln w="28440">
                  <a:solidFill>
                    <a:srgbClr val="cfdbfd"/>
                  </a:solidFill>
                  <a:miter/>
                </a:ln>
              </p:spPr>
            </p:cxnSp>
            <p:cxnSp>
              <p:nvCxnSpPr>
                <p:cNvPr id="830" name=""/>
                <p:cNvCxnSpPr/>
                <p:nvPr/>
              </p:nvCxnSpPr>
              <p:spPr>
                <a:xfrm flipH="1">
                  <a:off x="5147640" y="2938320"/>
                  <a:ext cx="981720" cy="753120"/>
                </a:xfrm>
                <a:prstGeom prst="straightConnector1">
                  <a:avLst/>
                </a:prstGeom>
                <a:ln w="28440">
                  <a:solidFill>
                    <a:srgbClr val="cfdbfd"/>
                  </a:solidFill>
                  <a:miter/>
                </a:ln>
              </p:spPr>
            </p:cxnSp>
          </p:grpSp>
        </p:grpSp>
        <p:grpSp>
          <p:nvGrpSpPr>
            <p:cNvPr id="831" name=""/>
            <p:cNvGrpSpPr/>
            <p:nvPr/>
          </p:nvGrpSpPr>
          <p:grpSpPr>
            <a:xfrm>
              <a:off x="2557080" y="2208960"/>
              <a:ext cx="3538440" cy="1562760"/>
              <a:chOff x="2557080" y="2208960"/>
              <a:chExt cx="3538440" cy="1562760"/>
            </a:xfrm>
          </p:grpSpPr>
          <p:sp>
            <p:nvSpPr>
              <p:cNvPr id="832" name=""/>
              <p:cNvSpPr/>
              <p:nvPr/>
            </p:nvSpPr>
            <p:spPr>
              <a:xfrm>
                <a:off x="3429000" y="32763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833" name=""/>
              <p:cNvCxnSpPr/>
              <p:nvPr/>
            </p:nvCxnSpPr>
            <p:spPr>
              <a:xfrm>
                <a:off x="2557080" y="2937960"/>
                <a:ext cx="872280" cy="45324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34" name=""/>
              <p:cNvCxnSpPr/>
              <p:nvPr/>
            </p:nvCxnSpPr>
            <p:spPr>
              <a:xfrm flipV="1">
                <a:off x="3543120" y="2208960"/>
                <a:ext cx="76680" cy="106740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35" name=""/>
              <p:cNvCxnSpPr/>
              <p:nvPr/>
            </p:nvCxnSpPr>
            <p:spPr>
              <a:xfrm>
                <a:off x="3623760" y="3471480"/>
                <a:ext cx="1329480" cy="30060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36" name=""/>
              <p:cNvCxnSpPr/>
              <p:nvPr/>
            </p:nvCxnSpPr>
            <p:spPr>
              <a:xfrm flipH="1">
                <a:off x="3656880" y="2857320"/>
                <a:ext cx="2439000" cy="53424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</p:grpSp>
        <p:grpSp>
          <p:nvGrpSpPr>
            <p:cNvPr id="837" name=""/>
            <p:cNvGrpSpPr/>
            <p:nvPr/>
          </p:nvGrpSpPr>
          <p:grpSpPr>
            <a:xfrm>
              <a:off x="2557080" y="1981080"/>
              <a:ext cx="2395800" cy="794880"/>
              <a:chOff x="2557080" y="1981080"/>
              <a:chExt cx="2395800" cy="794880"/>
            </a:xfrm>
          </p:grpSpPr>
          <p:cxnSp>
            <p:nvCxnSpPr>
              <p:cNvPr id="838" name=""/>
              <p:cNvCxnSpPr/>
              <p:nvPr/>
            </p:nvCxnSpPr>
            <p:spPr>
              <a:xfrm flipH="1">
                <a:off x="3733560" y="2018880"/>
                <a:ext cx="1219680" cy="7668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839" name=""/>
              <p:cNvCxnSpPr/>
              <p:nvPr/>
            </p:nvCxnSpPr>
            <p:spPr>
              <a:xfrm flipV="1">
                <a:off x="2557080" y="2175480"/>
                <a:ext cx="981720" cy="60084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sp>
            <p:nvSpPr>
              <p:cNvPr id="840" name=""/>
              <p:cNvSpPr/>
              <p:nvPr/>
            </p:nvSpPr>
            <p:spPr>
              <a:xfrm>
                <a:off x="3505320" y="1981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359640" y="387828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trasversale min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ma no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min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2362320" y="4343400"/>
            <a:ext cx="3961800" cy="1980720"/>
            <a:chOff x="2362320" y="4343400"/>
            <a:chExt cx="3961800" cy="1980720"/>
          </a:xfrm>
        </p:grpSpPr>
        <p:sp>
          <p:nvSpPr>
            <p:cNvPr id="843" name=""/>
            <p:cNvSpPr/>
            <p:nvPr/>
          </p:nvSpPr>
          <p:spPr>
            <a:xfrm>
              <a:off x="3504960" y="44193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62320" y="51814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8640" y="57146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952880" y="60958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95880" y="51814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952880" y="4343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849" name=""/>
            <p:cNvCxnSpPr>
              <a:stCxn id="844" idx="5"/>
              <a:endCxn id="845" idx="2"/>
            </p:cNvCxnSpPr>
            <p:nvPr/>
          </p:nvCxnSpPr>
          <p:spPr>
            <a:xfrm>
              <a:off x="2557080" y="537660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0" name=""/>
            <p:cNvCxnSpPr>
              <a:stCxn id="844" idx="7"/>
              <a:endCxn id="843" idx="3"/>
            </p:cNvCxnSpPr>
            <p:nvPr/>
          </p:nvCxnSpPr>
          <p:spPr>
            <a:xfrm flipV="1">
              <a:off x="2556720" y="461412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1" name=""/>
            <p:cNvCxnSpPr>
              <a:stCxn id="845" idx="0"/>
              <a:endCxn id="843" idx="4"/>
            </p:cNvCxnSpPr>
            <p:nvPr/>
          </p:nvCxnSpPr>
          <p:spPr>
            <a:xfrm flipV="1">
              <a:off x="3542760" y="464760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2" name=""/>
            <p:cNvCxnSpPr>
              <a:stCxn id="848" idx="2"/>
              <a:endCxn id="843" idx="6"/>
            </p:cNvCxnSpPr>
            <p:nvPr/>
          </p:nvCxnSpPr>
          <p:spPr>
            <a:xfrm flipH="1">
              <a:off x="3733200" y="445716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3" name=""/>
            <p:cNvCxnSpPr>
              <a:stCxn id="845" idx="5"/>
              <a:endCxn id="846" idx="2"/>
            </p:cNvCxnSpPr>
            <p:nvPr/>
          </p:nvCxnSpPr>
          <p:spPr>
            <a:xfrm>
              <a:off x="3624120" y="591012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4" name=""/>
            <p:cNvCxnSpPr>
              <a:stCxn id="843" idx="5"/>
              <a:endCxn id="846" idx="1"/>
            </p:cNvCxnSpPr>
            <p:nvPr/>
          </p:nvCxnSpPr>
          <p:spPr>
            <a:xfrm>
              <a:off x="3699720" y="461448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5" name=""/>
            <p:cNvCxnSpPr>
              <a:stCxn id="847" idx="3"/>
              <a:endCxn id="846" idx="7"/>
            </p:cNvCxnSpPr>
            <p:nvPr/>
          </p:nvCxnSpPr>
          <p:spPr>
            <a:xfrm flipH="1">
              <a:off x="5147640" y="537624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56" name=""/>
            <p:cNvCxnSpPr>
              <a:stCxn id="847" idx="2"/>
              <a:endCxn id="845" idx="6"/>
            </p:cNvCxnSpPr>
            <p:nvPr/>
          </p:nvCxnSpPr>
          <p:spPr>
            <a:xfrm flipH="1">
              <a:off x="3656520" y="529524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857" name=""/>
          <p:cNvGrpSpPr/>
          <p:nvPr/>
        </p:nvGrpSpPr>
        <p:grpSpPr>
          <a:xfrm>
            <a:off x="2557080" y="4457880"/>
            <a:ext cx="2395800" cy="1257120"/>
            <a:chOff x="2557080" y="4457880"/>
            <a:chExt cx="2395800" cy="1257120"/>
          </a:xfrm>
        </p:grpSpPr>
        <p:cxnSp>
          <p:nvCxnSpPr>
            <p:cNvPr id="858" name=""/>
            <p:cNvCxnSpPr/>
            <p:nvPr/>
          </p:nvCxnSpPr>
          <p:spPr>
            <a:xfrm flipH="1">
              <a:off x="3542760" y="4647960"/>
              <a:ext cx="76680" cy="106740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859" name=""/>
            <p:cNvCxnSpPr/>
            <p:nvPr/>
          </p:nvCxnSpPr>
          <p:spPr>
            <a:xfrm flipV="1">
              <a:off x="2557080" y="4614120"/>
              <a:ext cx="981720" cy="6008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860" name=""/>
            <p:cNvCxnSpPr/>
            <p:nvPr/>
          </p:nvCxnSpPr>
          <p:spPr>
            <a:xfrm flipH="1">
              <a:off x="3733560" y="4457880"/>
              <a:ext cx="1219680" cy="7668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</p:grpSp>
      <p:grpSp>
        <p:nvGrpSpPr>
          <p:cNvPr id="861" name=""/>
          <p:cNvGrpSpPr/>
          <p:nvPr/>
        </p:nvGrpSpPr>
        <p:grpSpPr>
          <a:xfrm>
            <a:off x="2362320" y="4343400"/>
            <a:ext cx="2819160" cy="1600200"/>
            <a:chOff x="2362320" y="4343400"/>
            <a:chExt cx="2819160" cy="1600200"/>
          </a:xfrm>
        </p:grpSpPr>
        <p:sp>
          <p:nvSpPr>
            <p:cNvPr id="862" name=""/>
            <p:cNvSpPr/>
            <p:nvPr/>
          </p:nvSpPr>
          <p:spPr>
            <a:xfrm>
              <a:off x="2362320" y="518184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05320" y="441972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52880" y="434340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29000" y="571500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866" name=""/>
          <p:cNvCxnSpPr/>
          <p:nvPr/>
        </p:nvCxnSpPr>
        <p:spPr>
          <a:xfrm flipV="1">
            <a:off x="5148000" y="5376600"/>
            <a:ext cx="981720" cy="75312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grpSp>
        <p:nvGrpSpPr>
          <p:cNvPr id="867" name=""/>
          <p:cNvGrpSpPr/>
          <p:nvPr/>
        </p:nvGrpSpPr>
        <p:grpSpPr>
          <a:xfrm>
            <a:off x="4952880" y="5181480"/>
            <a:ext cx="1371600" cy="1143000"/>
            <a:chOff x="4952880" y="5181480"/>
            <a:chExt cx="1371600" cy="1143000"/>
          </a:xfrm>
        </p:grpSpPr>
        <p:sp>
          <p:nvSpPr>
            <p:cNvPr id="868" name=""/>
            <p:cNvSpPr/>
            <p:nvPr/>
          </p:nvSpPr>
          <p:spPr>
            <a:xfrm>
              <a:off x="6095880" y="51814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52880" y="60958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444240" y="6148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dge-cover minim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359640" y="387828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trasversale min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ma no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min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362320" y="4343400"/>
            <a:ext cx="3961800" cy="1980720"/>
            <a:chOff x="2362320" y="4343400"/>
            <a:chExt cx="3961800" cy="1980720"/>
          </a:xfrm>
        </p:grpSpPr>
        <p:sp>
          <p:nvSpPr>
            <p:cNvPr id="874" name=""/>
            <p:cNvSpPr/>
            <p:nvPr/>
          </p:nvSpPr>
          <p:spPr>
            <a:xfrm>
              <a:off x="3504960" y="44193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62320" y="51814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8640" y="57146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52880" y="60958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95880" y="51814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52880" y="4343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880" name=""/>
            <p:cNvCxnSpPr>
              <a:stCxn id="875" idx="5"/>
              <a:endCxn id="876" idx="2"/>
            </p:cNvCxnSpPr>
            <p:nvPr/>
          </p:nvCxnSpPr>
          <p:spPr>
            <a:xfrm>
              <a:off x="2557080" y="537660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1" name=""/>
            <p:cNvCxnSpPr>
              <a:stCxn id="875" idx="7"/>
              <a:endCxn id="874" idx="3"/>
            </p:cNvCxnSpPr>
            <p:nvPr/>
          </p:nvCxnSpPr>
          <p:spPr>
            <a:xfrm flipV="1">
              <a:off x="2556720" y="461412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2" name=""/>
            <p:cNvCxnSpPr>
              <a:stCxn id="876" idx="0"/>
              <a:endCxn id="874" idx="4"/>
            </p:cNvCxnSpPr>
            <p:nvPr/>
          </p:nvCxnSpPr>
          <p:spPr>
            <a:xfrm flipV="1">
              <a:off x="3542760" y="464760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3" name=""/>
            <p:cNvCxnSpPr>
              <a:stCxn id="879" idx="2"/>
              <a:endCxn id="874" idx="6"/>
            </p:cNvCxnSpPr>
            <p:nvPr/>
          </p:nvCxnSpPr>
          <p:spPr>
            <a:xfrm flipH="1">
              <a:off x="3733200" y="445716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4" name=""/>
            <p:cNvCxnSpPr>
              <a:stCxn id="876" idx="5"/>
              <a:endCxn id="877" idx="2"/>
            </p:cNvCxnSpPr>
            <p:nvPr/>
          </p:nvCxnSpPr>
          <p:spPr>
            <a:xfrm>
              <a:off x="3624120" y="591012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5" name=""/>
            <p:cNvCxnSpPr>
              <a:stCxn id="874" idx="5"/>
              <a:endCxn id="877" idx="1"/>
            </p:cNvCxnSpPr>
            <p:nvPr/>
          </p:nvCxnSpPr>
          <p:spPr>
            <a:xfrm>
              <a:off x="3699720" y="461448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6" name=""/>
            <p:cNvCxnSpPr>
              <a:stCxn id="878" idx="3"/>
              <a:endCxn id="877" idx="7"/>
            </p:cNvCxnSpPr>
            <p:nvPr/>
          </p:nvCxnSpPr>
          <p:spPr>
            <a:xfrm flipH="1">
              <a:off x="5147640" y="537624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887" name=""/>
            <p:cNvCxnSpPr>
              <a:stCxn id="878" idx="2"/>
              <a:endCxn id="876" idx="6"/>
            </p:cNvCxnSpPr>
            <p:nvPr/>
          </p:nvCxnSpPr>
          <p:spPr>
            <a:xfrm flipH="1">
              <a:off x="3656520" y="529524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3505320" y="4343400"/>
            <a:ext cx="1676160" cy="304920"/>
            <a:chOff x="3505320" y="4343400"/>
            <a:chExt cx="1676160" cy="304920"/>
          </a:xfrm>
        </p:grpSpPr>
        <p:sp>
          <p:nvSpPr>
            <p:cNvPr id="889" name=""/>
            <p:cNvSpPr/>
            <p:nvPr/>
          </p:nvSpPr>
          <p:spPr>
            <a:xfrm>
              <a:off x="3505320" y="441972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52880" y="434340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362320" y="5181480"/>
            <a:ext cx="1295280" cy="761760"/>
            <a:chOff x="2362320" y="5181480"/>
            <a:chExt cx="1295280" cy="761760"/>
          </a:xfrm>
        </p:grpSpPr>
        <p:sp>
          <p:nvSpPr>
            <p:cNvPr id="892" name=""/>
            <p:cNvSpPr/>
            <p:nvPr/>
          </p:nvSpPr>
          <p:spPr>
            <a:xfrm>
              <a:off x="2362320" y="51814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29000" y="571464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95" idx="7"/>
            <a:endCxn id="896" idx="3"/>
          </p:cNvCxnSpPr>
          <p:nvPr/>
        </p:nvCxnSpPr>
        <p:spPr>
          <a:xfrm flipV="1">
            <a:off x="5148000" y="5376600"/>
            <a:ext cx="981720" cy="75312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grpSp>
        <p:nvGrpSpPr>
          <p:cNvPr id="897" name=""/>
          <p:cNvGrpSpPr/>
          <p:nvPr/>
        </p:nvGrpSpPr>
        <p:grpSpPr>
          <a:xfrm>
            <a:off x="4952880" y="5181480"/>
            <a:ext cx="1371600" cy="1143000"/>
            <a:chOff x="4952880" y="51814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6095880" y="51814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952880" y="60958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80160" y="6060960"/>
            <a:ext cx="47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dge-cover min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ma no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min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89" idx="6"/>
            <a:endCxn id="890" idx="2"/>
          </p:cNvCxnSpPr>
          <p:nvPr/>
        </p:nvCxnSpPr>
        <p:spPr>
          <a:xfrm flipV="1">
            <a:off x="3733920" y="4457160"/>
            <a:ext cx="121968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900" name=""/>
          <p:cNvCxnSpPr>
            <a:stCxn id="892" idx="5"/>
            <a:endCxn id="893" idx="2"/>
          </p:cNvCxnSpPr>
          <p:nvPr/>
        </p:nvCxnSpPr>
        <p:spPr>
          <a:xfrm>
            <a:off x="2557080" y="5376600"/>
            <a:ext cx="872280" cy="4532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grpSp>
        <p:nvGrpSpPr>
          <p:cNvPr id="901" name=""/>
          <p:cNvGrpSpPr/>
          <p:nvPr/>
        </p:nvGrpSpPr>
        <p:grpSpPr>
          <a:xfrm>
            <a:off x="2362320" y="1905120"/>
            <a:ext cx="3961800" cy="1980720"/>
            <a:chOff x="2362320" y="1905120"/>
            <a:chExt cx="3961800" cy="1980720"/>
          </a:xfrm>
        </p:grpSpPr>
        <p:sp>
          <p:nvSpPr>
            <p:cNvPr id="902" name=""/>
            <p:cNvSpPr/>
            <p:nvPr/>
          </p:nvSpPr>
          <p:spPr>
            <a:xfrm>
              <a:off x="3504960" y="19810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2320" y="27432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28640" y="32763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52880" y="36576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5880" y="27432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52880" y="190512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908" name=""/>
            <p:cNvCxnSpPr>
              <a:stCxn id="903" idx="5"/>
              <a:endCxn id="904" idx="2"/>
            </p:cNvCxnSpPr>
            <p:nvPr/>
          </p:nvCxnSpPr>
          <p:spPr>
            <a:xfrm>
              <a:off x="2557080" y="293832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09" name=""/>
            <p:cNvCxnSpPr>
              <a:stCxn id="903" idx="7"/>
              <a:endCxn id="902" idx="3"/>
            </p:cNvCxnSpPr>
            <p:nvPr/>
          </p:nvCxnSpPr>
          <p:spPr>
            <a:xfrm flipV="1">
              <a:off x="2556720" y="217584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0" name=""/>
            <p:cNvCxnSpPr>
              <a:stCxn id="904" idx="0"/>
              <a:endCxn id="902" idx="4"/>
            </p:cNvCxnSpPr>
            <p:nvPr/>
          </p:nvCxnSpPr>
          <p:spPr>
            <a:xfrm flipV="1">
              <a:off x="3542760" y="220932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1" name=""/>
            <p:cNvCxnSpPr>
              <a:stCxn id="907" idx="2"/>
              <a:endCxn id="902" idx="6"/>
            </p:cNvCxnSpPr>
            <p:nvPr/>
          </p:nvCxnSpPr>
          <p:spPr>
            <a:xfrm flipH="1">
              <a:off x="3733200" y="201888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2" name=""/>
            <p:cNvCxnSpPr>
              <a:stCxn id="904" idx="5"/>
              <a:endCxn id="905" idx="2"/>
            </p:cNvCxnSpPr>
            <p:nvPr/>
          </p:nvCxnSpPr>
          <p:spPr>
            <a:xfrm>
              <a:off x="3624120" y="347184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3" name=""/>
            <p:cNvCxnSpPr>
              <a:stCxn id="902" idx="5"/>
              <a:endCxn id="905" idx="1"/>
            </p:cNvCxnSpPr>
            <p:nvPr/>
          </p:nvCxnSpPr>
          <p:spPr>
            <a:xfrm>
              <a:off x="3699720" y="217620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4" name=""/>
            <p:cNvCxnSpPr>
              <a:stCxn id="906" idx="3"/>
              <a:endCxn id="905" idx="7"/>
            </p:cNvCxnSpPr>
            <p:nvPr/>
          </p:nvCxnSpPr>
          <p:spPr>
            <a:xfrm flipH="1">
              <a:off x="5147640" y="293796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5" name=""/>
            <p:cNvCxnSpPr>
              <a:stCxn id="906" idx="2"/>
              <a:endCxn id="904" idx="6"/>
            </p:cNvCxnSpPr>
            <p:nvPr/>
          </p:nvCxnSpPr>
          <p:spPr>
            <a:xfrm flipH="1">
              <a:off x="3656520" y="285696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916" name=""/>
          <p:cNvGrpSpPr/>
          <p:nvPr/>
        </p:nvGrpSpPr>
        <p:grpSpPr>
          <a:xfrm>
            <a:off x="2557080" y="1981080"/>
            <a:ext cx="3571920" cy="1904760"/>
            <a:chOff x="2557080" y="1981080"/>
            <a:chExt cx="3571920" cy="1904760"/>
          </a:xfrm>
        </p:grpSpPr>
        <p:grpSp>
          <p:nvGrpSpPr>
            <p:cNvPr id="917" name=""/>
            <p:cNvGrpSpPr/>
            <p:nvPr/>
          </p:nvGrpSpPr>
          <p:grpSpPr>
            <a:xfrm>
              <a:off x="3700440" y="2175840"/>
              <a:ext cx="2428560" cy="1710000"/>
              <a:chOff x="3700440" y="2175840"/>
              <a:chExt cx="2428560" cy="1710000"/>
            </a:xfrm>
          </p:grpSpPr>
          <p:sp>
            <p:nvSpPr>
              <p:cNvPr id="918" name=""/>
              <p:cNvSpPr/>
              <p:nvPr/>
            </p:nvSpPr>
            <p:spPr>
              <a:xfrm>
                <a:off x="4952880" y="36572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700440" y="2175840"/>
                <a:ext cx="2428560" cy="1515240"/>
                <a:chOff x="3700440" y="2175840"/>
                <a:chExt cx="2428560" cy="1515240"/>
              </a:xfrm>
            </p:grpSpPr>
            <p:cxnSp>
              <p:nvCxnSpPr>
                <p:cNvPr id="920" name=""/>
                <p:cNvCxnSpPr/>
                <p:nvPr/>
              </p:nvCxnSpPr>
              <p:spPr>
                <a:xfrm>
                  <a:off x="3700440" y="2175840"/>
                  <a:ext cx="1286640" cy="1515240"/>
                </a:xfrm>
                <a:prstGeom prst="straightConnector1">
                  <a:avLst/>
                </a:prstGeom>
                <a:ln w="28440">
                  <a:solidFill>
                    <a:srgbClr val="cfdbfd"/>
                  </a:solidFill>
                  <a:miter/>
                </a:ln>
              </p:spPr>
            </p:cxnSp>
            <p:cxnSp>
              <p:nvCxnSpPr>
                <p:cNvPr id="921" name=""/>
                <p:cNvCxnSpPr/>
                <p:nvPr/>
              </p:nvCxnSpPr>
              <p:spPr>
                <a:xfrm flipH="1">
                  <a:off x="5147640" y="2938320"/>
                  <a:ext cx="981720" cy="753120"/>
                </a:xfrm>
                <a:prstGeom prst="straightConnector1">
                  <a:avLst/>
                </a:prstGeom>
                <a:ln w="28440">
                  <a:solidFill>
                    <a:srgbClr val="cfdbfd"/>
                  </a:solidFill>
                  <a:miter/>
                </a:ln>
              </p:spPr>
            </p:cxnSp>
          </p:grpSp>
        </p:grpSp>
        <p:grpSp>
          <p:nvGrpSpPr>
            <p:cNvPr id="922" name=""/>
            <p:cNvGrpSpPr/>
            <p:nvPr/>
          </p:nvGrpSpPr>
          <p:grpSpPr>
            <a:xfrm>
              <a:off x="2557080" y="2208960"/>
              <a:ext cx="3538440" cy="1562760"/>
              <a:chOff x="2557080" y="2208960"/>
              <a:chExt cx="3538440" cy="1562760"/>
            </a:xfrm>
          </p:grpSpPr>
          <p:sp>
            <p:nvSpPr>
              <p:cNvPr id="923" name=""/>
              <p:cNvSpPr/>
              <p:nvPr/>
            </p:nvSpPr>
            <p:spPr>
              <a:xfrm>
                <a:off x="3429000" y="32763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924" name=""/>
              <p:cNvCxnSpPr/>
              <p:nvPr/>
            </p:nvCxnSpPr>
            <p:spPr>
              <a:xfrm>
                <a:off x="2557080" y="2937960"/>
                <a:ext cx="872280" cy="45324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925" name=""/>
              <p:cNvCxnSpPr/>
              <p:nvPr/>
            </p:nvCxnSpPr>
            <p:spPr>
              <a:xfrm flipV="1">
                <a:off x="3543120" y="2208960"/>
                <a:ext cx="76680" cy="106740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926" name=""/>
              <p:cNvCxnSpPr/>
              <p:nvPr/>
            </p:nvCxnSpPr>
            <p:spPr>
              <a:xfrm>
                <a:off x="3623760" y="3471480"/>
                <a:ext cx="1329480" cy="30060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927" name=""/>
              <p:cNvCxnSpPr/>
              <p:nvPr/>
            </p:nvCxnSpPr>
            <p:spPr>
              <a:xfrm flipH="1">
                <a:off x="3656880" y="2857320"/>
                <a:ext cx="2439000" cy="53424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</p:grpSp>
        <p:grpSp>
          <p:nvGrpSpPr>
            <p:cNvPr id="928" name=""/>
            <p:cNvGrpSpPr/>
            <p:nvPr/>
          </p:nvGrpSpPr>
          <p:grpSpPr>
            <a:xfrm>
              <a:off x="2557080" y="1981080"/>
              <a:ext cx="2395800" cy="794880"/>
              <a:chOff x="2557080" y="1981080"/>
              <a:chExt cx="2395800" cy="794880"/>
            </a:xfrm>
          </p:grpSpPr>
          <p:cxnSp>
            <p:nvCxnSpPr>
              <p:cNvPr id="929" name=""/>
              <p:cNvCxnSpPr/>
              <p:nvPr/>
            </p:nvCxnSpPr>
            <p:spPr>
              <a:xfrm flipH="1">
                <a:off x="3733560" y="2018880"/>
                <a:ext cx="1219680" cy="7668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cxnSp>
            <p:nvCxnSpPr>
              <p:cNvPr id="930" name=""/>
              <p:cNvCxnSpPr/>
              <p:nvPr/>
            </p:nvCxnSpPr>
            <p:spPr>
              <a:xfrm flipV="1">
                <a:off x="2557080" y="2175480"/>
                <a:ext cx="981720" cy="600840"/>
              </a:xfrm>
              <a:prstGeom prst="straightConnector1">
                <a:avLst/>
              </a:prstGeom>
              <a:ln w="28440">
                <a:solidFill>
                  <a:srgbClr val="cfdbfd"/>
                </a:solidFill>
                <a:miter/>
              </a:ln>
            </p:spPr>
          </p:cxnSp>
          <p:sp>
            <p:nvSpPr>
              <p:cNvPr id="931" name=""/>
              <p:cNvSpPr/>
              <p:nvPr/>
            </p:nvSpPr>
            <p:spPr>
              <a:xfrm>
                <a:off x="3505320" y="1981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suguaglianze duali debo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’ora in avanti indicheremo la cardinalità d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insieme stabile massimo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 il simbol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abbinamento massim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 il simbol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edge-cover minimo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 G con il simbol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insieme trasversale minim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 il simbol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ogni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valgono le seguenti diseguaglian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)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   </a:t>
            </a:r>
            <a:r>
              <a:rPr b="0" lang="it-IT" sz="2400" spc="-1" strike="noStrike" u="sng">
                <a:solidFill>
                  <a:srgbClr val="990099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)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   </a:t>
            </a:r>
            <a:r>
              <a:rPr b="0" lang="it-IT" sz="2400" spc="-1" strike="noStrike" u="sng">
                <a:solidFill>
                  <a:srgbClr val="339933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diseguaglianze duali deboli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suguaglianze duali debo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Dimostr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no rispettivament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insieme indipendente e una copertura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iché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pr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ogni element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cide su almeno un element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’altronde nessu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pre contemporaneamente due elementi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ltrimenti questi sarebbero adiacenti, e dunqu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non sarebbe indipend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indi esiste un distint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ogn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e di consegue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crivendo questa relazione per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ottie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990099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)  </a:t>
            </a:r>
            <a:r>
              <a:rPr b="0" lang="it-IT" sz="2000" spc="-1" strike="noStrike" u="sng">
                <a:solidFill>
                  <a:srgbClr val="990099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990099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ambiando poi il ruol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ottien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)  </a:t>
            </a:r>
            <a:r>
              <a:rPr b="0" lang="it-IT" sz="2000" spc="-1" strike="noStrike" u="sng">
                <a:solidFill>
                  <a:srgbClr val="339933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suguaglianze duali debo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Esemp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9933"/>
                </a:solidFill>
                <a:latin typeface="Tahoma"/>
              </a:rPr>
              <a:t>trasversale e</a:t>
            </a:r>
            <a:br>
              <a:rPr sz="1800"/>
            </a:br>
            <a:r>
              <a:rPr b="0" lang="it-IT" sz="1800" spc="-1" strike="noStrike">
                <a:solidFill>
                  <a:srgbClr val="339933"/>
                </a:solidFill>
                <a:latin typeface="Tahoma"/>
              </a:rPr>
              <a:t>abbinamen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581280" y="1828800"/>
            <a:ext cx="3962520" cy="1981080"/>
            <a:chOff x="3581280" y="1828800"/>
            <a:chExt cx="3962520" cy="1981080"/>
          </a:xfrm>
        </p:grpSpPr>
        <p:sp>
          <p:nvSpPr>
            <p:cNvPr id="939" name=""/>
            <p:cNvSpPr/>
            <p:nvPr/>
          </p:nvSpPr>
          <p:spPr>
            <a:xfrm>
              <a:off x="472428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8128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320" y="3200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72200" y="3581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1520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72200" y="1828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945" name=""/>
            <p:cNvCxnSpPr>
              <a:stCxn id="940" idx="5"/>
              <a:endCxn id="941" idx="2"/>
            </p:cNvCxnSpPr>
            <p:nvPr/>
          </p:nvCxnSpPr>
          <p:spPr>
            <a:xfrm>
              <a:off x="3776400" y="286200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46" name=""/>
            <p:cNvCxnSpPr>
              <a:stCxn id="940" idx="7"/>
              <a:endCxn id="939" idx="3"/>
            </p:cNvCxnSpPr>
            <p:nvPr/>
          </p:nvCxnSpPr>
          <p:spPr>
            <a:xfrm flipV="1">
              <a:off x="3776400" y="209952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47" name=""/>
            <p:cNvCxnSpPr>
              <a:stCxn id="944" idx="2"/>
              <a:endCxn id="939" idx="6"/>
            </p:cNvCxnSpPr>
            <p:nvPr/>
          </p:nvCxnSpPr>
          <p:spPr>
            <a:xfrm flipH="1">
              <a:off x="4952160" y="1942920"/>
              <a:ext cx="122004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48" name=""/>
            <p:cNvCxnSpPr>
              <a:stCxn id="941" idx="5"/>
              <a:endCxn id="942" idx="2"/>
            </p:cNvCxnSpPr>
            <p:nvPr/>
          </p:nvCxnSpPr>
          <p:spPr>
            <a:xfrm>
              <a:off x="4843080" y="339552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49" name=""/>
            <p:cNvCxnSpPr>
              <a:stCxn id="950" idx="4"/>
              <a:endCxn id="942" idx="0"/>
            </p:cNvCxnSpPr>
            <p:nvPr/>
          </p:nvCxnSpPr>
          <p:spPr>
            <a:xfrm>
              <a:off x="6286320" y="2057040"/>
              <a:ext cx="1080" cy="1524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51" name=""/>
            <p:cNvCxnSpPr>
              <a:stCxn id="943" idx="3"/>
              <a:endCxn id="942" idx="7"/>
            </p:cNvCxnSpPr>
            <p:nvPr/>
          </p:nvCxnSpPr>
          <p:spPr>
            <a:xfrm flipH="1">
              <a:off x="6366960" y="2862360"/>
              <a:ext cx="98208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52" name=""/>
            <p:cNvCxnSpPr>
              <a:stCxn id="943" idx="2"/>
              <a:endCxn id="941" idx="6"/>
            </p:cNvCxnSpPr>
            <p:nvPr/>
          </p:nvCxnSpPr>
          <p:spPr>
            <a:xfrm flipH="1">
              <a:off x="4876200" y="2781360"/>
              <a:ext cx="2439000" cy="534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953" name=""/>
          <p:cNvGrpSpPr/>
          <p:nvPr/>
        </p:nvGrpSpPr>
        <p:grpSpPr>
          <a:xfrm>
            <a:off x="609480" y="3962520"/>
            <a:ext cx="3962160" cy="1981080"/>
            <a:chOff x="609480" y="3962520"/>
            <a:chExt cx="3962160" cy="1981080"/>
          </a:xfrm>
        </p:grpSpPr>
        <p:sp>
          <p:nvSpPr>
            <p:cNvPr id="954" name=""/>
            <p:cNvSpPr/>
            <p:nvPr/>
          </p:nvSpPr>
          <p:spPr>
            <a:xfrm>
              <a:off x="1752480" y="4038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80" y="480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67616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200040" y="5715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43040" y="480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00040" y="3962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55" idx="5"/>
              <a:endCxn id="956" idx="2"/>
            </p:cNvCxnSpPr>
            <p:nvPr/>
          </p:nvCxnSpPr>
          <p:spPr>
            <a:xfrm>
              <a:off x="804240" y="499572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1" name=""/>
            <p:cNvCxnSpPr>
              <a:stCxn id="955" idx="7"/>
              <a:endCxn id="954" idx="3"/>
            </p:cNvCxnSpPr>
            <p:nvPr/>
          </p:nvCxnSpPr>
          <p:spPr>
            <a:xfrm flipV="1">
              <a:off x="804240" y="423324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2" name=""/>
            <p:cNvCxnSpPr>
              <a:stCxn id="956" idx="7"/>
              <a:endCxn id="959" idx="3"/>
            </p:cNvCxnSpPr>
            <p:nvPr/>
          </p:nvCxnSpPr>
          <p:spPr>
            <a:xfrm flipV="1">
              <a:off x="1871280" y="4156920"/>
              <a:ext cx="1362960" cy="1210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3" name=""/>
            <p:cNvCxnSpPr>
              <a:stCxn id="959" idx="2"/>
              <a:endCxn id="954" idx="6"/>
            </p:cNvCxnSpPr>
            <p:nvPr/>
          </p:nvCxnSpPr>
          <p:spPr>
            <a:xfrm flipH="1">
              <a:off x="1980720" y="407664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4" name=""/>
            <p:cNvCxnSpPr>
              <a:stCxn id="956" idx="5"/>
              <a:endCxn id="957" idx="2"/>
            </p:cNvCxnSpPr>
            <p:nvPr/>
          </p:nvCxnSpPr>
          <p:spPr>
            <a:xfrm>
              <a:off x="1870920" y="552924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5" name=""/>
            <p:cNvCxnSpPr>
              <a:stCxn id="954" idx="5"/>
              <a:endCxn id="957" idx="1"/>
            </p:cNvCxnSpPr>
            <p:nvPr/>
          </p:nvCxnSpPr>
          <p:spPr>
            <a:xfrm>
              <a:off x="1947600" y="423360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6" name=""/>
            <p:cNvCxnSpPr>
              <a:stCxn id="958" idx="3"/>
              <a:endCxn id="957" idx="7"/>
            </p:cNvCxnSpPr>
            <p:nvPr/>
          </p:nvCxnSpPr>
          <p:spPr>
            <a:xfrm flipH="1">
              <a:off x="3394800" y="4996080"/>
              <a:ext cx="98172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67" name=""/>
            <p:cNvCxnSpPr>
              <a:stCxn id="958" idx="2"/>
              <a:endCxn id="959" idx="5"/>
            </p:cNvCxnSpPr>
            <p:nvPr/>
          </p:nvCxnSpPr>
          <p:spPr>
            <a:xfrm flipH="1" flipV="1">
              <a:off x="3395160" y="4157280"/>
              <a:ext cx="948240" cy="758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968" name=""/>
          <p:cNvGrpSpPr/>
          <p:nvPr/>
        </p:nvGrpSpPr>
        <p:grpSpPr>
          <a:xfrm>
            <a:off x="3776040" y="2781000"/>
            <a:ext cx="3539160" cy="914760"/>
            <a:chOff x="3776040" y="2781000"/>
            <a:chExt cx="3539160" cy="914760"/>
          </a:xfrm>
        </p:grpSpPr>
        <p:grpSp>
          <p:nvGrpSpPr>
            <p:cNvPr id="969" name=""/>
            <p:cNvGrpSpPr/>
            <p:nvPr/>
          </p:nvGrpSpPr>
          <p:grpSpPr>
            <a:xfrm>
              <a:off x="3776040" y="2781000"/>
              <a:ext cx="3539160" cy="914760"/>
              <a:chOff x="3776040" y="2781000"/>
              <a:chExt cx="3539160" cy="914760"/>
            </a:xfrm>
          </p:grpSpPr>
          <p:cxnSp>
            <p:nvCxnSpPr>
              <p:cNvPr id="970" name=""/>
              <p:cNvCxnSpPr>
                <a:stCxn id="971" idx="2"/>
                <a:endCxn id="940" idx="5"/>
              </p:cNvCxnSpPr>
              <p:nvPr/>
            </p:nvCxnSpPr>
            <p:spPr>
              <a:xfrm flipH="1" flipV="1">
                <a:off x="3776040" y="2861640"/>
                <a:ext cx="872280" cy="45324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72" name=""/>
              <p:cNvCxnSpPr>
                <a:stCxn id="971" idx="6"/>
                <a:endCxn id="943" idx="2"/>
              </p:cNvCxnSpPr>
              <p:nvPr/>
            </p:nvCxnSpPr>
            <p:spPr>
              <a:xfrm flipV="1">
                <a:off x="4876560" y="2781000"/>
                <a:ext cx="2439000" cy="53424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73" name=""/>
              <p:cNvCxnSpPr>
                <a:stCxn id="971" idx="5"/>
                <a:endCxn id="950" idx="2"/>
              </p:cNvCxnSpPr>
              <p:nvPr/>
            </p:nvCxnSpPr>
            <p:spPr>
              <a:xfrm>
                <a:off x="4843080" y="3395520"/>
                <a:ext cx="1329480" cy="30060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</p:grpSp>
        <p:sp>
          <p:nvSpPr>
            <p:cNvPr id="971" name=""/>
            <p:cNvSpPr/>
            <p:nvPr/>
          </p:nvSpPr>
          <p:spPr>
            <a:xfrm>
              <a:off x="4648320" y="32004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776400" y="1905120"/>
            <a:ext cx="2395440" cy="794880"/>
            <a:chOff x="3776400" y="1905120"/>
            <a:chExt cx="2395440" cy="794880"/>
          </a:xfrm>
        </p:grpSpPr>
        <p:grpSp>
          <p:nvGrpSpPr>
            <p:cNvPr id="975" name=""/>
            <p:cNvGrpSpPr/>
            <p:nvPr/>
          </p:nvGrpSpPr>
          <p:grpSpPr>
            <a:xfrm>
              <a:off x="3776400" y="1942920"/>
              <a:ext cx="2395440" cy="757080"/>
              <a:chOff x="3776400" y="1942920"/>
              <a:chExt cx="2395440" cy="757080"/>
            </a:xfrm>
          </p:grpSpPr>
          <p:cxnSp>
            <p:nvCxnSpPr>
              <p:cNvPr id="976" name=""/>
              <p:cNvCxnSpPr>
                <a:stCxn id="944" idx="2"/>
                <a:endCxn id="977" idx="6"/>
              </p:cNvCxnSpPr>
              <p:nvPr/>
            </p:nvCxnSpPr>
            <p:spPr>
              <a:xfrm flipH="1">
                <a:off x="4952160" y="1942920"/>
                <a:ext cx="1220040" cy="7668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78" name=""/>
              <p:cNvCxnSpPr>
                <a:stCxn id="940" idx="7"/>
                <a:endCxn id="977" idx="3"/>
              </p:cNvCxnSpPr>
              <p:nvPr/>
            </p:nvCxnSpPr>
            <p:spPr>
              <a:xfrm flipV="1">
                <a:off x="3776400" y="2099520"/>
                <a:ext cx="981720" cy="60084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</p:grpSp>
        <p:sp>
          <p:nvSpPr>
            <p:cNvPr id="977" name=""/>
            <p:cNvSpPr/>
            <p:nvPr/>
          </p:nvSpPr>
          <p:spPr>
            <a:xfrm>
              <a:off x="4724280" y="190512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172200" y="2057040"/>
            <a:ext cx="1176480" cy="1752840"/>
            <a:chOff x="6172200" y="2057040"/>
            <a:chExt cx="1176480" cy="1752840"/>
          </a:xfrm>
        </p:grpSpPr>
        <p:grpSp>
          <p:nvGrpSpPr>
            <p:cNvPr id="980" name=""/>
            <p:cNvGrpSpPr/>
            <p:nvPr/>
          </p:nvGrpSpPr>
          <p:grpSpPr>
            <a:xfrm>
              <a:off x="6286320" y="2057040"/>
              <a:ext cx="1062360" cy="1558080"/>
              <a:chOff x="6286320" y="2057040"/>
              <a:chExt cx="1062360" cy="1558080"/>
            </a:xfrm>
          </p:grpSpPr>
          <p:cxnSp>
            <p:nvCxnSpPr>
              <p:cNvPr id="981" name=""/>
              <p:cNvCxnSpPr/>
              <p:nvPr/>
            </p:nvCxnSpPr>
            <p:spPr>
              <a:xfrm>
                <a:off x="6286320" y="2057040"/>
                <a:ext cx="1080" cy="152460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82" name=""/>
              <p:cNvCxnSpPr/>
              <p:nvPr/>
            </p:nvCxnSpPr>
            <p:spPr>
              <a:xfrm flipH="1">
                <a:off x="6366960" y="2862360"/>
                <a:ext cx="982080" cy="75312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</p:grpSp>
        <p:sp>
          <p:nvSpPr>
            <p:cNvPr id="950" name=""/>
            <p:cNvSpPr/>
            <p:nvPr/>
          </p:nvSpPr>
          <p:spPr>
            <a:xfrm>
              <a:off x="6172200" y="358128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3781080" y="1947240"/>
            <a:ext cx="3572280" cy="1672200"/>
            <a:chOff x="3781080" y="1947240"/>
            <a:chExt cx="3572280" cy="1672200"/>
          </a:xfrm>
        </p:grpSpPr>
        <p:cxnSp>
          <p:nvCxnSpPr>
            <p:cNvPr id="984" name=""/>
            <p:cNvCxnSpPr/>
            <p:nvPr/>
          </p:nvCxnSpPr>
          <p:spPr>
            <a:xfrm flipV="1">
              <a:off x="6372000" y="2866680"/>
              <a:ext cx="981720" cy="75312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985" name=""/>
            <p:cNvCxnSpPr/>
            <p:nvPr/>
          </p:nvCxnSpPr>
          <p:spPr>
            <a:xfrm flipV="1">
              <a:off x="4957920" y="1947240"/>
              <a:ext cx="1219680" cy="7668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986" name=""/>
            <p:cNvCxnSpPr/>
            <p:nvPr/>
          </p:nvCxnSpPr>
          <p:spPr>
            <a:xfrm>
              <a:off x="3781080" y="2866680"/>
              <a:ext cx="872280" cy="45324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grpSp>
        <p:nvGrpSpPr>
          <p:cNvPr id="987" name=""/>
          <p:cNvGrpSpPr/>
          <p:nvPr/>
        </p:nvGrpSpPr>
        <p:grpSpPr>
          <a:xfrm>
            <a:off x="609480" y="4233240"/>
            <a:ext cx="1176480" cy="1215000"/>
            <a:chOff x="609480" y="4233240"/>
            <a:chExt cx="1176480" cy="1215000"/>
          </a:xfrm>
        </p:grpSpPr>
        <p:grpSp>
          <p:nvGrpSpPr>
            <p:cNvPr id="988" name=""/>
            <p:cNvGrpSpPr/>
            <p:nvPr/>
          </p:nvGrpSpPr>
          <p:grpSpPr>
            <a:xfrm>
              <a:off x="804600" y="4233240"/>
              <a:ext cx="981360" cy="1215000"/>
              <a:chOff x="804600" y="4233240"/>
              <a:chExt cx="981360" cy="1215000"/>
            </a:xfrm>
          </p:grpSpPr>
          <p:cxnSp>
            <p:nvCxnSpPr>
              <p:cNvPr id="989" name=""/>
              <p:cNvCxnSpPr>
                <a:stCxn id="990" idx="5"/>
                <a:endCxn id="956" idx="2"/>
              </p:cNvCxnSpPr>
              <p:nvPr/>
            </p:nvCxnSpPr>
            <p:spPr>
              <a:xfrm>
                <a:off x="804600" y="4995360"/>
                <a:ext cx="872280" cy="45324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91" name=""/>
              <p:cNvCxnSpPr>
                <a:stCxn id="990" idx="7"/>
                <a:endCxn id="954" idx="3"/>
              </p:cNvCxnSpPr>
              <p:nvPr/>
            </p:nvCxnSpPr>
            <p:spPr>
              <a:xfrm flipV="1">
                <a:off x="804600" y="4233240"/>
                <a:ext cx="981720" cy="60084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</p:grpSp>
        <p:sp>
          <p:nvSpPr>
            <p:cNvPr id="990" name=""/>
            <p:cNvSpPr/>
            <p:nvPr/>
          </p:nvSpPr>
          <p:spPr>
            <a:xfrm>
              <a:off x="609480" y="4800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1871280" y="4233600"/>
            <a:ext cx="2505960" cy="1710000"/>
            <a:chOff x="1871280" y="4233600"/>
            <a:chExt cx="2505960" cy="1710000"/>
          </a:xfrm>
        </p:grpSpPr>
        <p:grpSp>
          <p:nvGrpSpPr>
            <p:cNvPr id="993" name=""/>
            <p:cNvGrpSpPr/>
            <p:nvPr/>
          </p:nvGrpSpPr>
          <p:grpSpPr>
            <a:xfrm>
              <a:off x="1871280" y="4233600"/>
              <a:ext cx="2505960" cy="1595880"/>
              <a:chOff x="1871280" y="4233600"/>
              <a:chExt cx="2505960" cy="1595880"/>
            </a:xfrm>
          </p:grpSpPr>
          <p:cxnSp>
            <p:nvCxnSpPr>
              <p:cNvPr id="994" name=""/>
              <p:cNvCxnSpPr>
                <a:stCxn id="956" idx="5"/>
                <a:endCxn id="995" idx="2"/>
              </p:cNvCxnSpPr>
              <p:nvPr/>
            </p:nvCxnSpPr>
            <p:spPr>
              <a:xfrm>
                <a:off x="1871280" y="5529240"/>
                <a:ext cx="1329480" cy="30060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96" name=""/>
              <p:cNvCxnSpPr>
                <a:stCxn id="995" idx="7"/>
                <a:endCxn id="958" idx="3"/>
              </p:cNvCxnSpPr>
              <p:nvPr/>
            </p:nvCxnSpPr>
            <p:spPr>
              <a:xfrm flipV="1">
                <a:off x="3395520" y="4995000"/>
                <a:ext cx="982080" cy="75348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997" name=""/>
              <p:cNvCxnSpPr>
                <a:stCxn id="954" idx="5"/>
                <a:endCxn id="995" idx="1"/>
              </p:cNvCxnSpPr>
              <p:nvPr/>
            </p:nvCxnSpPr>
            <p:spPr>
              <a:xfrm>
                <a:off x="1947960" y="4233600"/>
                <a:ext cx="1286640" cy="151524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</p:grpSp>
        <p:sp>
          <p:nvSpPr>
            <p:cNvPr id="995" name=""/>
            <p:cNvSpPr/>
            <p:nvPr/>
          </p:nvSpPr>
          <p:spPr>
            <a:xfrm>
              <a:off x="3200400" y="57150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1871640" y="3962520"/>
            <a:ext cx="2471760" cy="1404720"/>
            <a:chOff x="1871640" y="3962520"/>
            <a:chExt cx="2471760" cy="1404720"/>
          </a:xfrm>
        </p:grpSpPr>
        <p:grpSp>
          <p:nvGrpSpPr>
            <p:cNvPr id="999" name=""/>
            <p:cNvGrpSpPr/>
            <p:nvPr/>
          </p:nvGrpSpPr>
          <p:grpSpPr>
            <a:xfrm>
              <a:off x="1871640" y="4076640"/>
              <a:ext cx="2471760" cy="1290600"/>
              <a:chOff x="1871640" y="4076640"/>
              <a:chExt cx="2471760" cy="1290600"/>
            </a:xfrm>
          </p:grpSpPr>
          <p:cxnSp>
            <p:nvCxnSpPr>
              <p:cNvPr id="1000" name=""/>
              <p:cNvCxnSpPr>
                <a:stCxn id="956" idx="7"/>
                <a:endCxn id="1001" idx="3"/>
              </p:cNvCxnSpPr>
              <p:nvPr/>
            </p:nvCxnSpPr>
            <p:spPr>
              <a:xfrm flipV="1">
                <a:off x="1871640" y="4157280"/>
                <a:ext cx="1362960" cy="121032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1002" name=""/>
              <p:cNvCxnSpPr>
                <a:stCxn id="1001" idx="5"/>
                <a:endCxn id="958" idx="2"/>
              </p:cNvCxnSpPr>
              <p:nvPr/>
            </p:nvCxnSpPr>
            <p:spPr>
              <a:xfrm>
                <a:off x="3395160" y="4157640"/>
                <a:ext cx="948600" cy="75816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  <p:cxnSp>
            <p:nvCxnSpPr>
              <p:cNvPr id="1003" name=""/>
              <p:cNvCxnSpPr>
                <a:stCxn id="1001" idx="2"/>
                <a:endCxn id="954" idx="6"/>
              </p:cNvCxnSpPr>
              <p:nvPr/>
            </p:nvCxnSpPr>
            <p:spPr>
              <a:xfrm flipH="1">
                <a:off x="1980360" y="4076640"/>
                <a:ext cx="1220040" cy="76680"/>
              </a:xfrm>
              <a:prstGeom prst="straightConnector1">
                <a:avLst/>
              </a:prstGeom>
              <a:ln w="38160">
                <a:solidFill>
                  <a:srgbClr val="cfdbfd"/>
                </a:solidFill>
                <a:miter/>
              </a:ln>
            </p:spPr>
          </p:cxnSp>
        </p:grpSp>
        <p:sp>
          <p:nvSpPr>
            <p:cNvPr id="1001" name=""/>
            <p:cNvSpPr/>
            <p:nvPr/>
          </p:nvSpPr>
          <p:spPr>
            <a:xfrm>
              <a:off x="3200400" y="3962520"/>
              <a:ext cx="228600" cy="2286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804600" y="4076640"/>
            <a:ext cx="3572640" cy="1671480"/>
            <a:chOff x="804600" y="4076640"/>
            <a:chExt cx="3572640" cy="1671480"/>
          </a:xfrm>
        </p:grpSpPr>
        <p:cxnSp>
          <p:nvCxnSpPr>
            <p:cNvPr id="1005" name=""/>
            <p:cNvCxnSpPr>
              <a:stCxn id="990" idx="5"/>
              <a:endCxn id="956" idx="2"/>
            </p:cNvCxnSpPr>
            <p:nvPr/>
          </p:nvCxnSpPr>
          <p:spPr>
            <a:xfrm>
              <a:off x="804600" y="4995360"/>
              <a:ext cx="872280" cy="45324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1006" name=""/>
            <p:cNvCxnSpPr>
              <a:stCxn id="954" idx="6"/>
              <a:endCxn id="1001" idx="2"/>
            </p:cNvCxnSpPr>
            <p:nvPr/>
          </p:nvCxnSpPr>
          <p:spPr>
            <a:xfrm flipV="1">
              <a:off x="1980720" y="4076640"/>
              <a:ext cx="1220040" cy="7668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1007" name=""/>
            <p:cNvCxnSpPr>
              <a:stCxn id="995" idx="7"/>
              <a:endCxn id="958" idx="3"/>
            </p:cNvCxnSpPr>
            <p:nvPr/>
          </p:nvCxnSpPr>
          <p:spPr>
            <a:xfrm flipV="1">
              <a:off x="3395520" y="4995000"/>
              <a:ext cx="982080" cy="75348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suguaglianze duali debo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1371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Esemp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581280" y="1828800"/>
            <a:ext cx="3962520" cy="1981080"/>
            <a:chOff x="3581280" y="1828800"/>
            <a:chExt cx="3962520" cy="1981080"/>
          </a:xfrm>
        </p:grpSpPr>
        <p:sp>
          <p:nvSpPr>
            <p:cNvPr id="1011" name=""/>
            <p:cNvSpPr/>
            <p:nvPr/>
          </p:nvSpPr>
          <p:spPr>
            <a:xfrm>
              <a:off x="472428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8128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48320" y="3200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72200" y="3581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31520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172200" y="1828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017" name=""/>
            <p:cNvCxnSpPr>
              <a:stCxn id="1012" idx="5"/>
              <a:endCxn id="1013" idx="2"/>
            </p:cNvCxnSpPr>
            <p:nvPr/>
          </p:nvCxnSpPr>
          <p:spPr>
            <a:xfrm>
              <a:off x="3776400" y="286200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18" name=""/>
            <p:cNvCxnSpPr>
              <a:stCxn id="1012" idx="7"/>
              <a:endCxn id="1011" idx="3"/>
            </p:cNvCxnSpPr>
            <p:nvPr/>
          </p:nvCxnSpPr>
          <p:spPr>
            <a:xfrm flipV="1">
              <a:off x="3776400" y="209952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19" name=""/>
            <p:cNvCxnSpPr>
              <a:stCxn id="1016" idx="2"/>
              <a:endCxn id="1011" idx="6"/>
            </p:cNvCxnSpPr>
            <p:nvPr/>
          </p:nvCxnSpPr>
          <p:spPr>
            <a:xfrm flipH="1">
              <a:off x="4952160" y="1942920"/>
              <a:ext cx="122004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20" name=""/>
            <p:cNvCxnSpPr>
              <a:stCxn id="1013" idx="5"/>
              <a:endCxn id="1014" idx="2"/>
            </p:cNvCxnSpPr>
            <p:nvPr/>
          </p:nvCxnSpPr>
          <p:spPr>
            <a:xfrm>
              <a:off x="4843080" y="339552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21" name=""/>
            <p:cNvCxnSpPr>
              <a:stCxn id="1022" idx="4"/>
              <a:endCxn id="1014" idx="0"/>
            </p:cNvCxnSpPr>
            <p:nvPr/>
          </p:nvCxnSpPr>
          <p:spPr>
            <a:xfrm>
              <a:off x="6286320" y="2057040"/>
              <a:ext cx="1080" cy="1524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23" name=""/>
            <p:cNvCxnSpPr>
              <a:stCxn id="1015" idx="3"/>
              <a:endCxn id="1014" idx="7"/>
            </p:cNvCxnSpPr>
            <p:nvPr/>
          </p:nvCxnSpPr>
          <p:spPr>
            <a:xfrm flipH="1">
              <a:off x="6366960" y="2862360"/>
              <a:ext cx="98208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24" name=""/>
            <p:cNvCxnSpPr>
              <a:stCxn id="1015" idx="2"/>
              <a:endCxn id="1013" idx="6"/>
            </p:cNvCxnSpPr>
            <p:nvPr/>
          </p:nvCxnSpPr>
          <p:spPr>
            <a:xfrm flipH="1">
              <a:off x="4876200" y="2781360"/>
              <a:ext cx="2439000" cy="534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025" name=""/>
          <p:cNvGrpSpPr/>
          <p:nvPr/>
        </p:nvGrpSpPr>
        <p:grpSpPr>
          <a:xfrm>
            <a:off x="3581280" y="1828800"/>
            <a:ext cx="3962160" cy="1066680"/>
            <a:chOff x="3581280" y="1828800"/>
            <a:chExt cx="3962160" cy="1066680"/>
          </a:xfrm>
        </p:grpSpPr>
        <p:sp>
          <p:nvSpPr>
            <p:cNvPr id="1026" name=""/>
            <p:cNvSpPr/>
            <p:nvPr/>
          </p:nvSpPr>
          <p:spPr>
            <a:xfrm>
              <a:off x="7314840" y="266688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171840" y="18288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581280" y="266688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09480" y="3962520"/>
            <a:ext cx="3962160" cy="1981080"/>
            <a:chOff x="609480" y="3962520"/>
            <a:chExt cx="3962160" cy="1981080"/>
          </a:xfrm>
        </p:grpSpPr>
        <p:sp>
          <p:nvSpPr>
            <p:cNvPr id="1029" name=""/>
            <p:cNvSpPr/>
            <p:nvPr/>
          </p:nvSpPr>
          <p:spPr>
            <a:xfrm>
              <a:off x="1752480" y="4038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480" y="480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7616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200040" y="5715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43040" y="480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00040" y="3962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035" name=""/>
            <p:cNvCxnSpPr>
              <a:stCxn id="1030" idx="5"/>
              <a:endCxn id="1031" idx="2"/>
            </p:cNvCxnSpPr>
            <p:nvPr/>
          </p:nvCxnSpPr>
          <p:spPr>
            <a:xfrm>
              <a:off x="804240" y="499572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36" name=""/>
            <p:cNvCxnSpPr>
              <a:stCxn id="1030" idx="7"/>
              <a:endCxn id="1029" idx="3"/>
            </p:cNvCxnSpPr>
            <p:nvPr/>
          </p:nvCxnSpPr>
          <p:spPr>
            <a:xfrm flipV="1">
              <a:off x="804240" y="423324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37" name=""/>
            <p:cNvCxnSpPr>
              <a:stCxn id="1031" idx="7"/>
              <a:endCxn id="1034" idx="3"/>
            </p:cNvCxnSpPr>
            <p:nvPr/>
          </p:nvCxnSpPr>
          <p:spPr>
            <a:xfrm flipV="1">
              <a:off x="1871280" y="4156920"/>
              <a:ext cx="1362960" cy="1210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38" name=""/>
            <p:cNvCxnSpPr>
              <a:stCxn id="1034" idx="2"/>
              <a:endCxn id="1029" idx="6"/>
            </p:cNvCxnSpPr>
            <p:nvPr/>
          </p:nvCxnSpPr>
          <p:spPr>
            <a:xfrm flipH="1">
              <a:off x="1980720" y="407664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39" name=""/>
            <p:cNvCxnSpPr>
              <a:stCxn id="1031" idx="5"/>
              <a:endCxn id="1032" idx="2"/>
            </p:cNvCxnSpPr>
            <p:nvPr/>
          </p:nvCxnSpPr>
          <p:spPr>
            <a:xfrm>
              <a:off x="1870920" y="552924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40" name=""/>
            <p:cNvCxnSpPr>
              <a:stCxn id="1029" idx="5"/>
              <a:endCxn id="1032" idx="1"/>
            </p:cNvCxnSpPr>
            <p:nvPr/>
          </p:nvCxnSpPr>
          <p:spPr>
            <a:xfrm>
              <a:off x="1947600" y="423360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41" name=""/>
            <p:cNvCxnSpPr>
              <a:stCxn id="1033" idx="3"/>
              <a:endCxn id="1032" idx="7"/>
            </p:cNvCxnSpPr>
            <p:nvPr/>
          </p:nvCxnSpPr>
          <p:spPr>
            <a:xfrm flipH="1">
              <a:off x="3394800" y="4996080"/>
              <a:ext cx="98172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42" name=""/>
            <p:cNvCxnSpPr>
              <a:stCxn id="1033" idx="2"/>
              <a:endCxn id="1034" idx="5"/>
            </p:cNvCxnSpPr>
            <p:nvPr/>
          </p:nvCxnSpPr>
          <p:spPr>
            <a:xfrm flipH="1" flipV="1">
              <a:off x="3395160" y="4157280"/>
              <a:ext cx="948240" cy="758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043" name=""/>
          <p:cNvGrpSpPr/>
          <p:nvPr/>
        </p:nvGrpSpPr>
        <p:grpSpPr>
          <a:xfrm>
            <a:off x="609480" y="3962520"/>
            <a:ext cx="2819160" cy="1981080"/>
            <a:chOff x="609480" y="3962520"/>
            <a:chExt cx="2819160" cy="1981080"/>
          </a:xfrm>
        </p:grpSpPr>
        <p:sp>
          <p:nvSpPr>
            <p:cNvPr id="1044" name=""/>
            <p:cNvSpPr/>
            <p:nvPr/>
          </p:nvSpPr>
          <p:spPr>
            <a:xfrm>
              <a:off x="3200040" y="57150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00040" y="396252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9480" y="48006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5046480" y="4640400"/>
            <a:ext cx="29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se valgono sempre 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n il segno “=“ ?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31320" y="2368440"/>
            <a:ext cx="151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stabile ed</a:t>
            </a:r>
            <a:br>
              <a:rPr sz="2000"/>
            </a:b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edge-co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3776400" y="1905120"/>
            <a:ext cx="3572640" cy="1904760"/>
            <a:chOff x="3776400" y="1905120"/>
            <a:chExt cx="3572640" cy="1904760"/>
          </a:xfrm>
        </p:grpSpPr>
        <p:cxnSp>
          <p:nvCxnSpPr>
            <p:cNvPr id="1050" name=""/>
            <p:cNvCxnSpPr/>
            <p:nvPr/>
          </p:nvCxnSpPr>
          <p:spPr>
            <a:xfrm flipV="1">
              <a:off x="6367320" y="2862000"/>
              <a:ext cx="982080" cy="75312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051" name=""/>
            <p:cNvCxnSpPr/>
            <p:nvPr/>
          </p:nvCxnSpPr>
          <p:spPr>
            <a:xfrm flipV="1">
              <a:off x="4952520" y="1942560"/>
              <a:ext cx="1220040" cy="7668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052" name=""/>
            <p:cNvCxnSpPr/>
            <p:nvPr/>
          </p:nvCxnSpPr>
          <p:spPr>
            <a:xfrm>
              <a:off x="3776400" y="2862000"/>
              <a:ext cx="872280" cy="4532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sp>
          <p:nvSpPr>
            <p:cNvPr id="1053" name=""/>
            <p:cNvSpPr/>
            <p:nvPr/>
          </p:nvSpPr>
          <p:spPr>
            <a:xfrm>
              <a:off x="4724280" y="190512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8320" y="320040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172200" y="35812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804600" y="4038480"/>
            <a:ext cx="3767400" cy="1709640"/>
            <a:chOff x="804600" y="4038480"/>
            <a:chExt cx="3767400" cy="1709640"/>
          </a:xfrm>
        </p:grpSpPr>
        <p:cxnSp>
          <p:nvCxnSpPr>
            <p:cNvPr id="1057" name=""/>
            <p:cNvCxnSpPr/>
            <p:nvPr/>
          </p:nvCxnSpPr>
          <p:spPr>
            <a:xfrm flipV="1">
              <a:off x="3395520" y="4995000"/>
              <a:ext cx="982080" cy="75348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058" name=""/>
            <p:cNvCxnSpPr/>
            <p:nvPr/>
          </p:nvCxnSpPr>
          <p:spPr>
            <a:xfrm flipV="1">
              <a:off x="1980720" y="4076640"/>
              <a:ext cx="1220040" cy="7668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059" name=""/>
            <p:cNvCxnSpPr/>
            <p:nvPr/>
          </p:nvCxnSpPr>
          <p:spPr>
            <a:xfrm>
              <a:off x="804600" y="4995360"/>
              <a:ext cx="872280" cy="4532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sp>
          <p:nvSpPr>
            <p:cNvPr id="1060" name=""/>
            <p:cNvSpPr/>
            <p:nvPr/>
          </p:nvSpPr>
          <p:spPr>
            <a:xfrm>
              <a:off x="1752480" y="403848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43400" y="4800600"/>
              <a:ext cx="228600" cy="2286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-press ha un problema di ottimizz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-p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insieme di orar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ognuno con il proprio co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insieme di tre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ognuno con il proprio “profitt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egnare un sottoinsiem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treni a un sottoinsieme di orar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modo da massimizzare il guadagno (somma dei profitti – somma dei costi) e rispettando i vincoli “fisici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suguaglianze duali debo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1371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Esemp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"/>
          <p:cNvSpPr/>
          <p:nvPr/>
        </p:nvSpPr>
        <p:spPr>
          <a:xfrm>
            <a:off x="4724280" y="1905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6483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7220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0" name=""/>
          <p:cNvCxnSpPr>
            <a:stCxn id="1066" idx="5"/>
            <a:endCxn id="1067" idx="2"/>
          </p:cNvCxnSpPr>
          <p:nvPr/>
        </p:nvCxnSpPr>
        <p:spPr>
          <a:xfrm>
            <a:off x="3776400" y="2862000"/>
            <a:ext cx="872280" cy="453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071" name=""/>
          <p:cNvCxnSpPr>
            <a:stCxn id="1066" idx="7"/>
            <a:endCxn id="1065" idx="3"/>
          </p:cNvCxnSpPr>
          <p:nvPr/>
        </p:nvCxnSpPr>
        <p:spPr>
          <a:xfrm flipV="1">
            <a:off x="3776400" y="2099520"/>
            <a:ext cx="981720" cy="600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072" name=""/>
          <p:cNvCxnSpPr>
            <a:stCxn id="1069" idx="2"/>
            <a:endCxn id="1065" idx="6"/>
          </p:cNvCxnSpPr>
          <p:nvPr/>
        </p:nvCxnSpPr>
        <p:spPr>
          <a:xfrm flipH="1">
            <a:off x="4952160" y="1942920"/>
            <a:ext cx="1220040" cy="76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073" name=""/>
          <p:cNvCxnSpPr>
            <a:stCxn id="1067" idx="5"/>
            <a:endCxn id="1068" idx="2"/>
          </p:cNvCxnSpPr>
          <p:nvPr/>
        </p:nvCxnSpPr>
        <p:spPr>
          <a:xfrm>
            <a:off x="4843080" y="3395520"/>
            <a:ext cx="1329480" cy="300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074" name=""/>
          <p:cNvCxnSpPr>
            <a:stCxn id="1075" idx="4"/>
            <a:endCxn id="1068" idx="0"/>
          </p:cNvCxnSpPr>
          <p:nvPr/>
        </p:nvCxnSpPr>
        <p:spPr>
          <a:xfrm>
            <a:off x="6286320" y="2057040"/>
            <a:ext cx="1080" cy="1524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75" name=""/>
          <p:cNvSpPr/>
          <p:nvPr/>
        </p:nvSpPr>
        <p:spPr>
          <a:xfrm>
            <a:off x="6172200" y="18288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7" name=""/>
          <p:cNvCxnSpPr/>
          <p:nvPr/>
        </p:nvCxnSpPr>
        <p:spPr>
          <a:xfrm flipV="1">
            <a:off x="4952520" y="1942560"/>
            <a:ext cx="1220040" cy="766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078" name=""/>
          <p:cNvCxnSpPr/>
          <p:nvPr/>
        </p:nvCxnSpPr>
        <p:spPr>
          <a:xfrm>
            <a:off x="3776400" y="2862000"/>
            <a:ext cx="872280" cy="45324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grpSp>
        <p:nvGrpSpPr>
          <p:cNvPr id="1079" name=""/>
          <p:cNvGrpSpPr/>
          <p:nvPr/>
        </p:nvGrpSpPr>
        <p:grpSpPr>
          <a:xfrm>
            <a:off x="609480" y="3962520"/>
            <a:ext cx="3962160" cy="1981080"/>
            <a:chOff x="609480" y="3962520"/>
            <a:chExt cx="3962160" cy="1981080"/>
          </a:xfrm>
        </p:grpSpPr>
        <p:sp>
          <p:nvSpPr>
            <p:cNvPr id="1080" name=""/>
            <p:cNvSpPr/>
            <p:nvPr/>
          </p:nvSpPr>
          <p:spPr>
            <a:xfrm>
              <a:off x="1752480" y="4038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9480" y="480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7616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0040" y="5715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43040" y="480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040" y="3962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086" name=""/>
            <p:cNvCxnSpPr>
              <a:stCxn id="1081" idx="5"/>
              <a:endCxn id="1082" idx="2"/>
            </p:cNvCxnSpPr>
            <p:nvPr/>
          </p:nvCxnSpPr>
          <p:spPr>
            <a:xfrm>
              <a:off x="804240" y="499572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87" name=""/>
            <p:cNvCxnSpPr>
              <a:stCxn id="1081" idx="7"/>
              <a:endCxn id="1080" idx="3"/>
            </p:cNvCxnSpPr>
            <p:nvPr/>
          </p:nvCxnSpPr>
          <p:spPr>
            <a:xfrm flipV="1">
              <a:off x="804240" y="423324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88" name=""/>
            <p:cNvCxnSpPr>
              <a:stCxn id="1082" idx="7"/>
              <a:endCxn id="1085" idx="3"/>
            </p:cNvCxnSpPr>
            <p:nvPr/>
          </p:nvCxnSpPr>
          <p:spPr>
            <a:xfrm flipV="1">
              <a:off x="1871280" y="4156920"/>
              <a:ext cx="1362960" cy="1210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89" name=""/>
            <p:cNvCxnSpPr>
              <a:stCxn id="1085" idx="2"/>
              <a:endCxn id="1080" idx="6"/>
            </p:cNvCxnSpPr>
            <p:nvPr/>
          </p:nvCxnSpPr>
          <p:spPr>
            <a:xfrm flipH="1">
              <a:off x="1980720" y="407664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90" name=""/>
            <p:cNvCxnSpPr>
              <a:stCxn id="1082" idx="5"/>
              <a:endCxn id="1083" idx="2"/>
            </p:cNvCxnSpPr>
            <p:nvPr/>
          </p:nvCxnSpPr>
          <p:spPr>
            <a:xfrm>
              <a:off x="1870920" y="552924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91" name=""/>
            <p:cNvCxnSpPr>
              <a:stCxn id="1080" idx="5"/>
              <a:endCxn id="1083" idx="1"/>
            </p:cNvCxnSpPr>
            <p:nvPr/>
          </p:nvCxnSpPr>
          <p:spPr>
            <a:xfrm>
              <a:off x="1947600" y="423360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92" name=""/>
            <p:cNvCxnSpPr>
              <a:stCxn id="1084" idx="3"/>
              <a:endCxn id="1083" idx="7"/>
            </p:cNvCxnSpPr>
            <p:nvPr/>
          </p:nvCxnSpPr>
          <p:spPr>
            <a:xfrm flipH="1">
              <a:off x="3394800" y="4996080"/>
              <a:ext cx="98172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093" name=""/>
            <p:cNvCxnSpPr>
              <a:stCxn id="1084" idx="2"/>
              <a:endCxn id="1085" idx="5"/>
            </p:cNvCxnSpPr>
            <p:nvPr/>
          </p:nvCxnSpPr>
          <p:spPr>
            <a:xfrm flipH="1" flipV="1">
              <a:off x="3395160" y="4157280"/>
              <a:ext cx="948240" cy="758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094" name=""/>
          <p:cNvGrpSpPr/>
          <p:nvPr/>
        </p:nvGrpSpPr>
        <p:grpSpPr>
          <a:xfrm>
            <a:off x="609480" y="3962520"/>
            <a:ext cx="2819160" cy="1981080"/>
            <a:chOff x="609480" y="3962520"/>
            <a:chExt cx="2819160" cy="1981080"/>
          </a:xfrm>
        </p:grpSpPr>
        <p:sp>
          <p:nvSpPr>
            <p:cNvPr id="1095" name=""/>
            <p:cNvSpPr/>
            <p:nvPr/>
          </p:nvSpPr>
          <p:spPr>
            <a:xfrm>
              <a:off x="3200040" y="57150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00040" y="396252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9480" y="4800600"/>
              <a:ext cx="228600" cy="2286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804600" y="4075920"/>
            <a:ext cx="3572280" cy="1672200"/>
            <a:chOff x="804600" y="4075920"/>
            <a:chExt cx="3572280" cy="1672200"/>
          </a:xfrm>
        </p:grpSpPr>
        <p:cxnSp>
          <p:nvCxnSpPr>
            <p:cNvPr id="1099" name=""/>
            <p:cNvCxnSpPr>
              <a:stCxn id="1095" idx="7"/>
              <a:endCxn id="1084" idx="3"/>
            </p:cNvCxnSpPr>
            <p:nvPr/>
          </p:nvCxnSpPr>
          <p:spPr>
            <a:xfrm flipV="1">
              <a:off x="3395520" y="4995360"/>
              <a:ext cx="981720" cy="75312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100" name=""/>
            <p:cNvCxnSpPr>
              <a:stCxn id="1080" idx="6"/>
              <a:endCxn id="1096" idx="2"/>
            </p:cNvCxnSpPr>
            <p:nvPr/>
          </p:nvCxnSpPr>
          <p:spPr>
            <a:xfrm flipV="1">
              <a:off x="1981440" y="4075920"/>
              <a:ext cx="1219680" cy="7668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101" name=""/>
            <p:cNvCxnSpPr>
              <a:stCxn id="1097" idx="5"/>
              <a:endCxn id="1082" idx="2"/>
            </p:cNvCxnSpPr>
            <p:nvPr/>
          </p:nvCxnSpPr>
          <p:spPr>
            <a:xfrm>
              <a:off x="804600" y="4995360"/>
              <a:ext cx="872280" cy="4532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</p:grpSp>
      <p:sp>
        <p:nvSpPr>
          <p:cNvPr id="1102" name=""/>
          <p:cNvSpPr/>
          <p:nvPr/>
        </p:nvSpPr>
        <p:spPr>
          <a:xfrm>
            <a:off x="5046480" y="4640400"/>
            <a:ext cx="29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se valgono sempre 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n il segno “=“ ?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70520" y="252252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NO!!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685800" y="1225440"/>
            <a:ext cx="838188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Gallai 1959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ogni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di si h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nolt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n ha nodi isol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</a:t>
            </a:r>
            <a:r>
              <a:rPr b="0" i="1" lang="it-IT" sz="2400" spc="-1" strike="noStrike">
                <a:solidFill>
                  <a:srgbClr val="339933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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</a:t>
            </a:r>
            <a:r>
              <a:rPr b="0" i="1" lang="it-IT" sz="2400" spc="-1" strike="noStrike">
                <a:solidFill>
                  <a:srgbClr val="990099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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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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Galla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660240" y="3794040"/>
            <a:ext cx="5435640" cy="2530440"/>
            <a:chOff x="660240" y="3794040"/>
            <a:chExt cx="5435640" cy="2530440"/>
          </a:xfrm>
        </p:grpSpPr>
        <p:grpSp>
          <p:nvGrpSpPr>
            <p:cNvPr id="1107" name=""/>
            <p:cNvGrpSpPr/>
            <p:nvPr/>
          </p:nvGrpSpPr>
          <p:grpSpPr>
            <a:xfrm>
              <a:off x="2133720" y="4343400"/>
              <a:ext cx="3962160" cy="1981080"/>
              <a:chOff x="2133720" y="4343400"/>
              <a:chExt cx="3962160" cy="1981080"/>
            </a:xfrm>
          </p:grpSpPr>
          <p:sp>
            <p:nvSpPr>
              <p:cNvPr id="1108" name=""/>
              <p:cNvSpPr/>
              <p:nvPr/>
            </p:nvSpPr>
            <p:spPr>
              <a:xfrm>
                <a:off x="3276720" y="441972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133720" y="5181480"/>
                <a:ext cx="228600" cy="2286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00400" y="571500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24280" y="6095880"/>
                <a:ext cx="228600" cy="2286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7280" y="518148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724280" y="4343400"/>
                <a:ext cx="228600" cy="2286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1114" name=""/>
              <p:cNvCxnSpPr>
                <a:stCxn id="1109" idx="5"/>
                <a:endCxn id="1110" idx="2"/>
              </p:cNvCxnSpPr>
              <p:nvPr/>
            </p:nvCxnSpPr>
            <p:spPr>
              <a:xfrm>
                <a:off x="2328480" y="5376600"/>
                <a:ext cx="872280" cy="4532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15" name=""/>
              <p:cNvCxnSpPr>
                <a:stCxn id="1109" idx="7"/>
                <a:endCxn id="1108" idx="3"/>
              </p:cNvCxnSpPr>
              <p:nvPr/>
            </p:nvCxnSpPr>
            <p:spPr>
              <a:xfrm flipV="1">
                <a:off x="2328480" y="4614120"/>
                <a:ext cx="981720" cy="6008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16" name=""/>
              <p:cNvCxnSpPr>
                <a:stCxn id="1110" idx="0"/>
                <a:endCxn id="1108" idx="4"/>
              </p:cNvCxnSpPr>
              <p:nvPr/>
            </p:nvCxnSpPr>
            <p:spPr>
              <a:xfrm flipV="1">
                <a:off x="3314520" y="4647600"/>
                <a:ext cx="76680" cy="10674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17" name=""/>
              <p:cNvCxnSpPr>
                <a:stCxn id="1113" idx="2"/>
                <a:endCxn id="1108" idx="6"/>
              </p:cNvCxnSpPr>
              <p:nvPr/>
            </p:nvCxnSpPr>
            <p:spPr>
              <a:xfrm flipH="1">
                <a:off x="3504960" y="4457520"/>
                <a:ext cx="1219680" cy="766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18" name=""/>
              <p:cNvCxnSpPr>
                <a:stCxn id="1110" idx="5"/>
                <a:endCxn id="1111" idx="2"/>
              </p:cNvCxnSpPr>
              <p:nvPr/>
            </p:nvCxnSpPr>
            <p:spPr>
              <a:xfrm>
                <a:off x="3395160" y="5910120"/>
                <a:ext cx="1329480" cy="3006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19" name=""/>
              <p:cNvCxnSpPr>
                <a:stCxn id="1108" idx="5"/>
                <a:endCxn id="1111" idx="1"/>
              </p:cNvCxnSpPr>
              <p:nvPr/>
            </p:nvCxnSpPr>
            <p:spPr>
              <a:xfrm>
                <a:off x="3471840" y="4614480"/>
                <a:ext cx="1286640" cy="15152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20" name=""/>
              <p:cNvCxnSpPr>
                <a:stCxn id="1112" idx="3"/>
                <a:endCxn id="1111" idx="7"/>
              </p:cNvCxnSpPr>
              <p:nvPr/>
            </p:nvCxnSpPr>
            <p:spPr>
              <a:xfrm flipH="1">
                <a:off x="4919040" y="5376960"/>
                <a:ext cx="981720" cy="7531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121" name=""/>
              <p:cNvCxnSpPr>
                <a:stCxn id="1112" idx="2"/>
                <a:endCxn id="1110" idx="6"/>
              </p:cNvCxnSpPr>
              <p:nvPr/>
            </p:nvCxnSpPr>
            <p:spPr>
              <a:xfrm flipH="1">
                <a:off x="3428280" y="5295960"/>
                <a:ext cx="2439000" cy="5342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1122" name=""/>
            <p:cNvSpPr/>
            <p:nvPr/>
          </p:nvSpPr>
          <p:spPr>
            <a:xfrm>
              <a:off x="660240" y="3794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ahoma"/>
                </a:rPr>
                <a:t>Esempio (1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2133720" y="4343400"/>
            <a:ext cx="3962160" cy="1981080"/>
            <a:chOff x="2133720" y="4343400"/>
            <a:chExt cx="3962160" cy="1981080"/>
          </a:xfrm>
        </p:grpSpPr>
        <p:sp>
          <p:nvSpPr>
            <p:cNvPr id="1124" name=""/>
            <p:cNvSpPr/>
            <p:nvPr/>
          </p:nvSpPr>
          <p:spPr>
            <a:xfrm>
              <a:off x="3276720" y="4419720"/>
              <a:ext cx="22860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33720" y="518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0040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724280" y="6095880"/>
              <a:ext cx="22860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67280" y="518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2428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130" name=""/>
            <p:cNvCxnSpPr>
              <a:stCxn id="1125" idx="7"/>
              <a:endCxn id="1124" idx="3"/>
            </p:cNvCxnSpPr>
            <p:nvPr/>
          </p:nvCxnSpPr>
          <p:spPr>
            <a:xfrm flipV="1">
              <a:off x="2328480" y="461412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131" name=""/>
            <p:cNvCxnSpPr>
              <a:stCxn id="1126" idx="0"/>
              <a:endCxn id="1124" idx="4"/>
            </p:cNvCxnSpPr>
            <p:nvPr/>
          </p:nvCxnSpPr>
          <p:spPr>
            <a:xfrm flipV="1">
              <a:off x="3314520" y="4647600"/>
              <a:ext cx="76680" cy="1067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132" name=""/>
            <p:cNvCxnSpPr>
              <a:stCxn id="1126" idx="5"/>
              <a:endCxn id="1127" idx="2"/>
            </p:cNvCxnSpPr>
            <p:nvPr/>
          </p:nvCxnSpPr>
          <p:spPr>
            <a:xfrm>
              <a:off x="3395160" y="591012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133" name=""/>
            <p:cNvCxnSpPr>
              <a:stCxn id="1124" idx="5"/>
              <a:endCxn id="1127" idx="1"/>
            </p:cNvCxnSpPr>
            <p:nvPr/>
          </p:nvCxnSpPr>
          <p:spPr>
            <a:xfrm>
              <a:off x="3471840" y="461448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grpSp>
          <p:nvGrpSpPr>
            <p:cNvPr id="1134" name=""/>
            <p:cNvGrpSpPr/>
            <p:nvPr/>
          </p:nvGrpSpPr>
          <p:grpSpPr>
            <a:xfrm>
              <a:off x="2328480" y="4457520"/>
              <a:ext cx="3571920" cy="1672200"/>
              <a:chOff x="2328480" y="4457520"/>
              <a:chExt cx="3571920" cy="1672200"/>
            </a:xfrm>
          </p:grpSpPr>
          <p:cxnSp>
            <p:nvCxnSpPr>
              <p:cNvPr id="1135" name=""/>
              <p:cNvCxnSpPr>
                <a:stCxn id="1125" idx="5"/>
                <a:endCxn id="1126" idx="2"/>
              </p:cNvCxnSpPr>
              <p:nvPr/>
            </p:nvCxnSpPr>
            <p:spPr>
              <a:xfrm>
                <a:off x="2328480" y="5376600"/>
                <a:ext cx="872280" cy="453240"/>
              </a:xfrm>
              <a:prstGeom prst="straightConnector1">
                <a:avLst/>
              </a:prstGeom>
              <a:ln w="57240">
                <a:solidFill>
                  <a:srgbClr val="008000"/>
                </a:solidFill>
                <a:miter/>
              </a:ln>
            </p:spPr>
          </p:cxnSp>
          <p:cxnSp>
            <p:nvCxnSpPr>
              <p:cNvPr id="1136" name=""/>
              <p:cNvCxnSpPr>
                <a:stCxn id="1129" idx="2"/>
                <a:endCxn id="1124" idx="6"/>
              </p:cNvCxnSpPr>
              <p:nvPr/>
            </p:nvCxnSpPr>
            <p:spPr>
              <a:xfrm flipH="1">
                <a:off x="3504960" y="4457520"/>
                <a:ext cx="1219680" cy="76680"/>
              </a:xfrm>
              <a:prstGeom prst="straightConnector1">
                <a:avLst/>
              </a:prstGeom>
              <a:ln w="57240">
                <a:solidFill>
                  <a:srgbClr val="008000"/>
                </a:solidFill>
                <a:miter/>
              </a:ln>
            </p:spPr>
          </p:cxnSp>
          <p:cxnSp>
            <p:nvCxnSpPr>
              <p:cNvPr id="1137" name=""/>
              <p:cNvCxnSpPr>
                <a:stCxn id="1128" idx="3"/>
                <a:endCxn id="1127" idx="7"/>
              </p:cNvCxnSpPr>
              <p:nvPr/>
            </p:nvCxnSpPr>
            <p:spPr>
              <a:xfrm flipH="1">
                <a:off x="4919040" y="5376960"/>
                <a:ext cx="981720" cy="753120"/>
              </a:xfrm>
              <a:prstGeom prst="straightConnector1">
                <a:avLst/>
              </a:prstGeom>
              <a:ln w="57240">
                <a:solidFill>
                  <a:srgbClr val="008000"/>
                </a:solidFill>
                <a:miter/>
              </a:ln>
            </p:spPr>
          </p:cxnSp>
        </p:grpSp>
        <p:cxnSp>
          <p:nvCxnSpPr>
            <p:cNvPr id="1138" name=""/>
            <p:cNvCxnSpPr>
              <a:stCxn id="1128" idx="2"/>
              <a:endCxn id="1126" idx="6"/>
            </p:cNvCxnSpPr>
            <p:nvPr/>
          </p:nvCxnSpPr>
          <p:spPr>
            <a:xfrm flipH="1">
              <a:off x="3428280" y="5295960"/>
              <a:ext cx="2439000" cy="534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139" name=""/>
          <p:cNvGrpSpPr/>
          <p:nvPr/>
        </p:nvGrpSpPr>
        <p:grpSpPr>
          <a:xfrm>
            <a:off x="2328480" y="4457520"/>
            <a:ext cx="3571920" cy="1672200"/>
            <a:chOff x="2328480" y="4457520"/>
            <a:chExt cx="3571920" cy="1672200"/>
          </a:xfrm>
        </p:grpSpPr>
        <p:cxnSp>
          <p:nvCxnSpPr>
            <p:cNvPr id="1140" name=""/>
            <p:cNvCxnSpPr/>
            <p:nvPr/>
          </p:nvCxnSpPr>
          <p:spPr>
            <a:xfrm>
              <a:off x="2328480" y="5376600"/>
              <a:ext cx="872280" cy="453240"/>
            </a:xfrm>
            <a:prstGeom prst="straightConnector1">
              <a:avLst/>
            </a:prstGeom>
            <a:ln w="57240">
              <a:solidFill>
                <a:srgbClr val="660066"/>
              </a:solidFill>
              <a:miter/>
            </a:ln>
          </p:spPr>
        </p:cxnSp>
        <p:cxnSp>
          <p:nvCxnSpPr>
            <p:cNvPr id="1141" name=""/>
            <p:cNvCxnSpPr/>
            <p:nvPr/>
          </p:nvCxnSpPr>
          <p:spPr>
            <a:xfrm flipH="1">
              <a:off x="3504960" y="4457520"/>
              <a:ext cx="1219680" cy="76680"/>
            </a:xfrm>
            <a:prstGeom prst="straightConnector1">
              <a:avLst/>
            </a:prstGeom>
            <a:ln w="57240">
              <a:solidFill>
                <a:srgbClr val="660066"/>
              </a:solidFill>
              <a:miter/>
            </a:ln>
          </p:spPr>
        </p:cxnSp>
        <p:cxnSp>
          <p:nvCxnSpPr>
            <p:cNvPr id="1142" name=""/>
            <p:cNvCxnSpPr/>
            <p:nvPr/>
          </p:nvCxnSpPr>
          <p:spPr>
            <a:xfrm flipH="1">
              <a:off x="4919040" y="5376960"/>
              <a:ext cx="981720" cy="753120"/>
            </a:xfrm>
            <a:prstGeom prst="straightConnector1">
              <a:avLst/>
            </a:prstGeom>
            <a:ln w="57240">
              <a:solidFill>
                <a:srgbClr val="660066"/>
              </a:solidFill>
              <a:miter/>
            </a:ln>
          </p:spPr>
        </p:cxnSp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Galla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660240" y="37940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sempio 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85800" y="1225440"/>
            <a:ext cx="838188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Gallai 1959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ogni graf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di si h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nolt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n ha nodi isol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</a:t>
            </a:r>
            <a:r>
              <a:rPr b="0" i="1" lang="it-IT" sz="2400" spc="-1" strike="noStrike">
                <a:solidFill>
                  <a:srgbClr val="339933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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</a:t>
            </a:r>
            <a:r>
              <a:rPr b="0" i="1" lang="it-IT" sz="2400" spc="-1" strike="noStrike">
                <a:solidFill>
                  <a:srgbClr val="990099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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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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>
            <a:off x="685800" y="1295280"/>
            <a:ext cx="83818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imostrazione</a:t>
            </a:r>
            <a:r>
              <a:rPr b="0" lang="it-IT" sz="2400" spc="-1" strike="noStrike">
                <a:solidFill>
                  <a:srgbClr val="b2b2b2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stabi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 Allor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un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trasvers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2637000" y="2362320"/>
            <a:ext cx="1020600" cy="1831320"/>
            <a:chOff x="2637000" y="2362320"/>
            <a:chExt cx="1020600" cy="1831320"/>
          </a:xfrm>
        </p:grpSpPr>
        <p:sp>
          <p:nvSpPr>
            <p:cNvPr id="1149" name=""/>
            <p:cNvSpPr/>
            <p:nvPr/>
          </p:nvSpPr>
          <p:spPr>
            <a:xfrm>
              <a:off x="2667240" y="2362320"/>
              <a:ext cx="990360" cy="1676520"/>
            </a:xfrm>
            <a:prstGeom prst="ellipse">
              <a:avLst/>
            </a:prstGeom>
            <a:noFill/>
            <a:ln w="2844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37000" y="373392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40458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830680" y="2666880"/>
            <a:ext cx="2666880" cy="990360"/>
            <a:chOff x="2830680" y="2666880"/>
            <a:chExt cx="2666880" cy="990360"/>
          </a:xfrm>
        </p:grpSpPr>
        <p:sp>
          <p:nvSpPr>
            <p:cNvPr id="1152" name=""/>
            <p:cNvSpPr/>
            <p:nvPr/>
          </p:nvSpPr>
          <p:spPr>
            <a:xfrm>
              <a:off x="3287880" y="2742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30680" y="2895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87880" y="3276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982960" y="3504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345280" y="2666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88080" y="2819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345280" y="3200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40360" y="3428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40160" y="2819160"/>
              <a:ext cx="144792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440160" y="2895480"/>
              <a:ext cx="1447920" cy="457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135240" y="3504960"/>
              <a:ext cx="190512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982960" y="2971440"/>
              <a:ext cx="236232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21240" y="281916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040360" y="2742840"/>
              <a:ext cx="304920" cy="152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166" name=""/>
            <p:cNvCxnSpPr>
              <a:stCxn id="1159" idx="7"/>
              <a:endCxn id="1158" idx="3"/>
            </p:cNvCxnSpPr>
            <p:nvPr/>
          </p:nvCxnSpPr>
          <p:spPr>
            <a:xfrm flipV="1">
              <a:off x="5169960" y="3329640"/>
              <a:ext cx="197640" cy="121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167" name=""/>
            <p:cNvCxnSpPr>
              <a:stCxn id="1162" idx="0"/>
              <a:endCxn id="1161" idx="0"/>
            </p:cNvCxnSpPr>
            <p:nvPr/>
          </p:nvCxnSpPr>
          <p:spPr>
            <a:xfrm flipH="1" flipV="1">
              <a:off x="3439800" y="3351960"/>
              <a:ext cx="1599120" cy="1530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168" name=""/>
          <p:cNvGrpSpPr/>
          <p:nvPr/>
        </p:nvGrpSpPr>
        <p:grpSpPr>
          <a:xfrm>
            <a:off x="2984400" y="2742840"/>
            <a:ext cx="2438640" cy="838440"/>
            <a:chOff x="2984400" y="2742840"/>
            <a:chExt cx="2438640" cy="838440"/>
          </a:xfrm>
        </p:grpSpPr>
        <p:sp>
          <p:nvSpPr>
            <p:cNvPr id="1169" name=""/>
            <p:cNvSpPr/>
            <p:nvPr/>
          </p:nvSpPr>
          <p:spPr>
            <a:xfrm>
              <a:off x="3441600" y="2819160"/>
              <a:ext cx="1447920" cy="7632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441600" y="2895480"/>
              <a:ext cx="1447920" cy="45720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3137040" y="3504960"/>
              <a:ext cx="1904760" cy="7632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84400" y="2971800"/>
              <a:ext cx="2362320" cy="30456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423040" y="2819160"/>
              <a:ext cx="0" cy="38124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5041800" y="2742840"/>
              <a:ext cx="304920" cy="15228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175" name=""/>
            <p:cNvCxnSpPr>
              <a:stCxn id="1176" idx="7"/>
              <a:endCxn id="1177" idx="3"/>
            </p:cNvCxnSpPr>
            <p:nvPr/>
          </p:nvCxnSpPr>
          <p:spPr>
            <a:xfrm flipV="1">
              <a:off x="5171760" y="3329640"/>
              <a:ext cx="197640" cy="121320"/>
            </a:xfrm>
            <a:prstGeom prst="straightConnector1">
              <a:avLst/>
            </a:prstGeom>
            <a:ln w="38160">
              <a:solidFill>
                <a:srgbClr val="cfdbfd"/>
              </a:solidFill>
              <a:miter/>
            </a:ln>
          </p:spPr>
        </p:cxnSp>
        <p:cxnSp>
          <p:nvCxnSpPr>
            <p:cNvPr id="1178" name=""/>
            <p:cNvCxnSpPr>
              <a:stCxn id="1171" idx="0"/>
              <a:endCxn id="1170" idx="0"/>
            </p:cNvCxnSpPr>
            <p:nvPr/>
          </p:nvCxnSpPr>
          <p:spPr>
            <a:xfrm flipH="1" flipV="1">
              <a:off x="3440880" y="3351960"/>
              <a:ext cx="1599480" cy="153000"/>
            </a:xfrm>
            <a:prstGeom prst="straightConnector1">
              <a:avLst/>
            </a:prstGeom>
            <a:ln w="38160">
              <a:solidFill>
                <a:srgbClr val="cfdbfd"/>
              </a:solidFill>
              <a:miter/>
            </a:ln>
          </p:spPr>
        </p:cxnSp>
      </p:grpSp>
      <p:grpSp>
        <p:nvGrpSpPr>
          <p:cNvPr id="1179" name=""/>
          <p:cNvGrpSpPr/>
          <p:nvPr/>
        </p:nvGrpSpPr>
        <p:grpSpPr>
          <a:xfrm>
            <a:off x="4889520" y="2666880"/>
            <a:ext cx="609480" cy="914400"/>
            <a:chOff x="4889520" y="2666880"/>
            <a:chExt cx="609480" cy="914400"/>
          </a:xfrm>
        </p:grpSpPr>
        <p:sp>
          <p:nvSpPr>
            <p:cNvPr id="1180" name=""/>
            <p:cNvSpPr/>
            <p:nvPr/>
          </p:nvSpPr>
          <p:spPr>
            <a:xfrm>
              <a:off x="5346720" y="266688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89520" y="281916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46720" y="32004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41800" y="34290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8580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| =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llor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 =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3083040" y="2133720"/>
            <a:ext cx="2666880" cy="990360"/>
            <a:chOff x="3083040" y="2133720"/>
            <a:chExt cx="2666880" cy="990360"/>
          </a:xfrm>
        </p:grpSpPr>
        <p:sp>
          <p:nvSpPr>
            <p:cNvPr id="1184" name=""/>
            <p:cNvSpPr/>
            <p:nvPr/>
          </p:nvSpPr>
          <p:spPr>
            <a:xfrm>
              <a:off x="3540240" y="2209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83040" y="2362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40240" y="2743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23532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597640" y="213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140440" y="2286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597640" y="2666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92720" y="28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92520" y="2286000"/>
              <a:ext cx="144792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3692520" y="2362320"/>
              <a:ext cx="1447920" cy="457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3387600" y="2971800"/>
              <a:ext cx="190512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35320" y="2438280"/>
              <a:ext cx="236232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673600" y="22860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5292720" y="2209680"/>
              <a:ext cx="304920" cy="152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198" name=""/>
            <p:cNvCxnSpPr>
              <a:stCxn id="1191" idx="7"/>
              <a:endCxn id="1190" idx="3"/>
            </p:cNvCxnSpPr>
            <p:nvPr/>
          </p:nvCxnSpPr>
          <p:spPr>
            <a:xfrm flipV="1">
              <a:off x="5422320" y="2796480"/>
              <a:ext cx="197640" cy="121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199" name=""/>
            <p:cNvCxnSpPr>
              <a:stCxn id="1194" idx="0"/>
              <a:endCxn id="1193" idx="0"/>
            </p:cNvCxnSpPr>
            <p:nvPr/>
          </p:nvCxnSpPr>
          <p:spPr>
            <a:xfrm flipH="1" flipV="1">
              <a:off x="3692160" y="2818800"/>
              <a:ext cx="1599120" cy="1530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1200" name=""/>
          <p:cNvSpPr/>
          <p:nvPr/>
        </p:nvSpPr>
        <p:spPr>
          <a:xfrm>
            <a:off x="7621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iceversa, 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trasversal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stabi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2120" y="3581280"/>
            <a:ext cx="708660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to quin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si h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 =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insieme a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 =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mostra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3235320" y="2209320"/>
            <a:ext cx="2438280" cy="838440"/>
            <a:chOff x="3235320" y="2209320"/>
            <a:chExt cx="2438280" cy="838440"/>
          </a:xfrm>
        </p:grpSpPr>
        <p:sp>
          <p:nvSpPr>
            <p:cNvPr id="1203" name=""/>
            <p:cNvSpPr/>
            <p:nvPr/>
          </p:nvSpPr>
          <p:spPr>
            <a:xfrm>
              <a:off x="3692160" y="2285640"/>
              <a:ext cx="1447560" cy="7632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3692160" y="2361960"/>
              <a:ext cx="1447560" cy="45720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387600" y="2971440"/>
              <a:ext cx="1904400" cy="7632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35320" y="2438280"/>
              <a:ext cx="2361960" cy="30456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673600" y="2285640"/>
              <a:ext cx="0" cy="38124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5292360" y="2209320"/>
              <a:ext cx="304560" cy="152280"/>
            </a:xfrm>
            <a:prstGeom prst="line">
              <a:avLst/>
            </a:prstGeom>
            <a:ln w="381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209" name=""/>
            <p:cNvCxnSpPr/>
            <p:nvPr/>
          </p:nvCxnSpPr>
          <p:spPr>
            <a:xfrm flipV="1">
              <a:off x="5422680" y="2796120"/>
              <a:ext cx="197280" cy="121320"/>
            </a:xfrm>
            <a:prstGeom prst="straightConnector1">
              <a:avLst/>
            </a:prstGeom>
            <a:ln w="38160">
              <a:solidFill>
                <a:srgbClr val="cfdbfd"/>
              </a:solidFill>
              <a:miter/>
            </a:ln>
          </p:spPr>
        </p:cxnSp>
        <p:cxnSp>
          <p:nvCxnSpPr>
            <p:cNvPr id="1210" name=""/>
            <p:cNvCxnSpPr>
              <a:stCxn id="1205" idx="0"/>
              <a:endCxn id="1204" idx="0"/>
            </p:cNvCxnSpPr>
            <p:nvPr/>
          </p:nvCxnSpPr>
          <p:spPr>
            <a:xfrm flipH="1" flipV="1">
              <a:off x="3691800" y="2818440"/>
              <a:ext cx="1599120" cy="153000"/>
            </a:xfrm>
            <a:prstGeom prst="straightConnector1">
              <a:avLst/>
            </a:prstGeom>
            <a:ln w="38160">
              <a:solidFill>
                <a:srgbClr val="cfdbfd"/>
              </a:solidFill>
              <a:miter/>
            </a:ln>
          </p:spPr>
        </p:cxnSp>
      </p:grpSp>
      <p:grpSp>
        <p:nvGrpSpPr>
          <p:cNvPr id="1211" name=""/>
          <p:cNvGrpSpPr/>
          <p:nvPr/>
        </p:nvGrpSpPr>
        <p:grpSpPr>
          <a:xfrm>
            <a:off x="4981680" y="1828800"/>
            <a:ext cx="1266840" cy="1676160"/>
            <a:chOff x="4981680" y="1828800"/>
            <a:chExt cx="1266840" cy="1676160"/>
          </a:xfrm>
        </p:grpSpPr>
        <p:grpSp>
          <p:nvGrpSpPr>
            <p:cNvPr id="1212" name=""/>
            <p:cNvGrpSpPr/>
            <p:nvPr/>
          </p:nvGrpSpPr>
          <p:grpSpPr>
            <a:xfrm>
              <a:off x="4981680" y="1828800"/>
              <a:ext cx="1266840" cy="1676160"/>
              <a:chOff x="4981680" y="1828800"/>
              <a:chExt cx="1266840" cy="1676160"/>
            </a:xfrm>
          </p:grpSpPr>
          <p:sp>
            <p:nvSpPr>
              <p:cNvPr id="1213" name=""/>
              <p:cNvSpPr/>
              <p:nvPr/>
            </p:nvSpPr>
            <p:spPr>
              <a:xfrm>
                <a:off x="4981680" y="1828800"/>
                <a:ext cx="990360" cy="1676160"/>
              </a:xfrm>
              <a:prstGeom prst="ellipse">
                <a:avLst/>
              </a:prstGeom>
              <a:noFill/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49920" y="2971800"/>
                <a:ext cx="498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40458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133960" y="2133360"/>
              <a:ext cx="609480" cy="914400"/>
              <a:chOff x="5133960" y="2133360"/>
              <a:chExt cx="609480" cy="914400"/>
            </a:xfrm>
          </p:grpSpPr>
          <p:sp>
            <p:nvSpPr>
              <p:cNvPr id="1216" name=""/>
              <p:cNvSpPr/>
              <p:nvPr/>
            </p:nvSpPr>
            <p:spPr>
              <a:xfrm>
                <a:off x="5591160" y="2133360"/>
                <a:ext cx="152280" cy="15264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133960" y="2286000"/>
                <a:ext cx="152280" cy="15228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591160" y="2666880"/>
                <a:ext cx="152280" cy="15228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286240" y="2895480"/>
                <a:ext cx="152640" cy="15228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1049760" y="2452680"/>
            <a:ext cx="2208240" cy="541080"/>
            <a:chOff x="1049760" y="2452680"/>
            <a:chExt cx="2208240" cy="541080"/>
          </a:xfrm>
        </p:grpSpPr>
        <p:cxnSp>
          <p:nvCxnSpPr>
            <p:cNvPr id="1221" name=""/>
            <p:cNvCxnSpPr>
              <a:stCxn id="1185" idx="4"/>
              <a:endCxn id="1187" idx="1"/>
            </p:cNvCxnSpPr>
            <p:nvPr/>
          </p:nvCxnSpPr>
          <p:spPr>
            <a:xfrm>
              <a:off x="3159000" y="2514240"/>
              <a:ext cx="99360" cy="47988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</a:ln>
          </p:spPr>
        </p:cxnSp>
        <p:sp>
          <p:nvSpPr>
            <p:cNvPr id="1222" name=""/>
            <p:cNvSpPr/>
            <p:nvPr/>
          </p:nvSpPr>
          <p:spPr>
            <a:xfrm>
              <a:off x="1049760" y="2452680"/>
              <a:ext cx="199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3300"/>
                  </a:solidFill>
                  <a:latin typeface="Tahoma"/>
                </a:rPr>
                <a:t>non coperto da </a:t>
              </a:r>
              <a:r>
                <a:rPr b="0" i="1" lang="it-IT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700280" y="2801880"/>
              <a:ext cx="1218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762120" y="1143000"/>
            <a:ext cx="7696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2)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rivo di nodi isolati,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339933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 abbinament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ieme dei nodi saturi rispetto a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419720" y="2286000"/>
            <a:ext cx="1057320" cy="1881720"/>
            <a:chOff x="4419720" y="2286000"/>
            <a:chExt cx="1057320" cy="1881720"/>
          </a:xfrm>
        </p:grpSpPr>
        <p:sp>
          <p:nvSpPr>
            <p:cNvPr id="1227" name=""/>
            <p:cNvSpPr/>
            <p:nvPr/>
          </p:nvSpPr>
          <p:spPr>
            <a:xfrm>
              <a:off x="4419720" y="2286000"/>
              <a:ext cx="990360" cy="1676520"/>
            </a:xfrm>
            <a:prstGeom prst="ellipse">
              <a:avLst/>
            </a:prstGeom>
            <a:noFill/>
            <a:ln w="2844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02200" y="3657600"/>
              <a:ext cx="4748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40458c"/>
                  </a:solidFill>
                  <a:latin typeface="Times New Roman"/>
                </a:rPr>
                <a:t>V</a:t>
              </a:r>
              <a:r>
                <a:rPr b="0" i="1" lang="it-IT" sz="2400" spc="-1" strike="noStrike" baseline="-25000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762120" y="4149720"/>
            <a:ext cx="7848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insieme minim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archi 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le che ogni nodo i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estremo di qualche arco i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2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 edge-co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2666880" y="2590920"/>
            <a:ext cx="2514600" cy="990000"/>
            <a:chOff x="2666880" y="2590920"/>
            <a:chExt cx="2514600" cy="990000"/>
          </a:xfrm>
        </p:grpSpPr>
        <p:cxnSp>
          <p:nvCxnSpPr>
            <p:cNvPr id="1231" name=""/>
            <p:cNvCxnSpPr/>
            <p:nvPr/>
          </p:nvCxnSpPr>
          <p:spPr>
            <a:xfrm flipV="1">
              <a:off x="4702320" y="2666520"/>
              <a:ext cx="327600" cy="9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232" name=""/>
            <p:cNvCxnSpPr/>
            <p:nvPr/>
          </p:nvCxnSpPr>
          <p:spPr>
            <a:xfrm flipV="1">
              <a:off x="4854240" y="3253680"/>
              <a:ext cx="197640" cy="1209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sp>
          <p:nvSpPr>
            <p:cNvPr id="1233" name=""/>
            <p:cNvSpPr/>
            <p:nvPr/>
          </p:nvSpPr>
          <p:spPr>
            <a:xfrm>
              <a:off x="2971800" y="266688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971800" y="3200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66880" y="3428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029200" y="25909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2000" y="274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29200" y="312408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24280" y="3352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24080" y="2742840"/>
              <a:ext cx="1447920" cy="759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3124080" y="2818800"/>
              <a:ext cx="1447920" cy="4568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819520" y="3428280"/>
              <a:ext cx="1904760" cy="759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48320" y="2895480"/>
              <a:ext cx="15228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124080" y="2742840"/>
              <a:ext cx="190512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245" name=""/>
            <p:cNvCxnSpPr>
              <a:stCxn id="1244" idx="0"/>
              <a:endCxn id="1244" idx="1"/>
            </p:cNvCxnSpPr>
            <p:nvPr/>
          </p:nvCxnSpPr>
          <p:spPr>
            <a:xfrm>
              <a:off x="5028840" y="3199680"/>
              <a:ext cx="108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246" name=""/>
          <p:cNvGrpSpPr/>
          <p:nvPr/>
        </p:nvGrpSpPr>
        <p:grpSpPr>
          <a:xfrm>
            <a:off x="2819520" y="2743200"/>
            <a:ext cx="1904760" cy="761400"/>
            <a:chOff x="2819520" y="2743200"/>
            <a:chExt cx="1904760" cy="761400"/>
          </a:xfrm>
        </p:grpSpPr>
        <p:sp>
          <p:nvSpPr>
            <p:cNvPr id="1247" name=""/>
            <p:cNvSpPr/>
            <p:nvPr/>
          </p:nvSpPr>
          <p:spPr>
            <a:xfrm>
              <a:off x="3124080" y="2743200"/>
              <a:ext cx="1447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124080" y="2819160"/>
              <a:ext cx="144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2819520" y="3428640"/>
              <a:ext cx="190476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4705200" y="2666160"/>
            <a:ext cx="349200" cy="708120"/>
            <a:chOff x="4705200" y="2666160"/>
            <a:chExt cx="349200" cy="708120"/>
          </a:xfrm>
        </p:grpSpPr>
        <p:cxnSp>
          <p:nvCxnSpPr>
            <p:cNvPr id="1251" name=""/>
            <p:cNvCxnSpPr>
              <a:stCxn id="1237" idx="7"/>
              <a:endCxn id="1236" idx="2"/>
            </p:cNvCxnSpPr>
            <p:nvPr/>
          </p:nvCxnSpPr>
          <p:spPr>
            <a:xfrm flipV="1">
              <a:off x="4705200" y="2666160"/>
              <a:ext cx="327600" cy="990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  <p:cxnSp>
          <p:nvCxnSpPr>
            <p:cNvPr id="1252" name=""/>
            <p:cNvCxnSpPr>
              <a:stCxn id="1239" idx="7"/>
              <a:endCxn id="1238" idx="3"/>
            </p:cNvCxnSpPr>
            <p:nvPr/>
          </p:nvCxnSpPr>
          <p:spPr>
            <a:xfrm flipV="1">
              <a:off x="4857120" y="3253320"/>
              <a:ext cx="197640" cy="12132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</a:ln>
          </p:spPr>
        </p:cxnSp>
      </p:grp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609480" y="1143000"/>
            <a:ext cx="80773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Quind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Scelgo un abbinamento </a:t>
            </a:r>
            <a:r>
              <a:rPr b="0" i="1" lang="it-IT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cardinalità pari a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Costruisco l’insiem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V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6" name=""/>
          <p:cNvSpPr/>
          <p:nvPr/>
        </p:nvSpPr>
        <p:spPr>
          <a:xfrm>
            <a:off x="609480" y="4724280"/>
            <a:ext cx="79250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iché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 edge-cover, si h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|C|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ertan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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+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 =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3124080" y="2819520"/>
            <a:ext cx="1828800" cy="1676160"/>
            <a:chOff x="3124080" y="2819520"/>
            <a:chExt cx="1828800" cy="1676160"/>
          </a:xfrm>
        </p:grpSpPr>
        <p:sp>
          <p:nvSpPr>
            <p:cNvPr id="1258" name=""/>
            <p:cNvSpPr/>
            <p:nvPr/>
          </p:nvSpPr>
          <p:spPr>
            <a:xfrm>
              <a:off x="312408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6252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2428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29000" y="42670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81560" y="42670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263" name=""/>
            <p:cNvCxnSpPr>
              <a:stCxn id="1258" idx="4"/>
              <a:endCxn id="1261" idx="1"/>
            </p:cNvCxnSpPr>
            <p:nvPr/>
          </p:nvCxnSpPr>
          <p:spPr>
            <a:xfrm>
              <a:off x="3238560" y="3581280"/>
              <a:ext cx="22464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4" name=""/>
            <p:cNvCxnSpPr>
              <a:stCxn id="1258" idx="7"/>
              <a:endCxn id="1259" idx="2"/>
            </p:cNvCxnSpPr>
            <p:nvPr/>
          </p:nvCxnSpPr>
          <p:spPr>
            <a:xfrm flipV="1">
              <a:off x="3319560" y="2932920"/>
              <a:ext cx="64332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5" name=""/>
            <p:cNvCxnSpPr>
              <a:stCxn id="1259" idx="6"/>
              <a:endCxn id="1260" idx="1"/>
            </p:cNvCxnSpPr>
            <p:nvPr/>
          </p:nvCxnSpPr>
          <p:spPr>
            <a:xfrm>
              <a:off x="4191120" y="2933280"/>
              <a:ext cx="56736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6" name=""/>
            <p:cNvCxnSpPr>
              <a:stCxn id="1261" idx="6"/>
              <a:endCxn id="1262" idx="2"/>
            </p:cNvCxnSpPr>
            <p:nvPr/>
          </p:nvCxnSpPr>
          <p:spPr>
            <a:xfrm>
              <a:off x="3657240" y="4381200"/>
              <a:ext cx="724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7" name=""/>
            <p:cNvCxnSpPr>
              <a:stCxn id="1262" idx="7"/>
              <a:endCxn id="1260" idx="4"/>
            </p:cNvCxnSpPr>
            <p:nvPr/>
          </p:nvCxnSpPr>
          <p:spPr>
            <a:xfrm flipV="1">
              <a:off x="4576680" y="3580920"/>
              <a:ext cx="26280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68" name=""/>
          <p:cNvGrpSpPr/>
          <p:nvPr/>
        </p:nvGrpSpPr>
        <p:grpSpPr>
          <a:xfrm>
            <a:off x="3238560" y="2933280"/>
            <a:ext cx="1519560" cy="1367640"/>
            <a:chOff x="3238560" y="2933280"/>
            <a:chExt cx="1519560" cy="1367640"/>
          </a:xfrm>
        </p:grpSpPr>
        <p:cxnSp>
          <p:nvCxnSpPr>
            <p:cNvPr id="1269" name=""/>
            <p:cNvCxnSpPr/>
            <p:nvPr/>
          </p:nvCxnSpPr>
          <p:spPr>
            <a:xfrm>
              <a:off x="3238560" y="3581280"/>
              <a:ext cx="224640" cy="7200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1270" name=""/>
            <p:cNvCxnSpPr/>
            <p:nvPr/>
          </p:nvCxnSpPr>
          <p:spPr>
            <a:xfrm>
              <a:off x="4191120" y="2933280"/>
              <a:ext cx="567360" cy="453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</p:grpSp>
      <p:cxnSp>
        <p:nvCxnSpPr>
          <p:cNvPr id="1271" name=""/>
          <p:cNvCxnSpPr/>
          <p:nvPr/>
        </p:nvCxnSpPr>
        <p:spPr>
          <a:xfrm>
            <a:off x="3657240" y="4381200"/>
            <a:ext cx="7246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V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1279440"/>
            <a:ext cx="71629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edge-cover 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it-IT" sz="2400" spc="-1" strike="noStrike">
                <a:solidFill>
                  <a:srgbClr val="660066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sottografo indotto d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gono le seguenti proprietà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1)</a:t>
            </a:r>
            <a:r>
              <a:rPr b="0" i="1" lang="it-IT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è un grafo acicl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atti, 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enesse cicli allor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sarebbe un edge-cover minimo (l’arco rosso di figura può essere rimosso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4876920"/>
            <a:ext cx="2514600" cy="838080"/>
          </a:xfrm>
          <a:custGeom>
            <a:avLst/>
            <a:gdLst/>
            <a:ahLst/>
            <a:rect l="l" t="t" r="r" b="b"/>
            <a:pathLst>
              <a:path w="2448" h="384">
                <a:moveTo>
                  <a:pt x="0" y="384"/>
                </a:moveTo>
                <a:cubicBezTo>
                  <a:pt x="276" y="192"/>
                  <a:pt x="552" y="0"/>
                  <a:pt x="960" y="0"/>
                </a:cubicBezTo>
                <a:cubicBezTo>
                  <a:pt x="1368" y="0"/>
                  <a:pt x="1908" y="192"/>
                  <a:pt x="2448" y="3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2971800" y="5638680"/>
            <a:ext cx="2895480" cy="304920"/>
            <a:chOff x="2971800" y="5638680"/>
            <a:chExt cx="2895480" cy="304920"/>
          </a:xfrm>
        </p:grpSpPr>
        <p:sp>
          <p:nvSpPr>
            <p:cNvPr id="1276" name=""/>
            <p:cNvSpPr/>
            <p:nvPr/>
          </p:nvSpPr>
          <p:spPr>
            <a:xfrm>
              <a:off x="3276720" y="5791320"/>
              <a:ext cx="10666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72000" y="5791320"/>
              <a:ext cx="99072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971800" y="5638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267080" y="5638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62720" y="56386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1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41" dur="1" fill="hold"/>
                                  <p:tgtEl>
                                    <p:spTgt spid="1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V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558000" y="1295280"/>
            <a:ext cx="49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2)</a:t>
            </a:r>
            <a:r>
              <a:rPr b="0" i="1" lang="it-IT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gni cammino in</a:t>
            </a:r>
            <a:r>
              <a:rPr b="0" i="1" lang="it-IT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ha </a:t>
            </a: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al più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2 spigo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362320" y="2362320"/>
            <a:ext cx="4190760" cy="304560"/>
            <a:chOff x="2362320" y="2362320"/>
            <a:chExt cx="4190760" cy="304560"/>
          </a:xfrm>
        </p:grpSpPr>
        <p:sp>
          <p:nvSpPr>
            <p:cNvPr id="1284" name=""/>
            <p:cNvSpPr/>
            <p:nvPr/>
          </p:nvSpPr>
          <p:spPr>
            <a:xfrm>
              <a:off x="2666880" y="2514600"/>
              <a:ext cx="10670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57800" y="2514600"/>
              <a:ext cx="99072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62320" y="2362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576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288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2362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3962520" y="251460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7800" y="3336840"/>
            <a:ext cx="761040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atti, se esiste un cammino con 3 spigoli, posso rimuovere sempre un arco in modo da avere un edge-cover, contraddicendo il fatto ch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min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lle proprietà 1) e 2) deduco ch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 grafo costituito d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rtici,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pigoli, decomponibile i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mponenti componenti connesse aventi la forma di “stella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V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3" name=""/>
          <p:cNvSpPr/>
          <p:nvPr/>
        </p:nvSpPr>
        <p:spPr>
          <a:xfrm>
            <a:off x="609480" y="1219320"/>
            <a:ext cx="800100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la compone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esima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generale, essa avrà h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di 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– 1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rch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Quind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=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llor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339933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abbinamento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 uno spigolo per ogni componente d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h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Symbol"/>
                <a:ea typeface="Symbol"/>
              </a:rPr>
              <a:t>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|A|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con</a:t>
            </a: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0099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990099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990099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9933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39933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ornisce la tesi.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1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1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FI ha un problema di ottimizz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F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orario di nuovo tr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ntervallo di tempo necessario a percorrere ogni tratta della lin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ntervallo di tempo minimo e massimo di sosta in ogni s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ndard di sicurezza (due treni che viaggiano sulla stessa linea devono essere separati da almen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metri, ec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orario esist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ovare (se esiste !) un orario che contenga il nuovo treno e che rispetti gli standard di sicurezz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i di PLI: Massimo Stab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3886200" y="2133720"/>
                <a:ext cx="4589640" cy="41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⟨</m:t>
                        </m:r>
                        <m:m>
                          <m:mr>
                            <m:e>
                              <m:eqAr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e il vertice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</m:t>
                                  </m:r>
                                </m:e>
                                <m:e/>
                              </m:eqAr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altrimenti           </m:t>
                              </m:r>
                            </m:e>
                          </m:mr>
                        </m:m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6" name=""/>
          <p:cNvSpPr/>
          <p:nvPr/>
        </p:nvSpPr>
        <p:spPr>
          <a:xfrm>
            <a:off x="609480" y="1295280"/>
            <a:ext cx="449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at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, 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=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=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90720" y="2575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43000" y="52578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o Line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838080" y="1295280"/>
                <a:ext cx="458964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1" name=""/>
          <p:cNvSpPr/>
          <p:nvPr/>
        </p:nvSpPr>
        <p:spPr>
          <a:xfrm>
            <a:off x="838080" y="4389480"/>
            <a:ext cx="5943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limitazion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1 può essere omes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il valore della soluzione ottima del rilassamento line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02040" y="1981080"/>
            <a:ext cx="96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AB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R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i di PLI: Minimo edge-co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990960" y="1447920"/>
                <a:ext cx="4314960" cy="44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⟨</m:t>
                        </m:r>
                        <m:m>
                          <m:mr>
                            <m:e>
                              <m:eqAr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e l'arco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 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C</m:t>
                                  </m:r>
                                </m:e>
                                <m:e/>
                              </m:eqAr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altrimenti           </m:t>
                              </m:r>
                            </m:e>
                          </m:mr>
                        </m:m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990720" y="19051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143000" y="4495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o line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838080" y="1371600"/>
                <a:ext cx="3922920" cy="26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685800" y="4572000"/>
            <a:ext cx="61722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limitazion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1 può essere omes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il valore della soluzione ottima del rilassamento line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559480" y="1981080"/>
            <a:ext cx="124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DGE-C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R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ua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2" name=""/>
          <p:cNvSpPr/>
          <p:nvPr/>
        </p:nvSpPr>
        <p:spPr>
          <a:xfrm>
            <a:off x="685800" y="1295280"/>
            <a:ext cx="76201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A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EDGE-C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stituiscono una coppia primale-du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oltre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or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i di PLI: Massimo Mat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3505320" y="1357200"/>
                <a:ext cx="4314600" cy="466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⟨</m:t>
                        </m:r>
                        <m:m>
                          <m:mr>
                            <m:e>
                              <m:eqAr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e l'arco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 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A</m:t>
                                  </m:r>
                                </m:e>
                                <m:e/>
                              </m:eqAr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altrimenti           </m:t>
                              </m:r>
                            </m:e>
                          </m:mr>
                        </m:m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5" name=""/>
          <p:cNvSpPr/>
          <p:nvPr/>
        </p:nvSpPr>
        <p:spPr>
          <a:xfrm>
            <a:off x="990720" y="19051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143000" y="4495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o Line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85800" y="1133640"/>
                <a:ext cx="4118040" cy="28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9" name=""/>
          <p:cNvSpPr/>
          <p:nvPr/>
        </p:nvSpPr>
        <p:spPr>
          <a:xfrm>
            <a:off x="685800" y="4251240"/>
            <a:ext cx="7391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limitazion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1 può essere omes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il valore della soluzione ottima del rilassamento line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44280" y="1981080"/>
            <a:ext cx="170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R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zioni di PLI: minimo trasvers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3657600" y="1600200"/>
                <a:ext cx="458964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⟨</m:t>
                        </m:r>
                        <m:m>
                          <m:mr>
                            <m:e>
                              <m:eqAr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e il vertice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e/>
                              </m:eqAr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altrimenti           </m:t>
                              </m:r>
                            </m:e>
                          </m:mr>
                        </m:m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762120" y="204156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914400" y="4724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o line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4480" y="1219320"/>
                <a:ext cx="458964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5743800" y="1981080"/>
            <a:ext cx="110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RASV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R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62120" y="4114800"/>
            <a:ext cx="5943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limitazion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1 può essere omes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il valore della soluzione ottima del rilassamento line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ua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"/>
          <p:cNvSpPr/>
          <p:nvPr/>
        </p:nvSpPr>
        <p:spPr>
          <a:xfrm>
            <a:off x="685800" y="1295280"/>
            <a:ext cx="76201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TCHIN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TRAS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stituiscono una coppia primale-du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oltre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or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R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762120" y="4343400"/>
            <a:ext cx="7619400" cy="2057400"/>
            <a:chOff x="762120" y="4343400"/>
            <a:chExt cx="7619400" cy="2057400"/>
          </a:xfrm>
        </p:grpSpPr>
        <p:sp>
          <p:nvSpPr>
            <p:cNvPr id="218" name=""/>
            <p:cNvSpPr/>
            <p:nvPr/>
          </p:nvSpPr>
          <p:spPr>
            <a:xfrm>
              <a:off x="838080" y="4419720"/>
              <a:ext cx="7543440" cy="198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4343400"/>
              <a:ext cx="75434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blema di Ottimizz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siem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mbien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insieme di soluzioni, decisioni o alterna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siem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mmissi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definito tramite un insieme di relazioni dett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vinco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funzione obiet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rezione di ottimizzazione: minimo o mass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di ottimizzazione (mi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ovare un elemen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ale ch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valore ottim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soluzione ott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ammino alterna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 abbinament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efinizio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o spigolo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accoppia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liber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s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1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008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8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) </a:t>
            </a:r>
            <a:r>
              <a:rPr b="0" lang="it-IT" sz="20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vertic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accoppiato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espos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se su di esso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incid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non incid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uno spigol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cammin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ic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alternant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petto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 è costituito alternativamente da spigoli accoppiati e liber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2362320" y="4495680"/>
            <a:ext cx="3962160" cy="1981440"/>
            <a:chOff x="2362320" y="4495680"/>
            <a:chExt cx="3962160" cy="1981440"/>
          </a:xfrm>
        </p:grpSpPr>
        <p:sp>
          <p:nvSpPr>
            <p:cNvPr id="1334" name=""/>
            <p:cNvSpPr/>
            <p:nvPr/>
          </p:nvSpPr>
          <p:spPr>
            <a:xfrm>
              <a:off x="3505320" y="45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623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29000" y="586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952880" y="6248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9588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952880" y="4495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340" name=""/>
            <p:cNvCxnSpPr>
              <a:stCxn id="1335" idx="5"/>
              <a:endCxn id="1336" idx="2"/>
            </p:cNvCxnSpPr>
            <p:nvPr/>
          </p:nvCxnSpPr>
          <p:spPr>
            <a:xfrm>
              <a:off x="2557080" y="5528880"/>
              <a:ext cx="872280" cy="453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1" name=""/>
            <p:cNvCxnSpPr>
              <a:stCxn id="1335" idx="7"/>
              <a:endCxn id="1334" idx="3"/>
            </p:cNvCxnSpPr>
            <p:nvPr/>
          </p:nvCxnSpPr>
          <p:spPr>
            <a:xfrm flipV="1">
              <a:off x="2557080" y="476640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2" name=""/>
            <p:cNvCxnSpPr>
              <a:stCxn id="1336" idx="0"/>
              <a:endCxn id="1334" idx="4"/>
            </p:cNvCxnSpPr>
            <p:nvPr/>
          </p:nvCxnSpPr>
          <p:spPr>
            <a:xfrm flipV="1">
              <a:off x="3543120" y="4799880"/>
              <a:ext cx="76680" cy="1067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3" name=""/>
            <p:cNvCxnSpPr>
              <a:stCxn id="1339" idx="2"/>
              <a:endCxn id="1334" idx="6"/>
            </p:cNvCxnSpPr>
            <p:nvPr/>
          </p:nvCxnSpPr>
          <p:spPr>
            <a:xfrm flipH="1">
              <a:off x="3733560" y="461016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4" name=""/>
            <p:cNvCxnSpPr>
              <a:stCxn id="1336" idx="5"/>
              <a:endCxn id="1337" idx="2"/>
            </p:cNvCxnSpPr>
            <p:nvPr/>
          </p:nvCxnSpPr>
          <p:spPr>
            <a:xfrm>
              <a:off x="3623760" y="6062400"/>
              <a:ext cx="1329480" cy="3006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5" name=""/>
            <p:cNvCxnSpPr>
              <a:stCxn id="1334" idx="5"/>
              <a:endCxn id="1337" idx="1"/>
            </p:cNvCxnSpPr>
            <p:nvPr/>
          </p:nvCxnSpPr>
          <p:spPr>
            <a:xfrm>
              <a:off x="3700440" y="476676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6" name=""/>
            <p:cNvCxnSpPr>
              <a:stCxn id="1338" idx="3"/>
              <a:endCxn id="1337" idx="7"/>
            </p:cNvCxnSpPr>
            <p:nvPr/>
          </p:nvCxnSpPr>
          <p:spPr>
            <a:xfrm flipH="1">
              <a:off x="5147640" y="5529240"/>
              <a:ext cx="981720" cy="75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47" name=""/>
            <p:cNvCxnSpPr>
              <a:stCxn id="1338" idx="2"/>
              <a:endCxn id="1336" idx="6"/>
            </p:cNvCxnSpPr>
            <p:nvPr/>
          </p:nvCxnSpPr>
          <p:spPr>
            <a:xfrm flipH="1">
              <a:off x="3656880" y="5448240"/>
              <a:ext cx="2439000" cy="534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grpSp>
          <p:nvGrpSpPr>
            <p:cNvPr id="1348" name=""/>
            <p:cNvGrpSpPr/>
            <p:nvPr/>
          </p:nvGrpSpPr>
          <p:grpSpPr>
            <a:xfrm>
              <a:off x="3623760" y="4610160"/>
              <a:ext cx="1329480" cy="1752480"/>
              <a:chOff x="3623760" y="4610160"/>
              <a:chExt cx="1329480" cy="1752480"/>
            </a:xfrm>
          </p:grpSpPr>
          <p:cxnSp>
            <p:nvCxnSpPr>
              <p:cNvPr id="1349" name=""/>
              <p:cNvCxnSpPr>
                <a:stCxn id="1334" idx="6"/>
                <a:endCxn id="1339" idx="2"/>
              </p:cNvCxnSpPr>
              <p:nvPr/>
            </p:nvCxnSpPr>
            <p:spPr>
              <a:xfrm flipV="1">
                <a:off x="3733920" y="4610160"/>
                <a:ext cx="1219680" cy="766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</a:ln>
            </p:spPr>
          </p:cxnSp>
          <p:cxnSp>
            <p:nvCxnSpPr>
              <p:cNvPr id="1350" name=""/>
              <p:cNvCxnSpPr>
                <a:stCxn id="1336" idx="5"/>
                <a:endCxn id="1337" idx="2"/>
              </p:cNvCxnSpPr>
              <p:nvPr/>
            </p:nvCxnSpPr>
            <p:spPr>
              <a:xfrm>
                <a:off x="3623760" y="6062400"/>
                <a:ext cx="1329480" cy="3006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351" name=""/>
          <p:cNvGrpSpPr/>
          <p:nvPr/>
        </p:nvGrpSpPr>
        <p:grpSpPr>
          <a:xfrm>
            <a:off x="2557080" y="5528880"/>
            <a:ext cx="3571920" cy="753120"/>
            <a:chOff x="2557080" y="5528880"/>
            <a:chExt cx="3571920" cy="753120"/>
          </a:xfrm>
        </p:grpSpPr>
        <p:cxnSp>
          <p:nvCxnSpPr>
            <p:cNvPr id="1352" name=""/>
            <p:cNvCxnSpPr>
              <a:stCxn id="1335" idx="5"/>
              <a:endCxn id="1336" idx="2"/>
            </p:cNvCxnSpPr>
            <p:nvPr/>
          </p:nvCxnSpPr>
          <p:spPr>
            <a:xfrm>
              <a:off x="2557080" y="5528880"/>
              <a:ext cx="872280" cy="453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1353" name=""/>
            <p:cNvCxnSpPr>
              <a:stCxn id="1338" idx="3"/>
              <a:endCxn id="1337" idx="7"/>
            </p:cNvCxnSpPr>
            <p:nvPr/>
          </p:nvCxnSpPr>
          <p:spPr>
            <a:xfrm flipH="1">
              <a:off x="5147640" y="5529240"/>
              <a:ext cx="981720" cy="753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</p:grpSp>
      <p:grpSp>
        <p:nvGrpSpPr>
          <p:cNvPr id="1354" name=""/>
          <p:cNvGrpSpPr/>
          <p:nvPr/>
        </p:nvGrpSpPr>
        <p:grpSpPr>
          <a:xfrm>
            <a:off x="3543120" y="4799880"/>
            <a:ext cx="2585880" cy="1482120"/>
            <a:chOff x="3543120" y="4799880"/>
            <a:chExt cx="2585880" cy="1482120"/>
          </a:xfrm>
        </p:grpSpPr>
        <p:cxnSp>
          <p:nvCxnSpPr>
            <p:cNvPr id="1355" name=""/>
            <p:cNvCxnSpPr>
              <a:stCxn id="1336" idx="0"/>
              <a:endCxn id="1334" idx="4"/>
            </p:cNvCxnSpPr>
            <p:nvPr/>
          </p:nvCxnSpPr>
          <p:spPr>
            <a:xfrm flipV="1">
              <a:off x="3543120" y="4799880"/>
              <a:ext cx="76680" cy="10674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1356" name=""/>
            <p:cNvCxnSpPr>
              <a:stCxn id="1338" idx="3"/>
              <a:endCxn id="1337" idx="7"/>
            </p:cNvCxnSpPr>
            <p:nvPr/>
          </p:nvCxnSpPr>
          <p:spPr>
            <a:xfrm flipH="1">
              <a:off x="5147640" y="5529240"/>
              <a:ext cx="981720" cy="753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65" dur="1" fill="hold"/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ammini aumenta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cammin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ternante rispetto a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he abbia entrambi gli estremi esposti si dice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umenta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2362320" y="2971800"/>
            <a:ext cx="3961800" cy="1980720"/>
            <a:chOff x="2362320" y="2971800"/>
            <a:chExt cx="3961800" cy="1980720"/>
          </a:xfrm>
        </p:grpSpPr>
        <p:sp>
          <p:nvSpPr>
            <p:cNvPr id="1360" name=""/>
            <p:cNvSpPr/>
            <p:nvPr/>
          </p:nvSpPr>
          <p:spPr>
            <a:xfrm>
              <a:off x="3504960" y="304776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362320" y="38098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28640" y="43430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52880" y="47242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95880" y="380988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52880" y="29718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366" name=""/>
            <p:cNvCxnSpPr>
              <a:stCxn id="1361" idx="5"/>
              <a:endCxn id="1362" idx="2"/>
            </p:cNvCxnSpPr>
            <p:nvPr/>
          </p:nvCxnSpPr>
          <p:spPr>
            <a:xfrm>
              <a:off x="2557080" y="4005000"/>
              <a:ext cx="871920" cy="452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67" name=""/>
            <p:cNvCxnSpPr>
              <a:stCxn id="1361" idx="7"/>
              <a:endCxn id="1360" idx="3"/>
            </p:cNvCxnSpPr>
            <p:nvPr/>
          </p:nvCxnSpPr>
          <p:spPr>
            <a:xfrm flipV="1">
              <a:off x="2556720" y="3242520"/>
              <a:ext cx="981720" cy="600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68" name=""/>
            <p:cNvCxnSpPr>
              <a:stCxn id="1362" idx="0"/>
              <a:endCxn id="1360" idx="4"/>
            </p:cNvCxnSpPr>
            <p:nvPr/>
          </p:nvCxnSpPr>
          <p:spPr>
            <a:xfrm flipV="1">
              <a:off x="3542760" y="3276000"/>
              <a:ext cx="76680" cy="1067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69" name=""/>
            <p:cNvCxnSpPr>
              <a:stCxn id="1365" idx="2"/>
              <a:endCxn id="1360" idx="6"/>
            </p:cNvCxnSpPr>
            <p:nvPr/>
          </p:nvCxnSpPr>
          <p:spPr>
            <a:xfrm flipH="1">
              <a:off x="3733200" y="3085560"/>
              <a:ext cx="1219680" cy="766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70" name=""/>
            <p:cNvCxnSpPr>
              <a:stCxn id="1362" idx="5"/>
              <a:endCxn id="1363" idx="2"/>
            </p:cNvCxnSpPr>
            <p:nvPr/>
          </p:nvCxnSpPr>
          <p:spPr>
            <a:xfrm>
              <a:off x="3624120" y="4538520"/>
              <a:ext cx="1329120" cy="300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71" name=""/>
            <p:cNvCxnSpPr>
              <a:stCxn id="1360" idx="5"/>
              <a:endCxn id="1363" idx="1"/>
            </p:cNvCxnSpPr>
            <p:nvPr/>
          </p:nvCxnSpPr>
          <p:spPr>
            <a:xfrm>
              <a:off x="3699720" y="3242880"/>
              <a:ext cx="1286280" cy="1514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72" name=""/>
            <p:cNvCxnSpPr>
              <a:stCxn id="1364" idx="3"/>
              <a:endCxn id="1363" idx="7"/>
            </p:cNvCxnSpPr>
            <p:nvPr/>
          </p:nvCxnSpPr>
          <p:spPr>
            <a:xfrm flipH="1">
              <a:off x="5147640" y="4004640"/>
              <a:ext cx="981360" cy="752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373" name=""/>
            <p:cNvCxnSpPr>
              <a:stCxn id="1364" idx="2"/>
              <a:endCxn id="1362" idx="6"/>
            </p:cNvCxnSpPr>
            <p:nvPr/>
          </p:nvCxnSpPr>
          <p:spPr>
            <a:xfrm flipH="1">
              <a:off x="3656520" y="3923640"/>
              <a:ext cx="2439000" cy="5338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374" name=""/>
          <p:cNvGrpSpPr/>
          <p:nvPr/>
        </p:nvGrpSpPr>
        <p:grpSpPr>
          <a:xfrm>
            <a:off x="3623760" y="3086280"/>
            <a:ext cx="1329480" cy="1752480"/>
            <a:chOff x="3623760" y="3086280"/>
            <a:chExt cx="1329480" cy="1752480"/>
          </a:xfrm>
        </p:grpSpPr>
        <p:cxnSp>
          <p:nvCxnSpPr>
            <p:cNvPr id="1375" name=""/>
            <p:cNvCxnSpPr/>
            <p:nvPr/>
          </p:nvCxnSpPr>
          <p:spPr>
            <a:xfrm flipV="1">
              <a:off x="3733920" y="3086280"/>
              <a:ext cx="1219680" cy="7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376" name=""/>
            <p:cNvCxnSpPr/>
            <p:nvPr/>
          </p:nvCxnSpPr>
          <p:spPr>
            <a:xfrm>
              <a:off x="3623760" y="4538520"/>
              <a:ext cx="1329480" cy="300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grpSp>
        <p:nvGrpSpPr>
          <p:cNvPr id="1377" name=""/>
          <p:cNvGrpSpPr/>
          <p:nvPr/>
        </p:nvGrpSpPr>
        <p:grpSpPr>
          <a:xfrm>
            <a:off x="2362320" y="3809880"/>
            <a:ext cx="3962160" cy="947880"/>
            <a:chOff x="2362320" y="3809880"/>
            <a:chExt cx="3962160" cy="947880"/>
          </a:xfrm>
        </p:grpSpPr>
        <p:cxnSp>
          <p:nvCxnSpPr>
            <p:cNvPr id="1378" name=""/>
            <p:cNvCxnSpPr/>
            <p:nvPr/>
          </p:nvCxnSpPr>
          <p:spPr>
            <a:xfrm>
              <a:off x="2557080" y="4004640"/>
              <a:ext cx="872280" cy="453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1379" name=""/>
            <p:cNvCxnSpPr/>
            <p:nvPr/>
          </p:nvCxnSpPr>
          <p:spPr>
            <a:xfrm flipH="1">
              <a:off x="5147640" y="4005000"/>
              <a:ext cx="981720" cy="753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sp>
          <p:nvSpPr>
            <p:cNvPr id="1380" name=""/>
            <p:cNvSpPr/>
            <p:nvPr/>
          </p:nvSpPr>
          <p:spPr>
            <a:xfrm>
              <a:off x="6095880" y="38098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62320" y="38098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umentare” un abbin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 abbinamento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 cammino aumentante. La differenza simmetric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’ =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 – 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un abbinamento di cardinalità |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 + 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2362320" y="3809880"/>
            <a:ext cx="3961800" cy="1981440"/>
            <a:chOff x="2362320" y="3809880"/>
            <a:chExt cx="3961800" cy="1981440"/>
          </a:xfrm>
        </p:grpSpPr>
        <p:grpSp>
          <p:nvGrpSpPr>
            <p:cNvPr id="1385" name=""/>
            <p:cNvGrpSpPr/>
            <p:nvPr/>
          </p:nvGrpSpPr>
          <p:grpSpPr>
            <a:xfrm>
              <a:off x="2362320" y="3809880"/>
              <a:ext cx="3961800" cy="1981440"/>
              <a:chOff x="2362320" y="3809880"/>
              <a:chExt cx="3961800" cy="1981440"/>
            </a:xfrm>
          </p:grpSpPr>
          <p:sp>
            <p:nvSpPr>
              <p:cNvPr id="1386" name=""/>
              <p:cNvSpPr/>
              <p:nvPr/>
            </p:nvSpPr>
            <p:spPr>
              <a:xfrm>
                <a:off x="3504960" y="388620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362320" y="46483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428640" y="518148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952880" y="55627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095880" y="46483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952880" y="380988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1392" name=""/>
              <p:cNvCxnSpPr>
                <a:stCxn id="1387" idx="5"/>
                <a:endCxn id="1388" idx="2"/>
              </p:cNvCxnSpPr>
              <p:nvPr/>
            </p:nvCxnSpPr>
            <p:spPr>
              <a:xfrm>
                <a:off x="2557080" y="4843080"/>
                <a:ext cx="871920" cy="4532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3" name=""/>
              <p:cNvCxnSpPr>
                <a:stCxn id="1387" idx="7"/>
                <a:endCxn id="1386" idx="3"/>
              </p:cNvCxnSpPr>
              <p:nvPr/>
            </p:nvCxnSpPr>
            <p:spPr>
              <a:xfrm flipV="1">
                <a:off x="2556720" y="4080600"/>
                <a:ext cx="981720" cy="6008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4" name=""/>
              <p:cNvCxnSpPr>
                <a:stCxn id="1388" idx="0"/>
                <a:endCxn id="1386" idx="4"/>
              </p:cNvCxnSpPr>
              <p:nvPr/>
            </p:nvCxnSpPr>
            <p:spPr>
              <a:xfrm flipV="1">
                <a:off x="3542760" y="4114080"/>
                <a:ext cx="76680" cy="10674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5" name=""/>
              <p:cNvCxnSpPr>
                <a:stCxn id="1391" idx="2"/>
                <a:endCxn id="1386" idx="6"/>
              </p:cNvCxnSpPr>
              <p:nvPr/>
            </p:nvCxnSpPr>
            <p:spPr>
              <a:xfrm flipH="1">
                <a:off x="3733200" y="3924360"/>
                <a:ext cx="1219680" cy="766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6" name=""/>
              <p:cNvCxnSpPr>
                <a:stCxn id="1388" idx="5"/>
                <a:endCxn id="1389" idx="2"/>
              </p:cNvCxnSpPr>
              <p:nvPr/>
            </p:nvCxnSpPr>
            <p:spPr>
              <a:xfrm>
                <a:off x="3624120" y="5376600"/>
                <a:ext cx="1329120" cy="3006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7" name=""/>
              <p:cNvCxnSpPr>
                <a:stCxn id="1386" idx="5"/>
                <a:endCxn id="1389" idx="1"/>
              </p:cNvCxnSpPr>
              <p:nvPr/>
            </p:nvCxnSpPr>
            <p:spPr>
              <a:xfrm>
                <a:off x="3699720" y="4080960"/>
                <a:ext cx="1286280" cy="15152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8" name=""/>
              <p:cNvCxnSpPr>
                <a:stCxn id="1390" idx="3"/>
                <a:endCxn id="1389" idx="7"/>
              </p:cNvCxnSpPr>
              <p:nvPr/>
            </p:nvCxnSpPr>
            <p:spPr>
              <a:xfrm flipH="1">
                <a:off x="5147640" y="4843440"/>
                <a:ext cx="981360" cy="75312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1399" name=""/>
              <p:cNvCxnSpPr>
                <a:stCxn id="1390" idx="2"/>
                <a:endCxn id="1388" idx="6"/>
              </p:cNvCxnSpPr>
              <p:nvPr/>
            </p:nvCxnSpPr>
            <p:spPr>
              <a:xfrm flipH="1">
                <a:off x="3656520" y="4762440"/>
                <a:ext cx="2439000" cy="5342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cxnSp>
          <p:nvCxnSpPr>
            <p:cNvPr id="1400" name=""/>
            <p:cNvCxnSpPr/>
            <p:nvPr/>
          </p:nvCxnSpPr>
          <p:spPr>
            <a:xfrm flipV="1">
              <a:off x="3733920" y="3924360"/>
              <a:ext cx="1219680" cy="7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401" name=""/>
            <p:cNvCxnSpPr/>
            <p:nvPr/>
          </p:nvCxnSpPr>
          <p:spPr>
            <a:xfrm>
              <a:off x="3623760" y="5376600"/>
              <a:ext cx="1329480" cy="300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grpSp>
        <p:nvGrpSpPr>
          <p:cNvPr id="1402" name=""/>
          <p:cNvGrpSpPr/>
          <p:nvPr/>
        </p:nvGrpSpPr>
        <p:grpSpPr>
          <a:xfrm>
            <a:off x="2362320" y="4648320"/>
            <a:ext cx="3962160" cy="947880"/>
            <a:chOff x="2362320" y="4648320"/>
            <a:chExt cx="3962160" cy="947880"/>
          </a:xfrm>
        </p:grpSpPr>
        <p:cxnSp>
          <p:nvCxnSpPr>
            <p:cNvPr id="1403" name=""/>
            <p:cNvCxnSpPr/>
            <p:nvPr/>
          </p:nvCxnSpPr>
          <p:spPr>
            <a:xfrm>
              <a:off x="2557080" y="4843080"/>
              <a:ext cx="872280" cy="4532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cxnSp>
          <p:nvCxnSpPr>
            <p:cNvPr id="1404" name=""/>
            <p:cNvCxnSpPr/>
            <p:nvPr/>
          </p:nvCxnSpPr>
          <p:spPr>
            <a:xfrm flipH="1">
              <a:off x="5147640" y="4843440"/>
              <a:ext cx="981720" cy="753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  <p:sp>
          <p:nvSpPr>
            <p:cNvPr id="1405" name=""/>
            <p:cNvSpPr/>
            <p:nvPr/>
          </p:nvSpPr>
          <p:spPr>
            <a:xfrm>
              <a:off x="609588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36232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2448360" y="3489480"/>
            <a:ext cx="3713400" cy="2014920"/>
            <a:chOff x="2448360" y="3489480"/>
            <a:chExt cx="3713400" cy="2014920"/>
          </a:xfrm>
        </p:grpSpPr>
        <p:sp>
          <p:nvSpPr>
            <p:cNvPr id="1408" name=""/>
            <p:cNvSpPr/>
            <p:nvPr/>
          </p:nvSpPr>
          <p:spPr>
            <a:xfrm>
              <a:off x="3937680" y="34894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A-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48360" y="510552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P-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13840" y="510552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P-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1279440"/>
            <a:ext cx="79250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 abbinament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 si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 cammino alternante rispetto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he sia anche aumentante. L’insie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= 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ode delle seguenti propriet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1) è un abbinamen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atti, s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non fosse un abbinamento allora esisterebbero almeno due spigoli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ra loro adiacenti. Questi due spigo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Non possono appartenere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entrambi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ad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ché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un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bbinamento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Non possono appartenere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entrambi a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ché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ernante.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 se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uno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essi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è in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l’altro è in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P,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 allor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ono necessariamente appartenere 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contro la definizione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2" dur="indefinite" restart="never" nodeType="tmRoot">
          <p:childTnLst>
            <p:seq>
              <p:cTn id="1723" dur="indefinite" nodeType="mainSeq">
                <p:childTnLst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"/>
          <p:cNvGrpSpPr/>
          <p:nvPr/>
        </p:nvGrpSpPr>
        <p:grpSpPr>
          <a:xfrm>
            <a:off x="2133720" y="3124080"/>
            <a:ext cx="3962160" cy="1981440"/>
            <a:chOff x="2133720" y="3124080"/>
            <a:chExt cx="3962160" cy="1981440"/>
          </a:xfrm>
        </p:grpSpPr>
        <p:grpSp>
          <p:nvGrpSpPr>
            <p:cNvPr id="1414" name=""/>
            <p:cNvGrpSpPr/>
            <p:nvPr/>
          </p:nvGrpSpPr>
          <p:grpSpPr>
            <a:xfrm>
              <a:off x="3395160" y="3238560"/>
              <a:ext cx="1329480" cy="1752480"/>
              <a:chOff x="3395160" y="3238560"/>
              <a:chExt cx="1329480" cy="1752480"/>
            </a:xfrm>
          </p:grpSpPr>
          <p:cxnSp>
            <p:nvCxnSpPr>
              <p:cNvPr id="1415" name=""/>
              <p:cNvCxnSpPr>
                <a:stCxn id="1416" idx="6"/>
                <a:endCxn id="1417" idx="2"/>
              </p:cNvCxnSpPr>
              <p:nvPr/>
            </p:nvCxnSpPr>
            <p:spPr>
              <a:xfrm flipV="1">
                <a:off x="3505320" y="3238560"/>
                <a:ext cx="1219680" cy="7668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  <p:cxnSp>
            <p:nvCxnSpPr>
              <p:cNvPr id="1418" name=""/>
              <p:cNvCxnSpPr>
                <a:stCxn id="1419" idx="5"/>
                <a:endCxn id="1420" idx="2"/>
              </p:cNvCxnSpPr>
              <p:nvPr/>
            </p:nvCxnSpPr>
            <p:spPr>
              <a:xfrm>
                <a:off x="3395160" y="4690800"/>
                <a:ext cx="1329480" cy="300600"/>
              </a:xfrm>
              <a:prstGeom prst="straightConnector1">
                <a:avLst/>
              </a:prstGeom>
              <a:ln w="38160">
                <a:solidFill>
                  <a:srgbClr val="339933"/>
                </a:solidFill>
                <a:miter/>
              </a:ln>
            </p:spPr>
          </p:cxnSp>
        </p:grpSp>
        <p:cxnSp>
          <p:nvCxnSpPr>
            <p:cNvPr id="1421" name=""/>
            <p:cNvCxnSpPr/>
            <p:nvPr/>
          </p:nvCxnSpPr>
          <p:spPr>
            <a:xfrm>
              <a:off x="2328480" y="4157280"/>
              <a:ext cx="872280" cy="45324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</a:ln>
          </p:spPr>
        </p:cxnSp>
        <p:cxnSp>
          <p:nvCxnSpPr>
            <p:cNvPr id="1422" name=""/>
            <p:cNvCxnSpPr/>
            <p:nvPr/>
          </p:nvCxnSpPr>
          <p:spPr>
            <a:xfrm flipH="1">
              <a:off x="4919040" y="4157640"/>
              <a:ext cx="981720" cy="75312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</a:ln>
          </p:spPr>
        </p:cxnSp>
        <p:sp>
          <p:nvSpPr>
            <p:cNvPr id="1423" name=""/>
            <p:cNvSpPr/>
            <p:nvPr/>
          </p:nvSpPr>
          <p:spPr>
            <a:xfrm>
              <a:off x="5867280" y="3962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33720" y="3962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276720" y="3200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33720" y="3962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00400" y="4495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724280" y="4876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7280" y="3962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12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427" name=""/>
            <p:cNvCxnSpPr>
              <a:stCxn id="1425" idx="7"/>
              <a:endCxn id="1416" idx="3"/>
            </p:cNvCxnSpPr>
            <p:nvPr/>
          </p:nvCxnSpPr>
          <p:spPr>
            <a:xfrm flipV="1">
              <a:off x="2328480" y="3394800"/>
              <a:ext cx="981720" cy="600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428" name=""/>
            <p:cNvCxnSpPr>
              <a:stCxn id="1419" idx="0"/>
              <a:endCxn id="1416" idx="4"/>
            </p:cNvCxnSpPr>
            <p:nvPr/>
          </p:nvCxnSpPr>
          <p:spPr>
            <a:xfrm flipV="1">
              <a:off x="3314520" y="3428280"/>
              <a:ext cx="76680" cy="1067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429" name=""/>
            <p:cNvCxnSpPr>
              <a:stCxn id="1416" idx="5"/>
              <a:endCxn id="1420" idx="1"/>
            </p:cNvCxnSpPr>
            <p:nvPr/>
          </p:nvCxnSpPr>
          <p:spPr>
            <a:xfrm>
              <a:off x="3471840" y="3395160"/>
              <a:ext cx="1286640" cy="151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1430" name=""/>
            <p:cNvCxnSpPr>
              <a:stCxn id="1426" idx="2"/>
              <a:endCxn id="1419" idx="6"/>
            </p:cNvCxnSpPr>
            <p:nvPr/>
          </p:nvCxnSpPr>
          <p:spPr>
            <a:xfrm flipH="1">
              <a:off x="3428280" y="4076640"/>
              <a:ext cx="2439000" cy="534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1431" name=""/>
          <p:cNvGrpSpPr/>
          <p:nvPr/>
        </p:nvGrpSpPr>
        <p:grpSpPr>
          <a:xfrm>
            <a:off x="3505320" y="2666880"/>
            <a:ext cx="1219320" cy="648000"/>
            <a:chOff x="3505320" y="2666880"/>
            <a:chExt cx="1219320" cy="648000"/>
          </a:xfrm>
        </p:grpSpPr>
        <p:cxnSp>
          <p:nvCxnSpPr>
            <p:cNvPr id="1432" name=""/>
            <p:cNvCxnSpPr>
              <a:stCxn id="1416" idx="6"/>
              <a:endCxn id="1417" idx="2"/>
            </p:cNvCxnSpPr>
            <p:nvPr/>
          </p:nvCxnSpPr>
          <p:spPr>
            <a:xfrm flipV="1">
              <a:off x="3505320" y="3238560"/>
              <a:ext cx="1219680" cy="7668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sp>
          <p:nvSpPr>
            <p:cNvPr id="1433" name=""/>
            <p:cNvSpPr/>
            <p:nvPr/>
          </p:nvSpPr>
          <p:spPr>
            <a:xfrm>
              <a:off x="3740040" y="2666880"/>
              <a:ext cx="933480" cy="4597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914400" y="1447920"/>
            <a:ext cx="4184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2) ha un elemento più di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atti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I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2328480" y="4157280"/>
            <a:ext cx="4310280" cy="753120"/>
            <a:chOff x="2328480" y="4157280"/>
            <a:chExt cx="4310280" cy="753120"/>
          </a:xfrm>
        </p:grpSpPr>
        <p:grpSp>
          <p:nvGrpSpPr>
            <p:cNvPr id="1437" name=""/>
            <p:cNvGrpSpPr/>
            <p:nvPr/>
          </p:nvGrpSpPr>
          <p:grpSpPr>
            <a:xfrm>
              <a:off x="2328480" y="4157280"/>
              <a:ext cx="3571920" cy="753120"/>
              <a:chOff x="2328480" y="4157280"/>
              <a:chExt cx="3571920" cy="753120"/>
            </a:xfrm>
          </p:grpSpPr>
          <p:cxnSp>
            <p:nvCxnSpPr>
              <p:cNvPr id="1438" name=""/>
              <p:cNvCxnSpPr/>
              <p:nvPr/>
            </p:nvCxnSpPr>
            <p:spPr>
              <a:xfrm>
                <a:off x="2328480" y="4157280"/>
                <a:ext cx="872280" cy="453240"/>
              </a:xfrm>
              <a:prstGeom prst="straightConnector1">
                <a:avLst/>
              </a:prstGeom>
              <a:ln w="38160">
                <a:solidFill>
                  <a:srgbClr val="660066"/>
                </a:solidFill>
                <a:miter/>
              </a:ln>
            </p:spPr>
          </p:cxnSp>
          <p:cxnSp>
            <p:nvCxnSpPr>
              <p:cNvPr id="1439" name=""/>
              <p:cNvCxnSpPr/>
              <p:nvPr/>
            </p:nvCxnSpPr>
            <p:spPr>
              <a:xfrm flipH="1">
                <a:off x="4919040" y="4157640"/>
                <a:ext cx="981720" cy="753120"/>
              </a:xfrm>
              <a:prstGeom prst="straightConnector1">
                <a:avLst/>
              </a:prstGeom>
              <a:ln w="38160">
                <a:solidFill>
                  <a:srgbClr val="660066"/>
                </a:solidFill>
                <a:miter/>
              </a:ln>
            </p:spPr>
          </p:cxnSp>
        </p:grpSp>
        <p:sp>
          <p:nvSpPr>
            <p:cNvPr id="1440" name=""/>
            <p:cNvSpPr/>
            <p:nvPr/>
          </p:nvSpPr>
          <p:spPr>
            <a:xfrm>
              <a:off x="5705280" y="4384800"/>
              <a:ext cx="933480" cy="4597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Ber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(Berge, 1957)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 abbinamento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è massim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e e solo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non ammette cammini alternanti rispetto ad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che siano anche aumentanti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imostr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vedi Teorema preced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Ber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238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imostrazion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upponiamo ch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mmetta un abbinament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n un elemento più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il sottograf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’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dividuato dall’insieme di arch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= 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/ (A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B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da tutti i loro estremi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iché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no abbinamenti, i vertici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’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hanno grad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2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indi le componenti connesse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’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no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percorsi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cicli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1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1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1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1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Ber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1382760"/>
            <a:ext cx="75438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Nessun ciclo può essere disp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riment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non sarebbero abbinamenti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n tutti i percorsi sono p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rimenti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 = |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indi,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senza perdere di generalità,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iste un percorso con un numero dispari di archi che inizia e termina con archi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le percorso è evidentemente </a:t>
            </a: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aumentant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rispetto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possibile algoritm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; 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//Inizializz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ovato = TRU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(trovato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search (A, &amp;trovato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(trovato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aumenta (G, &amp;A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Come è fatta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search (G, A, &amp;trovato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el cammino aumenta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7621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un vertic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espos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un abbinamento </a:t>
            </a: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Se non esiste un cammino aumentante per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che parte da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allora esiste un abbinamento massimo avente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espos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imostr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8000"/>
                </a:solidFill>
                <a:latin typeface="Tahoma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 abbinamento massimo in cu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accoppia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8000"/>
                </a:solidFill>
                <a:latin typeface="Tahoma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768240" y="4365720"/>
            <a:ext cx="7620120" cy="1218600"/>
            <a:chOff x="768240" y="4365720"/>
            <a:chExt cx="7620120" cy="1218600"/>
          </a:xfrm>
        </p:grpSpPr>
        <p:sp>
          <p:nvSpPr>
            <p:cNvPr id="223" name=""/>
            <p:cNvSpPr/>
            <p:nvPr/>
          </p:nvSpPr>
          <p:spPr>
            <a:xfrm>
              <a:off x="844560" y="4410720"/>
              <a:ext cx="7543800" cy="1173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8240" y="4365720"/>
              <a:ext cx="7543800" cy="117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blema di Ottimizzazione Combina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117936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sieme fini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{1, 2, …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vettore di pes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og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nsieme ambien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utti i possibili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|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ottoinsiemi d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nsieme ammissibi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amigli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sottoinsiem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definis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di Ottimizzazione Combina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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definizione è analoga se si vuole massimizzare la f.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685800" y="1235160"/>
            <a:ext cx="8001000" cy="2440440"/>
            <a:chOff x="685800" y="1235160"/>
            <a:chExt cx="8001000" cy="2440440"/>
          </a:xfrm>
        </p:grpSpPr>
        <p:sp>
          <p:nvSpPr>
            <p:cNvPr id="1453" name=""/>
            <p:cNvSpPr/>
            <p:nvPr/>
          </p:nvSpPr>
          <p:spPr>
            <a:xfrm>
              <a:off x="685800" y="12351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oiché 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e </a:t>
              </a:r>
              <a:r>
                <a:rPr b="0" i="1" lang="it-IT" sz="2000" spc="-1" strike="noStrike">
                  <a:solidFill>
                    <a:srgbClr val="008000"/>
                  </a:solidFill>
                  <a:latin typeface="Tahoma"/>
                </a:rPr>
                <a:t>A</a:t>
              </a:r>
              <a:r>
                <a:rPr b="0" lang="it-IT" sz="2000" spc="-1" strike="noStrike">
                  <a:solidFill>
                    <a:srgbClr val="008000"/>
                  </a:solidFill>
                  <a:latin typeface="Tahoma"/>
                </a:rPr>
                <a:t>*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sono due abbinamenti 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è accoppiato in </a:t>
              </a:r>
              <a:r>
                <a:rPr b="0" i="1" lang="it-IT" sz="2000" spc="-1" strike="noStrike">
                  <a:solidFill>
                    <a:srgbClr val="008000"/>
                  </a:solidFill>
                  <a:latin typeface="Tahoma"/>
                </a:rPr>
                <a:t>A*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, si ha che 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it-IT" sz="2000" spc="-1" strike="noStrike">
                  <a:solidFill>
                    <a:srgbClr val="008000"/>
                  </a:solidFill>
                  <a:latin typeface="Tahoma"/>
                </a:rPr>
                <a:t>A*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it-IT" sz="2000" spc="-1" strike="noStrike">
                  <a:solidFill>
                    <a:srgbClr val="40458c"/>
                  </a:solidFill>
                  <a:latin typeface="Tahoma"/>
                </a:rPr>
                <a:t>non può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contenere un cammin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65520" y="289548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762120" y="2514600"/>
              <a:ext cx="7619400" cy="380880"/>
              <a:chOff x="762120" y="2514600"/>
              <a:chExt cx="7619400" cy="380880"/>
            </a:xfrm>
          </p:grpSpPr>
          <p:sp>
            <p:nvSpPr>
              <p:cNvPr id="1456" name=""/>
              <p:cNvSpPr/>
              <p:nvPr/>
            </p:nvSpPr>
            <p:spPr>
              <a:xfrm>
                <a:off x="762120" y="2514600"/>
                <a:ext cx="38052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209680" y="2514600"/>
                <a:ext cx="38052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657240" y="251460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05160" y="2514600"/>
                <a:ext cx="38052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553080" y="2514600"/>
                <a:ext cx="38052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1461" name=""/>
              <p:cNvCxnSpPr>
                <a:stCxn id="1456" idx="6"/>
                <a:endCxn id="1457" idx="2"/>
              </p:cNvCxnSpPr>
              <p:nvPr/>
            </p:nvCxnSpPr>
            <p:spPr>
              <a:xfrm>
                <a:off x="1156680" y="2704680"/>
                <a:ext cx="1038600" cy="1080"/>
              </a:xfrm>
              <a:prstGeom prst="straightConnector1">
                <a:avLst/>
              </a:prstGeom>
              <a:ln w="57240">
                <a:solidFill>
                  <a:srgbClr val="008000"/>
                </a:solidFill>
                <a:miter/>
              </a:ln>
            </p:spPr>
          </p:cxnSp>
          <p:cxnSp>
            <p:nvCxnSpPr>
              <p:cNvPr id="1462" name=""/>
              <p:cNvCxnSpPr>
                <a:stCxn id="1458" idx="2"/>
                <a:endCxn id="1457" idx="6"/>
              </p:cNvCxnSpPr>
              <p:nvPr/>
            </p:nvCxnSpPr>
            <p:spPr>
              <a:xfrm flipH="1">
                <a:off x="2604240" y="2704680"/>
                <a:ext cx="1038600" cy="108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</a:ln>
            </p:spPr>
          </p:cxnSp>
          <p:cxnSp>
            <p:nvCxnSpPr>
              <p:cNvPr id="1463" name=""/>
              <p:cNvCxnSpPr/>
              <p:nvPr/>
            </p:nvCxnSpPr>
            <p:spPr>
              <a:xfrm flipH="1">
                <a:off x="4038120" y="2704680"/>
                <a:ext cx="1067040" cy="1080"/>
              </a:xfrm>
              <a:prstGeom prst="straightConnector1">
                <a:avLst/>
              </a:prstGeom>
              <a:ln w="57240">
                <a:solidFill>
                  <a:srgbClr val="008000"/>
                </a:solidFill>
                <a:miter/>
              </a:ln>
            </p:spPr>
          </p:cxnSp>
          <p:cxnSp>
            <p:nvCxnSpPr>
              <p:cNvPr id="1464" name=""/>
              <p:cNvCxnSpPr/>
              <p:nvPr/>
            </p:nvCxnSpPr>
            <p:spPr>
              <a:xfrm flipH="1">
                <a:off x="5485320" y="2704680"/>
                <a:ext cx="1067400" cy="108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</a:ln>
            </p:spPr>
          </p:cxnSp>
          <p:sp>
            <p:nvSpPr>
              <p:cNvPr id="1465" name=""/>
              <p:cNvSpPr/>
              <p:nvPr/>
            </p:nvSpPr>
            <p:spPr>
              <a:xfrm>
                <a:off x="8000640" y="251460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1466" name=""/>
              <p:cNvCxnSpPr/>
              <p:nvPr/>
            </p:nvCxnSpPr>
            <p:spPr>
              <a:xfrm flipH="1">
                <a:off x="6933600" y="2704680"/>
                <a:ext cx="1067040" cy="1080"/>
              </a:xfrm>
              <a:prstGeom prst="straightConnector1">
                <a:avLst/>
              </a:prstGeom>
              <a:ln w="57240">
                <a:solidFill>
                  <a:srgbClr val="008000"/>
                </a:solidFill>
                <a:miter/>
              </a:ln>
            </p:spPr>
          </p:cxnSp>
        </p:grpSp>
        <p:sp>
          <p:nvSpPr>
            <p:cNvPr id="1467" name=""/>
            <p:cNvSpPr/>
            <p:nvPr/>
          </p:nvSpPr>
          <p:spPr>
            <a:xfrm>
              <a:off x="685800" y="32767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erché aumentante per 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.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685800" y="5334120"/>
            <a:ext cx="80010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tanto, scambiando gli spigoli verdi con quelli rossi, posso ottenere d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*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altro abbinamento massimo, ma co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sposto.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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583560" y="3809880"/>
            <a:ext cx="6350760" cy="1374120"/>
            <a:chOff x="583560" y="3809880"/>
            <a:chExt cx="6350760" cy="1374120"/>
          </a:xfrm>
        </p:grpSpPr>
        <p:sp>
          <p:nvSpPr>
            <p:cNvPr id="1470" name=""/>
            <p:cNvSpPr/>
            <p:nvPr/>
          </p:nvSpPr>
          <p:spPr>
            <a:xfrm>
              <a:off x="762120" y="441972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09680" y="441972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657600" y="441972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105520" y="441972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553080" y="441972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6"/>
              <a:endCxn id="1471" idx="2"/>
            </p:cNvCxnSpPr>
            <p:nvPr/>
          </p:nvCxnSpPr>
          <p:spPr>
            <a:xfrm>
              <a:off x="1157400" y="4609800"/>
              <a:ext cx="1038600" cy="1080"/>
            </a:xfrm>
            <a:prstGeom prst="straightConnector1">
              <a:avLst/>
            </a:prstGeom>
            <a:ln w="57240">
              <a:solidFill>
                <a:srgbClr val="008000"/>
              </a:solidFill>
              <a:miter/>
            </a:ln>
          </p:spPr>
        </p:cxnSp>
        <p:cxnSp>
          <p:nvCxnSpPr>
            <p:cNvPr id="1476" name=""/>
            <p:cNvCxnSpPr>
              <a:stCxn id="1472" idx="2"/>
              <a:endCxn id="1471" idx="6"/>
            </p:cNvCxnSpPr>
            <p:nvPr/>
          </p:nvCxnSpPr>
          <p:spPr>
            <a:xfrm flipH="1">
              <a:off x="2604960" y="4609800"/>
              <a:ext cx="103860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1477" name=""/>
            <p:cNvCxnSpPr/>
            <p:nvPr/>
          </p:nvCxnSpPr>
          <p:spPr>
            <a:xfrm flipH="1">
              <a:off x="4038120" y="4609800"/>
              <a:ext cx="1067760" cy="1080"/>
            </a:xfrm>
            <a:prstGeom prst="straightConnector1">
              <a:avLst/>
            </a:prstGeom>
            <a:ln w="57240">
              <a:solidFill>
                <a:srgbClr val="008000"/>
              </a:solidFill>
              <a:miter/>
            </a:ln>
          </p:spPr>
        </p:cxnSp>
        <p:cxnSp>
          <p:nvCxnSpPr>
            <p:cNvPr id="1478" name=""/>
            <p:cNvCxnSpPr/>
            <p:nvPr/>
          </p:nvCxnSpPr>
          <p:spPr>
            <a:xfrm flipH="1">
              <a:off x="5485680" y="4609800"/>
              <a:ext cx="106740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sp>
          <p:nvSpPr>
            <p:cNvPr id="1479" name=""/>
            <p:cNvSpPr/>
            <p:nvPr/>
          </p:nvSpPr>
          <p:spPr>
            <a:xfrm>
              <a:off x="965520" y="472428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3560" y="3809880"/>
              <a:ext cx="35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erò, contiene un cammino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possibile algoritmo (II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76212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; trovato = FALSE;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//Inizializz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(v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V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(v è esposto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search (v, A, &amp;trovato, &amp;q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(trovato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aumenta (q, v, &amp;A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el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//cancella v e tutti gli 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//spigoli incidenti in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cancella (v, &amp;G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685800" y="1295280"/>
            <a:ext cx="7543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opo della funzione sear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ovare un cammino aumentante rispetto A, oppure dire che non esis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aramet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nodo esposto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bbinamento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ovato, variabile boolea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vertice estremo del cammino aumentan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troduciamo un’etichetta per i vertici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abel (w)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 PAR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 DISP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 NULL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erca di cammini aumenta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685800" y="1212840"/>
            <a:ext cx="792468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earch (v, A, *q, *trovato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(i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V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abel (i) = NULL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LIST = {v}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label {v} = PARI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  <a:ea typeface="Tahoma"/>
              </a:rPr>
              <a:t>whil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(LIST !=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pop (&amp;i, LIST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  <a:ea typeface="Tahoma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(label (i) == PAR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esplora_pari (i, A, q, trovato,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&amp;LIST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  <a:ea typeface="Tahoma"/>
              </a:rPr>
              <a:t>els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esplora_dispari (i, A, &amp;LIST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if (trovato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return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erca di cammini aumentanti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erca di cammini aumentanti (I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"/>
          <p:cNvSpPr/>
          <p:nvPr/>
        </p:nvSpPr>
        <p:spPr>
          <a:xfrm>
            <a:off x="609480" y="1197000"/>
            <a:ext cx="807732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splora_pari (i, A, *q, *trovato, *LIST) {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for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j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i)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j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*q = j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*trovato = TRUE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ed (q) = 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return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j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A &amp;&amp; label (j) == NULL) {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ed (j) = 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abel (j) = DISPAR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sh (j, LIST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erca di cammini aumentanti (IV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685800" y="1330200"/>
            <a:ext cx="7924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splora_dispari (i, A, *LIST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= vertice accoppiato ad i in A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label (j) == NULL){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ed (j) = 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abel (j) = PAR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sh (j, LIST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4343400" y="1676520"/>
            <a:ext cx="304920" cy="304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90920" y="289548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907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019920" y="289548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5909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43400" y="41148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0199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502" name=""/>
          <p:cNvCxnSpPr>
            <a:stCxn id="1492" idx="4"/>
            <a:endCxn id="1495" idx="0"/>
          </p:cNvCxnSpPr>
          <p:nvPr/>
        </p:nvCxnSpPr>
        <p:spPr>
          <a:xfrm>
            <a:off x="4495320" y="1990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3" name=""/>
          <p:cNvCxnSpPr>
            <a:stCxn id="1498" idx="0"/>
            <a:endCxn id="1495" idx="4"/>
          </p:cNvCxnSpPr>
          <p:nvPr/>
        </p:nvCxnSpPr>
        <p:spPr>
          <a:xfrm flipV="1">
            <a:off x="449532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4" name=""/>
          <p:cNvCxnSpPr>
            <a:stCxn id="1501" idx="0"/>
            <a:endCxn id="1497" idx="4"/>
          </p:cNvCxnSpPr>
          <p:nvPr/>
        </p:nvCxnSpPr>
        <p:spPr>
          <a:xfrm flipV="1">
            <a:off x="2742840" y="4428720"/>
            <a:ext cx="108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5" name=""/>
          <p:cNvCxnSpPr>
            <a:stCxn id="1494" idx="7"/>
            <a:endCxn id="1493" idx="3"/>
          </p:cNvCxnSpPr>
          <p:nvPr/>
        </p:nvCxnSpPr>
        <p:spPr>
          <a:xfrm flipV="1">
            <a:off x="1250640" y="3165120"/>
            <a:ext cx="1384920" cy="98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6" name=""/>
          <p:cNvCxnSpPr>
            <a:stCxn id="1493" idx="7"/>
            <a:endCxn id="1492" idx="2"/>
          </p:cNvCxnSpPr>
          <p:nvPr/>
        </p:nvCxnSpPr>
        <p:spPr>
          <a:xfrm flipV="1">
            <a:off x="2850840" y="1828440"/>
            <a:ext cx="14835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7" name=""/>
          <p:cNvCxnSpPr>
            <a:stCxn id="1497" idx="0"/>
            <a:endCxn id="1493" idx="4"/>
          </p:cNvCxnSpPr>
          <p:nvPr/>
        </p:nvCxnSpPr>
        <p:spPr>
          <a:xfrm flipV="1">
            <a:off x="274284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8" name=""/>
          <p:cNvCxnSpPr>
            <a:stCxn id="1499" idx="0"/>
            <a:endCxn id="1496" idx="4"/>
          </p:cNvCxnSpPr>
          <p:nvPr/>
        </p:nvCxnSpPr>
        <p:spPr>
          <a:xfrm flipV="1">
            <a:off x="617184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9" name=""/>
          <p:cNvCxnSpPr>
            <a:stCxn id="1498" idx="2"/>
            <a:endCxn id="1493" idx="6"/>
          </p:cNvCxnSpPr>
          <p:nvPr/>
        </p:nvCxnSpPr>
        <p:spPr>
          <a:xfrm flipH="1" flipV="1">
            <a:off x="2904480" y="3047760"/>
            <a:ext cx="14295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0" name=""/>
          <p:cNvCxnSpPr>
            <a:stCxn id="1494" idx="6"/>
            <a:endCxn id="1495" idx="2"/>
          </p:cNvCxnSpPr>
          <p:nvPr/>
        </p:nvCxnSpPr>
        <p:spPr>
          <a:xfrm flipV="1">
            <a:off x="1305000" y="30477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1" name=""/>
          <p:cNvCxnSpPr>
            <a:endCxn id="1493" idx="6"/>
          </p:cNvCxnSpPr>
          <p:nvPr/>
        </p:nvCxnSpPr>
        <p:spPr>
          <a:xfrm flipH="1" flipV="1">
            <a:off x="2904840" y="3047760"/>
            <a:ext cx="3115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2" name=""/>
          <p:cNvCxnSpPr>
            <a:stCxn id="1500" idx="2"/>
            <a:endCxn id="1495" idx="6"/>
          </p:cNvCxnSpPr>
          <p:nvPr/>
        </p:nvCxnSpPr>
        <p:spPr>
          <a:xfrm flipH="1" flipV="1">
            <a:off x="4657320" y="30477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3" name=""/>
          <p:cNvCxnSpPr>
            <a:stCxn id="1500" idx="2"/>
            <a:endCxn id="1496" idx="5"/>
          </p:cNvCxnSpPr>
          <p:nvPr/>
        </p:nvCxnSpPr>
        <p:spPr>
          <a:xfrm flipH="1" flipV="1">
            <a:off x="6279480" y="316512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4" name=""/>
          <p:cNvCxnSpPr>
            <a:stCxn id="1496" idx="1"/>
            <a:endCxn id="1492" idx="6"/>
          </p:cNvCxnSpPr>
          <p:nvPr/>
        </p:nvCxnSpPr>
        <p:spPr>
          <a:xfrm flipH="1" flipV="1">
            <a:off x="4656960" y="182844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5" name=""/>
          <p:cNvCxnSpPr>
            <a:stCxn id="1499" idx="2"/>
            <a:endCxn id="1495" idx="6"/>
          </p:cNvCxnSpPr>
          <p:nvPr/>
        </p:nvCxnSpPr>
        <p:spPr>
          <a:xfrm flipH="1" flipV="1">
            <a:off x="4656960" y="3047760"/>
            <a:ext cx="13532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6" name=""/>
          <p:cNvSpPr/>
          <p:nvPr/>
        </p:nvSpPr>
        <p:spPr>
          <a:xfrm>
            <a:off x="4731840" y="13716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P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1820160" y="1828440"/>
            <a:ext cx="2513880" cy="1145520"/>
            <a:chOff x="1820160" y="1828440"/>
            <a:chExt cx="2513880" cy="1145520"/>
          </a:xfrm>
        </p:grpSpPr>
        <p:cxnSp>
          <p:nvCxnSpPr>
            <p:cNvPr id="1518" name=""/>
            <p:cNvCxnSpPr/>
            <p:nvPr/>
          </p:nvCxnSpPr>
          <p:spPr>
            <a:xfrm flipV="1">
              <a:off x="2850840" y="1828440"/>
              <a:ext cx="1483560" cy="1102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19" name=""/>
            <p:cNvSpPr/>
            <p:nvPr/>
          </p:nvSpPr>
          <p:spPr>
            <a:xfrm>
              <a:off x="1820160" y="257508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S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4491720" y="1990080"/>
            <a:ext cx="1155960" cy="999720"/>
            <a:chOff x="4491720" y="1990080"/>
            <a:chExt cx="1155960" cy="999720"/>
          </a:xfrm>
        </p:grpSpPr>
        <p:cxnSp>
          <p:nvCxnSpPr>
            <p:cNvPr id="1521" name=""/>
            <p:cNvCxnSpPr/>
            <p:nvPr/>
          </p:nvCxnSpPr>
          <p:spPr>
            <a:xfrm flipV="1">
              <a:off x="4495320" y="1990080"/>
              <a:ext cx="1080" cy="89604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22" name=""/>
            <p:cNvSpPr/>
            <p:nvPr/>
          </p:nvSpPr>
          <p:spPr>
            <a:xfrm>
              <a:off x="4491720" y="2590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S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4656960" y="1828440"/>
            <a:ext cx="2667240" cy="1161360"/>
            <a:chOff x="4656960" y="1828440"/>
            <a:chExt cx="2667240" cy="1161360"/>
          </a:xfrm>
        </p:grpSpPr>
        <p:cxnSp>
          <p:nvCxnSpPr>
            <p:cNvPr id="1524" name=""/>
            <p:cNvCxnSpPr/>
            <p:nvPr/>
          </p:nvCxnSpPr>
          <p:spPr>
            <a:xfrm flipH="1" flipV="1">
              <a:off x="4656960" y="1828440"/>
              <a:ext cx="1407240" cy="1102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25" name=""/>
            <p:cNvSpPr/>
            <p:nvPr/>
          </p:nvSpPr>
          <p:spPr>
            <a:xfrm>
              <a:off x="6168240" y="2590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S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855080" y="3209400"/>
            <a:ext cx="888480" cy="1380600"/>
            <a:chOff x="1855080" y="3209400"/>
            <a:chExt cx="888480" cy="1380600"/>
          </a:xfrm>
        </p:grpSpPr>
        <p:cxnSp>
          <p:nvCxnSpPr>
            <p:cNvPr id="1527" name=""/>
            <p:cNvCxnSpPr/>
            <p:nvPr/>
          </p:nvCxnSpPr>
          <p:spPr>
            <a:xfrm flipV="1">
              <a:off x="2742840" y="3209400"/>
              <a:ext cx="1080" cy="89640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28" name=""/>
            <p:cNvSpPr/>
            <p:nvPr/>
          </p:nvSpPr>
          <p:spPr>
            <a:xfrm>
              <a:off x="1855080" y="419112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574080" y="3209400"/>
            <a:ext cx="921960" cy="1380600"/>
            <a:chOff x="3574080" y="3209400"/>
            <a:chExt cx="921960" cy="1380600"/>
          </a:xfrm>
        </p:grpSpPr>
        <p:cxnSp>
          <p:nvCxnSpPr>
            <p:cNvPr id="1530" name=""/>
            <p:cNvCxnSpPr/>
            <p:nvPr/>
          </p:nvCxnSpPr>
          <p:spPr>
            <a:xfrm flipV="1">
              <a:off x="4495320" y="3209400"/>
              <a:ext cx="1080" cy="89640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31" name=""/>
            <p:cNvSpPr/>
            <p:nvPr/>
          </p:nvSpPr>
          <p:spPr>
            <a:xfrm>
              <a:off x="3574080" y="419112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5250600" y="3209400"/>
            <a:ext cx="921960" cy="1364760"/>
            <a:chOff x="5250600" y="3209400"/>
            <a:chExt cx="921960" cy="1364760"/>
          </a:xfrm>
        </p:grpSpPr>
        <p:cxnSp>
          <p:nvCxnSpPr>
            <p:cNvPr id="1533" name=""/>
            <p:cNvCxnSpPr/>
            <p:nvPr/>
          </p:nvCxnSpPr>
          <p:spPr>
            <a:xfrm flipV="1">
              <a:off x="6171840" y="3209400"/>
              <a:ext cx="1080" cy="89640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34" name=""/>
            <p:cNvSpPr/>
            <p:nvPr/>
          </p:nvSpPr>
          <p:spPr>
            <a:xfrm>
              <a:off x="5250600" y="417528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977760" y="4428720"/>
            <a:ext cx="1765800" cy="1517040"/>
            <a:chOff x="977760" y="4428720"/>
            <a:chExt cx="1765800" cy="1517040"/>
          </a:xfrm>
        </p:grpSpPr>
        <p:cxnSp>
          <p:nvCxnSpPr>
            <p:cNvPr id="1536" name=""/>
            <p:cNvCxnSpPr>
              <a:stCxn id="1501" idx="0"/>
              <a:endCxn id="1497" idx="4"/>
            </p:cNvCxnSpPr>
            <p:nvPr/>
          </p:nvCxnSpPr>
          <p:spPr>
            <a:xfrm flipV="1">
              <a:off x="2742840" y="4428720"/>
              <a:ext cx="1080" cy="1048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37" name=""/>
            <p:cNvSpPr/>
            <p:nvPr/>
          </p:nvSpPr>
          <p:spPr>
            <a:xfrm>
              <a:off x="977760" y="5546880"/>
              <a:ext cx="157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, ESPOST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689760" y="129528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ia A il matching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ross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3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3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0" name=""/>
          <p:cNvSpPr/>
          <p:nvPr/>
        </p:nvSpPr>
        <p:spPr>
          <a:xfrm>
            <a:off x="4343400" y="1676520"/>
            <a:ext cx="304920" cy="304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90920" y="289548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9907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19920" y="289548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5909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43400" y="41148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199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550" name=""/>
          <p:cNvCxnSpPr>
            <a:stCxn id="1540" idx="4"/>
            <a:endCxn id="1543" idx="0"/>
          </p:cNvCxnSpPr>
          <p:nvPr/>
        </p:nvCxnSpPr>
        <p:spPr>
          <a:xfrm>
            <a:off x="4495320" y="1990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1" name=""/>
          <p:cNvCxnSpPr>
            <a:stCxn id="1546" idx="0"/>
            <a:endCxn id="1543" idx="4"/>
          </p:cNvCxnSpPr>
          <p:nvPr/>
        </p:nvCxnSpPr>
        <p:spPr>
          <a:xfrm flipV="1">
            <a:off x="449532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52" name=""/>
          <p:cNvCxnSpPr>
            <a:stCxn id="1549" idx="0"/>
            <a:endCxn id="1545" idx="4"/>
          </p:cNvCxnSpPr>
          <p:nvPr/>
        </p:nvCxnSpPr>
        <p:spPr>
          <a:xfrm flipV="1">
            <a:off x="2742840" y="4428720"/>
            <a:ext cx="108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3" name=""/>
          <p:cNvCxnSpPr>
            <a:stCxn id="1542" idx="7"/>
            <a:endCxn id="1541" idx="3"/>
          </p:cNvCxnSpPr>
          <p:nvPr/>
        </p:nvCxnSpPr>
        <p:spPr>
          <a:xfrm flipV="1">
            <a:off x="1250640" y="3165120"/>
            <a:ext cx="1384920" cy="9849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54" name=""/>
          <p:cNvCxnSpPr>
            <a:stCxn id="1541" idx="7"/>
            <a:endCxn id="1540" idx="2"/>
          </p:cNvCxnSpPr>
          <p:nvPr/>
        </p:nvCxnSpPr>
        <p:spPr>
          <a:xfrm flipV="1">
            <a:off x="2850840" y="1828440"/>
            <a:ext cx="14835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5" name=""/>
          <p:cNvCxnSpPr>
            <a:stCxn id="1545" idx="0"/>
            <a:endCxn id="1541" idx="4"/>
          </p:cNvCxnSpPr>
          <p:nvPr/>
        </p:nvCxnSpPr>
        <p:spPr>
          <a:xfrm flipV="1">
            <a:off x="2742840" y="3209400"/>
            <a:ext cx="1080" cy="8964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556" name=""/>
          <p:cNvCxnSpPr>
            <a:stCxn id="1547" idx="0"/>
            <a:endCxn id="1544" idx="4"/>
          </p:cNvCxnSpPr>
          <p:nvPr/>
        </p:nvCxnSpPr>
        <p:spPr>
          <a:xfrm flipV="1">
            <a:off x="617184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57" name=""/>
          <p:cNvCxnSpPr>
            <a:stCxn id="1546" idx="2"/>
            <a:endCxn id="1541" idx="6"/>
          </p:cNvCxnSpPr>
          <p:nvPr/>
        </p:nvCxnSpPr>
        <p:spPr>
          <a:xfrm flipH="1" flipV="1">
            <a:off x="2904480" y="3047760"/>
            <a:ext cx="14295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8" name=""/>
          <p:cNvCxnSpPr>
            <a:stCxn id="1542" idx="6"/>
            <a:endCxn id="1543" idx="2"/>
          </p:cNvCxnSpPr>
          <p:nvPr/>
        </p:nvCxnSpPr>
        <p:spPr>
          <a:xfrm flipV="1">
            <a:off x="1305000" y="30477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9" name=""/>
          <p:cNvCxnSpPr>
            <a:endCxn id="1541" idx="6"/>
          </p:cNvCxnSpPr>
          <p:nvPr/>
        </p:nvCxnSpPr>
        <p:spPr>
          <a:xfrm flipH="1" flipV="1">
            <a:off x="2904840" y="3047760"/>
            <a:ext cx="3115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0" name=""/>
          <p:cNvCxnSpPr>
            <a:stCxn id="1548" idx="2"/>
            <a:endCxn id="1543" idx="6"/>
          </p:cNvCxnSpPr>
          <p:nvPr/>
        </p:nvCxnSpPr>
        <p:spPr>
          <a:xfrm flipH="1" flipV="1">
            <a:off x="4657320" y="30477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1" name=""/>
          <p:cNvCxnSpPr>
            <a:stCxn id="1548" idx="2"/>
            <a:endCxn id="1544" idx="5"/>
          </p:cNvCxnSpPr>
          <p:nvPr/>
        </p:nvCxnSpPr>
        <p:spPr>
          <a:xfrm flipH="1" flipV="1">
            <a:off x="6279480" y="316512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2" name=""/>
          <p:cNvCxnSpPr>
            <a:stCxn id="1544" idx="1"/>
            <a:endCxn id="1540" idx="6"/>
          </p:cNvCxnSpPr>
          <p:nvPr/>
        </p:nvCxnSpPr>
        <p:spPr>
          <a:xfrm flipH="1" flipV="1">
            <a:off x="4656960" y="182844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3" name=""/>
          <p:cNvCxnSpPr>
            <a:stCxn id="1547" idx="2"/>
            <a:endCxn id="1543" idx="6"/>
          </p:cNvCxnSpPr>
          <p:nvPr/>
        </p:nvCxnSpPr>
        <p:spPr>
          <a:xfrm flipH="1" flipV="1">
            <a:off x="4656960" y="3047760"/>
            <a:ext cx="13532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4" name=""/>
          <p:cNvSpPr/>
          <p:nvPr/>
        </p:nvSpPr>
        <p:spPr>
          <a:xfrm>
            <a:off x="4731840" y="13716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P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1820160" y="1828440"/>
            <a:ext cx="2513880" cy="1145520"/>
            <a:chOff x="1820160" y="1828440"/>
            <a:chExt cx="2513880" cy="1145520"/>
          </a:xfrm>
        </p:grpSpPr>
        <p:cxnSp>
          <p:nvCxnSpPr>
            <p:cNvPr id="1566" name=""/>
            <p:cNvCxnSpPr/>
            <p:nvPr/>
          </p:nvCxnSpPr>
          <p:spPr>
            <a:xfrm flipV="1">
              <a:off x="2850840" y="1828440"/>
              <a:ext cx="1483560" cy="1102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67" name=""/>
            <p:cNvSpPr/>
            <p:nvPr/>
          </p:nvSpPr>
          <p:spPr>
            <a:xfrm>
              <a:off x="1820160" y="257508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S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4491720" y="1990080"/>
            <a:ext cx="1155960" cy="999720"/>
            <a:chOff x="4491720" y="1990080"/>
            <a:chExt cx="1155960" cy="999720"/>
          </a:xfrm>
        </p:grpSpPr>
        <p:cxnSp>
          <p:nvCxnSpPr>
            <p:cNvPr id="1569" name=""/>
            <p:cNvCxnSpPr/>
            <p:nvPr/>
          </p:nvCxnSpPr>
          <p:spPr>
            <a:xfrm flipV="1">
              <a:off x="4495320" y="1990080"/>
              <a:ext cx="1080" cy="89604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70" name=""/>
            <p:cNvSpPr/>
            <p:nvPr/>
          </p:nvSpPr>
          <p:spPr>
            <a:xfrm>
              <a:off x="4491720" y="2590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S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4656960" y="1828440"/>
            <a:ext cx="2667240" cy="1161360"/>
            <a:chOff x="4656960" y="1828440"/>
            <a:chExt cx="2667240" cy="1161360"/>
          </a:xfrm>
        </p:grpSpPr>
        <p:cxnSp>
          <p:nvCxnSpPr>
            <p:cNvPr id="1572" name=""/>
            <p:cNvCxnSpPr/>
            <p:nvPr/>
          </p:nvCxnSpPr>
          <p:spPr>
            <a:xfrm flipH="1" flipV="1">
              <a:off x="4656960" y="1828440"/>
              <a:ext cx="1407240" cy="1102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73" name=""/>
            <p:cNvSpPr/>
            <p:nvPr/>
          </p:nvSpPr>
          <p:spPr>
            <a:xfrm>
              <a:off x="6168240" y="2590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IS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21400" y="3165120"/>
            <a:ext cx="2413800" cy="984600"/>
            <a:chOff x="221400" y="3165120"/>
            <a:chExt cx="2413800" cy="984600"/>
          </a:xfrm>
        </p:grpSpPr>
        <p:cxnSp>
          <p:nvCxnSpPr>
            <p:cNvPr id="1575" name=""/>
            <p:cNvCxnSpPr>
              <a:stCxn id="1542" idx="7"/>
              <a:endCxn id="1541" idx="3"/>
            </p:cNvCxnSpPr>
            <p:nvPr/>
          </p:nvCxnSpPr>
          <p:spPr>
            <a:xfrm flipV="1">
              <a:off x="1250640" y="3165120"/>
              <a:ext cx="1384920" cy="98496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76" name=""/>
            <p:cNvSpPr/>
            <p:nvPr/>
          </p:nvSpPr>
          <p:spPr>
            <a:xfrm>
              <a:off x="221400" y="373392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3574080" y="3209400"/>
            <a:ext cx="921960" cy="1380600"/>
            <a:chOff x="3574080" y="3209400"/>
            <a:chExt cx="921960" cy="1380600"/>
          </a:xfrm>
        </p:grpSpPr>
        <p:cxnSp>
          <p:nvCxnSpPr>
            <p:cNvPr id="1578" name=""/>
            <p:cNvCxnSpPr/>
            <p:nvPr/>
          </p:nvCxnSpPr>
          <p:spPr>
            <a:xfrm flipV="1">
              <a:off x="4495320" y="3209400"/>
              <a:ext cx="1080" cy="89640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79" name=""/>
            <p:cNvSpPr/>
            <p:nvPr/>
          </p:nvSpPr>
          <p:spPr>
            <a:xfrm>
              <a:off x="3574080" y="419112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5250600" y="3209400"/>
            <a:ext cx="921960" cy="1364760"/>
            <a:chOff x="5250600" y="3209400"/>
            <a:chExt cx="921960" cy="1364760"/>
          </a:xfrm>
        </p:grpSpPr>
        <p:cxnSp>
          <p:nvCxnSpPr>
            <p:cNvPr id="1581" name=""/>
            <p:cNvCxnSpPr/>
            <p:nvPr/>
          </p:nvCxnSpPr>
          <p:spPr>
            <a:xfrm flipV="1">
              <a:off x="6171840" y="3209400"/>
              <a:ext cx="1080" cy="89640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1582" name=""/>
            <p:cNvSpPr/>
            <p:nvPr/>
          </p:nvSpPr>
          <p:spPr>
            <a:xfrm>
              <a:off x="5250600" y="417528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R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689760" y="129528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ia A il matching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ross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5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0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5" name=""/>
          <p:cNvSpPr/>
          <p:nvPr/>
        </p:nvSpPr>
        <p:spPr>
          <a:xfrm>
            <a:off x="4343400" y="1676520"/>
            <a:ext cx="304920" cy="304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590920" y="289548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907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19920" y="289548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5909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343400" y="41148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019920" y="41148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595" name=""/>
          <p:cNvCxnSpPr>
            <a:stCxn id="1585" idx="4"/>
            <a:endCxn id="1588" idx="0"/>
          </p:cNvCxnSpPr>
          <p:nvPr/>
        </p:nvCxnSpPr>
        <p:spPr>
          <a:xfrm>
            <a:off x="4495320" y="1990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6" name=""/>
          <p:cNvCxnSpPr>
            <a:stCxn id="1591" idx="0"/>
            <a:endCxn id="1588" idx="4"/>
          </p:cNvCxnSpPr>
          <p:nvPr/>
        </p:nvCxnSpPr>
        <p:spPr>
          <a:xfrm flipV="1">
            <a:off x="449532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97" name=""/>
          <p:cNvCxnSpPr>
            <a:stCxn id="1594" idx="0"/>
            <a:endCxn id="1590" idx="4"/>
          </p:cNvCxnSpPr>
          <p:nvPr/>
        </p:nvCxnSpPr>
        <p:spPr>
          <a:xfrm flipV="1">
            <a:off x="2742840" y="4428720"/>
            <a:ext cx="108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8" name=""/>
          <p:cNvCxnSpPr>
            <a:stCxn id="1587" idx="7"/>
            <a:endCxn id="1586" idx="3"/>
          </p:cNvCxnSpPr>
          <p:nvPr/>
        </p:nvCxnSpPr>
        <p:spPr>
          <a:xfrm flipV="1">
            <a:off x="1250640" y="3165120"/>
            <a:ext cx="1384920" cy="98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9" name=""/>
          <p:cNvCxnSpPr>
            <a:stCxn id="1586" idx="7"/>
            <a:endCxn id="1585" idx="2"/>
          </p:cNvCxnSpPr>
          <p:nvPr/>
        </p:nvCxnSpPr>
        <p:spPr>
          <a:xfrm flipV="1">
            <a:off x="2850840" y="1828440"/>
            <a:ext cx="14835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0" name=""/>
          <p:cNvCxnSpPr>
            <a:stCxn id="1590" idx="0"/>
            <a:endCxn id="1586" idx="4"/>
          </p:cNvCxnSpPr>
          <p:nvPr/>
        </p:nvCxnSpPr>
        <p:spPr>
          <a:xfrm flipV="1">
            <a:off x="274284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01" name=""/>
          <p:cNvCxnSpPr>
            <a:stCxn id="1592" idx="0"/>
            <a:endCxn id="1589" idx="4"/>
          </p:cNvCxnSpPr>
          <p:nvPr/>
        </p:nvCxnSpPr>
        <p:spPr>
          <a:xfrm flipV="1">
            <a:off x="6171840" y="32094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02" name=""/>
          <p:cNvCxnSpPr>
            <a:stCxn id="1591" idx="2"/>
            <a:endCxn id="1586" idx="6"/>
          </p:cNvCxnSpPr>
          <p:nvPr/>
        </p:nvCxnSpPr>
        <p:spPr>
          <a:xfrm flipH="1" flipV="1">
            <a:off x="2904480" y="3047760"/>
            <a:ext cx="14295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3" name=""/>
          <p:cNvCxnSpPr>
            <a:stCxn id="1587" idx="6"/>
            <a:endCxn id="1588" idx="2"/>
          </p:cNvCxnSpPr>
          <p:nvPr/>
        </p:nvCxnSpPr>
        <p:spPr>
          <a:xfrm flipV="1">
            <a:off x="1305000" y="30477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4" name=""/>
          <p:cNvCxnSpPr>
            <a:endCxn id="1586" idx="6"/>
          </p:cNvCxnSpPr>
          <p:nvPr/>
        </p:nvCxnSpPr>
        <p:spPr>
          <a:xfrm flipH="1" flipV="1">
            <a:off x="2904840" y="3047760"/>
            <a:ext cx="3115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5" name=""/>
          <p:cNvCxnSpPr>
            <a:stCxn id="1593" idx="2"/>
            <a:endCxn id="1588" idx="6"/>
          </p:cNvCxnSpPr>
          <p:nvPr/>
        </p:nvCxnSpPr>
        <p:spPr>
          <a:xfrm flipH="1" flipV="1">
            <a:off x="4657320" y="30477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6" name=""/>
          <p:cNvCxnSpPr>
            <a:stCxn id="1593" idx="2"/>
            <a:endCxn id="1589" idx="5"/>
          </p:cNvCxnSpPr>
          <p:nvPr/>
        </p:nvCxnSpPr>
        <p:spPr>
          <a:xfrm flipH="1" flipV="1">
            <a:off x="6279480" y="316512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7" name=""/>
          <p:cNvCxnSpPr>
            <a:stCxn id="1589" idx="1"/>
            <a:endCxn id="1585" idx="6"/>
          </p:cNvCxnSpPr>
          <p:nvPr/>
        </p:nvCxnSpPr>
        <p:spPr>
          <a:xfrm flipH="1" flipV="1">
            <a:off x="4656960" y="182844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8" name=""/>
          <p:cNvCxnSpPr>
            <a:stCxn id="1592" idx="2"/>
            <a:endCxn id="1588" idx="6"/>
          </p:cNvCxnSpPr>
          <p:nvPr/>
        </p:nvCxnSpPr>
        <p:spPr>
          <a:xfrm flipH="1" flipV="1">
            <a:off x="4656960" y="3047760"/>
            <a:ext cx="13532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09" name=""/>
          <p:cNvSpPr/>
          <p:nvPr/>
        </p:nvSpPr>
        <p:spPr>
          <a:xfrm>
            <a:off x="4736880" y="13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2742840" y="1828440"/>
            <a:ext cx="1591200" cy="3648240"/>
            <a:chOff x="2742840" y="1828440"/>
            <a:chExt cx="1591200" cy="3648240"/>
          </a:xfrm>
        </p:grpSpPr>
        <p:cxnSp>
          <p:nvCxnSpPr>
            <p:cNvPr id="1611" name=""/>
            <p:cNvCxnSpPr/>
            <p:nvPr/>
          </p:nvCxnSpPr>
          <p:spPr>
            <a:xfrm flipV="1">
              <a:off x="2850840" y="1828440"/>
              <a:ext cx="1483560" cy="1102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1612" name=""/>
            <p:cNvCxnSpPr>
              <a:stCxn id="1590" idx="0"/>
              <a:endCxn id="1586" idx="4"/>
            </p:cNvCxnSpPr>
            <p:nvPr/>
          </p:nvCxnSpPr>
          <p:spPr>
            <a:xfrm flipV="1">
              <a:off x="2742840" y="3209400"/>
              <a:ext cx="1080" cy="896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13" name=""/>
            <p:cNvCxnSpPr/>
            <p:nvPr/>
          </p:nvCxnSpPr>
          <p:spPr>
            <a:xfrm flipV="1">
              <a:off x="2742840" y="4428720"/>
              <a:ext cx="1080" cy="1048320"/>
            </a:xfrm>
            <a:prstGeom prst="straightConnector1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1614" name=""/>
          <p:cNvSpPr/>
          <p:nvPr/>
        </p:nvSpPr>
        <p:spPr>
          <a:xfrm>
            <a:off x="2112120" y="55468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1" dur="indefinite" restart="never" nodeType="tmRoot">
          <p:childTnLst>
            <p:seq>
              <p:cTn id="2232" dur="indefinite" nodeType="mainSeq">
                <p:childTnLst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7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6" name=""/>
          <p:cNvSpPr/>
          <p:nvPr/>
        </p:nvSpPr>
        <p:spPr>
          <a:xfrm>
            <a:off x="990720" y="3276720"/>
            <a:ext cx="30456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133720" y="3276720"/>
            <a:ext cx="30456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76720" y="3276720"/>
            <a:ext cx="30456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267080" y="21337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867280" y="21337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67280" y="4343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467480" y="21337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624" name=""/>
          <p:cNvCxnSpPr>
            <a:stCxn id="1616" idx="6"/>
            <a:endCxn id="1617" idx="2"/>
          </p:cNvCxnSpPr>
          <p:nvPr/>
        </p:nvCxnSpPr>
        <p:spPr>
          <a:xfrm>
            <a:off x="1309320" y="3428640"/>
            <a:ext cx="81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25" name=""/>
          <p:cNvCxnSpPr>
            <a:stCxn id="1617" idx="6"/>
            <a:endCxn id="1618" idx="2"/>
          </p:cNvCxnSpPr>
          <p:nvPr/>
        </p:nvCxnSpPr>
        <p:spPr>
          <a:xfrm>
            <a:off x="2452320" y="3428640"/>
            <a:ext cx="81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26" name=""/>
          <p:cNvCxnSpPr>
            <a:stCxn id="1618" idx="5"/>
            <a:endCxn id="1620" idx="1"/>
          </p:cNvCxnSpPr>
          <p:nvPr/>
        </p:nvCxnSpPr>
        <p:spPr>
          <a:xfrm>
            <a:off x="3537000" y="3551400"/>
            <a:ext cx="775440" cy="822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27" name=""/>
          <p:cNvCxnSpPr>
            <a:stCxn id="1618" idx="7"/>
            <a:endCxn id="1619" idx="3"/>
          </p:cNvCxnSpPr>
          <p:nvPr/>
        </p:nvCxnSpPr>
        <p:spPr>
          <a:xfrm flipV="1">
            <a:off x="3537000" y="2407680"/>
            <a:ext cx="775440" cy="898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28" name=""/>
          <p:cNvCxnSpPr>
            <a:stCxn id="1619" idx="6"/>
            <a:endCxn id="1621" idx="2"/>
          </p:cNvCxnSpPr>
          <p:nvPr/>
        </p:nvCxnSpPr>
        <p:spPr>
          <a:xfrm>
            <a:off x="4586040" y="2285640"/>
            <a:ext cx="12675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29" name=""/>
          <p:cNvCxnSpPr>
            <a:stCxn id="1620" idx="6"/>
            <a:endCxn id="1622" idx="2"/>
          </p:cNvCxnSpPr>
          <p:nvPr/>
        </p:nvCxnSpPr>
        <p:spPr>
          <a:xfrm>
            <a:off x="4586040" y="4495320"/>
            <a:ext cx="12675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30" name=""/>
          <p:cNvCxnSpPr>
            <a:stCxn id="1621" idx="6"/>
            <a:endCxn id="1623" idx="2"/>
          </p:cNvCxnSpPr>
          <p:nvPr/>
        </p:nvCxnSpPr>
        <p:spPr>
          <a:xfrm>
            <a:off x="6186240" y="2285640"/>
            <a:ext cx="1267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stCxn id="1621" idx="4"/>
            <a:endCxn id="1622" idx="0"/>
          </p:cNvCxnSpPr>
          <p:nvPr/>
        </p:nvCxnSpPr>
        <p:spPr>
          <a:xfrm>
            <a:off x="6019560" y="245268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632" name=""/>
          <p:cNvGrpSpPr/>
          <p:nvPr/>
        </p:nvGrpSpPr>
        <p:grpSpPr>
          <a:xfrm>
            <a:off x="609480" y="2422440"/>
            <a:ext cx="6096240" cy="2608920"/>
            <a:chOff x="609480" y="2422440"/>
            <a:chExt cx="6096240" cy="2608920"/>
          </a:xfrm>
        </p:grpSpPr>
        <p:sp>
          <p:nvSpPr>
            <p:cNvPr id="1633" name=""/>
            <p:cNvSpPr/>
            <p:nvPr/>
          </p:nvSpPr>
          <p:spPr>
            <a:xfrm>
              <a:off x="609480" y="35812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v, 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05120" y="3489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419720" y="24224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19720" y="4632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971800" y="35053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67280" y="46324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257800" y="1523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 oppure P 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200400" y="1752480"/>
            <a:ext cx="4038480" cy="3810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l’assegn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 Artigiani 3 Lavori da realizz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bella dei cos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egnare esattamente un lavoro ad ogni artigiano in modo da minimizzare i c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838080" y="2340000"/>
          <a:ext cx="3353040" cy="169848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it-IT" sz="2800" spc="-1" strike="noStrike" baseline="20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rrettez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 vertici di G sono etichettati in modo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“unico”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lla procedura search rispetto ad un abbinamento A, allora search termina con un cammino aumentante, se esso esiste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40458c"/>
                </a:solidFill>
                <a:uFillTx/>
                <a:latin typeface="Tahoma"/>
              </a:rPr>
              <a:t>Domanda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istono grafi che ammettono sempre la proprietà di unicità delle etichet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Grafi biparti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800" spc="-1" strike="noStrike">
                <a:solidFill>
                  <a:srgbClr val="008000"/>
                </a:solidFill>
                <a:latin typeface="Tahoma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 grafo bipart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5" name=""/>
          <p:cNvSpPr/>
          <p:nvPr/>
        </p:nvSpPr>
        <p:spPr>
          <a:xfrm>
            <a:off x="4343400" y="2133720"/>
            <a:ext cx="304920" cy="30456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solidFill>
            <a:srgbClr val="40458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990720" y="4572000"/>
            <a:ext cx="304560" cy="3049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343400" y="3352680"/>
            <a:ext cx="304920" cy="304920"/>
          </a:xfrm>
          <a:prstGeom prst="ellipse">
            <a:avLst/>
          </a:prstGeom>
          <a:solidFill>
            <a:srgbClr val="40458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019920" y="3352680"/>
            <a:ext cx="304560" cy="304920"/>
          </a:xfrm>
          <a:prstGeom prst="ellipse">
            <a:avLst/>
          </a:prstGeom>
          <a:solidFill>
            <a:srgbClr val="40458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590920" y="4572000"/>
            <a:ext cx="304560" cy="3049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343400" y="4572000"/>
            <a:ext cx="304920" cy="3049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19920" y="4572000"/>
            <a:ext cx="304560" cy="3049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96080" y="4572000"/>
            <a:ext cx="304920" cy="3049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590920" y="5943600"/>
            <a:ext cx="304560" cy="304920"/>
          </a:xfrm>
          <a:prstGeom prst="ellipse">
            <a:avLst/>
          </a:prstGeom>
          <a:solidFill>
            <a:srgbClr val="40458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655" name=""/>
          <p:cNvCxnSpPr>
            <a:stCxn id="1645" idx="4"/>
            <a:endCxn id="1648" idx="0"/>
          </p:cNvCxnSpPr>
          <p:nvPr/>
        </p:nvCxnSpPr>
        <p:spPr>
          <a:xfrm>
            <a:off x="4495320" y="24476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6" name=""/>
          <p:cNvCxnSpPr>
            <a:stCxn id="1651" idx="0"/>
            <a:endCxn id="1648" idx="4"/>
          </p:cNvCxnSpPr>
          <p:nvPr/>
        </p:nvCxnSpPr>
        <p:spPr>
          <a:xfrm flipV="1">
            <a:off x="4495320" y="36666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57" name=""/>
          <p:cNvCxnSpPr>
            <a:stCxn id="1654" idx="0"/>
            <a:endCxn id="1650" idx="4"/>
          </p:cNvCxnSpPr>
          <p:nvPr/>
        </p:nvCxnSpPr>
        <p:spPr>
          <a:xfrm flipV="1">
            <a:off x="2742840" y="4885920"/>
            <a:ext cx="108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8" name=""/>
          <p:cNvCxnSpPr>
            <a:stCxn id="1647" idx="7"/>
            <a:endCxn id="1646" idx="3"/>
          </p:cNvCxnSpPr>
          <p:nvPr/>
        </p:nvCxnSpPr>
        <p:spPr>
          <a:xfrm flipV="1">
            <a:off x="1250640" y="3622320"/>
            <a:ext cx="1384920" cy="98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9" name=""/>
          <p:cNvCxnSpPr>
            <a:stCxn id="1646" idx="7"/>
            <a:endCxn id="1645" idx="2"/>
          </p:cNvCxnSpPr>
          <p:nvPr/>
        </p:nvCxnSpPr>
        <p:spPr>
          <a:xfrm flipV="1">
            <a:off x="2850840" y="2285640"/>
            <a:ext cx="14835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0" name=""/>
          <p:cNvCxnSpPr>
            <a:stCxn id="1650" idx="0"/>
            <a:endCxn id="1646" idx="4"/>
          </p:cNvCxnSpPr>
          <p:nvPr/>
        </p:nvCxnSpPr>
        <p:spPr>
          <a:xfrm flipV="1">
            <a:off x="2742840" y="36666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61" name=""/>
          <p:cNvCxnSpPr>
            <a:stCxn id="1652" idx="0"/>
            <a:endCxn id="1649" idx="4"/>
          </p:cNvCxnSpPr>
          <p:nvPr/>
        </p:nvCxnSpPr>
        <p:spPr>
          <a:xfrm flipV="1">
            <a:off x="6171840" y="3666600"/>
            <a:ext cx="1080" cy="8964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62" name=""/>
          <p:cNvCxnSpPr>
            <a:stCxn id="1651" idx="2"/>
            <a:endCxn id="1646" idx="6"/>
          </p:cNvCxnSpPr>
          <p:nvPr/>
        </p:nvCxnSpPr>
        <p:spPr>
          <a:xfrm flipH="1" flipV="1">
            <a:off x="2904480" y="3504960"/>
            <a:ext cx="14295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3" name=""/>
          <p:cNvCxnSpPr>
            <a:stCxn id="1647" idx="6"/>
            <a:endCxn id="1648" idx="2"/>
          </p:cNvCxnSpPr>
          <p:nvPr/>
        </p:nvCxnSpPr>
        <p:spPr>
          <a:xfrm flipV="1">
            <a:off x="1305000" y="35049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4" name=""/>
          <p:cNvCxnSpPr>
            <a:endCxn id="1646" idx="6"/>
          </p:cNvCxnSpPr>
          <p:nvPr/>
        </p:nvCxnSpPr>
        <p:spPr>
          <a:xfrm flipH="1" flipV="1">
            <a:off x="2904840" y="3504960"/>
            <a:ext cx="3115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5" name=""/>
          <p:cNvCxnSpPr>
            <a:stCxn id="1653" idx="2"/>
            <a:endCxn id="1648" idx="6"/>
          </p:cNvCxnSpPr>
          <p:nvPr/>
        </p:nvCxnSpPr>
        <p:spPr>
          <a:xfrm flipH="1" flipV="1">
            <a:off x="4657320" y="3504960"/>
            <a:ext cx="30297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6" name=""/>
          <p:cNvCxnSpPr>
            <a:stCxn id="1653" idx="2"/>
            <a:endCxn id="1649" idx="5"/>
          </p:cNvCxnSpPr>
          <p:nvPr/>
        </p:nvCxnSpPr>
        <p:spPr>
          <a:xfrm flipH="1" flipV="1">
            <a:off x="6279480" y="362232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7" name=""/>
          <p:cNvCxnSpPr>
            <a:stCxn id="1649" idx="1"/>
            <a:endCxn id="1645" idx="6"/>
          </p:cNvCxnSpPr>
          <p:nvPr/>
        </p:nvCxnSpPr>
        <p:spPr>
          <a:xfrm flipH="1" flipV="1">
            <a:off x="4656960" y="2285640"/>
            <a:ext cx="1407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8" name=""/>
          <p:cNvCxnSpPr>
            <a:stCxn id="1652" idx="2"/>
            <a:endCxn id="1648" idx="6"/>
          </p:cNvCxnSpPr>
          <p:nvPr/>
        </p:nvCxnSpPr>
        <p:spPr>
          <a:xfrm flipH="1" flipV="1">
            <a:off x="4656960" y="3504960"/>
            <a:ext cx="13532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K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ö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ni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0" name=""/>
          <p:cNvSpPr/>
          <p:nvPr/>
        </p:nvSpPr>
        <p:spPr>
          <a:xfrm>
            <a:off x="838080" y="1171440"/>
            <a:ext cx="724860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Teorem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K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ö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ig 1931).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= (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un grafo bipartito allora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 = 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imostr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un abbinamento massimo, e sian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insieme dei no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aturi rispetto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insieme dei no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sposti rispetto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3" dur="500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500"/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500"/>
                                        <p:tgtEl>
                                          <p:spTgt spid="1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500"/>
                                        <p:tgtEl>
                                          <p:spTgt spid="1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8" dur="500"/>
                                        <p:tgtEl>
                                          <p:spTgt spid="1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K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ö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ni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>
            <a:off x="2895480" y="1295280"/>
            <a:ext cx="533520" cy="1981440"/>
          </a:xfrm>
          <a:prstGeom prst="rect">
            <a:avLst/>
          </a:prstGeom>
          <a:noFill/>
          <a:ln w="1260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95680" y="2286000"/>
            <a:ext cx="609840" cy="990720"/>
          </a:xfrm>
          <a:prstGeom prst="rect">
            <a:avLst/>
          </a:prstGeom>
          <a:noFill/>
          <a:ln w="1260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8120" y="24382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648320" y="15238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648320" y="19810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48320" y="28954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971800" y="36576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276720" y="30481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370240" y="1752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94280" y="35812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276720" y="25909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276720" y="21337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76720" y="16765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3200400" y="3047760"/>
            <a:ext cx="14479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276720" y="2590920"/>
            <a:ext cx="137160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4952520" y="2286000"/>
            <a:ext cx="228600" cy="2286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181480" y="2286000"/>
            <a:ext cx="30492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95680" y="20415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di raggiungibili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914400" y="4448160"/>
            <a:ext cx="7620120" cy="2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efini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Un nod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raggiungibile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esist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lternant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rispetto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ale che l’ultimo arco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 non appartien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insiemi dei no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raggiungibili d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762120" y="4343400"/>
            <a:ext cx="7467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40458c"/>
                </a:solidFill>
                <a:uFillTx/>
                <a:latin typeface="Tahoma"/>
              </a:rPr>
              <a:t>Osserv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definizione i nodi i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no saturi, altriment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sarebbe massi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fine: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895480" y="1295280"/>
            <a:ext cx="533520" cy="1981440"/>
          </a:xfrm>
          <a:prstGeom prst="rect">
            <a:avLst/>
          </a:prstGeom>
          <a:noFill/>
          <a:ln w="1260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048120" y="24382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648320" y="15238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648320" y="19810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648320" y="2895480"/>
            <a:ext cx="228600" cy="228600"/>
          </a:xfrm>
          <a:prstGeom prst="ellipse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971800" y="36576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276720" y="30481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370240" y="1752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294280" y="35812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276720" y="25909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276720" y="21337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276720" y="16765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3200400" y="3047760"/>
            <a:ext cx="14479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3276720" y="2590920"/>
            <a:ext cx="137160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K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ö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ni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115600" y="2590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113800" y="1752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95680" y="2362320"/>
            <a:ext cx="533520" cy="914400"/>
          </a:xfrm>
          <a:prstGeom prst="rect">
            <a:avLst/>
          </a:prstGeom>
          <a:noFill/>
          <a:ln w="1260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2895480" y="1295280"/>
            <a:ext cx="533520" cy="1981440"/>
          </a:xfrm>
          <a:prstGeom prst="rect">
            <a:avLst/>
          </a:prstGeom>
          <a:noFill/>
          <a:ln w="1260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048120" y="24382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648320" y="15238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648320" y="19810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648320" y="2895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971800" y="36576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276720" y="30481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70240" y="1752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94280" y="35812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76720" y="25909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76720" y="21337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276720" y="1676520"/>
            <a:ext cx="13716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3200400" y="3047760"/>
            <a:ext cx="14479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3276720" y="2590920"/>
            <a:ext cx="137160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orema di K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ö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ni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846000" y="4343400"/>
            <a:ext cx="71744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il seguente insieme di nod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raggiungi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riment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dimostriamo che è un trasvers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495680" y="2362320"/>
            <a:ext cx="533520" cy="914400"/>
          </a:xfrm>
          <a:prstGeom prst="rect">
            <a:avLst/>
          </a:prstGeom>
          <a:noFill/>
          <a:ln w="1260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115600" y="2590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113800" y="1752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5" dur="500"/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0" dur="500"/>
                                        <p:tgtEl>
                                          <p:spTgt spid="1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5" name=""/>
          <p:cNvSpPr/>
          <p:nvPr/>
        </p:nvSpPr>
        <p:spPr>
          <a:xfrm>
            <a:off x="3201840" y="387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01840" y="433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201840" y="479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201840" y="524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726080" y="387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726080" y="433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726080" y="479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726080" y="524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726080" y="601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201840" y="601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448000" y="441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344200" y="42591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420160" y="5859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049560" y="3726000"/>
            <a:ext cx="533520" cy="19810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573440" y="3726000"/>
            <a:ext cx="533520" cy="19810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372040" y="59356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430440" y="403056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430440" y="448776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430440" y="494496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430440" y="540216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429000" y="6164280"/>
            <a:ext cx="12952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73566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mostriamo che non esistono archi da nodi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erso nodi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n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perti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. Difatti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on può esistere un arco non coperto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tra un nodo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un nodo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altrimenti il matching non sarebbe massi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on può esistere un arco non coperto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tra un nodo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un nodo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rché i nodi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sono raggiungibili e quindi l’arco sarebbe copert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651840" y="611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3430440" y="4966920"/>
            <a:ext cx="1295640" cy="1219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58020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1" dur="indefinite" restart="never" nodeType="tmRoot">
          <p:childTnLst>
            <p:seq>
              <p:cTn id="2322" dur="indefinite" nodeType="mainSeq">
                <p:childTnLst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34" dur="1" fill="hold"/>
                                  <p:tgtEl>
                                    <p:spTgt spid="1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1" name=""/>
          <p:cNvSpPr/>
          <p:nvPr/>
        </p:nvSpPr>
        <p:spPr>
          <a:xfrm>
            <a:off x="327816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278160" y="4191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27816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278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204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2040" y="4191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0204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80204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802040" y="5867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78160" y="5867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52432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420160" y="41148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496480" y="5715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125880" y="3581280"/>
            <a:ext cx="533160" cy="19814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49760" y="3581280"/>
            <a:ext cx="533520" cy="19814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448000" y="57913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506760" y="3886200"/>
            <a:ext cx="12952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506760" y="4343400"/>
            <a:ext cx="12952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506760" y="4800600"/>
            <a:ext cx="12952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506760" y="5257800"/>
            <a:ext cx="12952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506760" y="3886200"/>
            <a:ext cx="1295280" cy="20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3506760" y="3885840"/>
            <a:ext cx="1295280" cy="20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219320"/>
            <a:ext cx="735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mostriamo che non esistono archi da nodi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erso nodi in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n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perti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fatti, consideriamo l’arco 1,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. Se non fosse coper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gnifica che il nod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estremo dell’arco del matching è raggiungibil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 allora esisterebbe un cammino aumentante e il matching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on sarebbe massim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729600" y="5334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mostrazione (I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6" name=""/>
          <p:cNvSpPr/>
          <p:nvPr/>
        </p:nvSpPr>
        <p:spPr>
          <a:xfrm>
            <a:off x="3581280" y="2971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5812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5812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58128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105520" y="2971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1055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10552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0552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0552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5812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965680" y="3962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496480" y="3886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418720" y="49528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429000" y="2819520"/>
            <a:ext cx="533520" cy="19810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952880" y="2819520"/>
            <a:ext cx="533520" cy="19810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2000" y="49528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809880" y="312408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09880" y="358128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809880" y="4495680"/>
            <a:ext cx="1295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09480" y="1233360"/>
            <a:ext cx="861084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sideriamo un arco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ad esempio l’arco 2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non fosse coperto significa che il nod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on è raggiungibile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vvero non appartiene ad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(contraddizione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809880" y="3124080"/>
            <a:ext cx="12956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495040" y="32767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495040" y="29098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132000" y="2909880"/>
            <a:ext cx="36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123800" y="3244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59520" y="5629320"/>
            <a:ext cx="59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tanto Z è un trasversale di cardinalità pari 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arte II: </a:t>
            </a:r>
            <a:br>
              <a:rPr sz="2800"/>
            </a:b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ttimalità, rilassamenti e bou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6168960" y="2643120"/>
            <a:ext cx="2516040" cy="1243080"/>
            <a:chOff x="6168960" y="2643120"/>
            <a:chExt cx="2516040" cy="1243080"/>
          </a:xfrm>
        </p:grpSpPr>
        <p:sp>
          <p:nvSpPr>
            <p:cNvPr id="231" name=""/>
            <p:cNvSpPr/>
            <p:nvPr/>
          </p:nvSpPr>
          <p:spPr>
            <a:xfrm>
              <a:off x="6168960" y="2643120"/>
              <a:ext cx="838080" cy="44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46920" y="3092400"/>
              <a:ext cx="838080" cy="40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3800" y="3500280"/>
              <a:ext cx="847800" cy="3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162840" y="2644920"/>
            <a:ext cx="2523960" cy="1241280"/>
            <a:chOff x="6162840" y="2644920"/>
            <a:chExt cx="2523960" cy="1241280"/>
          </a:xfrm>
        </p:grpSpPr>
        <p:sp>
          <p:nvSpPr>
            <p:cNvPr id="235" name=""/>
            <p:cNvSpPr/>
            <p:nvPr/>
          </p:nvSpPr>
          <p:spPr>
            <a:xfrm>
              <a:off x="7005600" y="2644920"/>
              <a:ext cx="838440" cy="44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2840" y="3090960"/>
              <a:ext cx="838080" cy="406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39000" y="3500280"/>
              <a:ext cx="847800" cy="385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78680" y="2641680"/>
            <a:ext cx="2506680" cy="1244520"/>
            <a:chOff x="6178680" y="2641680"/>
            <a:chExt cx="2506680" cy="1244520"/>
          </a:xfrm>
        </p:grpSpPr>
        <p:sp>
          <p:nvSpPr>
            <p:cNvPr id="239" name=""/>
            <p:cNvSpPr/>
            <p:nvPr/>
          </p:nvSpPr>
          <p:spPr>
            <a:xfrm>
              <a:off x="7016760" y="3092400"/>
              <a:ext cx="838440" cy="4064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8680" y="3500280"/>
              <a:ext cx="847800" cy="38592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47280" y="2641680"/>
              <a:ext cx="838080" cy="447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67520" y="2641680"/>
            <a:ext cx="2508120" cy="1244520"/>
            <a:chOff x="6167520" y="2641680"/>
            <a:chExt cx="2508120" cy="1244520"/>
          </a:xfrm>
        </p:grpSpPr>
        <p:sp>
          <p:nvSpPr>
            <p:cNvPr id="243" name=""/>
            <p:cNvSpPr/>
            <p:nvPr/>
          </p:nvSpPr>
          <p:spPr>
            <a:xfrm>
              <a:off x="7005600" y="3500280"/>
              <a:ext cx="847800" cy="38592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67520" y="3092400"/>
              <a:ext cx="838080" cy="4064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37560" y="2641680"/>
              <a:ext cx="838080" cy="4474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170760" y="2641680"/>
            <a:ext cx="2514600" cy="1244520"/>
            <a:chOff x="6170760" y="2641680"/>
            <a:chExt cx="2514600" cy="1244520"/>
          </a:xfrm>
        </p:grpSpPr>
        <p:sp>
          <p:nvSpPr>
            <p:cNvPr id="247" name=""/>
            <p:cNvSpPr/>
            <p:nvPr/>
          </p:nvSpPr>
          <p:spPr>
            <a:xfrm>
              <a:off x="7008840" y="2641680"/>
              <a:ext cx="838440" cy="447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7280" y="3092400"/>
              <a:ext cx="838080" cy="40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0760" y="3500280"/>
              <a:ext cx="847800" cy="385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172200" y="2641680"/>
            <a:ext cx="2514600" cy="1244520"/>
            <a:chOff x="6172200" y="2641680"/>
            <a:chExt cx="2514600" cy="1244520"/>
          </a:xfrm>
        </p:grpSpPr>
        <p:sp>
          <p:nvSpPr>
            <p:cNvPr id="251" name=""/>
            <p:cNvSpPr/>
            <p:nvPr/>
          </p:nvSpPr>
          <p:spPr>
            <a:xfrm>
              <a:off x="6172200" y="2641680"/>
              <a:ext cx="838080" cy="4474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0280" y="3092400"/>
              <a:ext cx="838440" cy="4064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39000" y="3500280"/>
              <a:ext cx="847800" cy="385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5334120" y="2187720"/>
          <a:ext cx="3352680" cy="169848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it-IT" sz="2800" spc="-1" strike="noStrike" baseline="20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problema dell’assegn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siemi ammissibi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28680" y="182880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co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3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680" y="299736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co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37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8680" y="358128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co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4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8680" y="416556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co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8680" y="474984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co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3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3240" y="5334120"/>
            <a:ext cx="637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soluzione ottima ha valo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possibili assegnamenti so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pertanto il numero di insiemi ammissibili è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400" y="2413080"/>
            <a:ext cx="407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co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44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omm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efinizioni di bound “primali” e “duali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ilassamento di un problema di 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sempi di rilassamenti per il problema del TS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rilassamento 1-alb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rilassamento 2-abbin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ound primali per il TS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arest Neighbor e Inser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lgoritmi approssimati (Double Tree, Christofid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ound dal rilassamento line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rilassamento lineare del knaps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ound primali: algoritmo greed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ound per duali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mulazioni di P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mulazioni ideali e matrici 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ttimalità, rilassamenti e bou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il seguente proble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max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il valore della soluzione ottim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che modo è possibile certificare che la soluzion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otti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generale, se disponessimo di un algoritmo che genera le due sequenze di soluzion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UB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UB 2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UB h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LB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LB 2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LB k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tremmo fornire come criterio di arres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UB h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LB k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(&gt; 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5" dur="indefinite" restart="never" nodeType="tmRoot">
          <p:childTnLst>
            <p:seq>
              <p:cTn id="2346" dur="indefinite" nodeType="mainSeq">
                <p:childTnLst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4" dur="500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9" dur="500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4" dur="500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9" dur="500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4" dur="500"/>
                                        <p:tgtEl>
                                          <p:spTgt spid="1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9" dur="500"/>
                                        <p:tgtEl>
                                          <p:spTgt spid="1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4" dur="500"/>
                                        <p:tgtEl>
                                          <p:spTgt spid="1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500"/>
                                        <p:tgtEl>
                                          <p:spTgt spid="1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4" dur="500"/>
                                        <p:tgtEl>
                                          <p:spTgt spid="1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ower (upper) bou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ound “primali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gni solu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mmissibile è u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low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upp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oun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un problema di massimizzazione (minimizzazion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2209680" y="3276720"/>
            <a:ext cx="939960" cy="2133360"/>
            <a:chOff x="2209680" y="3276720"/>
            <a:chExt cx="939960" cy="2133360"/>
          </a:xfrm>
        </p:grpSpPr>
        <p:sp>
          <p:nvSpPr>
            <p:cNvPr id="1831" name=""/>
            <p:cNvSpPr/>
            <p:nvPr/>
          </p:nvSpPr>
          <p:spPr>
            <a:xfrm>
              <a:off x="2527560" y="4132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*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2384280" y="32767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232000" y="4343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560680" y="4495680"/>
              <a:ext cx="58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Bookman Old Style"/>
                </a:rPr>
                <a:t>LB 2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0680" y="4876920"/>
              <a:ext cx="58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Bookman Old Style"/>
                </a:rPr>
                <a:t>LB 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20968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20968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425920" y="3276720"/>
            <a:ext cx="978120" cy="2133360"/>
            <a:chOff x="5425920" y="3276720"/>
            <a:chExt cx="978120" cy="2133360"/>
          </a:xfrm>
        </p:grpSpPr>
        <p:sp>
          <p:nvSpPr>
            <p:cNvPr id="1839" name=""/>
            <p:cNvSpPr/>
            <p:nvPr/>
          </p:nvSpPr>
          <p:spPr>
            <a:xfrm>
              <a:off x="5584680" y="32767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432400" y="4343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53520" y="4129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*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84480" y="3429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Bookman Old Style"/>
                </a:rPr>
                <a:t>UB 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765400" y="38098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Bookman Old Style"/>
                </a:rPr>
                <a:t>UB 2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425920" y="3657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4259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pper (lower) bou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7" name=""/>
          <p:cNvSpPr/>
          <p:nvPr/>
        </p:nvSpPr>
        <p:spPr>
          <a:xfrm>
            <a:off x="685800" y="129528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ound “duali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 contrario dei bound “primali”, trovare upper (lower) bound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uona qual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problemi di massimo (minimo) è tipicamente diffici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uoni bound “duali” si ottengono attraverso lo studio delle proprietà strutturali del problema di O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proprietà di un problema di OC si caratterizzano tram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1. Rilassamenti del proble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2. Definizione e studio di problemi “duali”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problem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RP)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max 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min 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 definisce rilassamento del problem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P)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max 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min 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e solo se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10000"/>
              <a:buFont typeface="Bookman Old Style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10000"/>
              <a:buFont typeface="Bookman Old Style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per ogn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 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per ogn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oprietà 1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RP è un rilassamento di P, allor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*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oprietà 2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30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sol. ottima di RP è ammissibile per P allor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1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5" dur="500"/>
                                        <p:tgtEl>
                                          <p:spTgt spid="1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0" dur="500"/>
                                        <p:tgtEl>
                                          <p:spTgt spid="1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5" dur="500"/>
                                        <p:tgtEl>
                                          <p:spTgt spid="1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1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5" dur="500"/>
                                        <p:tgtEl>
                                          <p:spTgt spid="1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18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18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500"/>
                                        <p:tgtEl>
                                          <p:spTgt spid="1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mpi di rilassam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oblema del commesso viaggiatore (simmetric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ati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raf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si sugli arch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r ogni arc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omanda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ovare il ciclo hamiltoniano di peso mini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efinizione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1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-alber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è un sottografo di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consistente di due archi adiacenti al nodo 1 più gli archi di un albero ricoprente i nodi {2, …,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2272320" y="3697200"/>
            <a:ext cx="3075480" cy="2462400"/>
            <a:chOff x="2272320" y="3697200"/>
            <a:chExt cx="3075480" cy="2462400"/>
          </a:xfrm>
        </p:grpSpPr>
        <p:sp>
          <p:nvSpPr>
            <p:cNvPr id="1853" name=""/>
            <p:cNvSpPr/>
            <p:nvPr/>
          </p:nvSpPr>
          <p:spPr>
            <a:xfrm flipV="1">
              <a:off x="2666880" y="4114800"/>
              <a:ext cx="12193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886200" y="4114800"/>
              <a:ext cx="10666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66880" y="4724280"/>
              <a:ext cx="228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66880" y="4724280"/>
              <a:ext cx="38124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66880" y="4724280"/>
              <a:ext cx="20574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733920" y="4038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876920" y="4572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590920" y="4572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971800" y="5562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572000" y="5562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59640" y="3697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272320" y="4495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750040" y="579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03604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2520" y="579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6" dur="indefinite" restart="never" nodeType="tmRoot">
          <p:childTnLst>
            <p:seq>
              <p:cTn id="2477" dur="indefinite" nodeType="mainSeq">
                <p:childTnLst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500"/>
                                        <p:tgtEl>
                                          <p:spTgt spid="1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7" dur="500"/>
                                        <p:tgtEl>
                                          <p:spTgt spid="1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2" dur="500"/>
                                        <p:tgtEl>
                                          <p:spTgt spid="1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500"/>
                                        <p:tgtEl>
                                          <p:spTgt spid="1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2" dur="500"/>
                                        <p:tgtEl>
                                          <p:spTgt spid="1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7" dur="500"/>
                                        <p:tgtEl>
                                          <p:spTgt spid="1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2" dur="500"/>
                                        <p:tgtEl>
                                          <p:spTgt spid="18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i per il T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Un ciclo hamiltoniano è un particolare 1-alb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216520" y="1981080"/>
            <a:ext cx="3075840" cy="2462400"/>
            <a:chOff x="2216520" y="1981080"/>
            <a:chExt cx="3075840" cy="2462400"/>
          </a:xfrm>
        </p:grpSpPr>
        <p:sp>
          <p:nvSpPr>
            <p:cNvPr id="1871" name=""/>
            <p:cNvSpPr/>
            <p:nvPr/>
          </p:nvSpPr>
          <p:spPr>
            <a:xfrm flipV="1">
              <a:off x="2611440" y="2398680"/>
              <a:ext cx="12193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30760" y="2398680"/>
              <a:ext cx="10666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4648320" y="3007800"/>
              <a:ext cx="249120" cy="95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611440" y="3008160"/>
              <a:ext cx="38088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48120" y="396252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78120" y="23223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821120" y="2855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535120" y="2855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916360" y="3846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516560" y="3846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04200" y="1981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216520" y="2779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694600" y="4075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80600" y="300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447080" y="4075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60948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ertanto, il problem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ati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raf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si sugli arch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r ogni arc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omanda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ovare l’1-albero di peso mini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un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ilass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el problema del TSP, perché l’insieme X di tutti i cic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amiltoniani è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nell’insieme T di tutti gli 1-alber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3" dur="indefinite" restart="never" nodeType="tmRoot">
          <p:childTnLst>
            <p:seq>
              <p:cTn id="2514" dur="indefinite" nodeType="mainSeq">
                <p:childTnLst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9" dur="500"/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1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500"/>
                                        <p:tgtEl>
                                          <p:spTgt spid="1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8" dur="500"/>
                                        <p:tgtEl>
                                          <p:spTgt spid="1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1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Un 2-abbinamento è un insieme di archi tali che 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i per il T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2022840" y="2224080"/>
            <a:ext cx="3075840" cy="2959200"/>
            <a:chOff x="2022840" y="2224080"/>
            <a:chExt cx="3075840" cy="2959200"/>
          </a:xfrm>
        </p:grpSpPr>
        <p:sp>
          <p:nvSpPr>
            <p:cNvPr id="1890" name=""/>
            <p:cNvSpPr/>
            <p:nvPr/>
          </p:nvSpPr>
          <p:spPr>
            <a:xfrm flipV="1">
              <a:off x="3352680" y="4357800"/>
              <a:ext cx="12956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2417760" y="2641320"/>
              <a:ext cx="12193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637080" y="2641680"/>
              <a:ext cx="10666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437920" y="4281480"/>
              <a:ext cx="221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438280" y="3214800"/>
              <a:ext cx="221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438280" y="4281480"/>
              <a:ext cx="8384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84440" y="25653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7440" y="3098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341440" y="3098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286000" y="4129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200400" y="46623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710520" y="222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022840" y="3022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43720" y="4317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786920" y="3138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78640" y="4815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572000" y="42051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10600" y="4281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5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lassamenti per il T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Un ciclo hamiltoniano è un particolare 2-abbinamento, difatti è un 2-abbinamento privo di sottocicli (subtou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0" name=""/>
          <p:cNvSpPr/>
          <p:nvPr/>
        </p:nvSpPr>
        <p:spPr>
          <a:xfrm>
            <a:off x="516780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2480040" y="2133720"/>
            <a:ext cx="3075840" cy="2363760"/>
            <a:chOff x="2480040" y="2133720"/>
            <a:chExt cx="3075840" cy="2363760"/>
          </a:xfrm>
        </p:grpSpPr>
        <p:sp>
          <p:nvSpPr>
            <p:cNvPr id="1912" name=""/>
            <p:cNvSpPr/>
            <p:nvPr/>
          </p:nvSpPr>
          <p:spPr>
            <a:xfrm>
              <a:off x="2895480" y="3657600"/>
              <a:ext cx="228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5480" y="2971800"/>
              <a:ext cx="228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3809880" y="3733920"/>
              <a:ext cx="12956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2874960" y="2438280"/>
              <a:ext cx="12193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094280" y="2438280"/>
              <a:ext cx="10666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5181480" y="30477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895480" y="3011400"/>
              <a:ext cx="0" cy="64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5480" y="3657600"/>
              <a:ext cx="8384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94164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084640" y="2895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798640" y="2895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743200" y="3505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657600" y="4038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664440" y="213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4800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500920" y="3693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244120" y="2935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029200" y="3581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872520" y="412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31" name=""/>
          <p:cNvSpPr/>
          <p:nvPr/>
        </p:nvSpPr>
        <p:spPr>
          <a:xfrm>
            <a:off x="609480" y="45720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ertanto, il problem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ati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raf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si sugli arch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r ogni arc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omanda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ovare il 2-abbinamento di peso mini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un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ilass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el problema del TSP, perché l’insieme X di tutti i cic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amiltoniani è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nell’insieme T di tutti i 2-abbinament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5" dur="indefinite" restart="never" nodeType="tmRoot">
          <p:childTnLst>
            <p:seq>
              <p:cTn id="2576" dur="indefinite" nodeType="mainSeq">
                <p:childTnLst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1" dur="500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1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4" dur="500"/>
                                        <p:tgtEl>
                                          <p:spTgt spid="1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1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933" name=""/>
          <p:cNvGraphicFramePr/>
          <p:nvPr/>
        </p:nvGraphicFramePr>
        <p:xfrm>
          <a:off x="4419720" y="3581280"/>
          <a:ext cx="3886200" cy="264168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5480"/>
                <a:gridCol w="555840"/>
                <a:gridCol w="555480"/>
                <a:gridCol w="554040"/>
                <a:gridCol w="55584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4" name=""/>
          <p:cNvSpPr/>
          <p:nvPr/>
        </p:nvSpPr>
        <p:spPr>
          <a:xfrm>
            <a:off x="512640" y="1371600"/>
            <a:ext cx="5609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sideriamo la seguente istanza de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del Commesso Viaggiator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22:24:22Z</dcterms:created>
  <dc:creator>Fabrizio Rossi</dc:creator>
  <dc:description/>
  <dc:language>en-US</dc:language>
  <cp:lastModifiedBy>/</cp:lastModifiedBy>
  <dcterms:modified xsi:type="dcterms:W3CDTF">2005-05-16T10:36:05Z</dcterms:modified>
  <cp:revision>94</cp:revision>
  <dc:subject/>
  <dc:title>Problemi di Ottimizzazione</dc:title>
</cp:coreProperties>
</file>